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2372-5FDC-481F-A305-16E45BF3F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9B4B4-BE69-4245-B51A-07FAA409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09A3-5856-416D-9B5F-6361F103D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7F6-30E0-4218-87DB-B79855125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E9B-46FA-4426-9CE1-DA6777C8E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0F4-8659-41CE-9642-AA4261C5E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C959-A598-4D89-BBCB-2AC311D6C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D982-0BD4-4E36-998D-AF281636F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3056-7CA5-40A7-91EE-3B54CAC16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769-B528-4D01-9F9C-B34C73D8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4952-CA43-4D64-9CE3-57B2C9CD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2CEF-4430-4616-A1BB-6CC29C58F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32D82-7124-4B95-A9E4-42900332ADA5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DÉVELOPPÉE</a:t>
            </a:r>
            <a:br>
              <a:rPr sz="6000"/>
            </a:br>
            <a:r>
              <a:rPr b="1" lang="fr-FR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E FACTORISÉE</a:t>
            </a:r>
            <a:br>
              <a:rPr sz="6000"/>
            </a:br>
            <a:br>
              <a:rPr sz="6000"/>
            </a:br>
            <a:r>
              <a:rPr b="1" lang="fr-FR" sz="6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SÉRIE 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itre 1"/>
          <p:cNvSpPr/>
          <p:nvPr/>
        </p:nvSpPr>
        <p:spPr>
          <a:xfrm>
            <a:off x="7920" y="5013360"/>
            <a:ext cx="9144000" cy="13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Calcul mental et automatismes – IREM de Clermont-Ferr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t 2"/>
              <p:cNvSpPr txBox="1"/>
              <p:nvPr/>
            </p:nvSpPr>
            <p:spPr>
              <a:xfrm>
                <a:off x="3046320" y="2563920"/>
                <a:ext cx="267804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t 2"/>
              <p:cNvSpPr txBox="1"/>
              <p:nvPr/>
            </p:nvSpPr>
            <p:spPr>
              <a:xfrm>
                <a:off x="1908000" y="2708280"/>
                <a:ext cx="5135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t 2"/>
              <p:cNvSpPr txBox="1"/>
              <p:nvPr/>
            </p:nvSpPr>
            <p:spPr>
              <a:xfrm>
                <a:off x="1887480" y="2789280"/>
                <a:ext cx="52768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t 2"/>
              <p:cNvSpPr txBox="1"/>
              <p:nvPr/>
            </p:nvSpPr>
            <p:spPr>
              <a:xfrm>
                <a:off x="1360440" y="2852640"/>
                <a:ext cx="674064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28760" y="2571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CORREC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1" name="Flèche droite rayée 4"/>
          <p:cNvSpPr/>
          <p:nvPr/>
        </p:nvSpPr>
        <p:spPr>
          <a:xfrm rot="10800000">
            <a:off x="3142800" y="392868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lèche droite rayée 7"/>
          <p:cNvSpPr/>
          <p:nvPr/>
        </p:nvSpPr>
        <p:spPr>
          <a:xfrm rot="2838000">
            <a:off x="4258800" y="2951280"/>
            <a:ext cx="1884600" cy="169560"/>
          </a:xfrm>
          <a:custGeom>
            <a:avLst/>
            <a:gdLst/>
            <a:ahLst/>
            <a:rect l="l" t="t" r="r" b="b"/>
            <a:pathLst>
              <a:path w="1884362" h="169862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1" y="42466"/>
                </a:lnTo>
                <a:lnTo>
                  <a:pt x="1799431" y="0"/>
                </a:lnTo>
                <a:lnTo>
                  <a:pt x="1884362" y="84931"/>
                </a:lnTo>
                <a:lnTo>
                  <a:pt x="1799431" y="169862"/>
                </a:lnTo>
                <a:lnTo>
                  <a:pt x="1799431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t 1"/>
              <p:cNvSpPr txBox="1"/>
              <p:nvPr/>
            </p:nvSpPr>
            <p:spPr>
              <a:xfrm>
                <a:off x="1836720" y="1268280"/>
                <a:ext cx="51134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t 2"/>
              <p:cNvSpPr txBox="1"/>
              <p:nvPr/>
            </p:nvSpPr>
            <p:spPr>
              <a:xfrm>
                <a:off x="4284720" y="3789360"/>
                <a:ext cx="237492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t 11"/>
              <p:cNvSpPr txBox="1"/>
              <p:nvPr/>
            </p:nvSpPr>
            <p:spPr>
              <a:xfrm>
                <a:off x="1692360" y="3716280"/>
                <a:ext cx="10792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Flèche droite rayée 4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lèche droite rayée 7"/>
          <p:cNvSpPr/>
          <p:nvPr/>
        </p:nvSpPr>
        <p:spPr>
          <a:xfrm rot="7493400">
            <a:off x="2238480" y="2879280"/>
            <a:ext cx="1884240" cy="169920"/>
          </a:xfrm>
          <a:custGeom>
            <a:avLst/>
            <a:gdLst/>
            <a:ahLst/>
            <a:rect l="l" t="t" r="r" b="b"/>
            <a:pathLst>
              <a:path w="1884363" h="169863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2"/>
                </a:lnTo>
                <a:lnTo>
                  <a:pt x="1799432" y="169863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t 1"/>
              <p:cNvSpPr txBox="1"/>
              <p:nvPr/>
            </p:nvSpPr>
            <p:spPr>
              <a:xfrm>
                <a:off x="2843280" y="1052640"/>
                <a:ext cx="316872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t 2"/>
              <p:cNvSpPr txBox="1"/>
              <p:nvPr/>
            </p:nvSpPr>
            <p:spPr>
              <a:xfrm>
                <a:off x="1547640" y="3716280"/>
                <a:ext cx="136872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t 9"/>
              <p:cNvSpPr txBox="1"/>
              <p:nvPr/>
            </p:nvSpPr>
            <p:spPr>
              <a:xfrm>
                <a:off x="4743360" y="3789360"/>
                <a:ext cx="15145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Flèche droite rayée 4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ZoneTexte 6"/>
          <p:cNvSpPr/>
          <p:nvPr/>
        </p:nvSpPr>
        <p:spPr>
          <a:xfrm>
            <a:off x="3786120" y="36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lèche droite rayée 7"/>
          <p:cNvSpPr/>
          <p:nvPr/>
        </p:nvSpPr>
        <p:spPr>
          <a:xfrm rot="7493400">
            <a:off x="2452680" y="2879280"/>
            <a:ext cx="1884240" cy="169920"/>
          </a:xfrm>
          <a:custGeom>
            <a:avLst/>
            <a:gdLst/>
            <a:ahLst/>
            <a:rect l="l" t="t" r="r" b="b"/>
            <a:pathLst>
              <a:path w="1884363" h="169862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1"/>
                </a:lnTo>
                <a:lnTo>
                  <a:pt x="1799432" y="169862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t 8"/>
              <p:cNvSpPr txBox="1"/>
              <p:nvPr/>
            </p:nvSpPr>
            <p:spPr>
              <a:xfrm>
                <a:off x="2268360" y="1052640"/>
                <a:ext cx="4341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3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Objet 10"/>
              <p:cNvSpPr txBox="1"/>
              <p:nvPr/>
            </p:nvSpPr>
            <p:spPr>
              <a:xfrm>
                <a:off x="1116000" y="3716280"/>
                <a:ext cx="18763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Flèche droite rayée 9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lèche droite rayée 12"/>
          <p:cNvSpPr/>
          <p:nvPr/>
        </p:nvSpPr>
        <p:spPr>
          <a:xfrm rot="7493400">
            <a:off x="2238480" y="2879280"/>
            <a:ext cx="1884240" cy="169920"/>
          </a:xfrm>
          <a:custGeom>
            <a:avLst/>
            <a:gdLst/>
            <a:ahLst/>
            <a:rect l="l" t="t" r="r" b="b"/>
            <a:pathLst>
              <a:path w="1884363" h="169863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2"/>
                </a:lnTo>
                <a:lnTo>
                  <a:pt x="1799432" y="169863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ensées 14"/>
          <p:cNvSpPr/>
          <p:nvPr/>
        </p:nvSpPr>
        <p:spPr>
          <a:xfrm>
            <a:off x="1643040" y="4572000"/>
            <a:ext cx="2571840" cy="1000080"/>
          </a:xfrm>
          <a:prstGeom prst="cloudCallout">
            <a:avLst>
              <a:gd name="adj1" fmla="val -25824"/>
              <a:gd name="adj2" fmla="val -76791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Objet 1"/>
              <p:cNvSpPr txBox="1"/>
              <p:nvPr/>
            </p:nvSpPr>
            <p:spPr>
              <a:xfrm>
                <a:off x="2967120" y="1052640"/>
                <a:ext cx="3117600" cy="111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1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t 3"/>
              <p:cNvSpPr txBox="1"/>
              <p:nvPr/>
            </p:nvSpPr>
            <p:spPr>
              <a:xfrm>
                <a:off x="1525680" y="3716280"/>
                <a:ext cx="13050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3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Objet 5"/>
              <p:cNvSpPr txBox="1"/>
              <p:nvPr/>
            </p:nvSpPr>
            <p:spPr>
              <a:xfrm>
                <a:off x="4230720" y="3789360"/>
                <a:ext cx="2286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5" name="Rectangle 3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Objet 7"/>
              <p:cNvSpPr txBox="1"/>
              <p:nvPr/>
            </p:nvSpPr>
            <p:spPr>
              <a:xfrm>
                <a:off x="2124000" y="4762440"/>
                <a:ext cx="136224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Flèche droite rayée 8"/>
          <p:cNvSpPr/>
          <p:nvPr/>
        </p:nvSpPr>
        <p:spPr>
          <a:xfrm rot="10800000">
            <a:off x="3142800" y="392868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èche droite rayée 11"/>
          <p:cNvSpPr/>
          <p:nvPr/>
        </p:nvSpPr>
        <p:spPr>
          <a:xfrm rot="3875400">
            <a:off x="3732840" y="2827800"/>
            <a:ext cx="1679760" cy="223920"/>
          </a:xfrm>
          <a:custGeom>
            <a:avLst/>
            <a:gdLst/>
            <a:ahLst/>
            <a:rect l="l" t="t" r="r" b="b"/>
            <a:pathLst>
              <a:path w="1679575" h="223838">
                <a:moveTo>
                  <a:pt x="0" y="55960"/>
                </a:moveTo>
                <a:lnTo>
                  <a:pt x="6995" y="55960"/>
                </a:lnTo>
                <a:lnTo>
                  <a:pt x="6995" y="167879"/>
                </a:lnTo>
                <a:lnTo>
                  <a:pt x="0" y="167879"/>
                </a:lnTo>
                <a:lnTo>
                  <a:pt x="0" y="55960"/>
                </a:lnTo>
                <a:close/>
                <a:moveTo>
                  <a:pt x="13990" y="55960"/>
                </a:moveTo>
                <a:lnTo>
                  <a:pt x="27980" y="55960"/>
                </a:lnTo>
                <a:lnTo>
                  <a:pt x="27980" y="167879"/>
                </a:lnTo>
                <a:lnTo>
                  <a:pt x="13990" y="167879"/>
                </a:lnTo>
                <a:lnTo>
                  <a:pt x="13990" y="55960"/>
                </a:lnTo>
                <a:close/>
                <a:moveTo>
                  <a:pt x="34975" y="55960"/>
                </a:moveTo>
                <a:lnTo>
                  <a:pt x="1567656" y="55960"/>
                </a:lnTo>
                <a:lnTo>
                  <a:pt x="1567656" y="0"/>
                </a:lnTo>
                <a:lnTo>
                  <a:pt x="1679575" y="111919"/>
                </a:lnTo>
                <a:lnTo>
                  <a:pt x="1567656" y="223838"/>
                </a:lnTo>
                <a:lnTo>
                  <a:pt x="1567656" y="167879"/>
                </a:lnTo>
                <a:lnTo>
                  <a:pt x="34975" y="167879"/>
                </a:lnTo>
                <a:lnTo>
                  <a:pt x="34975" y="55960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t 2"/>
              <p:cNvSpPr txBox="1"/>
              <p:nvPr/>
            </p:nvSpPr>
            <p:spPr>
              <a:xfrm>
                <a:off x="4619520" y="3716280"/>
                <a:ext cx="1285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Rectangle 4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t 4"/>
              <p:cNvSpPr txBox="1"/>
              <p:nvPr/>
            </p:nvSpPr>
            <p:spPr>
              <a:xfrm>
                <a:off x="1042920" y="3716280"/>
                <a:ext cx="19051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t 5"/>
              <p:cNvSpPr txBox="1"/>
              <p:nvPr/>
            </p:nvSpPr>
            <p:spPr>
              <a:xfrm>
                <a:off x="2987640" y="1052640"/>
                <a:ext cx="296532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28760" y="221472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our chacune des expressions projetées, l’inscrire dans la colonne qui lui correspond et compléter la forme manquante lorsque cela est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57120" y="1000080"/>
          <a:ext cx="8215560" cy="1101600"/>
        </p:xfrm>
        <a:graphic>
          <a:graphicData uri="http://schemas.openxmlformats.org/drawingml/2006/table">
            <a:tbl>
              <a:tblPr/>
              <a:tblGrid>
                <a:gridCol w="433440"/>
                <a:gridCol w="3495600"/>
                <a:gridCol w="2301840"/>
                <a:gridCol w="1984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" name="ZoneTexte 6"/>
          <p:cNvSpPr/>
          <p:nvPr/>
        </p:nvSpPr>
        <p:spPr>
          <a:xfrm>
            <a:off x="357120" y="357120"/>
            <a:ext cx="850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ous disposez d’un tableau comme celui-ci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7"/>
          <p:cNvSpPr/>
          <p:nvPr/>
        </p:nvSpPr>
        <p:spPr>
          <a:xfrm>
            <a:off x="500040" y="4572000"/>
            <a:ext cx="82152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 l’expression ne vous semble ni développée, ni factorisée, l’inscrire dans la colonne de droite et compléter alors, si possible, les 2 premières colon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2428920"/>
                <a:gridCol w="2643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Flèche droite rayée 4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lèche droite rayée 7"/>
          <p:cNvSpPr/>
          <p:nvPr/>
        </p:nvSpPr>
        <p:spPr>
          <a:xfrm rot="2251200">
            <a:off x="4844520" y="2852640"/>
            <a:ext cx="2408400" cy="204840"/>
          </a:xfrm>
          <a:custGeom>
            <a:avLst/>
            <a:gdLst/>
            <a:ahLst/>
            <a:rect l="l" t="t" r="r" b="b"/>
            <a:pathLst>
              <a:path w="2408662" h="203395">
                <a:moveTo>
                  <a:pt x="0" y="50849"/>
                </a:moveTo>
                <a:lnTo>
                  <a:pt x="6356" y="50849"/>
                </a:lnTo>
                <a:lnTo>
                  <a:pt x="6356" y="152546"/>
                </a:lnTo>
                <a:lnTo>
                  <a:pt x="0" y="152546"/>
                </a:lnTo>
                <a:lnTo>
                  <a:pt x="0" y="50849"/>
                </a:lnTo>
                <a:close/>
                <a:moveTo>
                  <a:pt x="12712" y="50849"/>
                </a:moveTo>
                <a:lnTo>
                  <a:pt x="25424" y="50849"/>
                </a:lnTo>
                <a:lnTo>
                  <a:pt x="25424" y="152546"/>
                </a:lnTo>
                <a:lnTo>
                  <a:pt x="12712" y="152546"/>
                </a:lnTo>
                <a:lnTo>
                  <a:pt x="12712" y="50849"/>
                </a:lnTo>
                <a:close/>
                <a:moveTo>
                  <a:pt x="31780" y="50849"/>
                </a:moveTo>
                <a:lnTo>
                  <a:pt x="2306965" y="50849"/>
                </a:lnTo>
                <a:lnTo>
                  <a:pt x="2306965" y="0"/>
                </a:lnTo>
                <a:lnTo>
                  <a:pt x="2408662" y="101698"/>
                </a:lnTo>
                <a:lnTo>
                  <a:pt x="2306965" y="203395"/>
                </a:lnTo>
                <a:lnTo>
                  <a:pt x="2306965" y="152546"/>
                </a:lnTo>
                <a:lnTo>
                  <a:pt x="31780" y="152546"/>
                </a:lnTo>
                <a:lnTo>
                  <a:pt x="31780" y="5084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lèche courbée vers le bas 11"/>
          <p:cNvSpPr/>
          <p:nvPr/>
        </p:nvSpPr>
        <p:spPr>
          <a:xfrm rot="10800000">
            <a:off x="2357280" y="4357440"/>
            <a:ext cx="5214960" cy="928440"/>
          </a:xfrm>
          <a:custGeom>
            <a:avLst/>
            <a:gdLst>
              <a:gd name="textAreaLeft" fmla="*/ 1216440 w 5214960"/>
              <a:gd name="textAreaRight" fmla="*/ 3882240 w 5214960"/>
              <a:gd name="textAreaTop" fmla="*/ 124200 h 928440"/>
              <a:gd name="textAreaBottom" fmla="*/ 804240 h 928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10079" hR="21600" stAng="10800000" swAng="5400000"/>
                <a:lnTo>
                  <a:pt x="11040" y="0"/>
                </a:lnTo>
                <a:arcTo wR="10079" hR="21600" stAng="-5400000" swAng="3662554"/>
                <a:lnTo>
                  <a:pt x="21280" y="16200"/>
                </a:lnTo>
                <a:lnTo>
                  <a:pt x="20639" y="21600"/>
                </a:lnTo>
                <a:lnTo>
                  <a:pt x="19357" y="16200"/>
                </a:lnTo>
                <a:lnTo>
                  <a:pt x="19838" y="16200"/>
                </a:lnTo>
                <a:arcTo wR="10079" hR="21600" stAng="-1737446" swAng="-3586006"/>
                <a:lnTo>
                  <a:pt x="10560" y="25"/>
                </a:lnTo>
                <a:arcTo wR="10079" hR="21600" stAng="-5476548" swAng="-5323452"/>
                <a:close/>
              </a:path>
              <a:path fill="darkenLess" w="21600" h="21600">
                <a:moveTo>
                  <a:pt x="0" y="21600"/>
                </a:moveTo>
                <a:arcTo wR="10079" hR="21600" stAng="10800000" swAng="5400000"/>
                <a:lnTo>
                  <a:pt x="10079" y="0"/>
                </a:lnTo>
                <a:arcTo wR="10079" hR="21600" stAng="-5400000" swAng="76548"/>
                <a:lnTo>
                  <a:pt x="10560" y="25"/>
                </a:lnTo>
                <a:arcTo wR="10079" hR="21600" stAng="-5476548" swAng="-5323452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t 2"/>
              <p:cNvSpPr txBox="1"/>
              <p:nvPr/>
            </p:nvSpPr>
            <p:spPr>
              <a:xfrm>
                <a:off x="6257880" y="3716280"/>
                <a:ext cx="2200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" name="Objet 8"/>
              <p:cNvSpPr txBox="1"/>
              <p:nvPr/>
            </p:nvSpPr>
            <p:spPr>
              <a:xfrm>
                <a:off x="2124000" y="1052640"/>
                <a:ext cx="50738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" name="Objet 12"/>
              <p:cNvSpPr txBox="1"/>
              <p:nvPr/>
            </p:nvSpPr>
            <p:spPr>
              <a:xfrm>
                <a:off x="4211640" y="3716280"/>
                <a:ext cx="12859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6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t 14"/>
              <p:cNvSpPr txBox="1"/>
              <p:nvPr/>
            </p:nvSpPr>
            <p:spPr>
              <a:xfrm>
                <a:off x="1042920" y="3716280"/>
                <a:ext cx="18954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0" name="Flèche droite rayée 4"/>
          <p:cNvSpPr/>
          <p:nvPr/>
        </p:nvSpPr>
        <p:spPr>
          <a:xfrm>
            <a:off x="314316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6"/>
          <p:cNvSpPr/>
          <p:nvPr/>
        </p:nvSpPr>
        <p:spPr>
          <a:xfrm>
            <a:off x="3786120" y="36432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i="1" lang="fr-FR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lèche droite rayée 7"/>
          <p:cNvSpPr/>
          <p:nvPr/>
        </p:nvSpPr>
        <p:spPr>
          <a:xfrm rot="7695600">
            <a:off x="2405160" y="2936520"/>
            <a:ext cx="1884240" cy="169920"/>
          </a:xfrm>
          <a:custGeom>
            <a:avLst/>
            <a:gdLst/>
            <a:ahLst/>
            <a:rect l="l" t="t" r="r" b="b"/>
            <a:pathLst>
              <a:path w="1884363" h="169862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1"/>
                </a:lnTo>
                <a:lnTo>
                  <a:pt x="1799432" y="169862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Objet 2"/>
              <p:cNvSpPr txBox="1"/>
              <p:nvPr/>
            </p:nvSpPr>
            <p:spPr>
              <a:xfrm>
                <a:off x="1547640" y="3716280"/>
                <a:ext cx="10195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Objet 8"/>
              <p:cNvSpPr txBox="1"/>
              <p:nvPr/>
            </p:nvSpPr>
            <p:spPr>
              <a:xfrm>
                <a:off x="3046320" y="1050840"/>
                <a:ext cx="2678040" cy="122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924280"/>
                <a:gridCol w="2786040"/>
                <a:gridCol w="20718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Flèche droite rayée 4"/>
          <p:cNvSpPr/>
          <p:nvPr/>
        </p:nvSpPr>
        <p:spPr>
          <a:xfrm>
            <a:off x="3500280" y="392904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lèche droite rayée 6"/>
          <p:cNvSpPr/>
          <p:nvPr/>
        </p:nvSpPr>
        <p:spPr>
          <a:xfrm rot="7493400">
            <a:off x="2238480" y="2879280"/>
            <a:ext cx="1884240" cy="169920"/>
          </a:xfrm>
          <a:custGeom>
            <a:avLst/>
            <a:gdLst/>
            <a:ahLst/>
            <a:rect l="l" t="t" r="r" b="b"/>
            <a:pathLst>
              <a:path w="1884363" h="169863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2" y="42466"/>
                </a:lnTo>
                <a:lnTo>
                  <a:pt x="1799432" y="0"/>
                </a:lnTo>
                <a:lnTo>
                  <a:pt x="1884363" y="84932"/>
                </a:lnTo>
                <a:lnTo>
                  <a:pt x="1799432" y="169863"/>
                </a:lnTo>
                <a:lnTo>
                  <a:pt x="1799432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ensées 8"/>
          <p:cNvSpPr/>
          <p:nvPr/>
        </p:nvSpPr>
        <p:spPr>
          <a:xfrm>
            <a:off x="1763640" y="4572000"/>
            <a:ext cx="3786120" cy="1214280"/>
          </a:xfrm>
          <a:prstGeom prst="cloudCallout">
            <a:avLst>
              <a:gd name="adj1" fmla="val -25824"/>
              <a:gd name="adj2" fmla="val -76791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Objet 2"/>
              <p:cNvSpPr txBox="1"/>
              <p:nvPr/>
            </p:nvSpPr>
            <p:spPr>
              <a:xfrm>
                <a:off x="1042920" y="3716280"/>
                <a:ext cx="221940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3" name="Objet 10"/>
              <p:cNvSpPr txBox="1"/>
              <p:nvPr/>
            </p:nvSpPr>
            <p:spPr>
              <a:xfrm>
                <a:off x="1908000" y="1052640"/>
                <a:ext cx="51357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Objet 12"/>
              <p:cNvSpPr txBox="1"/>
              <p:nvPr/>
            </p:nvSpPr>
            <p:spPr>
              <a:xfrm>
                <a:off x="4557600" y="3716280"/>
                <a:ext cx="16290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66" name="Rectangle 5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Objet 18"/>
              <p:cNvSpPr txBox="1"/>
              <p:nvPr/>
            </p:nvSpPr>
            <p:spPr>
              <a:xfrm>
                <a:off x="1908000" y="4873680"/>
                <a:ext cx="28670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28760" y="3000240"/>
          <a:ext cx="8215200" cy="1341720"/>
        </p:xfrm>
        <a:graphic>
          <a:graphicData uri="http://schemas.openxmlformats.org/drawingml/2006/table">
            <a:tbl>
              <a:tblPr/>
              <a:tblGrid>
                <a:gridCol w="433080"/>
                <a:gridCol w="2710080"/>
                <a:gridCol w="3429000"/>
                <a:gridCol w="1643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Flèche droite rayée 4"/>
          <p:cNvSpPr/>
          <p:nvPr/>
        </p:nvSpPr>
        <p:spPr>
          <a:xfrm rot="10800000">
            <a:off x="3142800" y="3928680"/>
            <a:ext cx="854280" cy="214200"/>
          </a:xfrm>
          <a:custGeom>
            <a:avLst/>
            <a:gdLst/>
            <a:ahLst/>
            <a:rect l="l" t="t" r="r" b="b"/>
            <a:pathLst>
              <a:path w="854075" h="214312">
                <a:moveTo>
                  <a:pt x="0" y="53578"/>
                </a:moveTo>
                <a:lnTo>
                  <a:pt x="6697" y="53578"/>
                </a:lnTo>
                <a:lnTo>
                  <a:pt x="6697" y="160734"/>
                </a:lnTo>
                <a:lnTo>
                  <a:pt x="0" y="160734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4"/>
                </a:lnTo>
                <a:lnTo>
                  <a:pt x="13395" y="160734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746919" y="53578"/>
                </a:lnTo>
                <a:lnTo>
                  <a:pt x="746919" y="0"/>
                </a:lnTo>
                <a:lnTo>
                  <a:pt x="854075" y="107156"/>
                </a:lnTo>
                <a:lnTo>
                  <a:pt x="746919" y="214312"/>
                </a:lnTo>
                <a:lnTo>
                  <a:pt x="746919" y="160734"/>
                </a:lnTo>
                <a:lnTo>
                  <a:pt x="33486" y="160734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lèche droite rayée 6"/>
          <p:cNvSpPr/>
          <p:nvPr/>
        </p:nvSpPr>
        <p:spPr>
          <a:xfrm rot="3528000">
            <a:off x="4048200" y="2836440"/>
            <a:ext cx="1884240" cy="169920"/>
          </a:xfrm>
          <a:custGeom>
            <a:avLst/>
            <a:gdLst/>
            <a:ahLst/>
            <a:rect l="l" t="t" r="r" b="b"/>
            <a:pathLst>
              <a:path w="1884362" h="169863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1" y="42466"/>
                </a:lnTo>
                <a:lnTo>
                  <a:pt x="1799431" y="0"/>
                </a:lnTo>
                <a:lnTo>
                  <a:pt x="1884362" y="84932"/>
                </a:lnTo>
                <a:lnTo>
                  <a:pt x="1799431" y="169863"/>
                </a:lnTo>
                <a:lnTo>
                  <a:pt x="1799431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ensées 8"/>
          <p:cNvSpPr/>
          <p:nvPr/>
        </p:nvSpPr>
        <p:spPr>
          <a:xfrm>
            <a:off x="3143160" y="4714920"/>
            <a:ext cx="3786120" cy="1357200"/>
          </a:xfrm>
          <a:prstGeom prst="cloudCallout">
            <a:avLst>
              <a:gd name="adj1" fmla="val 15578"/>
              <a:gd name="adj2" fmla="val -7575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t 2"/>
              <p:cNvSpPr txBox="1"/>
              <p:nvPr/>
            </p:nvSpPr>
            <p:spPr>
              <a:xfrm>
                <a:off x="4357800" y="3789360"/>
                <a:ext cx="22860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t 11"/>
              <p:cNvSpPr txBox="1"/>
              <p:nvPr/>
            </p:nvSpPr>
            <p:spPr>
              <a:xfrm>
                <a:off x="1697040" y="3716280"/>
                <a:ext cx="961920" cy="4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Objet 13"/>
              <p:cNvSpPr txBox="1"/>
              <p:nvPr/>
            </p:nvSpPr>
            <p:spPr>
              <a:xfrm>
                <a:off x="3492360" y="5145120"/>
                <a:ext cx="26384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Objet 5"/>
              <p:cNvSpPr txBox="1"/>
              <p:nvPr/>
            </p:nvSpPr>
            <p:spPr>
              <a:xfrm>
                <a:off x="1887480" y="1204920"/>
                <a:ext cx="5276880" cy="114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82" name="Objet 9"/>
              <p:cNvSpPr txBox="1"/>
              <p:nvPr/>
            </p:nvSpPr>
            <p:spPr>
              <a:xfrm>
                <a:off x="3995640" y="4976640"/>
                <a:ext cx="336888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2"/>
              <p:cNvSpPr txBox="1"/>
              <p:nvPr/>
            </p:nvSpPr>
            <p:spPr>
              <a:xfrm>
                <a:off x="223920" y="1079640"/>
                <a:ext cx="8920080" cy="14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4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214200" y="3000240"/>
          <a:ext cx="8643960" cy="1341720"/>
        </p:xfrm>
        <a:graphic>
          <a:graphicData uri="http://schemas.openxmlformats.org/drawingml/2006/table">
            <a:tbl>
              <a:tblPr/>
              <a:tblGrid>
                <a:gridCol w="455760"/>
                <a:gridCol w="2259000"/>
                <a:gridCol w="2571840"/>
                <a:gridCol w="33573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Flèche droite rayée 12"/>
          <p:cNvSpPr/>
          <p:nvPr/>
        </p:nvSpPr>
        <p:spPr>
          <a:xfrm rot="1864800">
            <a:off x="4508640" y="2889360"/>
            <a:ext cx="2673360" cy="218880"/>
          </a:xfrm>
          <a:custGeom>
            <a:avLst/>
            <a:gdLst/>
            <a:ahLst/>
            <a:rect l="l" t="t" r="r" b="b"/>
            <a:pathLst>
              <a:path w="2673350" h="219075">
                <a:moveTo>
                  <a:pt x="0" y="54769"/>
                </a:moveTo>
                <a:lnTo>
                  <a:pt x="6846" y="54769"/>
                </a:lnTo>
                <a:lnTo>
                  <a:pt x="6846" y="164306"/>
                </a:lnTo>
                <a:lnTo>
                  <a:pt x="0" y="164306"/>
                </a:lnTo>
                <a:lnTo>
                  <a:pt x="0" y="54769"/>
                </a:lnTo>
                <a:close/>
                <a:moveTo>
                  <a:pt x="13692" y="54769"/>
                </a:moveTo>
                <a:lnTo>
                  <a:pt x="27384" y="54769"/>
                </a:lnTo>
                <a:lnTo>
                  <a:pt x="27384" y="164306"/>
                </a:lnTo>
                <a:lnTo>
                  <a:pt x="13692" y="164306"/>
                </a:lnTo>
                <a:lnTo>
                  <a:pt x="13692" y="54769"/>
                </a:lnTo>
                <a:close/>
                <a:moveTo>
                  <a:pt x="34230" y="54769"/>
                </a:moveTo>
                <a:lnTo>
                  <a:pt x="2563813" y="54769"/>
                </a:lnTo>
                <a:lnTo>
                  <a:pt x="2563813" y="0"/>
                </a:lnTo>
                <a:lnTo>
                  <a:pt x="2673350" y="109538"/>
                </a:lnTo>
                <a:lnTo>
                  <a:pt x="2563813" y="219075"/>
                </a:lnTo>
                <a:lnTo>
                  <a:pt x="2563813" y="164306"/>
                </a:lnTo>
                <a:lnTo>
                  <a:pt x="34230" y="164306"/>
                </a:lnTo>
                <a:lnTo>
                  <a:pt x="34230" y="5476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lèche droite rayée 16"/>
          <p:cNvSpPr/>
          <p:nvPr/>
        </p:nvSpPr>
        <p:spPr>
          <a:xfrm rot="10800000">
            <a:off x="5286240" y="3857400"/>
            <a:ext cx="425520" cy="214200"/>
          </a:xfrm>
          <a:custGeom>
            <a:avLst/>
            <a:gdLst/>
            <a:ahLst/>
            <a:rect l="l" t="t" r="r" b="b"/>
            <a:pathLst>
              <a:path w="425450" h="214313">
                <a:moveTo>
                  <a:pt x="0" y="53578"/>
                </a:moveTo>
                <a:lnTo>
                  <a:pt x="6697" y="53578"/>
                </a:lnTo>
                <a:lnTo>
                  <a:pt x="6697" y="160735"/>
                </a:lnTo>
                <a:lnTo>
                  <a:pt x="0" y="160735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5"/>
                </a:lnTo>
                <a:lnTo>
                  <a:pt x="13395" y="160735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318294" y="53578"/>
                </a:lnTo>
                <a:lnTo>
                  <a:pt x="318294" y="0"/>
                </a:lnTo>
                <a:lnTo>
                  <a:pt x="425450" y="107157"/>
                </a:lnTo>
                <a:lnTo>
                  <a:pt x="318294" y="214313"/>
                </a:lnTo>
                <a:lnTo>
                  <a:pt x="318294" y="160735"/>
                </a:lnTo>
                <a:lnTo>
                  <a:pt x="33486" y="160735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lèche droite rayée 18"/>
          <p:cNvSpPr/>
          <p:nvPr/>
        </p:nvSpPr>
        <p:spPr>
          <a:xfrm rot="10800000">
            <a:off x="2571840" y="3857400"/>
            <a:ext cx="425520" cy="214200"/>
          </a:xfrm>
          <a:custGeom>
            <a:avLst/>
            <a:gdLst/>
            <a:ahLst/>
            <a:rect l="l" t="t" r="r" b="b"/>
            <a:pathLst>
              <a:path w="425450" h="214313">
                <a:moveTo>
                  <a:pt x="0" y="53578"/>
                </a:moveTo>
                <a:lnTo>
                  <a:pt x="6697" y="53578"/>
                </a:lnTo>
                <a:lnTo>
                  <a:pt x="6697" y="160735"/>
                </a:lnTo>
                <a:lnTo>
                  <a:pt x="0" y="160735"/>
                </a:lnTo>
                <a:lnTo>
                  <a:pt x="0" y="53578"/>
                </a:lnTo>
                <a:close/>
                <a:moveTo>
                  <a:pt x="13395" y="53578"/>
                </a:moveTo>
                <a:lnTo>
                  <a:pt x="26789" y="53578"/>
                </a:lnTo>
                <a:lnTo>
                  <a:pt x="26789" y="160735"/>
                </a:lnTo>
                <a:lnTo>
                  <a:pt x="13395" y="160735"/>
                </a:lnTo>
                <a:lnTo>
                  <a:pt x="13395" y="53578"/>
                </a:lnTo>
                <a:close/>
                <a:moveTo>
                  <a:pt x="33486" y="53578"/>
                </a:moveTo>
                <a:lnTo>
                  <a:pt x="318294" y="53578"/>
                </a:lnTo>
                <a:lnTo>
                  <a:pt x="318294" y="0"/>
                </a:lnTo>
                <a:lnTo>
                  <a:pt x="425450" y="107157"/>
                </a:lnTo>
                <a:lnTo>
                  <a:pt x="318294" y="214313"/>
                </a:lnTo>
                <a:lnTo>
                  <a:pt x="318294" y="160735"/>
                </a:lnTo>
                <a:lnTo>
                  <a:pt x="33486" y="160735"/>
                </a:lnTo>
                <a:lnTo>
                  <a:pt x="33486" y="53578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ensées 19"/>
          <p:cNvSpPr/>
          <p:nvPr/>
        </p:nvSpPr>
        <p:spPr>
          <a:xfrm>
            <a:off x="3643200" y="4714920"/>
            <a:ext cx="4000680" cy="1143000"/>
          </a:xfrm>
          <a:prstGeom prst="cloudCallout">
            <a:avLst>
              <a:gd name="adj1" fmla="val 15578"/>
              <a:gd name="adj2" fmla="val -75750"/>
            </a:avLst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Connecteur droit 28"/>
          <p:cNvSpPr/>
          <p:nvPr/>
        </p:nvSpPr>
        <p:spPr>
          <a:xfrm>
            <a:off x="6450120" y="5442120"/>
            <a:ext cx="785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Connecteur droit 30"/>
          <p:cNvSpPr/>
          <p:nvPr/>
        </p:nvSpPr>
        <p:spPr>
          <a:xfrm>
            <a:off x="4722840" y="5443560"/>
            <a:ext cx="785880" cy="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Objet 5"/>
              <p:cNvSpPr txBox="1"/>
              <p:nvPr/>
            </p:nvSpPr>
            <p:spPr>
              <a:xfrm>
                <a:off x="5786280" y="3743280"/>
                <a:ext cx="3033720" cy="46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4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7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t 15"/>
              <p:cNvSpPr txBox="1"/>
              <p:nvPr/>
            </p:nvSpPr>
            <p:spPr>
              <a:xfrm>
                <a:off x="3063960" y="3755880"/>
                <a:ext cx="2228760" cy="4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Rectangle 7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t 20"/>
              <p:cNvSpPr txBox="1"/>
              <p:nvPr/>
            </p:nvSpPr>
            <p:spPr>
              <a:xfrm>
                <a:off x="762120" y="3716280"/>
                <a:ext cx="1809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004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3c8c93"/>
                </a:solidFill>
                <a:latin typeface="Times New Roman"/>
                <a:ea typeface="Times New Roman"/>
              </a:rPr>
              <a:t>FI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28760" y="6206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n exemple ?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ZoneTexte 4"/>
          <p:cNvSpPr/>
          <p:nvPr/>
        </p:nvSpPr>
        <p:spPr>
          <a:xfrm>
            <a:off x="954000" y="1484280"/>
            <a:ext cx="685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28760" y="3000240"/>
          <a:ext cx="8215200" cy="1781280"/>
        </p:xfrm>
        <a:graphic>
          <a:graphicData uri="http://schemas.openxmlformats.org/drawingml/2006/table">
            <a:tbl>
              <a:tblPr/>
              <a:tblGrid>
                <a:gridCol w="433080"/>
                <a:gridCol w="3495960"/>
                <a:gridCol w="2786040"/>
                <a:gridCol w="1500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développée et rédu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e factoris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tre for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4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9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Flèche droite rayée 6"/>
          <p:cNvSpPr/>
          <p:nvPr/>
        </p:nvSpPr>
        <p:spPr>
          <a:xfrm rot="8505000">
            <a:off x="2693160" y="2770200"/>
            <a:ext cx="1884600" cy="169920"/>
          </a:xfrm>
          <a:custGeom>
            <a:avLst/>
            <a:gdLst/>
            <a:ahLst/>
            <a:rect l="l" t="t" r="r" b="b"/>
            <a:pathLst>
              <a:path w="1884362" h="169862">
                <a:moveTo>
                  <a:pt x="0" y="42466"/>
                </a:moveTo>
                <a:lnTo>
                  <a:pt x="5308" y="42466"/>
                </a:lnTo>
                <a:lnTo>
                  <a:pt x="5308" y="127397"/>
                </a:lnTo>
                <a:lnTo>
                  <a:pt x="0" y="127397"/>
                </a:lnTo>
                <a:lnTo>
                  <a:pt x="0" y="42466"/>
                </a:lnTo>
                <a:close/>
                <a:moveTo>
                  <a:pt x="10616" y="42466"/>
                </a:moveTo>
                <a:lnTo>
                  <a:pt x="21233" y="42466"/>
                </a:lnTo>
                <a:lnTo>
                  <a:pt x="21233" y="127397"/>
                </a:lnTo>
                <a:lnTo>
                  <a:pt x="10616" y="127397"/>
                </a:lnTo>
                <a:lnTo>
                  <a:pt x="10616" y="42466"/>
                </a:lnTo>
                <a:close/>
                <a:moveTo>
                  <a:pt x="26541" y="42466"/>
                </a:moveTo>
                <a:lnTo>
                  <a:pt x="1799431" y="42466"/>
                </a:lnTo>
                <a:lnTo>
                  <a:pt x="1799431" y="0"/>
                </a:lnTo>
                <a:lnTo>
                  <a:pt x="1884362" y="84931"/>
                </a:lnTo>
                <a:lnTo>
                  <a:pt x="1799431" y="169862"/>
                </a:lnTo>
                <a:lnTo>
                  <a:pt x="1799431" y="127397"/>
                </a:lnTo>
                <a:lnTo>
                  <a:pt x="26541" y="127397"/>
                </a:lnTo>
                <a:lnTo>
                  <a:pt x="26541" y="42466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lèche droite rayée 7"/>
          <p:cNvSpPr/>
          <p:nvPr/>
        </p:nvSpPr>
        <p:spPr>
          <a:xfrm>
            <a:off x="3500280" y="3645000"/>
            <a:ext cx="1354320" cy="142920"/>
          </a:xfrm>
          <a:custGeom>
            <a:avLst/>
            <a:gdLst/>
            <a:ahLst/>
            <a:rect l="l" t="t" r="r" b="b"/>
            <a:pathLst>
              <a:path w="1354137" h="142875">
                <a:moveTo>
                  <a:pt x="0" y="35719"/>
                </a:moveTo>
                <a:lnTo>
                  <a:pt x="4465" y="35719"/>
                </a:lnTo>
                <a:lnTo>
                  <a:pt x="4465" y="107156"/>
                </a:lnTo>
                <a:lnTo>
                  <a:pt x="0" y="107156"/>
                </a:lnTo>
                <a:lnTo>
                  <a:pt x="0" y="35719"/>
                </a:lnTo>
                <a:close/>
                <a:moveTo>
                  <a:pt x="8930" y="35719"/>
                </a:moveTo>
                <a:lnTo>
                  <a:pt x="17859" y="35719"/>
                </a:lnTo>
                <a:lnTo>
                  <a:pt x="17859" y="107156"/>
                </a:lnTo>
                <a:lnTo>
                  <a:pt x="8930" y="107156"/>
                </a:lnTo>
                <a:lnTo>
                  <a:pt x="8930" y="35719"/>
                </a:lnTo>
                <a:close/>
                <a:moveTo>
                  <a:pt x="22324" y="35719"/>
                </a:moveTo>
                <a:lnTo>
                  <a:pt x="1282700" y="35719"/>
                </a:lnTo>
                <a:lnTo>
                  <a:pt x="1282700" y="0"/>
                </a:lnTo>
                <a:lnTo>
                  <a:pt x="1354137" y="71438"/>
                </a:lnTo>
                <a:lnTo>
                  <a:pt x="1282700" y="142875"/>
                </a:lnTo>
                <a:lnTo>
                  <a:pt x="1282700" y="107156"/>
                </a:lnTo>
                <a:lnTo>
                  <a:pt x="22324" y="107156"/>
                </a:lnTo>
                <a:lnTo>
                  <a:pt x="22324" y="35719"/>
                </a:lnTo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8"/>
          <p:cNvSpPr/>
          <p:nvPr/>
        </p:nvSpPr>
        <p:spPr>
          <a:xfrm>
            <a:off x="2239920" y="5214960"/>
            <a:ext cx="5572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... On continue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9"/>
          <p:cNvSpPr/>
          <p:nvPr/>
        </p:nvSpPr>
        <p:spPr>
          <a:xfrm>
            <a:off x="1285920" y="3357720"/>
            <a:ext cx="25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ZoneTexte 10"/>
          <p:cNvSpPr/>
          <p:nvPr/>
        </p:nvSpPr>
        <p:spPr>
          <a:xfrm>
            <a:off x="5000760" y="3357720"/>
            <a:ext cx="206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(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+ </a:t>
            </a:r>
            <a:r>
              <a:rPr b="0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</a:t>
            </a:r>
            <a:r>
              <a:rPr b="0" i="1" lang="fr-FR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t 6"/>
              <p:cNvSpPr txBox="1"/>
              <p:nvPr/>
            </p:nvSpPr>
            <p:spPr>
              <a:xfrm>
                <a:off x="1836720" y="2781360"/>
                <a:ext cx="511344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t 4"/>
              <p:cNvSpPr txBox="1"/>
              <p:nvPr/>
            </p:nvSpPr>
            <p:spPr>
              <a:xfrm>
                <a:off x="2916360" y="2687760"/>
                <a:ext cx="3168360" cy="11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t 2"/>
              <p:cNvSpPr txBox="1"/>
              <p:nvPr/>
            </p:nvSpPr>
            <p:spPr>
              <a:xfrm>
                <a:off x="2268360" y="2708280"/>
                <a:ext cx="43419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t 2"/>
              <p:cNvSpPr txBox="1"/>
              <p:nvPr/>
            </p:nvSpPr>
            <p:spPr>
              <a:xfrm>
                <a:off x="2967120" y="2674800"/>
                <a:ext cx="3117600" cy="111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t 2"/>
              <p:cNvSpPr txBox="1"/>
              <p:nvPr/>
            </p:nvSpPr>
            <p:spPr>
              <a:xfrm>
                <a:off x="2987640" y="2708280"/>
                <a:ext cx="296532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1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ZoneTexte 5"/>
          <p:cNvSpPr/>
          <p:nvPr/>
        </p:nvSpPr>
        <p:spPr>
          <a:xfrm>
            <a:off x="2286000" y="428760"/>
            <a:ext cx="4214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N°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4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t 2"/>
              <p:cNvSpPr txBox="1"/>
              <p:nvPr/>
            </p:nvSpPr>
            <p:spPr>
              <a:xfrm>
                <a:off x="2124000" y="2637000"/>
                <a:ext cx="5073840" cy="129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30T16:13:30Z</dcterms:created>
  <dc:creator>Marielle Séguy</dc:creator>
  <dc:description/>
  <dc:language>en-US</dc:language>
  <cp:lastModifiedBy>auderi</cp:lastModifiedBy>
  <dcterms:modified xsi:type="dcterms:W3CDTF">2015-09-30T16:57:43Z</dcterms:modified>
  <cp:revision>61</cp:revision>
  <dc:subject/>
  <dc:title>Diapositive 1</dc:title>
</cp:coreProperties>
</file>