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F798-2DF0-4A82-8B25-0D3397E6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15F0-38BA-46C4-A77F-E59912533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BF91-D2C7-4DF1-B1CA-B971B471E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752B-21A3-42EE-9C83-4CA95E759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BFEA-7706-4EC6-B16B-7AC12C84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1BA1-615C-4D27-9973-220D4963D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5A91-9BAF-49D9-B427-6C1FD4BC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8F9-D7B3-45C1-9E4F-48956B9D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2007-0E30-4287-83D7-96F19C5BC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E10C-7A7E-4980-9FB6-01BC8A11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2DFC-3015-4C25-BB2A-B86C1104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D416-2EEE-4709-B24A-A2D7F4EAB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eada">
            <a:alpha val="11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222AA-89E3-408E-964A-0A83536AB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000000"/>
                </a:solidFill>
                <a:latin typeface="Calibri"/>
              </a:rPr>
              <a:t>Calcul algébrique 2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3573360"/>
            <a:ext cx="914400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r>
              <a:rPr b="0" lang="fr-FR" sz="6000" spc="-1" strike="noStrike">
                <a:solidFill>
                  <a:srgbClr val="ff0000"/>
                </a:solidFill>
                <a:latin typeface="Calibri"/>
              </a:rPr>
              <a:t>-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56610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alcul mental et automatismes – IREM de Clermont-Ferr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0" y="489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1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705800" cy="22017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158240" cy="228600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3"/>
          <p:cNvSpPr/>
          <p:nvPr/>
        </p:nvSpPr>
        <p:spPr>
          <a:xfrm>
            <a:off x="0" y="489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3"/>
          <p:cNvSpPr/>
          <p:nvPr/>
        </p:nvSpPr>
        <p:spPr>
          <a:xfrm>
            <a:off x="0" y="355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462880" cy="224604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6"/>
          <p:cNvSpPr/>
          <p:nvPr/>
        </p:nvSpPr>
        <p:spPr>
          <a:xfrm>
            <a:off x="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501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Répons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2" name="Picture 1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817800" cy="22478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ogner un rectangle avec un coin diagonal 11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Rogner un rectangle avec un coin diagonal 11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4" name="Picture 1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4648320" cy="222588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8" name="Picture 4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891120" cy="23702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Rogner un rectangle avec un coin diagonal 16"/>
          <p:cNvSpPr/>
          <p:nvPr/>
        </p:nvSpPr>
        <p:spPr>
          <a:xfrm rot="20745000">
            <a:off x="4439880" y="480672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ogner un rectangle avec un coin diagonal 11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1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686640" cy="23050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Rogner un rectangle avec un coin diagonal 11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1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4716360" cy="222552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0" y="489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Picture 4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048360" cy="210672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6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Rogner un rectangle avec un coin diagonal 26"/>
          <p:cNvSpPr/>
          <p:nvPr/>
        </p:nvSpPr>
        <p:spPr>
          <a:xfrm rot="20745000">
            <a:off x="4439880" y="480672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0" y="3905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5661000" cy="222588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ogner un rectangle avec un coin diagonal 15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Rogner un rectangle avec un coin diagonal 11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Picture 1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792840" cy="202716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6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8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0" y="489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Rectangle 6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Rogner un rectangle avec un coin diagonal 26"/>
          <p:cNvSpPr/>
          <p:nvPr/>
        </p:nvSpPr>
        <p:spPr>
          <a:xfrm rot="20745000">
            <a:off x="4439880" y="480672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4" name="Picture 1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7705800" cy="220176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3" dur="2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9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Rogner un rectangle avec un coin diagonal 11"/>
          <p:cNvSpPr/>
          <p:nvPr/>
        </p:nvSpPr>
        <p:spPr>
          <a:xfrm rot="702000">
            <a:off x="1147320" y="4665600"/>
            <a:ext cx="3143160" cy="1071720"/>
          </a:xfrm>
          <a:prstGeom prst="pie">
            <a:avLst/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c00000"/>
                </a:solidFill>
                <a:latin typeface="Calibri"/>
              </a:rPr>
              <a:t>Faux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900000" y="1773360"/>
            <a:ext cx="7158240" cy="2286000"/>
          </a:xfrm>
          <a:prstGeom prst="rect">
            <a:avLst/>
          </a:prstGeom>
          <a:ln w="0">
            <a:noFill/>
          </a:ln>
        </p:spPr>
      </p:pic>
      <p:sp>
        <p:nvSpPr>
          <p:cNvPr id="366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Rectangle 3"/>
          <p:cNvSpPr/>
          <p:nvPr/>
        </p:nvSpPr>
        <p:spPr>
          <a:xfrm>
            <a:off x="0" y="489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Rectangle 6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Rogner un rectangle avec un coin diagonal 26"/>
          <p:cNvSpPr/>
          <p:nvPr/>
        </p:nvSpPr>
        <p:spPr>
          <a:xfrm rot="20745000">
            <a:off x="4439880" y="4806720"/>
            <a:ext cx="3143160" cy="107136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vrai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Rectangle 3"/>
          <p:cNvSpPr/>
          <p:nvPr/>
        </p:nvSpPr>
        <p:spPr>
          <a:xfrm>
            <a:off x="0" y="355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8462880" cy="224604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6"/>
          <p:cNvSpPr/>
          <p:nvPr/>
        </p:nvSpPr>
        <p:spPr>
          <a:xfrm>
            <a:off x="0" y="166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0" y="2572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0" spc="-1" strike="noStrike">
                <a:solidFill>
                  <a:srgbClr val="4f6228"/>
                </a:solidFill>
                <a:latin typeface="Calibri"/>
              </a:rPr>
              <a:t>Fi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Rectangle 3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Rectangle 6"/>
          <p:cNvSpPr/>
          <p:nvPr/>
        </p:nvSpPr>
        <p:spPr>
          <a:xfrm>
            <a:off x="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2627280" y="1773360"/>
            <a:ext cx="3817800" cy="22478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1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4648320" cy="22258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971640" y="1628640"/>
            <a:ext cx="6891120" cy="23702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4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1332000" y="1700280"/>
            <a:ext cx="6686640" cy="230508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1" descr=""/>
          <p:cNvPicPr/>
          <p:nvPr/>
        </p:nvPicPr>
        <p:blipFill>
          <a:blip r:embed="rId1"/>
          <a:stretch/>
        </p:blipFill>
        <p:spPr>
          <a:xfrm>
            <a:off x="1979640" y="1773360"/>
            <a:ext cx="4716360" cy="222552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0" y="504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268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0" y="4898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1763640" y="1844640"/>
            <a:ext cx="6048360" cy="210672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0" y="1935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N°7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ectangle 3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0" y="2676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7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1" descr=""/>
          <p:cNvPicPr/>
          <p:nvPr/>
        </p:nvPicPr>
        <p:blipFill>
          <a:blip r:embed="rId1"/>
          <a:stretch/>
        </p:blipFill>
        <p:spPr>
          <a:xfrm>
            <a:off x="1116000" y="1844640"/>
            <a:ext cx="6792840" cy="2027160"/>
          </a:xfrm>
          <a:prstGeom prst="rect">
            <a:avLst/>
          </a:prstGeom>
          <a:ln w="0">
            <a:noFill/>
          </a:ln>
        </p:spPr>
      </p:pic>
      <p:sp>
        <p:nvSpPr>
          <p:cNvPr id="154" name="Rectangle 3"/>
          <p:cNvSpPr/>
          <p:nvPr/>
        </p:nvSpPr>
        <p:spPr>
          <a:xfrm>
            <a:off x="0" y="195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18T06:57:50Z</dcterms:created>
  <dc:creator>Rigaux</dc:creator>
  <dc:description/>
  <dc:language>en-US</dc:language>
  <cp:lastModifiedBy>auderi</cp:lastModifiedBy>
  <dcterms:modified xsi:type="dcterms:W3CDTF">2016-07-01T14:47:15Z</dcterms:modified>
  <cp:revision>17</cp:revision>
  <dc:subject/>
  <dc:title>Calcul algébrique 2</dc:title>
</cp:coreProperties>
</file>