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E3B6F-D94D-4F9C-9DA2-3FC249DFE3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0EF6-A912-4A2E-93B5-3ADF71C176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3A1DB-A8F8-4D69-8C17-FB10A53194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6284C-4487-476A-9B11-4E394A8FE7C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44B22-8797-47E4-8FA0-82D27E7B85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0B3EE-7C67-49F1-84AE-3ED847947AC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32F1-B30E-4B8A-B674-8F1BE1D7D3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598A-C124-47C2-ABEF-9D1B705F3C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28374-6F87-4E5F-898F-E3FCB3B309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BCC36-2327-4000-8E37-B50E288736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FA6-62CC-4435-A0AC-6FAE4C3F9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4026-92BE-4C04-8387-8439FCF9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AA48-BE20-43FD-B633-4836DA8AA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8715-93AB-498A-B244-D7403BE1B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4B7-D09A-4D1A-913D-559D81A92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85E7-94CE-49B7-A886-BCD16FC1B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EA19-0AE0-474C-915A-6C043F24B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5AA9-B73B-481C-BBFC-D13E14E5C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65C-793C-4702-8C55-4F8A67364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2D3D-6FE9-42A7-A080-2FBDD6761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5752-05D1-43B9-9AFB-906B87BF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7A9-87F1-46CE-9A5C-111EA7253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D917F-059C-4C61-90D5-3460BCBA2A53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CBDF8-CA8A-433C-96BA-52E2331CAF30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-12600" y="1414440"/>
            <a:ext cx="9023400" cy="2895480"/>
            <a:chOff x="-12600" y="1414440"/>
            <a:chExt cx="902340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-12600" y="1414440"/>
              <a:ext cx="90234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CALCUL NUMÉRIQU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2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195640" y="2637000"/>
            <a:ext cx="4238640" cy="1676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3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" descr=""/>
          <p:cNvPicPr/>
          <p:nvPr/>
        </p:nvPicPr>
        <p:blipFill>
          <a:blip r:embed="rId1"/>
          <a:stretch/>
        </p:blipFill>
        <p:spPr>
          <a:xfrm>
            <a:off x="3629160" y="1700280"/>
            <a:ext cx="1806480" cy="460836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3"/>
          <p:cNvSpPr/>
          <p:nvPr/>
        </p:nvSpPr>
        <p:spPr>
          <a:xfrm>
            <a:off x="0" y="543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1731960" y="2708280"/>
            <a:ext cx="5143680" cy="163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2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3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8726400" cy="14414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8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04760" y="2276640"/>
            <a:ext cx="9004320" cy="143964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" descr=""/>
          <p:cNvPicPr/>
          <p:nvPr/>
        </p:nvPicPr>
        <p:blipFill>
          <a:blip r:embed="rId2"/>
          <a:stretch/>
        </p:blipFill>
        <p:spPr>
          <a:xfrm>
            <a:off x="3203640" y="3429000"/>
            <a:ext cx="247968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292428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" descr=""/>
          <p:cNvPicPr/>
          <p:nvPr/>
        </p:nvPicPr>
        <p:blipFill>
          <a:blip r:embed="rId2"/>
          <a:stretch/>
        </p:blipFill>
        <p:spPr>
          <a:xfrm>
            <a:off x="4819680" y="1916280"/>
            <a:ext cx="270504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"/>
          <p:cNvPicPr/>
          <p:nvPr/>
        </p:nvPicPr>
        <p:blipFill>
          <a:blip r:embed="rId1"/>
          <a:stretch/>
        </p:blipFill>
        <p:spPr>
          <a:xfrm>
            <a:off x="468360" y="2492280"/>
            <a:ext cx="5692680" cy="18003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" descr=""/>
          <p:cNvPicPr/>
          <p:nvPr/>
        </p:nvPicPr>
        <p:blipFill>
          <a:blip r:embed="rId2"/>
          <a:stretch/>
        </p:blipFill>
        <p:spPr>
          <a:xfrm>
            <a:off x="6496200" y="2492280"/>
            <a:ext cx="2108160" cy="18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816200" y="1844640"/>
            <a:ext cx="3619440" cy="3086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" descr=""/>
          <p:cNvPicPr/>
          <p:nvPr/>
        </p:nvPicPr>
        <p:blipFill>
          <a:blip r:embed="rId2"/>
          <a:stretch/>
        </p:blipFill>
        <p:spPr>
          <a:xfrm>
            <a:off x="5651640" y="263700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849920" cy="18003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" descr=""/>
          <p:cNvPicPr/>
          <p:nvPr/>
        </p:nvPicPr>
        <p:blipFill>
          <a:blip r:embed="rId2"/>
          <a:stretch/>
        </p:blipFill>
        <p:spPr>
          <a:xfrm>
            <a:off x="5570640" y="2565360"/>
            <a:ext cx="3249360" cy="1800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alculer et donner le résultat sous la forme la plus simple possible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4552920" cy="307656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0" y="353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"/>
          <p:cNvPicPr/>
          <p:nvPr/>
        </p:nvPicPr>
        <p:blipFill>
          <a:blip r:embed="rId2"/>
          <a:stretch/>
        </p:blipFill>
        <p:spPr>
          <a:xfrm>
            <a:off x="5653080" y="2511360"/>
            <a:ext cx="3095640" cy="163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165240" y="2781360"/>
            <a:ext cx="4551120" cy="18000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2"/>
          <a:stretch/>
        </p:blipFill>
        <p:spPr>
          <a:xfrm>
            <a:off x="4981680" y="2781360"/>
            <a:ext cx="38383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1"/>
          <a:stretch/>
        </p:blipFill>
        <p:spPr>
          <a:xfrm>
            <a:off x="2556000" y="1341360"/>
            <a:ext cx="1806480" cy="46087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3"/>
          <p:cNvSpPr/>
          <p:nvPr/>
        </p:nvSpPr>
        <p:spPr>
          <a:xfrm>
            <a:off x="0" y="5438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1" descr=""/>
          <p:cNvPicPr/>
          <p:nvPr/>
        </p:nvPicPr>
        <p:blipFill>
          <a:blip r:embed="rId2"/>
          <a:stretch/>
        </p:blipFill>
        <p:spPr>
          <a:xfrm>
            <a:off x="4716360" y="2060640"/>
            <a:ext cx="1886040" cy="28954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" descr=""/>
          <p:cNvPicPr/>
          <p:nvPr/>
        </p:nvPicPr>
        <p:blipFill>
          <a:blip r:embed="rId1"/>
          <a:stretch/>
        </p:blipFill>
        <p:spPr>
          <a:xfrm>
            <a:off x="179280" y="2060640"/>
            <a:ext cx="5651640" cy="180000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2"/>
          <a:stretch/>
        </p:blipFill>
        <p:spPr>
          <a:xfrm>
            <a:off x="6048360" y="2060640"/>
            <a:ext cx="28447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0" y="1324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32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0" y="28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3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26400" cy="144144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5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2268360" y="3429000"/>
            <a:ext cx="4262760" cy="144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2440" y="1608120"/>
            <a:ext cx="62895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803240" y="3141720"/>
            <a:ext cx="2840040" cy="17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324000" y="2708280"/>
            <a:ext cx="8553240" cy="1368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943360" y="1916280"/>
            <a:ext cx="292392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692360" y="2637000"/>
            <a:ext cx="5181480" cy="163800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2987640" y="1855800"/>
            <a:ext cx="3619440" cy="30859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286240" cy="1962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124000" y="1700280"/>
            <a:ext cx="4552920" cy="3076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0" y="35337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30T16:59:36Z</dcterms:modified>
  <cp:revision>237</cp:revision>
  <dc:subject/>
  <dc:title>Diapositive 0</dc:title>
</cp:coreProperties>
</file>