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D0094-184B-4EB2-95E9-63C850F3811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C46F-9FCE-42B9-971C-FD4BD75849F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CF6BA-F554-47D9-8DF4-9861D81F938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8BA08-D565-4611-AB23-3191A0C0E75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20A7A-29F9-4E74-A466-89A3DD486FF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09568-61B0-4277-9ADC-72A87D0573D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E125E-8C4C-4D20-A8B9-F2BDC1F6CDC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8650C-E1DB-4BAB-9CD5-7FD8008AF4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3615E-9C2B-4339-95AD-DE008F58572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8098-2979-4525-84D9-7732CB1647D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8BE8C-3305-459B-8D30-887B2C50C65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FF56C-ACD7-48E8-BF6E-9AB3CBCB1E3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48636-CD3A-4A69-ABD7-4A3F2C9E47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4D4F-859D-4BA3-AD50-B91BF461D7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1224E-AF47-42FF-A35F-4332C99E3E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A6143-59DA-4136-B858-85E3CFF25E9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6AA87-B49B-4807-9B72-A6C7F5DCA0E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C4E8D-7128-4998-A618-D4641772748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2FCD-5D69-4F7E-AF85-EDCB2CD6B68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477A4-6702-4A32-8599-D64839296D6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C88C-17DE-40F6-8CB9-53479FDC1FA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FCFE3-1BB4-443C-9DF0-6E09CB90707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61AB-482F-4FBA-BDB8-E74FB9CC70E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2464-D65D-4C8F-A8EB-194A524F319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8D4AE-BE9B-4FA9-84B2-43E9A3379E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583F3-BE1C-456F-97C7-AB01BFD7BE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ABD71-CFC7-4AD2-B08D-F667DD15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67A3-8DF3-46F5-B3BD-9DBA75E95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D3B4-1CAF-4644-92B1-074543199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5F77-6519-4551-B088-4B55102B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C7BB-6779-436B-B5BD-B35E1A4A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2EC7-4805-44E8-A655-68A733A4C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FB50-445B-4D26-9471-44E908D90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0AAD-1A3A-4024-B7F5-6C8B583CB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6C4C-D6A1-4E3D-A8C7-CE8CAC322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0196-B4FF-4113-B40F-3B6D615C7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C13-024D-47EF-9A6F-D67F18FC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1BE5-48BD-49BE-B5F5-3C113A7B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0D5EA-E1F0-4EC7-A17D-4741B5C26E6B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2C982-2070-4EBC-8C5E-E63CFD704F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POURCENTAG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3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90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Flèche droite 6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ogner un rectangle avec un coin diagonal 7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30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95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Flèche droite 6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ogner un rectangle avec un coin diagonal 7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312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9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100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Flèche droite 6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ogner un rectangle avec un coin diagonal 7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396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4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105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Flèche droite 6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ogner un rectangle avec un coin diagonal 7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25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+ 10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30 € pour 300 €, soit 10 € pour 100 €</a:t>
            </a:r>
            <a:r>
              <a:rPr b="1" lang="fr-F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e 12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13" name="Rogner un rectangle avec un coin diagonal 13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Flèche droite 14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ogner un rectangle avec un coin diagonal 15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33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– 20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diminution est de 40 € pour 200 €, soit 20 € pour 100 €</a:t>
            </a:r>
            <a:r>
              <a:rPr b="1" lang="fr-F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Groupe 8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20" name="Rogner un rectangle avec un coin diagonal 9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Flèche droite 10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ogner un rectangle avec un coin diagonal 11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16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– 75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diminution est de 66 € pour 88 €, soit 3/4 de mo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e 9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27" name="Rogner un rectangle avec un coin diagonal 10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33352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Flèche droite 11"/>
            <p:cNvSpPr/>
            <p:nvPr/>
          </p:nvSpPr>
          <p:spPr>
            <a:xfrm>
              <a:off x="3863160" y="2277360"/>
              <a:ext cx="1508040" cy="280440"/>
            </a:xfrm>
            <a:prstGeom prst="rightArrow">
              <a:avLst>
                <a:gd name="adj1" fmla="val 50000"/>
                <a:gd name="adj2" fmla="val 51309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ogner un rectangle avec un coin diagonal 12"/>
            <p:cNvSpPr/>
            <p:nvPr/>
          </p:nvSpPr>
          <p:spPr>
            <a:xfrm>
              <a:off x="5514120" y="1717200"/>
              <a:ext cx="22978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22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+ 50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220 € pour 440 €, soit la moitié de pl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e 8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34" name="Rogner un rectangle avec un coin diagonal 9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Flèche droite 10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ogner un rectangle avec un coin diagonal 11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66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– 25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diminution est de 40 € pour 160 €, soit 1/4 de moi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e 8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41" name="Rogner un rectangle avec un coin diagonal 9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Flèche droite 10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ogner un rectangle avec un coin diagonal 11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12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42c8"/>
                </a:solidFill>
                <a:latin typeface="Georgia"/>
              </a:rPr>
              <a:t>Des étiquettes vont défiler  : elles donnent l’ancien prix barré et le nouveau prix après augmentation ou diminution.  </a:t>
            </a:r>
            <a:br>
              <a:rPr sz="4000"/>
            </a:br>
            <a:br>
              <a:rPr sz="4000"/>
            </a:br>
            <a:r>
              <a:rPr b="0" lang="fr-FR" sz="3200" spc="-1" strike="noStrike">
                <a:solidFill>
                  <a:srgbClr val="0042c8"/>
                </a:solidFill>
                <a:latin typeface="Georgia"/>
              </a:rPr>
              <a:t>Pour chaque étiquette, donner l’augmentation  ou la diminution en pourcentage sous la forme :  </a:t>
            </a:r>
            <a:br>
              <a:rPr sz="3200"/>
            </a:br>
            <a:r>
              <a:rPr b="0" lang="fr-FR" sz="3200" spc="-1" strike="noStrike">
                <a:solidFill>
                  <a:srgbClr val="0042c8"/>
                </a:solidFill>
                <a:latin typeface="Georgia"/>
              </a:rPr>
              <a:t>« + </a:t>
            </a:r>
            <a:r>
              <a:rPr b="0" i="1" lang="fr-FR" sz="3200" spc="-1" strike="noStrike">
                <a:solidFill>
                  <a:srgbClr val="0042c8"/>
                </a:solidFill>
                <a:latin typeface="Georgia"/>
              </a:rPr>
              <a:t>x </a:t>
            </a:r>
            <a:r>
              <a:rPr b="0" lang="fr-FR" sz="3200" spc="-1" strike="noStrike">
                <a:solidFill>
                  <a:srgbClr val="0042c8"/>
                </a:solidFill>
                <a:latin typeface="Georgia"/>
              </a:rPr>
              <a:t>% » ou « – </a:t>
            </a:r>
            <a:r>
              <a:rPr b="0" i="1" lang="fr-FR" sz="3200" spc="-1" strike="noStrike">
                <a:solidFill>
                  <a:srgbClr val="0042c8"/>
                </a:solidFill>
                <a:latin typeface="Georgia"/>
              </a:rPr>
              <a:t>x</a:t>
            </a:r>
            <a:r>
              <a:rPr b="0" lang="fr-FR" sz="3200" spc="-1" strike="noStrike">
                <a:solidFill>
                  <a:srgbClr val="0042c8"/>
                </a:solidFill>
                <a:latin typeface="Georgia"/>
              </a:rPr>
              <a:t> %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+ 8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8 € pour 100 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e 8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48" name="Rogner un rectangle avec un coin diagonal 9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Flèche droite 10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ogner un rectangle avec un coin diagonal 11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108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+ 25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60 € pour 240 €, soit 1/4 de pl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e 8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55" name="Rogner un rectangle avec un coin diagonal 9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Flèche droite 10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ogner un rectangle avec un coin diagonal 11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30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+ 4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12 € pour 300 €, soit 4 € pour 100 €</a:t>
            </a:r>
            <a:r>
              <a:rPr b="1" lang="fr-F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e 8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62" name="Rogner un rectangle avec un coin diagonal 9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Flèche droite 10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ogner un rectangle avec un coin diagonal 11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312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– 1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diminution est de 4 € pour 400 €, soit 1 € pour 100 €</a:t>
            </a:r>
            <a:r>
              <a:rPr b="1" lang="fr-F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e 8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69" name="Rogner un rectangle avec un coin diagonal 9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Flèche droite 10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ogner un rectangle avec un coin diagonal 11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396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+ 100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125 € pour 125 €, soit un prix doubl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e 8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176" name="Rogner un rectangle avec un coin diagonal 9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Flèche droite 10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ogner un rectangle avec un coin diagonal 11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25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0" y="5013360"/>
            <a:ext cx="9144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+ 30 %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e 6"/>
          <p:cNvGrpSpPr/>
          <p:nvPr/>
        </p:nvGrpSpPr>
        <p:grpSpPr>
          <a:xfrm>
            <a:off x="1403280" y="1700280"/>
            <a:ext cx="6408720" cy="1297080"/>
            <a:chOff x="1403280" y="1700280"/>
            <a:chExt cx="6408720" cy="1297080"/>
          </a:xfrm>
        </p:grpSpPr>
        <p:pic>
          <p:nvPicPr>
            <p:cNvPr id="54" name="Rogner un rectangle avec un coin diagonal 3" descr=""/>
            <p:cNvPicPr/>
            <p:nvPr/>
          </p:nvPicPr>
          <p:blipFill>
            <a:blip r:embed="rId1"/>
            <a:stretch/>
          </p:blipFill>
          <p:spPr>
            <a:xfrm>
              <a:off x="1403280" y="1700280"/>
              <a:ext cx="2496240" cy="12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Flèche droite 4"/>
            <p:cNvSpPr/>
            <p:nvPr/>
          </p:nvSpPr>
          <p:spPr>
            <a:xfrm>
              <a:off x="3922200" y="2277360"/>
              <a:ext cx="1485720" cy="280440"/>
            </a:xfrm>
            <a:prstGeom prst="rightArrow">
              <a:avLst>
                <a:gd name="adj1" fmla="val 50000"/>
                <a:gd name="adj2" fmla="val 50550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ogner un rectangle avec un coin diagonal 5"/>
            <p:cNvSpPr/>
            <p:nvPr/>
          </p:nvSpPr>
          <p:spPr>
            <a:xfrm>
              <a:off x="5548320" y="1717200"/>
              <a:ext cx="2263680" cy="126036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26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ensées 7"/>
          <p:cNvSpPr/>
          <p:nvPr/>
        </p:nvSpPr>
        <p:spPr>
          <a:xfrm>
            <a:off x="250920" y="3357720"/>
            <a:ext cx="8642160" cy="158400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60 € pour 200 €, soit 30 € pour 100 €</a:t>
            </a:r>
            <a:r>
              <a:rPr b="1" lang="fr-FR" sz="2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9" name="Groupe 3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60" name="Rogner un rectangle avec un coin diagonal 4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Flèche droite 5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ogner un rectangle avec un coin diagonal 6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33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4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65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Flèche droite 6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ogner un rectangle avec un coin diagonal 7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16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70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33352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Flèche droite 6"/>
            <p:cNvSpPr/>
            <p:nvPr/>
          </p:nvSpPr>
          <p:spPr>
            <a:xfrm>
              <a:off x="3863160" y="3359520"/>
              <a:ext cx="1508040" cy="278640"/>
            </a:xfrm>
            <a:prstGeom prst="rightArrow">
              <a:avLst>
                <a:gd name="adj1" fmla="val 50000"/>
                <a:gd name="adj2" fmla="val 51415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ogner un rectangle avec un coin diagonal 7"/>
            <p:cNvSpPr/>
            <p:nvPr/>
          </p:nvSpPr>
          <p:spPr>
            <a:xfrm>
              <a:off x="5514120" y="2800440"/>
              <a:ext cx="22978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22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75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Flèche droite 6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ogner un rectangle avec un coin diagonal 7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66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80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Flèche droite 6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ogner un rectangle avec un coin diagonal 7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120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e 4"/>
          <p:cNvGrpSpPr/>
          <p:nvPr/>
        </p:nvGrpSpPr>
        <p:grpSpPr>
          <a:xfrm>
            <a:off x="1403280" y="2781360"/>
            <a:ext cx="6408720" cy="1295280"/>
            <a:chOff x="1403280" y="2781360"/>
            <a:chExt cx="6408720" cy="1295280"/>
          </a:xfrm>
        </p:grpSpPr>
        <p:pic>
          <p:nvPicPr>
            <p:cNvPr id="85" name="Rogner un rectangle avec un coin diagonal 5" descr=""/>
            <p:cNvPicPr/>
            <p:nvPr/>
          </p:nvPicPr>
          <p:blipFill>
            <a:blip r:embed="rId1"/>
            <a:stretch/>
          </p:blipFill>
          <p:spPr>
            <a:xfrm>
              <a:off x="1403280" y="2781360"/>
              <a:ext cx="2496240" cy="12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Flèche droite 6"/>
            <p:cNvSpPr/>
            <p:nvPr/>
          </p:nvSpPr>
          <p:spPr>
            <a:xfrm>
              <a:off x="3922200" y="3359520"/>
              <a:ext cx="1485720" cy="278640"/>
            </a:xfrm>
            <a:prstGeom prst="rightArrow">
              <a:avLst>
                <a:gd name="adj1" fmla="val 50000"/>
                <a:gd name="adj2" fmla="val 50654"/>
              </a:avLst>
            </a:prstGeom>
            <a:solidFill>
              <a:srgbClr val="7030a0"/>
            </a:solidFill>
            <a:ln w="25560">
              <a:solidFill>
                <a:srgbClr val="4e00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ogner un rectangle avec un coin diagonal 7"/>
            <p:cNvSpPr/>
            <p:nvPr/>
          </p:nvSpPr>
          <p:spPr>
            <a:xfrm>
              <a:off x="5548320" y="2800440"/>
              <a:ext cx="2263680" cy="1257120"/>
            </a:xfrm>
            <a:prstGeom prst="pie">
              <a:avLst/>
            </a:prstGeom>
            <a:solidFill>
              <a:srgbClr val="00b050"/>
            </a:solidFill>
            <a:ln w="25560">
              <a:solidFill>
                <a:srgbClr val="174d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5400" spc="-1" strike="noStrike">
                  <a:solidFill>
                    <a:srgbClr val="ffffff"/>
                  </a:solidFill>
                  <a:latin typeface="Calibri"/>
                </a:rPr>
                <a:t>108 €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SEM</cp:lastModifiedBy>
  <dcterms:modified xsi:type="dcterms:W3CDTF">2014-06-29T14:57:14Z</dcterms:modified>
  <cp:revision>212</cp:revision>
  <dc:subject/>
  <dc:title>Diapositive 0</dc:title>
</cp:coreProperties>
</file>