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6BE0-589E-447D-B440-A0F0C38DD3B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3303-2CF2-4E97-A69E-9302181D007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D010-9302-4B9B-AFB9-1AEC00EE406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02C9-BD3C-4134-8431-F1A421E4028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FDC1E-88FB-4AD4-B179-91745E9BFA2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E820-DE3B-4B34-91C3-60C88FB3F5C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19A4-056B-4AEE-ADE9-774216CC91F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C3E1B-2893-4979-9B25-92B44F6D4A5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BCF17-A042-46ED-ADDE-34C4A83CA0C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9A196-04AB-42FD-A8A1-4FF51CF7EEE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8157-4487-45AB-8281-0DE51E22BA3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54EC-5D7C-4F34-A38C-190D7E16A3F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CFF5-486C-4F9B-82AB-089DEF6FE04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6F1D-B3C6-41AB-BDD3-82322411B51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1C897-DAC5-477E-91AD-3DC29ACF7E3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EA51-12C9-4426-8AC9-83F63D81C2F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C28D2-7505-4272-AD88-E33CDD882FA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F2A3-B78C-42D5-A6B0-64AD3F3CA62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D3797-B90F-4472-8A6B-20E91C526EA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78B9-9C06-4AAF-9AA9-14E922B1982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B5E1-05A5-4270-8B24-C9EA2830E73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D018-1FBB-4661-A930-FFCA36160EB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FFBA2-E4BE-4E12-805B-099CCBE3B66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4125E-AD67-4634-9F04-D4AC9CE4C50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D4BD-09AD-4887-A41C-92D82CEC215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F14C-6988-4203-B9AF-F30646D46E9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627C-ED25-4BA6-B55A-794F20F93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086C-7695-49CC-AC71-511611F9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BF31-101E-41E7-9790-4387A7C54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AD9B-16BA-40E5-A2D3-0B31DC824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1A27-2DE9-47E9-8501-4386AC6BE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C8B3-7319-4542-9740-E8A9D8DEE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48FD-E116-48E1-98A5-F901A469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32B7-A793-42F1-9F80-533978C67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5685-8C5B-431C-9E44-EFA92B712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6FB0-4060-497C-A4CC-7C5A5B54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A89A-B511-4099-AB59-D7DF0808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BA3D-0417-4132-9F87-022F939A0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2c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D98A-2E4E-4029-93AB-C6D2F3A800C8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9459D-4387-46D3-91CF-E860E22D7C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POURCENTAGES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2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0,33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1,002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0,001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2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re 1"/>
          <p:cNvSpPr/>
          <p:nvPr/>
        </p:nvSpPr>
        <p:spPr>
          <a:xfrm>
            <a:off x="0" y="1628640"/>
            <a:ext cx="9144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1,05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’augmenter de 5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ensées 5"/>
          <p:cNvSpPr/>
          <p:nvPr/>
        </p:nvSpPr>
        <p:spPr>
          <a:xfrm>
            <a:off x="1116000" y="3141720"/>
            <a:ext cx="6912000" cy="1584360"/>
          </a:xfrm>
          <a:prstGeom prst="cloudCallout">
            <a:avLst>
              <a:gd name="adj1" fmla="val 42972"/>
              <a:gd name="adj2" fmla="val -12337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05 = 1 + 0,05 = 1 + 5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itre 1"/>
          <p:cNvSpPr/>
          <p:nvPr/>
        </p:nvSpPr>
        <p:spPr>
          <a:xfrm>
            <a:off x="0" y="1628640"/>
            <a:ext cx="9144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0,8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 diminuer de 20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ensées 5"/>
          <p:cNvSpPr/>
          <p:nvPr/>
        </p:nvSpPr>
        <p:spPr>
          <a:xfrm>
            <a:off x="1116000" y="3141720"/>
            <a:ext cx="6912000" cy="1584360"/>
          </a:xfrm>
          <a:prstGeom prst="cloudCallout">
            <a:avLst>
              <a:gd name="adj1" fmla="val 42972"/>
              <a:gd name="adj2" fmla="val -12337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8 = 1 – 0,2 = 1 – 20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itre 1"/>
          <p:cNvSpPr/>
          <p:nvPr/>
        </p:nvSpPr>
        <p:spPr>
          <a:xfrm>
            <a:off x="0" y="1628640"/>
            <a:ext cx="9144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1,3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’augmenter de 30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ensées 5"/>
          <p:cNvSpPr/>
          <p:nvPr/>
        </p:nvSpPr>
        <p:spPr>
          <a:xfrm>
            <a:off x="1116000" y="3141720"/>
            <a:ext cx="6912000" cy="1584360"/>
          </a:xfrm>
          <a:prstGeom prst="cloudCallout">
            <a:avLst>
              <a:gd name="adj1" fmla="val 42972"/>
              <a:gd name="adj2" fmla="val -12337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3 = 1 + 0,3 = 1 + 30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itre 1"/>
          <p:cNvSpPr/>
          <p:nvPr/>
        </p:nvSpPr>
        <p:spPr>
          <a:xfrm>
            <a:off x="0" y="1628640"/>
            <a:ext cx="9144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0,55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 diminuer de 45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ensées 5"/>
          <p:cNvSpPr/>
          <p:nvPr/>
        </p:nvSpPr>
        <p:spPr>
          <a:xfrm>
            <a:off x="1116000" y="3141720"/>
            <a:ext cx="6912000" cy="1584360"/>
          </a:xfrm>
          <a:prstGeom prst="cloudCallout">
            <a:avLst>
              <a:gd name="adj1" fmla="val 42972"/>
              <a:gd name="adj2" fmla="val -12337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55 = 1 – 0,45  = 1 – 45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itre 1"/>
          <p:cNvSpPr/>
          <p:nvPr/>
        </p:nvSpPr>
        <p:spPr>
          <a:xfrm>
            <a:off x="0" y="1628640"/>
            <a:ext cx="9144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1,46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’augmenter de 46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ensées 5"/>
          <p:cNvSpPr/>
          <p:nvPr/>
        </p:nvSpPr>
        <p:spPr>
          <a:xfrm>
            <a:off x="1116000" y="3141720"/>
            <a:ext cx="6912000" cy="1584360"/>
          </a:xfrm>
          <a:prstGeom prst="cloudCallout">
            <a:avLst>
              <a:gd name="adj1" fmla="val 42972"/>
              <a:gd name="adj2" fmla="val -12337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46 = 1 + 0,46 = 1 + 46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42c8"/>
                </a:solidFill>
                <a:latin typeface="Georgia"/>
                <a:ea typeface="Arial"/>
              </a:rPr>
              <a:t>Compléter les phrases par </a:t>
            </a:r>
            <a:br>
              <a:rPr sz="4800"/>
            </a:br>
            <a:r>
              <a:rPr b="0" lang="fr-FR" sz="4800" spc="-1" strike="noStrike">
                <a:solidFill>
                  <a:srgbClr val="0042c8"/>
                </a:solidFill>
                <a:latin typeface="Georgia"/>
                <a:ea typeface="Arial"/>
              </a:rPr>
              <a:t>« augmenter » ou « diminuer » suivi du taux de pourcentage </a:t>
            </a:r>
            <a:br>
              <a:rPr sz="4800"/>
            </a:br>
            <a:r>
              <a:rPr b="0" lang="fr-FR" sz="4800" spc="-1" strike="noStrike">
                <a:solidFill>
                  <a:srgbClr val="0042c8"/>
                </a:solidFill>
                <a:latin typeface="Georgia"/>
                <a:ea typeface="Arial"/>
              </a:rPr>
              <a:t>qui convient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itre 1"/>
          <p:cNvSpPr/>
          <p:nvPr/>
        </p:nvSpPr>
        <p:spPr>
          <a:xfrm>
            <a:off x="0" y="1628640"/>
            <a:ext cx="9144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0,01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 diminuer de 99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ensées 5"/>
          <p:cNvSpPr/>
          <p:nvPr/>
        </p:nvSpPr>
        <p:spPr>
          <a:xfrm>
            <a:off x="1116000" y="3141720"/>
            <a:ext cx="6912000" cy="1584360"/>
          </a:xfrm>
          <a:prstGeom prst="cloudCallout">
            <a:avLst>
              <a:gd name="adj1" fmla="val 42972"/>
              <a:gd name="adj2" fmla="val -12337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1 = 1 – 0,99 = 1 – 99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itre 1"/>
          <p:cNvSpPr/>
          <p:nvPr/>
        </p:nvSpPr>
        <p:spPr>
          <a:xfrm>
            <a:off x="0" y="1628640"/>
            <a:ext cx="9144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0,33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 diminuer de 67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ensées 5"/>
          <p:cNvSpPr/>
          <p:nvPr/>
        </p:nvSpPr>
        <p:spPr>
          <a:xfrm>
            <a:off x="1116000" y="3141720"/>
            <a:ext cx="6912000" cy="1584360"/>
          </a:xfrm>
          <a:prstGeom prst="cloudCallout">
            <a:avLst>
              <a:gd name="adj1" fmla="val 42972"/>
              <a:gd name="adj2" fmla="val -12337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33 = 1 – 0,67 = 1 – 67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itre 1"/>
          <p:cNvSpPr/>
          <p:nvPr/>
        </p:nvSpPr>
        <p:spPr>
          <a:xfrm>
            <a:off x="0" y="1628640"/>
            <a:ext cx="9144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1,002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’augmenter de 0,2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ensées 5"/>
          <p:cNvSpPr/>
          <p:nvPr/>
        </p:nvSpPr>
        <p:spPr>
          <a:xfrm>
            <a:off x="1116000" y="3141720"/>
            <a:ext cx="6912000" cy="1584360"/>
          </a:xfrm>
          <a:prstGeom prst="cloudCallout">
            <a:avLst>
              <a:gd name="adj1" fmla="val 42972"/>
              <a:gd name="adj2" fmla="val -12337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002 = 1 + 0,002 = 1 + 0,2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itre 1"/>
          <p:cNvSpPr/>
          <p:nvPr/>
        </p:nvSpPr>
        <p:spPr>
          <a:xfrm>
            <a:off x="0" y="1628640"/>
            <a:ext cx="9144000" cy="47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0,001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 diminuer de 99,9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ensées 5"/>
          <p:cNvSpPr/>
          <p:nvPr/>
        </p:nvSpPr>
        <p:spPr>
          <a:xfrm>
            <a:off x="1116000" y="3141720"/>
            <a:ext cx="6912000" cy="1584360"/>
          </a:xfrm>
          <a:prstGeom prst="cloudCallout">
            <a:avLst>
              <a:gd name="adj1" fmla="val 42972"/>
              <a:gd name="adj2" fmla="val -12337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001 = 1 – 0,999 = 1 – 99,9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itre 1"/>
          <p:cNvSpPr/>
          <p:nvPr/>
        </p:nvSpPr>
        <p:spPr>
          <a:xfrm>
            <a:off x="0" y="1628640"/>
            <a:ext cx="9144000" cy="47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2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’augmenter de 100 %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ensées 5"/>
          <p:cNvSpPr/>
          <p:nvPr/>
        </p:nvSpPr>
        <p:spPr>
          <a:xfrm>
            <a:off x="1116000" y="3141720"/>
            <a:ext cx="6912000" cy="1584360"/>
          </a:xfrm>
          <a:prstGeom prst="cloudCallout">
            <a:avLst>
              <a:gd name="adj1" fmla="val 42972"/>
              <a:gd name="adj2" fmla="val -12337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 = 1 + 100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itre 1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1,20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… </a:t>
            </a:r>
            <a:r>
              <a:rPr b="0" lang="fr-FR" sz="5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’augmenter de 20 %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ensées 3"/>
          <p:cNvSpPr/>
          <p:nvPr/>
        </p:nvSpPr>
        <p:spPr>
          <a:xfrm>
            <a:off x="1116000" y="3357720"/>
            <a:ext cx="6912000" cy="1584000"/>
          </a:xfrm>
          <a:prstGeom prst="cloudCallout">
            <a:avLst>
              <a:gd name="adj1" fmla="val 36782"/>
              <a:gd name="adj2" fmla="val -12431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20 = 1 + 0,20 = 1 + 20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1,05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0,8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1,3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0,55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1,46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ier un nombre par 0,01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SEM</cp:lastModifiedBy>
  <dcterms:modified xsi:type="dcterms:W3CDTF">2014-06-29T14:57:32Z</dcterms:modified>
  <cp:revision>214</cp:revision>
  <dc:subject/>
  <dc:title>Diapositive 0</dc:title>
</cp:coreProperties>
</file>