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8435F-6E5D-465C-A449-07C67154098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F02E-ADAD-4524-8A87-7D31AB9EEB5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91BC-E103-49A0-A39A-68B6654927B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8067-7925-42A1-9E9D-8BC501E5B76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DEBCD-60CF-4E65-8288-2322F5CCE2D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BF978-904F-4532-89BF-4FAA3A0E9F9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39262-F0F8-4D5B-834A-1F1FBA00F7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ECC9E-50EF-4A13-B529-C1ECB9F73B6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5E98-B37C-49EA-A0A5-8D08669BDC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423E-3EE1-4609-8723-0285911F53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A6045-307B-4588-A7F0-D0435368C77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83BB-95A4-4CC5-A676-1C49EE29DB4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0FF1-7B3A-464E-BC1F-ED59AE1FD36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03597-EE6D-4C68-91D5-BE51F719B16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FBD2-4C1D-4B31-9D1E-2F0D3007C47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10BB-C5E9-4705-9B5D-9DDF28A0626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317C-E6AE-4AB7-885C-E7CCF1B70FB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88A9-C066-4776-9ADD-CF4D5970A1F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EF251-EEDF-4C44-AA3E-B96BAFC244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BDF87-1ED3-44AF-8439-F999522223A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99FD4-8944-47B9-82DB-5E83E8D2215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F2BB1-C3B8-40CF-8495-F25E080729A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00B15-DEA8-4DE7-AEF2-EED5C7D86D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6901-EEF2-4E7B-9C02-391896FAEA6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07CB4-9571-4FF0-B5DE-0FC5773BB3F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11168-1BF4-4045-B16F-E4699A2FBDF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418C-8D05-41E7-BE9A-43CB8C23E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7016-AADF-4E38-B150-7C26068E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DBC-F4FA-4D0F-AC9D-6D40593C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FF596-319E-4399-AF43-0FA819119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9A4-E6BF-4A41-9ADE-B278BCB5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3B2F4-34A0-48DC-8FB3-3CB85EC56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5620-C254-4D4F-85D4-1AB822480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BF31-DBBC-4664-B895-7F62CC67B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4ADA-EA7F-44A7-A4E5-7FCCDF76F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84FA-F30E-42FB-9885-E50B814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C9EC-8EB9-475A-A539-DE735C04C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A8D46-E526-4A30-BB97-9E37C029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89B95-DA30-45C0-9C53-04E8973ECA78}" type="datetime">
              <a:rPr b="0" lang="fr-FR" sz="1200" spc="-1" strike="noStrike">
                <a:solidFill>
                  <a:srgbClr val="898989"/>
                </a:solidFill>
                <a:latin typeface="Cambria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mbr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4644E-0609-4843-BA44-F4AF775A7307}" type="slidenum">
              <a:rPr b="0" lang="fr-FR" sz="1200" spc="-1" strike="noStrike">
                <a:solidFill>
                  <a:srgbClr val="898989"/>
                </a:solidFill>
                <a:latin typeface="Cambr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1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7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7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7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8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8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5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8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600" spc="-1" strike="noStrike">
                <a:solidFill>
                  <a:srgbClr val="0042c8"/>
                </a:solidFill>
                <a:latin typeface="Georgia"/>
                <a:ea typeface="Arial"/>
              </a:rPr>
              <a:t>Compléter par le nombre qui convient.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00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0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0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2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7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ensées 7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2,5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2,5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0,1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0,999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– 0,1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– 0,1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2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3,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ensées 5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25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25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522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1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éponse : 1,1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ensées 3"/>
          <p:cNvSpPr/>
          <p:nvPr/>
        </p:nvSpPr>
        <p:spPr>
          <a:xfrm>
            <a:off x="1116000" y="3068640"/>
            <a:ext cx="6912000" cy="1584360"/>
          </a:xfrm>
          <a:prstGeom prst="cloudCallout">
            <a:avLst>
              <a:gd name="adj1" fmla="val 59185"/>
              <a:gd name="adj2" fmla="val -88939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100 + 10)/1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u 1 + 10/10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7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8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5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er un nombre de 100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gmenter un nombre de 0,5 %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ient à multiplier ce nombre par ..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4:57:49Z</dcterms:modified>
  <cp:revision>212</cp:revision>
  <dc:subject/>
  <dc:title>Diapositive 0</dc:title>
</cp:coreProperties>
</file>