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4506-9D95-4E2E-BFA9-B35FF86AD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3F3-3C89-47E9-8F33-72E1D45F2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5412FB-94EA-4E85-97DF-E3B9660AC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656C6-EBB0-4AA9-AD76-43C7B1790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B956E9-400B-4871-9A54-4D016E4FA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4A879-BFF7-4C17-A25F-BD3DB12BB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75D73-22C7-4EFD-8C30-BCCAE5E56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C80C7A-BBAC-4141-952F-42C7FB28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B74993-AD38-4EF7-9FF4-E4EDB490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C3672F-CF56-48E1-8D02-4E8F95572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11B4C2-9F85-4D4C-8953-54BE1E49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EBB77F-D874-4B20-828C-CDE23658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11DE-E65D-4B69-A4FD-CE6CFE720A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FEE213-0272-4BFC-A996-57EF1914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5D3630-370E-4F47-A2FA-985F30F3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D143F8-53BA-49E9-854D-032E13089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4B1EB0-8786-424B-9551-52B56F66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CAFCFA-AC18-4436-BC4D-6B5537A8B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4CFB4C-B0DC-4940-AAF9-D7E374CDC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10BAB-AC1F-42F0-9F1A-6BF6E147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AB6562-FCD8-416D-B629-D465EEF0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E83C47-9D47-4542-B89F-1828E512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9076EE-CEFF-497D-9FAB-E96BAEA88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5DC3-1C2D-4254-970B-BF68ACC92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99AE3C-DB9E-454F-8BE7-B16E0C3BD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E95F1C-5E0C-4270-8AE0-98D7B5D5B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E3B69B-C8D4-4A6C-984B-5046D4F09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5ABCDB-7E2A-4488-B001-EADAC596F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F4C8B6-E451-4834-9876-9ECDD0994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C8E624-9A37-48C8-B49D-7F492484A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510881-9D65-4344-BE62-461E0996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EB23A7-965F-4FC2-ADAC-6784FE65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AC0ECC-98B8-410C-BFED-36D5AD31E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7CE68-4104-47DD-89A6-BA50FF25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444EE-2FDD-4F95-909A-9962F1745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BD431D-65A8-41E9-AFB1-058E9068B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7B73D8-5E00-417C-A2BF-F1057F8A9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E7065C-4FF2-4126-A401-1D0E00E48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45010-3981-4BC4-8870-D5530E845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5EB25F-30D5-41AE-AEE7-01DCFC19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CBA342-B994-496C-B87D-7405849D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B8199-F19B-4A57-9455-59C2B807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2AE548-96F9-4699-B5F1-B275C572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C30E1D-E8CF-48D8-911D-C97494978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6B84B2-D2F9-45E7-A4DC-082BBCD13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FFFF9-27D4-4192-AF83-D78A6CF97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242628-E141-4A67-BB8C-B04AD1EB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3D2B1-2EA6-47B3-8DC8-8ADF2360F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EF60D1-B95A-4181-8EE7-DFEB1218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48F302-D503-4671-A6DE-A6EAEDA01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D1FC40-1F91-4DE0-AB2B-6DC20E6E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1384D-E26F-4410-B860-1FBECD656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C4AAAA-C531-4B64-B3AF-D66680B70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19E337-243C-4BC4-9B18-0C3252193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502146-2741-42DF-B53A-8F7CEA8E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769B95-4D76-41C4-87BE-BC230D04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5115A-55BB-4E3F-90B4-4C9D9CB0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B9E662-80EE-4BBA-A508-181E47E7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1629E5-0CC9-475C-81B3-BE8729F6D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490010-5F14-4B55-A7BF-FD959BA7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DE5AA9-72D2-4AF9-837C-F21BEC4F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8C37D4-A172-4A97-A2F6-4A9A6D75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5E4C1C-0519-4D9E-8143-30AF67B98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8367BA-B810-4895-A17F-E93159855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EBA0-E7FD-4870-8A6F-728E9DB7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6D51A-C568-492E-B346-8EE6FA19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C8E44-F6D7-47D9-8D60-0B7A93861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BA791-D9F7-4917-945C-5A082CCC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4888-3E68-41DF-B011-44388512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A9C36-5A73-469C-AA9A-47FB6683F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F8FC-5D66-4AF0-9829-0E320311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C263-0FC5-42B7-B06A-C302DC375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7642-3A3C-4E61-B070-0B0D47DF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4C212-6895-4663-8F07-CBB7097E7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D00970-31D9-4AD6-9415-83D4338F4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CC1E4-2B13-4748-806A-6ADD88654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B8902-C1DF-43B2-A357-93F92E289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0A4600-4888-452D-B17B-8463FD9BD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E365-2136-473D-9DBA-E7E1C8782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2F25-42A3-453A-9335-ADBC5C45D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56B57-4A52-45D1-9FBA-E65C407E5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B83CF-F85F-41C2-81F4-CE9985BD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6C152-64DC-4EDB-80A1-CE3E0293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792E2-C375-46E3-AE01-AD76C43EB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56AE5-D0B2-47A5-BA36-58406304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8F9F98-EAF9-4AEC-ABA2-24A072AC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BC08D-9D7E-4708-AFFD-737C00100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EA24FF-91B9-47C9-BD8F-4634B4416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5A1B78-75E1-424C-84B6-7182593A1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19C19-96B2-4DF2-B7B0-3FB721D8B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886D-9AEE-41CE-80A1-0A14B2FE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1C06F-4966-4102-8105-DAE48E65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D40E29-A526-4B0C-A155-38571EBE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5F5C6-C17E-4220-AF86-A25C6D3D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C5A17-092A-40E1-B9FC-79D8DAB3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3B0B2-25D7-4550-B7F7-869118AFC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F6F5BD-1F88-4B36-B37F-3CA2FE69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72CDA-DFBB-4D06-BD96-766590BB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7DF281-573F-43AD-8DD5-AE5883E60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F01008-841B-4FC8-AECF-271B3F97D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A8A7F2-CFFC-471A-9EE2-87A376CF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7A67-1CF6-4DE1-BB99-17F8E1ED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E12C4-E7C4-4190-A0B9-975BF7372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C6C61-06BD-40C1-9D7A-06CCA578D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C075E-661E-42FD-AF11-C0092D79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C5F7C1-C8C2-4AC0-AF4B-0A72E432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9CADC7-B8A0-4F8E-98F0-7E39E8C8A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7CD13-1613-43E5-88B6-E76A67DD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129CC3-A45A-4A00-860B-B21F865BD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BBFB9-E2AD-4ED5-840E-CE221E56C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7685FC-57E5-4453-8353-94BF1F02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453DE-F8C7-4606-B912-158B158E4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A49-F6F5-448E-85E5-DC912368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85F65A-4890-4125-BA60-819E4230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4C90DE-1C0B-4B45-9B14-2D807BBD0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BAFF2C-99E2-44C0-A1C6-4ABA43A44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36CE4-C8B0-4FCB-B79B-47A717250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033AA-9D76-41C5-89E8-8FE82B9E9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FFF0B5-0A15-40C6-92BB-83B303C87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3D454-0EC3-441B-A7F6-A140C806D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D991C2-B4A2-4837-A6A5-1B3D499E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8BF5F-6C7C-4A70-928F-C8F19E66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C9DF9D-5BF3-4846-A9FA-6CBC636D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816E-7146-4808-98ED-BC6EB394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24B3E-B943-40DC-B9D9-428DEDE28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5755D-4274-41A7-AEA0-120C89813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3C2C1-85F0-42F6-AA4F-1A63883AB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991BB1-2B1F-4A05-9A88-F1BEF3EA1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C06B0B-175D-44AD-9995-FD0EB3BA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5137A0-F3E2-4198-845C-47C8CF01C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F6AAFF-9464-4E69-8A3E-03690494B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1DF027-1766-4A9F-A1C3-270994994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ABB07F-8D96-46CA-A5E6-F0E2C62C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40ED6-6999-42DD-A218-6B51BAFB5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F668-A54B-41F4-B6B6-03027F63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CA083-1147-49F5-B0F2-63EB1E6B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21AB6-587B-4CCC-A3C6-91C7E377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3CE5D9-B4D4-4D15-A993-C1A3C3E72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C15EE2-1C1F-4B06-B9DF-890E3808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4AFB21-5988-49E3-BA45-2986F19DF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99626-971F-4469-BAA0-2111F5405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EAEFB5-5013-4730-B285-31871727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83F56-FF15-4700-944C-E1A561D50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BC082-F2EB-420A-992E-1641ABCD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6A15F-12AF-470E-89BF-1B056215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1E09-1FCF-43A0-B5CC-AE59B1D4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81526E-2486-4D29-B77C-4783CCD8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945CF5-8436-482C-A44D-B6AB43F68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42D423-0565-4E06-AF67-58F5B89C6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3ED8D-D3AF-4353-AE69-88B38E1F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FC9DD-7DB4-4C4F-926A-445E0D079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AA5CDA-6878-4D33-861F-215089A4D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BF06A9-22CD-468F-9F76-D9462857B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1BD0CD-CEF3-4DDC-9D40-59561A0B0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48880F-37D8-475E-9627-193658D7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110CB-8771-4F8C-9A41-35E78F26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>
            <a:alpha val="2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F0E5-2FB5-4E78-9A7B-29411D3A1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A85E-E910-45A4-A468-841D9BBE195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ECC83-416A-41C8-A4B4-E316FAF60D1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7C91A-DBBB-43A9-A51C-77334BA7ECE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645E-8E59-4884-A79E-869E32EA4DB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53C7-3BDD-4113-AFE5-94AA20D321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4A2E1-D7B1-42D7-9F53-262F0B2B818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9443A-3677-4C92-BB15-F85A3A8DD21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C9B8-F202-4316-B6D4-269028290C9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E8A34-2FDE-4D4B-BE8B-B63B1FB8B6D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37CEA-E695-4C81-BA4C-18898701F30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C5163-084F-4A52-BD23-0015E5D52961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5B1E6-14D1-4AFE-A672-FF489B4DF03A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Calcul algébrique 1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0" y="357336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-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0" y="5661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3"/>
          <p:cNvSpPr/>
          <p:nvPr/>
        </p:nvSpPr>
        <p:spPr>
          <a:xfrm>
            <a:off x="0" y="49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6" descr=""/>
          <p:cNvPicPr/>
          <p:nvPr/>
        </p:nvPicPr>
        <p:blipFill>
          <a:blip r:embed="rId1"/>
          <a:stretch/>
        </p:blipFill>
        <p:spPr>
          <a:xfrm>
            <a:off x="1187280" y="1989000"/>
            <a:ext cx="6554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"/>
          <p:cNvSpPr/>
          <p:nvPr/>
        </p:nvSpPr>
        <p:spPr>
          <a:xfrm>
            <a:off x="0" y="49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Picture 1" descr=""/>
          <p:cNvPicPr/>
          <p:nvPr/>
        </p:nvPicPr>
        <p:blipFill>
          <a:blip r:embed="rId1"/>
          <a:stretch/>
        </p:blipFill>
        <p:spPr>
          <a:xfrm>
            <a:off x="826920" y="1989000"/>
            <a:ext cx="7083720" cy="199728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0" y="49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Picture 1" descr=""/>
          <p:cNvPicPr/>
          <p:nvPr/>
        </p:nvPicPr>
        <p:blipFill>
          <a:blip r:embed="rId1"/>
          <a:stretch/>
        </p:blipFill>
        <p:spPr>
          <a:xfrm>
            <a:off x="684360" y="1844640"/>
            <a:ext cx="7454880" cy="219888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Picture 1" descr=""/>
          <p:cNvPicPr/>
          <p:nvPr/>
        </p:nvPicPr>
        <p:blipFill>
          <a:blip r:embed="rId1"/>
          <a:stretch/>
        </p:blipFill>
        <p:spPr>
          <a:xfrm>
            <a:off x="593640" y="1916280"/>
            <a:ext cx="7175520" cy="1982520"/>
          </a:xfrm>
          <a:prstGeom prst="rect">
            <a:avLst/>
          </a:prstGeom>
          <a:ln w="0">
            <a:noFill/>
          </a:ln>
        </p:spPr>
      </p:pic>
      <p:sp>
        <p:nvSpPr>
          <p:cNvPr id="714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Répons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4" descr=""/>
          <p:cNvPicPr/>
          <p:nvPr/>
        </p:nvPicPr>
        <p:blipFill>
          <a:blip r:embed="rId1"/>
          <a:stretch/>
        </p:blipFill>
        <p:spPr>
          <a:xfrm>
            <a:off x="2700360" y="1773360"/>
            <a:ext cx="3381480" cy="2219040"/>
          </a:xfrm>
          <a:prstGeom prst="rect">
            <a:avLst/>
          </a:prstGeom>
          <a:ln w="0">
            <a:noFill/>
          </a:ln>
        </p:spPr>
      </p:pic>
      <p:sp>
        <p:nvSpPr>
          <p:cNvPr id="73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ogner un rectangle avec un coin diagonal 7"/>
          <p:cNvSpPr/>
          <p:nvPr/>
        </p:nvSpPr>
        <p:spPr>
          <a:xfrm rot="20745000">
            <a:off x="4370040" y="479880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1"/>
          <a:stretch/>
        </p:blipFill>
        <p:spPr>
          <a:xfrm>
            <a:off x="1547640" y="1700280"/>
            <a:ext cx="5410440" cy="221940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ogner un rectangle avec un coin diagonal 10"/>
          <p:cNvSpPr/>
          <p:nvPr/>
        </p:nvSpPr>
        <p:spPr>
          <a:xfrm rot="702000">
            <a:off x="1299960" y="4818240"/>
            <a:ext cx="3143160" cy="107136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2" name="Picture 4" descr=""/>
          <p:cNvPicPr/>
          <p:nvPr/>
        </p:nvPicPr>
        <p:blipFill>
          <a:blip r:embed="rId1"/>
          <a:stretch/>
        </p:blipFill>
        <p:spPr>
          <a:xfrm>
            <a:off x="1785960" y="2214720"/>
            <a:ext cx="4809960" cy="1257120"/>
          </a:xfrm>
          <a:prstGeom prst="rect">
            <a:avLst/>
          </a:prstGeom>
          <a:ln w="0">
            <a:noFill/>
          </a:ln>
        </p:spPr>
      </p:pic>
      <p:sp>
        <p:nvSpPr>
          <p:cNvPr id="753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ogner un rectangle avec un coin diagonal 14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7" name="Picture 1" descr=""/>
          <p:cNvPicPr/>
          <p:nvPr/>
        </p:nvPicPr>
        <p:blipFill>
          <a:blip r:embed="rId1"/>
          <a:stretch/>
        </p:blipFill>
        <p:spPr>
          <a:xfrm>
            <a:off x="1042920" y="2349360"/>
            <a:ext cx="6229440" cy="1257480"/>
          </a:xfrm>
          <a:prstGeom prst="rect">
            <a:avLst/>
          </a:prstGeom>
          <a:ln w="0">
            <a:noFill/>
          </a:ln>
        </p:spPr>
      </p:pic>
      <p:sp>
        <p:nvSpPr>
          <p:cNvPr id="768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ogner un rectangle avec un coin diagonal 17"/>
          <p:cNvSpPr/>
          <p:nvPr/>
        </p:nvSpPr>
        <p:spPr>
          <a:xfrm rot="20745000">
            <a:off x="443988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Picture 1" descr=""/>
          <p:cNvPicPr/>
          <p:nvPr/>
        </p:nvPicPr>
        <p:blipFill>
          <a:blip r:embed="rId1"/>
          <a:stretch/>
        </p:blipFill>
        <p:spPr>
          <a:xfrm>
            <a:off x="1403280" y="1844640"/>
            <a:ext cx="5915160" cy="2238480"/>
          </a:xfrm>
          <a:prstGeom prst="rect">
            <a:avLst/>
          </a:prstGeom>
          <a:ln w="0">
            <a:noFill/>
          </a:ln>
        </p:spPr>
      </p:pic>
      <p:sp>
        <p:nvSpPr>
          <p:cNvPr id="785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Rogner un rectangle avec un coin diagonal 22"/>
          <p:cNvSpPr/>
          <p:nvPr/>
        </p:nvSpPr>
        <p:spPr>
          <a:xfrm rot="702000">
            <a:off x="1334880" y="481644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0" y="39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Picture 4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6419880" cy="2219040"/>
          </a:xfrm>
          <a:prstGeom prst="rect">
            <a:avLst/>
          </a:prstGeom>
          <a:ln w="0">
            <a:noFill/>
          </a:ln>
        </p:spPr>
      </p:pic>
      <p:sp>
        <p:nvSpPr>
          <p:cNvPr id="54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1908000" y="1844640"/>
            <a:ext cx="4800600" cy="223848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ogner un rectangle avec un coin diagonal 21"/>
          <p:cNvSpPr/>
          <p:nvPr/>
        </p:nvSpPr>
        <p:spPr>
          <a:xfrm rot="20745000">
            <a:off x="4440240" y="4879440"/>
            <a:ext cx="3143160" cy="107172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3"/>
          <p:cNvSpPr/>
          <p:nvPr/>
        </p:nvSpPr>
        <p:spPr>
          <a:xfrm>
            <a:off x="0" y="49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7" name="Picture 6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554880" cy="2286000"/>
          </a:xfrm>
          <a:prstGeom prst="rect">
            <a:avLst/>
          </a:prstGeom>
          <a:ln w="0">
            <a:noFill/>
          </a:ln>
        </p:spPr>
      </p:pic>
      <p:sp>
        <p:nvSpPr>
          <p:cNvPr id="828" name="Rogner un rectangle avec un coin diagonal 24"/>
          <p:cNvSpPr/>
          <p:nvPr/>
        </p:nvSpPr>
        <p:spPr>
          <a:xfrm rot="20745000">
            <a:off x="4222800" y="4879440"/>
            <a:ext cx="3143160" cy="107172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3"/>
          <p:cNvSpPr/>
          <p:nvPr/>
        </p:nvSpPr>
        <p:spPr>
          <a:xfrm>
            <a:off x="0" y="49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Picture 1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7594920" cy="2141640"/>
          </a:xfrm>
          <a:prstGeom prst="rect">
            <a:avLst/>
          </a:prstGeom>
          <a:ln w="0">
            <a:noFill/>
          </a:ln>
        </p:spPr>
      </p:pic>
      <p:sp>
        <p:nvSpPr>
          <p:cNvPr id="852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Rogner un rectangle avec un coin diagonal 26"/>
          <p:cNvSpPr/>
          <p:nvPr/>
        </p:nvSpPr>
        <p:spPr>
          <a:xfrm rot="702000">
            <a:off x="1191960" y="467352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3"/>
          <p:cNvSpPr/>
          <p:nvPr/>
        </p:nvSpPr>
        <p:spPr>
          <a:xfrm>
            <a:off x="0" y="4930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6" name="Picture 1" descr=""/>
          <p:cNvPicPr/>
          <p:nvPr/>
        </p:nvPicPr>
        <p:blipFill>
          <a:blip r:embed="rId1"/>
          <a:stretch/>
        </p:blipFill>
        <p:spPr>
          <a:xfrm>
            <a:off x="684360" y="1773360"/>
            <a:ext cx="7454880" cy="219708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ogner un rectangle avec un coin diagonal 26"/>
          <p:cNvSpPr/>
          <p:nvPr/>
        </p:nvSpPr>
        <p:spPr>
          <a:xfrm rot="20745000">
            <a:off x="436680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1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6653160" cy="1838520"/>
          </a:xfrm>
          <a:prstGeom prst="rect">
            <a:avLst/>
          </a:prstGeom>
          <a:ln w="0">
            <a:noFill/>
          </a:ln>
        </p:spPr>
      </p:pic>
      <p:sp>
        <p:nvSpPr>
          <p:cNvPr id="892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Rogner un rectangle avec un coin diagonal 17"/>
          <p:cNvSpPr/>
          <p:nvPr/>
        </p:nvSpPr>
        <p:spPr>
          <a:xfrm rot="20745000">
            <a:off x="429552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2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0" y="2646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0" y="39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4" descr=""/>
          <p:cNvPicPr/>
          <p:nvPr/>
        </p:nvPicPr>
        <p:blipFill>
          <a:blip r:embed="rId1"/>
          <a:stretch/>
        </p:blipFill>
        <p:spPr>
          <a:xfrm>
            <a:off x="1143000" y="2071800"/>
            <a:ext cx="6419880" cy="2219040"/>
          </a:xfrm>
          <a:prstGeom prst="rect">
            <a:avLst/>
          </a:prstGeom>
          <a:ln w="0">
            <a:noFill/>
          </a:ln>
        </p:spPr>
      </p:pic>
      <p:sp>
        <p:nvSpPr>
          <p:cNvPr id="55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tretch/>
        </p:blipFill>
        <p:spPr>
          <a:xfrm>
            <a:off x="2843280" y="1844640"/>
            <a:ext cx="3381480" cy="221940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1" descr=""/>
          <p:cNvPicPr/>
          <p:nvPr/>
        </p:nvPicPr>
        <p:blipFill>
          <a:blip r:embed="rId1"/>
          <a:stretch/>
        </p:blipFill>
        <p:spPr>
          <a:xfrm>
            <a:off x="1500120" y="1785960"/>
            <a:ext cx="5410440" cy="221940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Picture 4" descr=""/>
          <p:cNvPicPr/>
          <p:nvPr/>
        </p:nvPicPr>
        <p:blipFill>
          <a:blip r:embed="rId1"/>
          <a:stretch/>
        </p:blipFill>
        <p:spPr>
          <a:xfrm>
            <a:off x="1835280" y="2276640"/>
            <a:ext cx="5122800" cy="1339560"/>
          </a:xfrm>
          <a:prstGeom prst="rect">
            <a:avLst/>
          </a:prstGeom>
          <a:ln w="0">
            <a:noFill/>
          </a:ln>
        </p:spPr>
      </p:pic>
      <p:sp>
        <p:nvSpPr>
          <p:cNvPr id="582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1" descr=""/>
          <p:cNvPicPr/>
          <p:nvPr/>
        </p:nvPicPr>
        <p:blipFill>
          <a:blip r:embed="rId1"/>
          <a:stretch/>
        </p:blipFill>
        <p:spPr>
          <a:xfrm>
            <a:off x="1116000" y="2421000"/>
            <a:ext cx="6229440" cy="1257120"/>
          </a:xfrm>
          <a:prstGeom prst="rect">
            <a:avLst/>
          </a:prstGeom>
          <a:ln w="0">
            <a:noFill/>
          </a:ln>
        </p:spPr>
      </p:pic>
      <p:sp>
        <p:nvSpPr>
          <p:cNvPr id="596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Picture 1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5915160" cy="2238120"/>
          </a:xfrm>
          <a:prstGeom prst="rect">
            <a:avLst/>
          </a:prstGeom>
          <a:ln w="0">
            <a:noFill/>
          </a:ln>
        </p:spPr>
      </p:pic>
      <p:sp>
        <p:nvSpPr>
          <p:cNvPr id="612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9" name="Picture 1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800600" cy="2238480"/>
          </a:xfrm>
          <a:prstGeom prst="rect">
            <a:avLst/>
          </a:prstGeom>
          <a:ln w="0">
            <a:noFill/>
          </a:ln>
        </p:spPr>
      </p:pic>
      <p:sp>
        <p:nvSpPr>
          <p:cNvPr id="630" name="Rectangle 3"/>
          <p:cNvSpPr/>
          <p:nvPr/>
        </p:nvSpPr>
        <p:spPr>
          <a:xfrm>
            <a:off x="0" y="269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2T13:05:25Z</dcterms:created>
  <dc:creator>User</dc:creator>
  <dc:description/>
  <dc:language>en-US</dc:language>
  <cp:lastModifiedBy>auderi</cp:lastModifiedBy>
  <dcterms:modified xsi:type="dcterms:W3CDTF">2016-07-01T14:46:49Z</dcterms:modified>
  <cp:revision>23</cp:revision>
  <dc:subject/>
  <dc:title>Calcul algébrique</dc:title>
</cp:coreProperties>
</file>