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1480E-3421-4881-A786-9823FAB3553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65E87-1492-4401-9B2B-6237B458A83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B3947-2642-4C06-BEDE-E94A561CD59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2799E-C278-4F3D-B30A-C0AB5015172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E7C1-BED2-4CED-901A-C4616A51894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4CFC-3FF5-4CB8-96D9-112EA515FD5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4AB64-870B-472C-82AD-2C59CFB88BD1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3375-E9D6-4DC4-98A1-40C98715FB7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0A40D-A680-4F78-B01C-DC5EBD8669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FE3B-3B49-4B3F-A7C8-E8950DC0C95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D3D0-C745-4383-9B41-C36B2A9B590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0E7A8-9A2E-4DD4-831A-FEC965E30E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5DDC-398A-4BFA-9E75-63C9ADBD57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8C896-2B81-4019-B0AB-B6E36701AF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A3E2-E239-47AB-A91F-2DA3A0BB127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AF2F-C655-488C-8ADC-D6AABC87000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7ABE-0300-4322-A33C-347E3E66033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E5907-E5CA-419E-991C-FEB84B9540E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7DAE-EE4B-4090-AADA-81F0F7C5FBC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CC1C8-A92F-4CF3-BC93-7C475EE895F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10B41-7245-48E1-B80E-66B1700A75D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005A-0CAC-46C0-BB44-554FBEEB06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770C-9A6B-463C-91AB-C232004BB2D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5BDB3-16DE-46FD-B734-48770FFCDC6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38B76-00A2-48B0-9441-01EC92AC16C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74BE-DFF6-4A19-89E5-9539418CF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09E0-2EF0-4D12-955F-0E71CB3F8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8E87-A51A-474C-A3EF-B07356BD9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687E-871E-42B8-99A8-3A0DBC4B1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A98C-D574-4220-9E08-6D7ACBEA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40C8-6D37-4A29-86EF-7E3BF3C32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BB3-5A5F-4D79-8DAD-48FF8281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4290-EF64-4D85-83BA-CDF9AA0F6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385F-7FF3-45F6-81CD-E1A343611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3095-1DD6-4753-8F1F-75BA76451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23A6-E15E-44D7-BA6F-ADACD0EB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08C0E-1BB8-41A0-8A74-8F6C1728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2c2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E17F6-B981-4538-8D13-FAEFFAC23274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4102-17B5-4711-9BCA-B18972064E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itre 1"/>
          <p:cNvSpPr/>
          <p:nvPr/>
        </p:nvSpPr>
        <p:spPr>
          <a:xfrm>
            <a:off x="0" y="4032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à coins arrondis 3"/>
          <p:cNvSpPr/>
          <p:nvPr/>
        </p:nvSpPr>
        <p:spPr>
          <a:xfrm>
            <a:off x="612720" y="1628640"/>
            <a:ext cx="7918560" cy="2160720"/>
          </a:xfrm>
          <a:prstGeom prst="roundRect">
            <a:avLst>
              <a:gd name="adj" fmla="val 16667"/>
            </a:avLst>
          </a:prstGeom>
          <a:solidFill>
            <a:srgbClr val="696969">
              <a:alpha val="60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POURCENTAGES</a:t>
            </a:r>
            <a:br>
              <a:rPr sz="6600"/>
            </a:br>
            <a:r>
              <a:rPr b="1" lang="fr-FR" sz="6600" spc="-1" strike="noStrike">
                <a:solidFill>
                  <a:srgbClr val="0042c8"/>
                </a:solidFill>
                <a:latin typeface="Georgia"/>
              </a:rPr>
              <a:t>SÉRIE 5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durée passe de 400 s à 350 s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diminué de 12,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longueur a été divisée par 4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diminué de 2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longueur a été multipliée par 4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augmenté de 300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alculer 25 % d’un nombre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1,2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ensées 3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5/100 = 0,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à coins arrondis 11"/>
          <p:cNvSpPr/>
          <p:nvPr/>
        </p:nvSpPr>
        <p:spPr>
          <a:xfrm>
            <a:off x="7380360" y="242100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rganigramme : Processus 12"/>
          <p:cNvSpPr/>
          <p:nvPr/>
        </p:nvSpPr>
        <p:spPr>
          <a:xfrm flipV="1" rot="20096400">
            <a:off x="6176880" y="2761200"/>
            <a:ext cx="1281240" cy="4608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déterminer un nombre augmenté de 10 %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1,01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sées 6"/>
          <p:cNvSpPr/>
          <p:nvPr/>
        </p:nvSpPr>
        <p:spPr>
          <a:xfrm>
            <a:off x="1116000" y="4005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+ 10/100 = 1,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8"/>
          <p:cNvSpPr/>
          <p:nvPr/>
        </p:nvSpPr>
        <p:spPr>
          <a:xfrm>
            <a:off x="7667640" y="2781360"/>
            <a:ext cx="13683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,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rganigramme : Processus 9"/>
          <p:cNvSpPr/>
          <p:nvPr/>
        </p:nvSpPr>
        <p:spPr>
          <a:xfrm flipV="1" rot="20096400">
            <a:off x="6176880" y="3184920"/>
            <a:ext cx="1281240" cy="4608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alculer 40 % d’un nombre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0,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ensées 6"/>
          <p:cNvSpPr/>
          <p:nvPr/>
        </p:nvSpPr>
        <p:spPr>
          <a:xfrm>
            <a:off x="1116000" y="357336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0/100 = 0,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déterminer un nombr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é de 60 %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0,6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ensées 6"/>
          <p:cNvSpPr/>
          <p:nvPr/>
        </p:nvSpPr>
        <p:spPr>
          <a:xfrm>
            <a:off x="1116000" y="3932280"/>
            <a:ext cx="691200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 – 60/100 = 0,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à coins arrondis 8"/>
          <p:cNvSpPr/>
          <p:nvPr/>
        </p:nvSpPr>
        <p:spPr>
          <a:xfrm>
            <a:off x="7524720" y="2708280"/>
            <a:ext cx="1368360" cy="6494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0,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rganigramme : Processus 9"/>
          <p:cNvSpPr/>
          <p:nvPr/>
        </p:nvSpPr>
        <p:spPr>
          <a:xfrm flipV="1" rot="20096400">
            <a:off x="6176880" y="3048480"/>
            <a:ext cx="1281240" cy="4608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ix passe de 20 € à 22 €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 augmenté de 2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ensées 4"/>
          <p:cNvSpPr/>
          <p:nvPr/>
        </p:nvSpPr>
        <p:spPr>
          <a:xfrm>
            <a:off x="324000" y="3573360"/>
            <a:ext cx="856908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2 € pour 20 €, soit 10 € pour 100 €, c’est-à-dire 10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à coins arrondis 8"/>
          <p:cNvSpPr/>
          <p:nvPr/>
        </p:nvSpPr>
        <p:spPr>
          <a:xfrm>
            <a:off x="7380360" y="2421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0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Organigramme : Processus 9"/>
          <p:cNvSpPr/>
          <p:nvPr/>
        </p:nvSpPr>
        <p:spPr>
          <a:xfrm flipV="1" rot="20096400">
            <a:off x="5889240" y="2761200"/>
            <a:ext cx="1279080" cy="4608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ix passe de 25 € à 75 €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 augmenté de 200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ensées 6"/>
          <p:cNvSpPr/>
          <p:nvPr/>
        </p:nvSpPr>
        <p:spPr>
          <a:xfrm>
            <a:off x="179280" y="3573360"/>
            <a:ext cx="878544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50 € pour 25 €, soit 200 € pour 100 €, c’est-à-dire 200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42c8"/>
                </a:solidFill>
                <a:latin typeface="Georgia"/>
              </a:rPr>
              <a:t>Répondre par </a:t>
            </a:r>
            <a:br>
              <a:rPr sz="8000"/>
            </a:br>
            <a:r>
              <a:rPr b="0" lang="fr-FR" sz="8000" spc="-1" strike="noStrike">
                <a:solidFill>
                  <a:srgbClr val="0042c8"/>
                </a:solidFill>
                <a:latin typeface="Georgia"/>
              </a:rPr>
              <a:t>VRAI ou FAUX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durée passe de 4 h à 5 h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augmenté de 2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ensées 6"/>
          <p:cNvSpPr/>
          <p:nvPr/>
        </p:nvSpPr>
        <p:spPr>
          <a:xfrm>
            <a:off x="324000" y="3573360"/>
            <a:ext cx="856908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’augmentation est de 1 h pour 4 h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it 25 h pour 100 h, c’est-à-dire 25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durée passe de 400 s à 350 s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diminué de 12,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ensées 6"/>
          <p:cNvSpPr/>
          <p:nvPr/>
        </p:nvSpPr>
        <p:spPr>
          <a:xfrm>
            <a:off x="144360" y="3573360"/>
            <a:ext cx="882036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diminution est de 50 s pour 400 s, soit 12,5 s pour 100 s, c’est-à-dire 12,5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longueur a été divisée par 4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diminué de 2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ensées 6"/>
          <p:cNvSpPr/>
          <p:nvPr/>
        </p:nvSpPr>
        <p:spPr>
          <a:xfrm>
            <a:off x="36360" y="3573360"/>
            <a:ext cx="907272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longueur est passée de 100 m à 25 m, soit une diminution de 75 m pour 100 m, c’est-à-dire 75 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UX</a:t>
            </a:r>
            <a:r>
              <a:rPr b="0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à coins arrondis 13"/>
          <p:cNvSpPr/>
          <p:nvPr/>
        </p:nvSpPr>
        <p:spPr>
          <a:xfrm>
            <a:off x="7380360" y="2421000"/>
            <a:ext cx="1584360" cy="647640"/>
          </a:xfrm>
          <a:prstGeom prst="roundRect">
            <a:avLst>
              <a:gd name="adj" fmla="val 16667"/>
            </a:avLst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5 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rganigramme : Processus 14"/>
          <p:cNvSpPr/>
          <p:nvPr/>
        </p:nvSpPr>
        <p:spPr>
          <a:xfrm flipV="1" rot="20096400">
            <a:off x="5889240" y="2761200"/>
            <a:ext cx="1279080" cy="46080"/>
          </a:xfrm>
          <a:prstGeom prst="flowChartProcess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3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tre 1"/>
          <p:cNvSpPr/>
          <p:nvPr/>
        </p:nvSpPr>
        <p:spPr>
          <a:xfrm>
            <a:off x="0" y="0"/>
            <a:ext cx="9144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longueur a été multipliée par 4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augmenté de 300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11"/>
          <p:cNvSpPr/>
          <p:nvPr/>
        </p:nvSpPr>
        <p:spPr>
          <a:xfrm rot="20728200">
            <a:off x="6150240" y="5597640"/>
            <a:ext cx="3024000" cy="91476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ensées 7"/>
          <p:cNvSpPr/>
          <p:nvPr/>
        </p:nvSpPr>
        <p:spPr>
          <a:xfrm>
            <a:off x="36360" y="3573360"/>
            <a:ext cx="9072720" cy="1584360"/>
          </a:xfrm>
          <a:prstGeom prst="cloudCallout">
            <a:avLst>
              <a:gd name="adj1" fmla="val 9472"/>
              <a:gd name="adj2" fmla="val -72180"/>
            </a:avLst>
          </a:prstGeom>
          <a:solidFill>
            <a:srgbClr val="eea84a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 longueur est passée de 100 m à 400 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it une augmentation de 300 m pour 100 m, c’est-à-dire 300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00"/>
                            </p:stCondLst>
                            <p:childTnLst>
                              <p:par>
                                <p:cTn id="148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144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5bd3"/>
                </a:solidFill>
                <a:latin typeface="Georgia"/>
                <a:ea typeface="Arial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alculer 25 % d’un nombre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1,25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déterminer un nombre augmenté de 10 %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1,01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calculer 40 % d’un nombre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0,4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ur déterminer un nombre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minué de 60 %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le multiplie par 0,60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ix passe de 20 € à 22 €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 augmenté de 2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ix passe de 25 € à 75 €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 augmenté de 200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itre 1"/>
          <p:cNvSpPr/>
          <p:nvPr/>
        </p:nvSpPr>
        <p:spPr>
          <a:xfrm>
            <a:off x="0" y="162864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e durée passe de 4 h à 5 h,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a augmenté de 25 %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5:38:50Z</dcterms:created>
  <dc:creator>Marielle Séguy</dc:creator>
  <dc:description/>
  <dc:language>en-US</dc:language>
  <cp:lastModifiedBy>SEM</cp:lastModifiedBy>
  <dcterms:modified xsi:type="dcterms:W3CDTF">2014-06-29T15:00:23Z</dcterms:modified>
  <cp:revision>218</cp:revision>
  <dc:subject/>
  <dc:title>Diapositive 0</dc:title>
</cp:coreProperties>
</file>