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1B2BA-3C34-45FA-909D-CE2BD4F5497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92040-765D-480A-A330-B779B686CE1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7D895-A505-4B3D-A59A-25AB0990F41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767D-6086-4BDB-B914-88706B27C8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AFAE-CCD2-4284-B788-E44942ED158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2D681-3CBA-44D4-B7C6-93E019B42F9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5E18-2B2E-466D-8546-E538D1AD35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D2B6B-1A8C-4CCE-A553-3EDAC7EE23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0E20-3DE3-478E-9F28-3056D29EE50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75778-B378-4B5F-9EA9-A7D485764DB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D1EC2-9041-4CAE-A699-4016AD6FE68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A5E7-9EDA-48FC-AA1E-A787586611E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B39C-BE0B-4FAB-8292-5D0F1F738A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E687-8752-48FF-B102-41D5AB0F529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55BA5-9A14-4ED5-9722-B7ECE3332DE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CE72-E2FD-49B1-BB3B-04FCFA1D7C3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AB9CF-A88D-464A-8B49-75AA57BEF46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C3208-C238-43E9-8993-BD633FCF36E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39FF2-D116-47F0-B10F-F09E83E44D4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9E349-4DE9-45CB-9CE5-91C900ACC03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6EFD-9304-4E3C-BC9F-D69F87CFF8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60CB-BE08-4EEE-A2F6-8A658842632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7339-2180-4130-B07E-FFDD3ACA31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A4B9-F8BE-4E69-A801-3D60E23BFB6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5B26-F2AD-4A4D-A381-79CD635E4CA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F020-ACF4-402D-92A1-3F9413F6ECE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57CF-4CD6-4793-A4FF-6923B2919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47BA-A216-42CE-A6D5-9085B668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C00E-740D-4116-BE0C-C4143AC6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E951-B137-4B32-93B2-E7213C34F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1EA-0B5D-4876-AEE6-CBA7B418D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2A1C-E220-40D1-8C56-77A02C6BD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E189-C606-40BE-B788-9443CE8C2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8583-6C93-4B9D-99AB-ACC7138D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CB15-731A-49DE-8E22-174A5EA0C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B3F7-1EEA-4639-B44C-733678D2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D96D-04E8-467D-9C00-A34E8905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F584-048B-416B-8293-F028713C0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938E-4CCF-49AD-9E8A-A9986AB6C5C5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1A973-2895-4902-AA2B-845F1D6C9D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4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3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1,3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1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90 = 0,8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75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5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30 = 1,7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44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7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80 = 0,5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5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65 = 0,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000" spc="-1" strike="noStrike">
                <a:solidFill>
                  <a:srgbClr val="0042c8"/>
                </a:solidFill>
                <a:latin typeface="Georgia"/>
              </a:rPr>
              <a:t>Compléter les phrases par « hausse » ou « baisse » suivi d’un pourcentage. </a:t>
            </a:r>
            <a:br>
              <a:rPr sz="5000"/>
            </a:br>
            <a:br>
              <a:rPr sz="5000"/>
            </a:br>
            <a:r>
              <a:rPr b="0" i="1" lang="fr-FR" sz="5000" spc="-1" strike="noStrike">
                <a:solidFill>
                  <a:srgbClr val="0042c8"/>
                </a:solidFill>
                <a:latin typeface="Georgia"/>
              </a:rPr>
              <a:t>L’usage de la calculatrice est autorisé.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65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50 = 0,9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4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0,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arder le même résultat 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5 =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baisse de 2,8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sées 3"/>
          <p:cNvSpPr/>
          <p:nvPr/>
        </p:nvSpPr>
        <p:spPr>
          <a:xfrm>
            <a:off x="611280" y="4221000"/>
            <a:ext cx="7993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9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= 0,97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15,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ensées 3"/>
          <p:cNvSpPr/>
          <p:nvPr/>
        </p:nvSpPr>
        <p:spPr>
          <a:xfrm>
            <a:off x="611280" y="4221000"/>
            <a:ext cx="7993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2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0,80 = 1,15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e hausse de 21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93228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 </a:t>
            </a:r>
            <a:r>
              <a:rPr b="1" lang="fr-FR" sz="32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1" lang="fr-FR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,10 = 1,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u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1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2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isse de 35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vie d’une </a:t>
            </a:r>
            <a:r>
              <a:rPr b="1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usse de 50 %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 équivalente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6:52Z</dcterms:modified>
  <cp:revision>215</cp:revision>
  <dc:subject/>
  <dc:title>Diapositive 0</dc:title>
</cp:coreProperties>
</file>