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6B025-8B43-4730-9D46-9538E1E9FC1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CBE66-CFDB-4F28-9A23-0981FF726C9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527C6-089B-4050-8DD7-E9E4C4910FB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1CE1E-2CBD-4A44-82D5-3512FA043B4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61BC7-85FB-458F-8868-0CB78D9F2A6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FE641-0A7F-4BAF-AA00-05F9C9647C6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745CD-6EA0-4302-8E75-8519BCB37E1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44656-65D6-4289-A295-7A85C67E733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A6B8D-2062-4FD5-9E5F-9919D55770B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2236B-24E8-43E0-A398-98FD1D1631B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E8776-A506-495E-B01F-068EA0AADFB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34A92-1122-40A1-92D8-A81248CBD72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7BBE1-3DEA-4E24-A1A6-2487936FB98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47E1F-7D09-4F99-A1A8-14D0400292A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C0941-B417-43CD-8F28-3E5A7D37474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C60CF-7D8B-443A-A510-4C17D41BD20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6D301-084B-4D27-BEE7-817B8B535E2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80EDE-3AF2-4685-982B-CF95A3C7C25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12828-53A6-4AAF-A7F1-E3494F4F8AE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30296-F750-4189-86EF-1F5E0825C80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E1C3-D941-4486-8C0F-F94D0552A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A5104-41F1-4022-9BBF-64A89C6D2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73F5-3ECA-4610-830C-74CCC86F0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2F4B-2ACC-4ED9-80A5-1BDAB78D2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8E5C-8093-45AC-BB54-DE65DC2AA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209A-A108-4B2A-AB39-308B89A4F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0543-A473-481E-9DED-D0C924F55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8233-0C54-4C30-98F2-BD715C4FF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33C0-D99C-4AEA-BDDA-59679234E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8DDE-48EA-4CAE-80B5-8D8D5227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FC12-A23A-441A-9729-4123FA12B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E5F55-CED2-4F1A-A51B-940EFDBA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2c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568F4-EE1B-4353-8423-2EE5FA42FD4A}" type="datetime">
              <a:rPr b="0" lang="fr-FR" sz="1200" spc="-1" strike="noStrike">
                <a:solidFill>
                  <a:srgbClr val="898989"/>
                </a:solidFill>
                <a:latin typeface="Cambria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C0BA6-54C1-4B16-B1F9-0EF867EF93AA}" type="slidenum">
              <a:rPr b="0" lang="fr-FR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0" y="403236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ectangle à coins arrondis 3"/>
          <p:cNvGrpSpPr/>
          <p:nvPr/>
        </p:nvGrpSpPr>
        <p:grpSpPr>
          <a:xfrm>
            <a:off x="-12600" y="1414440"/>
            <a:ext cx="9023400" cy="2895480"/>
            <a:chOff x="-12600" y="1414440"/>
            <a:chExt cx="9023400" cy="2895480"/>
          </a:xfrm>
        </p:grpSpPr>
        <p:pic>
          <p:nvPicPr>
            <p:cNvPr id="50" name="Rectangle à coins arrondis 3" descr=""/>
            <p:cNvPicPr/>
            <p:nvPr/>
          </p:nvPicPr>
          <p:blipFill>
            <a:blip r:embed="rId1"/>
            <a:stretch/>
          </p:blipFill>
          <p:spPr>
            <a:xfrm>
              <a:off x="-12600" y="1414440"/>
              <a:ext cx="9023400" cy="28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428760" y="1733400"/>
              <a:ext cx="8248680" cy="19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6600" spc="-1" strike="noStrike">
                  <a:solidFill>
                    <a:srgbClr val="0042c8"/>
                  </a:solidFill>
                  <a:latin typeface="Georgia"/>
                </a:rPr>
                <a:t>CALCUL NUMÉRIQUE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6600" spc="-1" strike="noStrike">
                  <a:solidFill>
                    <a:srgbClr val="0042c8"/>
                  </a:solidFill>
                  <a:latin typeface="Georgia"/>
                </a:rPr>
                <a:t>SÉRIE 1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2411280" y="1898640"/>
            <a:ext cx="3619800" cy="311472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0" y="354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0" y="2095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"/>
          <p:cNvSpPr/>
          <p:nvPr/>
        </p:nvSpPr>
        <p:spPr>
          <a:xfrm>
            <a:off x="0" y="357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9"/>
          <p:cNvSpPr/>
          <p:nvPr/>
        </p:nvSpPr>
        <p:spPr>
          <a:xfrm>
            <a:off x="0" y="37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0" y="35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7"/>
          <p:cNvSpPr/>
          <p:nvPr/>
        </p:nvSpPr>
        <p:spPr>
          <a:xfrm>
            <a:off x="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5" descr=""/>
          <p:cNvPicPr/>
          <p:nvPr/>
        </p:nvPicPr>
        <p:blipFill>
          <a:blip r:embed="rId1"/>
          <a:stretch/>
        </p:blipFill>
        <p:spPr>
          <a:xfrm>
            <a:off x="1204920" y="2708280"/>
            <a:ext cx="6462720" cy="1512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5"/>
          <p:cNvSpPr/>
          <p:nvPr/>
        </p:nvSpPr>
        <p:spPr>
          <a:xfrm>
            <a:off x="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0" y="38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6" descr=""/>
          <p:cNvPicPr/>
          <p:nvPr/>
        </p:nvPicPr>
        <p:blipFill>
          <a:blip r:embed="rId1"/>
          <a:stretch/>
        </p:blipFill>
        <p:spPr>
          <a:xfrm>
            <a:off x="1908000" y="1773360"/>
            <a:ext cx="5286600" cy="3371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2646360" y="1773360"/>
            <a:ext cx="3581280" cy="3114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755640" y="2225520"/>
            <a:ext cx="5248440" cy="1924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" descr=""/>
          <p:cNvPicPr/>
          <p:nvPr/>
        </p:nvPicPr>
        <p:blipFill>
          <a:blip r:embed="rId2"/>
          <a:stretch/>
        </p:blipFill>
        <p:spPr>
          <a:xfrm>
            <a:off x="6388200" y="2421000"/>
            <a:ext cx="2000160" cy="1714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1" descr=""/>
          <p:cNvPicPr/>
          <p:nvPr/>
        </p:nvPicPr>
        <p:blipFill>
          <a:blip r:embed="rId1"/>
          <a:stretch/>
        </p:blipFill>
        <p:spPr>
          <a:xfrm>
            <a:off x="1816200" y="1916280"/>
            <a:ext cx="3619440" cy="30859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3"/>
          <p:cNvSpPr/>
          <p:nvPr/>
        </p:nvSpPr>
        <p:spPr>
          <a:xfrm>
            <a:off x="0" y="354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0" y="357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" descr=""/>
          <p:cNvPicPr/>
          <p:nvPr/>
        </p:nvPicPr>
        <p:blipFill>
          <a:blip r:embed="rId2"/>
          <a:stretch/>
        </p:blipFill>
        <p:spPr>
          <a:xfrm>
            <a:off x="5811840" y="1916280"/>
            <a:ext cx="2000160" cy="3076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0" y="2095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1" descr=""/>
          <p:cNvPicPr/>
          <p:nvPr/>
        </p:nvPicPr>
        <p:blipFill>
          <a:blip r:embed="rId1"/>
          <a:stretch/>
        </p:blipFill>
        <p:spPr>
          <a:xfrm>
            <a:off x="179280" y="2565360"/>
            <a:ext cx="5181840" cy="163836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" descr=""/>
          <p:cNvPicPr/>
          <p:nvPr/>
        </p:nvPicPr>
        <p:blipFill>
          <a:blip r:embed="rId2"/>
          <a:stretch/>
        </p:blipFill>
        <p:spPr>
          <a:xfrm>
            <a:off x="5670720" y="2611440"/>
            <a:ext cx="3438360" cy="1609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6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696160" cy="144144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" descr=""/>
          <p:cNvPicPr/>
          <p:nvPr/>
        </p:nvPicPr>
        <p:blipFill>
          <a:blip r:embed="rId2"/>
          <a:stretch/>
        </p:blipFill>
        <p:spPr>
          <a:xfrm>
            <a:off x="3203640" y="3357720"/>
            <a:ext cx="2266920" cy="14396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"/>
          <p:cNvPicPr/>
          <p:nvPr/>
        </p:nvPicPr>
        <p:blipFill>
          <a:blip r:embed="rId1"/>
          <a:stretch/>
        </p:blipFill>
        <p:spPr>
          <a:xfrm>
            <a:off x="324000" y="2225520"/>
            <a:ext cx="4586040" cy="197964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1" descr=""/>
          <p:cNvPicPr/>
          <p:nvPr/>
        </p:nvPicPr>
        <p:blipFill>
          <a:blip r:embed="rId2"/>
          <a:stretch/>
        </p:blipFill>
        <p:spPr>
          <a:xfrm>
            <a:off x="5316480" y="2241720"/>
            <a:ext cx="3576600" cy="19792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8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42c8"/>
                </a:solidFill>
                <a:latin typeface="Georgia"/>
                <a:ea typeface="Arial"/>
              </a:rPr>
              <a:t>Calculer et donner le résultat sous la forme la plus simple possible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179280" y="2421000"/>
            <a:ext cx="5205600" cy="18000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3"/>
          <p:cNvSpPr/>
          <p:nvPr/>
        </p:nvSpPr>
        <p:spPr>
          <a:xfrm>
            <a:off x="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" descr=""/>
          <p:cNvPicPr/>
          <p:nvPr/>
        </p:nvPicPr>
        <p:blipFill>
          <a:blip r:embed="rId2"/>
          <a:stretch/>
        </p:blipFill>
        <p:spPr>
          <a:xfrm>
            <a:off x="5719680" y="2421000"/>
            <a:ext cx="3100320" cy="1800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1547640" y="1916280"/>
            <a:ext cx="3619800" cy="311436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0" y="354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" descr=""/>
          <p:cNvPicPr/>
          <p:nvPr/>
        </p:nvPicPr>
        <p:blipFill>
          <a:blip r:embed="rId2"/>
          <a:stretch/>
        </p:blipFill>
        <p:spPr>
          <a:xfrm>
            <a:off x="5667480" y="2708280"/>
            <a:ext cx="2000160" cy="17143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"/>
          <p:cNvSpPr/>
          <p:nvPr/>
        </p:nvSpPr>
        <p:spPr>
          <a:xfrm>
            <a:off x="0" y="2095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0" y="357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"/>
          <p:cNvSpPr/>
          <p:nvPr/>
        </p:nvSpPr>
        <p:spPr>
          <a:xfrm>
            <a:off x="0" y="3705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3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4"/>
          <p:cNvSpPr/>
          <p:nvPr/>
        </p:nvSpPr>
        <p:spPr>
          <a:xfrm>
            <a:off x="0" y="356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7"/>
          <p:cNvSpPr/>
          <p:nvPr/>
        </p:nvSpPr>
        <p:spPr>
          <a:xfrm>
            <a:off x="0" y="18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15" descr=""/>
          <p:cNvPicPr/>
          <p:nvPr/>
        </p:nvPicPr>
        <p:blipFill>
          <a:blip r:embed="rId1"/>
          <a:stretch/>
        </p:blipFill>
        <p:spPr>
          <a:xfrm>
            <a:off x="1420920" y="1700280"/>
            <a:ext cx="6464160" cy="151272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" descr=""/>
          <p:cNvPicPr/>
          <p:nvPr/>
        </p:nvPicPr>
        <p:blipFill>
          <a:blip r:embed="rId2"/>
          <a:stretch/>
        </p:blipFill>
        <p:spPr>
          <a:xfrm>
            <a:off x="1531800" y="3284640"/>
            <a:ext cx="5343840" cy="1512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>
            <a:off x="0" y="2381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0" y="3828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6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5286240" cy="337176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" descr=""/>
          <p:cNvPicPr/>
          <p:nvPr/>
        </p:nvPicPr>
        <p:blipFill>
          <a:blip r:embed="rId2"/>
          <a:stretch/>
        </p:blipFill>
        <p:spPr>
          <a:xfrm>
            <a:off x="6316560" y="1773360"/>
            <a:ext cx="2000520" cy="3076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919080" y="1773360"/>
            <a:ext cx="3581640" cy="311472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1" descr=""/>
          <p:cNvPicPr/>
          <p:nvPr/>
        </p:nvPicPr>
        <p:blipFill>
          <a:blip r:embed="rId2"/>
          <a:stretch/>
        </p:blipFill>
        <p:spPr>
          <a:xfrm>
            <a:off x="4932360" y="1773360"/>
            <a:ext cx="3409920" cy="30859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0" y="2095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1522440" y="1608120"/>
            <a:ext cx="6289560" cy="180036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1803240" y="3141720"/>
            <a:ext cx="2840040" cy="17985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1771560" y="2225520"/>
            <a:ext cx="5248440" cy="19242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0" y="13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" descr=""/>
          <p:cNvPicPr/>
          <p:nvPr/>
        </p:nvPicPr>
        <p:blipFill>
          <a:blip r:embed="rId1"/>
          <a:stretch/>
        </p:blipFill>
        <p:spPr>
          <a:xfrm>
            <a:off x="2771640" y="1916280"/>
            <a:ext cx="3619800" cy="30859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3"/>
          <p:cNvSpPr/>
          <p:nvPr/>
        </p:nvSpPr>
        <p:spPr>
          <a:xfrm>
            <a:off x="0" y="354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0" y="3571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0" y="20955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" descr=""/>
          <p:cNvPicPr/>
          <p:nvPr/>
        </p:nvPicPr>
        <p:blipFill>
          <a:blip r:embed="rId1"/>
          <a:stretch/>
        </p:blipFill>
        <p:spPr>
          <a:xfrm>
            <a:off x="1619280" y="2637000"/>
            <a:ext cx="5181480" cy="163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0" y="2104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0" y="14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6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8696160" cy="14414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2130480" y="2225520"/>
            <a:ext cx="4457520" cy="19242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2050920" y="2708280"/>
            <a:ext cx="4848480" cy="16765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3"/>
          <p:cNvSpPr/>
          <p:nvPr/>
        </p:nvSpPr>
        <p:spPr>
          <a:xfrm>
            <a:off x="0" y="2095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Marielle Séguy</dc:creator>
  <dc:description/>
  <dc:language>en-US</dc:language>
  <cp:lastModifiedBy>auderi</cp:lastModifiedBy>
  <dcterms:modified xsi:type="dcterms:W3CDTF">2016-06-30T16:59:11Z</dcterms:modified>
  <cp:revision>236</cp:revision>
  <dc:subject/>
  <dc:title>Diapositive 0</dc:title>
</cp:coreProperties>
</file>