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ACB9-3971-46B1-8D6D-D10EB78386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64496-0233-40B9-91BD-A38757D63B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713F-9C34-4C34-B092-9B1E93490C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D150-51C1-4981-959D-CC8E1227CB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CF0-1147-43C9-8971-CC8C962DFA3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9EBF-09B5-435F-A4A1-BF4EDD6367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4151-3166-4654-83E5-6D87B76D0E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93847-52C1-48BD-8AB5-30969EF133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678C-7734-4B25-9717-F574C75002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AC13-8742-4A36-AA01-7304CC4B98A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0416D-1A33-44EF-A83B-9F9F9E489B0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27A87-234A-4CE5-834D-899555EBCC8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DE371-8418-4E3E-994C-3CF178E3DD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BCFC3-01B7-474A-93DB-5EC1FC9870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4D7F5-7950-4736-A380-8E2A50063B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50C9-EFDE-47F1-90A5-B8600B0E82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B4D89-8EA8-4543-B87A-0497B9EB58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D2AB1-F6FD-4CCD-97D3-DF5AFF41F7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2A0A-2BE5-4412-BEC8-09980E207E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7898-1355-4E0A-9EDB-DEA7A01E53E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680F7-D77C-4F59-9023-C03262B399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B0D67-CBD6-46D9-B632-D7667CB12DB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59848-5758-4057-B325-051E35377E5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92F9B-BAE8-4158-92F5-6FCAA93349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0BFD-F649-4802-B0A0-12E261A505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E443A-20A9-4407-AA59-B2EFAD1A0C2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4BAB-358E-41A2-88E3-64643EFAE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821A-642D-48D8-816E-201B394E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5E4F-E472-458C-B3B2-4FD790F4D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25EE-7F41-4063-B98D-5C6A5F553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E558-A1A8-47DA-979A-883EA38BF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57C2-9D19-4A84-B7CC-7AC90B76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469E-3E1E-479D-8A5D-9E3E2112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A3F4-E665-49A9-96E3-C159C63E9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E8B5-B13A-4739-B979-A6CF7DD8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57B26-C349-4356-9528-54202A23F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B2F4-9848-4E28-BD16-E5109154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1BE-418F-4C70-96AD-5647D4AD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67D91-7519-434E-BB49-42B32D259930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20D7-7F1D-48BB-8600-D467550F5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RACINES CAR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e 3"/>
          <p:cNvGrpSpPr/>
          <p:nvPr/>
        </p:nvGrpSpPr>
        <p:grpSpPr>
          <a:xfrm>
            <a:off x="-181080" y="1844640"/>
            <a:ext cx="9361440" cy="3313080"/>
            <a:chOff x="-181080" y="1844640"/>
            <a:chExt cx="9361440" cy="3313080"/>
          </a:xfrm>
        </p:grpSpPr>
        <p:sp>
          <p:nvSpPr>
            <p:cNvPr id="98" name="Titre 1"/>
            <p:cNvSpPr/>
            <p:nvPr/>
          </p:nvSpPr>
          <p:spPr>
            <a:xfrm>
              <a:off x="-181080" y="1844640"/>
              <a:ext cx="936144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racine carrée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Object 39"/>
                <p:cNvSpPr txBox="1"/>
                <p:nvPr/>
              </p:nvSpPr>
              <p:spPr>
                <a:xfrm>
                  <a:off x="3635640" y="3678120"/>
                  <a:ext cx="209556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0" name="Object 3"/>
                <p:cNvSpPr txBox="1"/>
                <p:nvPr/>
              </p:nvSpPr>
              <p:spPr>
                <a:xfrm>
                  <a:off x="6084000" y="2304360"/>
                  <a:ext cx="2601720" cy="1052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3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e 5"/>
          <p:cNvGrpSpPr/>
          <p:nvPr/>
        </p:nvGrpSpPr>
        <p:grpSpPr>
          <a:xfrm>
            <a:off x="36360" y="1844640"/>
            <a:ext cx="9144000" cy="3313080"/>
            <a:chOff x="36360" y="1844640"/>
            <a:chExt cx="9144000" cy="3313080"/>
          </a:xfrm>
        </p:grpSpPr>
        <p:sp>
          <p:nvSpPr>
            <p:cNvPr id="103" name="Titre 1"/>
            <p:cNvSpPr/>
            <p:nvPr/>
          </p:nvSpPr>
          <p:spPr>
            <a:xfrm>
              <a:off x="3636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’inverse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" name="Object 39"/>
                <p:cNvSpPr txBox="1"/>
                <p:nvPr/>
              </p:nvSpPr>
              <p:spPr>
                <a:xfrm>
                  <a:off x="3779640" y="3609720"/>
                  <a:ext cx="2376360" cy="1187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+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5" name="Object 3"/>
                <p:cNvSpPr txBox="1"/>
                <p:nvPr/>
              </p:nvSpPr>
              <p:spPr>
                <a:xfrm>
                  <a:off x="5148000" y="2242800"/>
                  <a:ext cx="237492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  <m:r>
                        <m:t xml:space="preserve">−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itre 1"/>
          <p:cNvSpPr/>
          <p:nvPr/>
        </p:nvSpPr>
        <p:spPr>
          <a:xfrm>
            <a:off x="-36360" y="2492280"/>
            <a:ext cx="914400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cine carrée de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Groupe 3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110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quotient de          par 5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" name="Object 39"/>
                <p:cNvSpPr txBox="1"/>
                <p:nvPr/>
              </p:nvSpPr>
              <p:spPr>
                <a:xfrm>
                  <a:off x="4932000" y="2276640"/>
                  <a:ext cx="191448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2" name="Object 3"/>
                <p:cNvSpPr txBox="1"/>
                <p:nvPr/>
              </p:nvSpPr>
              <p:spPr>
                <a:xfrm>
                  <a:off x="4212000" y="3683520"/>
                  <a:ext cx="1301760" cy="11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itre 1"/>
          <p:cNvSpPr/>
          <p:nvPr/>
        </p:nvSpPr>
        <p:spPr>
          <a:xfrm>
            <a:off x="0" y="152280"/>
            <a:ext cx="9144000" cy="12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9"/>
              <p:cNvSpPr txBox="1"/>
              <p:nvPr/>
            </p:nvSpPr>
            <p:spPr>
              <a:xfrm>
                <a:off x="395280" y="3357720"/>
                <a:ext cx="47530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÷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ensées 9"/>
          <p:cNvSpPr/>
          <p:nvPr/>
        </p:nvSpPr>
        <p:spPr>
          <a:xfrm>
            <a:off x="-36360" y="5229360"/>
            <a:ext cx="4608360" cy="165564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"/>
              <p:cNvSpPr txBox="1"/>
              <p:nvPr/>
            </p:nvSpPr>
            <p:spPr>
              <a:xfrm>
                <a:off x="682560" y="5373720"/>
                <a:ext cx="279576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&gt;</m:t>
                    </m:r>
                    <m:r>
                      <m:t xml:space="preserve"> 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≠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" name="Titre 1"/>
          <p:cNvSpPr/>
          <p:nvPr/>
        </p:nvSpPr>
        <p:spPr>
          <a:xfrm>
            <a:off x="-36360" y="1260360"/>
            <a:ext cx="914400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moitié de         est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….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4"/>
              <p:cNvSpPr txBox="1"/>
              <p:nvPr/>
            </p:nvSpPr>
            <p:spPr>
              <a:xfrm>
                <a:off x="4248000" y="1341360"/>
                <a:ext cx="184176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5"/>
              <p:cNvSpPr txBox="1"/>
              <p:nvPr/>
            </p:nvSpPr>
            <p:spPr>
              <a:xfrm>
                <a:off x="6840360" y="1341360"/>
                <a:ext cx="14576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6"/>
              <p:cNvSpPr txBox="1"/>
              <p:nvPr/>
            </p:nvSpPr>
            <p:spPr>
              <a:xfrm>
                <a:off x="539640" y="4149720"/>
                <a:ext cx="36007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is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itre 1"/>
          <p:cNvSpPr/>
          <p:nvPr/>
        </p:nvSpPr>
        <p:spPr>
          <a:xfrm>
            <a:off x="0" y="126036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triple de        est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….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ensées 8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39"/>
              <p:cNvSpPr txBox="1"/>
              <p:nvPr/>
            </p:nvSpPr>
            <p:spPr>
              <a:xfrm>
                <a:off x="179280" y="4076640"/>
                <a:ext cx="5761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  <m:r>
                          <m:t xml:space="preserve">×</m:t>
                        </m:r>
                        <m:r>
                          <m:t xml:space="preserve">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9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3"/>
              <p:cNvSpPr txBox="1"/>
              <p:nvPr/>
            </p:nvSpPr>
            <p:spPr>
              <a:xfrm>
                <a:off x="4118040" y="1380960"/>
                <a:ext cx="1533600" cy="125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4"/>
              <p:cNvSpPr txBox="1"/>
              <p:nvPr/>
            </p:nvSpPr>
            <p:spPr>
              <a:xfrm>
                <a:off x="6543720" y="1413000"/>
                <a:ext cx="191592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6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5"/>
              <p:cNvSpPr txBox="1"/>
              <p:nvPr/>
            </p:nvSpPr>
            <p:spPr>
              <a:xfrm>
                <a:off x="1014480" y="5676840"/>
                <a:ext cx="4205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et 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≠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i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×</m:t>
                            </m:r>
                            <m:r>
                              <m:t xml:space="preserve">b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500"/>
                            </p:stCondLst>
                            <p:childTnLst>
                              <p:par>
                                <p:cTn id="6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ensées 7"/>
          <p:cNvSpPr/>
          <p:nvPr/>
        </p:nvSpPr>
        <p:spPr>
          <a:xfrm>
            <a:off x="-36360" y="5589720"/>
            <a:ext cx="734508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posé d’un réel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– </a:t>
            </a:r>
            <a:r>
              <a:rPr b="0" i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39"/>
              <p:cNvSpPr txBox="1"/>
              <p:nvPr/>
            </p:nvSpPr>
            <p:spPr>
              <a:xfrm>
                <a:off x="465120" y="4583160"/>
                <a:ext cx="367524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</m:e>
                    </m:d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6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itre 1"/>
          <p:cNvSpPr/>
          <p:nvPr/>
        </p:nvSpPr>
        <p:spPr>
          <a:xfrm>
            <a:off x="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opposé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"/>
              <p:cNvSpPr txBox="1"/>
              <p:nvPr/>
            </p:nvSpPr>
            <p:spPr>
              <a:xfrm>
                <a:off x="5219640" y="1235160"/>
                <a:ext cx="22226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4"/>
              <p:cNvSpPr txBox="1"/>
              <p:nvPr/>
            </p:nvSpPr>
            <p:spPr>
              <a:xfrm>
                <a:off x="3780000" y="2603520"/>
                <a:ext cx="2759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000"/>
                            </p:stCondLst>
                            <p:childTnLst>
                              <p:par>
                                <p:cTn id="76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4500"/>
                            </p:stCondLst>
                            <p:childTnLst>
                              <p:par>
                                <p:cTn id="81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ensées 7"/>
          <p:cNvSpPr/>
          <p:nvPr/>
        </p:nvSpPr>
        <p:spPr>
          <a:xfrm>
            <a:off x="-36360" y="5589720"/>
            <a:ext cx="720072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tous les réels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² =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 + 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9"/>
              <p:cNvSpPr txBox="1"/>
              <p:nvPr/>
            </p:nvSpPr>
            <p:spPr>
              <a:xfrm>
                <a:off x="409680" y="4286160"/>
                <a:ext cx="7458120" cy="101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3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itre 1"/>
          <p:cNvSpPr/>
          <p:nvPr/>
        </p:nvSpPr>
        <p:spPr>
          <a:xfrm>
            <a:off x="-3492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6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4932360" y="1233360"/>
                <a:ext cx="2376360" cy="11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e 12"/>
          <p:cNvGrpSpPr/>
          <p:nvPr/>
        </p:nvGrpSpPr>
        <p:grpSpPr>
          <a:xfrm>
            <a:off x="0" y="836640"/>
            <a:ext cx="9144000" cy="3313080"/>
            <a:chOff x="0" y="836640"/>
            <a:chExt cx="9144000" cy="3313080"/>
          </a:xfrm>
        </p:grpSpPr>
        <p:sp>
          <p:nvSpPr>
            <p:cNvPr id="147" name="Titre 1"/>
            <p:cNvSpPr/>
            <p:nvPr/>
          </p:nvSpPr>
          <p:spPr>
            <a:xfrm>
              <a:off x="0" y="836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produit de 4 par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48" name="Object 3"/>
                <p:cNvSpPr txBox="1"/>
                <p:nvPr/>
              </p:nvSpPr>
              <p:spPr>
                <a:xfrm>
                  <a:off x="6774120" y="1236960"/>
                  <a:ext cx="145548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9" name="Object 4"/>
                <p:cNvSpPr txBox="1"/>
                <p:nvPr/>
              </p:nvSpPr>
              <p:spPr>
                <a:xfrm>
                  <a:off x="4284000" y="2601360"/>
                  <a:ext cx="1685880" cy="11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39"/>
              <p:cNvSpPr txBox="1"/>
              <p:nvPr/>
            </p:nvSpPr>
            <p:spPr>
              <a:xfrm>
                <a:off x="36360" y="4076640"/>
                <a:ext cx="604836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ensées 11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ct 5"/>
              <p:cNvSpPr txBox="1"/>
              <p:nvPr/>
            </p:nvSpPr>
            <p:spPr>
              <a:xfrm>
                <a:off x="1014480" y="5676840"/>
                <a:ext cx="420516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 et a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b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≠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ais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  <m:r>
                              <m:t xml:space="preserve">×</m:t>
                            </m:r>
                            <m:r>
                              <m:t xml:space="preserve">b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500"/>
                            </p:stCondLst>
                            <p:childTnLst>
                              <p:par>
                                <p:cTn id="116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Les affirmations suivantes sont-elles </a:t>
            </a:r>
            <a:br>
              <a:rPr sz="6000"/>
            </a:b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vraies ou fausses ?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336600" y="4478400"/>
                <a:ext cx="848340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ensées 8"/>
          <p:cNvSpPr/>
          <p:nvPr/>
        </p:nvSpPr>
        <p:spPr>
          <a:xfrm>
            <a:off x="-36360" y="5589720"/>
            <a:ext cx="756108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Groupe 20"/>
          <p:cNvGrpSpPr/>
          <p:nvPr/>
        </p:nvGrpSpPr>
        <p:grpSpPr>
          <a:xfrm>
            <a:off x="-757080" y="836640"/>
            <a:ext cx="9937440" cy="3313080"/>
            <a:chOff x="-757080" y="836640"/>
            <a:chExt cx="9937440" cy="3313080"/>
          </a:xfrm>
        </p:grpSpPr>
        <p:sp>
          <p:nvSpPr>
            <p:cNvPr id="160" name="Titre 1"/>
            <p:cNvSpPr/>
            <p:nvPr/>
          </p:nvSpPr>
          <p:spPr>
            <a:xfrm>
              <a:off x="-757080" y="836640"/>
              <a:ext cx="993744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somme de        et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1" name="Object 4"/>
                <p:cNvSpPr txBox="1"/>
                <p:nvPr/>
              </p:nvSpPr>
              <p:spPr>
                <a:xfrm>
                  <a:off x="3858120" y="2612160"/>
                  <a:ext cx="1914840" cy="1186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2" name="Object 5"/>
                <p:cNvSpPr txBox="1"/>
                <p:nvPr/>
              </p:nvSpPr>
              <p:spPr>
                <a:xfrm>
                  <a:off x="6660000" y="1205280"/>
                  <a:ext cx="199764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8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63" name="Object 6"/>
                <p:cNvSpPr txBox="1"/>
                <p:nvPr/>
              </p:nvSpPr>
              <p:spPr>
                <a:xfrm>
                  <a:off x="4499640" y="1236960"/>
                  <a:ext cx="160164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64" name="Object 3"/>
              <p:cNvSpPr txBox="1"/>
              <p:nvPr/>
            </p:nvSpPr>
            <p:spPr>
              <a:xfrm>
                <a:off x="906480" y="5835600"/>
                <a:ext cx="496080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≠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9"/>
              <p:cNvSpPr txBox="1"/>
              <p:nvPr/>
            </p:nvSpPr>
            <p:spPr>
              <a:xfrm>
                <a:off x="395280" y="3645000"/>
                <a:ext cx="6488280" cy="170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2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=</m:t>
                        </m:r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  <m:e>
                        <m:r>
                          <m:t xml:space="preserve">d</m:t>
                        </m:r>
                        <m:r>
                          <m:t xml:space="preserve">'</m:t>
                        </m:r>
                        <m:r>
                          <m:rPr>
                            <m:lit/>
                            <m:nor/>
                          </m:rPr>
                          <m:t xml:space="preserve">où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rad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7" name="Pensées 6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3"/>
              <p:cNvSpPr txBox="1"/>
              <p:nvPr/>
            </p:nvSpPr>
            <p:spPr>
              <a:xfrm>
                <a:off x="928800" y="5794200"/>
                <a:ext cx="4579920" cy="65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9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re 1"/>
          <p:cNvSpPr/>
          <p:nvPr/>
        </p:nvSpPr>
        <p:spPr>
          <a:xfrm>
            <a:off x="-181080" y="692280"/>
            <a:ext cx="936144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cine carrée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ct 4"/>
              <p:cNvSpPr txBox="1"/>
              <p:nvPr/>
            </p:nvSpPr>
            <p:spPr>
              <a:xfrm>
                <a:off x="6084720" y="1125360"/>
                <a:ext cx="2602080" cy="105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>
                      <m:t xml:space="preserve">+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5"/>
              <p:cNvSpPr txBox="1"/>
              <p:nvPr/>
            </p:nvSpPr>
            <p:spPr>
              <a:xfrm>
                <a:off x="3635280" y="2521080"/>
                <a:ext cx="2095560" cy="105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39"/>
              <p:cNvSpPr txBox="1"/>
              <p:nvPr/>
            </p:nvSpPr>
            <p:spPr>
              <a:xfrm>
                <a:off x="324000" y="4456080"/>
                <a:ext cx="62704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Pensées 4"/>
          <p:cNvSpPr/>
          <p:nvPr/>
        </p:nvSpPr>
        <p:spPr>
          <a:xfrm>
            <a:off x="-36360" y="5589720"/>
            <a:ext cx="763272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0,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≠ 0,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t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t inverses       </a:t>
            </a:r>
            <a:r>
              <a:rPr b="0" lang="fr-FR" sz="3000" spc="-1" strike="noStrike">
                <a:solidFill>
                  <a:srgbClr val="000000"/>
                </a:solidFill>
                <a:latin typeface="OpenSymbol"/>
                <a:ea typeface="Times New Roman"/>
              </a:rPr>
              <a:t>⇔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fr-F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itre 1"/>
          <p:cNvSpPr/>
          <p:nvPr/>
        </p:nvSpPr>
        <p:spPr>
          <a:xfrm>
            <a:off x="-34920" y="836640"/>
            <a:ext cx="9144000" cy="33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inverse de  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            </a:t>
            </a:r>
            <a:r>
              <a:rPr b="0" lang="fr-FR" sz="6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"/>
              <p:cNvSpPr txBox="1"/>
              <p:nvPr/>
            </p:nvSpPr>
            <p:spPr>
              <a:xfrm>
                <a:off x="5003640" y="1268280"/>
                <a:ext cx="237492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4"/>
              <p:cNvSpPr txBox="1"/>
              <p:nvPr/>
            </p:nvSpPr>
            <p:spPr>
              <a:xfrm>
                <a:off x="3564000" y="2637000"/>
                <a:ext cx="237636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70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39"/>
              <p:cNvSpPr txBox="1"/>
              <p:nvPr/>
            </p:nvSpPr>
            <p:spPr>
              <a:xfrm>
                <a:off x="652320" y="3716280"/>
                <a:ext cx="58089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8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'</m:t>
                    </m:r>
                    <m:r>
                      <m:rPr>
                        <m:lit/>
                        <m:nor/>
                      </m:rPr>
                      <m:t xml:space="preserve">où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Pensées 5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3"/>
              <p:cNvSpPr txBox="1"/>
              <p:nvPr/>
            </p:nvSpPr>
            <p:spPr>
              <a:xfrm>
                <a:off x="885960" y="5865840"/>
                <a:ext cx="46227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b</m:t>
                    </m:r>
                    <m:r>
                      <m:t xml:space="preserve">⇔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itre 1"/>
          <p:cNvSpPr/>
          <p:nvPr/>
        </p:nvSpPr>
        <p:spPr>
          <a:xfrm>
            <a:off x="-36360" y="1773360"/>
            <a:ext cx="91440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racine carrée de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6</a:t>
            </a: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10</a:t>
            </a:r>
            <a:r>
              <a:rPr b="0" lang="fr-FR" sz="6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6" name="Object 4"/>
              <p:cNvSpPr txBox="1"/>
              <p:nvPr/>
            </p:nvSpPr>
            <p:spPr>
              <a:xfrm>
                <a:off x="399960" y="4508640"/>
                <a:ext cx="414972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u</m:t>
                    </m:r>
                    <m:r>
                      <m:rPr>
                        <m:lit/>
                        <m:nor/>
                      </m:rPr>
                      <m:t xml:space="preserve"> bien 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8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500"/>
                            </p:stCondLst>
                            <p:childTnLst>
                              <p:par>
                                <p:cTn id="18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7000"/>
                            </p:stCondLst>
                            <p:childTnLst>
                              <p:par>
                                <p:cTn id="1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Object 39"/>
              <p:cNvSpPr txBox="1"/>
              <p:nvPr/>
            </p:nvSpPr>
            <p:spPr>
              <a:xfrm>
                <a:off x="611280" y="4076640"/>
                <a:ext cx="7707240" cy="13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ou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75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9" name="Pensées 5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36231"/>
              <a:gd name="adj2" fmla="val -62564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3"/>
              <p:cNvSpPr txBox="1"/>
              <p:nvPr/>
            </p:nvSpPr>
            <p:spPr>
              <a:xfrm>
                <a:off x="1428840" y="5664240"/>
                <a:ext cx="3287520" cy="10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≥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91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e 8"/>
          <p:cNvGrpSpPr/>
          <p:nvPr/>
        </p:nvGrpSpPr>
        <p:grpSpPr>
          <a:xfrm>
            <a:off x="0" y="765000"/>
            <a:ext cx="9144000" cy="3311640"/>
            <a:chOff x="0" y="765000"/>
            <a:chExt cx="9144000" cy="3311640"/>
          </a:xfrm>
        </p:grpSpPr>
        <p:sp>
          <p:nvSpPr>
            <p:cNvPr id="193" name="Titre 1"/>
            <p:cNvSpPr/>
            <p:nvPr/>
          </p:nvSpPr>
          <p:spPr>
            <a:xfrm>
              <a:off x="0" y="765000"/>
              <a:ext cx="9144000" cy="33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quotient de          par 5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4" name="Object 4"/>
                <p:cNvSpPr txBox="1"/>
                <p:nvPr/>
              </p:nvSpPr>
              <p:spPr>
                <a:xfrm>
                  <a:off x="4889880" y="1197000"/>
                  <a:ext cx="1914480" cy="125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7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5" name="Object 5"/>
                <p:cNvSpPr txBox="1"/>
                <p:nvPr/>
              </p:nvSpPr>
              <p:spPr>
                <a:xfrm>
                  <a:off x="4212000" y="2564640"/>
                  <a:ext cx="130176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4500"/>
                            </p:stCondLst>
                            <p:childTnLst>
                              <p:par>
                                <p:cTn id="213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ensées 14"/>
          <p:cNvSpPr/>
          <p:nvPr/>
        </p:nvSpPr>
        <p:spPr>
          <a:xfrm>
            <a:off x="-36360" y="5589720"/>
            <a:ext cx="6912000" cy="1295280"/>
          </a:xfrm>
          <a:prstGeom prst="cloudCallout">
            <a:avLst>
              <a:gd name="adj1" fmla="val -25560"/>
              <a:gd name="adj2" fmla="val -101273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39"/>
              <p:cNvSpPr txBox="1"/>
              <p:nvPr/>
            </p:nvSpPr>
            <p:spPr>
              <a:xfrm>
                <a:off x="179280" y="4005360"/>
                <a:ext cx="57610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+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3"/>
              <p:cNvSpPr txBox="1"/>
              <p:nvPr/>
            </p:nvSpPr>
            <p:spPr>
              <a:xfrm>
                <a:off x="2786040" y="4724280"/>
                <a:ext cx="351468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703440" y="5732640"/>
                <a:ext cx="509256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 b</m:t>
                    </m:r>
                    <m:r>
                      <m:t xml:space="preserve">&gt;</m:t>
                    </m:r>
                    <m:r>
                      <m:rPr>
                        <m:lit/>
                        <m:nor/>
                      </m:rPr>
                      <m:t xml:space="preserve">0, </m:t>
                    </m:r>
                    <m:r>
                      <m:t xml:space="preserve">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  <m:r>
                      <m:t xml:space="preserve">≠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7" name="ZoneTexte 11"/>
          <p:cNvSpPr/>
          <p:nvPr/>
        </p:nvSpPr>
        <p:spPr>
          <a:xfrm rot="20728200">
            <a:off x="6446880" y="5737320"/>
            <a:ext cx="302436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Groupe 19"/>
          <p:cNvGrpSpPr/>
          <p:nvPr/>
        </p:nvGrpSpPr>
        <p:grpSpPr>
          <a:xfrm>
            <a:off x="0" y="1197000"/>
            <a:ext cx="9144000" cy="2663640"/>
            <a:chOff x="0" y="1197000"/>
            <a:chExt cx="9144000" cy="2663640"/>
          </a:xfrm>
        </p:grpSpPr>
        <p:sp>
          <p:nvSpPr>
            <p:cNvPr id="59" name="Titre 1"/>
            <p:cNvSpPr/>
            <p:nvPr/>
          </p:nvSpPr>
          <p:spPr>
            <a:xfrm>
              <a:off x="0" y="1197000"/>
              <a:ext cx="9144000" cy="26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somme de        et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….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 ……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Object 5"/>
                <p:cNvSpPr txBox="1"/>
                <p:nvPr/>
              </p:nvSpPr>
              <p:spPr>
                <a:xfrm>
                  <a:off x="5067360" y="1268640"/>
                  <a:ext cx="130464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" name="Object 6"/>
                <p:cNvSpPr txBox="1"/>
                <p:nvPr/>
              </p:nvSpPr>
              <p:spPr>
                <a:xfrm>
                  <a:off x="7221600" y="1268640"/>
                  <a:ext cx="176508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2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2" name="Object 7"/>
                <p:cNvSpPr txBox="1"/>
                <p:nvPr/>
              </p:nvSpPr>
              <p:spPr>
                <a:xfrm>
                  <a:off x="4140000" y="2636640"/>
                  <a:ext cx="1765080" cy="118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ntr" presetID="5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e 13"/>
          <p:cNvGrpSpPr/>
          <p:nvPr/>
        </p:nvGrpSpPr>
        <p:grpSpPr>
          <a:xfrm>
            <a:off x="0" y="2565360"/>
            <a:ext cx="9144000" cy="1440000"/>
            <a:chOff x="0" y="2565360"/>
            <a:chExt cx="9144000" cy="1440000"/>
          </a:xfrm>
        </p:grpSpPr>
        <p:sp>
          <p:nvSpPr>
            <p:cNvPr id="66" name="Titre 1"/>
            <p:cNvSpPr/>
            <p:nvPr/>
          </p:nvSpPr>
          <p:spPr>
            <a:xfrm>
              <a:off x="0" y="2565360"/>
              <a:ext cx="9144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a moitié de         est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….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Object 39"/>
                <p:cNvSpPr txBox="1"/>
                <p:nvPr/>
              </p:nvSpPr>
              <p:spPr>
                <a:xfrm>
                  <a:off x="4284000" y="2708640"/>
                  <a:ext cx="184140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8" name="Object 3"/>
                <p:cNvSpPr txBox="1"/>
                <p:nvPr/>
              </p:nvSpPr>
              <p:spPr>
                <a:xfrm>
                  <a:off x="6876360" y="2708640"/>
                  <a:ext cx="145872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8</m:t>
                          </m:r>
                        </m:e>
                      </m:rad>
                      <m:r>
                        <m:t xml:space="preserve"> 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Groupe 15"/>
          <p:cNvGrpSpPr/>
          <p:nvPr/>
        </p:nvGrpSpPr>
        <p:grpSpPr>
          <a:xfrm>
            <a:off x="0" y="2565360"/>
            <a:ext cx="9144000" cy="1440000"/>
            <a:chOff x="0" y="2565360"/>
            <a:chExt cx="9144000" cy="1440000"/>
          </a:xfrm>
        </p:grpSpPr>
        <p:sp>
          <p:nvSpPr>
            <p:cNvPr id="72" name="Titre 1"/>
            <p:cNvSpPr/>
            <p:nvPr/>
          </p:nvSpPr>
          <p:spPr>
            <a:xfrm>
              <a:off x="0" y="2565360"/>
              <a:ext cx="9144000" cy="144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triple de        est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….</a:t>
              </a: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Object 39"/>
                <p:cNvSpPr txBox="1"/>
                <p:nvPr/>
              </p:nvSpPr>
              <p:spPr>
                <a:xfrm>
                  <a:off x="4118400" y="2709360"/>
                  <a:ext cx="153324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7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4" name="Object 3"/>
                <p:cNvSpPr txBox="1"/>
                <p:nvPr/>
              </p:nvSpPr>
              <p:spPr>
                <a:xfrm>
                  <a:off x="6544440" y="2709360"/>
                  <a:ext cx="1915920" cy="1255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6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e 5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77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’opposé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8" name="Object 2"/>
                <p:cNvSpPr txBox="1"/>
                <p:nvPr/>
              </p:nvSpPr>
              <p:spPr>
                <a:xfrm>
                  <a:off x="5220000" y="2242800"/>
                  <a:ext cx="2222280" cy="1185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5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79" name="Object 39"/>
              <p:cNvSpPr txBox="1"/>
              <p:nvPr/>
            </p:nvSpPr>
            <p:spPr>
              <a:xfrm>
                <a:off x="3757680" y="3611520"/>
                <a:ext cx="2759040" cy="118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e 7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82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carré de         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6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" name="Object 3"/>
                <p:cNvSpPr txBox="1"/>
                <p:nvPr/>
              </p:nvSpPr>
              <p:spPr>
                <a:xfrm>
                  <a:off x="5004000" y="2276640"/>
                  <a:ext cx="2376360" cy="1116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+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e 6"/>
          <p:cNvGrpSpPr/>
          <p:nvPr/>
        </p:nvGrpSpPr>
        <p:grpSpPr>
          <a:xfrm>
            <a:off x="0" y="1844640"/>
            <a:ext cx="9144000" cy="3313080"/>
            <a:chOff x="0" y="1844640"/>
            <a:chExt cx="9144000" cy="3313080"/>
          </a:xfrm>
        </p:grpSpPr>
        <p:sp>
          <p:nvSpPr>
            <p:cNvPr id="86" name="Titre 1"/>
            <p:cNvSpPr/>
            <p:nvPr/>
          </p:nvSpPr>
          <p:spPr>
            <a:xfrm>
              <a:off x="0" y="1844640"/>
              <a:ext cx="9144000" cy="33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 produit de 4 par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6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st      </a:t>
              </a:r>
              <a:r>
                <a:rPr b="0" lang="fr-FR" sz="6000" spc="-1" strike="noStrike">
                  <a:solidFill>
                    <a:srgbClr val="f2f2f2"/>
                  </a:solidFill>
                  <a:latin typeface="Times New Roman"/>
                  <a:ea typeface="Times New Roman"/>
                </a:rPr>
                <a:t>..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7" name="Object 39"/>
                <p:cNvSpPr txBox="1"/>
                <p:nvPr/>
              </p:nvSpPr>
              <p:spPr>
                <a:xfrm>
                  <a:off x="6774120" y="2244960"/>
                  <a:ext cx="145548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3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8" name="Object 3"/>
                <p:cNvSpPr txBox="1"/>
                <p:nvPr/>
              </p:nvSpPr>
              <p:spPr>
                <a:xfrm>
                  <a:off x="4284000" y="3609360"/>
                  <a:ext cx="1685880" cy="111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ad>
                        <m:radPr>
                          <m:degHide m:val="1"/>
                        </m:radPr>
                        <m:deg/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Groupe 8"/>
          <p:cNvGrpSpPr/>
          <p:nvPr/>
        </p:nvGrpSpPr>
        <p:grpSpPr>
          <a:xfrm>
            <a:off x="-757080" y="1844640"/>
            <a:ext cx="9937440" cy="3313080"/>
            <a:chOff x="-757080" y="1844640"/>
            <a:chExt cx="9937440" cy="3313080"/>
          </a:xfrm>
        </p:grpSpPr>
        <p:grpSp>
          <p:nvGrpSpPr>
            <p:cNvPr id="91" name="Groupe 3"/>
            <p:cNvGrpSpPr/>
            <p:nvPr/>
          </p:nvGrpSpPr>
          <p:grpSpPr>
            <a:xfrm>
              <a:off x="-757080" y="1844640"/>
              <a:ext cx="9937440" cy="3313080"/>
              <a:chOff x="-757080" y="1844640"/>
              <a:chExt cx="9937440" cy="3313080"/>
            </a:xfrm>
          </p:grpSpPr>
          <p:sp>
            <p:nvSpPr>
              <p:cNvPr id="92" name="Titre 1"/>
              <p:cNvSpPr/>
              <p:nvPr/>
            </p:nvSpPr>
            <p:spPr>
              <a:xfrm>
                <a:off x="-757080" y="1844640"/>
                <a:ext cx="9937440" cy="331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La somme de        et     </a:t>
                </a:r>
                <a:r>
                  <a:rPr b="0" lang="fr-FR" sz="6000" spc="-1" strike="noStrike">
                    <a:solidFill>
                      <a:srgbClr val="f2f2f2"/>
                    </a:solidFill>
                    <a:latin typeface="Times New Roman"/>
                    <a:ea typeface="Times New Roman"/>
                  </a:rPr>
                  <a:t>.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6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est      </a:t>
                </a:r>
                <a:r>
                  <a:rPr b="0" lang="fr-FR" sz="6000" spc="-1" strike="noStrike">
                    <a:solidFill>
                      <a:srgbClr val="f2f2f2"/>
                    </a:solidFill>
                    <a:latin typeface="Times New Roman"/>
                    <a:ea typeface="Times New Roman"/>
                  </a:rPr>
                  <a:t>...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93" name="Object 3"/>
                  <p:cNvSpPr txBox="1"/>
                  <p:nvPr/>
                </p:nvSpPr>
                <p:spPr>
                  <a:xfrm>
                    <a:off x="6660000" y="2244600"/>
                    <a:ext cx="1997640" cy="1256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94" name="Object 4"/>
                  <p:cNvSpPr txBox="1"/>
                  <p:nvPr/>
                </p:nvSpPr>
                <p:spPr>
                  <a:xfrm>
                    <a:off x="3858120" y="3573720"/>
                    <a:ext cx="1914840" cy="11862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95" name="Object 39"/>
                <p:cNvSpPr txBox="1"/>
                <p:nvPr/>
              </p:nvSpPr>
              <p:spPr>
                <a:xfrm>
                  <a:off x="4499640" y="2276280"/>
                  <a:ext cx="1601640" cy="1256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 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2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Marielle Séguy</cp:lastModifiedBy>
  <dcterms:modified xsi:type="dcterms:W3CDTF">2015-01-11T14:21:15Z</dcterms:modified>
  <cp:revision>251</cp:revision>
  <dc:subject/>
  <dc:title>Diapositive 0</dc:title>
</cp:coreProperties>
</file>