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AC575-2D4F-4BEC-95A6-31DDFE9307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5A3B-528B-4BDE-BD2C-958D643DAE5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426C9-4E23-4A7F-8777-435162FB4A3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911BA-F890-42AF-B323-30F98FE7B14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2B39-01C0-4770-B6B2-F10CE4B9099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FB833-9E12-4885-9634-4CBEB121584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78F1F-E198-4348-89E7-A6B06BA6E6E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0B5F-D2BF-4923-8F07-683256F628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1EBB-4DC1-4074-900A-35B1BF81F4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8C5A4-AA3E-4D01-A530-014131296C2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A8BAC-80FC-41D3-9B97-3047D3420C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F611-B50C-410A-802F-F120A8AB911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3B18-327E-42FD-A531-1342BF207C4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CDA1-11E7-45EB-8280-C13A5303830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75E4-CBCD-4211-84A7-BFE7ED449A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3408-1F38-43E1-837A-8F8CE404C3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A1BEB-CB5C-41BD-A0DE-F4313B092C9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DB5F7-EECF-4073-BC95-CA02493502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F0334-A430-43E7-BCF2-CDC61C0E044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19FF-C809-470E-9FEA-69299A7440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C515-29F0-4A4E-B58E-9F54A3BD1D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87BE0-FE51-47DE-9451-E59755F7C1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F2D2E-A8CB-4C74-8591-93CD9E9288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A713C-11B5-4C10-816A-6BC385ED14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53EE4-86E9-4659-8E8E-A25AA9EE07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1B014-0B83-4394-B965-3266C9993E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FEE1-E714-4F55-B986-32C17162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6B89-7638-4D57-A085-355163EC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14D0-1499-4C55-AFA1-7EBF24D41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ED46-BED5-4355-BCF6-5E035D119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18FB-954F-4510-B2FE-408B2C941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116-0326-4BAF-B762-6B099D3E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F777-B449-4075-95A3-74E4C91C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45EE-3B6A-4E0D-BDAB-6D17A749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C1E17-9CD2-408C-B13D-810B2A3A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DD767-5E01-49DC-A7B0-27BA1EB5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55E0-FF00-4E2A-BF14-43A9B980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8B963-87B5-4AE5-9A7F-4A30EBEB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8AAB4-DD39-4F33-866B-A249FFC65D9D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41B8-BE01-46D4-8F0E-66677A5F04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RACINES CARRÉ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S 1 ET 1 BI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39"/>
              <p:cNvSpPr txBox="1"/>
              <p:nvPr/>
            </p:nvSpPr>
            <p:spPr>
              <a:xfrm>
                <a:off x="179280" y="2444760"/>
                <a:ext cx="41306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39"/>
              <p:cNvSpPr txBox="1"/>
              <p:nvPr/>
            </p:nvSpPr>
            <p:spPr>
              <a:xfrm>
                <a:off x="4859280" y="2444760"/>
                <a:ext cx="41324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39"/>
              <p:cNvSpPr txBox="1"/>
              <p:nvPr/>
            </p:nvSpPr>
            <p:spPr>
              <a:xfrm>
                <a:off x="250920" y="2198520"/>
                <a:ext cx="407484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39"/>
              <p:cNvSpPr txBox="1"/>
              <p:nvPr/>
            </p:nvSpPr>
            <p:spPr>
              <a:xfrm>
                <a:off x="4859280" y="2205000"/>
                <a:ext cx="407520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9"/>
              <p:cNvSpPr txBox="1"/>
              <p:nvPr/>
            </p:nvSpPr>
            <p:spPr>
              <a:xfrm>
                <a:off x="628560" y="24861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9"/>
              <p:cNvSpPr txBox="1"/>
              <p:nvPr/>
            </p:nvSpPr>
            <p:spPr>
              <a:xfrm>
                <a:off x="5189400" y="24861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39"/>
              <p:cNvSpPr txBox="1"/>
              <p:nvPr/>
            </p:nvSpPr>
            <p:spPr>
              <a:xfrm>
                <a:off x="250920" y="2198520"/>
                <a:ext cx="407484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39"/>
              <p:cNvSpPr txBox="1"/>
              <p:nvPr/>
            </p:nvSpPr>
            <p:spPr>
              <a:xfrm>
                <a:off x="4813200" y="2205000"/>
                <a:ext cx="4165560" cy="24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39"/>
              <p:cNvSpPr txBox="1"/>
              <p:nvPr/>
            </p:nvSpPr>
            <p:spPr>
              <a:xfrm>
                <a:off x="5288040" y="1913040"/>
                <a:ext cx="3336840" cy="17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39"/>
              <p:cNvSpPr txBox="1"/>
              <p:nvPr/>
            </p:nvSpPr>
            <p:spPr>
              <a:xfrm>
                <a:off x="777960" y="1909800"/>
                <a:ext cx="3244680" cy="17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6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39"/>
              <p:cNvSpPr txBox="1"/>
              <p:nvPr/>
            </p:nvSpPr>
            <p:spPr>
              <a:xfrm>
                <a:off x="1087560" y="3608280"/>
                <a:ext cx="22604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39"/>
              <p:cNvSpPr txBox="1"/>
              <p:nvPr/>
            </p:nvSpPr>
            <p:spPr>
              <a:xfrm>
                <a:off x="5989680" y="3649680"/>
                <a:ext cx="167148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ct 39"/>
              <p:cNvSpPr txBox="1"/>
              <p:nvPr/>
            </p:nvSpPr>
            <p:spPr>
              <a:xfrm>
                <a:off x="250920" y="2135160"/>
                <a:ext cx="41068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39"/>
              <p:cNvSpPr txBox="1"/>
              <p:nvPr/>
            </p:nvSpPr>
            <p:spPr>
              <a:xfrm>
                <a:off x="4859280" y="2133720"/>
                <a:ext cx="41068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ct 39"/>
              <p:cNvSpPr txBox="1"/>
              <p:nvPr/>
            </p:nvSpPr>
            <p:spPr>
              <a:xfrm>
                <a:off x="1015920" y="3143160"/>
                <a:ext cx="25765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39"/>
              <p:cNvSpPr txBox="1"/>
              <p:nvPr/>
            </p:nvSpPr>
            <p:spPr>
              <a:xfrm>
                <a:off x="5364000" y="3141720"/>
                <a:ext cx="28990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39"/>
              <p:cNvSpPr txBox="1"/>
              <p:nvPr/>
            </p:nvSpPr>
            <p:spPr>
              <a:xfrm>
                <a:off x="1114560" y="3494160"/>
                <a:ext cx="233352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39"/>
              <p:cNvSpPr txBox="1"/>
              <p:nvPr/>
            </p:nvSpPr>
            <p:spPr>
              <a:xfrm>
                <a:off x="5622840" y="3486240"/>
                <a:ext cx="233388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39"/>
              <p:cNvSpPr txBox="1"/>
              <p:nvPr/>
            </p:nvSpPr>
            <p:spPr>
              <a:xfrm>
                <a:off x="853920" y="2149560"/>
                <a:ext cx="2899080" cy="13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39"/>
              <p:cNvSpPr txBox="1"/>
              <p:nvPr/>
            </p:nvSpPr>
            <p:spPr>
              <a:xfrm>
                <a:off x="5464080" y="2133720"/>
                <a:ext cx="289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39"/>
              <p:cNvSpPr txBox="1"/>
              <p:nvPr/>
            </p:nvSpPr>
            <p:spPr>
              <a:xfrm>
                <a:off x="1022400" y="1773360"/>
                <a:ext cx="27543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39"/>
              <p:cNvSpPr txBox="1"/>
              <p:nvPr/>
            </p:nvSpPr>
            <p:spPr>
              <a:xfrm>
                <a:off x="5437080" y="1765440"/>
                <a:ext cx="30481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39"/>
              <p:cNvSpPr txBox="1"/>
              <p:nvPr/>
            </p:nvSpPr>
            <p:spPr>
              <a:xfrm>
                <a:off x="611280" y="3514680"/>
                <a:ext cx="314784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7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39"/>
              <p:cNvSpPr txBox="1"/>
              <p:nvPr/>
            </p:nvSpPr>
            <p:spPr>
              <a:xfrm>
                <a:off x="4896000" y="3578400"/>
                <a:ext cx="3836880" cy="13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39"/>
              <p:cNvSpPr txBox="1"/>
              <p:nvPr/>
            </p:nvSpPr>
            <p:spPr>
              <a:xfrm>
                <a:off x="693720" y="2205000"/>
                <a:ext cx="32209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ct 39"/>
              <p:cNvSpPr txBox="1"/>
              <p:nvPr/>
            </p:nvSpPr>
            <p:spPr>
              <a:xfrm>
                <a:off x="5060880" y="2205000"/>
                <a:ext cx="37036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ct 39"/>
              <p:cNvSpPr txBox="1"/>
              <p:nvPr/>
            </p:nvSpPr>
            <p:spPr>
              <a:xfrm>
                <a:off x="1579680" y="3456000"/>
                <a:ext cx="144936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9"/>
              <p:cNvSpPr txBox="1"/>
              <p:nvPr/>
            </p:nvSpPr>
            <p:spPr>
              <a:xfrm>
                <a:off x="5927760" y="3348000"/>
                <a:ext cx="177156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5bd3"/>
                </a:solidFill>
                <a:latin typeface="Georgia"/>
                <a:ea typeface="Times New Roman"/>
              </a:rPr>
              <a:t>Calculer et donner le résultat sous une forme la plus simple possible.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39"/>
              <p:cNvSpPr txBox="1"/>
              <p:nvPr/>
            </p:nvSpPr>
            <p:spPr>
              <a:xfrm>
                <a:off x="1268280" y="2133720"/>
                <a:ext cx="226224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39"/>
              <p:cNvSpPr txBox="1"/>
              <p:nvPr/>
            </p:nvSpPr>
            <p:spPr>
              <a:xfrm>
                <a:off x="5827680" y="2133720"/>
                <a:ext cx="2263680" cy="14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Object 39"/>
              <p:cNvSpPr txBox="1"/>
              <p:nvPr/>
            </p:nvSpPr>
            <p:spPr>
              <a:xfrm>
                <a:off x="646200" y="3484440"/>
                <a:ext cx="3144600" cy="132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39"/>
              <p:cNvSpPr txBox="1"/>
              <p:nvPr/>
            </p:nvSpPr>
            <p:spPr>
              <a:xfrm>
                <a:off x="5302080" y="3484440"/>
                <a:ext cx="304812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" name="Object 39"/>
              <p:cNvSpPr txBox="1"/>
              <p:nvPr/>
            </p:nvSpPr>
            <p:spPr>
              <a:xfrm>
                <a:off x="179280" y="1755720"/>
                <a:ext cx="41306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1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39"/>
              <p:cNvSpPr txBox="1"/>
              <p:nvPr/>
            </p:nvSpPr>
            <p:spPr>
              <a:xfrm>
                <a:off x="4859280" y="1755720"/>
                <a:ext cx="4132440" cy="18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5</m:t>
                                </m:r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39"/>
              <p:cNvSpPr txBox="1"/>
              <p:nvPr/>
            </p:nvSpPr>
            <p:spPr>
              <a:xfrm>
                <a:off x="1136520" y="3522600"/>
                <a:ext cx="2162160" cy="99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Object 39"/>
              <p:cNvSpPr txBox="1"/>
              <p:nvPr/>
            </p:nvSpPr>
            <p:spPr>
              <a:xfrm>
                <a:off x="5743440" y="3449520"/>
                <a:ext cx="216396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ct 39"/>
              <p:cNvSpPr txBox="1"/>
              <p:nvPr/>
            </p:nvSpPr>
            <p:spPr>
              <a:xfrm>
                <a:off x="755640" y="1628640"/>
                <a:ext cx="2994120" cy="180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39"/>
              <p:cNvSpPr txBox="1"/>
              <p:nvPr/>
            </p:nvSpPr>
            <p:spPr>
              <a:xfrm>
                <a:off x="5403960" y="1628640"/>
                <a:ext cx="2987640" cy="179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39"/>
              <p:cNvSpPr txBox="1"/>
              <p:nvPr/>
            </p:nvSpPr>
            <p:spPr>
              <a:xfrm>
                <a:off x="1116000" y="3467160"/>
                <a:ext cx="2079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rad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39"/>
              <p:cNvSpPr txBox="1"/>
              <p:nvPr/>
            </p:nvSpPr>
            <p:spPr>
              <a:xfrm>
                <a:off x="5796000" y="3467160"/>
                <a:ext cx="2079720" cy="16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</m:rad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39"/>
              <p:cNvSpPr txBox="1"/>
              <p:nvPr/>
            </p:nvSpPr>
            <p:spPr>
              <a:xfrm>
                <a:off x="628560" y="17733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Object 39"/>
              <p:cNvSpPr txBox="1"/>
              <p:nvPr/>
            </p:nvSpPr>
            <p:spPr>
              <a:xfrm>
                <a:off x="5189400" y="1773360"/>
                <a:ext cx="3541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5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Object 39"/>
              <p:cNvSpPr txBox="1"/>
              <p:nvPr/>
            </p:nvSpPr>
            <p:spPr>
              <a:xfrm>
                <a:off x="1380960" y="3481560"/>
                <a:ext cx="1671840" cy="107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4" name="Object 39"/>
              <p:cNvSpPr txBox="1"/>
              <p:nvPr/>
            </p:nvSpPr>
            <p:spPr>
              <a:xfrm>
                <a:off x="5694480" y="3449520"/>
                <a:ext cx="2262240" cy="107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39"/>
              <p:cNvSpPr txBox="1"/>
              <p:nvPr/>
            </p:nvSpPr>
            <p:spPr>
              <a:xfrm>
                <a:off x="590400" y="1628640"/>
                <a:ext cx="3476880" cy="209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7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39"/>
              <p:cNvSpPr txBox="1"/>
              <p:nvPr/>
            </p:nvSpPr>
            <p:spPr>
              <a:xfrm>
                <a:off x="5076720" y="1622520"/>
                <a:ext cx="3556080" cy="209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5</m:t>
                            </m:r>
                          </m:e>
                        </m:rad>
                        <m:r>
                          <m:t xml:space="preserve">×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ct 39"/>
              <p:cNvSpPr txBox="1"/>
              <p:nvPr/>
            </p:nvSpPr>
            <p:spPr>
              <a:xfrm>
                <a:off x="1768320" y="4010040"/>
                <a:ext cx="11779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ct 39"/>
              <p:cNvSpPr txBox="1"/>
              <p:nvPr/>
            </p:nvSpPr>
            <p:spPr>
              <a:xfrm>
                <a:off x="6362640" y="3978360"/>
                <a:ext cx="1177920" cy="88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 : deux exempl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39"/>
              <p:cNvSpPr txBox="1"/>
              <p:nvPr/>
            </p:nvSpPr>
            <p:spPr>
              <a:xfrm>
                <a:off x="395280" y="1208160"/>
                <a:ext cx="407844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7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39"/>
              <p:cNvSpPr txBox="1"/>
              <p:nvPr/>
            </p:nvSpPr>
            <p:spPr>
              <a:xfrm>
                <a:off x="2235240" y="1989000"/>
                <a:ext cx="543708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×</m:t>
                    </m:r>
                    <m:r>
                      <m:t xml:space="preserve">7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t xml:space="preserve">×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9"/>
              <p:cNvSpPr txBox="1"/>
              <p:nvPr/>
            </p:nvSpPr>
            <p:spPr>
              <a:xfrm>
                <a:off x="2230560" y="2865600"/>
                <a:ext cx="287640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1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5" name="Titre 1"/>
          <p:cNvSpPr/>
          <p:nvPr/>
        </p:nvSpPr>
        <p:spPr>
          <a:xfrm>
            <a:off x="0" y="1125360"/>
            <a:ext cx="914400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39"/>
              <p:cNvSpPr txBox="1"/>
              <p:nvPr/>
            </p:nvSpPr>
            <p:spPr>
              <a:xfrm>
                <a:off x="2811600" y="3944880"/>
                <a:ext cx="3998880" cy="113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6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39"/>
              <p:cNvSpPr txBox="1"/>
              <p:nvPr/>
            </p:nvSpPr>
            <p:spPr>
              <a:xfrm>
                <a:off x="4597560" y="4809960"/>
                <a:ext cx="3360600" cy="114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39"/>
              <p:cNvSpPr txBox="1"/>
              <p:nvPr/>
            </p:nvSpPr>
            <p:spPr>
              <a:xfrm>
                <a:off x="4603680" y="5726160"/>
                <a:ext cx="1839960" cy="87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Titre 1"/>
          <p:cNvSpPr/>
          <p:nvPr/>
        </p:nvSpPr>
        <p:spPr>
          <a:xfrm>
            <a:off x="2556000" y="4005360"/>
            <a:ext cx="5761080" cy="2736720"/>
          </a:xfrm>
          <a:prstGeom prst="rect">
            <a:avLst/>
          </a:prstGeom>
          <a:noFill/>
          <a:ln w="25560">
            <a:solidFill>
              <a:srgbClr val="0070c0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250920" y="1197000"/>
            <a:ext cx="7705800" cy="2736720"/>
          </a:xfrm>
          <a:prstGeom prst="rect">
            <a:avLst/>
          </a:prstGeom>
          <a:noFill/>
          <a:ln w="25560">
            <a:solidFill>
              <a:srgbClr val="7030a0">
                <a:alpha val="6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9"/>
              <p:cNvSpPr txBox="1"/>
              <p:nvPr/>
            </p:nvSpPr>
            <p:spPr>
              <a:xfrm>
                <a:off x="777960" y="2486160"/>
                <a:ext cx="324468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3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39"/>
              <p:cNvSpPr txBox="1"/>
              <p:nvPr/>
            </p:nvSpPr>
            <p:spPr>
              <a:xfrm>
                <a:off x="5288040" y="2486160"/>
                <a:ext cx="33447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9"/>
              <p:cNvSpPr txBox="1"/>
              <p:nvPr/>
            </p:nvSpPr>
            <p:spPr>
              <a:xfrm>
                <a:off x="250920" y="2651040"/>
                <a:ext cx="410688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9"/>
              <p:cNvSpPr txBox="1"/>
              <p:nvPr/>
            </p:nvSpPr>
            <p:spPr>
              <a:xfrm>
                <a:off x="4859280" y="2637000"/>
                <a:ext cx="41068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×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39"/>
              <p:cNvSpPr txBox="1"/>
              <p:nvPr/>
            </p:nvSpPr>
            <p:spPr>
              <a:xfrm>
                <a:off x="853920" y="2550960"/>
                <a:ext cx="2899080" cy="135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5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39"/>
              <p:cNvSpPr txBox="1"/>
              <p:nvPr/>
            </p:nvSpPr>
            <p:spPr>
              <a:xfrm>
                <a:off x="5464080" y="2535120"/>
                <a:ext cx="2898720" cy="13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6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 </m:t>
                            </m:r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39"/>
              <p:cNvSpPr txBox="1"/>
              <p:nvPr/>
            </p:nvSpPr>
            <p:spPr>
              <a:xfrm>
                <a:off x="1022400" y="2486160"/>
                <a:ext cx="275436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7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39"/>
              <p:cNvSpPr txBox="1"/>
              <p:nvPr/>
            </p:nvSpPr>
            <p:spPr>
              <a:xfrm>
                <a:off x="5437080" y="2486160"/>
                <a:ext cx="304812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 </m:t>
                        </m:r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39"/>
              <p:cNvSpPr txBox="1"/>
              <p:nvPr/>
            </p:nvSpPr>
            <p:spPr>
              <a:xfrm>
                <a:off x="693720" y="2651040"/>
                <a:ext cx="3220920" cy="114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8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9"/>
              <p:cNvSpPr txBox="1"/>
              <p:nvPr/>
            </p:nvSpPr>
            <p:spPr>
              <a:xfrm>
                <a:off x="5060880" y="2637000"/>
                <a:ext cx="3703680" cy="114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39"/>
              <p:cNvSpPr txBox="1"/>
              <p:nvPr/>
            </p:nvSpPr>
            <p:spPr>
              <a:xfrm>
                <a:off x="1268280" y="2651040"/>
                <a:ext cx="226224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39"/>
              <p:cNvSpPr txBox="1"/>
              <p:nvPr/>
            </p:nvSpPr>
            <p:spPr>
              <a:xfrm>
                <a:off x="5827680" y="2651040"/>
                <a:ext cx="2263680" cy="14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>
              <a:gd name="textAreaLeft" fmla="*/ 48240 w 4319640"/>
              <a:gd name="textAreaRight" fmla="*/ 4271400 w 4319640"/>
              <a:gd name="textAreaTop" fmla="*/ 48240 h 3600360"/>
              <a:gd name="textAreaBottom" fmla="*/ 3552120 h 3600360"/>
            </a:gdLst>
            <a:ahLst/>
            <a:rect l="textAreaLeft" t="textAreaTop" r="textAreaRight" b="textAreaBottom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5:26:34Z</dcterms:modified>
  <cp:revision>242</cp:revision>
  <dc:subject/>
  <dc:title>Diapositive 0</dc:title>
</cp:coreProperties>
</file>