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F1C4-2332-48F6-92A2-1CC10EF0A93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6C8AF-1412-4713-A0D3-6B43EDF02B9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06041-B0F7-4FE5-BB5C-533FB317481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59AEB-1067-43D5-84E5-EFFC503A560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F11F-2FEE-47A8-9C33-0DC0C7FC010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1501-060F-44D8-8A47-43D9B0145D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4C0D-345D-446F-998B-381083E63E7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624C4-DF47-4978-A1FB-71DB3A3F35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9344-7A8E-428D-921A-80ED0297CCB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6C034-EEAF-420F-8066-F170FD3658A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6CE3-B891-427D-BC9D-6D40EE443C9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0EB8-DFAC-4747-B856-6052D90836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77DA-0588-43BD-B2D7-00B0CB183A5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6418-A909-40BF-9D0C-1B8151274B5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8BA4-CF97-4E2E-ACE9-5C5DB32AC49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A848-B0DF-4C8A-B95E-5753FABD80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30AD2-24E7-4989-94EA-F38427DAC7B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5B8F-7803-4F8B-8EE7-A0C9B7644B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25B8-153A-4159-9001-81B95CAD11E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92E7D-98C5-45E7-AEE2-57FE3BB1D34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A8E46-D6B2-45D3-91CD-C1DCD791E27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6791-450F-4A98-A706-A33FACA982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2FA6-891D-48DA-B2EF-B2302C2BE54D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80345-B287-4723-B6FC-7F7AAFA5792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D73C-8ABF-4B47-950E-5D83A1743C8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7AE90-7247-4FF0-A839-6ECF90658C1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B93C9-769C-4E30-9D9C-61CA3B12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5B82-2AAC-4217-9799-E920ABF7D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610-FC7E-468E-9008-40868399C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E621-C66A-474E-8B88-F376E00A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2E1D-FF28-4133-ADFA-80C0212F0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899C-BDC4-4571-BA3D-3068D407F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B7A2-2040-4289-AA49-F9640022E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0FC-08D3-409F-BFCD-7B17DE5B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E606-55EF-4F1E-B6CF-94657713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A8D5-53C8-4B42-9C1D-71B09B2D1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D0F91-38E2-4C07-B4E1-7C5CE2839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7AF-E529-4198-B910-26C42A72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69D6C-8CF9-4B24-836D-C4BC89B77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FACTORISÉE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SÉRIE 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7920" y="5013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Object 7"/>
              <p:cNvSpPr txBox="1"/>
              <p:nvPr/>
            </p:nvSpPr>
            <p:spPr>
              <a:xfrm>
                <a:off x="2478240" y="5203800"/>
                <a:ext cx="344772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Objet 1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ct 6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9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2637000" y="5000760"/>
                <a:ext cx="40068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t 2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t 3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2428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Object 5"/>
              <p:cNvSpPr txBox="1"/>
              <p:nvPr/>
            </p:nvSpPr>
            <p:spPr>
              <a:xfrm>
                <a:off x="2922480" y="5095800"/>
                <a:ext cx="343404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t 3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t 4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t 5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t 2"/>
              <p:cNvSpPr txBox="1"/>
              <p:nvPr/>
            </p:nvSpPr>
            <p:spPr>
              <a:xfrm>
                <a:off x="-71280" y="3500280"/>
                <a:ext cx="699120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i une proposition de correction en utilisant la forme la plus adaptée à chaque calcu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1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0" y="2257560"/>
                <a:ext cx="81867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4678200" y="4902120"/>
                <a:ext cx="192888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t 1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Object 9"/>
              <p:cNvSpPr txBox="1"/>
              <p:nvPr/>
            </p:nvSpPr>
            <p:spPr>
              <a:xfrm>
                <a:off x="-44280" y="2257560"/>
                <a:ext cx="81882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9" name="ZoneTexte 9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4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Object 5"/>
              <p:cNvSpPr txBox="1"/>
              <p:nvPr/>
            </p:nvSpPr>
            <p:spPr>
              <a:xfrm>
                <a:off x="4359240" y="4932360"/>
                <a:ext cx="2357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Objet 1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7" name="ZoneTexte 9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0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8" name="Object 5"/>
              <p:cNvSpPr txBox="1"/>
              <p:nvPr/>
            </p:nvSpPr>
            <p:spPr>
              <a:xfrm>
                <a:off x="4537080" y="4932360"/>
                <a:ext cx="200016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9" name="Objet 1"/>
              <p:cNvSpPr txBox="1"/>
              <p:nvPr/>
            </p:nvSpPr>
            <p:spPr>
              <a:xfrm>
                <a:off x="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70" name="Rectangle 18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1" name="Objet 3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7" name="ZoneTexte 11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0" lang="fr-FR" sz="6000" spc="-1" strike="noStrike">
                <a:solidFill>
                  <a:srgbClr val="000000"/>
                </a:solidFill>
                <a:latin typeface="Arial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2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5"/>
              <p:cNvSpPr txBox="1"/>
              <p:nvPr/>
            </p:nvSpPr>
            <p:spPr>
              <a:xfrm>
                <a:off x="4716360" y="4902120"/>
                <a:ext cx="200052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t 1"/>
              <p:cNvSpPr txBox="1"/>
              <p:nvPr/>
            </p:nvSpPr>
            <p:spPr>
              <a:xfrm>
                <a:off x="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Objet 2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5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7"/>
              <p:cNvSpPr txBox="1"/>
              <p:nvPr/>
            </p:nvSpPr>
            <p:spPr>
              <a:xfrm>
                <a:off x="746280" y="5203800"/>
                <a:ext cx="333828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8" name="Object 5"/>
              <p:cNvSpPr txBox="1"/>
              <p:nvPr/>
            </p:nvSpPr>
            <p:spPr>
              <a:xfrm>
                <a:off x="4214880" y="4978440"/>
                <a:ext cx="278604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Objet 1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36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Dans chaque cas, les 3 expressions sont égales. Calculer la valeur numérique pour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 donné </a:t>
            </a:r>
            <a:r>
              <a:rPr b="1" lang="fr-FR" sz="5400" spc="-1" strike="noStrike">
                <a:solidFill>
                  <a:srgbClr val="000000"/>
                </a:solidFill>
                <a:latin typeface="Times New Roman"/>
              </a:rPr>
              <a:t>en choisissant la forme de l’expression la plus adaptée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7"/>
              <p:cNvSpPr txBox="1"/>
              <p:nvPr/>
            </p:nvSpPr>
            <p:spPr>
              <a:xfrm>
                <a:off x="1019160" y="5232240"/>
                <a:ext cx="3338640" cy="155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7"/>
              <p:cNvSpPr txBox="1"/>
              <p:nvPr/>
            </p:nvSpPr>
            <p:spPr>
              <a:xfrm>
                <a:off x="4700520" y="5462640"/>
                <a:ext cx="18147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Objet 1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8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" name="Object 7"/>
              <p:cNvSpPr txBox="1"/>
              <p:nvPr/>
            </p:nvSpPr>
            <p:spPr>
              <a:xfrm>
                <a:off x="1071720" y="5160960"/>
                <a:ext cx="333684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6"/>
              <p:cNvSpPr txBox="1"/>
              <p:nvPr/>
            </p:nvSpPr>
            <p:spPr>
              <a:xfrm>
                <a:off x="4859280" y="5373720"/>
                <a:ext cx="22687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Objet 1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8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7"/>
              <p:cNvSpPr txBox="1"/>
              <p:nvPr/>
            </p:nvSpPr>
            <p:spPr>
              <a:xfrm>
                <a:off x="857160" y="5203800"/>
                <a:ext cx="3670560" cy="15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5" name="Object 6"/>
              <p:cNvSpPr txBox="1"/>
              <p:nvPr/>
            </p:nvSpPr>
            <p:spPr>
              <a:xfrm>
                <a:off x="5025960" y="5462640"/>
                <a:ext cx="187956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Objet 1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9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5"/>
              <p:cNvSpPr txBox="1"/>
              <p:nvPr/>
            </p:nvSpPr>
            <p:spPr>
              <a:xfrm>
                <a:off x="571680" y="5222880"/>
                <a:ext cx="41335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2" name="Object 6"/>
              <p:cNvSpPr txBox="1"/>
              <p:nvPr/>
            </p:nvSpPr>
            <p:spPr>
              <a:xfrm>
                <a:off x="4908600" y="5375160"/>
                <a:ext cx="1878120" cy="83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Objet 1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t 2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5" name="Objet 3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6" name="Rectangle 2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t 5"/>
              <p:cNvSpPr txBox="1"/>
              <p:nvPr/>
            </p:nvSpPr>
            <p:spPr>
              <a:xfrm>
                <a:off x="14400" y="3573360"/>
                <a:ext cx="70056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2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22400"/>
            <a:ext cx="242892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0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Object 5"/>
              <p:cNvSpPr txBox="1"/>
              <p:nvPr/>
            </p:nvSpPr>
            <p:spPr>
              <a:xfrm>
                <a:off x="1285920" y="5270400"/>
                <a:ext cx="362412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Object 6"/>
              <p:cNvSpPr txBox="1"/>
              <p:nvPr/>
            </p:nvSpPr>
            <p:spPr>
              <a:xfrm>
                <a:off x="4971960" y="5297400"/>
                <a:ext cx="181476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Objet 1"/>
              <p:cNvSpPr txBox="1"/>
              <p:nvPr/>
            </p:nvSpPr>
            <p:spPr>
              <a:xfrm>
                <a:off x="19080" y="1171440"/>
                <a:ext cx="455292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Objet 2"/>
              <p:cNvSpPr txBox="1"/>
              <p:nvPr/>
            </p:nvSpPr>
            <p:spPr>
              <a:xfrm>
                <a:off x="4643280" y="1009800"/>
                <a:ext cx="4415040" cy="7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7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Objet 3"/>
              <p:cNvSpPr txBox="1"/>
              <p:nvPr/>
            </p:nvSpPr>
            <p:spPr>
              <a:xfrm>
                <a:off x="34920" y="2349360"/>
                <a:ext cx="9001080" cy="68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+</m:t>
                        </m:r>
                        <m:r>
                          <m:t xml:space="preserve">x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Objet 4"/>
              <p:cNvSpPr txBox="1"/>
              <p:nvPr/>
            </p:nvSpPr>
            <p:spPr>
              <a:xfrm>
                <a:off x="14400" y="3573360"/>
                <a:ext cx="7005600" cy="74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E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4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58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1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9"/>
              <p:cNvSpPr txBox="1"/>
              <p:nvPr/>
            </p:nvSpPr>
            <p:spPr>
              <a:xfrm>
                <a:off x="0" y="2257560"/>
                <a:ext cx="818676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8" name="Rectangle 1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t 2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8440" y="1042920"/>
                <a:ext cx="865692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9"/>
              <p:cNvSpPr txBox="1"/>
              <p:nvPr/>
            </p:nvSpPr>
            <p:spPr>
              <a:xfrm>
                <a:off x="-15840" y="2257560"/>
                <a:ext cx="81882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t 1"/>
              <p:cNvSpPr txBox="1"/>
              <p:nvPr/>
            </p:nvSpPr>
            <p:spPr>
              <a:xfrm>
                <a:off x="108000" y="3716280"/>
                <a:ext cx="8136000" cy="7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7" name="Rectangle 2"/>
          <p:cNvSpPr/>
          <p:nvPr/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2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0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6"/>
              <p:cNvSpPr txBox="1"/>
              <p:nvPr/>
            </p:nvSpPr>
            <p:spPr>
              <a:xfrm>
                <a:off x="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t 1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Rectangle 2"/>
          <p:cNvSpPr/>
          <p:nvPr/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3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ZoneTexte 5"/>
          <p:cNvSpPr/>
          <p:nvPr/>
        </p:nvSpPr>
        <p:spPr>
          <a:xfrm>
            <a:off x="571680" y="4857840"/>
            <a:ext cx="7358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pour x = </a:t>
            </a:r>
            <a:r>
              <a:rPr b="1" lang="fr-FR" sz="6000" spc="-1" strike="noStrike">
                <a:solidFill>
                  <a:srgbClr val="000000"/>
                </a:solidFill>
                <a:latin typeface="Times New Roman"/>
              </a:rPr>
              <a:t>−</a:t>
            </a:r>
            <a:r>
              <a:rPr b="1" i="1" lang="fr-FR" sz="6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-71280" y="2214720"/>
                <a:ext cx="7237080" cy="89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t 1"/>
              <p:cNvSpPr txBox="1"/>
              <p:nvPr/>
            </p:nvSpPr>
            <p:spPr>
              <a:xfrm>
                <a:off x="1440" y="1197000"/>
                <a:ext cx="9107640" cy="65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r>
                      <m:t xml:space="preserve">+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6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t 2"/>
              <p:cNvSpPr txBox="1"/>
              <p:nvPr/>
            </p:nvSpPr>
            <p:spPr>
              <a:xfrm>
                <a:off x="0" y="3500280"/>
                <a:ext cx="82440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8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2"/>
          <p:cNvSpPr/>
          <p:nvPr/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4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5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2643120" y="5176800"/>
                <a:ext cx="311616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1" name="Rectangle 1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t 6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6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6"/>
              <p:cNvSpPr txBox="1"/>
              <p:nvPr/>
            </p:nvSpPr>
            <p:spPr>
              <a:xfrm>
                <a:off x="-71280" y="291960"/>
                <a:ext cx="8358120" cy="18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8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5"/>
              <p:cNvSpPr txBox="1"/>
              <p:nvPr/>
            </p:nvSpPr>
            <p:spPr>
              <a:xfrm>
                <a:off x="-96840" y="1992240"/>
                <a:ext cx="918684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7"/>
              <p:cNvSpPr txBox="1"/>
              <p:nvPr/>
            </p:nvSpPr>
            <p:spPr>
              <a:xfrm>
                <a:off x="2643120" y="5176800"/>
                <a:ext cx="31147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t 1"/>
              <p:cNvSpPr txBox="1"/>
              <p:nvPr/>
            </p:nvSpPr>
            <p:spPr>
              <a:xfrm>
                <a:off x="-3240" y="3789360"/>
                <a:ext cx="824724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22400"/>
            <a:ext cx="2000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°7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-71280" y="925560"/>
                <a:ext cx="798012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nitial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x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5"/>
              <p:cNvSpPr txBox="1"/>
              <p:nvPr/>
            </p:nvSpPr>
            <p:spPr>
              <a:xfrm>
                <a:off x="-71280" y="1992240"/>
                <a:ext cx="9029520" cy="16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factoris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7"/>
              <p:cNvSpPr txBox="1"/>
              <p:nvPr/>
            </p:nvSpPr>
            <p:spPr>
              <a:xfrm>
                <a:off x="2643120" y="5176800"/>
                <a:ext cx="3114720" cy="16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our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0" name="Rectangle 1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73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t 6"/>
              <p:cNvSpPr txBox="1"/>
              <p:nvPr/>
            </p:nvSpPr>
            <p:spPr>
              <a:xfrm>
                <a:off x="0" y="4005360"/>
                <a:ext cx="812628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orm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développée</m:t>
                    </m:r>
                    <m:r>
                      <m:t xml:space="preserve"> 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D</m:t>
                    </m:r>
                    <m:r>
                      <m:t xml:space="preserve">=</m:t>
                    </m:r>
                    <m:r>
                      <m:t xml:space="preserve">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13:56:17Z</dcterms:created>
  <dc:creator>ms</dc:creator>
  <dc:description/>
  <dc:language>en-US</dc:language>
  <cp:lastModifiedBy>auderi</cp:lastModifiedBy>
  <dcterms:modified xsi:type="dcterms:W3CDTF">2015-09-30T16:56:32Z</dcterms:modified>
  <cp:revision>38</cp:revision>
  <dc:subject/>
  <dc:title>S’agit-il d’une expression développée ? factorisée ?</dc:title>
</cp:coreProperties>
</file>