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E7D-F8E4-45C1-A347-E5DD4D452D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CA2-031F-4308-8985-EA087AACF1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2F5-5ED6-49EA-8900-4DAB0E2BD5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F27E-4DDF-4A8A-8179-3A4CEE5183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2D7-0100-45D6-8655-C629A8F91D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BA2-3A84-4682-A19B-639EE2F7E4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FA9-CA82-4DC4-B31F-475B59EB0C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3E8-CC7A-4343-B61D-F5983D1063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820-D391-4923-8E8A-D47C7C162E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5B1-19D3-4401-99AC-4D8DD6B21F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E16-12E6-4401-BAE9-34B675BC3F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C35-D766-4509-B51F-23808A6CC8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9BD-B13B-44E8-8761-7AEA7F408B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7E7D-4CD0-48FF-82A4-1FF9A62CBF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760E-2D4D-4634-A2CF-1EA37FE89D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7BA-D080-4022-BC72-F750A242B2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AA41-8D6B-47BC-957A-A38CB3770B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D61-AD53-4E12-81EF-09744A1E93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EA17-8619-4D2A-9552-19D4C90AB2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0265-71B2-4A23-AE0E-C936CBA2A3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021-2765-4A4B-86EA-8FD63E7F3C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1E92-A30B-42D9-BAF4-D4C8B2A5F9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85B-11BE-4175-9F58-06E15CF5CF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09C-FC84-47FF-953B-A030D52906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FFEF-A8B6-433E-8462-31120E4E60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B3A-87DA-46A9-AD4D-9541CFCCF8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43F-ABEA-4DDD-A94D-89FF1128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39-8500-4415-948A-344D445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772-6867-4D68-B54A-1C2DFFDC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CED-9A34-4797-B250-98F99A6C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711-F082-49CC-ADBB-2E0AB80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239-C375-4FBF-8F87-9F22060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4E0-924C-4F42-AF68-6420F73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328-188B-4216-A658-AFEFA8D0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3B1-A5C7-4050-B38E-0A064CCE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A39-8AAC-4637-98CE-31E8EBF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2AF-1B21-4881-976B-6BD3656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1F6-B52E-4CBB-AF13-8733E00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5BDB-2F8A-490A-989B-F873F521D5D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A8A-2C41-4FCA-B613-75467AD2F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à quel intervalle appartient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11"/>
          <p:cNvSpPr/>
          <p:nvPr/>
        </p:nvSpPr>
        <p:spPr>
          <a:xfrm>
            <a:off x="0" y="400536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posi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11"/>
          <p:cNvSpPr/>
          <p:nvPr/>
        </p:nvSpPr>
        <p:spPr>
          <a:xfrm>
            <a:off x="0" y="414972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trictement négative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0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7"/>
          <p:cNvSpPr/>
          <p:nvPr/>
        </p:nvSpPr>
        <p:spPr>
          <a:xfrm flipV="1">
            <a:off x="4786200" y="134064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8"/>
          <p:cNvSpPr/>
          <p:nvPr/>
        </p:nvSpPr>
        <p:spPr>
          <a:xfrm flipV="1">
            <a:off x="4788000" y="3212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9"/>
          <p:cNvCxnSpPr>
            <a:stCxn id="95" idx="0"/>
            <a:endCxn id="96" idx="4"/>
          </p:cNvCxnSpPr>
          <p:nvPr/>
        </p:nvCxnSpPr>
        <p:spPr>
          <a:xfrm>
            <a:off x="5111280" y="1989000"/>
            <a:ext cx="252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11"/>
          <p:cNvSpPr/>
          <p:nvPr/>
        </p:nvSpPr>
        <p:spPr>
          <a:xfrm>
            <a:off x="0" y="39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 antécédent de 3 est –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0"/>
          <p:cNvSpPr/>
          <p:nvPr/>
        </p:nvSpPr>
        <p:spPr>
          <a:xfrm flipV="1">
            <a:off x="1401840" y="1843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 flipV="1">
            <a:off x="147492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2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a deux antécédents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Connecteur droit avec flèche 10"/>
          <p:cNvCxnSpPr/>
          <p:nvPr/>
        </p:nvCxnSpPr>
        <p:spPr>
          <a:xfrm flipV="1">
            <a:off x="4066920" y="1773000"/>
            <a:ext cx="1080" cy="108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0" name="Ellipse 11"/>
          <p:cNvSpPr/>
          <p:nvPr/>
        </p:nvSpPr>
        <p:spPr>
          <a:xfrm flipV="1" rot="10800000">
            <a:off x="3706560" y="28515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necteur droit avec flèche 21"/>
          <p:cNvCxnSpPr/>
          <p:nvPr/>
        </p:nvCxnSpPr>
        <p:spPr>
          <a:xfrm flipV="1">
            <a:off x="6011640" y="1772640"/>
            <a:ext cx="1080" cy="935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2" name="Ellipse 22"/>
          <p:cNvSpPr/>
          <p:nvPr/>
        </p:nvSpPr>
        <p:spPr>
          <a:xfrm flipV="1" rot="10800000">
            <a:off x="5651280" y="270720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21600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50920" y="1197000"/>
            <a:ext cx="87138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a une seule ima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Connecteur droit avec flèche 7"/>
          <p:cNvCxnSpPr/>
          <p:nvPr/>
        </p:nvCxnSpPr>
        <p:spPr>
          <a:xfrm>
            <a:off x="3995280" y="191592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0" name="Ellipse 8"/>
          <p:cNvSpPr/>
          <p:nvPr/>
        </p:nvSpPr>
        <p:spPr>
          <a:xfrm flipV="1" rot="10800000">
            <a:off x="3635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2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2 est néga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droit avec flèche 7"/>
          <p:cNvCxnSpPr/>
          <p:nvPr/>
        </p:nvCxnSpPr>
        <p:spPr>
          <a:xfrm>
            <a:off x="6227280" y="1989000"/>
            <a:ext cx="1080" cy="720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Ellipse 8"/>
          <p:cNvSpPr/>
          <p:nvPr/>
        </p:nvSpPr>
        <p:spPr>
          <a:xfrm flipV="1" rot="10800000">
            <a:off x="586728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Voici le tableau des variations d’une fonct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ion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 </a:t>
            </a:r>
            <a:r>
              <a:rPr b="0" i="1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Times New Roman"/>
              </a:rPr>
              <a:t>définie sur [–5 ; 10]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97964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aux 10 questions qui sui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11"/>
          <p:cNvSpPr/>
          <p:nvPr/>
        </p:nvSpPr>
        <p:spPr>
          <a:xfrm>
            <a:off x="0" y="38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l’image de –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image de –3 est posit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7"/>
          <p:cNvCxnSpPr/>
          <p:nvPr/>
        </p:nvCxnSpPr>
        <p:spPr>
          <a:xfrm flipH="1">
            <a:off x="2483640" y="1989000"/>
            <a:ext cx="108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Ellipse 8"/>
          <p:cNvSpPr/>
          <p:nvPr/>
        </p:nvSpPr>
        <p:spPr>
          <a:xfrm flipV="1" rot="10800000">
            <a:off x="212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–</a:t>
            </a: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3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de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sur l’intervalle [1; 5]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6"/>
          <p:cNvCxnSpPr/>
          <p:nvPr/>
        </p:nvCxnSpPr>
        <p:spPr>
          <a:xfrm flipH="1">
            <a:off x="5723640" y="1988640"/>
            <a:ext cx="1080" cy="1080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7" name="Ellipse 7"/>
          <p:cNvSpPr/>
          <p:nvPr/>
        </p:nvSpPr>
        <p:spPr>
          <a:xfrm flipV="1" rot="10800000">
            <a:off x="536400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1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9"/>
          <p:cNvCxnSpPr/>
          <p:nvPr/>
        </p:nvCxnSpPr>
        <p:spPr>
          <a:xfrm flipH="1">
            <a:off x="7666920" y="1989000"/>
            <a:ext cx="1080" cy="93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9" name="Ellipse 10"/>
          <p:cNvSpPr/>
          <p:nvPr/>
        </p:nvSpPr>
        <p:spPr>
          <a:xfrm flipV="1" rot="10800000">
            <a:off x="730872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5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5241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1 ; 5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≤ 0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cteur droit avec flèche 13"/>
          <p:cNvCxnSpPr>
            <a:stCxn id="137" idx="2"/>
            <a:endCxn id="139" idx="6"/>
          </p:cNvCxnSpPr>
          <p:nvPr/>
        </p:nvCxnSpPr>
        <p:spPr>
          <a:xfrm>
            <a:off x="6013440" y="1665000"/>
            <a:ext cx="1296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[0 ; 10]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à quel intervalle appartient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0" y="522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0 ; 10], 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r>
              <a:rPr b="0" lang="fr-FR" sz="40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[–5 ; 0]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7"/>
          <p:cNvCxnSpPr>
            <a:stCxn id="147" idx="4"/>
            <a:endCxn id="148" idx="0"/>
          </p:cNvCxnSpPr>
          <p:nvPr/>
        </p:nvCxnSpPr>
        <p:spPr>
          <a:xfrm>
            <a:off x="511308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Ellipse 8"/>
          <p:cNvSpPr/>
          <p:nvPr/>
        </p:nvSpPr>
        <p:spPr>
          <a:xfrm flipV="1" rot="10800000">
            <a:off x="478764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Connecteur droit avec flèche 10"/>
          <p:cNvCxnSpPr/>
          <p:nvPr/>
        </p:nvCxnSpPr>
        <p:spPr>
          <a:xfrm flipH="1">
            <a:off x="8458920" y="1989000"/>
            <a:ext cx="1080" cy="1224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Ellipse 11"/>
          <p:cNvSpPr/>
          <p:nvPr/>
        </p:nvSpPr>
        <p:spPr>
          <a:xfrm flipV="1" rot="10800000">
            <a:off x="8100720" y="134028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13"/>
          <p:cNvSpPr/>
          <p:nvPr/>
        </p:nvSpPr>
        <p:spPr>
          <a:xfrm flipV="1" rot="10800000">
            <a:off x="4787640" y="321192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16"/>
          <p:cNvSpPr/>
          <p:nvPr/>
        </p:nvSpPr>
        <p:spPr>
          <a:xfrm flipV="1" rot="10800000">
            <a:off x="6588000" y="184356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eur droit avec flèche 17"/>
          <p:cNvCxnSpPr>
            <a:stCxn id="147" idx="2"/>
            <a:endCxn id="150" idx="6"/>
          </p:cNvCxnSpPr>
          <p:nvPr/>
        </p:nvCxnSpPr>
        <p:spPr>
          <a:xfrm>
            <a:off x="5437080" y="1665000"/>
            <a:ext cx="26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11"/>
          <p:cNvSpPr/>
          <p:nvPr/>
        </p:nvSpPr>
        <p:spPr>
          <a:xfrm>
            <a:off x="0" y="39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posi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–5 ; –2[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7"/>
          <p:cNvCxnSpPr/>
          <p:nvPr/>
        </p:nvCxnSpPr>
        <p:spPr>
          <a:xfrm>
            <a:off x="1908000" y="2349360"/>
            <a:ext cx="1224720" cy="50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Ellipse 12"/>
          <p:cNvSpPr/>
          <p:nvPr/>
        </p:nvSpPr>
        <p:spPr>
          <a:xfrm flipV="1" rot="10800000">
            <a:off x="147636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b050"/>
                </a:solidFill>
                <a:latin typeface="Cambri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3"/>
          <p:cNvSpPr/>
          <p:nvPr/>
        </p:nvSpPr>
        <p:spPr>
          <a:xfrm flipV="1" rot="10800000">
            <a:off x="2987640" y="1340280"/>
            <a:ext cx="64944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necteur droit avec flèche 14"/>
          <p:cNvCxnSpPr>
            <a:stCxn id="158" idx="2"/>
            <a:endCxn id="159" idx="6"/>
          </p:cNvCxnSpPr>
          <p:nvPr/>
        </p:nvCxnSpPr>
        <p:spPr>
          <a:xfrm>
            <a:off x="2125800" y="1665000"/>
            <a:ext cx="8625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11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onner un intervalle fermé sur lequel </a:t>
            </a: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est décroissante et strictement néga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décroissante et strictement néga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ur [4 ; 7] par exem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Connecteur droit avec flèche 7"/>
          <p:cNvCxnSpPr/>
          <p:nvPr/>
        </p:nvCxnSpPr>
        <p:spPr>
          <a:xfrm>
            <a:off x="7092720" y="2421000"/>
            <a:ext cx="864360" cy="7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6" name="Ellipse 8"/>
          <p:cNvSpPr/>
          <p:nvPr/>
        </p:nvSpPr>
        <p:spPr>
          <a:xfrm flipV="1" rot="10800000">
            <a:off x="709128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Connecteur droit avec flèche 10"/>
          <p:cNvCxnSpPr>
            <a:stCxn id="166" idx="2"/>
            <a:endCxn id="168" idx="6"/>
          </p:cNvCxnSpPr>
          <p:nvPr/>
        </p:nvCxnSpPr>
        <p:spPr>
          <a:xfrm flipV="1">
            <a:off x="7524720" y="1627920"/>
            <a:ext cx="2880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8" name="Ellipse 17"/>
          <p:cNvSpPr/>
          <p:nvPr/>
        </p:nvSpPr>
        <p:spPr>
          <a:xfrm flipV="1" rot="10800000">
            <a:off x="7812000" y="1411920"/>
            <a:ext cx="433440" cy="431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Cambri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1"/>
          <p:cNvSpPr/>
          <p:nvPr/>
        </p:nvSpPr>
        <p:spPr>
          <a:xfrm>
            <a:off x="0" y="3933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2)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5078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2) = 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7"/>
          <p:cNvSpPr/>
          <p:nvPr/>
        </p:nvSpPr>
        <p:spPr>
          <a:xfrm flipV="1">
            <a:off x="2916360" y="134064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8"/>
          <p:cNvSpPr/>
          <p:nvPr/>
        </p:nvSpPr>
        <p:spPr>
          <a:xfrm flipV="1">
            <a:off x="2916360" y="2493360"/>
            <a:ext cx="649080" cy="64764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9"/>
          <p:cNvCxnSpPr>
            <a:stCxn id="57" idx="0"/>
            <a:endCxn id="58" idx="4"/>
          </p:cNvCxnSpPr>
          <p:nvPr/>
        </p:nvCxnSpPr>
        <p:spPr>
          <a:xfrm>
            <a:off x="3239640" y="1988640"/>
            <a:ext cx="1080" cy="505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le est l’image de 0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iter un antécédent d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 4 a-t-il d’antécédent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1"/>
          <p:cNvSpPr/>
          <p:nvPr/>
        </p:nvSpPr>
        <p:spPr>
          <a:xfrm>
            <a:off x="0" y="414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Combien –1 a-t-il d’imag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2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7" descr=""/>
          <p:cNvPicPr/>
          <p:nvPr/>
        </p:nvPicPr>
        <p:blipFill>
          <a:blip r:embed="rId1"/>
          <a:srcRect l="0" t="4883" r="11645" b="12193"/>
          <a:stretch/>
        </p:blipFill>
        <p:spPr>
          <a:xfrm>
            <a:off x="216000" y="1197000"/>
            <a:ext cx="8713800" cy="27684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0" y="414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Quel est le sig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de l’image de –3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3:21Z</dcterms:modified>
  <cp:revision>254</cp:revision>
  <dc:subject/>
  <dc:title>Diapositive 0</dc:title>
</cp:coreProperties>
</file>