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0667-19D2-40A5-95A8-B1AE46A6A2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982F-C28D-4464-8F5C-CC9C2A78D8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2EAC-1C9C-44A5-828B-B9030B1964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CC38-2623-4136-A160-689867CA5C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69DB-A66F-4DE0-AAD6-1FE1EF31FA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A0AA-713A-49BF-BC6F-3D6DF072CE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6313-D358-41B5-BAA4-68E964C1B1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BF8D-4287-4DBE-80E4-A45513EBAE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D4CB-F3EC-4993-AC53-A75A800BF3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BD77-DE0A-4A96-A249-8650B065C5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1B28-DC1B-4BC3-87AA-A6038D3B9B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CACE-8973-4718-A814-233FE69C12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F2F9-9059-4490-A14F-50F4393CB8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3DF8-58E1-4386-803B-3607061A6F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BC3B-A236-4A49-9188-D493AAEB91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5DE1-505D-485B-8310-E0B9993755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71CD-4B2E-4CD1-B6AF-7C30532506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EA34-4096-4793-9D4B-CC97B7E3D3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0161-09E7-4537-9983-5259299388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4500-54B1-42D4-85B2-07E36C7FAD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E440-03CF-4B58-A3ED-69CAD13986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96D9-474E-410A-8D78-C31DD094DF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C0C0-C532-4D9C-B3C0-8F2927F7FF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BFAA-58D5-4F2D-A69C-27D7BAF5F1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B036-A34F-44A8-AD7D-2C0A52B52F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99CF-2AFA-4E76-B6E6-AB5F537102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810-E779-43C3-99E3-942D1E81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F3A-491C-4068-918F-6D19C8CC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649-EC1F-4174-B2C5-384181FC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FF4-B568-4968-BA71-5604F9A3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A58-8D8D-4153-B8DB-C145B4B7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85A-B8E2-4FDB-896A-8AA00212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279-80A1-4D12-BE51-91E4948E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1F1-E52C-4916-B73B-830AAAF1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6C5-C7B6-422F-AAAA-388EAA58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4E86-BF8B-4CE8-93E0-7AE99369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CDF-24D3-44F2-B624-572EBF10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BDD-FF19-455A-AA17-4E4477FF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2E00-9391-4A4E-AD86-0C2A79D8770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DFF7-F05B-42BA-A4EF-53930AE9B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42c8"/>
                </a:solidFill>
                <a:latin typeface="Georgia"/>
              </a:rPr>
              <a:t>FONCTIONS AFFIN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1725480" y="2714760"/>
                <a:ext cx="56721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2284560" y="2346480"/>
                <a:ext cx="4554360" cy="19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2363760" y="2714760"/>
                <a:ext cx="43941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1685880" y="2714760"/>
                <a:ext cx="555012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25560" y="1125360"/>
                <a:ext cx="5194080" cy="19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5076720" y="1125360"/>
                <a:ext cx="343548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7"/>
          <p:cNvSpPr/>
          <p:nvPr/>
        </p:nvSpPr>
        <p:spPr>
          <a:xfrm>
            <a:off x="0" y="3141720"/>
            <a:ext cx="9144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1835280" y="5373720"/>
            <a:ext cx="540072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3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2/3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–2/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oneTexte 15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0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      </a:t>
            </a:r>
            <a:r>
              <a:rPr b="0" lang="fr-FR" sz="5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2050920" y="4869000"/>
            <a:ext cx="496908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"/>
              <p:cNvSpPr txBox="1"/>
              <p:nvPr/>
            </p:nvSpPr>
            <p:spPr>
              <a:xfrm>
                <a:off x="-36360" y="1058760"/>
                <a:ext cx="479412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4500720" y="1047600"/>
                <a:ext cx="4120920" cy="20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8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9" descr=""/>
          <p:cNvPicPr/>
          <p:nvPr/>
        </p:nvPicPr>
        <p:blipFill>
          <a:blip r:embed="rId1"/>
          <a:stretch/>
        </p:blipFill>
        <p:spPr>
          <a:xfrm>
            <a:off x="5637240" y="4921200"/>
            <a:ext cx="1166760" cy="160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1087560" y="1230480"/>
                <a:ext cx="69548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2" name="Picture 3" descr=""/>
          <p:cNvPicPr/>
          <p:nvPr/>
        </p:nvPicPr>
        <p:blipFill>
          <a:blip r:embed="rId1"/>
          <a:srcRect l="15616" t="15321" r="15616" b="15321"/>
          <a:stretch/>
        </p:blipFill>
        <p:spPr>
          <a:xfrm>
            <a:off x="5508720" y="3141720"/>
            <a:ext cx="3552840" cy="365112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11"/>
          <p:cNvSpPr/>
          <p:nvPr/>
        </p:nvSpPr>
        <p:spPr>
          <a:xfrm rot="884400">
            <a:off x="667476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1116000" y="1916280"/>
                <a:ext cx="47959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ZoneTexte 7"/>
          <p:cNvSpPr/>
          <p:nvPr/>
        </p:nvSpPr>
        <p:spPr>
          <a:xfrm>
            <a:off x="0" y="3284640"/>
            <a:ext cx="55800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n’est pas de la 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avec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et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deux ré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Représentation graphique de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1725480" y="1557360"/>
                <a:ext cx="56739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8" name="ZoneTexte 11"/>
          <p:cNvSpPr/>
          <p:nvPr/>
        </p:nvSpPr>
        <p:spPr>
          <a:xfrm rot="884400">
            <a:off x="667476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31222" t="0" r="0" b="30633"/>
          <a:stretch/>
        </p:blipFill>
        <p:spPr>
          <a:xfrm>
            <a:off x="5554800" y="3160800"/>
            <a:ext cx="3554280" cy="3652920"/>
          </a:xfrm>
          <a:prstGeom prst="rect">
            <a:avLst/>
          </a:prstGeom>
          <a:ln w="0">
            <a:noFill/>
          </a:ln>
        </p:spPr>
      </p:pic>
      <p:sp>
        <p:nvSpPr>
          <p:cNvPr id="110" name="ZoneTexte 6"/>
          <p:cNvSpPr/>
          <p:nvPr/>
        </p:nvSpPr>
        <p:spPr>
          <a:xfrm>
            <a:off x="0" y="3284640"/>
            <a:ext cx="55800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n’est pas de la 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avec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et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deux réels et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n’est pas définie sur </a:t>
            </a:r>
            <a:r>
              <a:rPr b="0" lang="fr-FR" sz="3200" spc="-1" strike="noStrike">
                <a:solidFill>
                  <a:srgbClr val="0042c8"/>
                </a:solidFill>
                <a:latin typeface="OpenSymbol"/>
                <a:ea typeface="OpenSymbol"/>
              </a:rPr>
              <a:t>ℝ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Représentation graphique de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oneTexte 11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    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    </a:t>
            </a:r>
            <a:r>
              <a:rPr b="0" lang="fr-FR" sz="5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"/>
              <p:cNvSpPr txBox="1"/>
              <p:nvPr/>
            </p:nvSpPr>
            <p:spPr>
              <a:xfrm>
                <a:off x="684360" y="981000"/>
                <a:ext cx="61545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684360" y="1916280"/>
                <a:ext cx="671508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1"/>
          <a:stretch/>
        </p:blipFill>
        <p:spPr>
          <a:xfrm>
            <a:off x="3132000" y="5361120"/>
            <a:ext cx="747720" cy="9475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5724360" y="5300640"/>
            <a:ext cx="1511640" cy="927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1908000" y="5013360"/>
            <a:ext cx="547236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Pour chacune des fonctions proposées, indiquer s’il s’agit d’une fonction affine en répondant par VRAI ou FAUX. 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Si la réponse est vraie, donner le coefficient directeur « </a:t>
            </a:r>
            <a:r>
              <a:rPr b="0" i="1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a</a:t>
            </a: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 » et l’ordonnée à l’origine « </a:t>
            </a:r>
            <a:r>
              <a:rPr b="0" i="1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b</a:t>
            </a:r>
            <a:r>
              <a:rPr b="0" lang="fr-FR" sz="4000" spc="-1" strike="noStrike">
                <a:solidFill>
                  <a:srgbClr val="0042c8"/>
                </a:solidFill>
                <a:latin typeface="Georgia"/>
                <a:ea typeface="Times New Roman"/>
              </a:rPr>
              <a:t> » de la droite représentant la fon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73080" y="836640"/>
                <a:ext cx="68752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88920" y="1557360"/>
                <a:ext cx="8155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79200" y="2492280"/>
                <a:ext cx="5356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ZoneTexte 8"/>
          <p:cNvSpPr/>
          <p:nvPr/>
        </p:nvSpPr>
        <p:spPr>
          <a:xfrm>
            <a:off x="0" y="3357720"/>
            <a:ext cx="9144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7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–2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2268360" y="5229360"/>
            <a:ext cx="460728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oneTexte 11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– 4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 </a:t>
            </a:r>
            <a:r>
              <a:rPr b="0" lang="fr-FR" sz="5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2195640" y="5229360"/>
            <a:ext cx="5184720" cy="107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1725480" y="1052640"/>
                <a:ext cx="56721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6272280" y="5300640"/>
            <a:ext cx="747720" cy="93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1692360" y="1859040"/>
                <a:ext cx="590076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"/>
              <p:cNvSpPr txBox="1"/>
              <p:nvPr/>
            </p:nvSpPr>
            <p:spPr>
              <a:xfrm>
                <a:off x="88920" y="1125360"/>
                <a:ext cx="4554360" cy="19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4518000" y="1125360"/>
                <a:ext cx="2718000" cy="19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ZoneTexte 11"/>
          <p:cNvSpPr/>
          <p:nvPr/>
        </p:nvSpPr>
        <p:spPr>
          <a:xfrm rot="884400">
            <a:off x="667476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rcRect l="15616" t="15321" r="15616" b="15321"/>
          <a:stretch/>
        </p:blipFill>
        <p:spPr>
          <a:xfrm>
            <a:off x="5554800" y="3160800"/>
            <a:ext cx="3554280" cy="3652920"/>
          </a:xfrm>
          <a:prstGeom prst="rect">
            <a:avLst/>
          </a:prstGeom>
          <a:ln w="0">
            <a:noFill/>
          </a:ln>
        </p:spPr>
      </p:pic>
      <p:sp>
        <p:nvSpPr>
          <p:cNvPr id="143" name="ZoneTexte 8"/>
          <p:cNvSpPr/>
          <p:nvPr/>
        </p:nvSpPr>
        <p:spPr>
          <a:xfrm>
            <a:off x="0" y="3284640"/>
            <a:ext cx="55800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n’est pas de la 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avec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et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deux ré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et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n’est pas définie sur </a:t>
            </a:r>
            <a:r>
              <a:rPr b="0" lang="fr-FR" sz="3200" spc="-1" strike="noStrike">
                <a:solidFill>
                  <a:srgbClr val="0042c8"/>
                </a:solidFill>
                <a:latin typeface="OpenSymbol"/>
                <a:ea typeface="OpenSymbol"/>
              </a:rPr>
              <a:t>ℝ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Représentation graphique de </a:t>
            </a:r>
            <a:r>
              <a:rPr b="0" i="1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365200" y="1125360"/>
                <a:ext cx="43959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1781280" y="2133720"/>
                <a:ext cx="5514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ZoneTexte 7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–16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2195640" y="5229360"/>
            <a:ext cx="475272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ZoneTexte 7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          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1908000" y="5229360"/>
            <a:ext cx="525636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1685880" y="1052640"/>
                <a:ext cx="555012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3059280" y="5373720"/>
            <a:ext cx="1788840" cy="919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1106640" y="2077920"/>
                <a:ext cx="67053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2050920" y="5373720"/>
            <a:ext cx="496908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1"/>
          <p:cNvSpPr/>
          <p:nvPr/>
        </p:nvSpPr>
        <p:spPr>
          <a:xfrm rot="884400">
            <a:off x="6674400" y="141120"/>
            <a:ext cx="2592720" cy="1008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34920" y="1060560"/>
                <a:ext cx="4718160" cy="19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ZoneTexte 17"/>
          <p:cNvSpPr/>
          <p:nvPr/>
        </p:nvSpPr>
        <p:spPr>
          <a:xfrm>
            <a:off x="0" y="314172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f 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(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) est de la for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x + b</a:t>
            </a:r>
            <a:r>
              <a:rPr b="0" lang="fr-FR" sz="50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 » 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2 et </a:t>
            </a:r>
            <a:r>
              <a:rPr b="0" i="1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= –2/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"/>
              <p:cNvSpPr txBox="1"/>
              <p:nvPr/>
            </p:nvSpPr>
            <p:spPr>
              <a:xfrm>
                <a:off x="4645080" y="1052640"/>
                <a:ext cx="3598920" cy="19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1965240" y="2346480"/>
                <a:ext cx="5194440" cy="19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2166840" y="2278080"/>
                <a:ext cx="479448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1087560" y="2781360"/>
                <a:ext cx="69548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1725480" y="2714760"/>
                <a:ext cx="567396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1484280" y="2714760"/>
                <a:ext cx="615492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1127160" y="2714760"/>
                <a:ext cx="68752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1-11T21:03:52Z</dcterms:modified>
  <cp:revision>257</cp:revision>
  <dc:subject/>
  <dc:title>Diapositive 0</dc:title>
</cp:coreProperties>
</file>