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6FC1-7B97-4162-9D41-82203794C7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6254-1096-43B9-9761-40F833AE0B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31BB-AE22-4CC4-A234-2D8B8D4F8C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FEA0-C7DB-42E0-84A5-1295C98BA6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9893-C661-4976-BBCA-03DBEED0DE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900C-4AC2-49A6-86FD-80204A92A4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790E-80E5-4F52-949B-4FF8B81910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8482-9D16-4DA5-AE61-570D3546F5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40D0-3C06-4C5E-BD2E-F80E92223D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AA9-446B-439A-8162-90F892600D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9D86-708E-462D-9809-989141099D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7472-CE45-4580-9DC8-E5B09981C2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B7A8-105F-43A8-9666-CCC6E33ABD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8240-9FDA-48FF-A7D8-03BEC46D06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2B40-DE5C-4AC7-9D09-E5A9BF4890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15E3-A671-4AB9-AEB6-05F7F79190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ACE6-F0AD-498C-94F6-CF84FB93DF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9E58-60FD-41EE-A7C0-7836567946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A95A-E1FD-4A59-ACE4-2ED15B9A92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621A-3FBF-4FA8-8A80-A725C850E2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0202-BB4A-4D8A-803C-13D86FF8BA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3C96-1E0B-4DB9-BFD8-3AFE0213E8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00E5-650D-4B2B-BE68-425B888144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204A-5C18-4CEE-BAB1-D045DC8190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0F8E-91BC-4D16-8220-28C8FB5161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2140-0A22-4798-89DC-B8E496B21F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D80-C529-4454-A5BC-496E4AFB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6DB-C419-4BAC-9B19-2039AD78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D9A-2449-4AE4-83E1-51D3CAB7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915-7E78-46F4-B9A2-131772D6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D3D-1080-496E-B325-892BCA34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05C-84D3-4C29-BF29-C15A0182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766-A682-45A9-BFBF-017F68C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E28-492F-47E8-8E2E-4ACB2939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F32-2254-4CC7-832C-CBC48AD7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F12-D767-4BAA-8D6E-F92392F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E8E-5F10-4AD4-908B-CCBF470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0B7-3D06-435D-A2E0-B435BAC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DA22-5BE9-429A-AA06-90B52273B94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F61C-D026-4127-9B56-3381A7BB3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42c8"/>
                </a:solidFill>
                <a:latin typeface="Georgia"/>
              </a:rPr>
              <a:t>FONCTIONS AFFIN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3"/>
          <p:cNvSpPr/>
          <p:nvPr/>
        </p:nvSpPr>
        <p:spPr>
          <a:xfrm>
            <a:off x="0" y="1916280"/>
            <a:ext cx="914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 = 5 e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3) = 10</a:t>
            </a:r>
            <a:r>
              <a:rPr b="0" lang="fr-FR" sz="6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3"/>
          <p:cNvSpPr/>
          <p:nvPr/>
        </p:nvSpPr>
        <p:spPr>
          <a:xfrm>
            <a:off x="0" y="119700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3600360"/>
            <a:ext cx="7585200" cy="221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1258920" y="2754360"/>
                <a:ext cx="6505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9"/>
              <p:cNvSpPr txBox="1"/>
              <p:nvPr/>
            </p:nvSpPr>
            <p:spPr>
              <a:xfrm>
                <a:off x="1185840" y="2492280"/>
                <a:ext cx="691524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9"/>
              <p:cNvSpPr txBox="1"/>
              <p:nvPr/>
            </p:nvSpPr>
            <p:spPr>
              <a:xfrm>
                <a:off x="1798560" y="2158920"/>
                <a:ext cx="57056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5"/>
          <p:cNvSpPr/>
          <p:nvPr/>
        </p:nvSpPr>
        <p:spPr>
          <a:xfrm>
            <a:off x="5435640" y="2133720"/>
            <a:ext cx="1297080" cy="13665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ensées 6"/>
          <p:cNvSpPr/>
          <p:nvPr/>
        </p:nvSpPr>
        <p:spPr>
          <a:xfrm>
            <a:off x="2411280" y="3645000"/>
            <a:ext cx="3024360" cy="1268280"/>
          </a:xfrm>
          <a:prstGeom prst="cloudCallout">
            <a:avLst>
              <a:gd name="adj1" fmla="val 61092"/>
              <a:gd name="adj2" fmla="val -66361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&l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58098" t="0" r="0" b="0"/>
          <a:stretch/>
        </p:blipFill>
        <p:spPr>
          <a:xfrm>
            <a:off x="4284720" y="1152360"/>
            <a:ext cx="4816440" cy="4319640"/>
          </a:xfrm>
          <a:prstGeom prst="rect">
            <a:avLst/>
          </a:prstGeom>
          <a:ln w="0">
            <a:noFill/>
          </a:ln>
        </p:spPr>
      </p:pic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3"/>
          <p:cNvSpPr/>
          <p:nvPr/>
        </p:nvSpPr>
        <p:spPr>
          <a:xfrm>
            <a:off x="0" y="1052640"/>
            <a:ext cx="43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= 3 e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= 4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rcRect l="58098" t="0" r="0" b="0"/>
          <a:stretch/>
        </p:blipFill>
        <p:spPr>
          <a:xfrm>
            <a:off x="4284720" y="1152360"/>
            <a:ext cx="4798800" cy="4303800"/>
          </a:xfrm>
          <a:prstGeom prst="rect">
            <a:avLst/>
          </a:prstGeom>
          <a:ln w="0">
            <a:noFill/>
          </a:ln>
        </p:spPr>
      </p:pic>
      <p:sp>
        <p:nvSpPr>
          <p:cNvPr id="88" name="Pensées 5"/>
          <p:cNvSpPr/>
          <p:nvPr/>
        </p:nvSpPr>
        <p:spPr>
          <a:xfrm>
            <a:off x="0" y="3573360"/>
            <a:ext cx="4788000" cy="1295640"/>
          </a:xfrm>
          <a:prstGeom prst="cloudCallout">
            <a:avLst>
              <a:gd name="adj1" fmla="val 9611"/>
              <a:gd name="adj2" fmla="val -117152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&lt; 3 et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&lt;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1187280"/>
            <a:ext cx="7588440" cy="2219400"/>
          </a:xfrm>
          <a:prstGeom prst="rect">
            <a:avLst/>
          </a:prstGeom>
          <a:ln w="0">
            <a:noFill/>
          </a:ln>
        </p:spPr>
      </p:pic>
      <p:sp>
        <p:nvSpPr>
          <p:cNvPr id="91" name="Pensées 4"/>
          <p:cNvSpPr/>
          <p:nvPr/>
        </p:nvSpPr>
        <p:spPr>
          <a:xfrm>
            <a:off x="468360" y="3860640"/>
            <a:ext cx="8280360" cy="1440000"/>
          </a:xfrm>
          <a:prstGeom prst="cloudCallout">
            <a:avLst>
              <a:gd name="adj1" fmla="val 2564"/>
              <a:gd name="adj2" fmla="val -81879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affine : négative puis positi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4591080" y="1413000"/>
                <a:ext cx="354024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9"/>
              <p:cNvSpPr txBox="1"/>
              <p:nvPr/>
            </p:nvSpPr>
            <p:spPr>
              <a:xfrm>
                <a:off x="119160" y="1413000"/>
                <a:ext cx="469404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lipse 4"/>
          <p:cNvSpPr/>
          <p:nvPr/>
        </p:nvSpPr>
        <p:spPr>
          <a:xfrm>
            <a:off x="5219640" y="1557360"/>
            <a:ext cx="865080" cy="19429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sées 5"/>
          <p:cNvSpPr/>
          <p:nvPr/>
        </p:nvSpPr>
        <p:spPr>
          <a:xfrm>
            <a:off x="1692360" y="3933720"/>
            <a:ext cx="3671640" cy="1268640"/>
          </a:xfrm>
          <a:prstGeom prst="cloudCallout">
            <a:avLst>
              <a:gd name="adj1" fmla="val 53777"/>
              <a:gd name="adj2" fmla="val -89611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 &g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1187280"/>
            <a:ext cx="7585200" cy="221940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ensées 8"/>
          <p:cNvSpPr/>
          <p:nvPr/>
        </p:nvSpPr>
        <p:spPr>
          <a:xfrm>
            <a:off x="468360" y="3860640"/>
            <a:ext cx="8280360" cy="1440000"/>
          </a:xfrm>
          <a:prstGeom prst="cloudCallout">
            <a:avLst>
              <a:gd name="adj1" fmla="val 2564"/>
              <a:gd name="adj2" fmla="val -81879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affine : positive puis négati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Déterminer le sens de variation </a:t>
            </a:r>
            <a:r>
              <a:rPr b="1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des fonctions affines</a:t>
            </a: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 suivant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9"/>
              <p:cNvSpPr txBox="1"/>
              <p:nvPr/>
            </p:nvSpPr>
            <p:spPr>
              <a:xfrm>
                <a:off x="512640" y="1341360"/>
                <a:ext cx="79470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549360" y="2590920"/>
                <a:ext cx="632628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539640" y="3965400"/>
                <a:ext cx="29307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onst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3"/>
          <p:cNvSpPr/>
          <p:nvPr/>
        </p:nvSpPr>
        <p:spPr>
          <a:xfrm>
            <a:off x="0" y="1052640"/>
            <a:ext cx="435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 = 5 e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3) = 10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rcRect l="67093" t="0" r="0" b="4188"/>
          <a:stretch/>
        </p:blipFill>
        <p:spPr>
          <a:xfrm>
            <a:off x="5364000" y="900000"/>
            <a:ext cx="3600720" cy="438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rcRect l="67085" t="0" r="0" b="4188"/>
          <a:stretch/>
        </p:blipFill>
        <p:spPr>
          <a:xfrm>
            <a:off x="5364000" y="900000"/>
            <a:ext cx="3621240" cy="4415040"/>
          </a:xfrm>
          <a:prstGeom prst="rect">
            <a:avLst/>
          </a:prstGeom>
          <a:ln w="0">
            <a:noFill/>
          </a:ln>
        </p:spPr>
      </p:pic>
      <p:sp>
        <p:nvSpPr>
          <p:cNvPr id="113" name="Pensées 5"/>
          <p:cNvSpPr/>
          <p:nvPr/>
        </p:nvSpPr>
        <p:spPr>
          <a:xfrm>
            <a:off x="0" y="3429000"/>
            <a:ext cx="6084720" cy="1152360"/>
          </a:xfrm>
          <a:prstGeom prst="cloudCallout">
            <a:avLst>
              <a:gd name="adj1" fmla="val -3416"/>
              <a:gd name="adj2" fmla="val -131263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&lt; 0 et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– 3) &gt;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1187280"/>
            <a:ext cx="7585200" cy="221940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sées 7"/>
          <p:cNvSpPr/>
          <p:nvPr/>
        </p:nvSpPr>
        <p:spPr>
          <a:xfrm>
            <a:off x="468360" y="3860640"/>
            <a:ext cx="8280360" cy="1440000"/>
          </a:xfrm>
          <a:prstGeom prst="cloudCallout">
            <a:avLst>
              <a:gd name="adj1" fmla="val 2564"/>
              <a:gd name="adj2" fmla="val -81879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affine : négative puis positiv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1258920" y="1938240"/>
                <a:ext cx="6505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4"/>
          <p:cNvSpPr/>
          <p:nvPr/>
        </p:nvSpPr>
        <p:spPr>
          <a:xfrm>
            <a:off x="4284720" y="1844640"/>
            <a:ext cx="2735280" cy="16556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ensées 5"/>
          <p:cNvSpPr/>
          <p:nvPr/>
        </p:nvSpPr>
        <p:spPr>
          <a:xfrm>
            <a:off x="1979640" y="3860640"/>
            <a:ext cx="4032360" cy="1268640"/>
          </a:xfrm>
          <a:prstGeom prst="cloudCallout">
            <a:avLst>
              <a:gd name="adj1" fmla="val 47194"/>
              <a:gd name="adj2" fmla="val -73337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&g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9"/>
              <p:cNvSpPr txBox="1"/>
              <p:nvPr/>
            </p:nvSpPr>
            <p:spPr>
              <a:xfrm>
                <a:off x="609480" y="1797120"/>
                <a:ext cx="780588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ZoneTexte 11"/>
          <p:cNvSpPr/>
          <p:nvPr/>
        </p:nvSpPr>
        <p:spPr>
          <a:xfrm>
            <a:off x="468360" y="544500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dé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4"/>
          <p:cNvSpPr/>
          <p:nvPr/>
        </p:nvSpPr>
        <p:spPr>
          <a:xfrm>
            <a:off x="3851280" y="1844640"/>
            <a:ext cx="3816360" cy="18003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ensées 5"/>
          <p:cNvSpPr/>
          <p:nvPr/>
        </p:nvSpPr>
        <p:spPr>
          <a:xfrm>
            <a:off x="1692360" y="4032360"/>
            <a:ext cx="4319640" cy="1268280"/>
          </a:xfrm>
          <a:prstGeom prst="cloudCallout">
            <a:avLst>
              <a:gd name="adj1" fmla="val 47194"/>
              <a:gd name="adj2" fmla="val -73337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OpenSymbol"/>
                <a:ea typeface="OpenSymbol"/>
              </a:rPr>
              <a:t>√</a:t>
            </a:r>
            <a:r>
              <a:rPr b="0" lang="fr-FR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5 &lt; 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necteur droit 6"/>
          <p:cNvSpPr/>
          <p:nvPr/>
        </p:nvSpPr>
        <p:spPr>
          <a:xfrm>
            <a:off x="2735280" y="4356000"/>
            <a:ext cx="39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1"/>
          <p:cNvSpPr/>
          <p:nvPr/>
        </p:nvSpPr>
        <p:spPr>
          <a:xfrm>
            <a:off x="468360" y="5726160"/>
            <a:ext cx="820728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croissante sur </a:t>
            </a:r>
            <a:r>
              <a:rPr b="0" lang="fr-FR" sz="6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ℝ</a:t>
            </a: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63380" t="0" r="0" b="5500"/>
          <a:stretch/>
        </p:blipFill>
        <p:spPr>
          <a:xfrm>
            <a:off x="2268360" y="1157400"/>
            <a:ext cx="4643640" cy="45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9"/>
              <p:cNvSpPr txBox="1"/>
              <p:nvPr/>
            </p:nvSpPr>
            <p:spPr>
              <a:xfrm>
                <a:off x="1741320" y="2754360"/>
                <a:ext cx="5705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3"/>
          <p:cNvSpPr/>
          <p:nvPr/>
        </p:nvSpPr>
        <p:spPr>
          <a:xfrm>
            <a:off x="0" y="1916280"/>
            <a:ext cx="9144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= 3 e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= 4</a:t>
            </a:r>
            <a:r>
              <a:rPr b="0" lang="fr-FR" sz="6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3"/>
          <p:cNvSpPr/>
          <p:nvPr/>
        </p:nvSpPr>
        <p:spPr>
          <a:xfrm>
            <a:off x="0" y="119700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3600360"/>
            <a:ext cx="7588440" cy="221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1606680" y="2093760"/>
                <a:ext cx="5929200" cy="274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3"/>
          <p:cNvSpPr/>
          <p:nvPr/>
        </p:nvSpPr>
        <p:spPr>
          <a:xfrm>
            <a:off x="0" y="119700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une fonction affine telle que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3030" t="9601" r="15471" b="47975"/>
          <a:stretch/>
        </p:blipFill>
        <p:spPr>
          <a:xfrm>
            <a:off x="792000" y="3600360"/>
            <a:ext cx="7585200" cy="221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9"/>
              <p:cNvSpPr txBox="1"/>
              <p:nvPr/>
            </p:nvSpPr>
            <p:spPr>
              <a:xfrm>
                <a:off x="512640" y="2637000"/>
                <a:ext cx="79470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4-26T16:52:37Z</dcterms:modified>
  <cp:revision>262</cp:revision>
  <dc:subject/>
  <dc:title>Diapositive 0</dc:title>
</cp:coreProperties>
</file>