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66C0-3CF9-4EF0-ACAA-A3DCC5B752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F2E6-3D20-4FC8-ADBE-EF590CC843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42A-14F0-41A4-BD17-0B366815B2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358C-18E1-445D-A119-B7CD79736D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A09-AB1D-4601-918B-8C828B8235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F22E-5107-4D88-9EA1-99FE65118E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E35-D839-4F21-AD1E-58C66D8600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D533-20C2-4E6F-90FF-9FD651D622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A66-C9A1-46E4-8745-B0303CCBE4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A9B-8362-4149-85FC-B10D378A1B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918-D4D6-4D71-89E0-62549F9225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D005-F9BA-4059-8CDA-062E19B011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4C5-E1E9-4452-8134-3B3F3DE055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B792-2FF1-4ED4-845F-E89ECA6AD4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EE61-9EC4-4234-97A4-E2DF6CD319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5E3-B89D-4CA4-B202-6532D32B74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0B2-6CBF-4AC4-9B86-22D416D56A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FF74-EFB3-44A4-8D31-9623F904EF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AD75-3256-4AF1-89CE-4DB6E40FAE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AAA7-5F07-4E89-A9B7-55DBA9AD08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0EF0-51B4-41D7-B180-1617C6CFD0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EEC-B866-4FFD-98B6-442D2466EB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E455-8BB7-4005-BB31-91E61EFC60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ABDF-F75B-4F84-A1B3-5A084CDE9E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C64B-2A12-4EB6-8CFE-8DF52FCF60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B2B-A1E2-44A2-92B3-299AC5715D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3AC-E7A7-4010-8EA4-78F4EEF4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9B4-6A06-4B81-B854-349281BC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14B-2A4D-4B79-9511-68C827F4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09B-D66D-49C6-BEC3-175B7A52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900-E6CA-4D20-B0C3-E8DDC20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06E-5682-4B9E-AF6F-A680BA1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CF8-1AED-4CF7-884F-F3C9393A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37A-2405-486D-B73D-C441FB76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4D8-0666-4D75-8E13-844F411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473-EE9D-456C-85EF-5293B28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9FB-59F7-4199-8584-68D963E5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4F6-DA24-4817-BDCA-076875C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64DD-D4BC-40CC-9A0B-597F2281ED8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E01-F5D5-4557-A6A7-D1536A09D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NOTION DE FONCTION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 4" descr="FctOuPasFct7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4" descr="FctOuPasFct8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5" descr="FctOuPasFct9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4" descr="FctOuPasFct10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10" descr="FctOuPasFct1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75" name="Ellipse 3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5" descr="FctOuPasFct2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78" name="Ellipse 3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4" descr="FctOuPasFct3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1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4" descr="FctOuPasFct4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4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FctOuPasFct5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87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à coins arrondis 4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FONCTION OU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PAS FONCTION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4" descr="FctOuPasFct6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0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4" descr="FctOuPasFct7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3" name="Ellipse 5"/>
          <p:cNvSpPr/>
          <p:nvPr/>
        </p:nvSpPr>
        <p:spPr>
          <a:xfrm rot="20611200">
            <a:off x="358920" y="3003120"/>
            <a:ext cx="2752560" cy="1152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 4" descr="FctOuPasFct8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6" name="Ellipse 5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 5" descr="FctOuPasFct9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99" name="Ellipse 4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4" descr="FctOuPasFct10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  <p:sp>
        <p:nvSpPr>
          <p:cNvPr id="102" name="Ellipse 6"/>
          <p:cNvSpPr/>
          <p:nvPr/>
        </p:nvSpPr>
        <p:spPr>
          <a:xfrm rot="20611200">
            <a:off x="358560" y="1425240"/>
            <a:ext cx="275256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as fo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Arial"/>
              </a:rPr>
              <a:t>P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our chaque courbe, dire si elle correspond à la représentation graphique d’une fonction ou non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10" descr="FctOuPasFct1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5" descr="FctOuPasFct2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4" descr="FctOuPasFct3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4" descr="FctOuPasFct4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4" descr="FctOuPasFct5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4" descr="FctOuPasFct6.jpg"/>
          <p:cNvPicPr/>
          <p:nvPr/>
        </p:nvPicPr>
        <p:blipFill>
          <a:blip r:embed="rId1"/>
          <a:stretch/>
        </p:blipFill>
        <p:spPr>
          <a:xfrm>
            <a:off x="1343160" y="1434960"/>
            <a:ext cx="6457680" cy="465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Xavier Malbert</dc:creator>
  <dc:description/>
  <dc:language>en-US</dc:language>
  <cp:lastModifiedBy>Marielle Séguy</cp:lastModifiedBy>
  <dcterms:modified xsi:type="dcterms:W3CDTF">2015-04-23T09:45:17Z</dcterms:modified>
  <cp:revision>263</cp:revision>
  <dc:subject/>
  <dc:title>Fonction ou Pas fonction</dc:title>
</cp:coreProperties>
</file>