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C665-EBF0-459D-9EF5-0B1AE14EBA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7C59-1158-430C-9263-E640D0F867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4F82-3F7B-4542-960B-67BB15A202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6962-1A42-493A-8749-FA850020FE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FEB3-AD0F-4A0C-B6DD-36961AD04A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29BB-59C8-4A64-A3E2-827F2A47A3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4B03-FE46-42C0-8433-E7B4999279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5366-453C-46D6-B87C-DF013AB090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F411-35C6-44B6-91A4-10A0F954CA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E419-22EB-4597-8043-30965DE011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B5FC-F2B4-4417-B6BD-8B46454FFE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17AB-22FE-4E22-B501-49DA6A6635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379B-F28B-420B-85F7-E9CC18E55F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7A2F-CAAA-457F-887B-30517847C3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4425-C317-4412-9C51-24F25B17F9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04D4-9C4E-4FC9-BFB0-CC2F762DC2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6CF5-6582-458D-92EE-5C759421C6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A28A-D0FD-47B8-AAB6-65D659A57A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E95B-17BD-4017-86A0-8E396C9162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5E08-AB77-489F-98A2-2A2B94B0D2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D1D3-920D-4BC2-9EF0-6F748235AE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B5DE-FC30-418F-B966-1EAC186357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8736-700C-4D6B-A5B7-DD18438A84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C16C-8C8E-4D10-B54B-F2068970C9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FCFD-FCAB-4B75-8DA3-33B560A7BE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704A-2115-40F9-9BED-2B93B3D178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E82-4A4E-4754-A51B-233D38C8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1575-AD3E-4E51-B45F-4D5C6DA8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2E8-D6DE-4476-85BB-7CFA7A89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075-84B1-4DEA-A937-226178BD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9A85-2CD0-47EE-AC23-16FDF8E4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3DE8-03AF-4234-B8DE-9608DBC0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D3BA-F45C-4EF2-A07A-2C34A3C6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C57A-22E6-40B2-97CA-377050A0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13C5-DAB5-4F64-BD31-ABF01DDB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5F29-6F28-4107-A15C-E03FE41F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CACB-027F-4713-8E94-B5E539F5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B8F-E19C-49D9-9E08-CCF98A3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8E54-6697-4AC1-BBB4-9D9B9F23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75BA-EB93-4A78-B05F-7A63662C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FB3F-D38C-486F-90A9-6CCF69D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FCC6-F581-4414-A856-5AEDF527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ADAC-7F89-4061-B37E-EB0A66BC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0F3-D5C1-49B1-9638-9A2E0A17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6D1-EA6A-4423-948A-A20045AA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4F6-E169-4264-B013-01B3E9D9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513-FCCE-4EBF-91F7-B9817967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4EA-672F-4E42-B015-B28CB27B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8F7-CFCA-4BF4-A34B-46DAD7FD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E11-D192-4E90-B93A-23E241BB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3558-B48E-4B22-B12D-5012A22BC4A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EA7C-3371-40EA-8699-0D083EB14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1154-BC42-4F84-96A8-04E307D1173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01CE-05E7-447B-B473-66209560F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oneTexte 11"/>
          <p:cNvSpPr/>
          <p:nvPr/>
        </p:nvSpPr>
        <p:spPr>
          <a:xfrm>
            <a:off x="0" y="53737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≤ 3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259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260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261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2" name="Ellipse 36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Ellipse 37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Ellipse 39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Ellipse 40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Ellipse 42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Ellipse 43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Ellipse 34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272" name="Rectangle 31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Connecteur droit 32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275" name="Rectangle 29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Connecteur droit 30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ZoneTexte 11"/>
          <p:cNvSpPr/>
          <p:nvPr/>
        </p:nvSpPr>
        <p:spPr>
          <a:xfrm>
            <a:off x="0" y="5373720"/>
            <a:ext cx="918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≥ –2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280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281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282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Ellipse 36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Ellipse 37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Ellipse 39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Ellipse 40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Ellipse 42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Ellipse 43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Ellipse 34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293" name="Rectangle 31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Connecteur droit 32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296" name="Rectangle 29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Connecteur droit 30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ZoneTexte 11"/>
          <p:cNvSpPr/>
          <p:nvPr/>
        </p:nvSpPr>
        <p:spPr>
          <a:xfrm>
            <a:off x="0" y="53737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&lt; 3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301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302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303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4" name="Ellipse 27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Ellipse 28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Ellipse 30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Ellipse 32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Ellipse 42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Ellipse 43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Ellipse 25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314" name="Rectangle 22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Connecteur droit 23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317" name="Rectangle 20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Connecteur droit 21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ZoneTexte 11"/>
          <p:cNvSpPr/>
          <p:nvPr/>
        </p:nvSpPr>
        <p:spPr>
          <a:xfrm>
            <a:off x="0" y="5373720"/>
            <a:ext cx="918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&lt; –3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322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323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324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Ellipse 36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Ellipse 37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Ellipse 39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Ellipse 40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Ellipse 42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Ellipse 43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Ellipse 34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335" name="Rectangle 31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Connecteur droit 32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338" name="Rectangle 29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Connecteur droit 30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e 65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342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343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Ellipse 74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Ellipse 75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Ellipse 76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Ellipse 77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Ellipse 78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Ellipse 79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Ellipse 80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Ellipse 81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Ellipse 82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354" name="Rectangle 71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Connecteur droit 72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357" name="Rectangle 69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Connecteur droit 70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ZoneTexte 11"/>
          <p:cNvSpPr/>
          <p:nvPr/>
        </p:nvSpPr>
        <p:spPr>
          <a:xfrm>
            <a:off x="0" y="51800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6]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11"/>
          <p:cNvSpPr/>
          <p:nvPr/>
        </p:nvSpPr>
        <p:spPr>
          <a:xfrm>
            <a:off x="0" y="56610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7 ; 6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deux solutions 1 et 5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Connecteur droit avec flèche 10"/>
          <p:cNvCxnSpPr/>
          <p:nvPr/>
        </p:nvCxnSpPr>
        <p:spPr>
          <a:xfrm flipH="1">
            <a:off x="1978920" y="3095280"/>
            <a:ext cx="28105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62" name="Connecteur droit avec flèche 13"/>
          <p:cNvCxnSpPr/>
          <p:nvPr/>
        </p:nvCxnSpPr>
        <p:spPr>
          <a:xfrm flipV="1">
            <a:off x="4788000" y="3095280"/>
            <a:ext cx="2448720" cy="86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63" name="Connecteur droit 17"/>
          <p:cNvSpPr/>
          <p:nvPr/>
        </p:nvSpPr>
        <p:spPr>
          <a:xfrm>
            <a:off x="5202360" y="2924280"/>
            <a:ext cx="0" cy="2887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onnecteur droit 18"/>
          <p:cNvSpPr/>
          <p:nvPr/>
        </p:nvSpPr>
        <p:spPr>
          <a:xfrm>
            <a:off x="6804000" y="2924280"/>
            <a:ext cx="0" cy="2887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e 47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367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368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Ellipse 56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Ellipse 57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Ellipse 58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Ellipse 59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Ellipse 60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Ellipse 61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Ellipse 62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Ellipse 63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Ellipse 64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379" name="Rectangle 53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Connecteur droit 54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382" name="Rectangle 51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Connecteur droit 52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ZoneTexte 11"/>
          <p:cNvSpPr/>
          <p:nvPr/>
        </p:nvSpPr>
        <p:spPr>
          <a:xfrm>
            <a:off x="0" y="5229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3 ; 0]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–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11"/>
          <p:cNvSpPr/>
          <p:nvPr/>
        </p:nvSpPr>
        <p:spPr>
          <a:xfrm>
            <a:off x="0" y="5732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3 ; 0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–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une solution –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Connecteur droit avec flèche 11"/>
          <p:cNvCxnSpPr/>
          <p:nvPr/>
        </p:nvCxnSpPr>
        <p:spPr>
          <a:xfrm flipH="1">
            <a:off x="3563640" y="3860280"/>
            <a:ext cx="12261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87" name="Connecteur droit avec flèche 17"/>
          <p:cNvCxnSpPr/>
          <p:nvPr/>
        </p:nvCxnSpPr>
        <p:spPr>
          <a:xfrm flipV="1">
            <a:off x="3995280" y="3068280"/>
            <a:ext cx="1080" cy="7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e 44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390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391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Ellipse 53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Ellipse 54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Ellipse 55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Ellipse 56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Ellipse 57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Ellipse 58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Ellipse 59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Ellipse 60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Ellipse 61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402" name="Rectangle 50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Connecteur droit 51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405" name="Rectangle 48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Connecteur droit 49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ZoneTexte 11"/>
          <p:cNvSpPr/>
          <p:nvPr/>
        </p:nvSpPr>
        <p:spPr>
          <a:xfrm>
            <a:off x="0" y="5229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0]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–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11"/>
          <p:cNvSpPr/>
          <p:nvPr/>
        </p:nvSpPr>
        <p:spPr>
          <a:xfrm>
            <a:off x="0" y="5732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7 ; 0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–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deux solutions –3 et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Connecteur droit avec flèche 10"/>
          <p:cNvCxnSpPr/>
          <p:nvPr/>
        </p:nvCxnSpPr>
        <p:spPr>
          <a:xfrm flipH="1">
            <a:off x="1978920" y="3492000"/>
            <a:ext cx="28105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10" name="Connecteur droit avec flèche 12"/>
          <p:cNvCxnSpPr/>
          <p:nvPr/>
        </p:nvCxnSpPr>
        <p:spPr>
          <a:xfrm flipV="1">
            <a:off x="3600000" y="306000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11" name="Connecteur droit avec flèche 18"/>
          <p:cNvCxnSpPr/>
          <p:nvPr/>
        </p:nvCxnSpPr>
        <p:spPr>
          <a:xfrm flipV="1">
            <a:off x="4787640" y="306000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e 44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414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415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Ellipse 53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Ellipse 54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Ellipse 55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Ellipse 56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Ellipse 57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Ellipse 58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Ellipse 59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Ellipse 60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Ellipse 61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426" name="Rectangle 50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Connecteur droit 51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429" name="Rectangle 48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Connecteur droit 49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ZoneTexte 11"/>
          <p:cNvSpPr/>
          <p:nvPr/>
        </p:nvSpPr>
        <p:spPr>
          <a:xfrm>
            <a:off x="0" y="51800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–7 ; 6] combien de solutions a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1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oneTexte 11"/>
          <p:cNvSpPr/>
          <p:nvPr/>
        </p:nvSpPr>
        <p:spPr>
          <a:xfrm>
            <a:off x="0" y="5732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7 ; 6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deux sol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Connecteur droit avec flèche 8"/>
          <p:cNvCxnSpPr/>
          <p:nvPr/>
        </p:nvCxnSpPr>
        <p:spPr>
          <a:xfrm flipH="1">
            <a:off x="1978920" y="2707920"/>
            <a:ext cx="28105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34" name="Connecteur droit avec flèche 11"/>
          <p:cNvCxnSpPr/>
          <p:nvPr/>
        </p:nvCxnSpPr>
        <p:spPr>
          <a:xfrm>
            <a:off x="4789440" y="2707920"/>
            <a:ext cx="24472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35" name="Connecteur droit avec flèche 20"/>
          <p:cNvCxnSpPr/>
          <p:nvPr/>
        </p:nvCxnSpPr>
        <p:spPr>
          <a:xfrm flipH="1">
            <a:off x="5508000" y="2707920"/>
            <a:ext cx="1080" cy="36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36" name="Connecteur droit avec flèche 21"/>
          <p:cNvCxnSpPr/>
          <p:nvPr/>
        </p:nvCxnSpPr>
        <p:spPr>
          <a:xfrm flipH="1">
            <a:off x="6587280" y="2707920"/>
            <a:ext cx="1080" cy="36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3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e 47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439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440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Ellipse 56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Ellipse 57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Ellipse 58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Ellipse 59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Ellipse 60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Ellipse 61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Ellipse 62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Ellipse 63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Ellipse 64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451" name="Rectangle 53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Connecteur droit 54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454" name="Rectangle 51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onnecteur droit 52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ZoneTexte 11"/>
          <p:cNvSpPr/>
          <p:nvPr/>
        </p:nvSpPr>
        <p:spPr>
          <a:xfrm>
            <a:off x="0" y="5229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6] l’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4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1"/>
          <p:cNvSpPr/>
          <p:nvPr/>
        </p:nvSpPr>
        <p:spPr>
          <a:xfrm>
            <a:off x="0" y="5732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-7 ; 6] l’équation 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’a aucune s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Connecteur droit avec flèche 7"/>
          <p:cNvCxnSpPr/>
          <p:nvPr/>
        </p:nvCxnSpPr>
        <p:spPr>
          <a:xfrm flipH="1">
            <a:off x="1978920" y="1483920"/>
            <a:ext cx="28105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59" name="Connecteur droit avec flèche 8"/>
          <p:cNvCxnSpPr/>
          <p:nvPr/>
        </p:nvCxnSpPr>
        <p:spPr>
          <a:xfrm>
            <a:off x="4789440" y="1483920"/>
            <a:ext cx="24472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6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e 27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92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93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Ellipse 8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Ellipse 9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Ellipse 11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Ellipse 13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Ellipse 14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Ellipse 15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Ellipse 16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Ellipse 17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Ellipse 18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04" name="Rectangle 19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Connecteur droit 21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07" name="Rectangle 24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Connecteur droit 25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les équations proposé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re 1"/>
          <p:cNvSpPr/>
          <p:nvPr/>
        </p:nvSpPr>
        <p:spPr>
          <a:xfrm>
            <a:off x="0" y="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Voici la représentation graphique d’une fonction </a:t>
            </a:r>
            <a:r>
              <a:rPr b="0" i="1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f </a:t>
            </a: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définie sur [–7 ; 6]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e 21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462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463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464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Ellipse 42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Ellipse 43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Ellipse 45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Ellipse 46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Ellipse 47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Ellipse 48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Ellipse 49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Ellipse 40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475" name="Rectangle 37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Connecteur droit 38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478" name="Rectangle 27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Connecteur droit 36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ZoneTexte 11"/>
          <p:cNvSpPr/>
          <p:nvPr/>
        </p:nvSpPr>
        <p:spPr>
          <a:xfrm>
            <a:off x="0" y="52671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≥ 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oneTexte 11"/>
          <p:cNvSpPr/>
          <p:nvPr/>
        </p:nvSpPr>
        <p:spPr>
          <a:xfrm>
            <a:off x="0" y="5732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ensemble des solutions est [– 4 ; 0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onnecteur droit 11"/>
          <p:cNvSpPr/>
          <p:nvPr/>
        </p:nvSpPr>
        <p:spPr>
          <a:xfrm flipH="1">
            <a:off x="2771280" y="2852640"/>
            <a:ext cx="1729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onnecteur droit 16"/>
          <p:cNvSpPr/>
          <p:nvPr/>
        </p:nvSpPr>
        <p:spPr>
          <a:xfrm flipH="1">
            <a:off x="2771280" y="3284640"/>
            <a:ext cx="1729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Connecteur droit avec flèche 9"/>
          <p:cNvCxnSpPr/>
          <p:nvPr/>
        </p:nvCxnSpPr>
        <p:spPr>
          <a:xfrm flipH="1">
            <a:off x="2770920" y="2923920"/>
            <a:ext cx="1080" cy="36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85" name="Connecteur droit avec flèche 10"/>
          <p:cNvCxnSpPr/>
          <p:nvPr/>
        </p:nvCxnSpPr>
        <p:spPr>
          <a:xfrm flipH="1">
            <a:off x="4500000" y="2925360"/>
            <a:ext cx="1080" cy="3596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86" name="Connecteur droit avec flèche 12"/>
          <p:cNvCxnSpPr/>
          <p:nvPr/>
        </p:nvCxnSpPr>
        <p:spPr>
          <a:xfrm flipV="1">
            <a:off x="4500360" y="1628280"/>
            <a:ext cx="1080" cy="1224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8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e 50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489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490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491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Ellipse 61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Ellipse 62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Ellipse 64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Ellipse 65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Ellipse 66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Ellipse 67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Ellipse 68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Ellipse 59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502" name="Rectangle 56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Connecteur droit 57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505" name="Rectangle 54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Connecteur droit 55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ZoneTexte 11"/>
          <p:cNvSpPr/>
          <p:nvPr/>
        </p:nvSpPr>
        <p:spPr>
          <a:xfrm>
            <a:off x="0" y="52513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≤ 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ZoneTexte 11"/>
          <p:cNvSpPr/>
          <p:nvPr/>
        </p:nvSpPr>
        <p:spPr>
          <a:xfrm>
            <a:off x="0" y="5732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ensemble des solutions est [– 4 ; 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onnecteur droit 7"/>
          <p:cNvSpPr/>
          <p:nvPr/>
        </p:nvSpPr>
        <p:spPr>
          <a:xfrm flipH="1">
            <a:off x="2771280" y="1962000"/>
            <a:ext cx="4753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onnecteur droit 8"/>
          <p:cNvSpPr/>
          <p:nvPr/>
        </p:nvSpPr>
        <p:spPr>
          <a:xfrm flipH="1">
            <a:off x="2771280" y="3284640"/>
            <a:ext cx="4753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Connecteur droit avec flèche 9"/>
          <p:cNvCxnSpPr/>
          <p:nvPr/>
        </p:nvCxnSpPr>
        <p:spPr>
          <a:xfrm>
            <a:off x="4500360" y="1988640"/>
            <a:ext cx="1080" cy="30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12" name="Connecteur droit avec flèche 11"/>
          <p:cNvCxnSpPr/>
          <p:nvPr/>
        </p:nvCxnSpPr>
        <p:spPr>
          <a:xfrm>
            <a:off x="2771280" y="1988640"/>
            <a:ext cx="1080" cy="12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13" name="Connecteur droit avec flèche 13"/>
          <p:cNvCxnSpPr/>
          <p:nvPr/>
        </p:nvCxnSpPr>
        <p:spPr>
          <a:xfrm>
            <a:off x="7524360" y="1988640"/>
            <a:ext cx="1080" cy="12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1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e 24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516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517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518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9" name="Ellipse 48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Ellipse 49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Ellipse 51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Ellipse 52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Ellipse 53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Ellipse 54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Ellipse 55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Ellipse 46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529" name="Rectangle 43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Connecteur droit 44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532" name="Rectangle 39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Connecteur droit 41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ZoneTexte 11"/>
          <p:cNvSpPr/>
          <p:nvPr/>
        </p:nvSpPr>
        <p:spPr>
          <a:xfrm>
            <a:off x="-36360" y="5300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≥ –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ZoneTexte 11"/>
          <p:cNvSpPr/>
          <p:nvPr/>
        </p:nvSpPr>
        <p:spPr>
          <a:xfrm>
            <a:off x="0" y="57834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ensemble des solutions est [– 4 ; 1]</a:t>
            </a:r>
            <a:r>
              <a:rPr b="0" lang="fr-FR" sz="3000" spc="-1" strike="noStrike">
                <a:solidFill>
                  <a:srgbClr val="00b050"/>
                </a:solidFill>
                <a:latin typeface="Arial"/>
              </a:rPr>
              <a:t>∪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[4 ; 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Connecteur droit 7"/>
          <p:cNvSpPr/>
          <p:nvPr/>
        </p:nvSpPr>
        <p:spPr>
          <a:xfrm flipH="1">
            <a:off x="2771280" y="4194000"/>
            <a:ext cx="4753080" cy="97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onnecteur droit 8"/>
          <p:cNvSpPr/>
          <p:nvPr/>
        </p:nvSpPr>
        <p:spPr>
          <a:xfrm flipH="1">
            <a:off x="2771640" y="3284640"/>
            <a:ext cx="216072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Connecteur droit avec flèche 9"/>
          <p:cNvCxnSpPr/>
          <p:nvPr/>
        </p:nvCxnSpPr>
        <p:spPr>
          <a:xfrm flipH="1" flipV="1">
            <a:off x="4500000" y="1699920"/>
            <a:ext cx="1080" cy="2521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39" name="Connecteur droit avec flèche 13"/>
          <p:cNvCxnSpPr/>
          <p:nvPr/>
        </p:nvCxnSpPr>
        <p:spPr>
          <a:xfrm flipV="1">
            <a:off x="4932000" y="3283920"/>
            <a:ext cx="1080" cy="93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40" name="Connecteur droit avec flèche 15"/>
          <p:cNvCxnSpPr/>
          <p:nvPr/>
        </p:nvCxnSpPr>
        <p:spPr>
          <a:xfrm flipV="1">
            <a:off x="6227280" y="3283920"/>
            <a:ext cx="1080" cy="93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41" name="Connecteur droit avec flèche 38"/>
          <p:cNvCxnSpPr/>
          <p:nvPr/>
        </p:nvCxnSpPr>
        <p:spPr>
          <a:xfrm flipV="1">
            <a:off x="2771280" y="3283920"/>
            <a:ext cx="1080" cy="93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42" name="Connecteur droit avec flèche 40"/>
          <p:cNvCxnSpPr/>
          <p:nvPr/>
        </p:nvCxnSpPr>
        <p:spPr>
          <a:xfrm flipV="1">
            <a:off x="7524360" y="3283920"/>
            <a:ext cx="1080" cy="93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43" name="Connecteur droit 42"/>
          <p:cNvSpPr/>
          <p:nvPr/>
        </p:nvSpPr>
        <p:spPr>
          <a:xfrm flipH="1">
            <a:off x="6227280" y="3284640"/>
            <a:ext cx="1297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e 23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546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547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548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9" name="Ellipse 35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Ellipse 36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Ellipse 38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Ellipse 39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Ellipse 41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Ellipse 50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Ellipse 51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Ellipse 33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559" name="Rectangle 30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Connecteur droit 31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562" name="Rectangle 28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Connecteur droit 29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ZoneTexte 11"/>
          <p:cNvSpPr/>
          <p:nvPr/>
        </p:nvSpPr>
        <p:spPr>
          <a:xfrm>
            <a:off x="0" y="5300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&lt; 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ZoneTexte 11"/>
          <p:cNvSpPr/>
          <p:nvPr/>
        </p:nvSpPr>
        <p:spPr>
          <a:xfrm>
            <a:off x="0" y="5732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ensemble des solutions est [– 4 ; –1[</a:t>
            </a:r>
            <a:r>
              <a:rPr b="0" lang="fr-FR" sz="3000" spc="-1" strike="noStrike">
                <a:solidFill>
                  <a:srgbClr val="00b050"/>
                </a:solidFill>
                <a:latin typeface="Calibri"/>
              </a:rPr>
              <a:t>∪</a:t>
            </a: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] –1 ; 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onnecteur droit 9"/>
          <p:cNvSpPr/>
          <p:nvPr/>
        </p:nvSpPr>
        <p:spPr>
          <a:xfrm flipH="1">
            <a:off x="2771280" y="3284640"/>
            <a:ext cx="4753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lipse 10"/>
          <p:cNvSpPr/>
          <p:nvPr/>
        </p:nvSpPr>
        <p:spPr>
          <a:xfrm flipV="1">
            <a:off x="3706920" y="1628640"/>
            <a:ext cx="649080" cy="648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necteur droit 11"/>
          <p:cNvSpPr/>
          <p:nvPr/>
        </p:nvSpPr>
        <p:spPr>
          <a:xfrm>
            <a:off x="4049640" y="316872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Connecteur droit 12"/>
          <p:cNvSpPr/>
          <p:nvPr/>
        </p:nvSpPr>
        <p:spPr>
          <a:xfrm flipH="1">
            <a:off x="2771280" y="1979640"/>
            <a:ext cx="47530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Connecteur droit avec flèche 14"/>
          <p:cNvCxnSpPr/>
          <p:nvPr/>
        </p:nvCxnSpPr>
        <p:spPr>
          <a:xfrm>
            <a:off x="4500360" y="1988640"/>
            <a:ext cx="1080" cy="30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71" name="Connecteur droit avec flèche 15"/>
          <p:cNvCxnSpPr/>
          <p:nvPr/>
        </p:nvCxnSpPr>
        <p:spPr>
          <a:xfrm>
            <a:off x="2771280" y="1988640"/>
            <a:ext cx="1080" cy="12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72" name="Connecteur droit avec flèche 16"/>
          <p:cNvCxnSpPr/>
          <p:nvPr/>
        </p:nvCxnSpPr>
        <p:spPr>
          <a:xfrm>
            <a:off x="7524360" y="1988640"/>
            <a:ext cx="1080" cy="129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e 18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575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576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577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8" name="Ellipse 30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Ellipse 31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Ellipse 34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Ellipse 43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Ellipse 44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Ellipse 45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Ellipse 46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Ellipse 28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588" name="Rectangle 25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Connecteur droit 26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591" name="Rectangle 23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Connecteur droit 24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ZoneTexte 11"/>
          <p:cNvSpPr/>
          <p:nvPr/>
        </p:nvSpPr>
        <p:spPr>
          <a:xfrm>
            <a:off x="0" y="5300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&lt; –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Connecteur droit 5"/>
          <p:cNvSpPr/>
          <p:nvPr/>
        </p:nvSpPr>
        <p:spPr>
          <a:xfrm flipH="1">
            <a:off x="2700000" y="4653000"/>
            <a:ext cx="48243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ZoneTexte 11"/>
          <p:cNvSpPr/>
          <p:nvPr/>
        </p:nvSpPr>
        <p:spPr>
          <a:xfrm>
            <a:off x="0" y="5732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inéquation n’a aucune s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Connecteur droit avec flèche 8"/>
          <p:cNvCxnSpPr/>
          <p:nvPr/>
        </p:nvCxnSpPr>
        <p:spPr>
          <a:xfrm>
            <a:off x="4500360" y="465264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6]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e 20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14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15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Ellipse 29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Ellipse 30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Ellipse 31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Ellipse 32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Ellipse 33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Ellipse 34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Ellipse 35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Ellipse 36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Ellipse 37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26" name="Rectangle 26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Connecteur droit 27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29" name="Rectangle 24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Connecteur droit 25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3 ; 0]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–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e 38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35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36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Ellipse 47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Ellipse 48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Ellipse 49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Ellipse 50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Ellipse 51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Ellipse 52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Ellipse 53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Ellipse 54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Ellipse 55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47" name="Rectangle 44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Connecteur droit 45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50" name="Rectangle 42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Connecteur droit 43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0]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–1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e 38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56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57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Ellipse 47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Ellipse 48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Ellipse 49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Ellipse 50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Ellipse 51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Ellipse 52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Ellipse 53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Ellipse 54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Ellipse 55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68" name="Rectangle 44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Connecteur droit 45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71" name="Rectangle 42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Connecteur droit 43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11"/>
          <p:cNvSpPr/>
          <p:nvPr/>
        </p:nvSpPr>
        <p:spPr>
          <a:xfrm>
            <a:off x="0" y="537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–7 ; 6] combien de solutions a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1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e 38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77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78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Ellipse 47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Ellipse 48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Ellipse 49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Ellipse 50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Ellipse 51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Ellipse 52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Ellipse 53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Ellipse 54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Ellipse 55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189" name="Rectangle 44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Connecteur droit 45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192" name="Rectangle 42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Connecteur droit 43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7 ; 6] l’équation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4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e 41"/>
          <p:cNvGrpSpPr/>
          <p:nvPr/>
        </p:nvGrpSpPr>
        <p:grpSpPr>
          <a:xfrm>
            <a:off x="1403280" y="1341360"/>
            <a:ext cx="6337440" cy="3888000"/>
            <a:chOff x="1403280" y="1341360"/>
            <a:chExt cx="6337440" cy="3888000"/>
          </a:xfrm>
        </p:grpSpPr>
        <p:grpSp>
          <p:nvGrpSpPr>
            <p:cNvPr id="197" name="Groupe 27"/>
            <p:cNvGrpSpPr/>
            <p:nvPr/>
          </p:nvGrpSpPr>
          <p:grpSpPr>
            <a:xfrm>
              <a:off x="1403280" y="1341360"/>
              <a:ext cx="6337440" cy="3888000"/>
              <a:chOff x="1403280" y="1341360"/>
              <a:chExt cx="6337440" cy="3888000"/>
            </a:xfrm>
          </p:grpSpPr>
          <p:pic>
            <p:nvPicPr>
              <p:cNvPr id="198" name="Picture 43" descr=""/>
              <p:cNvPicPr/>
              <p:nvPr/>
            </p:nvPicPr>
            <p:blipFill>
              <a:blip r:embed="rId1"/>
              <a:srcRect l="0" t="1821" r="0" b="0"/>
              <a:stretch/>
            </p:blipFill>
            <p:spPr>
              <a:xfrm>
                <a:off x="1403280" y="1341360"/>
                <a:ext cx="6337440" cy="38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Ellipse 50"/>
              <p:cNvSpPr/>
              <p:nvPr/>
            </p:nvSpPr>
            <p:spPr>
              <a:xfrm>
                <a:off x="3564000" y="342900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Ellipse 51"/>
              <p:cNvSpPr/>
              <p:nvPr/>
            </p:nvSpPr>
            <p:spPr>
              <a:xfrm>
                <a:off x="3149640" y="381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Ellipse 52"/>
              <p:cNvSpPr/>
              <p:nvPr/>
            </p:nvSpPr>
            <p:spPr>
              <a:xfrm>
                <a:off x="7145640" y="4221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Ellipse 53"/>
              <p:cNvSpPr/>
              <p:nvPr/>
            </p:nvSpPr>
            <p:spPr>
              <a:xfrm>
                <a:off x="4751280" y="342900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Ellipse 54"/>
              <p:cNvSpPr/>
              <p:nvPr/>
            </p:nvSpPr>
            <p:spPr>
              <a:xfrm>
                <a:off x="512928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Ellipse 55"/>
              <p:cNvSpPr/>
              <p:nvPr/>
            </p:nvSpPr>
            <p:spPr>
              <a:xfrm>
                <a:off x="5975640" y="187164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Ellipse 56"/>
              <p:cNvSpPr/>
              <p:nvPr/>
            </p:nvSpPr>
            <p:spPr>
              <a:xfrm>
                <a:off x="6767640" y="3059280"/>
                <a:ext cx="90360" cy="903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Ellipse 57"/>
              <p:cNvSpPr/>
              <p:nvPr/>
            </p:nvSpPr>
            <p:spPr>
              <a:xfrm>
                <a:off x="1942920" y="4626360"/>
                <a:ext cx="903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Ellipse 58"/>
              <p:cNvSpPr/>
              <p:nvPr/>
            </p:nvSpPr>
            <p:spPr>
              <a:xfrm>
                <a:off x="3924360" y="37893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e 22"/>
            <p:cNvGrpSpPr/>
            <p:nvPr/>
          </p:nvGrpSpPr>
          <p:grpSpPr>
            <a:xfrm>
              <a:off x="1691280" y="2997360"/>
              <a:ext cx="576000" cy="576000"/>
              <a:chOff x="1691280" y="2997360"/>
              <a:chExt cx="576000" cy="576000"/>
            </a:xfrm>
          </p:grpSpPr>
          <p:sp>
            <p:nvSpPr>
              <p:cNvPr id="209" name="Rectangle 47"/>
              <p:cNvSpPr/>
              <p:nvPr/>
            </p:nvSpPr>
            <p:spPr>
              <a:xfrm>
                <a:off x="1691280" y="3141720"/>
                <a:ext cx="576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7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Connecteur droit 48"/>
              <p:cNvSpPr/>
              <p:nvPr/>
            </p:nvSpPr>
            <p:spPr>
              <a:xfrm>
                <a:off x="195876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e 23"/>
            <p:cNvGrpSpPr/>
            <p:nvPr/>
          </p:nvGrpSpPr>
          <p:grpSpPr>
            <a:xfrm>
              <a:off x="6930360" y="2997360"/>
              <a:ext cx="504000" cy="576000"/>
              <a:chOff x="6930360" y="2997360"/>
              <a:chExt cx="504000" cy="576000"/>
            </a:xfrm>
          </p:grpSpPr>
          <p:sp>
            <p:nvSpPr>
              <p:cNvPr id="212" name="Rectangle 45"/>
              <p:cNvSpPr/>
              <p:nvPr/>
            </p:nvSpPr>
            <p:spPr>
              <a:xfrm>
                <a:off x="6930360" y="3141720"/>
                <a:ext cx="50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6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Connecteur droit 46"/>
              <p:cNvSpPr/>
              <p:nvPr/>
            </p:nvSpPr>
            <p:spPr>
              <a:xfrm>
                <a:off x="7201440" y="299736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ZoneTexte 11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les inéquations proposé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re 1"/>
          <p:cNvSpPr/>
          <p:nvPr/>
        </p:nvSpPr>
        <p:spPr>
          <a:xfrm>
            <a:off x="0" y="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Voici la représentation graphique d’une fonction </a:t>
            </a:r>
            <a:r>
              <a:rPr b="0" i="1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g </a:t>
            </a: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définie sur [– 4 ; 7]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e 24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217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218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219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0" name="Ellipse 7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Ellipse 8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Ellipse 10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Ellipse 11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Ellipse 12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Ellipse 13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Ellipse 14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Ellipse 16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230" name="Rectangle 15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onnecteur droit 18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233" name="Rectangle 22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Connecteur droit 23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ZoneTexte 11"/>
          <p:cNvSpPr/>
          <p:nvPr/>
        </p:nvSpPr>
        <p:spPr>
          <a:xfrm>
            <a:off x="0" y="53737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Résoudre sur [– 4 ; 7] l’inéquation 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g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≥ 1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e 15"/>
          <p:cNvGrpSpPr/>
          <p:nvPr/>
        </p:nvGrpSpPr>
        <p:grpSpPr>
          <a:xfrm>
            <a:off x="1332000" y="1341360"/>
            <a:ext cx="6840360" cy="3959280"/>
            <a:chOff x="1332000" y="1341360"/>
            <a:chExt cx="6840360" cy="3959280"/>
          </a:xfrm>
        </p:grpSpPr>
        <p:grpSp>
          <p:nvGrpSpPr>
            <p:cNvPr id="238" name="Groupe 17"/>
            <p:cNvGrpSpPr/>
            <p:nvPr/>
          </p:nvGrpSpPr>
          <p:grpSpPr>
            <a:xfrm>
              <a:off x="1332000" y="1341360"/>
              <a:ext cx="6840360" cy="3959280"/>
              <a:chOff x="1332000" y="1341360"/>
              <a:chExt cx="6840360" cy="3959280"/>
            </a:xfrm>
          </p:grpSpPr>
          <p:grpSp>
            <p:nvGrpSpPr>
              <p:cNvPr id="239" name="Groupe 15"/>
              <p:cNvGrpSpPr/>
              <p:nvPr/>
            </p:nvGrpSpPr>
            <p:grpSpPr>
              <a:xfrm>
                <a:off x="1332000" y="1341360"/>
                <a:ext cx="6840360" cy="3959280"/>
                <a:chOff x="1332000" y="1341360"/>
                <a:chExt cx="6840360" cy="3959280"/>
              </a:xfrm>
            </p:grpSpPr>
            <p:pic>
              <p:nvPicPr>
                <p:cNvPr id="240" name="Picture 2" descr=""/>
                <p:cNvPicPr/>
                <p:nvPr/>
              </p:nvPicPr>
              <p:blipFill>
                <a:blip r:embed="rId1"/>
                <a:srcRect l="0" t="2262" r="0" b="0"/>
                <a:stretch/>
              </p:blipFill>
              <p:spPr>
                <a:xfrm>
                  <a:off x="1332000" y="1341360"/>
                  <a:ext cx="6840360" cy="39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Ellipse 28"/>
                <p:cNvSpPr/>
                <p:nvPr/>
              </p:nvSpPr>
              <p:spPr>
                <a:xfrm>
                  <a:off x="2700360" y="2808360"/>
                  <a:ext cx="885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Ellipse 29"/>
                <p:cNvSpPr/>
                <p:nvPr/>
              </p:nvSpPr>
              <p:spPr>
                <a:xfrm>
                  <a:off x="3581280" y="2340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Ellipse 9"/>
                <p:cNvSpPr/>
                <p:nvPr/>
              </p:nvSpPr>
              <p:spPr>
                <a:xfrm>
                  <a:off x="3995640" y="191592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Ellipse 31"/>
                <p:cNvSpPr/>
                <p:nvPr/>
              </p:nvSpPr>
              <p:spPr>
                <a:xfrm>
                  <a:off x="4427640" y="278136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Ellipse 32"/>
                <p:cNvSpPr/>
                <p:nvPr/>
              </p:nvSpPr>
              <p:spPr>
                <a:xfrm>
                  <a:off x="4896000" y="4149720"/>
                  <a:ext cx="903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Ellipse 33"/>
                <p:cNvSpPr/>
                <p:nvPr/>
              </p:nvSpPr>
              <p:spPr>
                <a:xfrm>
                  <a:off x="6624720" y="3708360"/>
                  <a:ext cx="88560" cy="885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Ellipse 34"/>
                <p:cNvSpPr/>
                <p:nvPr/>
              </p:nvSpPr>
              <p:spPr>
                <a:xfrm>
                  <a:off x="7488360" y="414036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Ellipse 35"/>
                <p:cNvSpPr/>
                <p:nvPr/>
              </p:nvSpPr>
              <p:spPr>
                <a:xfrm>
                  <a:off x="5759640" y="4572000"/>
                  <a:ext cx="90360" cy="90360"/>
                </a:xfrm>
                <a:prstGeom prst="ellipse">
                  <a:avLst/>
                </a:prstGeom>
                <a:solidFill>
                  <a:srgbClr val="3075ff"/>
                </a:solidFill>
                <a:ln w="25560">
                  <a:solidFill>
                    <a:srgbClr val="307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Ellipse 26"/>
              <p:cNvSpPr/>
              <p:nvPr/>
            </p:nvSpPr>
            <p:spPr>
              <a:xfrm>
                <a:off x="6191280" y="4149720"/>
                <a:ext cx="90360" cy="88560"/>
              </a:xfrm>
              <a:prstGeom prst="ellipse">
                <a:avLst/>
              </a:prstGeom>
              <a:solidFill>
                <a:srgbClr val="3075ff"/>
              </a:solidFill>
              <a:ln w="25560">
                <a:solidFill>
                  <a:srgbClr val="307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e 20"/>
            <p:cNvGrpSpPr/>
            <p:nvPr/>
          </p:nvGrpSpPr>
          <p:grpSpPr>
            <a:xfrm>
              <a:off x="2339640" y="3168000"/>
              <a:ext cx="720000" cy="576000"/>
              <a:chOff x="2339640" y="3168000"/>
              <a:chExt cx="720000" cy="576000"/>
            </a:xfrm>
          </p:grpSpPr>
          <p:sp>
            <p:nvSpPr>
              <p:cNvPr id="251" name="Rectangle 23"/>
              <p:cNvSpPr/>
              <p:nvPr/>
            </p:nvSpPr>
            <p:spPr>
              <a:xfrm>
                <a:off x="2339640" y="3312720"/>
                <a:ext cx="7200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–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4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Connecteur droit 24"/>
              <p:cNvSpPr/>
              <p:nvPr/>
            </p:nvSpPr>
            <p:spPr>
              <a:xfrm>
                <a:off x="2753640" y="3168000"/>
                <a:ext cx="0" cy="21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e 21"/>
            <p:cNvGrpSpPr/>
            <p:nvPr/>
          </p:nvGrpSpPr>
          <p:grpSpPr>
            <a:xfrm>
              <a:off x="7164360" y="3213000"/>
              <a:ext cx="720000" cy="576000"/>
              <a:chOff x="7164360" y="3213000"/>
              <a:chExt cx="720000" cy="576000"/>
            </a:xfrm>
          </p:grpSpPr>
          <p:sp>
            <p:nvSpPr>
              <p:cNvPr id="254" name="Rectangle 21"/>
              <p:cNvSpPr/>
              <p:nvPr/>
            </p:nvSpPr>
            <p:spPr>
              <a:xfrm>
                <a:off x="7164360" y="3357360"/>
                <a:ext cx="720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ambria"/>
                  </a:rPr>
                  <a:t>7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ambr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Connecteur droit 22"/>
              <p:cNvSpPr/>
              <p:nvPr/>
            </p:nvSpPr>
            <p:spPr>
              <a:xfrm>
                <a:off x="7541640" y="32130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0:17Z</dcterms:modified>
  <cp:revision>251</cp:revision>
  <dc:subject/>
  <dc:title>Diapositive 0</dc:title>
</cp:coreProperties>
</file>