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4996-FB03-4B96-A966-5011A31626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3C6-715C-426C-B995-A9D567A242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6928-2554-4932-AF0E-9ADF3BC15A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9EB5-6BA5-44A6-BECF-BA258E5994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D81-7190-44A4-A5C7-5206B05350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405A-F510-41F2-B69A-3FE2B62590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92E-CDDD-461E-ABA6-7ADDFFFB69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B94-C823-4302-984A-6218036198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548D-6F6A-4D86-B340-D265659536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B65-8096-472A-A63A-34931B5A9F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AFE-32FD-475E-9422-051618F0BE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6DC-5C2D-49B6-AF09-D8696E1170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2B7-8A80-4AB3-A3B1-2A7CE3830A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009F-78F0-4B33-9D64-17EB9C62BA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140-6794-46BF-B1E3-8D1E6782B4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2EA2-6BAB-46FF-B044-9A3FE6CC89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263-7BC3-45AD-B96C-FE41A01A1A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4D9-4D8B-4648-AD71-2896BD9F93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8E75-2DFC-4BDE-92EB-8FDF9E053F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318-12F3-4845-A0D2-B754BF042E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800-C401-4587-BBB8-B319EFB5D8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309-0854-4823-9E18-0946AC63FE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629-DE4F-4647-B0DE-6EB5FF68DC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1D50-4725-41EF-B0F9-B816156DAD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F0A-C231-4313-B02C-EFC5F54C75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5906-0488-43A4-9011-1EFBA9587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8EE-F013-4B7D-8EBD-C78BFE83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7E6-1CB8-4598-AED6-736789E7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BD3-87D1-404E-ACBA-BAD7FA6F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CD2-A2B4-4590-8421-89CEB7A3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B5E-148F-4E7B-B3E1-72EAD2B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D99-CEE9-4474-B899-6B67AAFA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FB5-DBE7-47FF-B373-25C813E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C8B-7A78-4A0C-B2B3-316D96E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417-E02A-40C1-B2A0-CFA00223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598-D0AD-429D-B288-4C472D9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26D-2C16-4331-8F96-97A2F73A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02D-85FC-47CB-8487-522CC01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8C5-C1A2-45B3-961B-F0E81D58D37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051-FEBB-4DA3-AD12-041FB9E39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1"/>
          <p:cNvSpPr/>
          <p:nvPr/>
        </p:nvSpPr>
        <p:spPr>
          <a:xfrm>
            <a:off x="0" y="400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Ellipse 9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12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4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1"/>
          <p:cNvSpPr/>
          <p:nvPr/>
        </p:nvSpPr>
        <p:spPr>
          <a:xfrm>
            <a:off x="0" y="40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llipse 18"/>
          <p:cNvSpPr/>
          <p:nvPr/>
        </p:nvSpPr>
        <p:spPr>
          <a:xfrm>
            <a:off x="4500720" y="1700280"/>
            <a:ext cx="86328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9"/>
          <p:cNvSpPr/>
          <p:nvPr/>
        </p:nvSpPr>
        <p:spPr>
          <a:xfrm>
            <a:off x="4500720" y="2637000"/>
            <a:ext cx="86328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 rot="20728200">
            <a:off x="667260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–3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2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16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17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19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20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Ellipse 15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16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lipse 12"/>
          <p:cNvSpPr/>
          <p:nvPr/>
        </p:nvSpPr>
        <p:spPr>
          <a:xfrm>
            <a:off x="2052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lipse 17"/>
          <p:cNvSpPr/>
          <p:nvPr/>
        </p:nvSpPr>
        <p:spPr>
          <a:xfrm>
            <a:off x="2052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10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11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Ellipse 9"/>
          <p:cNvSpPr/>
          <p:nvPr/>
        </p:nvSpPr>
        <p:spPr>
          <a:xfrm>
            <a:off x="468360" y="1700280"/>
            <a:ext cx="13669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1"/>
          <p:cNvSpPr/>
          <p:nvPr/>
        </p:nvSpPr>
        <p:spPr>
          <a:xfrm>
            <a:off x="466560" y="2708280"/>
            <a:ext cx="136872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4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lipse 15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À partir du tableau de valeurs d’une fonction </a:t>
            </a:r>
            <a:r>
              <a:rPr b="0" i="1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f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, répondre aux question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par VRAI ou FAUX.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14"/>
          <p:cNvSpPr/>
          <p:nvPr/>
        </p:nvSpPr>
        <p:spPr>
          <a:xfrm>
            <a:off x="28447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5"/>
          <p:cNvSpPr/>
          <p:nvPr/>
        </p:nvSpPr>
        <p:spPr>
          <a:xfrm>
            <a:off x="28447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0" y="3435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2 est 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4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15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10"/>
          <p:cNvSpPr/>
          <p:nvPr/>
        </p:nvSpPr>
        <p:spPr>
          <a:xfrm>
            <a:off x="205092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13"/>
          <p:cNvSpPr/>
          <p:nvPr/>
        </p:nvSpPr>
        <p:spPr>
          <a:xfrm>
            <a:off x="205092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5) = –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Ellipse 9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0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11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2"/>
          <p:cNvSpPr/>
          <p:nvPr/>
        </p:nvSpPr>
        <p:spPr>
          <a:xfrm>
            <a:off x="0" y="47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5)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cteur droit 13"/>
          <p:cNvSpPr/>
          <p:nvPr/>
        </p:nvSpPr>
        <p:spPr>
          <a:xfrm>
            <a:off x="2916360" y="4581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20"/>
          <p:cNvSpPr/>
          <p:nvPr/>
        </p:nvSpPr>
        <p:spPr>
          <a:xfrm>
            <a:off x="7020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21"/>
          <p:cNvSpPr/>
          <p:nvPr/>
        </p:nvSpPr>
        <p:spPr>
          <a:xfrm>
            <a:off x="7020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oneTexte 11"/>
          <p:cNvSpPr/>
          <p:nvPr/>
        </p:nvSpPr>
        <p:spPr>
          <a:xfrm>
            <a:off x="0" y="3433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est une solution de l’équation 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2"/>
          <p:cNvSpPr/>
          <p:nvPr/>
        </p:nvSpPr>
        <p:spPr>
          <a:xfrm>
            <a:off x="0" y="5229360"/>
            <a:ext cx="63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une solu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 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 = 3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3"/>
          <p:cNvSpPr/>
          <p:nvPr/>
        </p:nvSpPr>
        <p:spPr>
          <a:xfrm>
            <a:off x="5003640" y="486900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lipse 21"/>
          <p:cNvSpPr/>
          <p:nvPr/>
        </p:nvSpPr>
        <p:spPr>
          <a:xfrm>
            <a:off x="395280" y="1700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llipse 22"/>
          <p:cNvSpPr/>
          <p:nvPr/>
        </p:nvSpPr>
        <p:spPr>
          <a:xfrm>
            <a:off x="395280" y="2708280"/>
            <a:ext cx="136836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lipse 23"/>
          <p:cNvSpPr/>
          <p:nvPr/>
        </p:nvSpPr>
        <p:spPr>
          <a:xfrm>
            <a:off x="284328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llipse 24"/>
          <p:cNvSpPr/>
          <p:nvPr/>
        </p:nvSpPr>
        <p:spPr>
          <a:xfrm>
            <a:off x="284328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11"/>
          <p:cNvSpPr/>
          <p:nvPr/>
        </p:nvSpPr>
        <p:spPr>
          <a:xfrm>
            <a:off x="0" y="399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Ellipse 7"/>
          <p:cNvSpPr/>
          <p:nvPr/>
        </p:nvSpPr>
        <p:spPr>
          <a:xfrm>
            <a:off x="536400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lipse 8"/>
          <p:cNvSpPr/>
          <p:nvPr/>
        </p:nvSpPr>
        <p:spPr>
          <a:xfrm>
            <a:off x="536400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llipse 9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lipse 10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12"/>
          <p:cNvSpPr/>
          <p:nvPr/>
        </p:nvSpPr>
        <p:spPr>
          <a:xfrm>
            <a:off x="0" y="486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est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necteur droit 13"/>
          <p:cNvSpPr/>
          <p:nvPr/>
        </p:nvSpPr>
        <p:spPr>
          <a:xfrm>
            <a:off x="1258920" y="4508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Ellipse 9"/>
          <p:cNvSpPr/>
          <p:nvPr/>
        </p:nvSpPr>
        <p:spPr>
          <a:xfrm>
            <a:off x="6156360" y="1700280"/>
            <a:ext cx="863640" cy="57636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12"/>
          <p:cNvSpPr/>
          <p:nvPr/>
        </p:nvSpPr>
        <p:spPr>
          <a:xfrm>
            <a:off x="6156360" y="2637000"/>
            <a:ext cx="863640" cy="5760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11"/>
          <p:cNvSpPr/>
          <p:nvPr/>
        </p:nvSpPr>
        <p:spPr>
          <a:xfrm>
            <a:off x="250920" y="1773360"/>
            <a:ext cx="1800000" cy="5760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écé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4 a pour image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 rot="20728200">
            <a:off x="6672960" y="56815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3"/>
          <p:cNvSpPr/>
          <p:nvPr/>
        </p:nvSpPr>
        <p:spPr>
          <a:xfrm>
            <a:off x="250920" y="2708280"/>
            <a:ext cx="1800000" cy="57636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L’image de 5 est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1 est un antécédent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–3) 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Un antécédent de 2 est –5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0) = –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11"/>
          <p:cNvSpPr/>
          <p:nvPr/>
        </p:nvSpPr>
        <p:spPr>
          <a:xfrm>
            <a:off x="0" y="4071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–</a:t>
            </a:r>
            <a:r>
              <a:rPr b="0" lang="fr-FR" sz="6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3 a pour image 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484280"/>
          <a:ext cx="8423280" cy="1954080"/>
        </p:xfrm>
        <a:graphic>
          <a:graphicData uri="http://schemas.openxmlformats.org/drawingml/2006/table">
            <a:tbl>
              <a:tblPr/>
              <a:tblGrid>
                <a:gridCol w="1800000"/>
                <a:gridCol w="827280"/>
                <a:gridCol w="828720"/>
                <a:gridCol w="828720"/>
                <a:gridCol w="826920"/>
                <a:gridCol w="828720"/>
                <a:gridCol w="826920"/>
                <a:gridCol w="828720"/>
                <a:gridCol w="82728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3T09:59:19Z</dcterms:modified>
  <cp:revision>244</cp:revision>
  <dc:subject/>
  <dc:title>Diapositive 0</dc:title>
</cp:coreProperties>
</file>