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F7A5-5D23-4845-8500-F804C463B1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CAFC-E34F-42CD-A87C-F36689CF9C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7D77-BDD0-4FE7-9787-A144807BC5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8FC6-EC57-4EF7-A67F-2A5E901D4D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4A10-5FAE-4671-B1C6-D7BCE7F699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049A-BE5D-4375-B983-194D94FB26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6767-076C-41A0-A22A-7FD63EBE23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31BA-C6EA-4693-9B75-6F2056B449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D906-7AFF-4A51-9327-6F99B4C0C3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AAD2-03DA-4F3D-853A-9D368E07EE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9F78-FF18-4165-B796-AFFDC79F0C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C5A7-00F2-4AD3-A15D-5C24AEAD3D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D3DE-A11E-46CE-AAB1-C275195697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9C04-3444-4BC5-AFF0-3B3D64F6B5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AF56-54B5-441E-82F9-8B1293E591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3564-3568-466C-BB8A-E5ECC70D4C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DC9A-2E5C-4EBA-BBC7-F92A1234B9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F45E-5EA9-4FED-A8FF-D8B7B8ECC6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57E5-1341-4E83-8C99-809821578E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BB67-FE73-4C7D-920B-7C9B48DAB0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637C-BD66-436E-BFAB-395027F350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1203-177F-4A83-B545-B099921BED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8C28-7762-48F3-BC53-86EBF3897B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4910-EC3F-4851-803F-1086572BD2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E49D-A9EF-4246-A4AF-5527E79D7A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AE78-6872-42EB-B39F-6D4BE6706E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285-9F0C-41F6-A4DE-93E770B8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739-BF05-42CC-BA8B-71EC84C8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95A-458A-4E87-BFAB-5749A123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F1B-CD67-45BF-9C7A-CEC03824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6867-0570-4ADA-96FC-0452BBDF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9D8D-B7C4-4B56-8EFA-128D8625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8BA3-180E-46CE-BFF4-0DD4C578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558B-6C4D-4DAD-A580-D5184A9A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612D-4B18-4BC7-B441-5EE5B60C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C6DA-A69B-4268-97B0-AF1BFE12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F178-3C26-488F-9AA3-7A81E0DD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A2A-E47A-4744-901D-5E73B44C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C2C6-113C-4B55-8003-20C11AF2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6A04-7F76-4586-B524-53971D19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26DF-D344-4579-A711-0DC6BCBC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14E2-D67F-44D1-A7B5-72C5A877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E2DC-CE11-44F9-B5F0-1205D2DD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AA4-A073-4C7A-9B75-D732956B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4B5-13E8-402E-8AA1-7CEB37D4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5AC-46DC-4530-BB47-A2EE8B98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12A-05B3-4B68-AC36-E88858CA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9B1-5A70-4AB7-B849-F824D19A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E36-95E5-47ED-82BF-F9020E0E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6AA-C3F1-4DAD-A901-6F5F9E5E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1282-6EDF-418C-BF6C-B63C101DB4C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4F25-2B6B-47FF-8DF9-B52E91C2B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5830-6D01-4625-A19B-74947A0228A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24C8-33AD-4B41-91F6-D80B89774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6 a pour image –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est l’image de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positiv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27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2)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31" name="ZoneTexte 11"/>
          <p:cNvSpPr/>
          <p:nvPr/>
        </p:nvSpPr>
        <p:spPr>
          <a:xfrm>
            <a:off x="0" y="5797440"/>
            <a:ext cx="70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7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rganigramme : Connecteur 4"/>
          <p:cNvSpPr/>
          <p:nvPr/>
        </p:nvSpPr>
        <p:spPr>
          <a:xfrm>
            <a:off x="8496360" y="828720"/>
            <a:ext cx="360360" cy="3585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Connecteur droit avec flèche 6"/>
          <p:cNvCxnSpPr/>
          <p:nvPr/>
        </p:nvCxnSpPr>
        <p:spPr>
          <a:xfrm flipV="1">
            <a:off x="8675280" y="1052280"/>
            <a:ext cx="1080" cy="1945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5" name="Connecteur droit avec flèche 7"/>
          <p:cNvCxnSpPr/>
          <p:nvPr/>
        </p:nvCxnSpPr>
        <p:spPr>
          <a:xfrm flipH="1">
            <a:off x="4140000" y="1052280"/>
            <a:ext cx="4464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6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11"/>
          <p:cNvSpPr/>
          <p:nvPr/>
        </p:nvSpPr>
        <p:spPr>
          <a:xfrm>
            <a:off x="216000" y="59612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rganigramme : Connecteur 8"/>
          <p:cNvSpPr/>
          <p:nvPr/>
        </p:nvSpPr>
        <p:spPr>
          <a:xfrm>
            <a:off x="3959280" y="280836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necteur droit 14"/>
          <p:cNvSpPr/>
          <p:nvPr/>
        </p:nvSpPr>
        <p:spPr>
          <a:xfrm>
            <a:off x="250920" y="6308640"/>
            <a:ext cx="16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6"/>
          <p:cNvSpPr/>
          <p:nvPr/>
        </p:nvSpPr>
        <p:spPr>
          <a:xfrm>
            <a:off x="2700360" y="5950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0) =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11"/>
          <p:cNvSpPr/>
          <p:nvPr/>
        </p:nvSpPr>
        <p:spPr>
          <a:xfrm>
            <a:off x="0" y="5797440"/>
            <a:ext cx="65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rganigramme : Connecteur 4"/>
          <p:cNvSpPr/>
          <p:nvPr/>
        </p:nvSpPr>
        <p:spPr>
          <a:xfrm>
            <a:off x="2016000" y="4068720"/>
            <a:ext cx="360360" cy="35892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Connecteur droit avec flèche 6"/>
          <p:cNvCxnSpPr/>
          <p:nvPr/>
        </p:nvCxnSpPr>
        <p:spPr>
          <a:xfrm>
            <a:off x="2195280" y="2997360"/>
            <a:ext cx="1080" cy="129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49" name="Connecteur droit avec flèche 7"/>
          <p:cNvCxnSpPr/>
          <p:nvPr/>
        </p:nvCxnSpPr>
        <p:spPr>
          <a:xfrm>
            <a:off x="2195640" y="4292280"/>
            <a:ext cx="19454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11"/>
          <p:cNvSpPr/>
          <p:nvPr/>
        </p:nvSpPr>
        <p:spPr>
          <a:xfrm>
            <a:off x="0" y="574524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4 a pour antécédent –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rganigramme : Connecteur 5"/>
          <p:cNvSpPr/>
          <p:nvPr/>
        </p:nvSpPr>
        <p:spPr>
          <a:xfrm>
            <a:off x="3851280" y="115920"/>
            <a:ext cx="504720" cy="50472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necteur droit 12"/>
          <p:cNvSpPr/>
          <p:nvPr/>
        </p:nvSpPr>
        <p:spPr>
          <a:xfrm>
            <a:off x="179280" y="6093000"/>
            <a:ext cx="453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5"/>
          <p:cNvSpPr/>
          <p:nvPr/>
        </p:nvSpPr>
        <p:spPr>
          <a:xfrm>
            <a:off x="1403280" y="6165720"/>
            <a:ext cx="53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 n’a pas d’antécéd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Connecteur droit avec flèche 11"/>
          <p:cNvCxnSpPr/>
          <p:nvPr/>
        </p:nvCxnSpPr>
        <p:spPr>
          <a:xfrm>
            <a:off x="4140360" y="404280"/>
            <a:ext cx="4535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59" name="Connecteur droit avec flèche 14"/>
          <p:cNvCxnSpPr/>
          <p:nvPr/>
        </p:nvCxnSpPr>
        <p:spPr>
          <a:xfrm flipH="1">
            <a:off x="250200" y="404280"/>
            <a:ext cx="38170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61" name="ZoneTexte 11"/>
          <p:cNvSpPr/>
          <p:nvPr/>
        </p:nvSpPr>
        <p:spPr>
          <a:xfrm>
            <a:off x="0" y="6002280"/>
            <a:ext cx="65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</a:t>
            </a:r>
            <a:r>
              <a:rPr b="0" i="1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2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 est 6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rganigramme : Connecteur 5"/>
          <p:cNvSpPr/>
          <p:nvPr/>
        </p:nvSpPr>
        <p:spPr>
          <a:xfrm>
            <a:off x="7848720" y="2771640"/>
            <a:ext cx="3585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Connecteur droit avec flèche 6"/>
          <p:cNvCxnSpPr/>
          <p:nvPr/>
        </p:nvCxnSpPr>
        <p:spPr>
          <a:xfrm flipV="1">
            <a:off x="4140360" y="2996640"/>
            <a:ext cx="4535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Connecteur droit avec flèche 8"/>
          <p:cNvCxnSpPr/>
          <p:nvPr/>
        </p:nvCxnSpPr>
        <p:spPr>
          <a:xfrm flipH="1">
            <a:off x="250560" y="2997000"/>
            <a:ext cx="3890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7" name="Organigramme : Connecteur 11"/>
          <p:cNvSpPr/>
          <p:nvPr/>
        </p:nvSpPr>
        <p:spPr>
          <a:xfrm>
            <a:off x="3851280" y="2997360"/>
            <a:ext cx="35892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À partir de la courbe représentative d’une fonction </a:t>
            </a:r>
            <a:r>
              <a:rPr b="0" i="1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f 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sur [-6 ; 7], 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répondre aux questions par VRAI ou FAUX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69" name="ZoneTexte 11"/>
          <p:cNvSpPr/>
          <p:nvPr/>
        </p:nvSpPr>
        <p:spPr>
          <a:xfrm>
            <a:off x="0" y="5661000"/>
            <a:ext cx="55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est un antécédent de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rganigramme : Connecteur 5"/>
          <p:cNvSpPr/>
          <p:nvPr/>
        </p:nvSpPr>
        <p:spPr>
          <a:xfrm>
            <a:off x="3851280" y="1482840"/>
            <a:ext cx="433440" cy="43344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Connecteur droit avec flèche 6"/>
          <p:cNvCxnSpPr/>
          <p:nvPr/>
        </p:nvCxnSpPr>
        <p:spPr>
          <a:xfrm flipH="1">
            <a:off x="250560" y="1699920"/>
            <a:ext cx="3890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7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necteur droit 9"/>
          <p:cNvSpPr/>
          <p:nvPr/>
        </p:nvSpPr>
        <p:spPr>
          <a:xfrm>
            <a:off x="179280" y="6021360"/>
            <a:ext cx="504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10"/>
          <p:cNvSpPr/>
          <p:nvPr/>
        </p:nvSpPr>
        <p:spPr>
          <a:xfrm>
            <a:off x="0" y="6165720"/>
            <a:ext cx="70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 n’est pas un antécédent d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Connecteur droit avec flèche 14"/>
          <p:cNvCxnSpPr/>
          <p:nvPr/>
        </p:nvCxnSpPr>
        <p:spPr>
          <a:xfrm>
            <a:off x="4140360" y="1699920"/>
            <a:ext cx="45356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7" name="Connecteur droit avec flèche 17"/>
          <p:cNvCxnSpPr/>
          <p:nvPr/>
        </p:nvCxnSpPr>
        <p:spPr>
          <a:xfrm>
            <a:off x="3492000" y="1700280"/>
            <a:ext cx="1080" cy="129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8" name="Connecteur droit avec flèche 18"/>
          <p:cNvCxnSpPr/>
          <p:nvPr/>
        </p:nvCxnSpPr>
        <p:spPr>
          <a:xfrm>
            <a:off x="8459280" y="1700280"/>
            <a:ext cx="1080" cy="129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80" name="ZoneTexte 11"/>
          <p:cNvSpPr/>
          <p:nvPr/>
        </p:nvSpPr>
        <p:spPr>
          <a:xfrm>
            <a:off x="0" y="5797440"/>
            <a:ext cx="68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 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6 a pour image –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rganigramme : Connecteur 5"/>
          <p:cNvSpPr/>
          <p:nvPr/>
        </p:nvSpPr>
        <p:spPr>
          <a:xfrm>
            <a:off x="71280" y="536400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Connecteur droit avec flèche 6"/>
          <p:cNvCxnSpPr/>
          <p:nvPr/>
        </p:nvCxnSpPr>
        <p:spPr>
          <a:xfrm>
            <a:off x="250560" y="2997000"/>
            <a:ext cx="1080" cy="25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4" name="Connecteur droit avec flèche 7"/>
          <p:cNvCxnSpPr/>
          <p:nvPr/>
        </p:nvCxnSpPr>
        <p:spPr>
          <a:xfrm>
            <a:off x="250920" y="5589360"/>
            <a:ext cx="38901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85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87" name="ZoneTexte 11"/>
          <p:cNvSpPr/>
          <p:nvPr/>
        </p:nvSpPr>
        <p:spPr>
          <a:xfrm>
            <a:off x="0" y="5797440"/>
            <a:ext cx="70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2 est l’image de –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rganigramme : Connecteur 5"/>
          <p:cNvSpPr/>
          <p:nvPr/>
        </p:nvSpPr>
        <p:spPr>
          <a:xfrm>
            <a:off x="3311640" y="151128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Connecteur droit avec flèche 6"/>
          <p:cNvCxnSpPr/>
          <p:nvPr/>
        </p:nvCxnSpPr>
        <p:spPr>
          <a:xfrm flipV="1">
            <a:off x="3492000" y="1699560"/>
            <a:ext cx="1080" cy="1297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1" name="Connecteur droit avec flèche 7"/>
          <p:cNvCxnSpPr/>
          <p:nvPr/>
        </p:nvCxnSpPr>
        <p:spPr>
          <a:xfrm>
            <a:off x="3492360" y="1699920"/>
            <a:ext cx="6483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92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94" name="ZoneTexte 11"/>
          <p:cNvSpPr/>
          <p:nvPr/>
        </p:nvSpPr>
        <p:spPr>
          <a:xfrm>
            <a:off x="0" y="5797440"/>
            <a:ext cx="71643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pos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rganigramme : Connecteur 5"/>
          <p:cNvSpPr/>
          <p:nvPr/>
        </p:nvSpPr>
        <p:spPr>
          <a:xfrm>
            <a:off x="7164360" y="3933720"/>
            <a:ext cx="36036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Connecteur droit avec flèche 6"/>
          <p:cNvCxnSpPr/>
          <p:nvPr/>
        </p:nvCxnSpPr>
        <p:spPr>
          <a:xfrm>
            <a:off x="7380000" y="2997000"/>
            <a:ext cx="1080" cy="115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Connecteur droit avec flèche 7"/>
          <p:cNvCxnSpPr/>
          <p:nvPr/>
        </p:nvCxnSpPr>
        <p:spPr>
          <a:xfrm flipH="1">
            <a:off x="4103280" y="4149360"/>
            <a:ext cx="32774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99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necteur droit 13"/>
          <p:cNvSpPr/>
          <p:nvPr/>
        </p:nvSpPr>
        <p:spPr>
          <a:xfrm>
            <a:off x="3492360" y="616572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15"/>
          <p:cNvSpPr/>
          <p:nvPr/>
        </p:nvSpPr>
        <p:spPr>
          <a:xfrm>
            <a:off x="2987640" y="6165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ég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5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203" name="ZoneTexte 11"/>
          <p:cNvSpPr/>
          <p:nvPr/>
        </p:nvSpPr>
        <p:spPr>
          <a:xfrm>
            <a:off x="0" y="579744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 2)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rganigramme : Connecteur 7"/>
          <p:cNvSpPr/>
          <p:nvPr/>
        </p:nvSpPr>
        <p:spPr>
          <a:xfrm>
            <a:off x="2627280" y="2808360"/>
            <a:ext cx="477720" cy="47628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Connecteur droit avec flèche 8"/>
          <p:cNvCxnSpPr/>
          <p:nvPr/>
        </p:nvCxnSpPr>
        <p:spPr>
          <a:xfrm>
            <a:off x="2916360" y="2997000"/>
            <a:ext cx="1224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0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11"/>
          <p:cNvSpPr/>
          <p:nvPr/>
        </p:nvSpPr>
        <p:spPr>
          <a:xfrm>
            <a:off x="0" y="5797440"/>
            <a:ext cx="70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a pour image –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6"/>
          <p:cNvCxnSpPr/>
          <p:nvPr/>
        </p:nvCxnSpPr>
        <p:spPr>
          <a:xfrm>
            <a:off x="4787640" y="2998440"/>
            <a:ext cx="1080" cy="1222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96" name="Connecteur droit avec flèche 7"/>
          <p:cNvCxnSpPr/>
          <p:nvPr/>
        </p:nvCxnSpPr>
        <p:spPr>
          <a:xfrm flipH="1">
            <a:off x="4139640" y="4292280"/>
            <a:ext cx="6483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rganigramme : Connecteur 16"/>
          <p:cNvSpPr/>
          <p:nvPr/>
        </p:nvSpPr>
        <p:spPr>
          <a:xfrm>
            <a:off x="4608360" y="4103640"/>
            <a:ext cx="358920" cy="360360"/>
          </a:xfrm>
          <a:prstGeom prst="flowChartConnector">
            <a:avLst/>
          </a:prstGeom>
          <a:noFill/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7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4 a pour antécédent –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5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 est 6.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rcRect l="20374" t="11338" r="6791" b="14173"/>
          <a:stretch/>
        </p:blipFill>
        <p:spPr>
          <a:xfrm>
            <a:off x="0" y="27000"/>
            <a:ext cx="9109080" cy="582120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11"/>
          <p:cNvSpPr/>
          <p:nvPr/>
        </p:nvSpPr>
        <p:spPr>
          <a:xfrm>
            <a:off x="0" y="57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0 est un antécédent de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7"/>
          <p:cNvSpPr/>
          <p:nvPr/>
        </p:nvSpPr>
        <p:spPr>
          <a:xfrm>
            <a:off x="0" y="0"/>
            <a:ext cx="197964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7:10Z</dcterms:modified>
  <cp:revision>240</cp:revision>
  <dc:subject/>
  <dc:title>Diapositive 0</dc:title>
</cp:coreProperties>
</file>