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DBE7-54EB-452A-BC70-17A8B7A3B3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10E1-9140-4391-B7D4-7F34E07F97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C25F-5406-4AB7-9238-E8D6CAFD99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A6F9-6153-4DDE-9F1E-1B44906295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E0EE-DE1D-4C67-9B18-BB024A4230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117C-7001-45F1-B658-5AECE4A231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AE5F-03C9-4B02-93F9-4DA2C01506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A327-D5CF-449D-B1A0-E3C698CBAB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6A80-786E-495B-B0F4-2BDC56ACA4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EE0F-76AD-48A6-80D0-D0BFA3181D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0558-AA87-42B5-BA1D-05C2000FB1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1879-95DE-4602-BBC8-AFDF23CF59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D45F-C30D-4EBC-A3EF-DCF14EC075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708C-F0B3-4C70-850B-9E5D5EFCE9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CE18-7F28-4509-BDEE-E43714BCEB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AD40-306A-4557-9B77-3EFFCF7F80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F060-6BD9-4045-8024-CAA185351D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42D9-63D2-4178-97E7-F22CF53504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D479-FC5F-45A3-A9F7-5CB4EB4153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7C3C-E8DE-41E1-A574-9B64A233B2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863F-196C-4BE3-A390-0F2931E22B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E348-A35B-485A-A036-CE7053D259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9A89-01EF-441C-AB33-2F67C00C1F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821E-5BFB-485D-850D-CC6606C74E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F079-F9BC-4FD6-BAFB-875CFEDB15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C73-20F5-48ED-BC97-E0346826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E43-40A1-41FB-9EBD-E0970294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211-0C95-423A-99D2-FEFA8183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5F9-393F-4A59-AE2E-06A55544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3AC-4AC5-4947-AB7E-84AAAD22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8C9-D8B2-48AC-878A-A1A9BBB1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993-B810-4F6F-BA4F-501D57BD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37B-7598-4364-A9CA-6DE17284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61B-4880-48E3-BA10-46E404BE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813-1BBD-4F7B-AF8F-7F6B2F2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EA0-B72A-4B18-9CEA-F1F2FF58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063-6685-4CA8-9B0C-26EBACE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360E-6C6D-4813-B0A9-584BA3734FD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D253-B769-4011-B7B7-36B86DE31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554040" y="1494000"/>
            <a:ext cx="8035920" cy="2749320"/>
            <a:chOff x="554040" y="1494000"/>
            <a:chExt cx="8035920" cy="274932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554040" y="1494000"/>
              <a:ext cx="803592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17480" y="1733400"/>
              <a:ext cx="770904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9c007f"/>
                  </a:solidFill>
                  <a:latin typeface="Georgia"/>
                </a:rPr>
                <a:t>FONCTION INVERSE</a:t>
              </a:r>
              <a:br>
                <a:rPr sz="6600"/>
              </a:br>
              <a:r>
                <a:rPr b="1" lang="fr-FR" sz="6600" spc="-1" strike="noStrike">
                  <a:solidFill>
                    <a:srgbClr val="9c007f"/>
                  </a:solidFill>
                  <a:latin typeface="Georgia"/>
                </a:rPr>
                <a:t>SÉRIE 2 ET 2 BI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4651200"/>
            <a:ext cx="9229680" cy="222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1963800"/>
          </a:xfrm>
          <a:prstGeom prst="rect">
            <a:avLst/>
          </a:prstGeom>
          <a:ln w="0">
            <a:noFill/>
          </a:ln>
        </p:spPr>
      </p:pic>
      <p:pic>
        <p:nvPicPr>
          <p:cNvPr id="79" name="Image 7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4724280"/>
            <a:ext cx="9229680" cy="222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2060640"/>
          </a:xfrm>
          <a:prstGeom prst="rect">
            <a:avLst/>
          </a:prstGeom>
          <a:ln w="0">
            <a:noFill/>
          </a:ln>
        </p:spPr>
      </p:pic>
      <p:pic>
        <p:nvPicPr>
          <p:cNvPr id="83" name="Image 7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078440"/>
            <a:ext cx="9229680" cy="28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0" y="26082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25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93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68007f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Espace réservé du contenu 4" descr=""/>
          <p:cNvPicPr/>
          <p:nvPr/>
        </p:nvPicPr>
        <p:blipFill>
          <a:blip r:embed="rId1"/>
          <a:stretch/>
        </p:blipFill>
        <p:spPr>
          <a:xfrm>
            <a:off x="-66600" y="4267080"/>
            <a:ext cx="9234360" cy="263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Tableau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2449440"/>
          </a:xfrm>
          <a:prstGeom prst="rect">
            <a:avLst/>
          </a:prstGeom>
          <a:ln w="0">
            <a:noFill/>
          </a:ln>
        </p:spPr>
      </p:pic>
      <p:sp>
        <p:nvSpPr>
          <p:cNvPr id="91" name="Ellipse 2"/>
          <p:cNvSpPr/>
          <p:nvPr/>
        </p:nvSpPr>
        <p:spPr>
          <a:xfrm>
            <a:off x="324000" y="836640"/>
            <a:ext cx="1871640" cy="149868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6"/>
          <p:cNvSpPr/>
          <p:nvPr/>
        </p:nvSpPr>
        <p:spPr>
          <a:xfrm>
            <a:off x="7421400" y="984240"/>
            <a:ext cx="1614600" cy="120348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7"/>
          <p:cNvSpPr/>
          <p:nvPr/>
        </p:nvSpPr>
        <p:spPr>
          <a:xfrm>
            <a:off x="7164360" y="5376960"/>
            <a:ext cx="1871640" cy="120312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llipse 8"/>
          <p:cNvSpPr/>
          <p:nvPr/>
        </p:nvSpPr>
        <p:spPr>
          <a:xfrm>
            <a:off x="4991040" y="5229360"/>
            <a:ext cx="1871640" cy="149832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llipse 9"/>
          <p:cNvSpPr/>
          <p:nvPr/>
        </p:nvSpPr>
        <p:spPr>
          <a:xfrm>
            <a:off x="2700360" y="5286240"/>
            <a:ext cx="1614600" cy="120204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lipse 10"/>
          <p:cNvSpPr/>
          <p:nvPr/>
        </p:nvSpPr>
        <p:spPr>
          <a:xfrm>
            <a:off x="4859280" y="984240"/>
            <a:ext cx="1873440" cy="120348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3943440"/>
            <a:ext cx="9229680" cy="295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75256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Tableau 1" descr=""/>
          <p:cNvPicPr/>
          <p:nvPr/>
        </p:nvPicPr>
        <p:blipFill>
          <a:blip r:embed="rId2"/>
          <a:stretch/>
        </p:blipFill>
        <p:spPr>
          <a:xfrm>
            <a:off x="0" y="-66600"/>
            <a:ext cx="9144000" cy="2889000"/>
          </a:xfrm>
          <a:prstGeom prst="rect">
            <a:avLst/>
          </a:prstGeom>
          <a:ln w="0">
            <a:noFill/>
          </a:ln>
        </p:spPr>
      </p:pic>
      <p:sp>
        <p:nvSpPr>
          <p:cNvPr id="100" name="Ellipse 6"/>
          <p:cNvSpPr/>
          <p:nvPr/>
        </p:nvSpPr>
        <p:spPr>
          <a:xfrm>
            <a:off x="4646520" y="1149480"/>
            <a:ext cx="2158920" cy="132372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lipse 7"/>
          <p:cNvSpPr/>
          <p:nvPr/>
        </p:nvSpPr>
        <p:spPr>
          <a:xfrm>
            <a:off x="6875640" y="1170000"/>
            <a:ext cx="2233440" cy="164160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8"/>
          <p:cNvSpPr/>
          <p:nvPr/>
        </p:nvSpPr>
        <p:spPr>
          <a:xfrm>
            <a:off x="2340000" y="5075280"/>
            <a:ext cx="2160720" cy="132408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9"/>
          <p:cNvSpPr/>
          <p:nvPr/>
        </p:nvSpPr>
        <p:spPr>
          <a:xfrm>
            <a:off x="6875640" y="5157720"/>
            <a:ext cx="2233440" cy="164160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space réservé du contenu 4" descr=""/>
          <p:cNvPicPr/>
          <p:nvPr/>
        </p:nvPicPr>
        <p:blipFill>
          <a:blip r:embed="rId1"/>
          <a:stretch/>
        </p:blipFill>
        <p:spPr>
          <a:xfrm>
            <a:off x="-66600" y="4206960"/>
            <a:ext cx="9234360" cy="2693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511360"/>
          </a:xfrm>
          <a:prstGeom prst="rect">
            <a:avLst/>
          </a:prstGeom>
          <a:ln w="0">
            <a:noFill/>
          </a:ln>
        </p:spPr>
      </p:pic>
      <p:sp>
        <p:nvSpPr>
          <p:cNvPr id="107" name="Ellipse 6"/>
          <p:cNvSpPr/>
          <p:nvPr/>
        </p:nvSpPr>
        <p:spPr>
          <a:xfrm>
            <a:off x="4646520" y="950760"/>
            <a:ext cx="215892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7"/>
          <p:cNvSpPr/>
          <p:nvPr/>
        </p:nvSpPr>
        <p:spPr>
          <a:xfrm>
            <a:off x="0" y="950760"/>
            <a:ext cx="216072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8"/>
          <p:cNvSpPr/>
          <p:nvPr/>
        </p:nvSpPr>
        <p:spPr>
          <a:xfrm>
            <a:off x="4537080" y="5373720"/>
            <a:ext cx="2378160" cy="10983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9"/>
          <p:cNvSpPr/>
          <p:nvPr/>
        </p:nvSpPr>
        <p:spPr>
          <a:xfrm>
            <a:off x="6958080" y="5300640"/>
            <a:ext cx="2160360" cy="11001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091040"/>
            <a:ext cx="9236160" cy="2859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285264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Tableau 1" descr=""/>
          <p:cNvPicPr/>
          <p:nvPr/>
        </p:nvPicPr>
        <p:blipFill>
          <a:blip r:embed="rId2"/>
          <a:stretch/>
        </p:blipFill>
        <p:spPr>
          <a:xfrm>
            <a:off x="0" y="-96840"/>
            <a:ext cx="9144000" cy="2992320"/>
          </a:xfrm>
          <a:prstGeom prst="rect">
            <a:avLst/>
          </a:prstGeom>
          <a:ln w="0">
            <a:noFill/>
          </a:ln>
        </p:spPr>
      </p:pic>
      <p:sp>
        <p:nvSpPr>
          <p:cNvPr id="114" name="Ellipse 6"/>
          <p:cNvSpPr/>
          <p:nvPr/>
        </p:nvSpPr>
        <p:spPr>
          <a:xfrm>
            <a:off x="28440" y="1700280"/>
            <a:ext cx="216072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lipse 7"/>
          <p:cNvSpPr/>
          <p:nvPr/>
        </p:nvSpPr>
        <p:spPr>
          <a:xfrm>
            <a:off x="2484360" y="5589720"/>
            <a:ext cx="2158920" cy="10983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3797280"/>
            <a:ext cx="9229680" cy="31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2708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Tableau 1" descr=""/>
          <p:cNvPicPr/>
          <p:nvPr/>
        </p:nvPicPr>
        <p:blipFill>
          <a:blip r:embed="rId2"/>
          <a:stretch/>
        </p:blipFill>
        <p:spPr>
          <a:xfrm>
            <a:off x="23760" y="-109440"/>
            <a:ext cx="9150480" cy="2833560"/>
          </a:xfrm>
          <a:prstGeom prst="rect">
            <a:avLst/>
          </a:prstGeom>
          <a:ln w="0">
            <a:noFill/>
          </a:ln>
        </p:spPr>
      </p:pic>
      <p:sp>
        <p:nvSpPr>
          <p:cNvPr id="119" name="Ellipse 6"/>
          <p:cNvSpPr/>
          <p:nvPr/>
        </p:nvSpPr>
        <p:spPr>
          <a:xfrm>
            <a:off x="6983280" y="1557360"/>
            <a:ext cx="2160720" cy="10983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7"/>
          <p:cNvSpPr/>
          <p:nvPr/>
        </p:nvSpPr>
        <p:spPr>
          <a:xfrm>
            <a:off x="2411280" y="5589720"/>
            <a:ext cx="2160720" cy="10983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322880"/>
            <a:ext cx="9229680" cy="2627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0" y="256536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101680"/>
            <a:ext cx="4629240" cy="21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Ellipse 7"/>
          <p:cNvSpPr/>
          <p:nvPr/>
        </p:nvSpPr>
        <p:spPr>
          <a:xfrm>
            <a:off x="6516720" y="907920"/>
            <a:ext cx="262728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8"/>
          <p:cNvSpPr/>
          <p:nvPr/>
        </p:nvSpPr>
        <p:spPr>
          <a:xfrm>
            <a:off x="4356000" y="974880"/>
            <a:ext cx="216072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9"/>
          <p:cNvSpPr/>
          <p:nvPr/>
        </p:nvSpPr>
        <p:spPr>
          <a:xfrm>
            <a:off x="25560" y="5516640"/>
            <a:ext cx="2160360" cy="11001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llipse 10"/>
          <p:cNvSpPr/>
          <p:nvPr/>
        </p:nvSpPr>
        <p:spPr>
          <a:xfrm>
            <a:off x="2185920" y="5516640"/>
            <a:ext cx="2746440" cy="11001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Pour chaque question, déterminer </a:t>
            </a:r>
            <a:r>
              <a:rPr b="1" lang="fr-FR" sz="6000" spc="-1" strike="noStrike">
                <a:solidFill>
                  <a:srgbClr val="68007f"/>
                </a:solidFill>
                <a:latin typeface="Calibri"/>
                <a:ea typeface="Times New Roman"/>
              </a:rPr>
              <a:t>la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 ou </a:t>
            </a:r>
            <a:r>
              <a:rPr b="1" lang="fr-FR" sz="6000" spc="-1" strike="noStrike">
                <a:solidFill>
                  <a:srgbClr val="68007f"/>
                </a:solidFill>
                <a:latin typeface="Calibri"/>
                <a:ea typeface="Times New Roman"/>
              </a:rPr>
              <a:t>les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 réponses correctes 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548240"/>
            <a:ext cx="9229680" cy="232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ableau 1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Image 9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Ellipse 6"/>
          <p:cNvSpPr/>
          <p:nvPr/>
        </p:nvSpPr>
        <p:spPr>
          <a:xfrm>
            <a:off x="1835280" y="1146240"/>
            <a:ext cx="2305080" cy="98748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llipse 7"/>
          <p:cNvSpPr/>
          <p:nvPr/>
        </p:nvSpPr>
        <p:spPr>
          <a:xfrm>
            <a:off x="6540480" y="1158840"/>
            <a:ext cx="2495520" cy="10047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llipse 8"/>
          <p:cNvSpPr/>
          <p:nvPr/>
        </p:nvSpPr>
        <p:spPr>
          <a:xfrm>
            <a:off x="6708600" y="5757840"/>
            <a:ext cx="2327400" cy="98424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10"/>
          <p:cNvSpPr/>
          <p:nvPr/>
        </p:nvSpPr>
        <p:spPr>
          <a:xfrm>
            <a:off x="1835280" y="5734080"/>
            <a:ext cx="2303280" cy="100800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4651200"/>
            <a:ext cx="9229680" cy="222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1963800"/>
          </a:xfrm>
          <a:prstGeom prst="rect">
            <a:avLst/>
          </a:prstGeom>
          <a:ln w="0">
            <a:noFill/>
          </a:ln>
        </p:spPr>
      </p:pic>
      <p:pic>
        <p:nvPicPr>
          <p:cNvPr id="140" name="Image 7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Ellipse 6"/>
          <p:cNvSpPr/>
          <p:nvPr/>
        </p:nvSpPr>
        <p:spPr>
          <a:xfrm>
            <a:off x="3708360" y="981000"/>
            <a:ext cx="2703600" cy="98604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8"/>
          <p:cNvSpPr/>
          <p:nvPr/>
        </p:nvSpPr>
        <p:spPr>
          <a:xfrm>
            <a:off x="1835280" y="981000"/>
            <a:ext cx="1873080" cy="98604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0"/>
          <p:cNvSpPr/>
          <p:nvPr/>
        </p:nvSpPr>
        <p:spPr>
          <a:xfrm>
            <a:off x="6227640" y="5734080"/>
            <a:ext cx="2916360" cy="100800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lipse 11"/>
          <p:cNvSpPr/>
          <p:nvPr/>
        </p:nvSpPr>
        <p:spPr>
          <a:xfrm>
            <a:off x="0" y="5695920"/>
            <a:ext cx="1619280" cy="10065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4724280"/>
            <a:ext cx="9229680" cy="2225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2060640"/>
          </a:xfrm>
          <a:prstGeom prst="rect">
            <a:avLst/>
          </a:prstGeom>
          <a:ln w="0">
            <a:noFill/>
          </a:ln>
        </p:spPr>
      </p:pic>
      <p:pic>
        <p:nvPicPr>
          <p:cNvPr id="148" name="Image 7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Ellipse 6"/>
          <p:cNvSpPr/>
          <p:nvPr/>
        </p:nvSpPr>
        <p:spPr>
          <a:xfrm>
            <a:off x="88920" y="1085760"/>
            <a:ext cx="1962000" cy="113040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lipse 8"/>
          <p:cNvSpPr/>
          <p:nvPr/>
        </p:nvSpPr>
        <p:spPr>
          <a:xfrm>
            <a:off x="1979640" y="1008000"/>
            <a:ext cx="3024000" cy="1235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llipse 9"/>
          <p:cNvSpPr/>
          <p:nvPr/>
        </p:nvSpPr>
        <p:spPr>
          <a:xfrm>
            <a:off x="4284720" y="5680080"/>
            <a:ext cx="2968560" cy="12603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10"/>
          <p:cNvSpPr/>
          <p:nvPr/>
        </p:nvSpPr>
        <p:spPr>
          <a:xfrm>
            <a:off x="7201080" y="5751360"/>
            <a:ext cx="1979280" cy="113364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11"/>
          <p:cNvSpPr/>
          <p:nvPr/>
        </p:nvSpPr>
        <p:spPr>
          <a:xfrm>
            <a:off x="4892760" y="1008000"/>
            <a:ext cx="1839960" cy="113040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12"/>
          <p:cNvSpPr/>
          <p:nvPr/>
        </p:nvSpPr>
        <p:spPr>
          <a:xfrm>
            <a:off x="2246400" y="5680080"/>
            <a:ext cx="1979640" cy="113364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078440"/>
            <a:ext cx="9229680" cy="2871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0" y="26082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2511720"/>
          </a:xfrm>
          <a:prstGeom prst="rect">
            <a:avLst/>
          </a:prstGeom>
          <a:ln w="0">
            <a:noFill/>
          </a:ln>
        </p:spPr>
      </p:pic>
      <p:sp>
        <p:nvSpPr>
          <p:cNvPr id="158" name="Ellipse 6"/>
          <p:cNvSpPr/>
          <p:nvPr/>
        </p:nvSpPr>
        <p:spPr>
          <a:xfrm>
            <a:off x="2484360" y="5589720"/>
            <a:ext cx="2448000" cy="100620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7"/>
          <p:cNvSpPr/>
          <p:nvPr/>
        </p:nvSpPr>
        <p:spPr>
          <a:xfrm>
            <a:off x="2508120" y="1558800"/>
            <a:ext cx="2279880" cy="10065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9360">
            <a:solidFill>
              <a:srgbClr val="68007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68007f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space réservé du contenu 4" descr=""/>
          <p:cNvPicPr/>
          <p:nvPr/>
        </p:nvPicPr>
        <p:blipFill>
          <a:blip r:embed="rId1"/>
          <a:stretch/>
        </p:blipFill>
        <p:spPr>
          <a:xfrm>
            <a:off x="-66600" y="4267080"/>
            <a:ext cx="9234360" cy="26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ableau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3943440"/>
            <a:ext cx="9229680" cy="295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275256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ableau 1" descr=""/>
          <p:cNvPicPr/>
          <p:nvPr/>
        </p:nvPicPr>
        <p:blipFill>
          <a:blip r:embed="rId2"/>
          <a:stretch/>
        </p:blipFill>
        <p:spPr>
          <a:xfrm>
            <a:off x="0" y="-66600"/>
            <a:ext cx="9144000" cy="28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Espace réservé du contenu 4" descr=""/>
          <p:cNvPicPr/>
          <p:nvPr/>
        </p:nvPicPr>
        <p:blipFill>
          <a:blip r:embed="rId1"/>
          <a:stretch/>
        </p:blipFill>
        <p:spPr>
          <a:xfrm>
            <a:off x="-66600" y="4206960"/>
            <a:ext cx="9234360" cy="2693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091040"/>
            <a:ext cx="9236160" cy="285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0" y="285264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Tableau 1" descr=""/>
          <p:cNvPicPr/>
          <p:nvPr/>
        </p:nvPicPr>
        <p:blipFill>
          <a:blip r:embed="rId2"/>
          <a:stretch/>
        </p:blipFill>
        <p:spPr>
          <a:xfrm>
            <a:off x="0" y="-96840"/>
            <a:ext cx="914400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3797280"/>
            <a:ext cx="9229680" cy="315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0" y="2708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ableau 1" descr=""/>
          <p:cNvPicPr/>
          <p:nvPr/>
        </p:nvPicPr>
        <p:blipFill>
          <a:blip r:embed="rId2"/>
          <a:stretch/>
        </p:blipFill>
        <p:spPr>
          <a:xfrm>
            <a:off x="23760" y="-109440"/>
            <a:ext cx="915048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322880"/>
            <a:ext cx="9229680" cy="262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079720"/>
          </a:xfrm>
          <a:prstGeom prst="rect">
            <a:avLst/>
          </a:prstGeom>
          <a:ln w="0">
            <a:noFill/>
          </a:ln>
        </p:spPr>
      </p:pic>
      <p:pic>
        <p:nvPicPr>
          <p:cNvPr id="71" name="Image 6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101680"/>
            <a:ext cx="4629240" cy="21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548240"/>
            <a:ext cx="9229680" cy="232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Tableau 1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Image 9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06-22T07:02:06Z</dcterms:modified>
  <cp:revision>346</cp:revision>
  <dc:subject/>
  <dc:title>Diapositive 0</dc:title>
</cp:coreProperties>
</file>