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0F87-1F80-4B6A-A736-BC9EE98575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A3D6-31D4-4279-9575-2E635C79DF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D27D-B2DD-4434-9AD6-2A31155A37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14D-FB37-4F4C-A16F-1C5C976A60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2547-B585-4B4F-89B2-8195451FA3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D0D6-69E0-43BA-9AF3-E9167DC3A0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FC3C-FEC8-4516-9F04-81940FB33F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62A8-7427-4361-9FD8-21111A6F7F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91FB-AD99-4A50-AD67-2DCE86F845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557A-F749-48F2-8D24-D045841708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8BC8-A8D5-432E-9D3A-190EFB6680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75AB-F4D0-485B-B148-C03E2D15E8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3EB7-CECA-4E8A-A6FE-209AC4BAE1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0298-C29F-4951-A2ED-9F3447D1FB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0D3E-E535-4C59-B35F-ED97BC5E94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1B5E-8AA7-4DF3-A0F9-ECB42B34EF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4189-DAB5-4800-B884-088EBE6E67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A636-A4A5-44CF-9F82-60A563531F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15E4-F9B7-4DED-86E8-53DF4A1B30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B6E1-2543-480D-B8C1-F17FDC6843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E3C4-0E8E-4AF8-84A4-04FD29741A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60A-82F7-422E-A39D-0265F6A98B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83CA-4730-4B1F-AFEC-C5D9D67C55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D628-EA5C-4901-ACB4-F9B7887B78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9771-3620-4BD2-8247-7DFCA06CC7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6407-B21F-48AF-9304-BFF75E05A5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4FF-7311-4B2C-8E52-74964160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2C8-F974-49C8-8E9F-B5619AAA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A53-559C-4FF2-AE18-6AB5526C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02B-595C-4DB0-A956-D6B8A759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8BF-24B6-4D13-9746-9138D83C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FB7-2578-410E-A8AC-D811C198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54F-5EDA-4AAF-97E7-5B7D04B9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C7C-7E0E-4A0D-A7B0-B26A0CEF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949-D5B9-4421-AE59-87CD6B7B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73D-AE1A-47E0-A14E-7A09C74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9F3-5739-4C5C-BC20-12B91763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8AB-3605-4DC7-9F30-36663D5B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05DA-6B07-4B3A-AB06-8B942F423A3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F59E-161F-4A03-865E-4EC10812B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554040" y="1494000"/>
            <a:ext cx="8035920" cy="2749320"/>
            <a:chOff x="554040" y="1494000"/>
            <a:chExt cx="8035920" cy="274932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554040" y="1494000"/>
              <a:ext cx="803592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17480" y="1733400"/>
              <a:ext cx="770904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FONCTION INVERSE</a:t>
              </a:r>
              <a:br>
                <a:rPr sz="6600"/>
              </a:br>
              <a:r>
                <a:rPr b="1" lang="fr-FR" sz="6600" spc="-1" strike="noStrike">
                  <a:solidFill>
                    <a:srgbClr val="ffc000"/>
                  </a:solidFill>
                  <a:latin typeface="Georgia"/>
                </a:rPr>
                <a:t>SÉRIE 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75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CORREC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sées 4"/>
          <p:cNvSpPr/>
          <p:nvPr/>
        </p:nvSpPr>
        <p:spPr>
          <a:xfrm>
            <a:off x="826920" y="4724280"/>
            <a:ext cx="3313440" cy="1605240"/>
          </a:xfrm>
          <a:prstGeom prst="cloudCallout">
            <a:avLst>
              <a:gd name="adj1" fmla="val 54777"/>
              <a:gd name="adj2" fmla="val -70541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tre 1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950904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ZoneTexte 3" descr=""/>
          <p:cNvPicPr/>
          <p:nvPr/>
        </p:nvPicPr>
        <p:blipFill>
          <a:blip r:embed="rId2"/>
          <a:stretch/>
        </p:blipFill>
        <p:spPr>
          <a:xfrm>
            <a:off x="1457280" y="4797360"/>
            <a:ext cx="2517840" cy="131148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à coins arrondis 5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82" name="Rectangle à coins arrondis 5" descr=""/>
            <p:cNvPicPr/>
            <p:nvPr/>
          </p:nvPicPr>
          <p:blipFill>
            <a:blip r:embed="rId3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ensées 6"/>
          <p:cNvSpPr/>
          <p:nvPr/>
        </p:nvSpPr>
        <p:spPr>
          <a:xfrm>
            <a:off x="826920" y="4724280"/>
            <a:ext cx="3673800" cy="1605240"/>
          </a:xfrm>
          <a:prstGeom prst="cloudCallout">
            <a:avLst>
              <a:gd name="adj1" fmla="val 50319"/>
              <a:gd name="adj2" fmla="val -71393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429840" cy="6870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ZoneTexte 3" descr=""/>
          <p:cNvPicPr/>
          <p:nvPr/>
        </p:nvPicPr>
        <p:blipFill>
          <a:blip r:embed="rId2"/>
          <a:stretch/>
        </p:blipFill>
        <p:spPr>
          <a:xfrm>
            <a:off x="963720" y="4773600"/>
            <a:ext cx="35352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88" name="Rectangle à coins arrondis 5"/>
          <p:cNvGrpSpPr/>
          <p:nvPr/>
        </p:nvGrpSpPr>
        <p:grpSpPr>
          <a:xfrm>
            <a:off x="5303880" y="4962600"/>
            <a:ext cx="3456000" cy="1401840"/>
            <a:chOff x="5303880" y="4962600"/>
            <a:chExt cx="3456000" cy="1401840"/>
          </a:xfrm>
        </p:grpSpPr>
        <p:pic>
          <p:nvPicPr>
            <p:cNvPr id="89" name="Rectangle à coins arrondis 5" descr=""/>
            <p:cNvPicPr/>
            <p:nvPr/>
          </p:nvPicPr>
          <p:blipFill>
            <a:blip r:embed="rId3"/>
            <a:stretch/>
          </p:blipFill>
          <p:spPr>
            <a:xfrm>
              <a:off x="5303880" y="4962600"/>
              <a:ext cx="3456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560920" y="5067360"/>
              <a:ext cx="2941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FAUS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ensées 4"/>
          <p:cNvSpPr/>
          <p:nvPr/>
        </p:nvSpPr>
        <p:spPr>
          <a:xfrm>
            <a:off x="826920" y="4724280"/>
            <a:ext cx="3562560" cy="1729080"/>
          </a:xfrm>
          <a:prstGeom prst="cloudCallout">
            <a:avLst>
              <a:gd name="adj1" fmla="val 83185"/>
              <a:gd name="adj2" fmla="val -77708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ZoneTexte 3" descr=""/>
          <p:cNvPicPr/>
          <p:nvPr/>
        </p:nvPicPr>
        <p:blipFill>
          <a:blip r:embed="rId2"/>
          <a:stretch/>
        </p:blipFill>
        <p:spPr>
          <a:xfrm>
            <a:off x="1054080" y="4718160"/>
            <a:ext cx="3268800" cy="1639800"/>
          </a:xfrm>
          <a:prstGeom prst="rect">
            <a:avLst/>
          </a:prstGeom>
          <a:ln w="0">
            <a:noFill/>
          </a:ln>
        </p:spPr>
      </p:pic>
      <p:grpSp>
        <p:nvGrpSpPr>
          <p:cNvPr id="95" name="Rectangle à coins arrondis 6"/>
          <p:cNvGrpSpPr/>
          <p:nvPr/>
        </p:nvGrpSpPr>
        <p:grpSpPr>
          <a:xfrm>
            <a:off x="5303880" y="4962600"/>
            <a:ext cx="3456000" cy="1401840"/>
            <a:chOff x="5303880" y="4962600"/>
            <a:chExt cx="3456000" cy="1401840"/>
          </a:xfrm>
        </p:grpSpPr>
        <p:pic>
          <p:nvPicPr>
            <p:cNvPr id="96" name="Rectangle à coins arrondis 6" descr=""/>
            <p:cNvPicPr/>
            <p:nvPr/>
          </p:nvPicPr>
          <p:blipFill>
            <a:blip r:embed="rId3"/>
            <a:stretch/>
          </p:blipFill>
          <p:spPr>
            <a:xfrm>
              <a:off x="5303880" y="4962600"/>
              <a:ext cx="3456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60920" y="5067360"/>
              <a:ext cx="2941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FAUS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sées 4"/>
          <p:cNvSpPr/>
          <p:nvPr/>
        </p:nvSpPr>
        <p:spPr>
          <a:xfrm>
            <a:off x="826920" y="4724280"/>
            <a:ext cx="4367520" cy="1605240"/>
          </a:xfrm>
          <a:prstGeom prst="cloudCallout">
            <a:avLst>
              <a:gd name="adj1" fmla="val 58597"/>
              <a:gd name="adj2" fmla="val -83296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ZoneTexte 7" descr=""/>
          <p:cNvPicPr/>
          <p:nvPr/>
        </p:nvPicPr>
        <p:blipFill>
          <a:blip r:embed="rId2"/>
          <a:stretch/>
        </p:blipFill>
        <p:spPr>
          <a:xfrm>
            <a:off x="914400" y="4797360"/>
            <a:ext cx="4303800" cy="1249560"/>
          </a:xfrm>
          <a:prstGeom prst="rect">
            <a:avLst/>
          </a:prstGeom>
          <a:ln w="0">
            <a:noFill/>
          </a:ln>
        </p:spPr>
      </p:pic>
      <p:grpSp>
        <p:nvGrpSpPr>
          <p:cNvPr id="102" name="Rectangle à coins arrondis 8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03" name="Rectangle à coins arrondis 8" descr=""/>
            <p:cNvPicPr/>
            <p:nvPr/>
          </p:nvPicPr>
          <p:blipFill>
            <a:blip r:embed="rId3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ensées 3"/>
          <p:cNvSpPr/>
          <p:nvPr/>
        </p:nvSpPr>
        <p:spPr>
          <a:xfrm>
            <a:off x="324000" y="4724280"/>
            <a:ext cx="4592520" cy="1605240"/>
          </a:xfrm>
          <a:prstGeom prst="cloudCallout">
            <a:avLst>
              <a:gd name="adj1" fmla="val 71300"/>
              <a:gd name="adj2" fmla="val -106976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à coins arrondis 4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09" name="Rectangle à coins arrondis 4" descr=""/>
            <p:cNvPicPr/>
            <p:nvPr/>
          </p:nvPicPr>
          <p:blipFill>
            <a:blip r:embed="rId2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ZoneTexte 5" descr=""/>
          <p:cNvPicPr/>
          <p:nvPr/>
        </p:nvPicPr>
        <p:blipFill>
          <a:blip r:embed="rId3"/>
          <a:stretch/>
        </p:blipFill>
        <p:spPr>
          <a:xfrm>
            <a:off x="792000" y="4737240"/>
            <a:ext cx="417672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Dans chaque cas, dire si la proposition est vraie ou fausse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ensées 3"/>
          <p:cNvSpPr/>
          <p:nvPr/>
        </p:nvSpPr>
        <p:spPr>
          <a:xfrm>
            <a:off x="324000" y="4724280"/>
            <a:ext cx="4592520" cy="1729080"/>
          </a:xfrm>
          <a:prstGeom prst="cloudCallout">
            <a:avLst>
              <a:gd name="adj1" fmla="val 69217"/>
              <a:gd name="adj2" fmla="val -113476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ZoneTexte 5" descr=""/>
          <p:cNvPicPr/>
          <p:nvPr/>
        </p:nvPicPr>
        <p:blipFill>
          <a:blip r:embed="rId2"/>
          <a:stretch/>
        </p:blipFill>
        <p:spPr>
          <a:xfrm>
            <a:off x="682560" y="4737240"/>
            <a:ext cx="4175280" cy="1358640"/>
          </a:xfrm>
          <a:prstGeom prst="rect">
            <a:avLst/>
          </a:prstGeom>
          <a:ln w="0">
            <a:noFill/>
          </a:ln>
        </p:spPr>
      </p:pic>
      <p:grpSp>
        <p:nvGrpSpPr>
          <p:cNvPr id="116" name="Rectangle à coins arrondis 6"/>
          <p:cNvGrpSpPr/>
          <p:nvPr/>
        </p:nvGrpSpPr>
        <p:grpSpPr>
          <a:xfrm>
            <a:off x="5303880" y="4962600"/>
            <a:ext cx="3456000" cy="1401840"/>
            <a:chOff x="5303880" y="4962600"/>
            <a:chExt cx="3456000" cy="1401840"/>
          </a:xfrm>
        </p:grpSpPr>
        <p:pic>
          <p:nvPicPr>
            <p:cNvPr id="117" name="Rectangle à coins arrondis 6" descr=""/>
            <p:cNvPicPr/>
            <p:nvPr/>
          </p:nvPicPr>
          <p:blipFill>
            <a:blip r:embed="rId3"/>
            <a:stretch/>
          </p:blipFill>
          <p:spPr>
            <a:xfrm>
              <a:off x="5303880" y="4962600"/>
              <a:ext cx="3456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60920" y="5067360"/>
              <a:ext cx="2941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FAUS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ensées 6"/>
          <p:cNvSpPr/>
          <p:nvPr/>
        </p:nvSpPr>
        <p:spPr>
          <a:xfrm>
            <a:off x="324000" y="4437000"/>
            <a:ext cx="4808520" cy="1892520"/>
          </a:xfrm>
          <a:prstGeom prst="cloudCallout">
            <a:avLst>
              <a:gd name="adj1" fmla="val 50402"/>
              <a:gd name="adj2" fmla="val -89337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Rectangle à coins arrondis 4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23" name="Rectangle à coins arrondis 4" descr=""/>
            <p:cNvPicPr/>
            <p:nvPr/>
          </p:nvPicPr>
          <p:blipFill>
            <a:blip r:embed="rId2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ZoneTexte 5" descr=""/>
          <p:cNvPicPr/>
          <p:nvPr/>
        </p:nvPicPr>
        <p:blipFill>
          <a:blip r:embed="rId3"/>
          <a:stretch/>
        </p:blipFill>
        <p:spPr>
          <a:xfrm>
            <a:off x="628560" y="4591080"/>
            <a:ext cx="455940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ensées 3"/>
          <p:cNvSpPr/>
          <p:nvPr/>
        </p:nvSpPr>
        <p:spPr>
          <a:xfrm>
            <a:off x="324000" y="4724280"/>
            <a:ext cx="4592520" cy="1605240"/>
          </a:xfrm>
          <a:prstGeom prst="cloudCallout">
            <a:avLst>
              <a:gd name="adj1" fmla="val 79620"/>
              <a:gd name="adj2" fmla="val -120583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Rectangle à coins arrondis 4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30" name="Rectangle à coins arrondis 4" descr=""/>
            <p:cNvPicPr/>
            <p:nvPr/>
          </p:nvPicPr>
          <p:blipFill>
            <a:blip r:embed="rId2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ZoneTexte 5" descr=""/>
          <p:cNvPicPr/>
          <p:nvPr/>
        </p:nvPicPr>
        <p:blipFill>
          <a:blip r:embed="rId3"/>
          <a:stretch/>
        </p:blipFill>
        <p:spPr>
          <a:xfrm>
            <a:off x="792000" y="4737240"/>
            <a:ext cx="417672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ensées 6"/>
          <p:cNvSpPr/>
          <p:nvPr/>
        </p:nvSpPr>
        <p:spPr>
          <a:xfrm>
            <a:off x="826920" y="4724280"/>
            <a:ext cx="3313440" cy="1605240"/>
          </a:xfrm>
          <a:prstGeom prst="cloudCallout">
            <a:avLst>
              <a:gd name="adj1" fmla="val 108342"/>
              <a:gd name="adj2" fmla="val -107958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ctangle à coins arrondis 4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37" name="Rectangle à coins arrondis 4" descr=""/>
            <p:cNvPicPr/>
            <p:nvPr/>
          </p:nvPicPr>
          <p:blipFill>
            <a:blip r:embed="rId2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ZoneTexte 5" descr=""/>
          <p:cNvPicPr/>
          <p:nvPr/>
        </p:nvPicPr>
        <p:blipFill>
          <a:blip r:embed="rId3"/>
          <a:stretch/>
        </p:blipFill>
        <p:spPr>
          <a:xfrm>
            <a:off x="1474920" y="4913280"/>
            <a:ext cx="2090520" cy="9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ensées 3"/>
          <p:cNvSpPr/>
          <p:nvPr/>
        </p:nvSpPr>
        <p:spPr>
          <a:xfrm>
            <a:off x="324000" y="4724280"/>
            <a:ext cx="4319280" cy="1605240"/>
          </a:xfrm>
          <a:prstGeom prst="cloudCallout">
            <a:avLst>
              <a:gd name="adj1" fmla="val 73523"/>
              <a:gd name="adj2" fmla="val -122282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ZoneTexte 5" descr=""/>
          <p:cNvPicPr/>
          <p:nvPr/>
        </p:nvPicPr>
        <p:blipFill>
          <a:blip r:embed="rId2"/>
          <a:stretch/>
        </p:blipFill>
        <p:spPr>
          <a:xfrm>
            <a:off x="755640" y="4962600"/>
            <a:ext cx="3359160" cy="1133280"/>
          </a:xfrm>
          <a:prstGeom prst="rect">
            <a:avLst/>
          </a:prstGeom>
          <a:ln w="0">
            <a:noFill/>
          </a:ln>
        </p:spPr>
      </p:pic>
      <p:grpSp>
        <p:nvGrpSpPr>
          <p:cNvPr id="144" name="Rectangle à coins arrondis 6"/>
          <p:cNvGrpSpPr/>
          <p:nvPr/>
        </p:nvGrpSpPr>
        <p:grpSpPr>
          <a:xfrm>
            <a:off x="5303880" y="4962600"/>
            <a:ext cx="3456000" cy="1401840"/>
            <a:chOff x="5303880" y="4962600"/>
            <a:chExt cx="3456000" cy="1401840"/>
          </a:xfrm>
        </p:grpSpPr>
        <p:pic>
          <p:nvPicPr>
            <p:cNvPr id="145" name="Rectangle à coins arrondis 6" descr=""/>
            <p:cNvPicPr/>
            <p:nvPr/>
          </p:nvPicPr>
          <p:blipFill>
            <a:blip r:embed="rId3"/>
            <a:stretch/>
          </p:blipFill>
          <p:spPr>
            <a:xfrm>
              <a:off x="5303880" y="4962600"/>
              <a:ext cx="3456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560920" y="5067360"/>
              <a:ext cx="2941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FAUS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148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FI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re 1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9509040" cy="6870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42984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Dans chaque cas, dire si l’implication est vraie ou fausse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04-26T10:54:15Z</dcterms:modified>
  <cp:revision>416</cp:revision>
  <dc:subject/>
  <dc:title>Diapositive 0</dc:title>
</cp:coreProperties>
</file>