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91D-3CB1-4351-8A95-F7DEB07B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529-D16E-442F-9485-5CE3D35D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34C-2529-4721-84ED-AD4ECDD9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FB7-F68B-44E9-BEEF-F07CB93F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65CD-E8FC-447A-9A43-B14BEED7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5223-68B6-4326-8471-6BCAA044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DCA-CE6E-476C-AB6F-0D4033D9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9744-BF4B-44E7-B081-6C888F63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9CB4-DC3C-4FEF-A149-83177119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C6D1-9A0B-4A67-A5C9-4A2003B5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FD4C-1EA7-471E-8FC4-B946A53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708-14F9-4DEE-ABF4-E132E1F7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1D4D-4933-4C3E-AF72-4A2CD25C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CB88-174B-48DD-8494-7C21EAE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A90B-D58D-477B-B813-5AA671B2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BEC9-FCE1-47A5-8B14-FFF82CB1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0833-1A5B-4E85-A024-EB884E5F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BBFE-A7B8-4C1F-A501-2C8F972C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A27B-FC7B-40AB-A338-124AA422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D2AA-7982-44B2-819A-00EBA38F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4422-6853-4E11-8D38-40F7B541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AACB-3F0A-4E8A-8812-384C17B3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C84-E477-493E-B6DD-57AB8E9E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6581-898B-4F6D-9859-268C9F81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7D8B-DD2A-4E70-ABB4-6FB42792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9F4D-9DE9-4BCD-81AF-FB781FE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9B57-1FC2-498E-9D6F-5EF2CC65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1217-C531-440D-8525-CC51761E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1EA8-1154-45F7-8361-7C4022B4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E3FC-1BA9-4D1C-856E-8ACCBF21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AA27-BE39-4776-9B47-A07193B9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48D6-91DF-4DD5-93DF-33BC3235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CA19-1A29-4DBB-97F4-87A54BA8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99A-47AD-4D49-8B3E-AED339D3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C888B-6467-4058-8FCE-7B7DDCA2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0B96-2DA7-4369-8ED1-F2F6BFD0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5F94-6C24-4D02-8876-E7AAD12F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E4E7-5D6E-4267-ACC7-BDB664D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B802-8EFB-473F-9C6D-5A7E0D0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995E0-52CB-4209-A32F-15012DC0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FC853-F459-4BF5-9E34-5B0FF197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C7502-A4A1-4AEF-A02C-8116AD7C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6951A-8B92-4771-A40E-F6ABECB5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967-1433-4CCB-A991-79D1790A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EFF-4528-4A63-817B-C0AFFFBD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2CC-13B1-411A-A614-7A0457AF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90D-5135-4729-B580-653ECF16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461-4624-4AF2-AA18-A806BE29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9212-1C57-441E-A1F8-675BBE3FBA8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1F29-2B24-490F-94CE-589DD2D58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EA4D-8B8C-4E67-92B6-E8ED0CBB589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371C-7D2A-4399-895B-5553988CA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B2A3-D26F-465F-A0C9-A178F606739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D5A9-20A6-4BA7-B287-0F61CA856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A91F-FD00-4283-9561-F1B838F2ECC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801A-FEC1-4EA9-950D-5506D8884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688C-70CA-4421-B070-A2FB6B0DB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9944-B732-4E32-BFDC-B14AC5804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953735"/>
                </a:solidFill>
                <a:latin typeface="Calibri"/>
              </a:rPr>
              <a:t>Statistiques</a:t>
            </a:r>
            <a:r>
              <a:rPr b="1" lang="fr-FR" sz="72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tre 1"/>
          <p:cNvSpPr/>
          <p:nvPr/>
        </p:nvSpPr>
        <p:spPr>
          <a:xfrm>
            <a:off x="0" y="4437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53735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F1C3-2796-42F6-ABB3-3CF408515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504d"/>
                </a:solidFill>
                <a:latin typeface="Calibri"/>
              </a:rPr>
              <a:t>Voici le diagramme en bâtons des effectifs</a:t>
            </a:r>
            <a:br>
              <a:rPr sz="3600"/>
            </a:br>
            <a:r>
              <a:rPr b="0" lang="fr-FR" sz="3600" spc="-1" strike="noStrike">
                <a:solidFill>
                  <a:srgbClr val="c0504d"/>
                </a:solidFill>
                <a:latin typeface="Calibri"/>
              </a:rPr>
              <a:t>d’une série statistique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1476360" y="1413000"/>
          <a:ext cx="6129360" cy="31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13000"/>
                    <a:ext cx="612936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4"/>
          <p:cNvSpPr/>
          <p:nvPr/>
        </p:nvSpPr>
        <p:spPr>
          <a:xfrm>
            <a:off x="2050920" y="4653000"/>
            <a:ext cx="70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Arial"/>
              </a:rPr>
              <a:t>Effectif total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Arial"/>
              </a:rPr>
              <a:t>Mode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Arial"/>
              </a:rPr>
              <a:t>Médiane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D39-2540-4E46-92AA-F73F64E2C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Voici la boîte à moustache représentant le temps de lecture hebdomadaire d’une classe de 36 élè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2195640" y="1341360"/>
          <a:ext cx="4967280" cy="303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341360"/>
                    <a:ext cx="496728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407628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2200" spc="-1" strike="noStrike" baseline="-25000">
                <a:solidFill>
                  <a:srgbClr val="77933c"/>
                </a:solidFill>
                <a:latin typeface="Calibri"/>
              </a:rPr>
              <a:t>1 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2200" spc="-1" strike="noStrike" baseline="-25000">
                <a:solidFill>
                  <a:srgbClr val="77933c"/>
                </a:solidFill>
                <a:latin typeface="Calibri"/>
              </a:rPr>
              <a:t>3 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Quelle est l’étendue de la série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Au moins 50% des élèves lisent entre 2 et 5h par semaine :   OUI       N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Au moins 18 élèves lisent 3h par semaine ou moins :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	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              OUI        NON</a:t>
            </a:r>
            <a:r>
              <a:rPr b="1" lang="fr-FR" sz="13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53FD-0DF0-47BA-98C1-461DE070E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C568-B685-499B-80E9-EE2216B55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Voici la répartition des élèves d’une classe de 2nde selon leur âg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43280" y="3938760"/>
            <a:ext cx="63007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a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b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c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d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71680" y="1714680"/>
          <a:ext cx="8001000" cy="1809720"/>
        </p:xfrm>
        <a:graphic>
          <a:graphicData uri="http://schemas.openxmlformats.org/drawingml/2006/table">
            <a:tbl>
              <a:tblPr/>
              <a:tblGrid>
                <a:gridCol w="1912680"/>
                <a:gridCol w="1511280"/>
                <a:gridCol w="1584360"/>
                <a:gridCol w="1392480"/>
                <a:gridCol w="16002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é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5B6E-0FF7-4E76-B8B2-E6739588F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53735"/>
                </a:solidFill>
                <a:latin typeface="Calibri"/>
              </a:rPr>
              <a:t>Cette série statistique est représentée pa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8786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          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a)                        b)                              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6000" y="1268280"/>
          <a:ext cx="6840720" cy="1513080"/>
        </p:xfrm>
        <a:graphic>
          <a:graphicData uri="http://schemas.openxmlformats.org/drawingml/2006/table">
            <a:tbl>
              <a:tblPr/>
              <a:tblGrid>
                <a:gridCol w="2359080"/>
                <a:gridCol w="971640"/>
                <a:gridCol w="795240"/>
                <a:gridCol w="795240"/>
                <a:gridCol w="714600"/>
                <a:gridCol w="617400"/>
                <a:gridCol w="58752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20" name="Graphique 10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2846520" cy="2230560"/>
          </a:xfrm>
          <a:prstGeom prst="rect">
            <a:avLst/>
          </a:prstGeom>
          <a:ln w="0">
            <a:noFill/>
          </a:ln>
        </p:spPr>
      </p:pic>
      <p:pic>
        <p:nvPicPr>
          <p:cNvPr id="221" name="Graphique 11" descr=""/>
          <p:cNvPicPr/>
          <p:nvPr/>
        </p:nvPicPr>
        <p:blipFill>
          <a:blip r:embed="rId2"/>
          <a:stretch/>
        </p:blipFill>
        <p:spPr>
          <a:xfrm>
            <a:off x="103320" y="3352680"/>
            <a:ext cx="2957400" cy="2090880"/>
          </a:xfrm>
          <a:prstGeom prst="rect">
            <a:avLst/>
          </a:prstGeom>
          <a:ln w="0">
            <a:noFill/>
          </a:ln>
        </p:spPr>
      </p:pic>
      <p:pic>
        <p:nvPicPr>
          <p:cNvPr id="222" name="Graphique 12" descr=""/>
          <p:cNvPicPr/>
          <p:nvPr/>
        </p:nvPicPr>
        <p:blipFill>
          <a:blip r:embed="rId3"/>
          <a:stretch/>
        </p:blipFill>
        <p:spPr>
          <a:xfrm>
            <a:off x="5791320" y="3425760"/>
            <a:ext cx="30286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5AA-E034-4656-9DD7-F33298B9D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53735"/>
                </a:solidFill>
                <a:latin typeface="Calibri"/>
              </a:rPr>
              <a:t>Le diagramme suivant correspond-t-il à l’écran</a:t>
            </a:r>
            <a:br>
              <a:rPr sz="3200"/>
            </a:br>
            <a:r>
              <a:rPr b="0" lang="fr-FR" sz="3200" spc="-1" strike="noStrike">
                <a:solidFill>
                  <a:srgbClr val="953735"/>
                </a:solidFill>
                <a:latin typeface="Calibri"/>
              </a:rPr>
              <a:t>de la calculatric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Espace réservé du contenu 3" descr=""/>
          <p:cNvPicPr/>
          <p:nvPr/>
        </p:nvPicPr>
        <p:blipFill>
          <a:blip r:embed="rId1"/>
          <a:stretch/>
        </p:blipFill>
        <p:spPr>
          <a:xfrm>
            <a:off x="176040" y="695160"/>
            <a:ext cx="5548320" cy="5973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2483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3D0D-A2A9-4BBD-97BA-6FD544E27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6D2E-CF66-4A7E-93B9-FB57EECBC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A la calculatrice, éditer cette séri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785880"/>
          <a:ext cx="8215200" cy="1457280"/>
        </p:xfrm>
        <a:graphic>
          <a:graphicData uri="http://schemas.openxmlformats.org/drawingml/2006/table">
            <a:tbl>
              <a:tblPr/>
              <a:tblGrid>
                <a:gridCol w="1335240"/>
                <a:gridCol w="1012680"/>
                <a:gridCol w="1173240"/>
                <a:gridCol w="1173240"/>
                <a:gridCol w="1172880"/>
                <a:gridCol w="1175040"/>
                <a:gridCol w="11728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2" name="Rectangle 3"/>
          <p:cNvSpPr/>
          <p:nvPr/>
        </p:nvSpPr>
        <p:spPr>
          <a:xfrm>
            <a:off x="2987640" y="2924280"/>
            <a:ext cx="6156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Médiane =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Q1 = ? </a:t>
            </a: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Q3 = ? </a:t>
            </a: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………</a:t>
            </a:r>
            <a:r>
              <a:rPr b="1" lang="fr-FR" sz="4000" spc="-1" strike="noStrike">
                <a:solidFill>
                  <a:srgbClr val="77933c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6BD-5447-4566-A0A3-8859B6F11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44C4-CCDE-4FE6-A9D9-4D3B5D28A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953735"/>
                </a:solidFill>
                <a:latin typeface="Calibri"/>
              </a:rPr>
              <a:t>Fin</a:t>
            </a:r>
            <a:r>
              <a:rPr b="1" lang="fr-FR" sz="72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0F3-C855-4D53-8A65-88BBAC50F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9588-4D84-416D-B7CC-1ACF5ECF8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40716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628640"/>
          <a:ext cx="7358040" cy="1584360"/>
        </p:xfrm>
        <a:graphic>
          <a:graphicData uri="http://schemas.openxmlformats.org/drawingml/2006/table">
            <a:tbl>
              <a:tblPr/>
              <a:tblGrid>
                <a:gridCol w="1838520"/>
                <a:gridCol w="1839960"/>
                <a:gridCol w="1839960"/>
                <a:gridCol w="183960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28D6-0889-4E67-8A42-311C8F43A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4710-7B4B-4BCB-B843-05F0807E0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4005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55640" y="1557360"/>
          <a:ext cx="7786800" cy="1566720"/>
        </p:xfrm>
        <a:graphic>
          <a:graphicData uri="http://schemas.openxmlformats.org/drawingml/2006/table">
            <a:tbl>
              <a:tblPr/>
              <a:tblGrid>
                <a:gridCol w="1946160"/>
                <a:gridCol w="1946520"/>
                <a:gridCol w="1947600"/>
                <a:gridCol w="194652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é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009B-0F77-4693-B46E-1ACC5859F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45A5-E325-491D-8AD7-03657C0B8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84000" y="2997000"/>
            <a:ext cx="66596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Mod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Étendu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Médian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1125360"/>
          <a:ext cx="7429320" cy="1384560"/>
        </p:xfrm>
        <a:graphic>
          <a:graphicData uri="http://schemas.openxmlformats.org/drawingml/2006/table">
            <a:tbl>
              <a:tblPr/>
              <a:tblGrid>
                <a:gridCol w="1857240"/>
                <a:gridCol w="1857600"/>
                <a:gridCol w="1857240"/>
                <a:gridCol w="1857240"/>
              </a:tblGrid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213A-F2BF-48AC-B5E7-7EF9ACC6F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CBC3-E32A-463D-89F3-439FDF275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53735"/>
                </a:solidFill>
                <a:latin typeface="Calibri"/>
              </a:rPr>
              <a:t>Dans une école maternelle, 3 filles et 2 garçons jouent avec de la pâte à mode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f81bd"/>
                </a:solidFill>
                <a:latin typeface="Calibri"/>
              </a:rPr>
              <a:t>La taille moyenne des 3 filles est 1 m et celle des 2 garçons 1,1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La taille moyenne des 5 enfants est </a:t>
            </a:r>
            <a:r>
              <a:rPr b="1" lang="fr-FR" sz="5400" spc="-1" strike="noStrike">
                <a:solidFill>
                  <a:srgbClr val="77933c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F853-9914-44A5-B15F-C16B4590F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fr-FR" sz="2900" spc="-1" strike="noStrike">
                <a:solidFill>
                  <a:srgbClr val="953735"/>
                </a:solidFill>
                <a:latin typeface="Calibri"/>
              </a:rPr>
              <a:t>Voici le </a:t>
            </a:r>
            <a:r>
              <a:rPr b="1" lang="fr-FR" sz="3000" spc="-1" strike="noStrike">
                <a:solidFill>
                  <a:srgbClr val="953735"/>
                </a:solidFill>
                <a:latin typeface="Calibri"/>
              </a:rPr>
              <a:t>nombre</a:t>
            </a:r>
            <a:r>
              <a:rPr b="1" lang="fr-FR" sz="2900" spc="-1" strike="noStrike">
                <a:solidFill>
                  <a:srgbClr val="953735"/>
                </a:solidFill>
                <a:latin typeface="Calibri"/>
              </a:rPr>
              <a:t> de SMS reçus par jour par un groupe d’amis</a:t>
            </a:r>
            <a:br>
              <a:rPr sz="29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413000"/>
          <a:ext cx="7561440" cy="1728720"/>
        </p:xfrm>
        <a:graphic>
          <a:graphicData uri="http://schemas.openxmlformats.org/drawingml/2006/table">
            <a:tbl>
              <a:tblPr/>
              <a:tblGrid>
                <a:gridCol w="2378160"/>
                <a:gridCol w="1360440"/>
                <a:gridCol w="1274760"/>
                <a:gridCol w="1273320"/>
                <a:gridCol w="1274760"/>
              </a:tblGrid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bre de 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3430440"/>
            <a:ext cx="896472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Le nombre moyen de SMS reçus par jour est 5,5 :   OUI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L’étendue de cette série est égale à 7 :                       OUI 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80% des amis ont reçu moins de 8 SMS :                   OUI 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50% des amis ont reçu au moins 5 SMS :                   OUI 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0774-4849-4705-A40F-AA9FF74E2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22DA-CD76-4211-B074-423FF7B99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Voici le polygone des effectifs cumulés croissants d’une</a:t>
            </a:r>
            <a:br>
              <a:rPr sz="2800"/>
            </a:b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série comprenant 3 classes [0 ; 3 [, [3 ; 6 [ et [6 ; 9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8592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L’effectif de la classe [6 ; 9] e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La fréquence de la classe [0 ; 3 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e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Médiane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3200" spc="-1" strike="noStrike" baseline="-25000">
                <a:solidFill>
                  <a:srgbClr val="77933c"/>
                </a:solidFill>
                <a:latin typeface="Calibri"/>
              </a:rPr>
              <a:t>1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3200" spc="-1" strike="noStrike" baseline="-25000">
                <a:solidFill>
                  <a:srgbClr val="77933c"/>
                </a:solidFill>
                <a:latin typeface="Calibri"/>
              </a:rPr>
              <a:t>3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7"/>
          <p:cNvGraphicFramePr/>
          <p:nvPr/>
        </p:nvGraphicFramePr>
        <p:xfrm>
          <a:off x="4680000" y="1649520"/>
          <a:ext cx="4500360" cy="415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000" y="1649520"/>
                    <a:ext cx="4500360" cy="41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C309-2F11-4B87-A160-3390DBB2F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4F77-C15A-449C-9C97-2DE6BA362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8000" y="980640"/>
            <a:ext cx="90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La moyenne de la séri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− </a:t>
            </a: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5    ;   − 4   ; − 2   ;   1    ;    6    ;   10   est 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La moyenne de la séri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7933c"/>
                </a:solidFill>
                <a:latin typeface="Calibri"/>
              </a:rPr>
              <a:t>	</a:t>
            </a: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2005 ; 2006 ; 2008 ; 2011 ; 2016 ; 2020 es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B583-70B8-4F04-897F-613AE2E8F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Le personnel soignant d’une clinique, constitué de 200</a:t>
            </a:r>
            <a:br>
              <a:rPr sz="2800"/>
            </a:b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 personnes, reçoit une prime de fin d’anné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ff"/>
                </a:solidFill>
                <a:latin typeface="Calibri"/>
              </a:rPr>
              <a:t>La fréquence qu’une personne ait une prim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fr-FR" sz="2800" spc="-1" strike="noStrike">
                <a:solidFill>
                  <a:srgbClr val="0066ff"/>
                </a:solidFill>
                <a:latin typeface="Calibri"/>
              </a:rPr>
              <a:t>300 € es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7933c"/>
                </a:solidFill>
                <a:latin typeface="Calibri"/>
              </a:rPr>
              <a:t>La valeur du 1er quartile es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7933c"/>
                </a:solidFill>
                <a:latin typeface="Calibri"/>
              </a:rPr>
              <a:t>La valeur de la médiane es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7933c"/>
                </a:solidFill>
                <a:latin typeface="Calibri"/>
              </a:rPr>
              <a:t>La valeur du 3ème quartile ?</a:t>
            </a:r>
            <a:r>
              <a:rPr b="1" lang="fr-FR" sz="3200" spc="-1" strike="noStrike">
                <a:solidFill>
                  <a:srgbClr val="ff993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11280" y="1341360"/>
          <a:ext cx="7786440" cy="1836720"/>
        </p:xfrm>
        <a:graphic>
          <a:graphicData uri="http://schemas.openxmlformats.org/drawingml/2006/table">
            <a:tbl>
              <a:tblPr/>
              <a:tblGrid>
                <a:gridCol w="3406680"/>
                <a:gridCol w="903240"/>
                <a:gridCol w="905040"/>
                <a:gridCol w="903240"/>
                <a:gridCol w="833400"/>
                <a:gridCol w="834840"/>
              </a:tblGrid>
              <a:tr h="13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tant de la prime en eu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1:31:38Z</dcterms:created>
  <dc:creator>Imbert-Lemoine</dc:creator>
  <dc:description/>
  <dc:language>en-US</dc:language>
  <cp:lastModifiedBy>auderi</cp:lastModifiedBy>
  <dcterms:modified xsi:type="dcterms:W3CDTF">2016-07-12T11:16:03Z</dcterms:modified>
  <cp:revision>85</cp:revision>
  <dc:subject/>
  <dc:title>Statistiques</dc:title>
</cp:coreProperties>
</file>