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0D32-C115-40A3-9B49-B49C100D86A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2C5D-2D85-4A70-BD6C-9781CB2F516E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2701-AB0B-4A95-B2A7-148EF3F2C95E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CF8C-9CD6-45D8-9102-B15A4526C968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687D-9472-4642-A34F-430B71BACECE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6C61-4904-4329-8A9D-A5287156C0F5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36AE-F0CD-440E-9397-D3A8CE1D5670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69FF-C08A-4C1A-8574-21B1B9407AAF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9366-8642-49D1-820E-9AC376688E70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Grossir les roues. Ne pas mettre la pointe sur un rayon. Texte modifié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73B8-F043-402C-AC63-09817705B9CF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4AE8-665C-4E2B-AB28-B9FE22DFE593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90AA-9310-4367-A365-B7D3812D595B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891E-879B-4226-B4A4-6EC0E190C087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6EAD-016C-4B19-B694-66C4D96E88A2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7D85-0DA3-4E35-A715-C0548F951538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A99D-F6A8-4318-A6E7-1597C7DC82CD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2F0C-3C04-4314-B64F-65A52D231259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D6EB-B009-4CDC-AA37-66AF3C5E9D53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2D7F-AFF9-42CB-A8B8-B70D46454C2A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1F76-CF03-491A-97D9-5E716A75D30C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AF92-DA8D-4EB7-AE81-2592F95C8A82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E7DB-49AA-49C1-BD7C-F1ABBA094B3E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8025-E891-4208-8E26-87C83D8C7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F55A-8BDC-484F-9512-2D58C62C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C571-AF54-4725-8436-0E600DAE1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4441-06A4-4718-ACA9-8AD188512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77CE-75CC-4298-B63C-F7C369E5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9B98-6497-49F0-AB69-35085F9B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5BE5-7ACB-4652-9469-364C4FE5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904C-C126-4F9E-AFEC-AB69C826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99A9-AA35-4DE7-8CC2-58CFB28E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E22C-6CD1-46D1-AA26-82ED4FC7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610A-71A7-4E36-B371-7D989E64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32DF-2828-4F9C-B88E-CBF0653A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8C55-2BF0-4B50-B022-1143C95D6A97}" type="datetime">
              <a:rPr b="0" lang="fr-FR" sz="14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98D9-0F78-4560-AF62-C3A56EF400D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70040" y="1468440"/>
            <a:ext cx="7601040" cy="1587600"/>
          </a:xfrm>
          <a:prstGeom prst="rect">
            <a:avLst/>
          </a:prstGeom>
          <a:solidFill>
            <a:srgbClr val="7f7f7f">
              <a:alpha val="60000"/>
            </a:srgbClr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0000"/>
                </a:solidFill>
                <a:latin typeface="Georgia"/>
              </a:rPr>
              <a:t>PROBABILITÉS</a:t>
            </a:r>
            <a:br>
              <a:rPr sz="5400"/>
            </a:br>
            <a:r>
              <a:rPr b="1" lang="fr-FR" sz="6000" spc="-1" strike="noStrike">
                <a:solidFill>
                  <a:srgbClr val="ff0000"/>
                </a:solidFill>
                <a:latin typeface="Georgia"/>
              </a:rPr>
              <a:t>SÉRIE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re 1"/>
          <p:cNvSpPr/>
          <p:nvPr/>
        </p:nvSpPr>
        <p:spPr>
          <a:xfrm>
            <a:off x="0" y="4390920"/>
            <a:ext cx="91440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1"/>
          <a:stretch/>
        </p:blipFill>
        <p:spPr>
          <a:xfrm>
            <a:off x="2960640" y="2997360"/>
            <a:ext cx="3278160" cy="35272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8"/>
          <p:cNvSpPr/>
          <p:nvPr/>
        </p:nvSpPr>
        <p:spPr>
          <a:xfrm>
            <a:off x="0" y="1292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lle est la probabilité d’obtenir 0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2960640" y="2997360"/>
            <a:ext cx="3278160" cy="35272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8"/>
          <p:cNvSpPr/>
          <p:nvPr/>
        </p:nvSpPr>
        <p:spPr>
          <a:xfrm>
            <a:off x="0" y="12924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lle est la probabilité d’obtenir un nombre strictement inférieur à 5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0" y="12924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lle est la probabilité d’obtenir un nombre premier, c’est-à-dire un entier naturel ayant exactement deux diviseur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1"/>
          <a:stretch/>
        </p:blipFill>
        <p:spPr>
          <a:xfrm>
            <a:off x="2960640" y="2997360"/>
            <a:ext cx="3278160" cy="3527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420640"/>
            <a:ext cx="9144000" cy="108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f0000"/>
                </a:solidFill>
                <a:latin typeface="Georgia"/>
              </a:rPr>
              <a:t>CORRIGÉ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6575400" y="2838600"/>
            <a:ext cx="2556000" cy="27511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131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xplication géné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91314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La probabilité que la flèche indique un  sec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est proportionnelle à l’angle du secte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2982960"/>
            <a:ext cx="691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Les secteurs 1 et 2 ont un angle de 90°, soit chacun un quart de 360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Le secteur 4 a un angle représentant le tiers de 360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Le secteur 3, par soustraction a un angle de 60°, soit le sixième de 360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itre 1"/>
          <p:cNvSpPr/>
          <p:nvPr/>
        </p:nvSpPr>
        <p:spPr>
          <a:xfrm>
            <a:off x="0" y="119700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Quelle est la probabilité d’obtenir 1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3419640" y="4005360"/>
            <a:ext cx="2323800" cy="25016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0" y="21337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L’angle du secteur 1 est 90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La probabilité d’obtenir 1 est 90/3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soit 1/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itre 1"/>
          <p:cNvSpPr/>
          <p:nvPr/>
        </p:nvSpPr>
        <p:spPr>
          <a:xfrm>
            <a:off x="0" y="119700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Quelle est la probabilité d’obtenir 3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3419640" y="4005360"/>
            <a:ext cx="2323800" cy="25016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0" y="21337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L’angle du secteur 3 est 60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La probabilité d’obtenir 3 est 60/3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soit 1/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itre 1"/>
          <p:cNvSpPr/>
          <p:nvPr/>
        </p:nvSpPr>
        <p:spPr>
          <a:xfrm>
            <a:off x="0" y="119700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Quelle est la probabilité d’obtenir 4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3419640" y="4005360"/>
            <a:ext cx="2323800" cy="25016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7"/>
          <p:cNvSpPr/>
          <p:nvPr/>
        </p:nvSpPr>
        <p:spPr>
          <a:xfrm>
            <a:off x="0" y="21337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L’angle du secteur 4 est 120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La probabilité d’obtenir 4 est 120/3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soit 1/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itre 1"/>
          <p:cNvSpPr/>
          <p:nvPr/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Quelle est la probabilité d’obtenir un nombre impair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0" y="2708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La probabilité d’obtenir 1 ou 3 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1/4 + 1/6 = 5/1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3419640" y="4005360"/>
            <a:ext cx="2323800" cy="2501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3409920" y="4254480"/>
            <a:ext cx="2324160" cy="2502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itre 1"/>
          <p:cNvSpPr/>
          <p:nvPr/>
        </p:nvSpPr>
        <p:spPr>
          <a:xfrm>
            <a:off x="0" y="134136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Quelle est la probabilité de ne p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obtenir 1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0" y="220500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« Ne pas obtenir 1 » est l’évènement contraire de l’évènement « obtenir 1 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La probabilité de ne pas obtenir 1 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1 – 1/4 = 3/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0" y="1890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Une roue de loterie est partagée 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atre secteurs numérotés 1, 2, 3 et 4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On fait tourner la roue et on note le secteur indiqué par la flèche lorsqu’elle s’arrê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3059280" y="2637000"/>
            <a:ext cx="3278160" cy="3527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itre 1"/>
          <p:cNvSpPr/>
          <p:nvPr/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Quelle est la probabilité d’obteni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un multiple de 2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0" y="2708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La probabilité d’obtenir 2 ou 4 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1/4 + 1/3 = 7/1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3419640" y="4005360"/>
            <a:ext cx="2323800" cy="2501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itre 1"/>
          <p:cNvSpPr/>
          <p:nvPr/>
        </p:nvSpPr>
        <p:spPr>
          <a:xfrm>
            <a:off x="0" y="119700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Quelle est la probabilité d’obtenir un nombre inférieur ou égal à 3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0" y="225108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La probabilité d’obtenir 1 ou 2 ou 3 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1/4 + 1/4 + 1/6 = 8/12 = 2/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u bien la probabilité de ne pas obtenir 4 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1 – 1/3 = 2/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3409920" y="4254480"/>
            <a:ext cx="2324160" cy="250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itre 1"/>
          <p:cNvSpPr/>
          <p:nvPr/>
        </p:nvSpPr>
        <p:spPr>
          <a:xfrm>
            <a:off x="0" y="105264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Quelle est la probabilité d’obtenir 0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0" y="2492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« Obtenir 0 » est un évènement im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La probabilité d’obtenir 0 est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3419640" y="4005360"/>
            <a:ext cx="2323800" cy="2501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itre 1"/>
          <p:cNvSpPr/>
          <p:nvPr/>
        </p:nvSpPr>
        <p:spPr>
          <a:xfrm>
            <a:off x="0" y="126828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Quelle est la probabilité d’obtenir un nombre strictement inférieur à 5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0" y="2492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« Obtenir un nombre strictement inférieur à 5 » est un évènement cert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Sa probabilité est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3419640" y="4005360"/>
            <a:ext cx="2323800" cy="2501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itre 1"/>
          <p:cNvSpPr/>
          <p:nvPr/>
        </p:nvSpPr>
        <p:spPr>
          <a:xfrm>
            <a:off x="0" y="1052640"/>
            <a:ext cx="9144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Quelle est la probabilité d’obtenir un nombre premier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0" y="242100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Les nombres premiers sont 2 et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La probabilité d’obtenir 2 ou 3 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1/4 + 1/6 = 5/1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3419640" y="4005360"/>
            <a:ext cx="2323800" cy="2501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420640"/>
            <a:ext cx="9144000" cy="108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f0000"/>
                </a:solidFill>
                <a:latin typeface="Georgia"/>
              </a:rPr>
              <a:t>F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"/>
          <p:cNvPicPr/>
          <p:nvPr/>
        </p:nvPicPr>
        <p:blipFill>
          <a:blip r:embed="rId1"/>
          <a:stretch/>
        </p:blipFill>
        <p:spPr>
          <a:xfrm>
            <a:off x="3059280" y="2349360"/>
            <a:ext cx="3278160" cy="35276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0" y="13082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lle est la probabilité d’obtenir 1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tre 1"/>
          <p:cNvSpPr/>
          <p:nvPr/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1"/>
          <a:stretch/>
        </p:blipFill>
        <p:spPr>
          <a:xfrm>
            <a:off x="3059280" y="2349360"/>
            <a:ext cx="3278160" cy="35276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8"/>
          <p:cNvSpPr/>
          <p:nvPr/>
        </p:nvSpPr>
        <p:spPr>
          <a:xfrm>
            <a:off x="0" y="13082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lle est la probabilité d’obtenir 3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1"/>
          <a:stretch/>
        </p:blipFill>
        <p:spPr>
          <a:xfrm>
            <a:off x="3059280" y="2349360"/>
            <a:ext cx="3278160" cy="35276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0" y="13082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lle est la probabilité d’obtenir 4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2960640" y="2997360"/>
            <a:ext cx="3278160" cy="35272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>
            <a:off x="0" y="13082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lle est la probabilité d’obtenir un nombre impair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"/>
          <p:cNvPicPr/>
          <p:nvPr/>
        </p:nvPicPr>
        <p:blipFill>
          <a:blip r:embed="rId1"/>
          <a:stretch/>
        </p:blipFill>
        <p:spPr>
          <a:xfrm>
            <a:off x="2960640" y="2997360"/>
            <a:ext cx="3278160" cy="35272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8"/>
          <p:cNvSpPr/>
          <p:nvPr/>
        </p:nvSpPr>
        <p:spPr>
          <a:xfrm>
            <a:off x="0" y="12924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lle est la probabilité de ne p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obtenir 1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1"/>
          <a:stretch/>
        </p:blipFill>
        <p:spPr>
          <a:xfrm>
            <a:off x="2960640" y="2997360"/>
            <a:ext cx="3278160" cy="35272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8"/>
          <p:cNvSpPr/>
          <p:nvPr/>
        </p:nvSpPr>
        <p:spPr>
          <a:xfrm>
            <a:off x="0" y="12924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lle est la probabilité d’obtenir un multiple de 2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"/>
          <p:cNvPicPr/>
          <p:nvPr/>
        </p:nvPicPr>
        <p:blipFill>
          <a:blip r:embed="rId1"/>
          <a:stretch/>
        </p:blipFill>
        <p:spPr>
          <a:xfrm>
            <a:off x="2960640" y="2997360"/>
            <a:ext cx="3278160" cy="35272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8"/>
          <p:cNvSpPr/>
          <p:nvPr/>
        </p:nvSpPr>
        <p:spPr>
          <a:xfrm>
            <a:off x="0" y="12924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lle est la probabilité d’obtenir un nombre inférieur ou égal à 3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auderi</cp:lastModifiedBy>
  <dcterms:modified xsi:type="dcterms:W3CDTF">2016-07-04T13:34:46Z</dcterms:modified>
  <cp:revision>247</cp:revision>
  <dc:subject/>
  <dc:title>Diapositive 0</dc:title>
</cp:coreProperties>
</file>