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3342-69D3-403C-B1F5-6B521B75A0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A4D5-E830-4B42-BB4B-174EC233B0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E517-EA8E-441E-A35C-E56264AE0A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16C1-35E0-4379-9D5A-703AD779B8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6D7A-FB48-472C-BE14-07EB37FAFB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2BA7-D8E4-47E8-93D1-8186C2BEF6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87A8-CA57-4971-949A-44EF4822E2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CB42-B280-4449-BB2D-F096B30213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EBEE-2B8C-4E92-B56B-061883D653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9A88-B5FE-4467-B33F-9B96480C10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0521-2599-4191-9B95-215293FE6E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A6E4-F64A-4865-B5A9-1D56F6205F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F137-C1C5-4434-B3E7-590BDAE736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E4A9-B0B6-473C-B175-1DB45012D0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05BE-706B-4AFC-A385-9247B5C1BA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9213-E84A-467C-A200-59C61E6304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DEBE-0D5C-4E21-A9B9-51EAA502B0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FFD8-DDE7-4E2D-957B-A1F0CDF18F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420D-7CA6-413A-92D3-750A6E62BF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0986-6A87-47CF-A312-2A9518FB30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CB0D-F172-4D03-898C-6C91822AFB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B111-84DE-401B-BDC1-44BDA001CE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FFE4-2D47-40A4-9CD8-EEB3ACBD84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CA1C-C72E-4A76-8898-B7628E4F3E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1F09-E07E-423C-B9E1-81097A91299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6F26-8E4C-4802-8768-16EEAD9CE1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529-5541-4417-80A2-1DB39A3D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2F0-B067-4DB9-8FC1-D2A949A6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FC39-1CC9-4B27-984D-0C7A61CD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9FD-C662-412B-A081-DE33D6FD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FF5-D2C0-444D-BC00-2EBF74BF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973-E0AD-4615-B9E1-0209F8AF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30C2-7E05-4437-AD37-5FD3BB31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D45-C362-4590-8587-4003E01F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B30-2710-4D07-9AAA-8F2F9956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BE7-DE99-4E8D-8E84-BED452F2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66C-82F9-4683-A1DB-7B266024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9D2-B083-40F0-AA01-5BB1A1FC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A00D-4E81-4F4F-A92F-57ACCE65D113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FB73-DF62-45F6-BC88-C701AEE664EE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4"/>
          <p:cNvSpPr/>
          <p:nvPr/>
        </p:nvSpPr>
        <p:spPr>
          <a:xfrm>
            <a:off x="250920" y="1628640"/>
            <a:ext cx="86421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ÉCHANTILLONNAGE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taill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de l’échantillon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peut-on calculer la proportion théorique de jetons noirs ou une fréquence observé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eut-on affirmer que l’urne conti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utant de jetons noirs que de jetons blanc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eut-on affirmer que l’urne conti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lus de jetons noirs que de jetons blanc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 000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55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0" y="4859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taille de l’échantillon 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= 53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4859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proportion théorique 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p =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0,97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re 1"/>
          <p:cNvSpPr/>
          <p:nvPr/>
        </p:nvSpPr>
        <p:spPr>
          <a:xfrm>
            <a:off x="0" y="5084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fréquence observée 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f  =       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1"/>
          <a:stretch/>
        </p:blipFill>
        <p:spPr>
          <a:xfrm>
            <a:off x="4427640" y="5499000"/>
            <a:ext cx="637920" cy="8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taille de l’échantillon 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= 3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proportion théorique 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p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= 0,1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haque étude statistique, on note :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taille de l’échantillon étudié ;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proportion théorique ou la probabilité connue ;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a fréquence observée de l’échantill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fréquence observée 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f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=            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4140360" y="5111640"/>
            <a:ext cx="113004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taille de l’échantillon 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= 10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on ne peut calcu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qu’une fréquence observé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re 1"/>
          <p:cNvSpPr/>
          <p:nvPr/>
        </p:nvSpPr>
        <p:spPr>
          <a:xfrm>
            <a:off x="0" y="4797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On ne peut pas affirmer que l’urne conti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autant de jetons noirs que de jetons blanc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’est seulement un échantill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 0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55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tre 1"/>
          <p:cNvSpPr/>
          <p:nvPr/>
        </p:nvSpPr>
        <p:spPr>
          <a:xfrm>
            <a:off x="0" y="4797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On ne peut pas affirmer que l’urne conti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plus de jetons noirs que de jetons blanc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’est seulement un échantill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  <a:ea typeface="Arial"/>
              </a:rPr>
              <a:t>Répondre aux questions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0" y="4859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taill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de l’échantillon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0" y="4859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proportion théoriqu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0" y="4859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fréquence observé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taill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de l’échantillon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proportion théoriqu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fréquence observé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PC-MS</cp:lastModifiedBy>
  <dcterms:modified xsi:type="dcterms:W3CDTF">2016-06-23T14:22:10Z</dcterms:modified>
  <cp:revision>266</cp:revision>
  <dc:subject/>
  <dc:title>Diapositive 0</dc:title>
</cp:coreProperties>
</file>