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D14B-59C7-43A0-B93D-8DDCF980C5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460-167D-4333-8448-E0F69835B6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1BA-D472-4AE7-BED7-EB3CAD05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BE8-52CD-4B7D-994D-485BAA1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C3A-756A-44AA-9608-A594EBEF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A0D-1313-4815-9F17-E17F2CBC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51A-BAD7-47BA-86CD-A5EFB364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C2D-DEE4-4735-BAD5-6C4BCC28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AE7-0CB4-44C3-8C64-58BAEBF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FC2-24BD-4A7E-8289-D368CED8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D09-3BEF-4636-B8A5-F5E73711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93C-0E00-4359-A70C-F8E18FC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A68-C49B-4D0C-BE26-FDEC56D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D18-0E20-4E95-BF56-40F19AD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36F-D66F-4FAC-B107-16FA94886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un seul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plus un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les deux défau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moin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auc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ZoneTexte 5" descr=""/>
          <p:cNvPicPr/>
          <p:nvPr/>
        </p:nvPicPr>
        <p:blipFill>
          <a:blip r:embed="rId2"/>
          <a:stretch/>
        </p:blipFill>
        <p:spPr>
          <a:xfrm>
            <a:off x="1438200" y="5310360"/>
            <a:ext cx="63406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3" descr=""/>
          <p:cNvPicPr/>
          <p:nvPr/>
        </p:nvPicPr>
        <p:blipFill>
          <a:blip r:embed="rId1"/>
          <a:stretch/>
        </p:blipFill>
        <p:spPr>
          <a:xfrm>
            <a:off x="1359000" y="4627440"/>
            <a:ext cx="65959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un seul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7120" y="476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Une machine fabrique des pièces métalliques. Deux défauts notés a et b peuvent être présents dans ces pièces. On tire au hasard une piè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On considère les évènements suiva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oneTexte 3" descr=""/>
          <p:cNvPicPr/>
          <p:nvPr/>
        </p:nvPicPr>
        <p:blipFill>
          <a:blip r:embed="rId1"/>
          <a:stretch/>
        </p:blipFill>
        <p:spPr>
          <a:xfrm>
            <a:off x="0" y="4614840"/>
            <a:ext cx="914400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516720" cy="85896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plu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oneTexte 5" descr=""/>
          <p:cNvPicPr/>
          <p:nvPr/>
        </p:nvPicPr>
        <p:blipFill>
          <a:blip r:embed="rId2"/>
          <a:stretch/>
        </p:blipFill>
        <p:spPr>
          <a:xfrm>
            <a:off x="1468440" y="5340240"/>
            <a:ext cx="6486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oneTexte 3" descr=""/>
          <p:cNvPicPr/>
          <p:nvPr/>
        </p:nvPicPr>
        <p:blipFill>
          <a:blip r:embed="rId1"/>
          <a:stretch/>
        </p:blipFill>
        <p:spPr>
          <a:xfrm>
            <a:off x="1438200" y="462744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les deux défau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moin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aucun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4:55:20Z</dcterms:modified>
  <cp:revision>47</cp:revision>
  <dc:subject/>
  <dc:title>PROBABILITES Série 1</dc:title>
</cp:coreProperties>
</file>