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AD64-DD78-42C3-9DDF-ADE4783280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647-7650-4890-965C-1226F50870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F94-4041-4378-9AE2-C9B7224C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A7F-D4C9-4BEE-85FA-48286BAF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C92-F7B8-481C-ABA3-9815B054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C8F-0436-464F-9365-C1BCFE76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359-98AD-466C-8B03-2BDE6D0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58A-8A89-4B91-87DE-A59313C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AF5-081E-4A9A-80F6-79F8224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5D5-E898-4848-8B06-D9CD16E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A55-235B-4874-B299-9D25ABF0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D1C-F60A-41FB-828F-A56102D7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41-9F67-489F-BBFE-4E875EA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99D-E1D6-4B84-9175-DB40511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108-A607-49B1-A3B1-092B0896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7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ZoneTexte 4" descr=""/>
          <p:cNvPicPr/>
          <p:nvPr/>
        </p:nvPicPr>
        <p:blipFill>
          <a:blip r:embed="rId2"/>
          <a:stretch/>
        </p:blipFill>
        <p:spPr>
          <a:xfrm>
            <a:off x="2651040" y="3809880"/>
            <a:ext cx="6370560" cy="1438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185256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82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ZoneTexte 4" descr=""/>
          <p:cNvPicPr/>
          <p:nvPr/>
        </p:nvPicPr>
        <p:blipFill>
          <a:blip r:embed="rId3"/>
          <a:stretch/>
        </p:blipFill>
        <p:spPr>
          <a:xfrm>
            <a:off x="2803680" y="3614760"/>
            <a:ext cx="5979960" cy="2146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-152280" y="1341360"/>
            <a:ext cx="94294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89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ZoneTexte 4" descr=""/>
          <p:cNvPicPr/>
          <p:nvPr/>
        </p:nvPicPr>
        <p:blipFill>
          <a:blip r:embed="rId3"/>
          <a:stretch/>
        </p:blipFill>
        <p:spPr>
          <a:xfrm>
            <a:off x="2773440" y="3578400"/>
            <a:ext cx="5973840" cy="987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2840040" y="3578400"/>
            <a:ext cx="5977080" cy="251460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4299120" y="4375080"/>
            <a:ext cx="29224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168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qui a quatre fois plus de ch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tomber sur « Face » que sur « Pil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97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ZoneTexte 4" descr=""/>
          <p:cNvPicPr/>
          <p:nvPr/>
        </p:nvPicPr>
        <p:blipFill>
          <a:blip r:embed="rId2"/>
          <a:stretch/>
        </p:blipFill>
        <p:spPr>
          <a:xfrm>
            <a:off x="2803680" y="3809880"/>
            <a:ext cx="597996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03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ZoneTexte 4"/>
          <p:cNvSpPr/>
          <p:nvPr/>
        </p:nvSpPr>
        <p:spPr>
          <a:xfrm>
            <a:off x="2806560" y="37638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Il a 1, 2, 3, 4 ou 5 réponses fausses. Donc il a 4, 3, 2, 1 ou 0 réponses ju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ous-titre 2"/>
          <p:cNvSpPr/>
          <p:nvPr/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quatre réponses justes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une réponse fauss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11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ZoneTexte 4"/>
          <p:cNvSpPr/>
          <p:nvPr/>
        </p:nvSpPr>
        <p:spPr>
          <a:xfrm>
            <a:off x="2806560" y="37893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Il a 2, 3, 4 ou 5 ré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justes. Donc il a 3, 2, 1 ou 0 réponses faus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>
            <a:off x="2840040" y="3578400"/>
            <a:ext cx="5977080" cy="20113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2492280"/>
            <a:ext cx="8785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mbria"/>
              </a:rPr>
              <a:t>Vrai ou Faux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 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18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tour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2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 pion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st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32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ou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39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</a:t>
            </a:r>
            <a:r>
              <a:rPr b="1" lang="fr-FR" sz="35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ous-titre 2" descr=""/>
          <p:cNvPicPr/>
          <p:nvPr/>
        </p:nvPicPr>
        <p:blipFill>
          <a:blip r:embed="rId1"/>
          <a:stretch/>
        </p:blipFill>
        <p:spPr>
          <a:xfrm>
            <a:off x="0" y="2004840"/>
            <a:ext cx="914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283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de monnaie qui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atre fois plus de chances de to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ur « Face » que sur « Pil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quatre réponses juste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une réponse fauss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5:10:23Z</dcterms:modified>
  <cp:revision>108</cp:revision>
  <dc:subject/>
  <dc:title>PROBABILITES Série 1</dc:title>
</cp:coreProperties>
</file>