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D2FC-4C1B-4620-9691-A0C33A7FBF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C52-86D5-4C97-96C2-B4BC6F2C66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A385-275F-4AD9-AFC5-6B877D2483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485-F519-4983-9834-73DC918739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8FF-7BE2-41B6-93E2-FAFB50ADD4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1DD-A3B4-415A-9BC2-E97AC290CE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15FE-7F0F-4C62-A8E9-0C86914A3C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4D2F-372C-473E-AC15-6741E12EE0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B23-35C2-4FA4-944D-D6D17AE632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927-AB22-40A4-AE80-D0B5F7216B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7DB0-DAD3-4D72-871F-6177D2085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D43-5040-4C37-9A0E-732DB9D2C3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FC9-64DB-4F29-AAC1-ACF7A3C867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4B73-13B2-4D67-BC9D-94FD6F3BE8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2A56-9010-4E43-BBC4-E748FECF28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09F-481A-44F8-B190-84FEA6BAD4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06A5-6D23-4F28-80B6-623959CC84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1CC-3A3E-4587-AE0C-E9880A83BC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DDD5-9C6D-4F80-9577-3EE87740E0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3A1D-D4B2-42EB-A44D-8F85D2B4B0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124-A931-4A1D-BDFC-49E2032502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DF2-F473-48DC-9DC8-0C70B9D793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EB6-764A-4A98-BEBC-FF811C25EC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8E-A464-4A5F-98C0-FD3CB8F5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7B5-A93B-42A6-81AD-5525CF3E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943-B116-417D-8D00-6D321C41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278-CC0C-48B2-B23B-8850FD1D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2A4-804F-422D-8B64-1ED05DB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09A-7870-4D3A-A977-89F7B10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A86-EF4B-4EF0-A0BD-48512FC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79D-D7DC-410A-A116-26EAE988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C5C-9AB1-47A5-ACA5-2818714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38F-CB10-494E-BF98-837F151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C4A-28DE-4530-BC52-99E0495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41D-5E33-41F6-89E7-0EFC71D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875-5532-4463-9DCE-150855EA348B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29F9-7B93-47D7-A971-793AC655411A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E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adame V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onsieur Z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90792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re 1" descr=""/>
          <p:cNvPicPr/>
          <p:nvPr/>
        </p:nvPicPr>
        <p:blipFill>
          <a:blip r:embed="rId1"/>
          <a:stretch/>
        </p:blipFill>
        <p:spPr>
          <a:xfrm>
            <a:off x="-19080" y="4456080"/>
            <a:ext cx="9156600" cy="142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468000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fluctuation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our le numéro « 3 » est [0,15 ; 0,3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69228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18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pens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32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toujours penser 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pour le groupe sanguin « A » est [0,35 ; 0,4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5040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             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[0,35 ; 0,45], alors on peut estimer que l’échantillon est conforme à la répartition mondiale du groupe « A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2268360" y="4724280"/>
            <a:ext cx="195264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 </a:t>
            </a:r>
            <a:br>
              <a:rPr sz="8000"/>
            </a:br>
            <a:br>
              <a:rPr sz="4000"/>
            </a:b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Arial"/>
              </a:rPr>
              <a:t>La calculatrice est autorisé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493 », il y a un risque que Madame 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’obtienne pas plus de 50 % des voi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501 » supérieure à 50 %, l’équipe de campagne de Monsieur Z a de bonnes raisons d’être confi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 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a proportion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 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 la valeur du caractère étudié e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’intervalle de fluctuation au seuil de 95 % pour le numéro « 3 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alors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l est l’intervalle de fluctuation au seuil de 95 % pour le groupe sanguin « A »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 [0,39 ; 0,49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b. [0,35 ; 0,45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-ce un échantillon confor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à la répartition mondiale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5:05:31Z</dcterms:modified>
  <cp:revision>304</cp:revision>
  <dc:subject/>
  <dc:title>Diapositive 0</dc:title>
</cp:coreProperties>
</file>