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A94-85E9-4536-A847-93AF1CAA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19C-3D45-473E-B596-A70CA06E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5FA-CBDD-403E-9266-667A4213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728-62A9-4D0B-B2BE-4F91F8EF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9DD-08CB-4BE6-92A5-4D642765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373-6FFC-444D-94A9-56EB30BC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6EE-DB53-4B87-9138-0826849A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364-8630-47BC-90E5-160F36A7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6B8-09E4-41F6-937E-EEF26124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7AE-0C7E-4121-AD12-2DB30643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8FE-EB68-4E5A-97FA-2B96977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C87-8E00-483A-B9A8-8AEB42C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18D2-EC25-40AC-A85A-526F4C479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604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ous-titre 2"/>
          <p:cNvSpPr/>
          <p:nvPr/>
        </p:nvSpPr>
        <p:spPr>
          <a:xfrm>
            <a:off x="0" y="4076640"/>
            <a:ext cx="9144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NÉG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3327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228600" cy="981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4343400" y="4535640"/>
            <a:ext cx="22860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232884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925720"/>
          </a:xfrm>
          <a:prstGeom prst="rect">
            <a:avLst/>
          </a:prstGeom>
          <a:ln w="0">
            <a:noFill/>
          </a:ln>
        </p:spPr>
      </p:pic>
      <p:sp>
        <p:nvSpPr>
          <p:cNvPr id="81" name="Ellipse 3"/>
          <p:cNvSpPr/>
          <p:nvPr/>
        </p:nvSpPr>
        <p:spPr>
          <a:xfrm>
            <a:off x="611280" y="4005360"/>
            <a:ext cx="252072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9120" y="2276640"/>
            <a:ext cx="8264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 natur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2 »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2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3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llipse 3"/>
          <p:cNvSpPr/>
          <p:nvPr/>
        </p:nvSpPr>
        <p:spPr>
          <a:xfrm>
            <a:off x="611280" y="4005360"/>
            <a:ext cx="252072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llipse 3"/>
          <p:cNvSpPr/>
          <p:nvPr/>
        </p:nvSpPr>
        <p:spPr>
          <a:xfrm>
            <a:off x="611280" y="4005360"/>
            <a:ext cx="432108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contenu 2"/>
          <p:cNvSpPr/>
          <p:nvPr/>
        </p:nvSpPr>
        <p:spPr>
          <a:xfrm>
            <a:off x="879480" y="2276640"/>
            <a:ext cx="82645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est pai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un multiple de 3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 impair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  <p:sp>
        <p:nvSpPr>
          <p:cNvPr id="90" name="Ellipse 3"/>
          <p:cNvSpPr/>
          <p:nvPr/>
        </p:nvSpPr>
        <p:spPr>
          <a:xfrm>
            <a:off x="611280" y="4005360"/>
            <a:ext cx="388944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  <p:sp>
        <p:nvSpPr>
          <p:cNvPr id="93" name="Ellipse 3"/>
          <p:cNvSpPr/>
          <p:nvPr/>
        </p:nvSpPr>
        <p:spPr>
          <a:xfrm>
            <a:off x="684360" y="3933720"/>
            <a:ext cx="6264000" cy="7905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35600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Espace réservé du contenu 2" descr=""/>
          <p:cNvPicPr/>
          <p:nvPr/>
        </p:nvPicPr>
        <p:blipFill>
          <a:blip r:embed="rId1"/>
          <a:stretch/>
        </p:blipFill>
        <p:spPr>
          <a:xfrm>
            <a:off x="19080" y="2189160"/>
            <a:ext cx="9124920" cy="2706840"/>
          </a:xfrm>
          <a:prstGeom prst="rect">
            <a:avLst/>
          </a:prstGeom>
          <a:ln w="0">
            <a:noFill/>
          </a:ln>
        </p:spPr>
      </p:pic>
      <p:sp>
        <p:nvSpPr>
          <p:cNvPr id="97" name="Ellipse 3"/>
          <p:cNvSpPr/>
          <p:nvPr/>
        </p:nvSpPr>
        <p:spPr>
          <a:xfrm>
            <a:off x="547560" y="3429000"/>
            <a:ext cx="5616720" cy="720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70836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Choisir la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bonne réponse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Espace réservé du contenu 2" descr=""/>
          <p:cNvPicPr/>
          <p:nvPr/>
        </p:nvPicPr>
        <p:blipFill>
          <a:blip r:embed="rId1"/>
          <a:stretch/>
        </p:blipFill>
        <p:spPr>
          <a:xfrm>
            <a:off x="201600" y="2189160"/>
            <a:ext cx="8942400" cy="2706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llipse 3"/>
          <p:cNvSpPr/>
          <p:nvPr/>
        </p:nvSpPr>
        <p:spPr>
          <a:xfrm>
            <a:off x="755640" y="4005360"/>
            <a:ext cx="6696000" cy="718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384012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3327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72120" y="3456000"/>
            <a:ext cx="22860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343400" y="4508640"/>
            <a:ext cx="228600" cy="981000"/>
          </a:xfrm>
          <a:prstGeom prst="rect">
            <a:avLst/>
          </a:prstGeom>
          <a:ln w="0">
            <a:noFill/>
          </a:ln>
        </p:spPr>
      </p:pic>
      <p:sp>
        <p:nvSpPr>
          <p:cNvPr id="108" name="Ellipse 8"/>
          <p:cNvSpPr/>
          <p:nvPr/>
        </p:nvSpPr>
        <p:spPr>
          <a:xfrm>
            <a:off x="900000" y="3429000"/>
            <a:ext cx="4680000" cy="1079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4"/>
          <a:stretch/>
        </p:blipFill>
        <p:spPr>
          <a:xfrm>
            <a:off x="234000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57480"/>
            <a:ext cx="8424720" cy="2639880"/>
          </a:xfrm>
          <a:prstGeom prst="rect">
            <a:avLst/>
          </a:prstGeom>
          <a:ln w="0">
            <a:noFill/>
          </a:ln>
        </p:spPr>
      </p:pic>
      <p:sp>
        <p:nvSpPr>
          <p:cNvPr id="112" name="Ellipse 3"/>
          <p:cNvSpPr/>
          <p:nvPr/>
        </p:nvSpPr>
        <p:spPr>
          <a:xfrm>
            <a:off x="611280" y="3429000"/>
            <a:ext cx="432108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9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895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llipse 5"/>
          <p:cNvSpPr/>
          <p:nvPr/>
        </p:nvSpPr>
        <p:spPr>
          <a:xfrm>
            <a:off x="468360" y="3357720"/>
            <a:ext cx="7920000" cy="934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79120" y="2276640"/>
            <a:ext cx="8264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x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&gt; 0 »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&lt; 0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0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79120" y="2276640"/>
            <a:ext cx="8264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 natur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2 »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2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3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79120" y="2276640"/>
            <a:ext cx="82645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est pai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un multiple de 3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impair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386240" y="2303640"/>
            <a:ext cx="3715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Espace réservé du contenu 2" descr=""/>
          <p:cNvPicPr/>
          <p:nvPr/>
        </p:nvPicPr>
        <p:blipFill>
          <a:blip r:embed="rId1"/>
          <a:stretch/>
        </p:blipFill>
        <p:spPr>
          <a:xfrm>
            <a:off x="92160" y="2230560"/>
            <a:ext cx="9051840" cy="271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768840" y="2357280"/>
            <a:ext cx="371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165240" y="2230560"/>
            <a:ext cx="8978760" cy="271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85128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2:55:57Z</dcterms:modified>
  <cp:revision>80</cp:revision>
  <dc:subject/>
  <dc:title>LOGIQUE</dc:title>
</cp:coreProperties>
</file>