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C5F-61CC-4665-BC48-094CAFB6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322-7EB4-478E-BB5F-08CB93B0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17B-71EB-42B1-A658-06CCD654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E39-E88A-4675-99D2-AB772EA4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EF78-00BA-49C5-8733-28489A54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D9B4-3D9A-41E6-B7E6-4F9D0C6A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EEF1-722D-4A4B-9691-D80C1564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96CE-C7FC-4151-A922-29D9A8AC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BD5A-1C2A-4F76-9738-2E9A4B43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C1E3-24A5-4711-AC5C-14A66427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2754-98CD-4E16-84AA-21E0DC7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214-9154-4935-987A-AF15B337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B388-1239-482F-AB2A-C3E6CCAB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E5F6-28C5-4BFD-9C9C-0A431C90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2A47-CDF1-4B33-A241-83C16D35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4002-2981-4E5B-93FE-B7637504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674F-C693-47E7-B4CA-B3EFF522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A92-1C08-40B6-A0F5-8A85581A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C77-818B-4425-AC18-165BC7CC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BEA-E257-46D9-9BB1-12707066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32F-20AE-441D-82C0-D49A5E71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0FA-0D5A-40CC-AD0A-A0A6E407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A5C-10C2-4E81-A1FB-517A9843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986-0CDF-4100-BC61-FCA15892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9192-A1D9-4C7A-BA09-DCF188E19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3684-5E70-44C1-9467-4863834CB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4102200"/>
            <a:ext cx="914400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IMPLICATION - RÉCIPROQU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3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251604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                 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1270080" y="393372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                 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1270080" y="393372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1557000"/>
            <a:ext cx="8642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3"/>
          <p:cNvSpPr/>
          <p:nvPr/>
        </p:nvSpPr>
        <p:spPr>
          <a:xfrm>
            <a:off x="611280" y="479736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4"/>
          <p:cNvSpPr/>
          <p:nvPr/>
        </p:nvSpPr>
        <p:spPr>
          <a:xfrm>
            <a:off x="3995640" y="4932360"/>
            <a:ext cx="4321440" cy="58140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= 2 alors  </a:t>
            </a:r>
            <a:r>
              <a:rPr b="1" i="1" lang="fr-F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²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= 2² =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1557000"/>
            <a:ext cx="8642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à coins arrondis 3"/>
          <p:cNvSpPr/>
          <p:nvPr/>
        </p:nvSpPr>
        <p:spPr>
          <a:xfrm>
            <a:off x="611280" y="479736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oneTexte 4" descr=""/>
          <p:cNvPicPr/>
          <p:nvPr/>
        </p:nvPicPr>
        <p:blipFill>
          <a:blip r:embed="rId1"/>
          <a:stretch/>
        </p:blipFill>
        <p:spPr>
          <a:xfrm>
            <a:off x="3114720" y="4840200"/>
            <a:ext cx="58705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à coins arrondis 3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oneTexte 4" descr=""/>
          <p:cNvPicPr/>
          <p:nvPr/>
        </p:nvPicPr>
        <p:blipFill>
          <a:blip r:embed="rId2"/>
          <a:stretch/>
        </p:blipFill>
        <p:spPr>
          <a:xfrm>
            <a:off x="4267080" y="4705200"/>
            <a:ext cx="29149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à coins arrondis 3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ZoneTexte 4" descr=""/>
          <p:cNvPicPr/>
          <p:nvPr/>
        </p:nvPicPr>
        <p:blipFill>
          <a:blip r:embed="rId2"/>
          <a:stretch/>
        </p:blipFill>
        <p:spPr>
          <a:xfrm>
            <a:off x="3986280" y="4711680"/>
            <a:ext cx="3475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  <p:sp>
        <p:nvSpPr>
          <p:cNvPr id="129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à coins arrondis 4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ZoneTexte 5" descr=""/>
          <p:cNvPicPr/>
          <p:nvPr/>
        </p:nvPicPr>
        <p:blipFill>
          <a:blip r:embed="rId2"/>
          <a:stretch/>
        </p:blipFill>
        <p:spPr>
          <a:xfrm>
            <a:off x="3981600" y="4486320"/>
            <a:ext cx="45720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à coins arrondis 4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ZoneTexte 7" descr=""/>
          <p:cNvPicPr/>
          <p:nvPr/>
        </p:nvPicPr>
        <p:blipFill>
          <a:blip r:embed="rId1"/>
          <a:stretch/>
        </p:blipFill>
        <p:spPr>
          <a:xfrm>
            <a:off x="3760920" y="4700520"/>
            <a:ext cx="3060720" cy="878040"/>
          </a:xfrm>
          <a:prstGeom prst="rect">
            <a:avLst/>
          </a:prstGeom>
          <a:ln w="0">
            <a:noFill/>
          </a:ln>
        </p:spPr>
      </p:pic>
      <p:pic>
        <p:nvPicPr>
          <p:cNvPr id="135" name="Espace réservé du contenu 2" descr=""/>
          <p:cNvPicPr/>
          <p:nvPr/>
        </p:nvPicPr>
        <p:blipFill>
          <a:blip r:embed="rId2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Oui ou Non 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557360"/>
            <a:ext cx="8642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à coins arrondis 4"/>
          <p:cNvSpPr/>
          <p:nvPr/>
        </p:nvSpPr>
        <p:spPr>
          <a:xfrm>
            <a:off x="611280" y="4653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3276720" y="4778280"/>
            <a:ext cx="5616360" cy="520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et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5 on a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et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≠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à coins arrondis 4"/>
          <p:cNvSpPr/>
          <p:nvPr/>
        </p:nvSpPr>
        <p:spPr>
          <a:xfrm>
            <a:off x="611280" y="4653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oneTexte 6"/>
          <p:cNvSpPr/>
          <p:nvPr/>
        </p:nvSpPr>
        <p:spPr>
          <a:xfrm>
            <a:off x="3851280" y="4653000"/>
            <a:ext cx="4537080" cy="9471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et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on a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×0 =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557360"/>
            <a:ext cx="8642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560" y="1412640"/>
            <a:ext cx="88930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                = 0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t 6"/>
              <p:cNvSpPr txBox="1"/>
              <p:nvPr/>
            </p:nvSpPr>
            <p:spPr>
              <a:xfrm>
                <a:off x="1258920" y="314172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3995640" y="4724280"/>
            <a:ext cx="4464000" cy="14414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alors 2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²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+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 = 0 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                 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n’est pas défini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4211640" y="5178600"/>
            <a:ext cx="119052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à coins arrondis 15"/>
          <p:cNvSpPr/>
          <p:nvPr/>
        </p:nvSpPr>
        <p:spPr>
          <a:xfrm>
            <a:off x="611280" y="49417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oneTexte 9"/>
          <p:cNvSpPr/>
          <p:nvPr/>
        </p:nvSpPr>
        <p:spPr>
          <a:xfrm>
            <a:off x="3851280" y="4724280"/>
            <a:ext cx="4753080" cy="1008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      = 0 alors A = 0 et B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≠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1332000" y="306864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à coins arrondis 12"/>
          <p:cNvSpPr/>
          <p:nvPr/>
        </p:nvSpPr>
        <p:spPr>
          <a:xfrm>
            <a:off x="684360" y="486900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1"/>
          <a:stretch/>
        </p:blipFill>
        <p:spPr>
          <a:xfrm>
            <a:off x="4572000" y="4799160"/>
            <a:ext cx="314280" cy="79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50560" y="1412640"/>
            <a:ext cx="88930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                = 0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2276640"/>
            <a:ext cx="8642160" cy="34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 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2276640"/>
            <a:ext cx="8642160" cy="34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 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  <p:sp>
        <p:nvSpPr>
          <p:cNvPr id="96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  <p:sp>
        <p:nvSpPr>
          <p:cNvPr id="98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2:38:47Z</dcterms:modified>
  <cp:revision>77</cp:revision>
  <dc:subject/>
  <dc:title>LOGIQUE</dc:title>
</cp:coreProperties>
</file>