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3923-0B24-4D80-8DB4-7DB526F4FF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A7BB-7417-44A4-9854-C2A14CE4A2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883-5F9D-454B-9209-90644A64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8B4-E072-4031-9ADA-24682FE5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2ED-589B-4CAD-AFD9-02AA33DA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383-9317-4D9B-A44A-C451FEA1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6DA-E6D1-45AC-9618-00A24F02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077-6612-4706-A95B-55725152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69C-4AD2-4605-BC67-752E55F0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3EB-4105-4973-BA24-E9EA540B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7CA-F8F5-4EE6-8771-F3F99C72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E91-E4D0-4C12-BE24-7839B65C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169-A9EF-4594-B8D1-1D3E3589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842-2FB0-4A69-925B-838C0231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9799-EFFC-443C-B71B-3F67ECC05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102200"/>
            <a:ext cx="914400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IMPLICATION - RÉCIPROQU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0" y="2516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5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34100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3132000" y="5589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à coins arrondis 7"/>
          <p:cNvSpPr/>
          <p:nvPr/>
        </p:nvSpPr>
        <p:spPr>
          <a:xfrm>
            <a:off x="1979640" y="48909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 8" descr="C:\Users\Christine\AppData\Local\Temp\geogebra.png"/>
          <p:cNvPicPr/>
          <p:nvPr/>
        </p:nvPicPr>
        <p:blipFill>
          <a:blip r:embed="rId1"/>
          <a:srcRect l="16672" t="9213" r="8914" b="7835"/>
          <a:stretch/>
        </p:blipFill>
        <p:spPr>
          <a:xfrm>
            <a:off x="5508720" y="306864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134100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à coins arrondis 3"/>
          <p:cNvSpPr/>
          <p:nvPr/>
        </p:nvSpPr>
        <p:spPr>
          <a:xfrm>
            <a:off x="1042920" y="48909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 4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4572000" y="4581360"/>
            <a:ext cx="34304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mage 6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508720" y="3697200"/>
            <a:ext cx="2448000" cy="2540160"/>
          </a:xfrm>
          <a:prstGeom prst="rect">
            <a:avLst/>
          </a:prstGeom>
          <a:ln w="0">
            <a:noFill/>
          </a:ln>
        </p:spPr>
      </p:pic>
      <p:pic>
        <p:nvPicPr>
          <p:cNvPr id="86" name="Image 7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508720" y="3716280"/>
            <a:ext cx="2428920" cy="2524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à coins arrondis 8"/>
          <p:cNvSpPr/>
          <p:nvPr/>
        </p:nvSpPr>
        <p:spPr>
          <a:xfrm>
            <a:off x="1619280" y="47973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0920" y="1341000"/>
            <a:ext cx="8642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8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435640" y="3716280"/>
            <a:ext cx="255420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Image 9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435640" y="3716280"/>
            <a:ext cx="2554200" cy="2540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10"/>
          <p:cNvSpPr/>
          <p:nvPr/>
        </p:nvSpPr>
        <p:spPr>
          <a:xfrm>
            <a:off x="1692360" y="486900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7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4572000" y="3933720"/>
            <a:ext cx="3954600" cy="2132280"/>
          </a:xfrm>
          <a:prstGeom prst="rect">
            <a:avLst/>
          </a:prstGeom>
          <a:ln w="0">
            <a:noFill/>
          </a:ln>
        </p:spPr>
      </p:pic>
      <p:pic>
        <p:nvPicPr>
          <p:cNvPr id="96" name="Image 8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4576680" y="3933720"/>
            <a:ext cx="3956040" cy="2138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à coins arrondis 9"/>
          <p:cNvSpPr/>
          <p:nvPr/>
        </p:nvSpPr>
        <p:spPr>
          <a:xfrm>
            <a:off x="1692360" y="481824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1341000"/>
            <a:ext cx="8642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3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148360" y="3933720"/>
            <a:ext cx="2992320" cy="207504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148360" y="3933720"/>
            <a:ext cx="2992320" cy="2075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à coins arrondis 7"/>
          <p:cNvSpPr/>
          <p:nvPr/>
        </p:nvSpPr>
        <p:spPr>
          <a:xfrm>
            <a:off x="1258920" y="48909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Oui ou Non 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341000"/>
            <a:ext cx="8642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 3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4500720" y="3933720"/>
            <a:ext cx="3952800" cy="2132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à coins arrondis 4"/>
          <p:cNvSpPr/>
          <p:nvPr/>
        </p:nvSpPr>
        <p:spPr>
          <a:xfrm>
            <a:off x="971640" y="489096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1341000"/>
            <a:ext cx="8642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3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651640" y="3789360"/>
            <a:ext cx="2582640" cy="2351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à coins arrondis 4"/>
          <p:cNvSpPr/>
          <p:nvPr/>
        </p:nvSpPr>
        <p:spPr>
          <a:xfrm>
            <a:off x="971640" y="486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à coins arrondis 3"/>
          <p:cNvSpPr/>
          <p:nvPr/>
        </p:nvSpPr>
        <p:spPr>
          <a:xfrm>
            <a:off x="971640" y="486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 4" descr="C:\Users\Christine\AppData\Local\Temp\geogebra.png"/>
          <p:cNvPicPr/>
          <p:nvPr/>
        </p:nvPicPr>
        <p:blipFill>
          <a:blip r:embed="rId1"/>
          <a:srcRect l="3511" t="0" r="4654" b="0"/>
          <a:stretch/>
        </p:blipFill>
        <p:spPr>
          <a:xfrm>
            <a:off x="4500720" y="3933720"/>
            <a:ext cx="3484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 4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108000" y="4460760"/>
            <a:ext cx="3647880" cy="1847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à coins arrondis 5"/>
          <p:cNvSpPr/>
          <p:nvPr/>
        </p:nvSpPr>
        <p:spPr>
          <a:xfrm>
            <a:off x="3059280" y="41497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mage 7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153040" y="3075120"/>
            <a:ext cx="40273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224748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224748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1:50:44Z</dcterms:modified>
  <cp:revision>65</cp:revision>
  <dc:subject/>
  <dc:title>LOGIQUE</dc:title>
</cp:coreProperties>
</file>