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EBA-BA4E-43B7-9EEE-79C1D1AF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0CCF-C11D-477A-9EF5-01DDEA26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68B7-8ECF-403E-89A7-66FC7146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7FA-25B6-46EB-97C9-935F912A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613A-F294-46DB-98E0-CD42790C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72F5-3D42-4B56-BCE5-EDC0767B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7C57-9DD3-4B9A-B44F-9568D16A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DDB3-2BE6-4B8C-A117-034EE9D8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F41E-E5C3-42F2-B36B-68F62C82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751D-D555-4842-B5ED-BA43C164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1951-3CF9-4250-8627-65610E76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2D06-5E1C-4491-8CD1-75A772F6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5473-AC42-4E05-B292-2AD01CE3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B461-0FA3-4B20-9C89-13ECF7D9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7620-C3B9-4FE7-B6A7-9BAC22C0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61A0-6B63-4235-B2F0-6EFEBD55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8116-8035-4F53-94B4-650CAA8A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3AB-B9BF-4AD5-B8D5-0ACA3BDC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AD50-CE92-47EA-8DEE-44E067DE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B61-BCFA-4FBA-A51F-DD4A3B19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AFE-2191-4592-8139-79129261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AD2-1921-4AA1-8718-4EBDCD8C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2153-1466-4B1D-9F3A-71152D20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B0E-86CB-46E9-839C-C3FDFB3F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A1BE-255B-42CB-93F4-EBC332276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06C3-EE5B-4CCA-B74C-201E65BF8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28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628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Intervalles</a:t>
            </a:r>
            <a:br>
              <a:rPr sz="7200"/>
            </a:b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Série 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re 1"/>
          <p:cNvSpPr/>
          <p:nvPr/>
        </p:nvSpPr>
        <p:spPr>
          <a:xfrm>
            <a:off x="0" y="458136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Espace réservé du contenu 2" descr=""/>
          <p:cNvPicPr/>
          <p:nvPr/>
        </p:nvPicPr>
        <p:blipFill>
          <a:blip r:embed="rId1"/>
          <a:stretch/>
        </p:blipFill>
        <p:spPr>
          <a:xfrm>
            <a:off x="176040" y="2419200"/>
            <a:ext cx="87919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Espace réservé du contenu 2" descr=""/>
          <p:cNvPicPr/>
          <p:nvPr/>
        </p:nvPicPr>
        <p:blipFill>
          <a:blip r:embed="rId1"/>
          <a:stretch/>
        </p:blipFill>
        <p:spPr>
          <a:xfrm>
            <a:off x="176040" y="2419200"/>
            <a:ext cx="87919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2494080"/>
            <a:ext cx="91440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2494080"/>
            <a:ext cx="91440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1599840"/>
            <a:ext cx="91440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sp>
        <p:nvSpPr>
          <p:cNvPr id="122" name="Connecteur droit 4"/>
          <p:cNvSpPr/>
          <p:nvPr/>
        </p:nvSpPr>
        <p:spPr>
          <a:xfrm>
            <a:off x="20520" y="4005360"/>
            <a:ext cx="524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arenthèse fermante 9"/>
          <p:cNvSpPr/>
          <p:nvPr/>
        </p:nvSpPr>
        <p:spPr>
          <a:xfrm>
            <a:off x="5148360" y="3854520"/>
            <a:ext cx="117360" cy="301680"/>
          </a:xfrm>
          <a:custGeom>
            <a:avLst/>
            <a:gdLst>
              <a:gd name="textAreaLeft" fmla="*/ 0 w 117360"/>
              <a:gd name="textAreaRight" fmla="*/ 82440 w 117360"/>
              <a:gd name="textAreaTop" fmla="*/ 4680 h 301680"/>
              <a:gd name="textAreaBottom" fmla="*/ 29700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51"/>
                  <a:pt x="21600" y="702"/>
                </a:cubicBezTo>
                <a:lnTo>
                  <a:pt x="21600" y="20898"/>
                </a:lnTo>
                <a:cubicBezTo>
                  <a:pt x="21600" y="2124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necteur droit 11"/>
          <p:cNvSpPr/>
          <p:nvPr/>
        </p:nvSpPr>
        <p:spPr>
          <a:xfrm>
            <a:off x="4759200" y="3776760"/>
            <a:ext cx="438480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arenthèse ouvrante 12"/>
          <p:cNvSpPr/>
          <p:nvPr/>
        </p:nvSpPr>
        <p:spPr>
          <a:xfrm flipH="1">
            <a:off x="4656240" y="3586320"/>
            <a:ext cx="102960" cy="382320"/>
          </a:xfrm>
          <a:custGeom>
            <a:avLst/>
            <a:gdLst>
              <a:gd name="textAreaLeft" fmla="*/ 30600 w 102960"/>
              <a:gd name="textAreaRight" fmla="*/ 103680 w 102960"/>
              <a:gd name="textAreaTop" fmla="*/ 3960 h 382320"/>
              <a:gd name="textAreaBottom" fmla="*/ 378360 h 38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43"/>
                  <a:pt x="0" y="486"/>
                </a:cubicBezTo>
                <a:lnTo>
                  <a:pt x="0" y="21114"/>
                </a:lnTo>
                <a:cubicBezTo>
                  <a:pt x="0" y="2135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onnecteur droit 14"/>
          <p:cNvSpPr/>
          <p:nvPr/>
        </p:nvSpPr>
        <p:spPr>
          <a:xfrm>
            <a:off x="4759200" y="4508640"/>
            <a:ext cx="506520" cy="612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arenthèse fermante 16"/>
          <p:cNvSpPr/>
          <p:nvPr/>
        </p:nvSpPr>
        <p:spPr>
          <a:xfrm>
            <a:off x="5203800" y="4329000"/>
            <a:ext cx="71640" cy="35748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arenthèse ouvrante 17"/>
          <p:cNvSpPr/>
          <p:nvPr/>
        </p:nvSpPr>
        <p:spPr>
          <a:xfrm flipH="1">
            <a:off x="4656240" y="4329000"/>
            <a:ext cx="79200" cy="357480"/>
          </a:xfrm>
          <a:custGeom>
            <a:avLst/>
            <a:gdLst>
              <a:gd name="textAreaLeft" fmla="*/ 23400 w 79200"/>
              <a:gd name="textAreaRight" fmla="*/ 79920 w 79200"/>
              <a:gd name="textAreaTop" fmla="*/ 3240 h 357480"/>
              <a:gd name="textAreaBottom" fmla="*/ 354240 h 35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8"/>
                  <a:pt x="0" y="396"/>
                </a:cubicBezTo>
                <a:lnTo>
                  <a:pt x="0" y="21204"/>
                </a:lnTo>
                <a:cubicBezTo>
                  <a:pt x="0" y="21402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ZoneTexte 6" descr=""/>
          <p:cNvPicPr/>
          <p:nvPr/>
        </p:nvPicPr>
        <p:blipFill>
          <a:blip r:embed="rId2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30" name="Bulle ronde 5"/>
          <p:cNvSpPr/>
          <p:nvPr/>
        </p:nvSpPr>
        <p:spPr>
          <a:xfrm>
            <a:off x="2476440" y="2635200"/>
            <a:ext cx="1212840" cy="1000080"/>
          </a:xfrm>
          <a:prstGeom prst="wedgeEllipseCallout">
            <a:avLst>
              <a:gd name="adj1" fmla="val 172916"/>
              <a:gd name="adj2" fmla="val 8602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oneTexte 7"/>
          <p:cNvSpPr/>
          <p:nvPr/>
        </p:nvSpPr>
        <p:spPr>
          <a:xfrm>
            <a:off x="2562120" y="2781360"/>
            <a:ext cx="10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geogebra"/>
          <p:cNvPicPr/>
          <p:nvPr/>
        </p:nvPicPr>
        <p:blipFill>
          <a:blip r:embed="rId3"/>
          <a:stretch/>
        </p:blipFill>
        <p:spPr>
          <a:xfrm>
            <a:off x="-104760" y="3586320"/>
            <a:ext cx="91263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sp>
        <p:nvSpPr>
          <p:cNvPr id="135" name="Connecteur droit 4"/>
          <p:cNvSpPr/>
          <p:nvPr/>
        </p:nvSpPr>
        <p:spPr>
          <a:xfrm>
            <a:off x="20520" y="4005360"/>
            <a:ext cx="524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arenthèse fermante 9"/>
          <p:cNvSpPr/>
          <p:nvPr/>
        </p:nvSpPr>
        <p:spPr>
          <a:xfrm>
            <a:off x="5148360" y="3854520"/>
            <a:ext cx="117360" cy="301680"/>
          </a:xfrm>
          <a:custGeom>
            <a:avLst/>
            <a:gdLst>
              <a:gd name="textAreaLeft" fmla="*/ 0 w 117360"/>
              <a:gd name="textAreaRight" fmla="*/ 82440 w 117360"/>
              <a:gd name="textAreaTop" fmla="*/ 4680 h 301680"/>
              <a:gd name="textAreaBottom" fmla="*/ 29700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51"/>
                  <a:pt x="21600" y="702"/>
                </a:cubicBezTo>
                <a:lnTo>
                  <a:pt x="21600" y="20898"/>
                </a:lnTo>
                <a:cubicBezTo>
                  <a:pt x="21600" y="2124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Connecteur droit 11"/>
          <p:cNvSpPr/>
          <p:nvPr/>
        </p:nvSpPr>
        <p:spPr>
          <a:xfrm>
            <a:off x="4759200" y="3776760"/>
            <a:ext cx="438480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arenthèse ouvrante 12"/>
          <p:cNvSpPr/>
          <p:nvPr/>
        </p:nvSpPr>
        <p:spPr>
          <a:xfrm flipH="1">
            <a:off x="4656240" y="3586320"/>
            <a:ext cx="102960" cy="382320"/>
          </a:xfrm>
          <a:custGeom>
            <a:avLst/>
            <a:gdLst>
              <a:gd name="textAreaLeft" fmla="*/ 30600 w 102960"/>
              <a:gd name="textAreaRight" fmla="*/ 103680 w 102960"/>
              <a:gd name="textAreaTop" fmla="*/ 3960 h 382320"/>
              <a:gd name="textAreaBottom" fmla="*/ 378360 h 38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43"/>
                  <a:pt x="0" y="486"/>
                </a:cubicBezTo>
                <a:lnTo>
                  <a:pt x="0" y="21114"/>
                </a:lnTo>
                <a:cubicBezTo>
                  <a:pt x="0" y="2135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Connecteur droit 14"/>
          <p:cNvSpPr/>
          <p:nvPr/>
        </p:nvSpPr>
        <p:spPr>
          <a:xfrm>
            <a:off x="20520" y="4437000"/>
            <a:ext cx="912348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ZoneTexte 6" descr=""/>
          <p:cNvPicPr/>
          <p:nvPr/>
        </p:nvPicPr>
        <p:blipFill>
          <a:blip r:embed="rId2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41" name="Bulle ronde 5"/>
          <p:cNvSpPr/>
          <p:nvPr/>
        </p:nvSpPr>
        <p:spPr>
          <a:xfrm>
            <a:off x="2476440" y="2635200"/>
            <a:ext cx="1212840" cy="1000080"/>
          </a:xfrm>
          <a:prstGeom prst="wedgeEllipseCallout">
            <a:avLst>
              <a:gd name="adj1" fmla="val 172916"/>
              <a:gd name="adj2" fmla="val 8602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oneTexte 7"/>
          <p:cNvSpPr/>
          <p:nvPr/>
        </p:nvSpPr>
        <p:spPr>
          <a:xfrm>
            <a:off x="2562120" y="2781360"/>
            <a:ext cx="10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geogebra"/>
          <p:cNvPicPr/>
          <p:nvPr/>
        </p:nvPicPr>
        <p:blipFill>
          <a:blip r:embed="rId3"/>
          <a:stretch/>
        </p:blipFill>
        <p:spPr>
          <a:xfrm>
            <a:off x="-125280" y="3586320"/>
            <a:ext cx="91263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341360"/>
            <a:ext cx="9083520" cy="1365480"/>
          </a:xfrm>
          <a:prstGeom prst="rect">
            <a:avLst/>
          </a:prstGeom>
          <a:ln w="0">
            <a:noFill/>
          </a:ln>
        </p:spPr>
      </p:pic>
      <p:sp>
        <p:nvSpPr>
          <p:cNvPr id="146" name="Connecteur droit 4"/>
          <p:cNvSpPr/>
          <p:nvPr/>
        </p:nvSpPr>
        <p:spPr>
          <a:xfrm flipV="1">
            <a:off x="395280" y="3995640"/>
            <a:ext cx="4624560" cy="28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arenthèse fermante 9"/>
          <p:cNvSpPr/>
          <p:nvPr/>
        </p:nvSpPr>
        <p:spPr>
          <a:xfrm>
            <a:off x="496728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onnecteur droit 11"/>
          <p:cNvSpPr/>
          <p:nvPr/>
        </p:nvSpPr>
        <p:spPr>
          <a:xfrm flipV="1">
            <a:off x="501480" y="3807000"/>
            <a:ext cx="3854520" cy="3960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arenthèse ouvrante 12"/>
          <p:cNvSpPr/>
          <p:nvPr/>
        </p:nvSpPr>
        <p:spPr>
          <a:xfrm>
            <a:off x="407880" y="3629160"/>
            <a:ext cx="93600" cy="380880"/>
          </a:xfrm>
          <a:custGeom>
            <a:avLst/>
            <a:gdLst>
              <a:gd name="textAreaLeft" fmla="*/ 27360 w 93600"/>
              <a:gd name="textAreaRight" fmla="*/ 93960 w 93600"/>
              <a:gd name="textAreaTop" fmla="*/ 3600 h 380880"/>
              <a:gd name="textAreaBottom" fmla="*/ 37728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1"/>
                  <a:pt x="0" y="441"/>
                </a:cubicBezTo>
                <a:lnTo>
                  <a:pt x="0" y="21159"/>
                </a:lnTo>
                <a:cubicBezTo>
                  <a:pt x="0" y="21380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Connecteur droit 14"/>
          <p:cNvSpPr/>
          <p:nvPr/>
        </p:nvSpPr>
        <p:spPr>
          <a:xfrm flipV="1">
            <a:off x="401760" y="4452480"/>
            <a:ext cx="3949560" cy="2556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arenthèse fermante 16"/>
          <p:cNvSpPr/>
          <p:nvPr/>
        </p:nvSpPr>
        <p:spPr>
          <a:xfrm>
            <a:off x="4211640" y="4273560"/>
            <a:ext cx="139680" cy="357120"/>
          </a:xfrm>
          <a:custGeom>
            <a:avLst/>
            <a:gdLst>
              <a:gd name="textAreaLeft" fmla="*/ 0 w 139680"/>
              <a:gd name="textAreaRight" fmla="*/ 97920 w 139680"/>
              <a:gd name="textAreaTop" fmla="*/ 5760 h 357120"/>
              <a:gd name="textAreaBottom" fmla="*/ 3513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53"/>
                  <a:pt x="21600" y="706"/>
                </a:cubicBezTo>
                <a:lnTo>
                  <a:pt x="21600" y="20894"/>
                </a:lnTo>
                <a:cubicBezTo>
                  <a:pt x="21600" y="2124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arenthèse ouvrante 17"/>
          <p:cNvSpPr/>
          <p:nvPr/>
        </p:nvSpPr>
        <p:spPr>
          <a:xfrm>
            <a:off x="401760" y="42991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arenthèse ouvrante 20"/>
          <p:cNvSpPr/>
          <p:nvPr/>
        </p:nvSpPr>
        <p:spPr>
          <a:xfrm>
            <a:off x="395280" y="3846600"/>
            <a:ext cx="106200" cy="357120"/>
          </a:xfrm>
          <a:custGeom>
            <a:avLst/>
            <a:gdLst>
              <a:gd name="textAreaLeft" fmla="*/ 31320 w 106200"/>
              <a:gd name="textAreaRight" fmla="*/ 106560 w 1062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ZoneTexte 6" descr=""/>
          <p:cNvPicPr/>
          <p:nvPr/>
        </p:nvPicPr>
        <p:blipFill>
          <a:blip r:embed="rId2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55" name="Parenthèse fermante 15"/>
          <p:cNvSpPr/>
          <p:nvPr/>
        </p:nvSpPr>
        <p:spPr>
          <a:xfrm>
            <a:off x="4211640" y="3629160"/>
            <a:ext cx="144360" cy="357120"/>
          </a:xfrm>
          <a:custGeom>
            <a:avLst/>
            <a:gdLst>
              <a:gd name="textAreaLeft" fmla="*/ 0 w 144360"/>
              <a:gd name="textAreaRight" fmla="*/ 101160 w 144360"/>
              <a:gd name="textAreaTop" fmla="*/ 5760 h 357120"/>
              <a:gd name="textAreaBottom" fmla="*/ 3513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63"/>
                  <a:pt x="21600" y="726"/>
                </a:cubicBezTo>
                <a:lnTo>
                  <a:pt x="21600" y="20874"/>
                </a:lnTo>
                <a:cubicBezTo>
                  <a:pt x="21600" y="2123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Bulle ronde 24"/>
          <p:cNvSpPr/>
          <p:nvPr/>
        </p:nvSpPr>
        <p:spPr>
          <a:xfrm>
            <a:off x="5715000" y="2395440"/>
            <a:ext cx="2160720" cy="1368360"/>
          </a:xfrm>
          <a:prstGeom prst="wedgeEllipseCallout">
            <a:avLst>
              <a:gd name="adj1" fmla="val -78990"/>
              <a:gd name="adj2" fmla="val 63921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ZoneTexte 25" descr=""/>
          <p:cNvPicPr/>
          <p:nvPr/>
        </p:nvPicPr>
        <p:blipFill>
          <a:blip r:embed="rId3"/>
          <a:stretch/>
        </p:blipFill>
        <p:spPr>
          <a:xfrm>
            <a:off x="5962680" y="2554200"/>
            <a:ext cx="1663560" cy="102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geogebra"/>
          <p:cNvPicPr/>
          <p:nvPr/>
        </p:nvPicPr>
        <p:blipFill>
          <a:blip r:embed="rId4"/>
          <a:stretch/>
        </p:blipFill>
        <p:spPr>
          <a:xfrm>
            <a:off x="66600" y="3579840"/>
            <a:ext cx="9096480" cy="1152360"/>
          </a:xfrm>
          <a:prstGeom prst="rect">
            <a:avLst/>
          </a:prstGeom>
          <a:ln w="0">
            <a:noFill/>
          </a:ln>
        </p:spPr>
      </p:pic>
      <p:sp>
        <p:nvSpPr>
          <p:cNvPr id="159" name="Bulle ronde 3"/>
          <p:cNvSpPr/>
          <p:nvPr/>
        </p:nvSpPr>
        <p:spPr>
          <a:xfrm>
            <a:off x="1592280" y="4782960"/>
            <a:ext cx="2332080" cy="1382760"/>
          </a:xfrm>
          <a:prstGeom prst="wedgeEllipseCallout">
            <a:avLst>
              <a:gd name="adj1" fmla="val 67615"/>
              <a:gd name="adj2" fmla="val -10153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ZoneTexte 5" descr=""/>
          <p:cNvPicPr/>
          <p:nvPr/>
        </p:nvPicPr>
        <p:blipFill>
          <a:blip r:embed="rId5"/>
          <a:stretch/>
        </p:blipFill>
        <p:spPr>
          <a:xfrm>
            <a:off x="1835280" y="4962600"/>
            <a:ext cx="18414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341360"/>
            <a:ext cx="9083520" cy="1365480"/>
          </a:xfrm>
          <a:prstGeom prst="rect">
            <a:avLst/>
          </a:prstGeom>
          <a:ln w="0">
            <a:noFill/>
          </a:ln>
        </p:spPr>
      </p:pic>
      <p:sp>
        <p:nvSpPr>
          <p:cNvPr id="163" name="Connecteur droit 4"/>
          <p:cNvSpPr/>
          <p:nvPr/>
        </p:nvSpPr>
        <p:spPr>
          <a:xfrm flipV="1">
            <a:off x="395280" y="3995640"/>
            <a:ext cx="4624560" cy="28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arenthèse fermante 9"/>
          <p:cNvSpPr/>
          <p:nvPr/>
        </p:nvSpPr>
        <p:spPr>
          <a:xfrm>
            <a:off x="496728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Connecteur droit 11"/>
          <p:cNvSpPr/>
          <p:nvPr/>
        </p:nvSpPr>
        <p:spPr>
          <a:xfrm flipV="1">
            <a:off x="501480" y="3807000"/>
            <a:ext cx="3854520" cy="3960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arenthèse ouvrante 12"/>
          <p:cNvSpPr/>
          <p:nvPr/>
        </p:nvSpPr>
        <p:spPr>
          <a:xfrm>
            <a:off x="407880" y="3629160"/>
            <a:ext cx="93600" cy="380880"/>
          </a:xfrm>
          <a:custGeom>
            <a:avLst/>
            <a:gdLst>
              <a:gd name="textAreaLeft" fmla="*/ 27360 w 93600"/>
              <a:gd name="textAreaRight" fmla="*/ 93960 w 93600"/>
              <a:gd name="textAreaTop" fmla="*/ 3600 h 380880"/>
              <a:gd name="textAreaBottom" fmla="*/ 37728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1"/>
                  <a:pt x="0" y="441"/>
                </a:cubicBezTo>
                <a:lnTo>
                  <a:pt x="0" y="21159"/>
                </a:lnTo>
                <a:cubicBezTo>
                  <a:pt x="0" y="21380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Connecteur droit 14"/>
          <p:cNvSpPr/>
          <p:nvPr/>
        </p:nvSpPr>
        <p:spPr>
          <a:xfrm flipV="1">
            <a:off x="401760" y="4462560"/>
            <a:ext cx="4611600" cy="1584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arenthèse fermante 16"/>
          <p:cNvSpPr/>
          <p:nvPr/>
        </p:nvSpPr>
        <p:spPr>
          <a:xfrm>
            <a:off x="4873680" y="4284720"/>
            <a:ext cx="139680" cy="357120"/>
          </a:xfrm>
          <a:custGeom>
            <a:avLst/>
            <a:gdLst>
              <a:gd name="textAreaLeft" fmla="*/ 0 w 139680"/>
              <a:gd name="textAreaRight" fmla="*/ 97920 w 139680"/>
              <a:gd name="textAreaTop" fmla="*/ 5760 h 357120"/>
              <a:gd name="textAreaBottom" fmla="*/ 3513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53"/>
                  <a:pt x="21600" y="706"/>
                </a:cubicBezTo>
                <a:lnTo>
                  <a:pt x="21600" y="20894"/>
                </a:lnTo>
                <a:cubicBezTo>
                  <a:pt x="21600" y="2124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arenthèse ouvrante 17"/>
          <p:cNvSpPr/>
          <p:nvPr/>
        </p:nvSpPr>
        <p:spPr>
          <a:xfrm>
            <a:off x="401760" y="42991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arenthèse ouvrante 20"/>
          <p:cNvSpPr/>
          <p:nvPr/>
        </p:nvSpPr>
        <p:spPr>
          <a:xfrm>
            <a:off x="395280" y="3846600"/>
            <a:ext cx="106200" cy="357120"/>
          </a:xfrm>
          <a:custGeom>
            <a:avLst/>
            <a:gdLst>
              <a:gd name="textAreaLeft" fmla="*/ 31320 w 106200"/>
              <a:gd name="textAreaRight" fmla="*/ 106560 w 1062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ZoneTexte 6" descr=""/>
          <p:cNvPicPr/>
          <p:nvPr/>
        </p:nvPicPr>
        <p:blipFill>
          <a:blip r:embed="rId2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72" name="Parenthèse fermante 15"/>
          <p:cNvSpPr/>
          <p:nvPr/>
        </p:nvSpPr>
        <p:spPr>
          <a:xfrm>
            <a:off x="4211640" y="3629160"/>
            <a:ext cx="144360" cy="357120"/>
          </a:xfrm>
          <a:custGeom>
            <a:avLst/>
            <a:gdLst>
              <a:gd name="textAreaLeft" fmla="*/ 0 w 144360"/>
              <a:gd name="textAreaRight" fmla="*/ 101160 w 144360"/>
              <a:gd name="textAreaTop" fmla="*/ 5760 h 357120"/>
              <a:gd name="textAreaBottom" fmla="*/ 3513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63"/>
                  <a:pt x="21600" y="726"/>
                </a:cubicBezTo>
                <a:lnTo>
                  <a:pt x="21600" y="20874"/>
                </a:lnTo>
                <a:cubicBezTo>
                  <a:pt x="21600" y="2123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Bulle ronde 24"/>
          <p:cNvSpPr/>
          <p:nvPr/>
        </p:nvSpPr>
        <p:spPr>
          <a:xfrm>
            <a:off x="5715000" y="2395440"/>
            <a:ext cx="2160720" cy="1368360"/>
          </a:xfrm>
          <a:prstGeom prst="wedgeEllipseCallout">
            <a:avLst>
              <a:gd name="adj1" fmla="val -78990"/>
              <a:gd name="adj2" fmla="val 63921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ZoneTexte 25" descr=""/>
          <p:cNvPicPr/>
          <p:nvPr/>
        </p:nvPicPr>
        <p:blipFill>
          <a:blip r:embed="rId3"/>
          <a:stretch/>
        </p:blipFill>
        <p:spPr>
          <a:xfrm>
            <a:off x="5962680" y="2554200"/>
            <a:ext cx="1663560" cy="1024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geogebra"/>
          <p:cNvPicPr/>
          <p:nvPr/>
        </p:nvPicPr>
        <p:blipFill>
          <a:blip r:embed="rId4"/>
          <a:stretch/>
        </p:blipFill>
        <p:spPr>
          <a:xfrm>
            <a:off x="47520" y="3579840"/>
            <a:ext cx="9096480" cy="1152360"/>
          </a:xfrm>
          <a:prstGeom prst="rect">
            <a:avLst/>
          </a:prstGeom>
          <a:ln w="0">
            <a:noFill/>
          </a:ln>
        </p:spPr>
      </p:pic>
      <p:sp>
        <p:nvSpPr>
          <p:cNvPr id="176" name="Bulle ronde 3"/>
          <p:cNvSpPr/>
          <p:nvPr/>
        </p:nvSpPr>
        <p:spPr>
          <a:xfrm>
            <a:off x="1592280" y="4782960"/>
            <a:ext cx="2332080" cy="1382760"/>
          </a:xfrm>
          <a:prstGeom prst="wedgeEllipseCallout">
            <a:avLst>
              <a:gd name="adj1" fmla="val 67615"/>
              <a:gd name="adj2" fmla="val -10153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ZoneTexte 5" descr=""/>
          <p:cNvPicPr/>
          <p:nvPr/>
        </p:nvPicPr>
        <p:blipFill>
          <a:blip r:embed="rId5"/>
          <a:stretch/>
        </p:blipFill>
        <p:spPr>
          <a:xfrm>
            <a:off x="1835280" y="4962600"/>
            <a:ext cx="18414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Simplifier les intersections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 et réunions d’intervalles suivantes, lorsque c’est possibl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sp>
        <p:nvSpPr>
          <p:cNvPr id="180" name="Connecteur droit 4"/>
          <p:cNvSpPr/>
          <p:nvPr/>
        </p:nvSpPr>
        <p:spPr>
          <a:xfrm>
            <a:off x="1801800" y="4051440"/>
            <a:ext cx="1747800" cy="7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arenthèse fermante 9"/>
          <p:cNvSpPr/>
          <p:nvPr/>
        </p:nvSpPr>
        <p:spPr>
          <a:xfrm>
            <a:off x="3479760" y="3873600"/>
            <a:ext cx="65160" cy="357120"/>
          </a:xfrm>
          <a:custGeom>
            <a:avLst/>
            <a:gdLst>
              <a:gd name="textAreaLeft" fmla="*/ 0 w 65160"/>
              <a:gd name="textAreaRight" fmla="*/ 45720 w 65160"/>
              <a:gd name="textAreaTop" fmla="*/ 2520 h 357120"/>
              <a:gd name="textAreaBottom" fmla="*/ 3546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63"/>
                  <a:pt x="21600" y="326"/>
                </a:cubicBezTo>
                <a:lnTo>
                  <a:pt x="21600" y="21274"/>
                </a:lnTo>
                <a:cubicBezTo>
                  <a:pt x="21600" y="2143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11"/>
          <p:cNvSpPr/>
          <p:nvPr/>
        </p:nvSpPr>
        <p:spPr>
          <a:xfrm>
            <a:off x="3768840" y="4051440"/>
            <a:ext cx="3467160" cy="792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arenthèse ouvrante 12"/>
          <p:cNvSpPr/>
          <p:nvPr/>
        </p:nvSpPr>
        <p:spPr>
          <a:xfrm flipH="1">
            <a:off x="3683160" y="3860640"/>
            <a:ext cx="85680" cy="38124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1240"/>
              <a:gd name="textAreaBottom" fmla="*/ 3780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arenthèse ouvrante 20"/>
          <p:cNvSpPr/>
          <p:nvPr/>
        </p:nvSpPr>
        <p:spPr>
          <a:xfrm flipH="1">
            <a:off x="1692360" y="3873600"/>
            <a:ext cx="109440" cy="357120"/>
          </a:xfrm>
          <a:custGeom>
            <a:avLst/>
            <a:gdLst>
              <a:gd name="textAreaLeft" fmla="*/ 32040 w 109440"/>
              <a:gd name="textAreaRight" fmla="*/ 10980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79"/>
                  <a:pt x="0" y="558"/>
                </a:cubicBezTo>
                <a:lnTo>
                  <a:pt x="0" y="21042"/>
                </a:lnTo>
                <a:cubicBezTo>
                  <a:pt x="0" y="21321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ZoneTexte 6" descr=""/>
          <p:cNvPicPr/>
          <p:nvPr/>
        </p:nvPicPr>
        <p:blipFill>
          <a:blip r:embed="rId2"/>
          <a:stretch/>
        </p:blipFill>
        <p:spPr>
          <a:xfrm>
            <a:off x="5583240" y="5194440"/>
            <a:ext cx="3305160" cy="1614240"/>
          </a:xfrm>
          <a:prstGeom prst="rect">
            <a:avLst/>
          </a:prstGeom>
          <a:ln w="0">
            <a:noFill/>
          </a:ln>
        </p:spPr>
      </p:pic>
      <p:sp>
        <p:nvSpPr>
          <p:cNvPr id="186" name="Parenthèse fermante 15"/>
          <p:cNvSpPr/>
          <p:nvPr/>
        </p:nvSpPr>
        <p:spPr>
          <a:xfrm flipH="1">
            <a:off x="7236000" y="3881520"/>
            <a:ext cx="72720" cy="357120"/>
          </a:xfrm>
          <a:custGeom>
            <a:avLst/>
            <a:gdLst>
              <a:gd name="textAreaLeft" fmla="*/ 0 w 72720"/>
              <a:gd name="textAreaRight" fmla="*/ 51120 w 7272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2"/>
                  <a:pt x="21600" y="363"/>
                </a:cubicBezTo>
                <a:lnTo>
                  <a:pt x="21600" y="21237"/>
                </a:lnTo>
                <a:cubicBezTo>
                  <a:pt x="21600" y="2141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Bulle ronde 24"/>
          <p:cNvSpPr/>
          <p:nvPr/>
        </p:nvSpPr>
        <p:spPr>
          <a:xfrm>
            <a:off x="826920" y="4941720"/>
            <a:ext cx="2435400" cy="1366920"/>
          </a:xfrm>
          <a:prstGeom prst="wedgeEllipseCallout">
            <a:avLst>
              <a:gd name="adj1" fmla="val 58277"/>
              <a:gd name="adj2" fmla="val -111847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ZoneTexte 25" descr=""/>
          <p:cNvPicPr/>
          <p:nvPr/>
        </p:nvPicPr>
        <p:blipFill>
          <a:blip r:embed="rId3"/>
          <a:stretch/>
        </p:blipFill>
        <p:spPr>
          <a:xfrm>
            <a:off x="804960" y="5200560"/>
            <a:ext cx="2455920" cy="955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geogebra"/>
          <p:cNvPicPr/>
          <p:nvPr/>
        </p:nvPicPr>
        <p:blipFill>
          <a:blip r:embed="rId4"/>
          <a:stretch/>
        </p:blipFill>
        <p:spPr>
          <a:xfrm>
            <a:off x="23760" y="3321000"/>
            <a:ext cx="8999640" cy="730440"/>
          </a:xfrm>
          <a:prstGeom prst="rect">
            <a:avLst/>
          </a:prstGeom>
          <a:ln w="0">
            <a:noFill/>
          </a:ln>
        </p:spPr>
      </p:pic>
      <p:sp>
        <p:nvSpPr>
          <p:cNvPr id="190" name="Bulle ronde 32"/>
          <p:cNvSpPr/>
          <p:nvPr/>
        </p:nvSpPr>
        <p:spPr>
          <a:xfrm>
            <a:off x="3726000" y="4365720"/>
            <a:ext cx="2070000" cy="1258920"/>
          </a:xfrm>
          <a:prstGeom prst="wedgeEllipseCallout">
            <a:avLst>
              <a:gd name="adj1" fmla="val -45740"/>
              <a:gd name="adj2" fmla="val -7008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ZoneTexte 36" descr=""/>
          <p:cNvPicPr/>
          <p:nvPr/>
        </p:nvPicPr>
        <p:blipFill>
          <a:blip r:embed="rId5"/>
          <a:stretch/>
        </p:blipFill>
        <p:spPr>
          <a:xfrm>
            <a:off x="3475080" y="4516560"/>
            <a:ext cx="24620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sp>
        <p:nvSpPr>
          <p:cNvPr id="194" name="Connecteur droit 4"/>
          <p:cNvSpPr/>
          <p:nvPr/>
        </p:nvSpPr>
        <p:spPr>
          <a:xfrm>
            <a:off x="1801800" y="4051440"/>
            <a:ext cx="1747800" cy="7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arenthèse fermante 9"/>
          <p:cNvSpPr/>
          <p:nvPr/>
        </p:nvSpPr>
        <p:spPr>
          <a:xfrm>
            <a:off x="3479760" y="3873600"/>
            <a:ext cx="65160" cy="357120"/>
          </a:xfrm>
          <a:custGeom>
            <a:avLst/>
            <a:gdLst>
              <a:gd name="textAreaLeft" fmla="*/ 0 w 65160"/>
              <a:gd name="textAreaRight" fmla="*/ 45720 w 65160"/>
              <a:gd name="textAreaTop" fmla="*/ 2520 h 357120"/>
              <a:gd name="textAreaBottom" fmla="*/ 3546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63"/>
                  <a:pt x="21600" y="326"/>
                </a:cubicBezTo>
                <a:lnTo>
                  <a:pt x="21600" y="21274"/>
                </a:lnTo>
                <a:cubicBezTo>
                  <a:pt x="21600" y="2143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Connecteur droit 11"/>
          <p:cNvSpPr/>
          <p:nvPr/>
        </p:nvSpPr>
        <p:spPr>
          <a:xfrm>
            <a:off x="3768840" y="4051440"/>
            <a:ext cx="3467160" cy="792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arenthèse ouvrante 12"/>
          <p:cNvSpPr/>
          <p:nvPr/>
        </p:nvSpPr>
        <p:spPr>
          <a:xfrm flipH="1">
            <a:off x="3683160" y="3860640"/>
            <a:ext cx="85680" cy="38124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1240"/>
              <a:gd name="textAreaBottom" fmla="*/ 3780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Connecteur droit 14"/>
          <p:cNvSpPr/>
          <p:nvPr/>
        </p:nvSpPr>
        <p:spPr>
          <a:xfrm>
            <a:off x="1832040" y="4602240"/>
            <a:ext cx="1730160" cy="468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arenthèse fermante 16"/>
          <p:cNvSpPr/>
          <p:nvPr/>
        </p:nvSpPr>
        <p:spPr>
          <a:xfrm>
            <a:off x="3460680" y="4421160"/>
            <a:ext cx="101520" cy="357120"/>
          </a:xfrm>
          <a:custGeom>
            <a:avLst/>
            <a:gdLst>
              <a:gd name="textAreaLeft" fmla="*/ 0 w 101520"/>
              <a:gd name="textAreaRight" fmla="*/ 71280 w 101520"/>
              <a:gd name="textAreaTop" fmla="*/ 3960 h 357120"/>
              <a:gd name="textAreaBottom" fmla="*/ 3531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5"/>
                  <a:pt x="21600" y="509"/>
                </a:cubicBezTo>
                <a:lnTo>
                  <a:pt x="21600" y="21091"/>
                </a:lnTo>
                <a:cubicBezTo>
                  <a:pt x="21600" y="21346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arenthèse ouvrante 17"/>
          <p:cNvSpPr/>
          <p:nvPr/>
        </p:nvSpPr>
        <p:spPr>
          <a:xfrm flipH="1">
            <a:off x="1716120" y="4373640"/>
            <a:ext cx="85680" cy="35712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8"/>
                  <a:pt x="0" y="435"/>
                </a:cubicBezTo>
                <a:lnTo>
                  <a:pt x="0" y="21165"/>
                </a:lnTo>
                <a:cubicBezTo>
                  <a:pt x="0" y="21383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arenthèse ouvrante 20"/>
          <p:cNvSpPr/>
          <p:nvPr/>
        </p:nvSpPr>
        <p:spPr>
          <a:xfrm flipH="1">
            <a:off x="1692360" y="3873600"/>
            <a:ext cx="109440" cy="357120"/>
          </a:xfrm>
          <a:custGeom>
            <a:avLst/>
            <a:gdLst>
              <a:gd name="textAreaLeft" fmla="*/ 32040 w 109440"/>
              <a:gd name="textAreaRight" fmla="*/ 10980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79"/>
                  <a:pt x="0" y="558"/>
                </a:cubicBezTo>
                <a:lnTo>
                  <a:pt x="0" y="21042"/>
                </a:lnTo>
                <a:cubicBezTo>
                  <a:pt x="0" y="21321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ZoneTexte 6" descr=""/>
          <p:cNvPicPr/>
          <p:nvPr/>
        </p:nvPicPr>
        <p:blipFill>
          <a:blip r:embed="rId2"/>
          <a:stretch/>
        </p:blipFill>
        <p:spPr>
          <a:xfrm>
            <a:off x="3706920" y="4595760"/>
            <a:ext cx="5437080" cy="2262240"/>
          </a:xfrm>
          <a:prstGeom prst="rect">
            <a:avLst/>
          </a:prstGeom>
          <a:ln w="0">
            <a:noFill/>
          </a:ln>
        </p:spPr>
      </p:pic>
      <p:sp>
        <p:nvSpPr>
          <p:cNvPr id="203" name="Parenthèse fermante 15"/>
          <p:cNvSpPr/>
          <p:nvPr/>
        </p:nvSpPr>
        <p:spPr>
          <a:xfrm flipH="1">
            <a:off x="7236000" y="3881520"/>
            <a:ext cx="72720" cy="357120"/>
          </a:xfrm>
          <a:custGeom>
            <a:avLst/>
            <a:gdLst>
              <a:gd name="textAreaLeft" fmla="*/ 0 w 72720"/>
              <a:gd name="textAreaRight" fmla="*/ 51120 w 7272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2"/>
                  <a:pt x="21600" y="363"/>
                </a:cubicBezTo>
                <a:lnTo>
                  <a:pt x="21600" y="21237"/>
                </a:lnTo>
                <a:cubicBezTo>
                  <a:pt x="21600" y="2141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Bulle ronde 24"/>
          <p:cNvSpPr/>
          <p:nvPr/>
        </p:nvSpPr>
        <p:spPr>
          <a:xfrm>
            <a:off x="798480" y="5045040"/>
            <a:ext cx="2435400" cy="1366920"/>
          </a:xfrm>
          <a:prstGeom prst="wedgeEllipseCallout">
            <a:avLst>
              <a:gd name="adj1" fmla="val 59740"/>
              <a:gd name="adj2" fmla="val -113583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ZoneTexte 25" descr=""/>
          <p:cNvPicPr/>
          <p:nvPr/>
        </p:nvPicPr>
        <p:blipFill>
          <a:blip r:embed="rId3"/>
          <a:stretch/>
        </p:blipFill>
        <p:spPr>
          <a:xfrm>
            <a:off x="804960" y="5200560"/>
            <a:ext cx="2455920" cy="955800"/>
          </a:xfrm>
          <a:prstGeom prst="rect">
            <a:avLst/>
          </a:prstGeom>
          <a:ln w="0">
            <a:noFill/>
          </a:ln>
        </p:spPr>
      </p:pic>
      <p:sp>
        <p:nvSpPr>
          <p:cNvPr id="206" name="Connecteur droit 26"/>
          <p:cNvSpPr/>
          <p:nvPr/>
        </p:nvSpPr>
        <p:spPr>
          <a:xfrm flipV="1">
            <a:off x="3768840" y="4591080"/>
            <a:ext cx="3467160" cy="144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arenthèse fermante 28"/>
          <p:cNvSpPr/>
          <p:nvPr/>
        </p:nvSpPr>
        <p:spPr>
          <a:xfrm flipH="1">
            <a:off x="7236000" y="4440240"/>
            <a:ext cx="72720" cy="301680"/>
          </a:xfrm>
          <a:custGeom>
            <a:avLst/>
            <a:gdLst>
              <a:gd name="textAreaLeft" fmla="*/ 0 w 72720"/>
              <a:gd name="textAreaRight" fmla="*/ 51120 w 72720"/>
              <a:gd name="textAreaTop" fmla="*/ 2880 h 301680"/>
              <a:gd name="textAreaBottom" fmla="*/ 29880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15"/>
                  <a:pt x="21600" y="429"/>
                </a:cubicBezTo>
                <a:lnTo>
                  <a:pt x="21600" y="21171"/>
                </a:lnTo>
                <a:cubicBezTo>
                  <a:pt x="21600" y="21386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arenthèse fermante 29"/>
          <p:cNvSpPr/>
          <p:nvPr/>
        </p:nvSpPr>
        <p:spPr>
          <a:xfrm>
            <a:off x="3683160" y="4424400"/>
            <a:ext cx="85680" cy="357120"/>
          </a:xfrm>
          <a:custGeom>
            <a:avLst/>
            <a:gdLst>
              <a:gd name="textAreaLeft" fmla="*/ 0 w 85680"/>
              <a:gd name="textAreaRight" fmla="*/ 60120 w 8568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18"/>
                  <a:pt x="21600" y="435"/>
                </a:cubicBezTo>
                <a:lnTo>
                  <a:pt x="21600" y="21165"/>
                </a:lnTo>
                <a:cubicBezTo>
                  <a:pt x="21600" y="21383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3" descr="geogebra"/>
          <p:cNvPicPr/>
          <p:nvPr/>
        </p:nvPicPr>
        <p:blipFill>
          <a:blip r:embed="rId4"/>
          <a:stretch/>
        </p:blipFill>
        <p:spPr>
          <a:xfrm>
            <a:off x="-12600" y="3881520"/>
            <a:ext cx="8999280" cy="730080"/>
          </a:xfrm>
          <a:prstGeom prst="rect">
            <a:avLst/>
          </a:prstGeom>
          <a:ln w="0">
            <a:noFill/>
          </a:ln>
        </p:spPr>
      </p:pic>
      <p:sp>
        <p:nvSpPr>
          <p:cNvPr id="210" name="Bulle ronde 7"/>
          <p:cNvSpPr/>
          <p:nvPr/>
        </p:nvSpPr>
        <p:spPr>
          <a:xfrm>
            <a:off x="4356000" y="2997360"/>
            <a:ext cx="2376720" cy="955440"/>
          </a:xfrm>
          <a:prstGeom prst="wedgeEllipseCallout">
            <a:avLst>
              <a:gd name="adj1" fmla="val -72305"/>
              <a:gd name="adj2" fmla="val 5305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ZoneTexte 22" descr=""/>
          <p:cNvPicPr/>
          <p:nvPr/>
        </p:nvPicPr>
        <p:blipFill>
          <a:blip r:embed="rId5"/>
          <a:stretch/>
        </p:blipFill>
        <p:spPr>
          <a:xfrm>
            <a:off x="4376880" y="2975040"/>
            <a:ext cx="24620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320" y="27432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Espace réservé du contenu 2" descr=""/>
          <p:cNvPicPr/>
          <p:nvPr/>
        </p:nvPicPr>
        <p:blipFill>
          <a:blip r:embed="rId1"/>
          <a:stretch/>
        </p:blipFill>
        <p:spPr>
          <a:xfrm>
            <a:off x="249120" y="1487520"/>
            <a:ext cx="8748720" cy="1292040"/>
          </a:xfrm>
          <a:prstGeom prst="rect">
            <a:avLst/>
          </a:prstGeom>
          <a:ln w="0">
            <a:noFill/>
          </a:ln>
        </p:spPr>
      </p:pic>
      <p:sp>
        <p:nvSpPr>
          <p:cNvPr id="214" name="Connecteur droit 4"/>
          <p:cNvSpPr/>
          <p:nvPr/>
        </p:nvSpPr>
        <p:spPr>
          <a:xfrm>
            <a:off x="1116000" y="4032360"/>
            <a:ext cx="4014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arenthèse fermante 9"/>
          <p:cNvSpPr/>
          <p:nvPr/>
        </p:nvSpPr>
        <p:spPr>
          <a:xfrm>
            <a:off x="5003640" y="3881520"/>
            <a:ext cx="127080" cy="301680"/>
          </a:xfrm>
          <a:custGeom>
            <a:avLst/>
            <a:gdLst>
              <a:gd name="textAreaLeft" fmla="*/ 0 w 127080"/>
              <a:gd name="textAreaRight" fmla="*/ 89280 w 127080"/>
              <a:gd name="textAreaTop" fmla="*/ 5040 h 301680"/>
              <a:gd name="textAreaBottom" fmla="*/ 2966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77"/>
                  <a:pt x="21600" y="753"/>
                </a:cubicBezTo>
                <a:lnTo>
                  <a:pt x="21600" y="20847"/>
                </a:lnTo>
                <a:cubicBezTo>
                  <a:pt x="21600" y="2122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Connecteur droit 11"/>
          <p:cNvSpPr/>
          <p:nvPr/>
        </p:nvSpPr>
        <p:spPr>
          <a:xfrm>
            <a:off x="5130720" y="3660840"/>
            <a:ext cx="286092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arenthèse ouvrante 20"/>
          <p:cNvSpPr/>
          <p:nvPr/>
        </p:nvSpPr>
        <p:spPr>
          <a:xfrm>
            <a:off x="111600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arenthèse fermante 15"/>
          <p:cNvSpPr/>
          <p:nvPr/>
        </p:nvSpPr>
        <p:spPr>
          <a:xfrm>
            <a:off x="7885080" y="3483000"/>
            <a:ext cx="106560" cy="357120"/>
          </a:xfrm>
          <a:custGeom>
            <a:avLst/>
            <a:gdLst>
              <a:gd name="textAreaLeft" fmla="*/ 0 w 106560"/>
              <a:gd name="textAreaRight" fmla="*/ 74880 w 1065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2"/>
                  <a:pt x="21600" y="543"/>
                </a:cubicBezTo>
                <a:lnTo>
                  <a:pt x="21600" y="21057"/>
                </a:lnTo>
                <a:cubicBezTo>
                  <a:pt x="21600" y="2132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geogebra"/>
          <p:cNvPicPr/>
          <p:nvPr/>
        </p:nvPicPr>
        <p:blipFill>
          <a:blip r:embed="rId2"/>
          <a:stretch/>
        </p:blipFill>
        <p:spPr>
          <a:xfrm>
            <a:off x="22320" y="383688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20" name="Parenthèse fermante 21"/>
          <p:cNvSpPr/>
          <p:nvPr/>
        </p:nvSpPr>
        <p:spPr>
          <a:xfrm>
            <a:off x="5003640" y="3483000"/>
            <a:ext cx="123840" cy="357120"/>
          </a:xfrm>
          <a:custGeom>
            <a:avLst/>
            <a:gdLst>
              <a:gd name="textAreaLeft" fmla="*/ 0 w 123840"/>
              <a:gd name="textAreaRight" fmla="*/ 86760 w 123840"/>
              <a:gd name="textAreaTop" fmla="*/ 5040 h 357120"/>
              <a:gd name="textAreaBottom" fmla="*/ 352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13"/>
                  <a:pt x="21600" y="626"/>
                </a:cubicBezTo>
                <a:lnTo>
                  <a:pt x="21600" y="20974"/>
                </a:lnTo>
                <a:cubicBezTo>
                  <a:pt x="21600" y="2128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ZoneTexte 24" descr=""/>
          <p:cNvPicPr/>
          <p:nvPr/>
        </p:nvPicPr>
        <p:blipFill>
          <a:blip r:embed="rId3"/>
          <a:stretch/>
        </p:blipFill>
        <p:spPr>
          <a:xfrm>
            <a:off x="5583240" y="5194440"/>
            <a:ext cx="3305160" cy="1614240"/>
          </a:xfrm>
          <a:prstGeom prst="rect">
            <a:avLst/>
          </a:prstGeom>
          <a:ln w="0">
            <a:noFill/>
          </a:ln>
        </p:spPr>
      </p:pic>
      <p:sp>
        <p:nvSpPr>
          <p:cNvPr id="222" name="Bulle ronde 18"/>
          <p:cNvSpPr/>
          <p:nvPr/>
        </p:nvSpPr>
        <p:spPr>
          <a:xfrm>
            <a:off x="1479600" y="4633920"/>
            <a:ext cx="3117960" cy="1368360"/>
          </a:xfrm>
          <a:prstGeom prst="wedgeEllipseCallout">
            <a:avLst>
              <a:gd name="adj1" fmla="val 66740"/>
              <a:gd name="adj2" fmla="val -75509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ZoneTexte 19" descr=""/>
          <p:cNvPicPr/>
          <p:nvPr/>
        </p:nvPicPr>
        <p:blipFill>
          <a:blip r:embed="rId4"/>
          <a:stretch/>
        </p:blipFill>
        <p:spPr>
          <a:xfrm>
            <a:off x="1481040" y="4998960"/>
            <a:ext cx="309096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Espace réservé du contenu 2" descr=""/>
          <p:cNvPicPr/>
          <p:nvPr/>
        </p:nvPicPr>
        <p:blipFill>
          <a:blip r:embed="rId1"/>
          <a:stretch/>
        </p:blipFill>
        <p:spPr>
          <a:xfrm>
            <a:off x="249120" y="1487520"/>
            <a:ext cx="8748720" cy="1292040"/>
          </a:xfrm>
          <a:prstGeom prst="rect">
            <a:avLst/>
          </a:prstGeom>
          <a:ln w="0">
            <a:noFill/>
          </a:ln>
        </p:spPr>
      </p:pic>
      <p:sp>
        <p:nvSpPr>
          <p:cNvPr id="226" name="Connecteur droit 4"/>
          <p:cNvSpPr/>
          <p:nvPr/>
        </p:nvSpPr>
        <p:spPr>
          <a:xfrm>
            <a:off x="1116000" y="4032360"/>
            <a:ext cx="4014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arenthèse fermante 9"/>
          <p:cNvSpPr/>
          <p:nvPr/>
        </p:nvSpPr>
        <p:spPr>
          <a:xfrm>
            <a:off x="5003640" y="3881520"/>
            <a:ext cx="127080" cy="301680"/>
          </a:xfrm>
          <a:custGeom>
            <a:avLst/>
            <a:gdLst>
              <a:gd name="textAreaLeft" fmla="*/ 0 w 127080"/>
              <a:gd name="textAreaRight" fmla="*/ 89280 w 127080"/>
              <a:gd name="textAreaTop" fmla="*/ 5040 h 301680"/>
              <a:gd name="textAreaBottom" fmla="*/ 2966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77"/>
                  <a:pt x="21600" y="753"/>
                </a:cubicBezTo>
                <a:lnTo>
                  <a:pt x="21600" y="20847"/>
                </a:lnTo>
                <a:cubicBezTo>
                  <a:pt x="21600" y="2122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Connecteur droit 11"/>
          <p:cNvSpPr/>
          <p:nvPr/>
        </p:nvSpPr>
        <p:spPr>
          <a:xfrm>
            <a:off x="5130720" y="3660840"/>
            <a:ext cx="286092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arenthèse ouvrante 20"/>
          <p:cNvSpPr/>
          <p:nvPr/>
        </p:nvSpPr>
        <p:spPr>
          <a:xfrm>
            <a:off x="111600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arenthèse fermante 15"/>
          <p:cNvSpPr/>
          <p:nvPr/>
        </p:nvSpPr>
        <p:spPr>
          <a:xfrm>
            <a:off x="7885080" y="3483000"/>
            <a:ext cx="106560" cy="357120"/>
          </a:xfrm>
          <a:custGeom>
            <a:avLst/>
            <a:gdLst>
              <a:gd name="textAreaLeft" fmla="*/ 0 w 106560"/>
              <a:gd name="textAreaRight" fmla="*/ 74880 w 1065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2"/>
                  <a:pt x="21600" y="543"/>
                </a:cubicBezTo>
                <a:lnTo>
                  <a:pt x="21600" y="21057"/>
                </a:lnTo>
                <a:cubicBezTo>
                  <a:pt x="21600" y="2132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2" descr="geogebra"/>
          <p:cNvPicPr/>
          <p:nvPr/>
        </p:nvPicPr>
        <p:blipFill>
          <a:blip r:embed="rId2"/>
          <a:stretch/>
        </p:blipFill>
        <p:spPr>
          <a:xfrm>
            <a:off x="25560" y="386064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32" name="Parenthèse fermante 21"/>
          <p:cNvSpPr/>
          <p:nvPr/>
        </p:nvSpPr>
        <p:spPr>
          <a:xfrm>
            <a:off x="5003640" y="3483000"/>
            <a:ext cx="123840" cy="357120"/>
          </a:xfrm>
          <a:custGeom>
            <a:avLst/>
            <a:gdLst>
              <a:gd name="textAreaLeft" fmla="*/ 0 w 123840"/>
              <a:gd name="textAreaRight" fmla="*/ 86760 w 123840"/>
              <a:gd name="textAreaTop" fmla="*/ 5040 h 357120"/>
              <a:gd name="textAreaBottom" fmla="*/ 352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13"/>
                  <a:pt x="21600" y="626"/>
                </a:cubicBezTo>
                <a:lnTo>
                  <a:pt x="21600" y="20974"/>
                </a:lnTo>
                <a:cubicBezTo>
                  <a:pt x="21600" y="2128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ZoneTexte 24" descr=""/>
          <p:cNvPicPr/>
          <p:nvPr/>
        </p:nvPicPr>
        <p:blipFill>
          <a:blip r:embed="rId3"/>
          <a:stretch/>
        </p:blipFill>
        <p:spPr>
          <a:xfrm>
            <a:off x="5583240" y="5194440"/>
            <a:ext cx="3305160" cy="1614240"/>
          </a:xfrm>
          <a:prstGeom prst="rect">
            <a:avLst/>
          </a:prstGeom>
          <a:ln w="0">
            <a:noFill/>
          </a:ln>
        </p:spPr>
      </p:pic>
      <p:sp>
        <p:nvSpPr>
          <p:cNvPr id="234" name="Bulle ronde 18"/>
          <p:cNvSpPr/>
          <p:nvPr/>
        </p:nvSpPr>
        <p:spPr>
          <a:xfrm>
            <a:off x="1500120" y="4749840"/>
            <a:ext cx="3117960" cy="1368360"/>
          </a:xfrm>
          <a:prstGeom prst="wedgeEllipseCallout">
            <a:avLst>
              <a:gd name="adj1" fmla="val 64074"/>
              <a:gd name="adj2" fmla="val -86791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ZoneTexte 19" descr=""/>
          <p:cNvPicPr/>
          <p:nvPr/>
        </p:nvPicPr>
        <p:blipFill>
          <a:blip r:embed="rId4"/>
          <a:stretch/>
        </p:blipFill>
        <p:spPr>
          <a:xfrm>
            <a:off x="1481040" y="5114880"/>
            <a:ext cx="3090960" cy="639720"/>
          </a:xfrm>
          <a:prstGeom prst="rect">
            <a:avLst/>
          </a:prstGeom>
          <a:ln w="0">
            <a:noFill/>
          </a:ln>
        </p:spPr>
      </p:pic>
      <p:sp>
        <p:nvSpPr>
          <p:cNvPr id="236" name="Connecteur droit 13"/>
          <p:cNvSpPr/>
          <p:nvPr/>
        </p:nvSpPr>
        <p:spPr>
          <a:xfrm flipV="1">
            <a:off x="1116000" y="4570200"/>
            <a:ext cx="6875640" cy="2988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arenthèse fermante 14"/>
          <p:cNvSpPr/>
          <p:nvPr/>
        </p:nvSpPr>
        <p:spPr>
          <a:xfrm>
            <a:off x="7885080" y="4392720"/>
            <a:ext cx="122400" cy="357120"/>
          </a:xfrm>
          <a:custGeom>
            <a:avLst/>
            <a:gdLst>
              <a:gd name="textAreaLeft" fmla="*/ 0 w 122400"/>
              <a:gd name="textAreaRight" fmla="*/ 86040 w 122400"/>
              <a:gd name="textAreaTop" fmla="*/ 5040 h 357120"/>
              <a:gd name="textAreaBottom" fmla="*/ 352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08"/>
                  <a:pt x="21600" y="616"/>
                </a:cubicBezTo>
                <a:lnTo>
                  <a:pt x="21600" y="20984"/>
                </a:lnTo>
                <a:cubicBezTo>
                  <a:pt x="21600" y="21292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arenthèse fermante 17"/>
          <p:cNvSpPr/>
          <p:nvPr/>
        </p:nvSpPr>
        <p:spPr>
          <a:xfrm flipH="1">
            <a:off x="1135800" y="4422600"/>
            <a:ext cx="109800" cy="357480"/>
          </a:xfrm>
          <a:custGeom>
            <a:avLst/>
            <a:gdLst>
              <a:gd name="textAreaLeft" fmla="*/ -360 w 109800"/>
              <a:gd name="textAreaRight" fmla="*/ 76680 w 109800"/>
              <a:gd name="textAreaTop" fmla="*/ 4320 h 357480"/>
              <a:gd name="textAreaBottom" fmla="*/ 35316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7"/>
                  <a:pt x="21600" y="553"/>
                </a:cubicBezTo>
                <a:lnTo>
                  <a:pt x="21600" y="21047"/>
                </a:lnTo>
                <a:cubicBezTo>
                  <a:pt x="21600" y="2132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144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414440"/>
            <a:ext cx="9083520" cy="1511280"/>
          </a:xfrm>
          <a:prstGeom prst="rect">
            <a:avLst/>
          </a:prstGeom>
          <a:ln w="0">
            <a:noFill/>
          </a:ln>
        </p:spPr>
      </p:pic>
      <p:sp>
        <p:nvSpPr>
          <p:cNvPr id="241" name="Connecteur droit 4"/>
          <p:cNvSpPr/>
          <p:nvPr/>
        </p:nvSpPr>
        <p:spPr>
          <a:xfrm>
            <a:off x="23760" y="4056120"/>
            <a:ext cx="3862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arenthèse fermante 9"/>
          <p:cNvSpPr/>
          <p:nvPr/>
        </p:nvSpPr>
        <p:spPr>
          <a:xfrm flipH="1" flipV="1">
            <a:off x="3885480" y="3848040"/>
            <a:ext cx="82440" cy="416160"/>
          </a:xfrm>
          <a:custGeom>
            <a:avLst/>
            <a:gdLst>
              <a:gd name="textAreaLeft" fmla="*/ 0 w 82440"/>
              <a:gd name="textAreaRight" fmla="*/ 57960 w 82440"/>
              <a:gd name="textAreaTop" fmla="*/ 3240 h 416160"/>
              <a:gd name="textAreaBottom" fmla="*/ 412920 h 41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78"/>
                  <a:pt x="21600" y="356"/>
                </a:cubicBezTo>
                <a:lnTo>
                  <a:pt x="21600" y="21244"/>
                </a:lnTo>
                <a:cubicBezTo>
                  <a:pt x="21600" y="21422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Connecteur droit 11"/>
          <p:cNvSpPr/>
          <p:nvPr/>
        </p:nvSpPr>
        <p:spPr>
          <a:xfrm flipV="1">
            <a:off x="3230640" y="3573000"/>
            <a:ext cx="5327640" cy="180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arenthèse ouvrante 12"/>
          <p:cNvSpPr/>
          <p:nvPr/>
        </p:nvSpPr>
        <p:spPr>
          <a:xfrm>
            <a:off x="3216240" y="3384720"/>
            <a:ext cx="93600" cy="380880"/>
          </a:xfrm>
          <a:custGeom>
            <a:avLst/>
            <a:gdLst>
              <a:gd name="textAreaLeft" fmla="*/ 27360 w 93600"/>
              <a:gd name="textAreaRight" fmla="*/ 93960 w 93600"/>
              <a:gd name="textAreaTop" fmla="*/ 3600 h 380880"/>
              <a:gd name="textAreaBottom" fmla="*/ 37728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1"/>
                  <a:pt x="0" y="442"/>
                </a:cubicBezTo>
                <a:lnTo>
                  <a:pt x="0" y="21158"/>
                </a:lnTo>
                <a:cubicBezTo>
                  <a:pt x="0" y="21379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Connecteur droit 14"/>
          <p:cNvSpPr/>
          <p:nvPr/>
        </p:nvSpPr>
        <p:spPr>
          <a:xfrm>
            <a:off x="3203640" y="4692600"/>
            <a:ext cx="6411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arenthèse fermante 16"/>
          <p:cNvSpPr/>
          <p:nvPr/>
        </p:nvSpPr>
        <p:spPr>
          <a:xfrm flipH="1">
            <a:off x="3873600" y="4533840"/>
            <a:ext cx="109440" cy="357120"/>
          </a:xfrm>
          <a:custGeom>
            <a:avLst/>
            <a:gdLst>
              <a:gd name="textAreaLeft" fmla="*/ 360 w 109440"/>
              <a:gd name="textAreaRight" fmla="*/ 7704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7"/>
                  <a:pt x="21600" y="553"/>
                </a:cubicBezTo>
                <a:lnTo>
                  <a:pt x="21600" y="21047"/>
                </a:lnTo>
                <a:cubicBezTo>
                  <a:pt x="21600" y="2132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arenthèse ouvrante 17"/>
          <p:cNvSpPr/>
          <p:nvPr/>
        </p:nvSpPr>
        <p:spPr>
          <a:xfrm>
            <a:off x="3201840" y="4513320"/>
            <a:ext cx="93960" cy="357120"/>
          </a:xfrm>
          <a:custGeom>
            <a:avLst/>
            <a:gdLst>
              <a:gd name="textAreaLeft" fmla="*/ 27720 w 93960"/>
              <a:gd name="textAreaRight" fmla="*/ 94320 w 93960"/>
              <a:gd name="textAreaTop" fmla="*/ 3600 h 357120"/>
              <a:gd name="textAreaBottom" fmla="*/ 35352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36"/>
                  <a:pt x="0" y="472"/>
                </a:cubicBezTo>
                <a:lnTo>
                  <a:pt x="0" y="21128"/>
                </a:lnTo>
                <a:cubicBezTo>
                  <a:pt x="0" y="2136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ZoneTexte 6" descr=""/>
          <p:cNvPicPr/>
          <p:nvPr/>
        </p:nvPicPr>
        <p:blipFill>
          <a:blip r:embed="rId2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249" name="Bulle ronde 24"/>
          <p:cNvSpPr/>
          <p:nvPr/>
        </p:nvSpPr>
        <p:spPr>
          <a:xfrm>
            <a:off x="826920" y="5084640"/>
            <a:ext cx="2521080" cy="720720"/>
          </a:xfrm>
          <a:prstGeom prst="wedgeEllipseCallout">
            <a:avLst>
              <a:gd name="adj1" fmla="val 45967"/>
              <a:gd name="adj2" fmla="val -179750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ZoneTexte 25" descr=""/>
          <p:cNvPicPr/>
          <p:nvPr/>
        </p:nvPicPr>
        <p:blipFill>
          <a:blip r:embed="rId3"/>
          <a:stretch/>
        </p:blipFill>
        <p:spPr>
          <a:xfrm>
            <a:off x="938160" y="5145120"/>
            <a:ext cx="2268720" cy="554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geogebra"/>
          <p:cNvPicPr/>
          <p:nvPr/>
        </p:nvPicPr>
        <p:blipFill>
          <a:blip r:embed="rId4"/>
          <a:stretch/>
        </p:blipFill>
        <p:spPr>
          <a:xfrm>
            <a:off x="-1440" y="3825720"/>
            <a:ext cx="9144000" cy="876600"/>
          </a:xfrm>
          <a:prstGeom prst="rect">
            <a:avLst/>
          </a:prstGeom>
          <a:ln w="0">
            <a:noFill/>
          </a:ln>
        </p:spPr>
      </p:pic>
      <p:sp>
        <p:nvSpPr>
          <p:cNvPr id="252" name="Parenthèse fermante 18"/>
          <p:cNvSpPr/>
          <p:nvPr/>
        </p:nvSpPr>
        <p:spPr>
          <a:xfrm flipH="1">
            <a:off x="8558280" y="3441600"/>
            <a:ext cx="109440" cy="357120"/>
          </a:xfrm>
          <a:custGeom>
            <a:avLst/>
            <a:gdLst>
              <a:gd name="textAreaLeft" fmla="*/ 360 w 109440"/>
              <a:gd name="textAreaRight" fmla="*/ 7704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911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414440"/>
            <a:ext cx="9083520" cy="1511280"/>
          </a:xfrm>
          <a:prstGeom prst="rect">
            <a:avLst/>
          </a:prstGeom>
          <a:ln w="0">
            <a:noFill/>
          </a:ln>
        </p:spPr>
      </p:pic>
      <p:sp>
        <p:nvSpPr>
          <p:cNvPr id="255" name="Connecteur droit 4"/>
          <p:cNvSpPr/>
          <p:nvPr/>
        </p:nvSpPr>
        <p:spPr>
          <a:xfrm>
            <a:off x="23760" y="4056120"/>
            <a:ext cx="3862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arenthèse fermante 9"/>
          <p:cNvSpPr/>
          <p:nvPr/>
        </p:nvSpPr>
        <p:spPr>
          <a:xfrm flipH="1" flipV="1">
            <a:off x="3885480" y="3848040"/>
            <a:ext cx="82440" cy="416160"/>
          </a:xfrm>
          <a:custGeom>
            <a:avLst/>
            <a:gdLst>
              <a:gd name="textAreaLeft" fmla="*/ 0 w 82440"/>
              <a:gd name="textAreaRight" fmla="*/ 57960 w 82440"/>
              <a:gd name="textAreaTop" fmla="*/ 3240 h 416160"/>
              <a:gd name="textAreaBottom" fmla="*/ 412920 h 41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78"/>
                  <a:pt x="21600" y="356"/>
                </a:cubicBezTo>
                <a:lnTo>
                  <a:pt x="21600" y="21244"/>
                </a:lnTo>
                <a:cubicBezTo>
                  <a:pt x="21600" y="21422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Connecteur droit 11"/>
          <p:cNvSpPr/>
          <p:nvPr/>
        </p:nvSpPr>
        <p:spPr>
          <a:xfrm flipV="1">
            <a:off x="3230640" y="3573000"/>
            <a:ext cx="5327640" cy="180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arenthèse ouvrante 12"/>
          <p:cNvSpPr/>
          <p:nvPr/>
        </p:nvSpPr>
        <p:spPr>
          <a:xfrm>
            <a:off x="3216240" y="3384720"/>
            <a:ext cx="93600" cy="380880"/>
          </a:xfrm>
          <a:custGeom>
            <a:avLst/>
            <a:gdLst>
              <a:gd name="textAreaLeft" fmla="*/ 27360 w 93600"/>
              <a:gd name="textAreaRight" fmla="*/ 93960 w 93600"/>
              <a:gd name="textAreaTop" fmla="*/ 3600 h 380880"/>
              <a:gd name="textAreaBottom" fmla="*/ 37728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1"/>
                  <a:pt x="0" y="442"/>
                </a:cubicBezTo>
                <a:lnTo>
                  <a:pt x="0" y="21158"/>
                </a:lnTo>
                <a:cubicBezTo>
                  <a:pt x="0" y="21379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Connecteur droit 14"/>
          <p:cNvSpPr/>
          <p:nvPr/>
        </p:nvSpPr>
        <p:spPr>
          <a:xfrm flipV="1">
            <a:off x="23760" y="4570200"/>
            <a:ext cx="8588520" cy="6012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arenthèse fermante 16"/>
          <p:cNvSpPr/>
          <p:nvPr/>
        </p:nvSpPr>
        <p:spPr>
          <a:xfrm flipH="1">
            <a:off x="8612280" y="4392720"/>
            <a:ext cx="109440" cy="357120"/>
          </a:xfrm>
          <a:custGeom>
            <a:avLst/>
            <a:gdLst>
              <a:gd name="textAreaLeft" fmla="*/ 360 w 109440"/>
              <a:gd name="textAreaRight" fmla="*/ 7704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7"/>
                  <a:pt x="21600" y="553"/>
                </a:cubicBezTo>
                <a:lnTo>
                  <a:pt x="21600" y="21047"/>
                </a:lnTo>
                <a:cubicBezTo>
                  <a:pt x="21600" y="2132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ZoneTexte 6" descr=""/>
          <p:cNvPicPr/>
          <p:nvPr/>
        </p:nvPicPr>
        <p:blipFill>
          <a:blip r:embed="rId2"/>
          <a:stretch/>
        </p:blipFill>
        <p:spPr>
          <a:xfrm>
            <a:off x="4857840" y="4925880"/>
            <a:ext cx="4073400" cy="1760760"/>
          </a:xfrm>
          <a:prstGeom prst="rect">
            <a:avLst/>
          </a:prstGeom>
          <a:ln w="0">
            <a:noFill/>
          </a:ln>
        </p:spPr>
      </p:pic>
      <p:sp>
        <p:nvSpPr>
          <p:cNvPr id="262" name="Bulle ronde 24"/>
          <p:cNvSpPr/>
          <p:nvPr/>
        </p:nvSpPr>
        <p:spPr>
          <a:xfrm>
            <a:off x="826920" y="5084640"/>
            <a:ext cx="2521080" cy="720720"/>
          </a:xfrm>
          <a:prstGeom prst="wedgeEllipseCallout">
            <a:avLst>
              <a:gd name="adj1" fmla="val 45967"/>
              <a:gd name="adj2" fmla="val -179750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ZoneTexte 25" descr=""/>
          <p:cNvPicPr/>
          <p:nvPr/>
        </p:nvPicPr>
        <p:blipFill>
          <a:blip r:embed="rId3"/>
          <a:stretch/>
        </p:blipFill>
        <p:spPr>
          <a:xfrm>
            <a:off x="938160" y="5145120"/>
            <a:ext cx="2268720" cy="554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geogebra"/>
          <p:cNvPicPr/>
          <p:nvPr/>
        </p:nvPicPr>
        <p:blipFill>
          <a:blip r:embed="rId4"/>
          <a:stretch/>
        </p:blipFill>
        <p:spPr>
          <a:xfrm>
            <a:off x="11160" y="3798720"/>
            <a:ext cx="9144000" cy="878040"/>
          </a:xfrm>
          <a:prstGeom prst="rect">
            <a:avLst/>
          </a:prstGeom>
          <a:ln w="0">
            <a:noFill/>
          </a:ln>
        </p:spPr>
      </p:pic>
      <p:sp>
        <p:nvSpPr>
          <p:cNvPr id="265" name="Parenthèse fermante 18"/>
          <p:cNvSpPr/>
          <p:nvPr/>
        </p:nvSpPr>
        <p:spPr>
          <a:xfrm flipH="1">
            <a:off x="8558280" y="3441600"/>
            <a:ext cx="109440" cy="357120"/>
          </a:xfrm>
          <a:custGeom>
            <a:avLst/>
            <a:gdLst>
              <a:gd name="textAreaLeft" fmla="*/ 360 w 109440"/>
              <a:gd name="textAreaRight" fmla="*/ 7704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0" y="1599840"/>
            <a:ext cx="91440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geogebra"/>
          <p:cNvPicPr/>
          <p:nvPr/>
        </p:nvPicPr>
        <p:blipFill>
          <a:blip r:embed="rId2"/>
          <a:stretch/>
        </p:blipFill>
        <p:spPr>
          <a:xfrm>
            <a:off x="61920" y="37591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90" name="Connecteur droit 4"/>
          <p:cNvSpPr/>
          <p:nvPr/>
        </p:nvSpPr>
        <p:spPr>
          <a:xfrm>
            <a:off x="1979640" y="4005360"/>
            <a:ext cx="5807160" cy="7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arenthèse fermante 9"/>
          <p:cNvSpPr/>
          <p:nvPr/>
        </p:nvSpPr>
        <p:spPr>
          <a:xfrm>
            <a:off x="7740720" y="386244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necteur droit 11"/>
          <p:cNvSpPr/>
          <p:nvPr/>
        </p:nvSpPr>
        <p:spPr>
          <a:xfrm>
            <a:off x="2771640" y="3759120"/>
            <a:ext cx="61898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arenthèse ouvrante 12"/>
          <p:cNvSpPr/>
          <p:nvPr/>
        </p:nvSpPr>
        <p:spPr>
          <a:xfrm>
            <a:off x="2771640" y="3568680"/>
            <a:ext cx="144720" cy="380880"/>
          </a:xfrm>
          <a:custGeom>
            <a:avLst/>
            <a:gdLst>
              <a:gd name="textAreaLeft" fmla="*/ 42480 w 144720"/>
              <a:gd name="textAreaRight" fmla="*/ 145080 w 144720"/>
              <a:gd name="textAreaTop" fmla="*/ 5760 h 380880"/>
              <a:gd name="textAreaBottom" fmla="*/ 375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40"/>
                  <a:pt x="0" y="680"/>
                </a:cubicBezTo>
                <a:lnTo>
                  <a:pt x="0" y="20920"/>
                </a:lnTo>
                <a:cubicBezTo>
                  <a:pt x="0" y="21260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onnecteur droit 14"/>
          <p:cNvSpPr/>
          <p:nvPr/>
        </p:nvSpPr>
        <p:spPr>
          <a:xfrm>
            <a:off x="2843280" y="4565520"/>
            <a:ext cx="49323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arenthèse fermante 16"/>
          <p:cNvSpPr/>
          <p:nvPr/>
        </p:nvSpPr>
        <p:spPr>
          <a:xfrm>
            <a:off x="7704000" y="4387680"/>
            <a:ext cx="71640" cy="35748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arenthèse ouvrante 17"/>
          <p:cNvSpPr/>
          <p:nvPr/>
        </p:nvSpPr>
        <p:spPr>
          <a:xfrm>
            <a:off x="2809800" y="4387680"/>
            <a:ext cx="106560" cy="357480"/>
          </a:xfrm>
          <a:custGeom>
            <a:avLst/>
            <a:gdLst>
              <a:gd name="textAreaLeft" fmla="*/ 31320 w 106560"/>
              <a:gd name="textAreaRight" fmla="*/ 106920 w 106560"/>
              <a:gd name="textAreaTop" fmla="*/ 4320 h 357480"/>
              <a:gd name="textAreaBottom" fmla="*/ 353160 h 35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2419200"/>
            <a:ext cx="914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2419200"/>
            <a:ext cx="914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11:36:43Z</dcterms:created>
  <dc:creator>auderi</dc:creator>
  <dc:description/>
  <dc:language>en-US</dc:language>
  <cp:lastModifiedBy>auderi</cp:lastModifiedBy>
  <dcterms:modified xsi:type="dcterms:W3CDTF">2016-07-06T08:32:28Z</dcterms:modified>
  <cp:revision>79</cp:revision>
  <dc:subject/>
  <dc:title>"Si" x≤5 "alors" x&gt;π</dc:title>
</cp:coreProperties>
</file>