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55C-F165-4DF2-A1CB-AD4AAA6CC2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429-B54A-4771-A05C-0035C3C74D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85A-3BF8-4E66-BDD5-F774A6E2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3A5-39D4-4E65-AC20-1348EF3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5D3-BBF6-490F-80B1-45E0FE60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AB9-6421-40E7-BE73-7E9EDCE7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E53E-3197-487D-AF3C-1EED03B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868-22FE-441A-AFAC-29547BD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861-3151-4EF2-B60A-E3324C6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621-6862-4A3B-9940-079A3984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9D23-75FD-48AF-8F32-D7DACA74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10EA-6022-4A36-AB15-2C0A3ABB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8F8-DC6A-470A-82B1-DECD102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9BA-A5D5-4FD3-94A4-1F0612B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79AD-2AB8-4ECF-A201-687CD27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6AF-1618-44C2-AC41-19DFDEE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437-C022-4CF9-BC14-8C39649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9CAD-F27B-4DCF-B0ED-79125F76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71D3-247C-41E7-B4A8-BFD0AD9C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F49-3186-4289-8AAA-B01148D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F0F-FBA1-48E4-9CDF-8647F13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D3D-B11C-424D-913F-565CFA1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B4D-72D7-4FD0-B359-06CF1C9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805-BFEE-4512-976D-9C5DFC7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8A9-AB9F-4916-BA39-E471904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8BF-8E40-4822-9F89-8B41F4B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204-ADF1-4AA6-99F4-7183CB867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0B74-470A-4C3D-8135-00174CA09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ouvrante 17"/>
          <p:cNvSpPr/>
          <p:nvPr/>
        </p:nvSpPr>
        <p:spPr>
          <a:xfrm>
            <a:off x="1992240" y="441000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43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necteur droit 14"/>
          <p:cNvSpPr/>
          <p:nvPr/>
        </p:nvSpPr>
        <p:spPr>
          <a:xfrm>
            <a:off x="423720" y="4565520"/>
            <a:ext cx="65595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arenthèse fermante 16"/>
          <p:cNvSpPr/>
          <p:nvPr/>
        </p:nvSpPr>
        <p:spPr>
          <a:xfrm flipH="1">
            <a:off x="6990480" y="4387680"/>
            <a:ext cx="101880" cy="357480"/>
          </a:xfrm>
          <a:custGeom>
            <a:avLst/>
            <a:gdLst>
              <a:gd name="textAreaLeft" fmla="*/ 0 w 101880"/>
              <a:gd name="textAreaRight" fmla="*/ 71640 w 101880"/>
              <a:gd name="textAreaTop" fmla="*/ 3960 h 357480"/>
              <a:gd name="textAreaBottom" fmla="*/ 35352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6"/>
                  <a:pt x="21600" y="512"/>
                </a:cubicBezTo>
                <a:lnTo>
                  <a:pt x="21600" y="21088"/>
                </a:lnTo>
                <a:cubicBezTo>
                  <a:pt x="21600" y="213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7"/>
          <p:cNvSpPr/>
          <p:nvPr/>
        </p:nvSpPr>
        <p:spPr>
          <a:xfrm flipH="1">
            <a:off x="338040" y="441000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5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necteur droit 14"/>
          <p:cNvSpPr/>
          <p:nvPr/>
        </p:nvSpPr>
        <p:spPr>
          <a:xfrm>
            <a:off x="1979640" y="4543560"/>
            <a:ext cx="684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arenthèse fermante 16"/>
          <p:cNvSpPr/>
          <p:nvPr/>
        </p:nvSpPr>
        <p:spPr>
          <a:xfrm flipH="1">
            <a:off x="2644920" y="4387680"/>
            <a:ext cx="123840" cy="357480"/>
          </a:xfrm>
          <a:custGeom>
            <a:avLst/>
            <a:gdLst>
              <a:gd name="textAreaLeft" fmla="*/ 360 w 123840"/>
              <a:gd name="textAreaRight" fmla="*/ 87120 w 12384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5"/>
                  <a:pt x="21600" y="629"/>
                </a:cubicBezTo>
                <a:lnTo>
                  <a:pt x="21600" y="20971"/>
                </a:lnTo>
                <a:cubicBezTo>
                  <a:pt x="21600" y="212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arenthèse ouvrante 17"/>
          <p:cNvSpPr/>
          <p:nvPr/>
        </p:nvSpPr>
        <p:spPr>
          <a:xfrm>
            <a:off x="1979640" y="43657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65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71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14"/>
          <p:cNvSpPr/>
          <p:nvPr/>
        </p:nvSpPr>
        <p:spPr>
          <a:xfrm>
            <a:off x="1187280" y="4543560"/>
            <a:ext cx="3343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16"/>
          <p:cNvSpPr/>
          <p:nvPr/>
        </p:nvSpPr>
        <p:spPr>
          <a:xfrm>
            <a:off x="4451400" y="4365720"/>
            <a:ext cx="82440" cy="357120"/>
          </a:xfrm>
          <a:custGeom>
            <a:avLst/>
            <a:gdLst>
              <a:gd name="textAreaLeft" fmla="*/ 0 w 82440"/>
              <a:gd name="textAreaRight" fmla="*/ 57960 w 824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9"/>
                  <a:pt x="21600" y="418"/>
                </a:cubicBezTo>
                <a:lnTo>
                  <a:pt x="21600" y="21182"/>
                </a:lnTo>
                <a:cubicBezTo>
                  <a:pt x="21600" y="21391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14"/>
          <p:cNvSpPr/>
          <p:nvPr/>
        </p:nvSpPr>
        <p:spPr>
          <a:xfrm>
            <a:off x="1187280" y="4543560"/>
            <a:ext cx="6112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fermante 16"/>
          <p:cNvSpPr/>
          <p:nvPr/>
        </p:nvSpPr>
        <p:spPr>
          <a:xfrm flipH="1">
            <a:off x="1822320" y="4365720"/>
            <a:ext cx="85680" cy="357120"/>
          </a:xfrm>
          <a:custGeom>
            <a:avLst/>
            <a:gdLst>
              <a:gd name="textAreaLeft" fmla="*/ 360 w 85680"/>
              <a:gd name="textAreaRight" fmla="*/ 6048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4"/>
                  <a:pt x="21600" y="427"/>
                </a:cubicBezTo>
                <a:lnTo>
                  <a:pt x="21600" y="21173"/>
                </a:lnTo>
                <a:cubicBezTo>
                  <a:pt x="21600" y="213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6" descr=""/>
          <p:cNvPicPr/>
          <p:nvPr/>
        </p:nvPicPr>
        <p:blipFill>
          <a:blip r:embed="rId3"/>
          <a:stretch/>
        </p:blipFill>
        <p:spPr>
          <a:xfrm>
            <a:off x="4230720" y="4863960"/>
            <a:ext cx="4773600" cy="1749600"/>
          </a:xfrm>
          <a:prstGeom prst="rect">
            <a:avLst/>
          </a:prstGeom>
          <a:ln w="0">
            <a:noFill/>
          </a:ln>
        </p:spPr>
      </p:pic>
      <p:sp>
        <p:nvSpPr>
          <p:cNvPr id="195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sp>
        <p:nvSpPr>
          <p:cNvPr id="198" name="Connecteur droit 26"/>
          <p:cNvSpPr/>
          <p:nvPr/>
        </p:nvSpPr>
        <p:spPr>
          <a:xfrm>
            <a:off x="2031840" y="4543560"/>
            <a:ext cx="246564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28"/>
          <p:cNvSpPr/>
          <p:nvPr/>
        </p:nvSpPr>
        <p:spPr>
          <a:xfrm>
            <a:off x="4476600" y="439416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fermante 29"/>
          <p:cNvSpPr/>
          <p:nvPr/>
        </p:nvSpPr>
        <p:spPr>
          <a:xfrm flipH="1">
            <a:off x="2009880" y="436572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04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5" descr=""/>
          <p:cNvPicPr/>
          <p:nvPr/>
        </p:nvPicPr>
        <p:blipFill>
          <a:blip r:embed="rId3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pic>
        <p:nvPicPr>
          <p:cNvPr id="212" name="ZoneTexte 19" descr=""/>
          <p:cNvPicPr/>
          <p:nvPr/>
        </p:nvPicPr>
        <p:blipFill>
          <a:blip r:embed="rId4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1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onnecteur droit 14"/>
          <p:cNvSpPr/>
          <p:nvPr/>
        </p:nvSpPr>
        <p:spPr>
          <a:xfrm>
            <a:off x="61920" y="4565520"/>
            <a:ext cx="44686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23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2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arenthèse fermante 16"/>
          <p:cNvSpPr/>
          <p:nvPr/>
        </p:nvSpPr>
        <p:spPr>
          <a:xfrm flipH="1">
            <a:off x="4522680" y="4395960"/>
            <a:ext cx="84240" cy="357120"/>
          </a:xfrm>
          <a:custGeom>
            <a:avLst/>
            <a:gdLst>
              <a:gd name="textAreaLeft" fmla="*/ 0 w 84240"/>
              <a:gd name="textAreaRight" fmla="*/ 59040 w 842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2"/>
                  <a:pt x="21600" y="423"/>
                </a:cubicBezTo>
                <a:lnTo>
                  <a:pt x="21600" y="21177"/>
                </a:lnTo>
                <a:cubicBezTo>
                  <a:pt x="21600" y="2138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34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ouvrante 17"/>
          <p:cNvSpPr/>
          <p:nvPr/>
        </p:nvSpPr>
        <p:spPr>
          <a:xfrm>
            <a:off x="2003400" y="4387680"/>
            <a:ext cx="104760" cy="35748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39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4"/>
          <p:cNvSpPr/>
          <p:nvPr/>
        </p:nvSpPr>
        <p:spPr>
          <a:xfrm>
            <a:off x="3851280" y="4543560"/>
            <a:ext cx="679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16"/>
          <p:cNvSpPr/>
          <p:nvPr/>
        </p:nvSpPr>
        <p:spPr>
          <a:xfrm flipH="1">
            <a:off x="4533840" y="4365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arenthèse ouvrante 17"/>
          <p:cNvSpPr/>
          <p:nvPr/>
        </p:nvSpPr>
        <p:spPr>
          <a:xfrm>
            <a:off x="3851280" y="4368960"/>
            <a:ext cx="93600" cy="35712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7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52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179280" y="4543560"/>
            <a:ext cx="8820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ZoneTexte 6" descr=""/>
          <p:cNvPicPr/>
          <p:nvPr/>
        </p:nvPicPr>
        <p:blipFill>
          <a:blip r:embed="rId3"/>
          <a:stretch/>
        </p:blipFill>
        <p:spPr>
          <a:xfrm>
            <a:off x="4170240" y="4498920"/>
            <a:ext cx="5023080" cy="2109960"/>
          </a:xfrm>
          <a:prstGeom prst="rect">
            <a:avLst/>
          </a:prstGeom>
          <a:ln w="0">
            <a:noFill/>
          </a:ln>
        </p:spPr>
      </p:pic>
      <p:sp>
        <p:nvSpPr>
          <p:cNvPr id="258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16002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cteur droit 14"/>
          <p:cNvSpPr/>
          <p:nvPr/>
        </p:nvSpPr>
        <p:spPr>
          <a:xfrm>
            <a:off x="2843280" y="4565520"/>
            <a:ext cx="16081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arenthèse fermante 16"/>
          <p:cNvSpPr/>
          <p:nvPr/>
        </p:nvSpPr>
        <p:spPr>
          <a:xfrm>
            <a:off x="4397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16:47Z</dcterms:modified>
  <cp:revision>46</cp:revision>
  <dc:subject/>
  <dc:title>"Si" x≤5 "alors" x&gt;π</dc:title>
</cp:coreProperties>
</file>