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04D-F319-493C-94A4-8D8DAB36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3E0-AB2E-492D-AA11-17B7615D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A10-1040-4A4F-AB8F-70D08590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D42-1ECB-46D0-9135-D1CF8AD9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899-44C1-498F-9E16-E781F45A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66D-2056-484D-8F19-3CD29FD5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DA1-9AED-47CC-96F3-8D8B1BF4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4D4-62BA-4B21-A28E-1DF98BF4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156-61EE-4E01-92E2-E6FAAF09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EAB-D31E-40D7-AC72-D73B7B92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D44-6146-44CB-B0AA-66E0012A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3AA-A6B9-4691-930C-CD5819E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64C-F36C-4AC4-93BC-EFEFE95F3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604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ous-titre 2"/>
          <p:cNvSpPr/>
          <p:nvPr/>
        </p:nvSpPr>
        <p:spPr>
          <a:xfrm>
            <a:off x="0" y="4102200"/>
            <a:ext cx="91440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NÉG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50920" y="152244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n’obtient jama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une fois pile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n’obtient jamais face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50920" y="1557360"/>
            <a:ext cx="864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et à la natation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qu’à un seul sport ou à aucun sport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n’est inscrit qu’à un seul sport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155736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ou à la nata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est inscrit au tennis et à la natation ou n’est inscrit à aucun sport 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est inscrit au tennis et à la natation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llipse 3"/>
          <p:cNvSpPr/>
          <p:nvPr/>
        </p:nvSpPr>
        <p:spPr>
          <a:xfrm>
            <a:off x="179280" y="3645000"/>
            <a:ext cx="5472360" cy="720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557360"/>
            <a:ext cx="86421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un dé cubique non truqué et on lit le nombre sur la face supérieur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pl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moins de 4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5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llipse 3"/>
          <p:cNvSpPr/>
          <p:nvPr/>
        </p:nvSpPr>
        <p:spPr>
          <a:xfrm>
            <a:off x="250920" y="4508640"/>
            <a:ext cx="5976720" cy="6490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s les jetons tirés sont rouge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Tous les jetons sont bleus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llipse 3"/>
          <p:cNvSpPr/>
          <p:nvPr/>
        </p:nvSpPr>
        <p:spPr>
          <a:xfrm>
            <a:off x="179280" y="4005360"/>
            <a:ext cx="568800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 moins un jeton est rouge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bleu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 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llipse 3"/>
          <p:cNvSpPr/>
          <p:nvPr/>
        </p:nvSpPr>
        <p:spPr>
          <a:xfrm>
            <a:off x="179280" y="4508640"/>
            <a:ext cx="7345440" cy="6490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moins 9 jetons bleu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plus de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8 jetons bleus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llipse 3"/>
          <p:cNvSpPr/>
          <p:nvPr/>
        </p:nvSpPr>
        <p:spPr>
          <a:xfrm>
            <a:off x="34920" y="4076640"/>
            <a:ext cx="8964720" cy="792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ou un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llipse 4"/>
          <p:cNvSpPr/>
          <p:nvPr/>
        </p:nvSpPr>
        <p:spPr>
          <a:xfrm>
            <a:off x="0" y="2924280"/>
            <a:ext cx="9144000" cy="1296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de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12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12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12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59984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Choisir la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bonne réponse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llipse 3"/>
          <p:cNvSpPr/>
          <p:nvPr/>
        </p:nvSpPr>
        <p:spPr>
          <a:xfrm>
            <a:off x="0" y="4221000"/>
            <a:ext cx="8748720" cy="720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360"/>
            <a:ext cx="8642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exactement une fo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fac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face ou deux fois pile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llipse 8"/>
          <p:cNvSpPr/>
          <p:nvPr/>
        </p:nvSpPr>
        <p:spPr>
          <a:xfrm>
            <a:off x="179280" y="2997360"/>
            <a:ext cx="7056720" cy="718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50920" y="155736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n’obtient jama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une fois pile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n’obtient jamais 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llipse 5"/>
          <p:cNvSpPr/>
          <p:nvPr/>
        </p:nvSpPr>
        <p:spPr>
          <a:xfrm>
            <a:off x="250920" y="4437000"/>
            <a:ext cx="8893080" cy="1152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50920" y="1557360"/>
            <a:ext cx="864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et à la natation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qu’à un seul sport ou à aucun sport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n’est inscrit qu’à un seul sport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50920" y="155736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ou à la nata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est inscrit au tennis et à la natation ou n’est inscrit à aucun sport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est inscrit au tennis et à la natation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llipse 3"/>
          <p:cNvSpPr/>
          <p:nvPr/>
        </p:nvSpPr>
        <p:spPr>
          <a:xfrm>
            <a:off x="34920" y="4005360"/>
            <a:ext cx="792180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1557360"/>
            <a:ext cx="86421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un dé cubique non truqué et on lit le nombre sur la face supérieur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pl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moins de 4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5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154620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s les jetons tirés sont rouge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Tous les jetons sont bleus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50920" y="154620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 moins un jeton est rouge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bleu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 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moins 9 jetons bleu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plus de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8 jetons bleus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ou un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de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557360"/>
            <a:ext cx="8642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exactement une fo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fac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face ou deux fois pile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2:58:10Z</dcterms:modified>
  <cp:revision>87</cp:revision>
  <dc:subject/>
  <dc:title>LOGIQUE</dc:title>
</cp:coreProperties>
</file>