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DE6A-89BC-4B3D-9549-53C1A78B3A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3692-98A7-4563-B213-FDB98D744D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3DE-0034-4823-B1E4-91D0DFEFD0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3D6F-33A4-4DD3-9199-E4F0783316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10D-4E6B-48A4-992A-5EE34C55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BCF-1BDA-4D62-B0F7-A7232A37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6FB-106E-4C75-9CE1-2A8CD833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E87-70AA-4A81-A909-ADEE8BA5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72F-3DAB-4133-9B16-07F7290C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CE97-B705-445C-80DA-C55A0D2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0AA-2140-421A-A4E9-92230B0E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997A-59F6-411D-B7D5-6B11420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33A2-9DA7-4F6B-847B-D690F86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67DC-E399-48CC-8D8E-90C947D6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35A-0740-41F3-9EB6-6FF3CAC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55C-AE46-4B9B-900B-6229EC7B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4D4F-FA3D-46E0-968B-0F32D38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BE2-8317-403B-96D8-1D407BE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785D-94F4-48CC-ACCF-65DA4A1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D8E0-513F-44B2-97E9-776646BB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412A-B01D-4C43-ACFB-220D4D08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066-8E47-4212-BC38-7E59954F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665-E9C7-41F3-8138-CA4654F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E59-3268-4D78-A45F-46A59B5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EB7-638A-417C-A5AF-E4B352E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C26-8771-4200-935F-FF2F0E17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CF6-0068-4A3B-93A1-EC576B7D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D8B-D3CD-4AFC-B37B-D7DB494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366-2FDA-485D-85BF-7B22957AB15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46F2-DA33-4C27-86CA-892B3717371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4994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à coins arrondis 3"/>
          <p:cNvSpPr/>
          <p:nvPr/>
        </p:nvSpPr>
        <p:spPr>
          <a:xfrm>
            <a:off x="1633680" y="1392120"/>
            <a:ext cx="5938560" cy="267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MÉLI-MÉ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DE GÉOMÉTR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SÉRIE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5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 représente la droite (EI) p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8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712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est-il isocèle en B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419560"/>
          </a:xfrm>
          <a:prstGeom prst="rect">
            <a:avLst/>
          </a:prstGeom>
          <a:ln w="0">
            <a:noFill/>
          </a:ln>
        </p:spPr>
      </p:pic>
      <p:cxnSp>
        <p:nvCxnSpPr>
          <p:cNvPr id="234" name="Connecteur droit avec flèche 3"/>
          <p:cNvCxnSpPr/>
          <p:nvPr/>
        </p:nvCxnSpPr>
        <p:spPr>
          <a:xfrm>
            <a:off x="906480" y="3627000"/>
            <a:ext cx="150408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5" name="Connecteur droit avec flèche 10"/>
          <p:cNvCxnSpPr/>
          <p:nvPr/>
        </p:nvCxnSpPr>
        <p:spPr>
          <a:xfrm flipV="1">
            <a:off x="2387160" y="2829960"/>
            <a:ext cx="1080" cy="81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Connecteur droit avec flèche 13"/>
          <p:cNvCxnSpPr/>
          <p:nvPr/>
        </p:nvCxnSpPr>
        <p:spPr>
          <a:xfrm flipV="1">
            <a:off x="906480" y="2836440"/>
            <a:ext cx="1504080" cy="77544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37" name="ZoneTexte 5" descr=""/>
          <p:cNvPicPr/>
          <p:nvPr/>
        </p:nvPicPr>
        <p:blipFill>
          <a:blip r:embed="rId3"/>
          <a:stretch/>
        </p:blipFill>
        <p:spPr>
          <a:xfrm>
            <a:off x="7705800" y="2981160"/>
            <a:ext cx="85860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ensées 7" descr=""/>
          <p:cNvPicPr/>
          <p:nvPr/>
        </p:nvPicPr>
        <p:blipFill>
          <a:blip r:embed="rId2"/>
          <a:stretch/>
        </p:blipFill>
        <p:spPr>
          <a:xfrm>
            <a:off x="4632480" y="2743200"/>
            <a:ext cx="4316400" cy="2511360"/>
          </a:xfrm>
          <a:prstGeom prst="rect">
            <a:avLst/>
          </a:prstGeom>
          <a:ln w="0">
            <a:noFill/>
          </a:ln>
        </p:spPr>
      </p:pic>
      <p:cxnSp>
        <p:nvCxnSpPr>
          <p:cNvPr id="242" name="Connecteur droit avec flèche 3"/>
          <p:cNvCxnSpPr/>
          <p:nvPr/>
        </p:nvCxnSpPr>
        <p:spPr>
          <a:xfrm>
            <a:off x="906120" y="3615840"/>
            <a:ext cx="1478520" cy="785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3" name="Connecteur droit avec flèche 12"/>
          <p:cNvCxnSpPr/>
          <p:nvPr/>
        </p:nvCxnSpPr>
        <p:spPr>
          <a:xfrm flipV="1">
            <a:off x="898560" y="2857320"/>
            <a:ext cx="1502640" cy="77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4" name="Connecteur droit avec flèche 14"/>
          <p:cNvCxnSpPr/>
          <p:nvPr/>
        </p:nvCxnSpPr>
        <p:spPr>
          <a:xfrm>
            <a:off x="906120" y="3623760"/>
            <a:ext cx="2964600" cy="108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</p:cxnSp>
      <p:pic>
        <p:nvPicPr>
          <p:cNvPr id="245" name="ZoneTexte 8" descr=""/>
          <p:cNvPicPr/>
          <p:nvPr/>
        </p:nvPicPr>
        <p:blipFill>
          <a:blip r:embed="rId3"/>
          <a:stretch/>
        </p:blipFill>
        <p:spPr>
          <a:xfrm>
            <a:off x="7345440" y="3236760"/>
            <a:ext cx="86040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8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75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ensées 25"/>
          <p:cNvSpPr/>
          <p:nvPr/>
        </p:nvSpPr>
        <p:spPr>
          <a:xfrm>
            <a:off x="1360440" y="3670200"/>
            <a:ext cx="6927840" cy="1478160"/>
          </a:xfrm>
          <a:prstGeom prst="cloudCallout">
            <a:avLst>
              <a:gd name="adj1" fmla="val 1962"/>
              <a:gd name="adj2" fmla="val -9212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02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96960"/>
            <a:ext cx="5999040" cy="52610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Image 2" descr=""/>
          <p:cNvPicPr/>
          <p:nvPr/>
        </p:nvPicPr>
        <p:blipFill>
          <a:blip r:embed="rId1"/>
          <a:srcRect l="0" t="0" r="10572" b="11741"/>
          <a:stretch/>
        </p:blipFill>
        <p:spPr>
          <a:xfrm>
            <a:off x="658800" y="3438360"/>
            <a:ext cx="3733920" cy="3237120"/>
          </a:xfrm>
          <a:prstGeom prst="rect">
            <a:avLst/>
          </a:prstGeom>
          <a:ln w="0">
            <a:noFill/>
          </a:ln>
        </p:spPr>
      </p:pic>
      <p:sp>
        <p:nvSpPr>
          <p:cNvPr id="328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0560" y="1817640"/>
            <a:ext cx="43084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Que représente le point D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pour le triangle ABC ?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 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C’est l’orthocentr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48c35"/>
                </a:solidFill>
                <a:latin typeface="Calibri"/>
              </a:rPr>
              <a:t>   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 et Q appartiennent au cercle de diamètre [AB] donc APB et AQB sont respectivement rectangles en P et Q. Le point D est donc l’intersection des hauteurs (BP) et (AQ) de A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11080" y="3495600"/>
            <a:ext cx="3392640" cy="3044880"/>
          </a:xfrm>
          <a:prstGeom prst="rect">
            <a:avLst/>
          </a:prstGeom>
          <a:ln w="0">
            <a:noFill/>
          </a:ln>
        </p:spPr>
      </p:pic>
      <p:sp>
        <p:nvSpPr>
          <p:cNvPr id="333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74960" y="1995480"/>
            <a:ext cx="4203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La droite (CD) est-ell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    </a:t>
            </a:r>
            <a:r>
              <a:rPr b="1" lang="fr-FR" sz="2500" spc="-1" strike="noStrike">
                <a:solidFill>
                  <a:srgbClr val="248c35"/>
                </a:solidFill>
                <a:latin typeface="Calibri"/>
              </a:rPr>
              <a:t>perpendiculaire à (AB)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Ou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D est l’orthocentre de AB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La droite (CD) est la troisième hauteur du triangle ABC, elle coupe donc  [AB] perpendiculair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onnecteur droit 3"/>
          <p:cNvSpPr/>
          <p:nvPr/>
        </p:nvSpPr>
        <p:spPr>
          <a:xfrm flipH="1" flipV="1">
            <a:off x="2000160" y="3336840"/>
            <a:ext cx="7920" cy="318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023920" y="6188040"/>
            <a:ext cx="189000" cy="19692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1824"/>
              <a:gd name="adj2" fmla="val -8016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41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pic>
        <p:nvPicPr>
          <p:cNvPr id="342" name="Espace réservé du contenu 5" descr=""/>
          <p:cNvPicPr/>
          <p:nvPr/>
        </p:nvPicPr>
        <p:blipFill>
          <a:blip r:embed="rId2"/>
          <a:stretch/>
        </p:blipFill>
        <p:spPr>
          <a:xfrm>
            <a:off x="1500120" y="3736800"/>
            <a:ext cx="6772320" cy="26211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3754"/>
              <a:gd name="adj2" fmla="val -666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54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501560" y="3836520"/>
            <a:ext cx="65610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 représente la droite (EI) p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le triangle BCE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(EI) est une médiane du triangle B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ensées 21"/>
          <p:cNvSpPr/>
          <p:nvPr/>
        </p:nvSpPr>
        <p:spPr>
          <a:xfrm>
            <a:off x="955800" y="3498840"/>
            <a:ext cx="7599240" cy="1392120"/>
          </a:xfrm>
          <a:prstGeom prst="cloudCallout">
            <a:avLst>
              <a:gd name="adj1" fmla="val 23754"/>
              <a:gd name="adj2" fmla="val -666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67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712880"/>
          </a:xfrm>
          <a:prstGeom prst="rect">
            <a:avLst/>
          </a:prstGeom>
          <a:ln w="0">
            <a:noFill/>
          </a:ln>
        </p:spPr>
      </p:pic>
      <p:pic>
        <p:nvPicPr>
          <p:cNvPr id="368" name="Espace réservé du contenu 5" descr=""/>
          <p:cNvPicPr/>
          <p:nvPr/>
        </p:nvPicPr>
        <p:blipFill>
          <a:blip r:embed="rId2"/>
          <a:stretch/>
        </p:blipFill>
        <p:spPr>
          <a:xfrm>
            <a:off x="1500120" y="3736800"/>
            <a:ext cx="6564240" cy="26211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06440" y="2390760"/>
            <a:ext cx="3830760" cy="25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1800" y="1874520"/>
            <a:ext cx="6043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BCD est un losange de centre 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pléter l’égalité suivant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ensées 7" descr=""/>
          <p:cNvPicPr/>
          <p:nvPr/>
        </p:nvPicPr>
        <p:blipFill>
          <a:blip r:embed="rId2"/>
          <a:stretch/>
        </p:blipFill>
        <p:spPr>
          <a:xfrm>
            <a:off x="4913280" y="2682720"/>
            <a:ext cx="4114800" cy="25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8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ensées 25"/>
          <p:cNvSpPr/>
          <p:nvPr/>
        </p:nvSpPr>
        <p:spPr>
          <a:xfrm>
            <a:off x="1360440" y="4029120"/>
            <a:ext cx="6927840" cy="147960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5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560600"/>
            <a:ext cx="5999040" cy="3713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03160" y="3481560"/>
            <a:ext cx="3392640" cy="3044520"/>
          </a:xfrm>
          <a:prstGeom prst="rect">
            <a:avLst/>
          </a:prstGeom>
          <a:ln w="0">
            <a:noFill/>
          </a:ln>
        </p:spPr>
      </p:pic>
      <p:sp>
        <p:nvSpPr>
          <p:cNvPr id="181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7760" y="1439640"/>
            <a:ext cx="847404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975200" y="1775880"/>
            <a:ext cx="39038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représente le point 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our le triangle ABC 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Image 7" descr=""/>
          <p:cNvPicPr/>
          <p:nvPr/>
        </p:nvPicPr>
        <p:blipFill>
          <a:blip r:embed="rId1"/>
          <a:srcRect l="5412" t="2161" r="11201" b="8444"/>
          <a:stretch/>
        </p:blipFill>
        <p:spPr>
          <a:xfrm>
            <a:off x="803160" y="3481560"/>
            <a:ext cx="3392640" cy="3044520"/>
          </a:xfrm>
          <a:prstGeom prst="rect">
            <a:avLst/>
          </a:prstGeom>
          <a:ln w="0">
            <a:noFill/>
          </a:ln>
        </p:spPr>
      </p:pic>
      <p:sp>
        <p:nvSpPr>
          <p:cNvPr id="186" name="Pensées 8"/>
          <p:cNvSpPr/>
          <p:nvPr/>
        </p:nvSpPr>
        <p:spPr>
          <a:xfrm>
            <a:off x="4570560" y="2631960"/>
            <a:ext cx="4506840" cy="229716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75200" y="1995480"/>
            <a:ext cx="39038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droite (CD) est-ell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erpendiculaire à (AB)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contenu 4"/>
          <p:cNvSpPr/>
          <p:nvPr/>
        </p:nvSpPr>
        <p:spPr>
          <a:xfrm>
            <a:off x="438120" y="1440000"/>
            <a:ext cx="84740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 et Q sont deux points du demi-cercle de diamètre [AB]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P) et (BQ) se coupent en C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(AQ) et (BP) se coupent en 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ensées 21"/>
          <p:cNvSpPr/>
          <p:nvPr/>
        </p:nvSpPr>
        <p:spPr>
          <a:xfrm>
            <a:off x="1143000" y="3987720"/>
            <a:ext cx="7601040" cy="1393920"/>
          </a:xfrm>
          <a:prstGeom prst="cloudCallout">
            <a:avLst>
              <a:gd name="adj1" fmla="val 9791"/>
              <a:gd name="adj2" fmla="val -102439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Espace réservé du contenu 4" descr=""/>
          <p:cNvPicPr/>
          <p:nvPr/>
        </p:nvPicPr>
        <p:blipFill>
          <a:blip r:embed="rId1"/>
          <a:stretch/>
        </p:blipFill>
        <p:spPr>
          <a:xfrm>
            <a:off x="963720" y="1743120"/>
            <a:ext cx="7027920" cy="1689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501560" y="4335120"/>
            <a:ext cx="656100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248c35"/>
                </a:solidFill>
                <a:latin typeface="Calibri"/>
              </a:rPr>
              <a:t>Quelles sont les coordonnées du point I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143000" y="167652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43000" y="214776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43000" y="269064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143000" y="323388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143000" y="1604880"/>
            <a:ext cx="1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0:44:10Z</dcterms:created>
  <dc:creator>Isabelle</dc:creator>
  <dc:description/>
  <dc:language>en-US</dc:language>
  <cp:lastModifiedBy>auderi</cp:lastModifiedBy>
  <dcterms:modified xsi:type="dcterms:W3CDTF">2016-07-11T19:07:53Z</dcterms:modified>
  <cp:revision>52</cp:revision>
  <dc:subject/>
  <dc:title>Présentation PowerPoint</dc:title>
</cp:coreProperties>
</file>