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8FE3-3921-408E-9434-75CB0847F7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084E-73ED-46E4-BBC0-DDBC03A924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164-DF2B-4B73-B822-7606486D91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FBEB-FD8D-4BE0-83FA-F9619D9322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100-7D95-46E9-8392-1756F580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277-2AFC-4797-99BB-5C3074E2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41E-27C4-40E0-929B-7D6B8880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095-9386-4571-82F7-893B21D4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B71-D65E-48E5-B7FE-D98012C9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CE4-B53F-4E29-B5A9-9A8E11F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EEE-E420-4D07-814C-ECA40DC4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C6E-EBD6-454B-BD35-DBFBBB50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AF9-3D65-4E88-A529-F8BDB51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79B-2D1C-478A-9A7E-CD80EE8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A16-F9EE-427D-8B87-ACA8690B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919-5758-4F2E-A202-731CBB47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08A1-5047-4DD8-B07B-7D7887FED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994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633680" y="1392120"/>
            <a:ext cx="5938560" cy="2679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480">
            <a:solidFill>
              <a:srgbClr val="0074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MÉLI-MÉL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248c35"/>
                </a:solidFill>
                <a:latin typeface="Georgia"/>
                <a:ea typeface="Arial"/>
              </a:rPr>
              <a:t> </a:t>
            </a: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DE GÉOMÉTRI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248c35"/>
                </a:solidFill>
                <a:latin typeface="Georgia"/>
                <a:ea typeface="Arial"/>
              </a:rPr>
              <a:t>SÉRIE 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ensées 25"/>
          <p:cNvSpPr/>
          <p:nvPr/>
        </p:nvSpPr>
        <p:spPr>
          <a:xfrm>
            <a:off x="1693800" y="42465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609560"/>
            <a:ext cx="5999040" cy="366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sées 25"/>
          <p:cNvSpPr/>
          <p:nvPr/>
        </p:nvSpPr>
        <p:spPr>
          <a:xfrm>
            <a:off x="1693800" y="42465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Espace réservé du contenu 4" descr=""/>
          <p:cNvPicPr/>
          <p:nvPr/>
        </p:nvPicPr>
        <p:blipFill>
          <a:blip r:embed="rId1"/>
          <a:stretch/>
        </p:blipFill>
        <p:spPr>
          <a:xfrm>
            <a:off x="1859040" y="1609560"/>
            <a:ext cx="5999040" cy="3664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4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médiane issue 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dans le triangle AB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A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5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hauteur issue 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dans le triangle ABC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AE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15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a médiatrice de [BC]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st la droite (DI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6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64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65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6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7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70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2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74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5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onnecteur droit 6"/>
          <p:cNvSpPr/>
          <p:nvPr/>
        </p:nvSpPr>
        <p:spPr>
          <a:xfrm flipH="1">
            <a:off x="2295360" y="5419800"/>
            <a:ext cx="1657440" cy="828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Connecteur droit 9"/>
          <p:cNvSpPr/>
          <p:nvPr/>
        </p:nvSpPr>
        <p:spPr>
          <a:xfrm flipH="1" flipV="1">
            <a:off x="2295360" y="4609800"/>
            <a:ext cx="1657440" cy="809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4680" y="4059360"/>
            <a:ext cx="4386240" cy="2798640"/>
          </a:xfrm>
          <a:prstGeom prst="rect">
            <a:avLst/>
          </a:prstGeom>
          <a:ln w="0">
            <a:noFill/>
          </a:ln>
        </p:spPr>
      </p:pic>
      <p:sp>
        <p:nvSpPr>
          <p:cNvPr id="18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Espace réservé du contenu 5" descr=""/>
          <p:cNvPicPr/>
          <p:nvPr/>
        </p:nvPicPr>
        <p:blipFill>
          <a:blip r:embed="rId3"/>
          <a:stretch/>
        </p:blipFill>
        <p:spPr>
          <a:xfrm>
            <a:off x="4406760" y="1847880"/>
            <a:ext cx="4213440" cy="3394080"/>
          </a:xfrm>
          <a:prstGeom prst="rect">
            <a:avLst/>
          </a:prstGeom>
          <a:ln w="0">
            <a:noFill/>
          </a:ln>
        </p:spPr>
      </p:pic>
      <p:cxnSp>
        <p:nvCxnSpPr>
          <p:cNvPr id="185" name="Connecteur droit avec flèche 3"/>
          <p:cNvCxnSpPr/>
          <p:nvPr/>
        </p:nvCxnSpPr>
        <p:spPr>
          <a:xfrm>
            <a:off x="599760" y="5419800"/>
            <a:ext cx="1626120" cy="82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6" name="Connecteur droit avec flèche 10"/>
          <p:cNvCxnSpPr/>
          <p:nvPr/>
        </p:nvCxnSpPr>
        <p:spPr>
          <a:xfrm flipV="1">
            <a:off x="599760" y="4571640"/>
            <a:ext cx="169596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Connecteur droit 14"/>
          <p:cNvSpPr/>
          <p:nvPr/>
        </p:nvSpPr>
        <p:spPr>
          <a:xfrm flipV="1">
            <a:off x="181080" y="3586320"/>
            <a:ext cx="4032000" cy="2047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16"/>
          <p:cNvSpPr/>
          <p:nvPr/>
        </p:nvSpPr>
        <p:spPr>
          <a:xfrm>
            <a:off x="95400" y="5181480"/>
            <a:ext cx="3290760" cy="16574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6"/>
          <p:cNvSpPr/>
          <p:nvPr/>
        </p:nvSpPr>
        <p:spPr>
          <a:xfrm flipH="1">
            <a:off x="1467000" y="5419800"/>
            <a:ext cx="790560" cy="404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onnecteur droit 9"/>
          <p:cNvSpPr/>
          <p:nvPr/>
        </p:nvSpPr>
        <p:spPr>
          <a:xfrm flipH="1" flipV="1">
            <a:off x="1467000" y="4997160"/>
            <a:ext cx="790560" cy="43164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5560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192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43240" y="2120400"/>
            <a:ext cx="3903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       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e point L es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le centre de gravité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du triangle ADB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0000"/>
                </a:solidFill>
                <a:uFillTx/>
                <a:latin typeface="Calibri"/>
              </a:rPr>
              <a:t>En effet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 : L est le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’intersection des média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(BE) et (A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5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médiane issue de A dans le triangle AB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60280" y="3956040"/>
            <a:ext cx="4354560" cy="2230560"/>
          </a:xfrm>
          <a:prstGeom prst="rect">
            <a:avLst/>
          </a:prstGeom>
          <a:ln w="0">
            <a:noFill/>
          </a:ln>
        </p:spPr>
      </p:pic>
      <p:sp>
        <p:nvSpPr>
          <p:cNvPr id="197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40120" y="2182680"/>
            <a:ext cx="39038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  </a:t>
            </a: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Les points D, I et 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sont aligné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 u="sng">
                <a:solidFill>
                  <a:srgbClr val="ff0000"/>
                </a:solidFill>
                <a:uFillTx/>
                <a:latin typeface="Calibri"/>
              </a:rPr>
              <a:t>En effet </a:t>
            </a: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: L étant le centre d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gravité de ADB , la droite (DL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est la troisième médiane e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0000"/>
                </a:solidFill>
                <a:latin typeface="Calibri"/>
              </a:rPr>
              <a:t>coupe [AB] en son milieu I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3"/>
          <p:cNvSpPr/>
          <p:nvPr/>
        </p:nvSpPr>
        <p:spPr>
          <a:xfrm flipH="1" flipV="1">
            <a:off x="1028520" y="3746160"/>
            <a:ext cx="1384200" cy="283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ensées 25"/>
          <p:cNvSpPr/>
          <p:nvPr/>
        </p:nvSpPr>
        <p:spPr>
          <a:xfrm>
            <a:off x="893880" y="37893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4" name="Espace réservé du contenu 4" descr=""/>
          <p:cNvPicPr/>
          <p:nvPr/>
        </p:nvPicPr>
        <p:blipFill>
          <a:blip r:embed="rId1"/>
          <a:stretch/>
        </p:blipFill>
        <p:spPr>
          <a:xfrm>
            <a:off x="1695600" y="1646280"/>
            <a:ext cx="6126120" cy="5059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ensées 25"/>
          <p:cNvSpPr/>
          <p:nvPr/>
        </p:nvSpPr>
        <p:spPr>
          <a:xfrm>
            <a:off x="893880" y="3789360"/>
            <a:ext cx="6161040" cy="1285920"/>
          </a:xfrm>
          <a:prstGeom prst="cloudCallout">
            <a:avLst>
              <a:gd name="adj1" fmla="val 9624"/>
              <a:gd name="adj2" fmla="val -107583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1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1" name="Espace réservé du contenu 4" descr=""/>
          <p:cNvPicPr/>
          <p:nvPr/>
        </p:nvPicPr>
        <p:blipFill>
          <a:blip r:embed="rId1"/>
          <a:stretch/>
        </p:blipFill>
        <p:spPr>
          <a:xfrm>
            <a:off x="1695600" y="1646280"/>
            <a:ext cx="6095880" cy="50594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143000" y="158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1754280"/>
            <a:ext cx="138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143000" y="19764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143720" y="1874160"/>
            <a:ext cx="216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143000" y="169704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248c35"/>
                </a:solidFill>
                <a:latin typeface="Georgia"/>
                <a:ea typeface="Arial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56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hauteur issue de A dans le triangle AB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contenu 4"/>
          <p:cNvSpPr/>
          <p:nvPr/>
        </p:nvSpPr>
        <p:spPr>
          <a:xfrm>
            <a:off x="500040" y="1587600"/>
            <a:ext cx="497988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3" descr=""/>
          <p:cNvPicPr/>
          <p:nvPr/>
        </p:nvPicPr>
        <p:blipFill>
          <a:blip r:embed="rId1"/>
          <a:srcRect l="0" t="4313" r="5475" b="0"/>
          <a:stretch/>
        </p:blipFill>
        <p:spPr>
          <a:xfrm>
            <a:off x="501480" y="3440160"/>
            <a:ext cx="3946680" cy="2720880"/>
          </a:xfrm>
          <a:prstGeom prst="rect">
            <a:avLst/>
          </a:prstGeom>
          <a:ln w="0">
            <a:noFill/>
          </a:ln>
        </p:spPr>
      </p:pic>
      <p:sp>
        <p:nvSpPr>
          <p:cNvPr id="61" name="Pensées 8"/>
          <p:cNvSpPr/>
          <p:nvPr/>
        </p:nvSpPr>
        <p:spPr>
          <a:xfrm>
            <a:off x="4621320" y="2340000"/>
            <a:ext cx="443052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9680" y="1587240"/>
            <a:ext cx="49798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 est un triang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st le milieu de [C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droites (AE) et (DI) s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rpendiculaires à (BC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22360" y="2073240"/>
            <a:ext cx="37515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 est la médiatrice de [BC]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D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pic>
        <p:nvPicPr>
          <p:cNvPr id="69" name="Image 12" descr=""/>
          <p:cNvPicPr/>
          <p:nvPr/>
        </p:nvPicPr>
        <p:blipFill>
          <a:blip r:embed="rId2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  <p:sp>
        <p:nvSpPr>
          <p:cNvPr id="71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C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1" descr=""/>
          <p:cNvPicPr/>
          <p:nvPr/>
        </p:nvPicPr>
        <p:blipFill>
          <a:blip r:embed="rId1"/>
          <a:srcRect l="35044" t="37534" r="36198" b="37073"/>
          <a:stretch/>
        </p:blipFill>
        <p:spPr>
          <a:xfrm>
            <a:off x="262080" y="3868560"/>
            <a:ext cx="3830400" cy="2543400"/>
          </a:xfrm>
          <a:prstGeom prst="rect">
            <a:avLst/>
          </a:prstGeom>
          <a:ln w="0">
            <a:noFill/>
          </a:ln>
        </p:spPr>
      </p:pic>
      <p:sp>
        <p:nvSpPr>
          <p:cNvPr id="76" name="Pensées 8"/>
          <p:cNvSpPr/>
          <p:nvPr/>
        </p:nvSpPr>
        <p:spPr>
          <a:xfrm>
            <a:off x="4632480" y="2236680"/>
            <a:ext cx="4086000" cy="2571840"/>
          </a:xfrm>
          <a:prstGeom prst="cloudCallout">
            <a:avLst>
              <a:gd name="adj1" fmla="val -66393"/>
              <a:gd name="adj2" fmla="val 493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Espace réservé du contenu 4" descr=""/>
          <p:cNvPicPr/>
          <p:nvPr/>
        </p:nvPicPr>
        <p:blipFill>
          <a:blip r:embed="rId2"/>
          <a:stretch/>
        </p:blipFill>
        <p:spPr>
          <a:xfrm>
            <a:off x="536400" y="1792440"/>
            <a:ext cx="61390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410000" y="1847880"/>
            <a:ext cx="4208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lles sont les coordonnées du point O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1744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7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913280" y="2182680"/>
            <a:ext cx="39038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représente le point 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pour le triangle ADB 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6" descr=""/>
          <p:cNvPicPr/>
          <p:nvPr/>
        </p:nvPicPr>
        <p:blipFill>
          <a:blip r:embed="rId1"/>
          <a:srcRect l="5875" t="10994" r="8302" b="7295"/>
          <a:stretch/>
        </p:blipFill>
        <p:spPr>
          <a:xfrm>
            <a:off x="217440" y="3948120"/>
            <a:ext cx="4354560" cy="2232000"/>
          </a:xfrm>
          <a:prstGeom prst="rect">
            <a:avLst/>
          </a:prstGeom>
          <a:ln w="0">
            <a:noFill/>
          </a:ln>
        </p:spPr>
      </p:pic>
      <p:sp>
        <p:nvSpPr>
          <p:cNvPr id="86" name="Pensées 8"/>
          <p:cNvSpPr/>
          <p:nvPr/>
        </p:nvSpPr>
        <p:spPr>
          <a:xfrm>
            <a:off x="4587840" y="2532240"/>
            <a:ext cx="4440240" cy="2571480"/>
          </a:xfrm>
          <a:prstGeom prst="cloudCallout">
            <a:avLst>
              <a:gd name="adj1" fmla="val -57893"/>
              <a:gd name="adj2" fmla="val 5922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 Light"/>
              </a:rPr>
              <a:t>QUESTION N°8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63600" y="1628280"/>
            <a:ext cx="822168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BCD est un parallélogramme de centre 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 et E sont les milieux respectifs de [AB] et [AD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O) et (BE) se coupent en 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40120" y="2182680"/>
            <a:ext cx="39038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48c35"/>
                </a:solidFill>
                <a:latin typeface="Calibri"/>
              </a:rPr>
              <a:t>Que peut-on dire des         points D, I et L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0:17:29Z</dcterms:created>
  <dc:creator>Isabelle</dc:creator>
  <dc:description/>
  <dc:language>en-US</dc:language>
  <cp:lastModifiedBy>auderi</cp:lastModifiedBy>
  <dcterms:modified xsi:type="dcterms:W3CDTF">2016-06-29T10:17:48Z</dcterms:modified>
  <cp:revision>61</cp:revision>
  <dc:subject/>
  <dc:title>Présentation PowerPoint</dc:title>
</cp:coreProperties>
</file>