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E0D-C724-44C6-A627-02EE87D251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7491-0130-420B-8924-03EC5C3880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F08-A2CD-4A83-863D-58D0781616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478B-628D-47FA-A4EA-F102EDEBFC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AD5-4D21-41CA-A1CD-749CCF688E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3EC1-C930-47FD-849C-76EEF06161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5457-B88C-4973-9E8B-1A1B45F72D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96D-FDEC-477D-97C1-B12AE08AC0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FE98-F5A3-40E2-9743-6D8FC9301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1BF0-6313-4435-AD2E-7506F3FA03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FAF-91BA-45C5-82A4-4F1E392D76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5599-B38A-4657-A532-054F57109B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7039-A159-46EE-B62E-C6DA7EBC5F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ED3-62CB-4381-B6AC-A920A05B57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C644-5DBF-4FC3-933A-490BC2D290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9A1-B876-4357-B9BA-EA4417ED8B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945-547C-4C83-BDEE-1ACFC9B08F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33B-0B96-447E-BA78-F36E9269EB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B7BE-46F9-4EC4-8668-EED1623090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5C7-C51F-430B-ACDD-90186AC586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AFD5-E871-445A-B3E6-4F7F541B0C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10E-2B37-470D-82C8-B0B84FFC10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CF0-EA54-4108-9A8B-6A193D9504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91B0-290B-47B7-A452-1A08C453A8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E0A-C9D9-4228-97CC-B90DDF2407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405B-64BE-4D01-8B4D-204D589E83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F6A-17D4-4367-9F6F-857EA30F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C62-E736-4100-BBB2-B18BB37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FDF-A567-488D-8241-E5E4C2A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560-08CB-4C54-91F7-153FC02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197-EA8C-4272-8F78-954D2C21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AB8-B37B-4812-894F-F1AD464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ACD-0810-4DDD-916C-9328D26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F4C-1E5E-4D5D-B1DD-51EDA5B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DA6-7964-45E4-ABE0-DE7D3A5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3C6-2A60-4694-87B3-B7EC4F3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399-683B-40A1-88B5-5068267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70-44A9-4406-8042-F9693AB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D558-F524-4C2E-904F-202D5E5E75CC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B9DF-F2A1-4BD6-B71A-0886CE4A5FF9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800" spc="-1" strike="noStrike">
                <a:solidFill>
                  <a:srgbClr val="0042c8"/>
                </a:solidFill>
                <a:latin typeface="Georgia"/>
              </a:rPr>
              <a:t>MÉLI-MÉLO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Écri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(</a:t>
            </a:r>
            <a:r>
              <a:rPr b="0" i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est un réel différent de 1 et de –1)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176560" y="3686040"/>
                <a:ext cx="459108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Quel est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36360" y="4365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 et 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re 1"/>
          <p:cNvSpPr/>
          <p:nvPr/>
        </p:nvSpPr>
        <p:spPr>
          <a:xfrm>
            <a:off x="0" y="287964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n’est pas solution de l’inéquation ca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– 4 + 2)×(–(– 4) – 5) = 2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98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deux solutions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t         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3132000" y="4437000"/>
            <a:ext cx="1019160" cy="1123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2"/>
          <a:stretch/>
        </p:blipFill>
        <p:spPr>
          <a:xfrm>
            <a:off x="5148360" y="4437000"/>
            <a:ext cx="1638360" cy="112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3024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e développe en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– 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² – 10</a:t>
            </a:r>
            <a:r>
              <a:rPr b="0" i="1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– 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xpression – (</a:t>
            </a:r>
            <a:r>
              <a:rPr b="0" i="1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∞ ; –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 –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ensemble de définition est ]– ∞ ; – 8[</a:t>
            </a:r>
            <a:r>
              <a:rPr b="0" lang="fr-FR" sz="6000" spc="-1" strike="noStrike">
                <a:solidFill>
                  <a:srgbClr val="008080"/>
                </a:solidFill>
                <a:latin typeface="Symbol"/>
                <a:ea typeface="Symbol"/>
              </a:rPr>
              <a:t>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]– 8 ; + ∞[.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2195640" y="1916280"/>
                <a:ext cx="446400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a simplification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687240" y="3406680"/>
                <a:ext cx="7570800" cy="21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roix 7"/>
          <p:cNvSpPr/>
          <p:nvPr/>
        </p:nvSpPr>
        <p:spPr>
          <a:xfrm rot="2679000">
            <a:off x="5127120" y="3476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ouée 8"/>
          <p:cNvSpPr/>
          <p:nvPr/>
        </p:nvSpPr>
        <p:spPr>
          <a:xfrm>
            <a:off x="1332000" y="364500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25600" y="2987640"/>
                <a:ext cx="7894440" cy="24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08000" y="3724200"/>
                <a:ext cx="900108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Titre 1"/>
          <p:cNvSpPr/>
          <p:nvPr/>
        </p:nvSpPr>
        <p:spPr>
          <a:xfrm>
            <a:off x="0" y="155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’écriture à l’aide d’u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eul quotient donne 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existe un réel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el que  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&gt; 0.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roix 7"/>
          <p:cNvSpPr/>
          <p:nvPr/>
        </p:nvSpPr>
        <p:spPr>
          <a:xfrm rot="2679000">
            <a:off x="5127120" y="2900520"/>
            <a:ext cx="1629000" cy="163656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Bouée 8"/>
          <p:cNvSpPr/>
          <p:nvPr/>
        </p:nvSpPr>
        <p:spPr>
          <a:xfrm>
            <a:off x="1332000" y="3068640"/>
            <a:ext cx="2519280" cy="1368360"/>
          </a:xfrm>
          <a:custGeom>
            <a:avLst/>
            <a:gdLst>
              <a:gd name="textAreaLeft" fmla="*/ 368640 w 2519280"/>
              <a:gd name="textAreaRight" fmla="*/ 2150640 w 251928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519362" h="1368425">
                <a:moveTo>
                  <a:pt x="0" y="684213"/>
                </a:moveTo>
                <a:lnTo>
                  <a:pt x="0" y="684213"/>
                </a:lnTo>
                <a:arcTo wR="1259681" hR="684213" stAng="-10799997" swAng="5400002"/>
                <a:lnTo>
                  <a:pt x="1259682" y="1"/>
                </a:lnTo>
                <a:arcTo wR="1259681" hR="684213" stAng="-5399995" swAng="5400000"/>
                <a:lnTo>
                  <a:pt x="2519362" y="684216"/>
                </a:lnTo>
                <a:arcTo wR="1259681" hR="684213" stAng="0" swAng="5400000"/>
                <a:lnTo>
                  <a:pt x="1259681" y="1368429"/>
                </a:lnTo>
                <a:arcTo wR="1259681" hR="684213" stAng="5400000" swAng="5400003"/>
                <a:close/>
                <a:moveTo>
                  <a:pt x="109611" y="684213"/>
                </a:moveTo>
                <a:lnTo>
                  <a:pt x="109611" y="684213"/>
                </a:lnTo>
                <a:arcTo wR="1150070" hR="574602" stAng="-10799997" swAng="-5399997"/>
                <a:lnTo>
                  <a:pt x="1259680" y="1258816"/>
                </a:lnTo>
                <a:arcTo wR="1150070" hR="574602" stAng="5400000" swAng="-5399997"/>
                <a:lnTo>
                  <a:pt x="2409750" y="684215"/>
                </a:lnTo>
                <a:arcTo wR="1150070" hR="574602" stAng="0" swAng="-5400000"/>
                <a:lnTo>
                  <a:pt x="1259680" y="109613"/>
                </a:lnTo>
                <a:arcTo wR="1150070" hR="574602" stAng="-5399994" swAng="-5400003"/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3636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Par exemple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5) &gt; 0.</a:t>
            </a:r>
            <a:r>
              <a:rPr b="0" lang="fr-FR" sz="5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tre 1"/>
          <p:cNvSpPr/>
          <p:nvPr/>
        </p:nvSpPr>
        <p:spPr>
          <a:xfrm>
            <a:off x="-3636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l’ensemble vide noté </a:t>
            </a:r>
            <a:r>
              <a:rPr b="0" lang="fr-FR" sz="6600" spc="-1" strike="noStrike">
                <a:solidFill>
                  <a:srgbClr val="004800"/>
                </a:solidFill>
                <a:latin typeface="Symbol"/>
                <a:ea typeface="Symbol"/>
              </a:rPr>
              <a:t>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36360" y="184464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10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 » 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70028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 est-il solution de l’inéquation suivant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) (–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5) ≤ 0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5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Développer l’expression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3429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-36360" y="981000"/>
            <a:ext cx="9180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Quel est l’ensemble de définition de la fonction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g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95640" y="2060640"/>
                <a:ext cx="446400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Simplifier le nombre suivant où </a:t>
            </a:r>
            <a:r>
              <a:rPr b="0" i="1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 est un réel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1400" y="3325680"/>
                <a:ext cx="65228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VRAI ou FAUX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our tout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réel, 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) ≤ 0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 4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Calculer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411200" y="2908440"/>
                <a:ext cx="6121440" cy="26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4-21T08:23:01Z</dcterms:modified>
  <cp:revision>274</cp:revision>
  <dc:subject/>
  <dc:title>Diapositive 0</dc:title>
</cp:coreProperties>
</file>