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94BB-6BBF-4E96-A605-F086CB74D5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1E7B-AFBA-408E-9F11-EB928C0B85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B5C-58C5-4914-A0B9-5F13D5FA98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CEA5-0756-4743-B172-D3D1D9F4CC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40F8-0996-455E-8F9B-A64AF6BD30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4F2A-11F4-46A2-B3D0-BBDAD39C27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9A63-E7E1-4A85-825E-68D1BA8547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550C-F26C-49B3-A77E-5913BA7415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F42F-D8E5-4915-B4CE-482A86817B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86C4-FEE7-4205-B46F-5CEB2189D3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E62-E52D-44ED-B09B-6BB147D980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3B70-F572-4381-B9A2-F72494EF2E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7D39-65E6-43A4-B390-932D09C29D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6564-5BEC-49DB-974C-A784B3ED48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09AB-AE3F-4584-9354-3CC6143D6B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E63F-B668-42C9-8B46-6BD209A619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B2B6-C766-4AF4-BF53-7DDD08DDF9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6489-1AC7-404A-B022-4F1DB95F81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F8CB-0084-4DED-BC83-F7A7E9D9ED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C12F-769F-4103-85C1-192E49330A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79D3-9C66-4965-B67E-A04B127E2F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762F-9BC1-440E-87A9-E8C50CDD7B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5382-66CC-44C2-AB27-AAA6565C7D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1E94-FDED-4C8A-BA61-AB6159EEF2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84D3-572E-425D-B286-6DD00A3B70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950-E8A7-43DF-8A57-6F126CCA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348-40D8-432B-BF93-336157C7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E97-519A-44EE-BC6B-A1B31029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073-C637-484E-A358-D1DEF116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F36-3787-4600-93E1-E21C2510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EB34-CDDE-48AF-ABAB-A3A2D55E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1E6-2790-40C4-9E9D-4A6FD66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530-8C71-4A27-9A55-B46F6434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FDC-5924-41FA-A9EA-C81B4EA7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8D8-D95D-42A5-9D58-A644351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DB9-5C76-46DF-B9F1-72272274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F8E-0547-45F5-A88A-BC53499C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572B-8DAC-428B-B4FA-CF20E4515743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05EF-3D6C-4AD9-8E6D-8E28F6542DEB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262080" y="1414440"/>
            <a:ext cx="8583480" cy="2895480"/>
            <a:chOff x="262080" y="1414440"/>
            <a:chExt cx="858348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62080" y="1414440"/>
              <a:ext cx="85834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MÉLI-MÉL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692280"/>
            <a:ext cx="9144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e longueur AB en cm donnée 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tre 1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ner la valeur approchée au millimètre par défaut de ce nomb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97164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3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)(–8 –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429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Calculer le ou l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antécédents de 0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969840" y="3068640"/>
                <a:ext cx="700740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L’image de 0 est </a:t>
            </a:r>
            <a:r>
              <a:rPr b="0" i="1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(0) = –7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aleur arrondie au millièm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ce nombre est 4,882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104472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9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équation </a:t>
            </a:r>
            <a:r>
              <a:rPr b="0" i="1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f(x</a:t>
            </a:r>
            <a:r>
              <a:rPr b="0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= 0 admet deux solutions : 0 et –9</a:t>
            </a:r>
            <a:r>
              <a:rPr b="0" i="1" lang="fr-FR" sz="5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141300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e calcul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t 7"/>
              <p:cNvSpPr txBox="1"/>
              <p:nvPr/>
            </p:nvSpPr>
            <p:spPr>
              <a:xfrm>
                <a:off x="1736640" y="3284640"/>
                <a:ext cx="5477040" cy="26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tervalle pour décrire l’ensemble des nombres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s que  « 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8 e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–3 » est 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3636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–3 ; 8[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–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7[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7 ; +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par                         </a:t>
            </a:r>
            <a:r>
              <a:rPr b="0" lang="fr-FR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re 1"/>
          <p:cNvSpPr/>
          <p:nvPr/>
        </p:nvSpPr>
        <p:spPr>
          <a:xfrm>
            <a:off x="0" y="4724280"/>
            <a:ext cx="9144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image de 0 est –11/7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t 7"/>
              <p:cNvSpPr txBox="1"/>
              <p:nvPr/>
            </p:nvSpPr>
            <p:spPr>
              <a:xfrm>
                <a:off x="2428920" y="2708280"/>
                <a:ext cx="42307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c008aa"/>
                </a:solidFill>
                <a:latin typeface="Georgia"/>
                <a:ea typeface="Arial"/>
              </a:rPr>
              <a:t>é</a:t>
            </a:r>
            <a:r>
              <a:rPr b="0" lang="fr-FR" sz="9600" spc="-1" strike="noStrike">
                <a:solidFill>
                  <a:srgbClr val="00b050"/>
                </a:solidFill>
                <a:latin typeface="Georgia"/>
                <a:ea typeface="Arial"/>
              </a:rPr>
              <a:t>p</a:t>
            </a:r>
            <a:r>
              <a:rPr b="0" lang="fr-FR" sz="9600" spc="-1" strike="noStrike">
                <a:solidFill>
                  <a:srgbClr val="ff0000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cc99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d</a:t>
            </a:r>
            <a:r>
              <a:rPr b="0" lang="fr-FR" sz="9600" spc="-1" strike="noStrike">
                <a:solidFill>
                  <a:srgbClr val="660066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008000"/>
                </a:solidFill>
                <a:latin typeface="Georgia"/>
                <a:ea typeface="Arial"/>
              </a:rPr>
              <a:t>e </a:t>
            </a:r>
            <a:r>
              <a:rPr b="0" lang="fr-FR" sz="9600" spc="-1" strike="noStrike">
                <a:solidFill>
                  <a:srgbClr val="ffc000"/>
                </a:solidFill>
                <a:latin typeface="Georgia"/>
                <a:ea typeface="Arial"/>
              </a:rPr>
              <a:t>a</a:t>
            </a:r>
            <a:r>
              <a:rPr b="0" lang="fr-FR" sz="9600" spc="-1" strike="noStrike">
                <a:solidFill>
                  <a:srgbClr val="b4142b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00ffff"/>
                </a:solidFill>
                <a:latin typeface="Georgia"/>
                <a:ea typeface="Arial"/>
              </a:rPr>
              <a:t>x</a:t>
            </a: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 </a:t>
            </a:r>
            <a:r>
              <a:rPr b="0" lang="fr-FR" sz="9600" spc="-1" strike="noStrike">
                <a:solidFill>
                  <a:srgbClr val="ff6699"/>
                </a:solidFill>
                <a:latin typeface="Georgia"/>
                <a:ea typeface="Arial"/>
              </a:rPr>
              <a:t>q</a:t>
            </a:r>
            <a:r>
              <a:rPr b="0" lang="fr-FR" sz="9600" spc="-1" strike="noStrike">
                <a:solidFill>
                  <a:srgbClr val="008080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a50021"/>
                </a:solidFill>
                <a:latin typeface="Georgia"/>
                <a:ea typeface="Arial"/>
              </a:rPr>
              <a:t>e</a:t>
            </a:r>
            <a:r>
              <a:rPr b="0" lang="fr-FR" sz="9600" spc="-1" strike="noStrike">
                <a:solidFill>
                  <a:srgbClr val="808000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99"/>
                </a:solidFill>
                <a:latin typeface="Georgia"/>
                <a:ea typeface="Arial"/>
              </a:rPr>
              <a:t>t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i</a:t>
            </a:r>
            <a:r>
              <a:rPr b="0" lang="fr-FR" sz="9600" spc="-1" strike="noStrike">
                <a:solidFill>
                  <a:srgbClr val="d519ff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6633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e90062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 calcul donn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268200" y="3324240"/>
                <a:ext cx="862488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re 1"/>
          <p:cNvSpPr/>
          <p:nvPr/>
        </p:nvSpPr>
        <p:spPr>
          <a:xfrm>
            <a:off x="0" y="692280"/>
            <a:ext cx="9144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e longueur AB en cm donnée 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0" y="4797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aleur approchée au millimètre par défaut de ce nombre est 2,1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97164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3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)(–8 –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tre 1"/>
          <p:cNvSpPr/>
          <p:nvPr/>
        </p:nvSpPr>
        <p:spPr>
          <a:xfrm>
            <a:off x="0" y="4005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Les antécédents de 0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sont : –5/3 et –8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969840" y="3068640"/>
                <a:ext cx="700740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Croix 7"/>
          <p:cNvSpPr/>
          <p:nvPr/>
        </p:nvSpPr>
        <p:spPr>
          <a:xfrm rot="2679000">
            <a:off x="5195520" y="1244160"/>
            <a:ext cx="1628640" cy="163692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Bouée 8"/>
          <p:cNvSpPr/>
          <p:nvPr/>
        </p:nvSpPr>
        <p:spPr>
          <a:xfrm>
            <a:off x="1403280" y="1341360"/>
            <a:ext cx="2448000" cy="1366920"/>
          </a:xfrm>
          <a:custGeom>
            <a:avLst/>
            <a:gdLst/>
            <a:ahLst/>
            <a:rect l="l" t="t" r="r" b="b"/>
            <a:pathLst>
              <a:path w="2448272" h="1368152">
                <a:moveTo>
                  <a:pt x="0" y="684076"/>
                </a:moveTo>
                <a:cubicBezTo>
                  <a:pt x="0" y="306271"/>
                  <a:pt x="548064" y="0"/>
                  <a:pt x="1224136" y="0"/>
                </a:cubicBezTo>
                <a:cubicBezTo>
                  <a:pt x="1900208" y="0"/>
                  <a:pt x="2448272" y="306271"/>
                  <a:pt x="2448272" y="684076"/>
                </a:cubicBezTo>
                <a:cubicBezTo>
                  <a:pt x="2448272" y="1061881"/>
                  <a:pt x="1900208" y="1368152"/>
                  <a:pt x="1224136" y="1368152"/>
                </a:cubicBezTo>
                <a:cubicBezTo>
                  <a:pt x="548064" y="1368152"/>
                  <a:pt x="0" y="1061881"/>
                  <a:pt x="0" y="684076"/>
                </a:cubicBezTo>
                <a:close/>
                <a:moveTo>
                  <a:pt x="109589" y="684076"/>
                </a:moveTo>
                <a:cubicBezTo>
                  <a:pt x="109589" y="1001356"/>
                  <a:pt x="608589" y="1258563"/>
                  <a:pt x="1224136" y="1258563"/>
                </a:cubicBezTo>
                <a:cubicBezTo>
                  <a:pt x="1839683" y="1258563"/>
                  <a:pt x="2338683" y="1001356"/>
                  <a:pt x="2338683" y="684076"/>
                </a:cubicBezTo>
                <a:cubicBezTo>
                  <a:pt x="2338683" y="366796"/>
                  <a:pt x="1839683" y="109589"/>
                  <a:pt x="1224136" y="109589"/>
                </a:cubicBezTo>
                <a:cubicBezTo>
                  <a:pt x="608589" y="109589"/>
                  <a:pt x="109589" y="366796"/>
                  <a:pt x="109589" y="684076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alculer l’image de 0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494172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ner la valeur arrondi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 millième de ce nombr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0" r="0" b="65505"/>
          <a:stretch/>
        </p:blipFill>
        <p:spPr>
          <a:xfrm>
            <a:off x="1044720" y="2708280"/>
            <a:ext cx="7199280" cy="187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9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soudre dans ℝ l’équation 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= 0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41300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Simplifi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a fraction suivante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t 7"/>
              <p:cNvSpPr txBox="1"/>
              <p:nvPr/>
            </p:nvSpPr>
            <p:spPr>
              <a:xfrm>
                <a:off x="2340000" y="3284640"/>
                <a:ext cx="4268880" cy="26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tiliser un interval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ur décrire l’ensemble des nombres </a:t>
            </a:r>
            <a:r>
              <a:rPr b="0" i="1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3636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8 e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–3.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–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7[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7 ; + </a:t>
            </a:r>
            <a:r>
              <a:rPr b="0" lang="fr-FR" sz="5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par                         </a:t>
            </a:r>
            <a:r>
              <a:rPr b="0" lang="fr-FR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4724280"/>
            <a:ext cx="9144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Calculer l’image de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t 7"/>
              <p:cNvSpPr txBox="1"/>
              <p:nvPr/>
            </p:nvSpPr>
            <p:spPr>
              <a:xfrm>
                <a:off x="2428920" y="2708280"/>
                <a:ext cx="42307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9079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implifi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 nombre suivant 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809640" y="3324240"/>
                <a:ext cx="732960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08T20:58:44Z</dcterms:modified>
  <cp:revision>260</cp:revision>
  <dc:subject/>
  <dc:title>Diapositive 0</dc:title>
</cp:coreProperties>
</file>