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3D6-DF69-4C29-9282-FE7969AF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479-E51E-448E-83BD-1F4951BD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5C7-C208-4531-8CDD-DD5E9A65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643-104D-4D4C-855B-8C0FC878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0592-9A58-4696-A493-2248D375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59E8-E46E-4B47-92DA-3FAAD687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251B-5753-4818-8BEB-852043FD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F987-A872-4FEB-8C50-CEA3BAC1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E5F4-5634-47D9-87BE-00CEF00B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3934-8770-4F61-AF5C-D09A42BC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38D1-957B-4906-A600-6B36BD7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758-6EB0-4ACF-87C9-4913713F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FD67-A4EA-4C1C-B5F4-BE44B8B4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FDE9-6F0E-4527-A6C0-E4DDAC5F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D06B-80DD-4C59-9DA6-249B33E2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3795-1FEB-4023-95AE-B050C01A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5BF2-26BD-44E3-B87D-9DAF52D4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02A07-C2CA-4E03-AB72-0EB1691F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72545-66D8-4F70-BF82-F3ECAC19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FBD3A-0021-4168-89D2-83DF05B2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E4F72-D464-49A8-B8FD-5C13F8FB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4F9B6-C700-4AA4-980C-5689EABF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5BB-BDA6-42F0-8B92-8F4C8DE0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05C3-1EF1-4E48-A291-48EB4BE3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F48E8-44CB-4737-AAD7-3CFBAE3F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7A275-5108-444E-AC69-6B40151E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85E8-5536-4077-A74C-4C3650E5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CA004-98BF-4B48-A01A-6930AD94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55973-AC73-453F-8187-E43974AC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87548-6815-411E-A20F-649690B4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9DFE5-A5AD-40C7-A7FB-BF7675D5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FD665-6DEB-4232-A49B-B237C4E9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BD8DA-64C0-4620-AFE9-1144A836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D49-FB36-40A4-8C8B-C1D366C2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87D5B-41F5-4496-8F82-0A67C058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D9B84-820D-4343-AE2B-7A0AE654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57E8C-C0F9-49D6-8DA2-6150496C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AC8B2-ECC7-4951-AF35-B37744CB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B739D-13D4-43FE-A2B3-EADE81E4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EDE1A-B20D-4724-90EE-E19CC001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E5C2E-95E2-4635-82CB-D69DC7B4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A7261-84E3-4FDB-BCD8-E9EA0EEA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58881-D55F-4E64-9E7F-C9226D31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580-2E31-4C40-A0EE-EF9FB85F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362-3B1F-4504-8350-2D25AD28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319-D146-462F-A4CD-38E3C644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A4F-5C09-49C2-B2FB-A08D5C59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142-9FA7-4BAE-8FA4-DF1E463E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7105-02C3-4BF6-A186-FB860D9F854F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8275-E9D0-4973-B53D-8B9D52294936}" type="slidenum"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1414-E35C-40D0-8C3F-3FCF1E0F6249}" type="slidenum"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F7BA-55A6-4E70-82BC-A3A22BF62ABA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0" y="162828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89ca3"/>
                </a:solidFill>
                <a:latin typeface="Constantia"/>
              </a:rPr>
              <a:t>Coordonnées de points du plan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089ca3"/>
                </a:solidFill>
                <a:latin typeface="Constantia"/>
              </a:rPr>
              <a:t>Série 3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Titre 1"/>
          <p:cNvSpPr/>
          <p:nvPr/>
        </p:nvSpPr>
        <p:spPr>
          <a:xfrm>
            <a:off x="0" y="481968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6686d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age 1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411280" y="907920"/>
            <a:ext cx="4676760" cy="48196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13" name="Rectangle 2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8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587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83763"/>
                </a:solidFill>
                <a:latin typeface="Constantia"/>
              </a:rPr>
              <a:t>[AB] est un diamètre du cercl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2349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e6d"/>
                </a:solidFill>
                <a:latin typeface="Calibri"/>
              </a:rPr>
              <a:t>A( 1 ; 3)          B( 4 ; 7 )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2349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e6d"/>
                </a:solidFill>
                <a:latin typeface="Calibri"/>
              </a:rPr>
              <a:t>A( 1 ; −3)       B( 4 ; </a:t>
            </a:r>
            <a:r>
              <a:rPr b="0" lang="fr-FR" sz="6600" spc="-1" strike="noStrike">
                <a:solidFill>
                  <a:srgbClr val="004e6d"/>
                </a:solidFill>
                <a:latin typeface="Constantia"/>
              </a:rPr>
              <a:t>−</a:t>
            </a:r>
            <a:r>
              <a:rPr b="0" lang="fr-FR" sz="6600" spc="-1" strike="noStrike">
                <a:solidFill>
                  <a:srgbClr val="004e6d"/>
                </a:solidFill>
                <a:latin typeface="Calibri"/>
              </a:rPr>
              <a:t>1 )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01400" y="907920"/>
            <a:ext cx="7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1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2637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600" spc="-1" strike="noStrike">
                <a:solidFill>
                  <a:srgbClr val="083763"/>
                </a:solidFill>
                <a:latin typeface="Constantia"/>
              </a:rPr>
              <a:t>Correction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llipse 2"/>
          <p:cNvSpPr/>
          <p:nvPr/>
        </p:nvSpPr>
        <p:spPr>
          <a:xfrm>
            <a:off x="108000" y="2351160"/>
            <a:ext cx="194292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Image 11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484360" y="911160"/>
            <a:ext cx="5419800" cy="54673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2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ZoneTexte 12" descr=""/>
          <p:cNvPicPr/>
          <p:nvPr/>
        </p:nvPicPr>
        <p:blipFill>
          <a:blip r:embed="rId2"/>
          <a:stretch/>
        </p:blipFill>
        <p:spPr>
          <a:xfrm>
            <a:off x="371520" y="2548080"/>
            <a:ext cx="14144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llipse 2"/>
          <p:cNvSpPr/>
          <p:nvPr/>
        </p:nvSpPr>
        <p:spPr>
          <a:xfrm>
            <a:off x="179280" y="2346480"/>
            <a:ext cx="194472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Image 7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556000" y="933480"/>
            <a:ext cx="5362560" cy="54291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ZoneTexte 13" descr=""/>
          <p:cNvPicPr/>
          <p:nvPr/>
        </p:nvPicPr>
        <p:blipFill>
          <a:blip r:embed="rId2"/>
          <a:stretch/>
        </p:blipFill>
        <p:spPr>
          <a:xfrm>
            <a:off x="444600" y="2541600"/>
            <a:ext cx="141444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Ellipse 2"/>
          <p:cNvSpPr/>
          <p:nvPr/>
        </p:nvSpPr>
        <p:spPr>
          <a:xfrm>
            <a:off x="19080" y="1947960"/>
            <a:ext cx="406872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Image 12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3635280" y="1020600"/>
            <a:ext cx="5010120" cy="53913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ZoneTexte 15" descr=""/>
          <p:cNvPicPr/>
          <p:nvPr/>
        </p:nvPicPr>
        <p:blipFill>
          <a:blip r:embed="rId2"/>
          <a:stretch/>
        </p:blipFill>
        <p:spPr>
          <a:xfrm>
            <a:off x="262080" y="2114640"/>
            <a:ext cx="337176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Ellipse 2"/>
          <p:cNvSpPr/>
          <p:nvPr/>
        </p:nvSpPr>
        <p:spPr>
          <a:xfrm>
            <a:off x="0" y="1859040"/>
            <a:ext cx="353520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Image 14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3606840" y="930240"/>
            <a:ext cx="4857840" cy="54770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ZoneTexte 17" descr=""/>
          <p:cNvPicPr/>
          <p:nvPr/>
        </p:nvPicPr>
        <p:blipFill>
          <a:blip r:embed="rId2"/>
          <a:stretch/>
        </p:blipFill>
        <p:spPr>
          <a:xfrm>
            <a:off x="841320" y="2030400"/>
            <a:ext cx="184644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Ellipse 2"/>
          <p:cNvSpPr/>
          <p:nvPr/>
        </p:nvSpPr>
        <p:spPr>
          <a:xfrm>
            <a:off x="44280" y="2421000"/>
            <a:ext cx="406728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Image 19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3708360" y="1341360"/>
            <a:ext cx="5176800" cy="49021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287" name="ZoneTexte 20" descr=""/>
          <p:cNvPicPr/>
          <p:nvPr/>
        </p:nvPicPr>
        <p:blipFill>
          <a:blip r:embed="rId2"/>
          <a:stretch/>
        </p:blipFill>
        <p:spPr>
          <a:xfrm>
            <a:off x="328680" y="2590920"/>
            <a:ext cx="337824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Ellipse 2"/>
          <p:cNvSpPr/>
          <p:nvPr/>
        </p:nvSpPr>
        <p:spPr>
          <a:xfrm>
            <a:off x="34920" y="2265480"/>
            <a:ext cx="406872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6" name="Image 21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3924360" y="1128600"/>
            <a:ext cx="5029200" cy="49644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307" name="ZoneTexte 22" descr=""/>
          <p:cNvPicPr/>
          <p:nvPr/>
        </p:nvPicPr>
        <p:blipFill>
          <a:blip r:embed="rId2"/>
          <a:stretch/>
        </p:blipFill>
        <p:spPr>
          <a:xfrm>
            <a:off x="152280" y="2432160"/>
            <a:ext cx="377352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2468520"/>
            <a:ext cx="91440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6686d"/>
                </a:solidFill>
                <a:latin typeface="Constantia"/>
              </a:rPr>
              <a:t>Déterminer la distance AB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Ellipse 2"/>
          <p:cNvSpPr/>
          <p:nvPr/>
        </p:nvSpPr>
        <p:spPr>
          <a:xfrm>
            <a:off x="0" y="2540160"/>
            <a:ext cx="406728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5" name="Image 20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3780000" y="1170000"/>
            <a:ext cx="5038560" cy="49435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3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Rectangle 22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9" name="ZoneTexte 23" descr=""/>
          <p:cNvPicPr/>
          <p:nvPr/>
        </p:nvPicPr>
        <p:blipFill>
          <a:blip r:embed="rId2"/>
          <a:stretch/>
        </p:blipFill>
        <p:spPr>
          <a:xfrm>
            <a:off x="244440" y="2706840"/>
            <a:ext cx="357840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Ellipse 2"/>
          <p:cNvSpPr/>
          <p:nvPr/>
        </p:nvSpPr>
        <p:spPr>
          <a:xfrm>
            <a:off x="1800360" y="771480"/>
            <a:ext cx="5543280" cy="105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9" name="Image 21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233440" y="1822320"/>
            <a:ext cx="4677120" cy="48196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3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Rectangle 25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8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3" name="ZoneTexte 3" descr=""/>
          <p:cNvPicPr/>
          <p:nvPr/>
        </p:nvPicPr>
        <p:blipFill>
          <a:blip r:embed="rId2"/>
          <a:stretch/>
        </p:blipFill>
        <p:spPr>
          <a:xfrm>
            <a:off x="2060640" y="1011240"/>
            <a:ext cx="5022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0" y="1934640"/>
            <a:ext cx="9144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e6d"/>
                </a:solidFill>
                <a:latin typeface="Calibri"/>
              </a:rPr>
              <a:t>A( 1 ; 3)        B( 4 ; 7 )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Ellipse 5"/>
          <p:cNvSpPr/>
          <p:nvPr/>
        </p:nvSpPr>
        <p:spPr>
          <a:xfrm>
            <a:off x="2340000" y="3789360"/>
            <a:ext cx="406728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9" name="ZoneTexte 7" descr=""/>
          <p:cNvPicPr/>
          <p:nvPr/>
        </p:nvPicPr>
        <p:blipFill>
          <a:blip r:embed="rId1"/>
          <a:stretch/>
        </p:blipFill>
        <p:spPr>
          <a:xfrm>
            <a:off x="2743200" y="3956040"/>
            <a:ext cx="31399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0" y="1935000"/>
            <a:ext cx="9144000" cy="28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e6d"/>
                </a:solidFill>
                <a:latin typeface="Calibri"/>
              </a:rPr>
              <a:t>A( 1 ; −3)      B( 4 ; −1 )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Ellipse 5"/>
          <p:cNvSpPr/>
          <p:nvPr/>
        </p:nvSpPr>
        <p:spPr>
          <a:xfrm>
            <a:off x="2411280" y="3846600"/>
            <a:ext cx="406872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401400" y="907920"/>
            <a:ext cx="7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1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0" y="9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9" name="ZoneTexte 11" descr=""/>
          <p:cNvPicPr/>
          <p:nvPr/>
        </p:nvPicPr>
        <p:blipFill>
          <a:blip r:embed="rId1"/>
          <a:stretch/>
        </p:blipFill>
        <p:spPr>
          <a:xfrm>
            <a:off x="2755800" y="4017960"/>
            <a:ext cx="33768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0" y="278136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600" spc="-1" strike="noStrike">
                <a:solidFill>
                  <a:srgbClr val="083763"/>
                </a:solidFill>
                <a:latin typeface="Constantia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Image 5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1862280" y="907920"/>
            <a:ext cx="5419440" cy="54673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199" name="Rectangle 4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Image 4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1890720" y="922320"/>
            <a:ext cx="5362560" cy="54291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01" name="Rectangle 3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Image 3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066760" y="907920"/>
            <a:ext cx="5010480" cy="53913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03" name="Rectangle 2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Image 2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235240" y="907920"/>
            <a:ext cx="4857840" cy="54770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05" name="Rectangle 3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Image 7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2050920" y="1170000"/>
            <a:ext cx="5400720" cy="50673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Image 4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2050920" y="1125360"/>
            <a:ext cx="5224680" cy="50403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Image 3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052720" y="1077840"/>
            <a:ext cx="5038560" cy="49435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11" name="Rectangle 2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5T12:33:28Z</dcterms:created>
  <dc:creator>RIGAUX</dc:creator>
  <dc:description/>
  <dc:language>en-US</dc:language>
  <cp:lastModifiedBy>auderi</cp:lastModifiedBy>
  <dcterms:modified xsi:type="dcterms:W3CDTF">2016-07-02T13:53:41Z</dcterms:modified>
  <cp:revision>52</cp:revision>
  <dc:subject/>
  <dc:title>Calculer une distance</dc:title>
</cp:coreProperties>
</file>