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05B6-338A-4D4C-96CB-F1A6F8E0A0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C372-7D08-4E88-8BFF-8B22900840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5A77-E976-4B42-B86A-4839DB17D5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7D5F-4CF6-43C5-BA3C-7642AC9D5A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865-C8BD-4CEC-BD4C-05A14BCDF7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BB80-7065-440C-94D8-B8C3873D0A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F87-F0D5-4718-A7D8-EA1620F115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3B06-8CA3-4E95-8A54-46B25828A3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0A30-F915-4BB1-85EB-18F15C7EDB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5405-F341-4C57-847F-F0C3619BF6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1D38-3CBA-4541-A57E-F149CC2D00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D2C-9256-4136-92CC-A6E47E7907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5189-2550-420E-BB65-6E6380E058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7AE2-9FCA-4CEC-BDB5-33E95D76DD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F7E-5961-4E65-921E-7EC4B2690C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209C-AC29-412F-90BF-024E5BAC9D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17EF-38C3-49D7-843F-546CAF4678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25C5-52AD-4187-B7C7-D2F4ACB62C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427B-50F4-4996-9BD1-1B896E6FF9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CC73-76CF-4134-8B1B-C05DB01BC8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1EC0-F8BA-499E-BC12-10F9C77BA4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ACF8-0FDB-42F8-AD0C-A0892589D1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7CE-36DF-4205-96A4-DCE66CB472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F067-72AE-44C5-A590-D374F7C4ED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46A2-ECB0-483D-A046-BE36201B39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737-7E4A-4FF3-9F36-44F59A56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BBB2-B226-46F8-9215-7BC90FBE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85B0-8996-4BA8-97A8-2FDD972D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DC0-1724-4793-822F-C9E0D15F8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CC6-BD2E-491C-96BC-A85F17A7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D662-E2E6-4F2F-8588-C62EB6D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A37-9B5C-405F-8D8D-60C6B738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936-FEDB-4DDC-9AF0-3CDF500F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35B-B4A3-43E7-BE80-E00A0B8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011-A88D-40C7-A35C-DD9886E8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AF9-82F7-455D-87A3-2F186244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F5C1-3085-4BA5-9C07-5AF972E3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9CCC-B7AA-4CA7-8798-F4D0FB7276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Sym&#233;tries(3)%20Corrections/Sym&#233;tries3.1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Sym&#233;tries(3)%20Corrections/Sym&#233;tries3.2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Sym&#233;tries(3)%20Corrections/Sym&#233;tries3.3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Sym&#233;tries(3)%20Corrections/Sym&#233;tries3.4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Sym&#233;tries(3)%20Corrections/Sym&#233;tries3.5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Sym&#233;tries(3)%20Corrections/Sym&#233;tries3.6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Sym&#233;tries(3)%20Corrections/Sym&#233;tries3.7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ÉTRIES(3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6639" t="18663" r="41598" b="27998"/>
          <a:stretch/>
        </p:blipFill>
        <p:spPr>
          <a:xfrm>
            <a:off x="1389240" y="2000160"/>
            <a:ext cx="632592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14975" t="13065" r="34942" b="13065"/>
          <a:stretch/>
        </p:blipFill>
        <p:spPr>
          <a:xfrm>
            <a:off x="1071720" y="1301760"/>
            <a:ext cx="7043760" cy="5556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4975" t="12442" r="44926" b="21777"/>
          <a:stretch/>
        </p:blipFill>
        <p:spPr>
          <a:xfrm>
            <a:off x="1500120" y="1428840"/>
            <a:ext cx="6073920" cy="532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rcRect l="19300" t="3115" r="36940" b="15556"/>
          <a:stretch/>
        </p:blipFill>
        <p:spPr>
          <a:xfrm>
            <a:off x="1747800" y="1209600"/>
            <a:ext cx="5681880" cy="56484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20964" t="7467" r="31615" b="11196"/>
          <a:stretch/>
        </p:blipFill>
        <p:spPr>
          <a:xfrm>
            <a:off x="1487520" y="1209600"/>
            <a:ext cx="6156360" cy="56484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8320" t="16802" r="44926" b="14311"/>
          <a:stretch/>
        </p:blipFill>
        <p:spPr>
          <a:xfrm>
            <a:off x="1198440" y="1428840"/>
            <a:ext cx="6829560" cy="538164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9984" t="17417" r="26623" b="12442"/>
          <a:stretch/>
        </p:blipFill>
        <p:spPr>
          <a:xfrm>
            <a:off x="157320" y="1581120"/>
            <a:ext cx="8915400" cy="52768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3311" t="3729" r="39934" b="31728"/>
          <a:stretch/>
        </p:blipFill>
        <p:spPr>
          <a:xfrm>
            <a:off x="960480" y="1422360"/>
            <a:ext cx="7183440" cy="53038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3311" t="12442" r="39934" b="21777"/>
          <a:stretch/>
        </p:blipFill>
        <p:spPr>
          <a:xfrm>
            <a:off x="1071720" y="1457280"/>
            <a:ext cx="7081560" cy="532944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Les figures suivantes sont-elles symétriques par rapport à la droite (d)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13311" t="9336" r="31948" b="9336"/>
          <a:stretch/>
        </p:blipFill>
        <p:spPr>
          <a:xfrm>
            <a:off x="1036800" y="1209600"/>
            <a:ext cx="7107120" cy="56484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16639" t="18663" r="41598" b="27998"/>
          <a:stretch/>
        </p:blipFill>
        <p:spPr>
          <a:xfrm>
            <a:off x="1389240" y="2000160"/>
            <a:ext cx="632592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14975" t="13065" r="34942" b="13065"/>
          <a:stretch/>
        </p:blipFill>
        <p:spPr>
          <a:xfrm>
            <a:off x="1071720" y="1301760"/>
            <a:ext cx="7043760" cy="55562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4975" t="12442" r="44926" b="21777"/>
          <a:stretch/>
        </p:blipFill>
        <p:spPr>
          <a:xfrm>
            <a:off x="1500120" y="1428840"/>
            <a:ext cx="6073920" cy="53290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4"/>
          <p:cNvSpPr/>
          <p:nvPr/>
        </p:nvSpPr>
        <p:spPr>
          <a:xfrm>
            <a:off x="179280" y="9810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19300" t="3115" r="36940" b="15556"/>
          <a:stretch/>
        </p:blipFill>
        <p:spPr>
          <a:xfrm>
            <a:off x="1747800" y="1209600"/>
            <a:ext cx="5681880" cy="5648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20964" t="7467" r="31615" b="11196"/>
          <a:stretch/>
        </p:blipFill>
        <p:spPr>
          <a:xfrm>
            <a:off x="1487520" y="1209600"/>
            <a:ext cx="6156360" cy="5648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8320" t="16802" r="44926" b="14311"/>
          <a:stretch/>
        </p:blipFill>
        <p:spPr>
          <a:xfrm>
            <a:off x="1198440" y="1428840"/>
            <a:ext cx="682956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9984" t="17417" r="26623" b="12442"/>
          <a:stretch/>
        </p:blipFill>
        <p:spPr>
          <a:xfrm>
            <a:off x="157320" y="1581120"/>
            <a:ext cx="8915400" cy="5276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3311" t="3729" r="39934" b="31728"/>
          <a:stretch/>
        </p:blipFill>
        <p:spPr>
          <a:xfrm>
            <a:off x="960480" y="1422360"/>
            <a:ext cx="7183440" cy="5303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3311" t="12442" r="39934" b="21777"/>
          <a:stretch/>
        </p:blipFill>
        <p:spPr>
          <a:xfrm>
            <a:off x="1071720" y="1457280"/>
            <a:ext cx="7081560" cy="5329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13311" t="9336" r="31948" b="9336"/>
          <a:stretch/>
        </p:blipFill>
        <p:spPr>
          <a:xfrm>
            <a:off x="1036800" y="1209600"/>
            <a:ext cx="7107120" cy="56484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5:17Z</dcterms:created>
  <dc:creator>Seguy</dc:creator>
  <dc:description/>
  <dc:language>en-US</dc:language>
  <cp:lastModifiedBy>Marionseg</cp:lastModifiedBy>
  <dcterms:modified xsi:type="dcterms:W3CDTF">2010-05-19T16:29:51Z</dcterms:modified>
  <cp:revision>24</cp:revision>
  <dc:subject/>
  <dc:title>Les figures suivantes sont-elles symétriques par rapport à la droite (d) ?</dc:title>
</cp:coreProperties>
</file>