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405B-A0CF-4425-A9B3-AE51A77952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0C0D-D454-456B-8AE9-A520AEF34C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3133-2AA5-44C7-A696-8F71DC46F7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80F6-5B1C-48FE-AA01-CDE73EF66C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CC5F-23FA-4684-A379-B1E74C400B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893A-0E68-41A2-88BD-8C380243C6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0026-EAE1-43B8-A1B0-F704F65404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AA51-4A27-452E-B335-F12D0B0E1C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2FDE-7639-435C-96AA-955EBECED9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779B-F091-4F1C-9D23-94AF4265C3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8F3B-E6D9-41FC-8810-03E3B867A1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5338-279E-4A46-9C9A-C0B0D17649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7DC7-0A97-4621-9EFC-15A7349ECF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9886-4F1D-40B5-8376-FEDC30DDDE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828C-F74A-4817-ABE3-581F87093A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885B-598F-4C72-9D7E-417C006DA9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1FA-B6E0-4447-AC15-E7EC79E7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DD3-FAA5-4C6A-9872-93782642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D43-703E-4D7B-AF3F-67DDFFB5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57B-8BF8-4F6E-AEA9-D789AC24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A5C-A4D5-4525-88DD-16923DC3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37A9-42FC-4F14-8293-A6439F4A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1CE-782A-495E-8C9A-234FB4BA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03F-D5E0-4FD9-8EE6-6190EF29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4C2-1A37-49CD-AB9E-2AB92CC0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EBBE-3886-4979-B841-FD212593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24A-68AA-4A83-987B-4D61A85A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D1B-AF0F-4A99-8B33-1E5DB525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BF07-4E5B-4480-A2C1-3BD75A66EB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IERS PAS EN CALCUL LITTÉRAL (2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– 15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6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actorisation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7160" y="388620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98989"/>
                </a:solidFill>
                <a:latin typeface="Calibri"/>
              </a:rPr>
              <a:t>Avec des nombres et des lett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actoriser si c’est possible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n repér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facteur comm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signe de l’opé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s nombres à ajouter ou à soustr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25714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Si c’est possible, on écrira uniquement </a:t>
            </a:r>
            <a:r>
              <a:rPr b="0" lang="fr-FR" sz="3000" spc="-1" strike="noStrike" u="sng">
                <a:solidFill>
                  <a:srgbClr val="000000"/>
                </a:solidFill>
                <a:uFillTx/>
                <a:latin typeface="Calibri"/>
              </a:rPr>
              <a:t>l’expression factorisée  la plus simpl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égale à celle proposé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+ 3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4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2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x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y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5</a:t>
            </a:r>
            <a:r>
              <a:rPr b="0" i="1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4:04:27Z</dcterms:created>
  <dc:creator>ms</dc:creator>
  <dc:description/>
  <dc:language>en-US</dc:language>
  <cp:lastModifiedBy>Marionseg</cp:lastModifiedBy>
  <dcterms:modified xsi:type="dcterms:W3CDTF">2010-01-17T20:24:54Z</dcterms:modified>
  <cp:revision>4</cp:revision>
  <dc:subject/>
  <dc:title>Calcul littéral (2) Série n°4</dc:title>
</cp:coreProperties>
</file>