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20BD-8843-4F80-AB1C-129320FD99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54F-B541-457E-8783-818FB74C5E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BF6D-7656-4C50-B173-FA965A1DD2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194F-B093-489D-ABE7-90C6C9B3EF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A206-916A-4793-B735-3EA6EA455F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F6A0-FAF4-4B5B-AAC2-29EB6DDB02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669B-4B0C-4D4D-98AB-7DF26BC273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A767-06B9-463A-8CB6-A01AB4DCA0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9733-9D5C-4132-8164-B818CABA10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5395-A1DD-43D0-9861-52BF273FFD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C556-80A9-4CB1-A44D-F4A2EC57BD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BC6A-9DBF-4686-8486-FCB9C832C9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6414-F2B9-40C4-9229-046EF3E000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D33-8259-44C8-A65F-34836BA2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7FB-2A15-4292-AACD-A422E8F5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8C8-FEAF-49C8-B094-F5A2BCA2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4B7-C97C-4792-A527-0BFC896B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ABBF-542D-4325-B165-0D530D51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ED4-7580-4AE0-A96C-E08B9299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B0A-6E90-42FB-A030-95451F25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69B-B354-4461-B454-6D1DE136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C0A-6D81-49F8-AC60-B6BC1000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A29-6C5C-4617-90BB-F59DE124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E90-E2A1-4953-8DA0-AC8D3EC4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9E1-31B2-44C9-B57F-0C0D4E17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76A0-5330-4737-844E-AC6447B3E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7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mbres relatifs (1)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6</a:t>
            </a:r>
            <a:br>
              <a:rPr sz="6000"/>
            </a:b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Retrouver le signe manquant de l’opération :  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3344760" y="4572000"/>
                <a:ext cx="2451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÷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898560" y="3238560"/>
                <a:ext cx="73962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898560" y="3238560"/>
                <a:ext cx="73962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br>
              <a:rPr sz="8000"/>
            </a:br>
            <a:br>
              <a:rPr sz="6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3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9"/>
              <p:cNvSpPr txBox="1"/>
              <p:nvPr/>
            </p:nvSpPr>
            <p:spPr>
              <a:xfrm>
                <a:off x="898560" y="3238560"/>
                <a:ext cx="73962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6"/>
              <p:cNvSpPr txBox="1"/>
              <p:nvPr/>
            </p:nvSpPr>
            <p:spPr>
              <a:xfrm>
                <a:off x="898560" y="3238560"/>
                <a:ext cx="73962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9"/>
              <p:cNvSpPr txBox="1"/>
              <p:nvPr/>
            </p:nvSpPr>
            <p:spPr>
              <a:xfrm>
                <a:off x="719280" y="3238560"/>
                <a:ext cx="79707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9"/>
              <p:cNvSpPr txBox="1"/>
              <p:nvPr/>
            </p:nvSpPr>
            <p:spPr>
              <a:xfrm>
                <a:off x="719280" y="3238560"/>
                <a:ext cx="8021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898560" y="3238560"/>
                <a:ext cx="73962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898560" y="3238560"/>
                <a:ext cx="73962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9"/>
              <p:cNvSpPr txBox="1"/>
              <p:nvPr/>
            </p:nvSpPr>
            <p:spPr>
              <a:xfrm>
                <a:off x="898560" y="3238560"/>
                <a:ext cx="71611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5"/>
              <p:cNvSpPr txBox="1"/>
              <p:nvPr/>
            </p:nvSpPr>
            <p:spPr>
              <a:xfrm>
                <a:off x="719280" y="3238560"/>
                <a:ext cx="8048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4:03:32Z</dcterms:created>
  <dc:creator>ms</dc:creator>
  <dc:description/>
  <dc:language>en-US</dc:language>
  <cp:lastModifiedBy>Marionseg</cp:lastModifiedBy>
  <dcterms:modified xsi:type="dcterms:W3CDTF">2010-01-22T16:43:22Z</dcterms:modified>
  <cp:revision>10</cp:revision>
  <dc:subject/>
  <dc:title>Nombres relatifs (1) Série n°6  Retrouver le signe manquant :      15 secondes par calcul</dc:title>
</cp:coreProperties>
</file>