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A472-CF98-4147-9C7C-C6E31BD639F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2A5F-F729-4038-A715-87E731CD470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3330-9A29-4139-98C6-24D38273492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A5FF-940B-4EC5-9B2A-8D78CCDC3C8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D336-FA24-4C4F-8A02-A2FA518323B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A431-FD9F-4AF3-9C4F-40C28B7E10D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8D28-2A3E-4055-96D6-256980D7C62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F180-B4DC-4219-87D7-58F87C8B72F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9C33-593B-46AF-A027-A65D965D530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408F-89F1-432B-BD41-3F1BDC41FC2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05BA-CF16-4D2A-85B2-B2F6D0BCDB2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D189-0CA5-4534-9A18-C2F3C7E3443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42D4-B7D7-4401-ADA2-8E60C6128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7BCD-ED87-42B8-9937-8132CA64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215D-D134-437B-BA24-15C412371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18EC-A198-4DC3-82F1-495945153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9649-A605-4C89-890C-8BA88A074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81B5-92C0-4D11-A0D2-F2C75A98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CA1E-56E9-4B38-8C18-21D51D67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73FB-0129-4EBA-8428-F35D02F9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3121-1CCD-4580-BB71-A5EDE22E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CB4C4-961C-4D97-9F4D-84F39C43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A134-5535-45A3-BC69-44C7D272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F6B5-35D7-4A7A-A71E-FEC8DFD6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552F3-F8B8-43EE-89C3-C107632C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5C00-1769-4E39-8BD9-4B28B6CF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ECD8-9428-481C-B5DB-4D81047F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E124-D4FD-4F26-8F85-645D3EF84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A961-3353-4FD4-BFE5-9317F50A7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0CD7-0348-4CD3-9379-9836AE968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5B43-DC24-4C17-B935-ECA281EE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C895-F0C2-402D-879E-DA00BDDA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E439-17BE-460C-A2F9-CD80D87C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B1D5-57F1-4C81-A090-89774265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D088-53E1-4332-939C-B860D1F3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61CD-ADFA-4468-90FF-75F19729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3505320" y="188640"/>
            <a:ext cx="2133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7589-F6BC-483B-9910-1F52F1705C7D}" type="slidenum"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16"/>
          <p:cNvSpPr/>
          <p:nvPr/>
        </p:nvSpPr>
        <p:spPr>
          <a:xfrm>
            <a:off x="4557600" y="1052640"/>
            <a:ext cx="28800" cy="580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0"/>
          <p:cNvSpPr/>
          <p:nvPr/>
        </p:nvSpPr>
        <p:spPr>
          <a:xfrm>
            <a:off x="1332000" y="2333520"/>
            <a:ext cx="2016000" cy="21592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5796000" y="2335320"/>
            <a:ext cx="2016000" cy="2158920"/>
          </a:xfrm>
          <a:prstGeom prst="rect">
            <a:avLst/>
          </a:prstGeom>
          <a:noFill/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BF0E-D383-4F12-93D0-4EF7376BD9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ULTIPLICATION DE FRACTIONS</a:t>
            </a:r>
            <a:br>
              <a:rPr sz="4400"/>
            </a:b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ÉRIES N°2 ET N°2B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2"/>
              <p:cNvSpPr txBox="1"/>
              <p:nvPr/>
            </p:nvSpPr>
            <p:spPr>
              <a:xfrm>
                <a:off x="1608120" y="2841480"/>
                <a:ext cx="14349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3"/>
              <p:cNvSpPr txBox="1"/>
              <p:nvPr/>
            </p:nvSpPr>
            <p:spPr>
              <a:xfrm>
                <a:off x="6072120" y="2841480"/>
                <a:ext cx="14479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2"/>
              <p:cNvSpPr txBox="1"/>
              <p:nvPr/>
            </p:nvSpPr>
            <p:spPr>
              <a:xfrm>
                <a:off x="1587600" y="2841480"/>
                <a:ext cx="1473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3"/>
              <p:cNvSpPr txBox="1"/>
              <p:nvPr/>
            </p:nvSpPr>
            <p:spPr>
              <a:xfrm>
                <a:off x="6054840" y="2841480"/>
                <a:ext cx="14857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2"/>
              <p:cNvSpPr txBox="1"/>
              <p:nvPr/>
            </p:nvSpPr>
            <p:spPr>
              <a:xfrm>
                <a:off x="1571760" y="2841480"/>
                <a:ext cx="15112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3"/>
              <p:cNvSpPr txBox="1"/>
              <p:nvPr/>
            </p:nvSpPr>
            <p:spPr>
              <a:xfrm>
                <a:off x="6083280" y="2841480"/>
                <a:ext cx="14349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24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Arial"/>
              </a:rPr>
              <a:t>Effectuer le calcul proposé et donner le résultat sous la forme d’une fraction aussi simple que possible ou éventuellement sous la forme d’un nombre enti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Espace réservé du numéro de diapositive 6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4"/>
              <p:cNvSpPr txBox="1"/>
              <p:nvPr/>
            </p:nvSpPr>
            <p:spPr>
              <a:xfrm>
                <a:off x="1844640" y="2836800"/>
                <a:ext cx="9777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6"/>
              <p:cNvSpPr txBox="1"/>
              <p:nvPr/>
            </p:nvSpPr>
            <p:spPr>
              <a:xfrm>
                <a:off x="6303960" y="2838600"/>
                <a:ext cx="98892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1739880" y="2841480"/>
                <a:ext cx="11685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5"/>
              <p:cNvSpPr txBox="1"/>
              <p:nvPr/>
            </p:nvSpPr>
            <p:spPr>
              <a:xfrm>
                <a:off x="6081840" y="2841480"/>
                <a:ext cx="14349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2"/>
              <p:cNvSpPr txBox="1"/>
              <p:nvPr/>
            </p:nvSpPr>
            <p:spPr>
              <a:xfrm>
                <a:off x="1606680" y="2841480"/>
                <a:ext cx="14349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3"/>
              <p:cNvSpPr txBox="1"/>
              <p:nvPr/>
            </p:nvSpPr>
            <p:spPr>
              <a:xfrm>
                <a:off x="6300720" y="2841480"/>
                <a:ext cx="978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2"/>
              <p:cNvSpPr txBox="1"/>
              <p:nvPr/>
            </p:nvSpPr>
            <p:spPr>
              <a:xfrm>
                <a:off x="1724040" y="2841480"/>
                <a:ext cx="12193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3"/>
              <p:cNvSpPr txBox="1"/>
              <p:nvPr/>
            </p:nvSpPr>
            <p:spPr>
              <a:xfrm>
                <a:off x="6180120" y="2841480"/>
                <a:ext cx="12319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2"/>
              <p:cNvSpPr txBox="1"/>
              <p:nvPr/>
            </p:nvSpPr>
            <p:spPr>
              <a:xfrm>
                <a:off x="1595520" y="2841480"/>
                <a:ext cx="1473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6059520" y="2841480"/>
                <a:ext cx="1473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2"/>
              <p:cNvSpPr txBox="1"/>
              <p:nvPr/>
            </p:nvSpPr>
            <p:spPr>
              <a:xfrm>
                <a:off x="1508040" y="2841480"/>
                <a:ext cx="1638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3"/>
              <p:cNvSpPr txBox="1"/>
              <p:nvPr/>
            </p:nvSpPr>
            <p:spPr>
              <a:xfrm>
                <a:off x="5973840" y="2841480"/>
                <a:ext cx="1638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3"/>
              <p:cNvSpPr txBox="1"/>
              <p:nvPr/>
            </p:nvSpPr>
            <p:spPr>
              <a:xfrm>
                <a:off x="6064200" y="2841480"/>
                <a:ext cx="14605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4"/>
              <p:cNvSpPr txBox="1"/>
              <p:nvPr/>
            </p:nvSpPr>
            <p:spPr>
              <a:xfrm>
                <a:off x="1628640" y="2841480"/>
                <a:ext cx="14097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8:18:55Z</dcterms:created>
  <dc:creator>.</dc:creator>
  <dc:description/>
  <dc:language>en-US</dc:language>
  <cp:lastModifiedBy>Marionseg</cp:lastModifiedBy>
  <dcterms:modified xsi:type="dcterms:W3CDTF">2010-01-17T20:05:03Z</dcterms:modified>
  <cp:revision>18</cp:revision>
  <dc:subject/>
  <dc:title>Diapositive 1</dc:title>
</cp:coreProperties>
</file>