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7500-B7F9-4C2B-98DF-600B4314ED7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54D6-BE79-49C8-AC45-D1FB49F7443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AAEE-4263-42CF-8096-CAFD11A7A02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DFC2-4A45-438A-A61D-4108EE7580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7558-34D3-4EB5-9EBC-2AB350B351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2ED8-F856-4B15-9366-20D2358B6FD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06E9-C81A-45E1-8519-A366686321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5DE8-85FD-4C89-8548-B153420F96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C14B-98D4-4C6F-AA42-9D2B9BD9E70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509E-0166-4B77-82E0-A2E3A3DCF4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AD54-9ED4-465D-BE07-0F8CF96345A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5498-F189-4C06-8561-FBB7A50CEC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8930-A5B8-4B89-92EB-E28ABEFB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CCF-8A1E-476F-ADC9-C0650BCF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0E76-29DD-42A6-AC2D-8391B980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A587-950C-4A2F-8D50-AC809C1D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78C6-2AA4-4F08-915F-8FCE2E62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A829-C9AE-4696-901B-5BC26C47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9B61-1FDB-4E65-99CA-8AF55C82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943F-2EEC-4EC3-94F7-C77D72A5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9555-141D-47A3-B5D9-CFF4CB4F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BB39-E7B0-4016-9E3D-744D0C3C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DAC3-95F4-410B-9BD5-CABB9AFB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309A-8FF3-4037-ACE3-50EBF84C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5E97-00EA-4A7F-B9C4-8319CF673D9D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Calibri"/>
              </a:rPr>
              <a:t>CHANGEMENTS D’UNITÉS</a:t>
            </a: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SÉRIE N°1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Espace réservé du contenu 7"/>
              <p:cNvSpPr txBox="1"/>
              <p:nvPr/>
            </p:nvSpPr>
            <p:spPr>
              <a:xfrm>
                <a:off x="1071720" y="2878200"/>
                <a:ext cx="70182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56 mm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4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Espace réservé du contenu 7"/>
              <p:cNvSpPr txBox="1"/>
              <p:nvPr/>
            </p:nvSpPr>
            <p:spPr>
              <a:xfrm>
                <a:off x="1000080" y="2900520"/>
                <a:ext cx="7021440" cy="12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0 hm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k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7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" name="Espace réservé du contenu 7"/>
              <p:cNvSpPr txBox="1"/>
              <p:nvPr/>
            </p:nvSpPr>
            <p:spPr>
              <a:xfrm>
                <a:off x="642960" y="2878200"/>
                <a:ext cx="79153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,063 m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m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0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8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0" name="ZoneTexte 4"/>
          <p:cNvSpPr/>
          <p:nvPr/>
        </p:nvSpPr>
        <p:spPr>
          <a:xfrm>
            <a:off x="0" y="2554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mpléter par le nomb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i manqu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Espace réservé du contenu 7"/>
              <p:cNvSpPr txBox="1"/>
              <p:nvPr/>
            </p:nvSpPr>
            <p:spPr>
              <a:xfrm>
                <a:off x="1500120" y="2901960"/>
                <a:ext cx="6201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" name="Espace réservé du contenu 7"/>
              <p:cNvSpPr txBox="1"/>
              <p:nvPr/>
            </p:nvSpPr>
            <p:spPr>
              <a:xfrm>
                <a:off x="1357200" y="2908440"/>
                <a:ext cx="65232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m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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6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7" name="Espace réservé du contenu 7"/>
              <p:cNvSpPr txBox="1"/>
              <p:nvPr/>
            </p:nvSpPr>
            <p:spPr>
              <a:xfrm>
                <a:off x="785880" y="2898720"/>
                <a:ext cx="75088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am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9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" name="Espace réservé du contenu 7"/>
              <p:cNvSpPr txBox="1"/>
              <p:nvPr/>
            </p:nvSpPr>
            <p:spPr>
              <a:xfrm>
                <a:off x="852480" y="2890800"/>
                <a:ext cx="7505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,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m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2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" name="Espace réservé du contenu 7"/>
              <p:cNvSpPr txBox="1"/>
              <p:nvPr/>
            </p:nvSpPr>
            <p:spPr>
              <a:xfrm>
                <a:off x="1214280" y="2894040"/>
                <a:ext cx="66135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9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m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5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Espace réservé du contenu 7"/>
              <p:cNvSpPr txBox="1"/>
              <p:nvPr/>
            </p:nvSpPr>
            <p:spPr>
              <a:xfrm>
                <a:off x="928800" y="2898720"/>
                <a:ext cx="71802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k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8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9" name="Espace réservé du contenu 7"/>
              <p:cNvSpPr txBox="1"/>
              <p:nvPr/>
            </p:nvSpPr>
            <p:spPr>
              <a:xfrm>
                <a:off x="1357200" y="2894040"/>
                <a:ext cx="6362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,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1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6:13:30Z</dcterms:created>
  <dc:creator>Claudine Bertrand-Gorge</dc:creator>
  <dc:description/>
  <dc:language>en-US</dc:language>
  <cp:lastModifiedBy>Marionseg</cp:lastModifiedBy>
  <dcterms:modified xsi:type="dcterms:W3CDTF">2010-01-17T18:01:45Z</dcterms:modified>
  <cp:revision>40</cp:revision>
  <dc:subject/>
  <dc:title>Diapositive 1</dc:title>
</cp:coreProperties>
</file>