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7498-C574-4B62-8B29-A28FD3103D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8CED-4654-4A95-9B02-EAB937CB86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0AAE-54B4-4320-833E-0DF44B8E16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359-4FE6-4202-9A83-909A3C72BE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4C5-B041-4159-B3D2-E52439CDCC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8AD8-8A40-4F31-9876-8645E7AFAD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E579-E45B-439D-A43E-F25353D251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627C-7FD7-4FEC-BF10-CCA1A178A2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A3BF-B7D9-4EB1-9196-652ABB21A8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59F-B2F3-47A7-8DED-0C4E5D63A0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F561-131C-4538-ACAA-98A3D8A1D9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4CAB-B549-42A8-879F-34D47E09D8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8A37-AA85-47E9-B278-A9DB8D018A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4ED6-2739-4AD7-AE97-534F0EED08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CAD-27BB-4B88-B883-30B65DDC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EB3-66E0-4110-AA80-DF8739A8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486-B867-45DA-A41D-DBD93707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73B-643B-43A8-9AF9-AA9A3E44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001-FB96-49BC-8370-1DE6251B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0F5F-0CC6-434C-A88F-C2A2817B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B70-57D8-47B3-B6DD-1DF2C97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B579-8A3F-4C49-9BF0-9AB468A1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346-FBB0-4A1D-9842-B87CFDE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3C3-0B8A-49F5-9E11-53B98F77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6A4-56EC-4595-9917-AA456044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962-A26C-4147-90AC-452C737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F3CC-88A1-45D2-A9CF-BCA42C38240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4C4-130E-4E3D-B179-E7AE803E2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NSEMBLES DE NOMBRES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3286080" y="2197080"/>
                <a:ext cx="228600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3643200" y="1141560"/>
                <a:ext cx="1571760" cy="39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3143160" y="1916280"/>
                <a:ext cx="2571840" cy="23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Placer chacun des nombres proposés dans </a:t>
            </a:r>
            <a:r>
              <a:rPr b="1" lang="fr-FR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a</a:t>
            </a: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« case »</a:t>
            </a:r>
            <a:br>
              <a:rPr sz="4400"/>
            </a:br>
            <a:r>
              <a:rPr b="1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 qui convi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2"/>
              <p:cNvSpPr txBox="1"/>
              <p:nvPr/>
            </p:nvSpPr>
            <p:spPr>
              <a:xfrm>
                <a:off x="3643200" y="1141560"/>
                <a:ext cx="157176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2"/>
              <p:cNvSpPr txBox="1"/>
              <p:nvPr/>
            </p:nvSpPr>
            <p:spPr>
              <a:xfrm>
                <a:off x="3643200" y="1141560"/>
                <a:ext cx="157176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3643200" y="1141560"/>
                <a:ext cx="157176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3357720" y="1141560"/>
                <a:ext cx="214308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3429000" y="2268360"/>
                <a:ext cx="200016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14800" y="2127240"/>
                <a:ext cx="242892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3429000" y="2197080"/>
                <a:ext cx="200016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9T16:48:31Z</dcterms:created>
  <dc:creator>Claudine Bertrand-Gorge</dc:creator>
  <dc:description/>
  <dc:language>en-US</dc:language>
  <cp:lastModifiedBy>Marionseg</cp:lastModifiedBy>
  <dcterms:modified xsi:type="dcterms:W3CDTF">2010-01-22T15:47:20Z</dcterms:modified>
  <cp:revision>13</cp:revision>
  <dc:subject/>
  <dc:title>Placer chacun des nombres proposés dans la case qui convient</dc:title>
</cp:coreProperties>
</file>