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4E54-10FA-4745-AB06-B4B74C6648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B0D5-45F7-4DC4-8427-1E2075A9FA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B534-D5FF-4E45-AFFB-A402FC4AC1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167A-E6F8-4791-9F5F-796A6151EA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E4BC-0E23-4066-B916-6C0B9B5278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CDA2-BACD-456A-8A7C-FC880B7848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1BC5-3A45-44EA-8031-3991214EB5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69A2-1C73-4CB9-B027-8B401BCABF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9B27-B489-4F4D-A8C0-5E460E182C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D124-3E1D-4044-B6B4-730A1FE09A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E75E-217B-4EF4-BB9F-0EA6B3AD53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2AC0-1DFD-444A-AD0D-A9929E00DB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B484-308C-4C79-B30C-A841A3D2C6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513E-0413-4E6A-9AFE-FF8B2261E6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FDD6-DF20-4921-92EA-30BCEB90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5406-0A7E-4B60-8AA1-ABE0CC63A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CE3-5359-4095-96C4-4440CE4C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F820-02A6-4B4A-8BA9-02355242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089E-E60F-4C4C-A495-DACB0394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5DB8-CE5A-495F-A28D-550D71F6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7DA8-C4D2-47EE-87DC-B60DF236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B428-06AE-4BF1-86F7-26CF2C9A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C204-D649-48A5-B65A-B257314D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0315-7D7B-427E-9767-28781301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D606-3D73-4FBC-A254-1EEB62A2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F0A-9599-4C64-8B5D-6622597C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D864-D46A-43B1-8A27-FD98F357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6AD5-03F9-4B57-A44B-1E54E4CB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7C24-CD47-4B61-947D-899167F0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D1B4-FE4F-4BF6-BAA4-D644E8D1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2B52-A264-4989-86ED-2C01EF25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B23-2B9C-436D-8914-2B00CA66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B50-CCE0-441D-8F81-AD426C2A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D3B-E926-4F9C-AA95-FD01F2BD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AD5D-A058-4AD8-81F9-951E0B4F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84B7-482A-4E93-B11C-596AB52C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2BE6-3BF7-4B27-B6C9-27DA609F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102-D944-4ECC-8CC1-1F3E184E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B75E-1760-45E7-B90A-68DCF570D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D97F-DE2C-40D7-925B-82F48566B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ivisibilité(1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32 et 23 sont divisibles par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20 et 32 sont divisibles par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42 et 54 sont divisibles par 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476360" y="22503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Répondre p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9900"/>
                </a:solidFill>
                <a:latin typeface="Arial"/>
              </a:rPr>
              <a:t>VRAI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6000" spc="-1" strike="noStrike">
                <a:solidFill>
                  <a:srgbClr val="cc0000"/>
                </a:solidFill>
                <a:latin typeface="Arial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52 et 38 sont divisibles par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65 et 30 sont divisibles par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35 et 80 sont divisibles par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63 et 27 sont divisibles par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56 et 21 sont divisibles par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78 et 87 sont divisibles par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85 et 70 sont divisibles par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0:14:34Z</dcterms:created>
  <dc:creator>ms</dc:creator>
  <dc:description/>
  <dc:language>en-US</dc:language>
  <cp:lastModifiedBy>Marionseg</cp:lastModifiedBy>
  <dcterms:modified xsi:type="dcterms:W3CDTF">2010-01-22T14:39:08Z</dcterms:modified>
  <cp:revision>7</cp:revision>
  <dc:subject/>
  <dc:title>Diapositive 1</dc:title>
</cp:coreProperties>
</file>