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45E4-CAA7-4D9A-849B-FDF3B38030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EC4E-E94C-4BFF-A757-F691148C58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8AAF-9A97-4E22-8F86-985F946DE7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371F-1797-4A7E-9060-A806689404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7B4F-C5C8-4DCC-BEA4-C2EFE6C113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1583-A659-4B8F-8449-E14BE4C110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5F07-80D8-4391-8A68-01B107E086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EC6D-1002-4221-BA16-DC97DADC8E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1897-C428-4364-8134-4ACAC7BB2C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679C-D9F2-453B-AF16-B1E4550C2B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D78A-069F-4180-B5A7-8AD207E15C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2BBA-DE86-4E63-8E4F-212D1DDB88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65AC-E672-4D8E-BF6B-E70CE039EC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3B4F-EAB5-4895-9442-3E5FB50BDB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BDC-6F54-414A-B4EF-6DBB52BB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4496-91A9-492A-9862-F445262D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B373-720F-4D79-96BD-B720FF29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5595-B382-4615-BDB8-530C609B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8DDF-4F8B-4FBB-894F-A85D51E0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B2CB-65A4-4BA1-831E-51E1A171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880-CCD0-45C2-AB92-44F5013D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B1E-2CF0-4341-B626-C7F4E26C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D60-DC7F-4D03-9CEB-3DCBE0DC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325-3689-4104-895B-534E27C5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937-7F85-4374-BD2A-7F69DA4A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3E3-5BC1-45AA-A308-6A7577C3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C4DA-E452-49D0-B897-66EDB073F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PUISSANCES(3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2540160" y="3000240"/>
                <a:ext cx="3157200" cy="13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1600200" y="3043080"/>
                <a:ext cx="5757840" cy="12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2"/>
              <p:cNvSpPr txBox="1"/>
              <p:nvPr/>
            </p:nvSpPr>
            <p:spPr>
              <a:xfrm>
                <a:off x="1914480" y="3000240"/>
                <a:ext cx="5014800" cy="13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476360" y="620640"/>
            <a:ext cx="625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ZoneTexte 2"/>
          <p:cNvSpPr/>
          <p:nvPr/>
        </p:nvSpPr>
        <p:spPr>
          <a:xfrm>
            <a:off x="3368520" y="2214720"/>
            <a:ext cx="21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Bouton d'action : Retour 4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18014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Écrire avec une seule puissance d’un enti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2643120" y="2940120"/>
                <a:ext cx="315936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2"/>
              <p:cNvSpPr txBox="1"/>
              <p:nvPr/>
            </p:nvSpPr>
            <p:spPr>
              <a:xfrm>
                <a:off x="2503440" y="2897280"/>
                <a:ext cx="343872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2689200" y="2897280"/>
                <a:ext cx="306540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2"/>
              <p:cNvSpPr txBox="1"/>
              <p:nvPr/>
            </p:nvSpPr>
            <p:spPr>
              <a:xfrm>
                <a:off x="2271600" y="2897280"/>
                <a:ext cx="390204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2317680" y="2897280"/>
                <a:ext cx="380844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2214720" y="3000240"/>
                <a:ext cx="3808080" cy="13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2214720" y="3000240"/>
                <a:ext cx="3808080" cy="13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7:13:36Z</dcterms:modified>
  <cp:revision>16</cp:revision>
  <dc:subject/>
  <dc:title>PowerPoint Presentation</dc:title>
</cp:coreProperties>
</file>