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9E0F-41C6-497B-A151-441368CA04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BF3C-E8B1-470C-AE0F-F6FFD11843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1B7B-F821-4F89-A29D-BE32169215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0716-10EB-475E-946E-7501925EE5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A985-C9A9-4A51-ABD0-C2FE2FFE22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CE11-16F6-4125-AF9D-433F746B5E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528C-88EC-4BA3-8734-5E9FB849C9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1D92-0769-42D9-AA89-3E4A7926C5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819F-1D57-4092-9266-CE42E5FF75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D933-A8B5-4CC3-889D-18B4671230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8A6F-8931-4B73-990A-AB27401F21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0A54-525C-4966-A3AE-69BAB79CC9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03C3-06E0-4482-B391-EAE3B64E99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F8A1-4408-4DF7-BE1A-7A2039884B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214F-1E96-4B15-B0E1-8AA0AFCC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0F31-680F-43F1-9BDB-86752DC8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9BB0-3C55-430E-B85C-820D3EB7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5548-FA1F-4F9F-9DA5-1EF250F3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488-8914-4F82-B260-FDDB6380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931-877C-49D6-85F7-6A5DBEB0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EE1-D32E-4122-BA11-74F4B28A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7B3-280D-42A0-9FF3-5AD86232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B4CF-99BA-47CB-9761-00A527DE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F316-2A17-46EC-9414-D150B8F3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87AB-DEB0-4F4B-A526-19D1E9A0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A04-1C7C-42AA-8AE2-1E3FB853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35BA-AF57-4F26-B9D5-23637639765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E8FF-95FD-4496-A4A8-80E6137A24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NOTION DE FONCTION 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SÉRIE 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31640" y="1439640"/>
            <a:ext cx="64292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r>
              <a:rPr b="0" i="1" lang="fr-FR" sz="44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m </a:t>
            </a: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est la fonction qui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à un nombre,</a:t>
            </a:r>
            <a:r>
              <a:rPr b="1" i="1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associe</a:t>
            </a:r>
            <a:r>
              <a:rPr b="1" i="1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son opposé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0" lang="fr-FR" sz="4000" spc="-1" strike="noStrike">
                <a:solidFill>
                  <a:srgbClr val="ff0000"/>
                </a:solidFill>
                <a:latin typeface="Cambria Math"/>
                <a:ea typeface="Cambria Math"/>
              </a:rPr>
              <a:t>↦</a:t>
            </a:r>
            <a:r>
              <a:rPr b="0" i="1" lang="fr-FR" sz="4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</a:t>
            </a:r>
            <a:r>
              <a:rPr b="0" i="1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(x)</a:t>
            </a:r>
            <a:r>
              <a:rPr b="0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14240" y="1143000"/>
            <a:ext cx="742968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</a:t>
            </a:r>
            <a:r>
              <a:rPr b="0" lang="fr-FR" sz="44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 </a:t>
            </a: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est la fonction qui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à un </a:t>
            </a:r>
            <a:r>
              <a:rPr b="0" lang="fr-FR" sz="4000" spc="-1" strike="noStrike">
                <a:solidFill>
                  <a:srgbClr val="0070c0"/>
                </a:solidFill>
                <a:latin typeface="Arial"/>
                <a:ea typeface="Arial"/>
              </a:rPr>
              <a:t>nombre</a:t>
            </a: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,</a:t>
            </a:r>
            <a:r>
              <a:rPr b="1" i="1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associ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le carré de la somm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      </a:t>
            </a: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de ce nombre et de    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0" lang="fr-FR" sz="4000" spc="-1" strike="noStrike">
                <a:solidFill>
                  <a:srgbClr val="ff0000"/>
                </a:solidFill>
                <a:latin typeface="Cambria Math"/>
                <a:ea typeface="Cambria Math"/>
              </a:rPr>
              <a:t>↦</a:t>
            </a:r>
            <a:r>
              <a:rPr b="0" i="1" lang="fr-FR" sz="4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</a:t>
            </a:r>
            <a:r>
              <a:rPr b="0" i="1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(x)</a:t>
            </a:r>
            <a:r>
              <a:rPr b="0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11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6143760" y="3357720"/>
            <a:ext cx="552240" cy="7045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0" y="11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79280" y="1440000"/>
            <a:ext cx="73580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p</a:t>
            </a:r>
            <a:r>
              <a:rPr b="0" i="1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 </a:t>
            </a: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est la fonction qui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à un nombre, associ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le quotient de son cube par 9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0" lang="fr-FR" sz="4000" spc="-1" strike="noStrike">
                <a:solidFill>
                  <a:srgbClr val="ff0000"/>
                </a:solidFill>
                <a:latin typeface="Cambria Math"/>
                <a:ea typeface="Cambria Math"/>
              </a:rPr>
              <a:t>↦</a:t>
            </a:r>
            <a:r>
              <a:rPr b="0" i="1" lang="fr-FR" sz="4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</a:t>
            </a:r>
            <a:r>
              <a:rPr b="0" i="1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(x)</a:t>
            </a:r>
            <a:r>
              <a:rPr b="0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7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57224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5bd3"/>
                </a:solidFill>
                <a:latin typeface="Arial"/>
                <a:ea typeface="Arial"/>
              </a:rPr>
              <a:t>Ecrire l’image </a:t>
            </a:r>
            <a:br>
              <a:rPr sz="6000"/>
            </a:br>
            <a:r>
              <a:rPr b="0" lang="fr-FR" sz="6000" spc="-1" strike="noStrike">
                <a:solidFill>
                  <a:srgbClr val="005bd3"/>
                </a:solidFill>
                <a:latin typeface="Arial"/>
                <a:ea typeface="Arial"/>
              </a:rPr>
              <a:t>d’un nombre </a:t>
            </a:r>
            <a:r>
              <a:rPr b="0" i="1" lang="fr-FR" sz="66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x</a:t>
            </a:r>
            <a:r>
              <a:rPr b="0" i="1" lang="fr-FR" sz="60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r>
              <a:rPr b="0" lang="fr-FR" sz="6000" spc="-1" strike="noStrike">
                <a:solidFill>
                  <a:srgbClr val="005bd3"/>
                </a:solidFill>
                <a:latin typeface="Arial"/>
                <a:ea typeface="Arial"/>
              </a:rPr>
              <a:t>par</a:t>
            </a:r>
            <a:r>
              <a:rPr b="0" i="1" lang="fr-FR" sz="60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r>
              <a:rPr b="0" lang="fr-FR" sz="6000" spc="-1" strike="noStrike">
                <a:solidFill>
                  <a:srgbClr val="005bd3"/>
                </a:solidFill>
                <a:latin typeface="Arial"/>
                <a:ea typeface="Arial"/>
              </a:rPr>
              <a:t>la fonction défini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19280" y="1440000"/>
            <a:ext cx="585792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Calibri"/>
              </a:rPr>
              <a:t> </a:t>
            </a:r>
            <a:r>
              <a:rPr b="0" i="1" lang="fr-FR" sz="44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f </a:t>
            </a: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est la fonction qui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à un nombre,</a:t>
            </a:r>
            <a:r>
              <a:rPr b="1" i="1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associe son tripl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0" lang="fr-FR" sz="4000" spc="-1" strike="noStrike">
                <a:solidFill>
                  <a:srgbClr val="ff0000"/>
                </a:solidFill>
                <a:latin typeface="Cambria Math"/>
                <a:ea typeface="Cambria Math"/>
              </a:rPr>
              <a:t>↦</a:t>
            </a:r>
            <a:r>
              <a:rPr b="0" i="1" lang="fr-FR" sz="4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</a:t>
            </a:r>
            <a:r>
              <a:rPr b="0" i="1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(x)</a:t>
            </a:r>
            <a:r>
              <a:rPr b="0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-360" y="1440000"/>
            <a:ext cx="89298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r>
              <a:rPr b="0" i="1" lang="fr-FR" sz="44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g</a:t>
            </a:r>
            <a:r>
              <a:rPr b="0" i="1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 </a:t>
            </a: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est la fonction qui, associ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la somme de son double et de 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à un nombr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0" lang="fr-FR" sz="4000" spc="-1" strike="noStrike">
                <a:solidFill>
                  <a:srgbClr val="ff0000"/>
                </a:solidFill>
                <a:latin typeface="Cambria Math"/>
                <a:ea typeface="Cambria Math"/>
              </a:rPr>
              <a:t>↦</a:t>
            </a:r>
            <a:r>
              <a:rPr b="0" i="1" lang="fr-FR" sz="4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</a:t>
            </a:r>
            <a:r>
              <a:rPr b="0" i="1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(x)</a:t>
            </a:r>
            <a:r>
              <a:rPr b="0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19280" y="1440000"/>
            <a:ext cx="58579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Calibri"/>
              </a:rPr>
              <a:t> </a:t>
            </a:r>
            <a:r>
              <a:rPr b="0" i="1" lang="fr-FR" sz="44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h </a:t>
            </a: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est la fonction qui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à un nombre,</a:t>
            </a:r>
            <a:r>
              <a:rPr b="1" i="1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associe son tie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0" lang="fr-FR" sz="4000" spc="-1" strike="noStrike">
                <a:solidFill>
                  <a:srgbClr val="ff0000"/>
                </a:solidFill>
                <a:latin typeface="Cambria Math"/>
                <a:ea typeface="Cambria Math"/>
              </a:rPr>
              <a:t>↦</a:t>
            </a:r>
            <a:r>
              <a:rPr b="0" i="1" lang="fr-FR" sz="4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</a:t>
            </a:r>
            <a:r>
              <a:rPr b="0" i="1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(x)</a:t>
            </a:r>
            <a:r>
              <a:rPr b="0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18920" y="1440000"/>
            <a:ext cx="60721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r>
              <a:rPr b="0" i="1" lang="fr-FR" sz="44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i </a:t>
            </a: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est la fonction qui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à un nombre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associe son carré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0" lang="fr-FR" sz="4000" spc="-1" strike="noStrike">
                <a:solidFill>
                  <a:srgbClr val="ff0000"/>
                </a:solidFill>
                <a:latin typeface="Cambria Math"/>
                <a:ea typeface="Cambria Math"/>
              </a:rPr>
              <a:t>↦</a:t>
            </a:r>
            <a:r>
              <a:rPr b="0" i="1" lang="fr-FR" sz="4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</a:t>
            </a:r>
            <a:r>
              <a:rPr b="0" i="1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(x)</a:t>
            </a:r>
            <a:r>
              <a:rPr b="0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1680" y="1439640"/>
            <a:ext cx="7858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 </a:t>
            </a:r>
            <a:r>
              <a:rPr b="0" i="1" lang="fr-FR" sz="44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j</a:t>
            </a:r>
            <a:r>
              <a:rPr b="0" i="1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 </a:t>
            </a: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est la fonction qui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à un nombre,</a:t>
            </a:r>
            <a:r>
              <a:rPr b="1" i="1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associe le double de son invers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0" lang="fr-FR" sz="4000" spc="-1" strike="noStrike">
                <a:solidFill>
                  <a:srgbClr val="ff0000"/>
                </a:solidFill>
                <a:latin typeface="Cambria Math"/>
                <a:ea typeface="Cambria Math"/>
              </a:rPr>
              <a:t>↦</a:t>
            </a:r>
            <a:r>
              <a:rPr b="0" i="1" lang="fr-FR" sz="4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</a:t>
            </a:r>
            <a:r>
              <a:rPr b="0" i="1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j(x)</a:t>
            </a:r>
            <a:r>
              <a:rPr b="0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999720"/>
            <a:ext cx="91440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r>
              <a:rPr b="0" i="1" lang="fr-FR" sz="44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k</a:t>
            </a:r>
            <a:r>
              <a:rPr b="0" i="1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 </a:t>
            </a: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est la fonction qui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à un nombre,</a:t>
            </a:r>
            <a:r>
              <a:rPr b="1" i="1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associ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la somme des trois-quar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de ce nombre et de – 5</a:t>
            </a:r>
            <a:r>
              <a:rPr b="0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0" lang="fr-FR" sz="4000" spc="-1" strike="noStrike">
                <a:solidFill>
                  <a:srgbClr val="ff0000"/>
                </a:solidFill>
                <a:latin typeface="Cambria Math"/>
                <a:ea typeface="Cambria Math"/>
              </a:rPr>
              <a:t>↦</a:t>
            </a:r>
            <a:r>
              <a:rPr b="0" i="1" lang="fr-FR" sz="4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</a:t>
            </a:r>
            <a:r>
              <a:rPr b="0" i="1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(x)</a:t>
            </a:r>
            <a:r>
              <a:rPr b="0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60360" y="1440000"/>
            <a:ext cx="68580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libri"/>
              </a:rPr>
              <a:t> </a:t>
            </a:r>
            <a:r>
              <a:rPr b="0" i="1" lang="fr-FR" sz="44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l</a:t>
            </a:r>
            <a:r>
              <a:rPr b="0" i="1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 </a:t>
            </a: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est la fonction qui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à un nombre,</a:t>
            </a:r>
            <a:r>
              <a:rPr b="1" i="1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associ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Arial"/>
                <a:ea typeface="Arial"/>
              </a:rPr>
              <a:t>le quadruple de la différence de 9 et de ce nombre</a:t>
            </a:r>
            <a:r>
              <a:rPr b="0" lang="fr-FR" sz="40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0" lang="fr-FR" sz="4000" spc="-1" strike="noStrike">
                <a:solidFill>
                  <a:srgbClr val="ff0000"/>
                </a:solidFill>
                <a:latin typeface="Cambria Math"/>
                <a:ea typeface="Cambria Math"/>
              </a:rPr>
              <a:t>↦</a:t>
            </a:r>
            <a:r>
              <a:rPr b="0" i="1" lang="fr-FR" sz="4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</a:t>
            </a:r>
            <a:r>
              <a:rPr b="0" i="1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(x)</a:t>
            </a:r>
            <a:r>
              <a:rPr b="0" lang="fr-FR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Nicole</dc:creator>
  <dc:description/>
  <dc:language>en-US</dc:language>
  <cp:lastModifiedBy>Marionseg</cp:lastModifiedBy>
  <dcterms:modified xsi:type="dcterms:W3CDTF">2010-01-23T14:26:30Z</dcterms:modified>
  <cp:revision>170</cp:revision>
  <dc:subject/>
  <dc:title>Diapositive 0</dc:title>
</cp:coreProperties>
</file>