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12A5-7F3B-488F-A493-CAE6A71024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9F0A-EFB5-4123-B5B6-C6D434DD8C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D055-96B2-4FBF-90A9-9B45243B4E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B377-846A-4376-B8F6-51DC2D037F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07B6-CE02-49CD-801E-F74906D3F3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D2E3-A8B5-4248-9CAA-5592C53F2C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AE9D-537A-4A23-A13A-92CD9D596E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849C-CEE6-4CD6-9453-B0DA15C4EC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11B2-A816-4DCC-9C58-C51A9EB100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36F7-8064-43FD-9F09-D4C6D1BC60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6B8D-078F-4A54-95AB-86F5A5EB1E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36F3-1760-4640-87DF-B433608D83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91E1-5879-4774-A0D8-86C39F12E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2E37-957F-4D43-8DC9-B6BA50E9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308-74C9-435F-8772-817E16D2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B90B-6D2A-4EF0-974E-AF7254C0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323-4ED4-4715-962E-068CF53B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263B-58CD-4C55-B1C1-A845E164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50E-5824-4E50-AE5A-D32DAEDA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67C-BB97-45E8-87A1-10EBFB86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E01-D3D8-4A6C-9985-5B2F6932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6B8-5AE7-41F0-89BA-15D096E7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6D8B-377C-46AF-BD32-D31D327A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E603-7416-4690-AB6F-EF2F78FA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92A0-1D47-4061-94DF-D4480C430BB2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Calibri"/>
              </a:rPr>
              <a:t>CHANGEMENTS D’UNITÉS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3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Espace réservé du contenu 7"/>
              <p:cNvSpPr txBox="1"/>
              <p:nvPr/>
            </p:nvSpPr>
            <p:spPr>
              <a:xfrm>
                <a:off x="960480" y="2887560"/>
                <a:ext cx="70405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,8 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Espace réservé du contenu 7"/>
              <p:cNvSpPr txBox="1"/>
              <p:nvPr/>
            </p:nvSpPr>
            <p:spPr>
              <a:xfrm>
                <a:off x="-71280" y="2786040"/>
                <a:ext cx="93297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,325 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Espace réservé du contenu 7"/>
              <p:cNvSpPr txBox="1"/>
              <p:nvPr/>
            </p:nvSpPr>
            <p:spPr>
              <a:xfrm>
                <a:off x="571680" y="2878200"/>
                <a:ext cx="81309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,5 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0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" name="ZoneTexte 4"/>
          <p:cNvSpPr/>
          <p:nvPr/>
        </p:nvSpPr>
        <p:spPr>
          <a:xfrm>
            <a:off x="0" y="2533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pléter par le nomb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i manq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Espace réservé du contenu 7"/>
              <p:cNvSpPr txBox="1"/>
              <p:nvPr/>
            </p:nvSpPr>
            <p:spPr>
              <a:xfrm>
                <a:off x="1000080" y="2901960"/>
                <a:ext cx="74772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Espace réservé du contenu 7"/>
              <p:cNvSpPr txBox="1"/>
              <p:nvPr/>
            </p:nvSpPr>
            <p:spPr>
              <a:xfrm>
                <a:off x="785880" y="2919240"/>
                <a:ext cx="75675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d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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Espace réservé du contenu 7"/>
              <p:cNvSpPr txBox="1"/>
              <p:nvPr/>
            </p:nvSpPr>
            <p:spPr>
              <a:xfrm>
                <a:off x="579600" y="2878200"/>
                <a:ext cx="78372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Espace réservé du contenu 7"/>
              <p:cNvSpPr txBox="1"/>
              <p:nvPr/>
            </p:nvSpPr>
            <p:spPr>
              <a:xfrm>
                <a:off x="857160" y="2878200"/>
                <a:ext cx="76694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Espace réservé du contenu 7"/>
              <p:cNvSpPr txBox="1"/>
              <p:nvPr/>
            </p:nvSpPr>
            <p:spPr>
              <a:xfrm>
                <a:off x="428760" y="2878200"/>
                <a:ext cx="829152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Espace réservé du contenu 7"/>
              <p:cNvSpPr txBox="1"/>
              <p:nvPr/>
            </p:nvSpPr>
            <p:spPr>
              <a:xfrm>
                <a:off x="-63360" y="2857680"/>
                <a:ext cx="927864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a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h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Espace réservé du contenu 7"/>
              <p:cNvSpPr txBox="1"/>
              <p:nvPr/>
            </p:nvSpPr>
            <p:spPr>
              <a:xfrm>
                <a:off x="500040" y="2927520"/>
                <a:ext cx="8007480" cy="15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6:13:30Z</dcterms:created>
  <dc:creator>Claudine Bertrand-Gorge</dc:creator>
  <dc:description/>
  <dc:language>en-US</dc:language>
  <cp:lastModifiedBy>Marionseg</cp:lastModifiedBy>
  <dcterms:modified xsi:type="dcterms:W3CDTF">2010-01-17T18:02:23Z</dcterms:modified>
  <cp:revision>43</cp:revision>
  <dc:subject/>
  <dc:title>Diapositive 1</dc:title>
</cp:coreProperties>
</file>