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D175-E4CA-4D9A-BDB2-C547A2B19F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5CAB-2CE1-4C73-B828-86637DBAF8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C594-EF81-4616-9193-9742E502D1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7019-5714-4F94-A245-BC9ED7CDB7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639A-6E22-4A09-A632-EA6F478AB2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CBB1-E621-47C3-AA57-17D61C2E85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B86F-E998-4DA6-81D6-4471CB4514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6B78-0E0C-4C6F-922D-E18C385603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55BE-3F65-4FE2-99D6-00861AE24B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868-226A-4A92-95AE-647D4D8F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DAE-4E7D-483E-B3CF-D47E912F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16F-38F8-4D57-ADA4-5C28C181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82C-2963-478B-A5CD-D112A2D2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C3A0-E685-4653-95C7-A164B1BD1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7C3D-83FB-4B35-AE4A-093B3F8E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C3E7-1239-4FC0-ABD4-2BBF2DC1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CACC-FDD7-4DEB-B685-C2FE14EF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020B-BFB3-4F3E-9CC5-7A35D2DB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5C2F-CC56-413C-9472-E388F494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6723-7B11-45D2-8EB4-CD53F082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362-1CF6-4B21-8EDD-DFA1AE8A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AC59-F31A-477D-A5B0-774FB8A6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22EA-35DC-423A-BCCC-F6471290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EF21-6BD5-4786-917C-5DD599F1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5132-33B8-43DB-9899-F9472060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C040-EF36-4460-B3BE-6B9765135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948-19F4-462A-AE2E-E7BEB3A4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932-BEC6-48D6-B4D2-23FBE2B3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B3D-B301-44EA-8E48-EDBDAA95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76B-48C3-4AC1-9AF7-0C9CFFF9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B05F-9D99-48F5-A924-5CCA0BA4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735-6351-4843-B6FD-3CA3734C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6DF4-6D8E-4C81-8436-FB6ADA5A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2934-F2B0-4665-A03E-C237288013C1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B538-1352-4B42-BE21-6866703C9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446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UR DE THALÈS</a:t>
            </a:r>
            <a:br>
              <a:rPr sz="6000"/>
            </a:b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TIONNALITÉ DES LONGUEURS 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RIE N°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Pour chacune des figures suivantes, déterminer la valeur de l’inconnu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520" y="38988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2160" y="845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720" y="13204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611280" y="4671360"/>
            <a:ext cx="626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6084720" y="4547520"/>
            <a:ext cx="2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8" descr=""/>
          <p:cNvPicPr/>
          <p:nvPr/>
        </p:nvPicPr>
        <p:blipFill>
          <a:blip r:embed="rId1"/>
          <a:srcRect l="4718" t="0" r="5633" b="15405"/>
          <a:stretch/>
        </p:blipFill>
        <p:spPr>
          <a:xfrm>
            <a:off x="2340000" y="836640"/>
            <a:ext cx="4896000" cy="3598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3"/>
          <p:cNvSpPr/>
          <p:nvPr/>
        </p:nvSpPr>
        <p:spPr>
          <a:xfrm>
            <a:off x="900000" y="4654080"/>
            <a:ext cx="54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E) // (BC), quelle est la valeur de x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3307320" y="34426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3307320" y="41076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15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3"/>
          <p:cNvSpPr/>
          <p:nvPr/>
        </p:nvSpPr>
        <p:spPr>
          <a:xfrm>
            <a:off x="1212840" y="5301720"/>
            <a:ext cx="53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D) // (BC), quelle est la valeur de t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3323160" y="3195000"/>
            <a:ext cx="4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6"/>
          <p:cNvSpPr/>
          <p:nvPr/>
        </p:nvSpPr>
        <p:spPr>
          <a:xfrm>
            <a:off x="3323520" y="383292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3322080" y="428868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3" descr=""/>
          <p:cNvPicPr/>
          <p:nvPr/>
        </p:nvPicPr>
        <p:blipFill>
          <a:blip r:embed="rId1"/>
          <a:srcRect l="9449" t="-238" r="20026" b="11536"/>
          <a:stretch/>
        </p:blipFill>
        <p:spPr>
          <a:xfrm>
            <a:off x="2700360" y="1341360"/>
            <a:ext cx="4254480" cy="335916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10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rcRect l="4932" t="0" r="8319" b="0"/>
          <a:stretch/>
        </p:blipFill>
        <p:spPr>
          <a:xfrm>
            <a:off x="1835280" y="1844640"/>
            <a:ext cx="6057720" cy="4390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539640" y="1413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ED) // (BC), quelle est la valeur de y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5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1619280" y="5543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060720" y="56602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2160" y="29361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2520" y="339156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720" y="384732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4" descr=""/>
          <p:cNvPicPr/>
          <p:nvPr/>
        </p:nvPicPr>
        <p:blipFill>
          <a:blip r:embed="rId1"/>
          <a:srcRect l="0" t="0" r="43270" b="0"/>
          <a:stretch/>
        </p:blipFill>
        <p:spPr>
          <a:xfrm>
            <a:off x="2484360" y="285840"/>
            <a:ext cx="4897440" cy="53020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7"/>
          <p:cNvSpPr/>
          <p:nvPr/>
        </p:nvSpPr>
        <p:spPr>
          <a:xfrm>
            <a:off x="824760" y="578484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ED) // (BC), quelle est la valeur de z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12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20" y="38988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2160" y="845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720" y="13204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"/>
          <p:cNvPicPr/>
          <p:nvPr/>
        </p:nvPicPr>
        <p:blipFill>
          <a:blip r:embed="rId1"/>
          <a:srcRect l="19129" t="13167" r="18707" b="0"/>
          <a:stretch/>
        </p:blipFill>
        <p:spPr>
          <a:xfrm>
            <a:off x="2340000" y="2565360"/>
            <a:ext cx="4248000" cy="3672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4"/>
          <p:cNvSpPr/>
          <p:nvPr/>
        </p:nvSpPr>
        <p:spPr>
          <a:xfrm>
            <a:off x="2325240" y="155592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ED) // (BC), quelle est la valeur de u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ZoneTexte 9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999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26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21T14:38:48Z</dcterms:modified>
  <cp:revision>35</cp:revision>
  <dc:subject/>
  <dc:title>Diapositive 1</dc:title>
</cp:coreProperties>
</file>