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drumroll.wav" ContentType="audio/x-wav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A02C-FACB-4390-955F-4F8E8B59336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5EF1-E457-4E67-9046-668209488F9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334E-77AD-478F-8EF4-F921B26F589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0A04-21E1-4143-8C08-F2CDD1BC5A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1708-E84B-400F-B011-E98FED54613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CFE3-AFEB-4C48-9984-762A56F48A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050F-6E04-42D9-8B67-B1B70A1BCC6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BED1-CD1A-44DE-B3A8-839BD7720AE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F80C-B42E-4DDC-B887-412C6D48B23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B977-573B-4464-A8AE-30E375E04BE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36DF-A720-4CE5-989D-CE52F72E7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5EBD-94DB-48BB-B8D6-4D3C3ED7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434A-D207-4353-9091-B5CD7D8D2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DEC5-DA26-48A1-AF7E-DC261BCC8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07F8-7747-49ED-AD47-BF5CA5D6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47DD-2E92-4916-A490-3D5269DD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34BD-32CD-44AF-B501-72D12265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5833-9E37-43BD-B833-F2242397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55CE-49BF-46A6-A357-E6E80902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12A7-808F-4F45-AB5B-9A30DC48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7D36-2633-4BC4-A940-46829480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099E-3309-48A5-8C91-60595CC5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5A97-7299-444F-ADC9-7B5DC4A7A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slide" Target="slide4.xml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4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DÉCODER UNE FIGURE (1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1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Pour chacune des figures faites à main levée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écrire à l’aide du langage mathématique toutes les informations dont vous êtes sûr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1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857160" y="5357880"/>
            <a:ext cx="77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sai N°0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1511280" y="863640"/>
            <a:ext cx="6361200" cy="56433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4429080" y="5357880"/>
            <a:ext cx="47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C)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C) et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= 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2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900000" y="537372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8521920" cy="47019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2" name="drumroll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00000" y="537372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1260360" y="1260360"/>
            <a:ext cx="6359760" cy="4083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2" name="drumroll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900000" y="537372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1440000" y="1260360"/>
            <a:ext cx="6360840" cy="4157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2" name="drumroll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900000" y="537372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 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1440000" y="1260360"/>
            <a:ext cx="6360840" cy="5073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2" name="drumroll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900000" y="537372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1440000" y="1260360"/>
            <a:ext cx="6360840" cy="5073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2" name="drumroll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4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1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en-US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en-US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4" name="drumroll.wav"/>
      </p:stSnd>
    </p:sndAc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1:04:50Z</dcterms:created>
  <dc:creator>ms</dc:creator>
  <dc:description/>
  <dc:language>en-US</dc:language>
  <cp:lastModifiedBy>Totor2</cp:lastModifiedBy>
  <dcterms:modified xsi:type="dcterms:W3CDTF">2010-05-30T09:16:42Z</dcterms:modified>
  <cp:revision>23</cp:revision>
  <dc:subject/>
  <dc:title>… c’est un quadrilatère ...</dc:title>
</cp:coreProperties>
</file>