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3C78-862C-444E-B17B-FC24146F89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D7B2-2C4E-4C5C-89D4-2A4A6509B3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D3CE-CB2C-4D51-9B2A-A9646F761A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228A-8F65-4519-8415-18C3806FFE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C8C8-56FB-45CC-B133-BB03EAAC2E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F927-4B23-4DAF-8CCC-FF8917C902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420E-BB9E-4222-989C-DA4869726C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8069-2C4F-4023-80B0-F50DCF79A8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02A4-84AD-4D77-82A4-9494935C9B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B826-8A9B-49F9-A2B2-BF327707C4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365D-1ABB-4CAC-88CD-7D0F15137B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3D24-0A43-498C-B3F4-A2150A94C4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38AE-8E31-4B73-B921-8146B801CC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6E39-965A-4231-A634-F0917B9B87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6CEA-F19C-41CA-83A6-DC6BC0F7D5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E7A3-327C-4C42-B57C-3DC3E8FC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6CA9-6DCE-4EED-B38A-515F8E46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786-8FC6-43CC-9AB6-46424F4D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A1B6-5C6C-4C16-B070-C57A3297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BF84-B5F3-4791-A297-6A74C546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9AE4-E134-468E-AEDE-E91EC85F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4355-A83E-4384-8D08-61F26604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FCA9-465C-4C87-8F91-83FEBB4D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D4F-F822-4DB9-8BB4-F657B15F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68A8-93D6-44C1-8836-1667EFFA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18C8-5178-407B-9871-8C4A8C06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7F7D-7C7E-4DAE-ACD4-F3363513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7632-F9C3-4D67-BF38-F82B7EC6FC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3158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VOCABULAIRE ET OPÉRATIONS (1)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28400" y="3429000"/>
            <a:ext cx="835812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898989"/>
                </a:solidFill>
                <a:latin typeface="Calibri"/>
              </a:rPr>
              <a:t>Somme, différence, produit et quoti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5840" y="2519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Le produit </a:t>
            </a:r>
            <a:br>
              <a:rPr sz="7200"/>
            </a:b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de 29 315,8 par 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2519280"/>
            <a:ext cx="8715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La différence de 25,04 et de 25,4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Le quotient </a:t>
            </a:r>
            <a:br>
              <a:rPr sz="8000"/>
            </a:b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de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par 3,1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Le produit </a:t>
            </a:r>
            <a:br>
              <a:rPr sz="7200"/>
            </a:b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de 5,8 par lui-mêm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5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02860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crire sur la grille-réponse uniquement le résultat de l’opération demandé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tention! Chaque calcul est affiché en toutes lettres pendant un temps limi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a calculatrice est indispensable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428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Calculer en utilisant la bonne touche de la calculatrice ..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La somme </a:t>
            </a:r>
            <a:br>
              <a:rPr sz="7200"/>
            </a:b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de 131 et de 2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Le produit </a:t>
            </a:r>
            <a:br>
              <a:rPr sz="7200"/>
            </a:b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de 131 par 2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Le quotient </a:t>
            </a:r>
            <a:br>
              <a:rPr sz="7200"/>
            </a:b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de 231 par 2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La différence </a:t>
            </a:r>
            <a:br>
              <a:rPr sz="7200"/>
            </a:b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de 34,7 et de 25,08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Le produit </a:t>
            </a:r>
            <a:br>
              <a:rPr sz="7200"/>
            </a:b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de 105,7 par 94,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La somme </a:t>
            </a:r>
            <a:br>
              <a:rPr sz="7200"/>
            </a:b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de 1075 et de 31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4:23:26Z</dcterms:created>
  <dc:creator>Famille Ravet</dc:creator>
  <dc:description/>
  <dc:language>en-US</dc:language>
  <cp:lastModifiedBy>Marionseg</cp:lastModifiedBy>
  <dcterms:modified xsi:type="dcterms:W3CDTF">2010-01-22T17:39:34Z</dcterms:modified>
  <cp:revision>26</cp:revision>
  <dc:subject/>
  <dc:title>Vocabulaire et calcul mental</dc:title>
</cp:coreProperties>
</file>