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1840-4D3B-4273-BAA1-4FAC2FD855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890A-79C9-432E-A811-4EA912EA84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45D0-7197-4156-97EA-9341BE4273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217D-A7C5-4BDE-90D5-F09414F525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57FB-DCAD-4001-887A-333161FD1E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1F9A-F611-4801-BA81-311CAF3546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31D0-6C0D-4FF9-BE79-D637710351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54D8-36ED-4513-8569-A3630B4D38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4CE3-762B-416C-BDA8-568F02FA58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8ABB-B1AA-4D90-90C0-9FDB6DBD9B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3522-0617-4EE2-A9D8-9F03B45F0A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2088-E786-49B5-8302-8218E81C6A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9879-8CC1-471E-BD33-6223F5E16C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BE9E-16D4-4DBB-AA72-3DC1BC28BD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6B6B-58AD-48D6-8D52-1561AD7F51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D804-E3CC-44C2-B025-9362516B2C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6CD3-E06D-442C-9294-F4B0C83C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F29-3467-4142-8DB9-14D283FE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278-163D-49F8-87BA-0FB65391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22D-B49C-448B-89BE-902B5492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3138-745C-4CB3-9448-30E66466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7CD6-5B8F-4D3F-AA5C-E059D999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EE82-1820-4E51-A946-ACD47F7F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E9A-5A17-400D-9AED-8A38DE86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15E-E7EF-41F6-978F-273F5623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E98-BD99-4982-9D2D-2F270F0D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D30A-F9D3-475A-B746-8D782388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CF3-8C58-4E93-90AC-31DA98B9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DC3F-F121-444B-BE49-FBB52D0024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PREMIERS PAS EN CALCUL LITTÉRAL(2)</a:t>
            </a:r>
            <a:br>
              <a:rPr sz="80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2755800" y="2114640"/>
                <a:ext cx="3579840" cy="31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× 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²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8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²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8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11"/>
              <p:cNvSpPr txBox="1"/>
              <p:nvPr/>
            </p:nvSpPr>
            <p:spPr>
              <a:xfrm>
                <a:off x="2678040" y="2500200"/>
                <a:ext cx="3679920" cy="29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7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actorisation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85880" y="3886200"/>
            <a:ext cx="7500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98989"/>
                </a:solidFill>
                <a:latin typeface="Calibri"/>
              </a:rPr>
              <a:t>Avec des nombres et des lett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actoriser pour éventuellement réduire en repér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 facteur comm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 signe de l’opé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s nombres à ajouter ou à soustrai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ig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25714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écrira uniquemen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l’expression factorisée  la plus simpl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égale à celle proposé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6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× 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× 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162160" y="2236680"/>
                <a:ext cx="4605480" cy="290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p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8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23:26Z</dcterms:created>
  <dc:creator>Famille Ravet</dc:creator>
  <dc:description/>
  <dc:language>en-US</dc:language>
  <cp:lastModifiedBy>Marionseg</cp:lastModifiedBy>
  <dcterms:modified xsi:type="dcterms:W3CDTF">2010-01-17T20:25:54Z</dcterms:modified>
  <cp:revision>36</cp:revision>
  <dc:subject/>
  <dc:title>Vocabulaire et calcul mental</dc:title>
</cp:coreProperties>
</file>