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896B-52AA-4583-ABA1-A5B48E318F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9219-4FB4-420F-BBB8-D052473FF3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49A0-11C2-40DD-A96F-5417435F35E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637D-E3A2-4C57-A656-1A77707B1E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B9F-D1F2-4B31-ABED-E2FC51EBF9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CCA4-0EA1-4039-88A3-B8C45987F2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33EB-F1C3-4BD5-A77B-E8C269A8C8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A26F-F199-44E1-93C3-6A20028076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90F-2FEA-4A6C-A2D3-53FC4E5DFE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47F4-FFA6-416F-AEB4-5E79C94A30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5AE6-4A43-413B-ADDC-923BDE8870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FE85-E22D-493E-BAD9-C65764A0907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5190-B861-452F-A179-968468F3E7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9E4-1BEB-433C-A5BC-527E568C62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8211-AFFA-4A65-A034-B2A8BB9F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F6C-0DE6-4667-8901-F059E3AD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275-38C9-4D20-91D4-7E27C031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AB0-0E12-439C-851D-342F2725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E8FA-A9CC-473D-AED9-32F09413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051E-00C7-4435-A76F-D7C8EAF8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C1D1-5AED-42ED-8357-CCDA15ED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D322-E61A-412C-AD46-FDE8AC0F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048A-B7C6-43C9-B1C0-D45F3D53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BB37-D64F-4810-A0C7-1289693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B755-E702-45BE-B897-600850CB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74F0-7AAF-446F-8C8D-44B29B05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D6C-4B06-4311-BF6A-1E2259BF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7BEE-7601-4475-A05F-5DADF409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089D-FABC-4EE1-AADA-A204BBF7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6EEC-6717-43EB-8CB7-92695198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D795-B816-4334-93FA-187DE1CD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703-6204-443C-BB04-EEE46860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375-F13F-474B-871B-4EB9344D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45BF-C3F4-46C4-9542-6F761498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38B-86F5-4CF5-897E-803FFE1B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0A2F-CF1D-4FC2-8782-78F4054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A7D-E09F-4D63-B8AA-9EF2760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B01-C2A5-44CF-AECC-C7433DD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CD24-C441-42F7-85F7-CFB8CE5C87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991D-627D-4655-9741-D714D3269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50920" y="144972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Parmi les nombres </a:t>
            </a:r>
            <a:r>
              <a:rPr b="0" lang="fr-FR" sz="5400" spc="-1" strike="noStrike">
                <a:solidFill>
                  <a:srgbClr val="ff3300"/>
                </a:solidFill>
                <a:latin typeface="Arial"/>
              </a:rPr>
              <a:t>« 2, 3, 4, 5, 9, 10 »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, citer ceux qui sont diviseurs de : 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6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7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0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5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8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59:53Z</dcterms:created>
  <dc:creator>ms</dc:creator>
  <dc:description/>
  <dc:language>en-US</dc:language>
  <cp:lastModifiedBy>Marionseg</cp:lastModifiedBy>
  <dcterms:modified xsi:type="dcterms:W3CDTF">2010-01-22T14:44:10Z</dcterms:modified>
  <cp:revision>9</cp:revision>
  <dc:subject/>
  <dc:title>Diapositive 1</dc:title>
</cp:coreProperties>
</file>