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5565-6ABB-46CF-A06E-CD91872FE0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D77B-2B4C-4BD2-902A-93988F61C4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4796-BD75-4622-8FF8-261692EE3D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0E8D-B05C-46C0-9738-0B331EA225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68A6-0355-4F0E-95D5-8C8D70487C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B8AC-E7EB-4450-819F-F6CC81495C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F71B-D7BD-4B10-9ACC-84D9DDD083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6024-DB8F-4AAC-9034-79A4A67610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3E74-3E03-42B0-9CCE-7103DEAFEB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8C20-2A96-497B-8309-18500E2374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6347-B1FE-4655-9F44-1393237E92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76F1-7FF6-4401-8175-927AE463E5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8E9F-1FE1-4974-B67E-5E958EF8E8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68F4-E341-4FCC-A942-E0A40FE69E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747-61AB-4BB4-9F1D-38053C3D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F94-0812-44C0-8A19-14CA102D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2CF2-0F7F-43AC-9B1F-2B10C130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030-CAA8-429C-BB96-0A809EF7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F37-89A7-47DE-B8CE-7634E580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09C-86E9-44C1-8490-75DCD970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717-186E-4785-87EE-31BDD48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2C11-9D4B-480A-ADE3-1D272F3A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5C6-08F4-4EF3-8413-FAE73398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63B-8D39-4ABF-B143-A0294409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DCB-8AD8-4DA2-A25F-57DFA89E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1F40-9AD2-4721-94F9-BEBD13D6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244C-CCD2-497B-8B0B-7A110E06B51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OPÉRATION ?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 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ans une page de 25 lignes, on écrit 500 mo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écrit-on, en moyenn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 mots par ligne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 tour de manège coûte 1,20 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vont coûter dix tours de manège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ans un relais, quatre collégiens courent 250 mètres chacu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distance auront-ils parcourue à eux tous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Compléter la fiche-réponse en écrivant directement la réponse au problème pos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J’ai 18 €. Coralie possède 2 € de plus que mo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possédons-n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à nous deux 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e de mes amies me prête 6 € pour payer ma place de cinéma. Je lui dois déjà 13 € pour le repas au restaurant qu’elle m’a avancé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dois-je lui rembourser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J’achète 5 croissants à 0,80 € l’u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le boulanger va-t-il me demander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 kilogramme de pommes coûte 2,50 €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vais-je payer 2,5 k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 ces pommes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840" y="2204640"/>
            <a:ext cx="86439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a taille de Julie est de 1,40 m. Elle mesure 5 cm de moins que son amie Luci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taille de Lucie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e boîte de 6 œufs coûte 2,40 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rix d’un œuf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eize baguettes coûtent 14,40 €. Quinze baguettes coûtent 13,50 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rix d’une baguette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15:21:51Z</dcterms:created>
  <dc:creator>Claudine Bertrand-Gorge</dc:creator>
  <dc:description/>
  <dc:language>en-US</dc:language>
  <cp:lastModifiedBy>Marionseg</cp:lastModifiedBy>
  <dcterms:modified xsi:type="dcterms:W3CDTF">2010-01-22T17:26:33Z</dcterms:modified>
  <cp:revision>26</cp:revision>
  <dc:subject/>
  <dc:title>QUELLE DIVISION ?</dc:title>
</cp:coreProperties>
</file>