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9493-5D86-4E41-9637-FF24AAE9AE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7E72-80E0-48D6-A6B2-672B7C4C7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7A90-3FCF-4CA8-A120-B1CF60F635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902C-DC6D-4985-88AD-7E962B8B53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478-1202-4540-8C14-676E17051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0115-F0A2-4887-BBE4-E0E2B24A39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A032-B0EF-417F-8552-82F68CDB0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32A8-A711-4EA2-85FD-39CCF84588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A85-C7DE-4175-9374-EC8FDFA443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1FDD-E533-448C-A4A6-B5B442420F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D6E4-56CD-4E19-A943-E0A9BE0177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86C6-3DB5-4681-B14D-F488658EA4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58AD-49C5-4CEB-A486-253219B7C6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8876-4A7D-4131-BBF5-873BC1314D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87A-3CB1-4043-BDDF-BB4E284B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B03-1A29-4BC8-88E3-024A57C5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CA8-E707-4819-A156-82596771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516-446E-484C-A7A1-8342DC6A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070-4DAD-42F1-B827-E1D737FB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705-A890-40D8-9359-4D0CE6A7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BC8-7AFC-4B46-A64A-E4F88A34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FBE-50AF-4482-B9A4-51A1605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0E26-E1B9-41B3-9482-DF46676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D52-526B-40A6-A4D7-9B510CA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EEC-A4A4-4CD0-8B06-6F9A99A2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F2A9-4AAA-4E9D-9347-71D05224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C4C-30E4-4D31-BB7F-352832F4E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VOCABULAIRE EN GÉOMÉTRI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s points M, N et P,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2 à 2 distincts,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ont aligné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segment d’extrémités P et R a la même longueur que le segment d’extrémités R et 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roite passant par J et K est perpendiculaire à la droite passant par K et 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0480"/>
            <a:ext cx="850104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Pour chaque phrase, faire une figure et traduire en langage mathématiqu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roite passant par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s points I et J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oint C appartient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au segment d’extrémités R et 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emi-droite passant par E et d’origine 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longueur du segment d’extrémités U et V est égal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à 3 c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299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angle de sommet O et dont les côtés passent l’un par A, l’autre B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roite passant par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s points G et H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st parallèl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à la droite passant par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s points K et L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857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emi-droite d’origine A, passant par B ne contenant pas le point I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3:07:55Z</dcterms:modified>
  <cp:revision>17</cp:revision>
  <dc:subject/>
  <dc:title>PowerPoint Presentation</dc:title>
</cp:coreProperties>
</file>