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0065-0B37-4E59-ADF1-2071BBE666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3674-6F94-47E6-B624-447CCFF4485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8D984-C0A2-40D4-A8DA-BAC84BB7F8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19E8-B667-41EE-BAA1-5415615B08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B934-FC0C-4009-8DA5-6F5E2CF756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FF69-74FF-4742-8D40-E5C9AC7642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3B10-3029-4B80-B41D-9F5BDD6F52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528C-8F48-40FD-8C56-59538CCDF1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6B6F-A75D-4BB5-9B24-CF0A460A244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AC13-CA60-4D90-973F-A35720C702B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C7D0-16FA-4888-858E-D088778518A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CB7E-9C02-47D8-9415-125579B810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403A-5E57-40A0-A181-2F5645C269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4762-79BE-41D1-93C2-5D6F3C79A70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5704-9CBC-4FB0-A3B8-7E744B4D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612B-7DBE-4995-B57A-D0950FD1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3048-567A-4C45-99E8-83B3CE52B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E0E2-5F67-42E6-BCC3-4FE2676F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1085-A358-42C3-B0B3-B9F11995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30C1-D4E5-45B6-8F15-B14E5085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9308-95AC-4F2B-868D-5DC7C376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854F-CF37-4AE2-8D3E-39A31935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4757-A441-4769-9D63-E3265411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51F1-B9BD-4C4A-A9C9-E9DEE0DE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D266-AE5C-4BFD-862D-C98A0A0B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678C-C841-45F7-B015-2C8D2CA5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5BA1-7CAD-4006-9E1E-B055A7F6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3CF9-EDE2-46E5-AD0D-26E8A5CB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98E82-81C8-4835-AE94-370C66AA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9C7A-1565-4E47-9D85-0C8B24D1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3A68-6D61-4088-BBDB-5482B96F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7243-ED1E-4412-AEEE-BFFA3E6B6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6504-B9E1-4F5B-9DFB-EBF06BD8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1850-CB55-4F44-8574-956CFD9D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AFFE-E9EB-46DB-9AF0-7C11E1BC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6CFA-8B80-46F2-BF3B-46BDDC9F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66A1-8A35-4E32-BE1C-A1EE9B27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7235-F6CC-409B-8E62-7E625020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F0CF-7F43-4A3F-9BAC-29F79947EC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E66C-CC8E-4D9F-988B-3D4C55CBD8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Divisibilité(2)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N°8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Quel est le plus grand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entier inférieur à 99 et divisible par 2 et 5 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N°9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Quel est le plus grand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entier inférieur à 99 et divisible par 4 et 5 ?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N°10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Quel est le plus peti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entier non nul multipl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de 2, 3, 4 et 5 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0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Bouton d'action : Retour 5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476360" y="225036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Répondre aux questio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N°1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Quel est le plus grand entie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non nul inférieur à 10 et divisible par 3 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N°2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Quel est le plus peti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entier pair non nul et multiple de 5 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N°3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Quel est le plus peti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entier non nul et multipl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de 3 et 8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N°4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Quel est le plus grand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entier inférieur à 50 et divisible par 7 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N°5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Quel est le plus peti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entier non nul divisibl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par 9 et 6 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N°6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Quel est le plus grand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entier inférieur à 100 et multiple de 9 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N°7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Quel est le plus peti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entier non nul divisibl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par 2 et 4 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1:26:24Z</dcterms:created>
  <dc:creator>ms</dc:creator>
  <dc:description/>
  <dc:language>en-US</dc:language>
  <cp:lastModifiedBy>Marionseg</cp:lastModifiedBy>
  <dcterms:modified xsi:type="dcterms:W3CDTF">2010-01-22T14:45:58Z</dcterms:modified>
  <cp:revision>7</cp:revision>
  <dc:subject/>
  <dc:title>Diapositive 1</dc:title>
</cp:coreProperties>
</file>