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EB05-2BEB-4859-8FAB-F9249D1A356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AF01-74E2-446B-B5AC-15AD8D0354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A96E-FB70-4BE0-8E94-08DA267EFC7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EDB9-25B4-4D52-9C28-C138DB9E46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CAF-FB67-4CED-918A-9218679575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110D-C88B-4223-B32A-28DB009CBC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DCEF-9EAB-45EB-B34A-20C829C1A5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206B-B7CE-4B1D-8363-131D23233EF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1E94-8542-4396-862C-DDDCA407B4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9E6-8510-43C7-A4B1-4C2C967715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4C9-7EA0-49E3-BAF0-E2FC0E3D7C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E25C-348A-4912-A098-9A7207702A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45C-D977-45F4-820E-28AFEDE2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B89-AD0C-41A7-BDB5-F541FD35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89A-7699-4498-966E-704B8D58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9BB-8965-4BF8-8A41-0A6526D7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6F18-38E4-4C2C-A247-4F957078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7769-F015-4540-85FA-8751A6BE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C0F3-B357-4FFF-A961-4B59A34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8A7D-8C57-47C9-AEA4-C99389AA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CC71-2531-4CDD-9B2E-84E1B639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47AD-6EA5-490E-BCE8-A97D3FE0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F3DA0-E06B-4EA1-9D1E-7B1E99A8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A3AE-3451-44EE-8315-1C28BA0F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2CFA-6A5E-4BF4-88D0-EC1A2D9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BBA4-0172-46E6-9249-A8981693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5DB7-6F6D-479D-86AF-53C3AD28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8CAB-17D1-47F1-ADBD-B175B9D64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B6AA-9E96-41A6-AD7F-B7AD190C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374-EF0E-4CEA-A917-F8CD11E8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D67-0198-4624-9B57-3EA66564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6087-D3FC-47D3-A426-FDBDE4DC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570-4EA3-4E5C-9936-CB1B7B81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C7A-915D-492D-8A2E-AEA04A46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D79-3B3F-4CCC-A796-C996863A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B20C-3F79-4B16-BC51-9D8D650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6B1E-541A-4C56-98CA-B024B923AB9F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1332000" y="2333520"/>
            <a:ext cx="201600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796000" y="2335320"/>
            <a:ext cx="201600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F7B1-46F0-4A85-9B04-F073168CF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ULTIPLICATION D’UN NOMBRE PAR UNE FRACTION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ÉRIES N°1 ET N°1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8"/>
              <p:cNvSpPr txBox="1"/>
              <p:nvPr/>
            </p:nvSpPr>
            <p:spPr>
              <a:xfrm>
                <a:off x="1835280" y="2924280"/>
                <a:ext cx="1028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0"/>
              <p:cNvSpPr txBox="1"/>
              <p:nvPr/>
            </p:nvSpPr>
            <p:spPr>
              <a:xfrm>
                <a:off x="6300720" y="2854440"/>
                <a:ext cx="1076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8"/>
              <p:cNvSpPr txBox="1"/>
              <p:nvPr/>
            </p:nvSpPr>
            <p:spPr>
              <a:xfrm>
                <a:off x="1476360" y="2852640"/>
                <a:ext cx="170496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"/>
              <p:cNvSpPr txBox="1"/>
              <p:nvPr/>
            </p:nvSpPr>
            <p:spPr>
              <a:xfrm>
                <a:off x="6075360" y="2881440"/>
                <a:ext cx="15210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8"/>
              <p:cNvSpPr txBox="1"/>
              <p:nvPr/>
            </p:nvSpPr>
            <p:spPr>
              <a:xfrm>
                <a:off x="1763640" y="2924280"/>
                <a:ext cx="10764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12"/>
              <p:cNvSpPr txBox="1"/>
              <p:nvPr/>
            </p:nvSpPr>
            <p:spPr>
              <a:xfrm>
                <a:off x="6300720" y="2854440"/>
                <a:ext cx="107640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6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ffectuer les calculs le plus simplement possible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t donner le résultat sous la forme qui convient :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nombre entier,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nombre décimal,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écriture fractionn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2"/>
              <p:cNvSpPr txBox="1"/>
              <p:nvPr/>
            </p:nvSpPr>
            <p:spPr>
              <a:xfrm>
                <a:off x="1835280" y="2852640"/>
                <a:ext cx="8665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4"/>
              <p:cNvSpPr txBox="1"/>
              <p:nvPr/>
            </p:nvSpPr>
            <p:spPr>
              <a:xfrm>
                <a:off x="6384960" y="2865600"/>
                <a:ext cx="8683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1886040" y="2878200"/>
                <a:ext cx="87624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8"/>
              <p:cNvSpPr txBox="1"/>
              <p:nvPr/>
            </p:nvSpPr>
            <p:spPr>
              <a:xfrm>
                <a:off x="6372360" y="2892600"/>
                <a:ext cx="8506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1908000" y="2852640"/>
                <a:ext cx="8287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10"/>
              <p:cNvSpPr txBox="1"/>
              <p:nvPr/>
            </p:nvSpPr>
            <p:spPr>
              <a:xfrm>
                <a:off x="6372360" y="2881440"/>
                <a:ext cx="87624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1763640" y="2852640"/>
                <a:ext cx="12096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6164280" y="2881440"/>
                <a:ext cx="121608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1835280" y="2924280"/>
                <a:ext cx="10713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10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6227640" y="2924280"/>
                <a:ext cx="1101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8"/>
              <p:cNvSpPr txBox="1"/>
              <p:nvPr/>
            </p:nvSpPr>
            <p:spPr>
              <a:xfrm>
                <a:off x="1835280" y="2852640"/>
                <a:ext cx="10573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10"/>
              <p:cNvSpPr txBox="1"/>
              <p:nvPr/>
            </p:nvSpPr>
            <p:spPr>
              <a:xfrm>
                <a:off x="6254640" y="2924280"/>
                <a:ext cx="10209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1692360" y="2924280"/>
                <a:ext cx="12571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11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0"/>
              <p:cNvSpPr txBox="1"/>
              <p:nvPr/>
            </p:nvSpPr>
            <p:spPr>
              <a:xfrm>
                <a:off x="6162840" y="2881440"/>
                <a:ext cx="126972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04:17Z</dcterms:modified>
  <cp:revision>35</cp:revision>
  <dc:subject/>
  <dc:title>Diapositive 1</dc:title>
</cp:coreProperties>
</file>