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EC5-AF95-4800-9381-9F87007D93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CE98-0473-4465-98CA-4A062ABF33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5CD7-6703-4E15-81EE-8497E5421D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E4E7-BE1D-4AAB-AC82-7B0567F21F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AF56-9D2E-411A-85D3-FB791C4AEA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C2D0-D0ED-485B-BF9B-F57F32D8FC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6BD9-22AA-4D16-B17A-1240C1BB81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A154-BB06-41A8-B5EA-42A896D8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7E70-67D7-4288-887C-30B88FE1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66F5-BCBF-4794-AB4D-4283EF1E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7E88-63AA-4AE0-9F03-B8FE84F9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AF1B-D2F4-4AD4-AC13-AFEE636B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B38C-19C8-4E2D-8F52-F1C9685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DBE5-E77C-40F6-9316-E126EE5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CF5E-9641-4CDD-BC31-902AA254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77B7-ECED-4122-8DD3-D0528B36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5BB0-66DA-48DC-8C6F-763399567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490B-B4B0-42D4-BA14-CCB59CD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3A9-C2B9-4CE3-BDD0-37FEA7A5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EA83-2757-4A57-A9A8-586F9639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0992-5CF2-4246-B043-C9B846E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9F22-4AEA-4642-B4BF-8EFE540F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3D2B-9C7F-43BE-A744-EEC825DB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0DB1-A781-4EA1-BFBB-BB1EB71D0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83AFB-CFB9-4299-930A-ABF7CAB0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DD05-1154-4CB0-8F8D-663B3AD4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20A2-D42F-4F4C-B81D-F9AAA525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16BB0-B6CF-46B7-896C-F1A52666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4A4F-6D26-4CB7-95B4-969C2998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555-0806-4283-837A-8271F254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0910F-2971-43CC-AF97-E5A87120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3FC68-CD48-4FC9-8C48-5070F72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E45FC-C6C7-4471-8FEF-375DA2E3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F449A-3941-4F49-AFD8-D5D00566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6824B-AD4D-41A2-BF7B-FBE5A1E0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17CD-9EE1-4C94-B2A6-E52152CB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8DCD-B3F8-418B-A9F6-BE230A00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C50-6E53-452A-8738-4EB376A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9CB-32AB-47D7-8020-1BD1E1D7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004-D408-4C4E-8CFE-EEC34AB6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DE9-DA6F-4BC4-9437-EFA48F44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FB44-2B2F-4161-8330-A253DBEA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679F-396D-4AC2-BFEF-D738C3D0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1D68-3079-4147-8CAE-76CBF35B6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BB4C-ED7E-4B4B-B184-7D7FCE4404FB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DF94-84A7-4328-818A-65BA0E56ECE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FRACTIONS : VRAI OU FAUX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ÉRIE N°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Les égalités sont-elles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vraies ou fausses ?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2509920" y="2143080"/>
                <a:ext cx="419400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1357200" y="2143080"/>
                <a:ext cx="650088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2247840" y="2143080"/>
                <a:ext cx="471960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2090880" y="2143080"/>
                <a:ext cx="50353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1252440" y="2143080"/>
                <a:ext cx="671220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3:41:32Z</dcterms:created>
  <dc:creator>ms</dc:creator>
  <dc:description/>
  <dc:language>en-US</dc:language>
  <cp:lastModifiedBy>Marionseg</cp:lastModifiedBy>
  <dcterms:modified xsi:type="dcterms:W3CDTF">2010-01-17T20:08:34Z</dcterms:modified>
  <cp:revision>3</cp:revision>
  <dc:subject/>
  <dc:title>Fractions : Vrai ou Faux  Série n°3</dc:title>
</cp:coreProperties>
</file>