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ADA6-3D99-4046-91BB-5F409C70BB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CC63-EC25-4416-8396-5830401472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04E4-4C30-4A78-B1DE-461CF294B8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A729-AEF9-4E82-A66E-62779D9A63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74AA-BBD0-4751-BD69-742C44B224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256F-292E-4CD7-BF0F-5356938C18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061F-AC87-46F6-B956-C23483B830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C3A-38D4-489B-9EDA-B80F27AE8A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C449-2418-4E17-A5ED-803C45128D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7839-E206-4FF1-AE18-5F66E78282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DA9-69F4-4C42-81A7-008BF9E25D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1CB0-2475-4895-9C6F-D7E5DC40EB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6A9A-B7F4-49D4-8769-6651055E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027-FC26-46D6-8AA9-56F655C1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7E8-6963-4094-BC4C-5D000DC4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527-3E03-4C9D-87D4-F56473FB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72D-B992-4B1B-A577-CA5F2367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4087-D772-4403-8B33-60BC7BE4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ABC8-64EB-40FA-A59E-4DC3A86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187-C887-4DDF-92E6-EB85E841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007-E8EA-494E-BCB4-3CD8BE08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427A-BB80-4C0F-BB80-153A3ADA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1D0-E16F-4417-AA9B-CA97F408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01A-C359-443C-AD92-0FF71708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D0CB-16F7-4512-AB10-83C3BA2E73B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EC09-34AD-4F95-BAFA-A5C531E6B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8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967040" y="2058840"/>
                <a:ext cx="5271840" cy="15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,</m:t>
                    </m:r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320920" y="2158920"/>
                <a:ext cx="45626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2928960" y="2160720"/>
                <a:ext cx="33465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865160" y="2158920"/>
                <a:ext cx="54756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1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ET DIVISION PAR 10 ; …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575080" y="2158920"/>
                <a:ext cx="405576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8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625840" y="2158920"/>
                <a:ext cx="39542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,1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575080" y="2158920"/>
                <a:ext cx="405576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371680" y="2109960"/>
                <a:ext cx="4460760" cy="14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,9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473200" y="2158920"/>
                <a:ext cx="42577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3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3081240" y="2158920"/>
                <a:ext cx="304164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32:04Z</dcterms:modified>
  <cp:revision>28</cp:revision>
  <dc:subject/>
  <dc:title>Écrire le résultat</dc:title>
</cp:coreProperties>
</file>