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D921-3CA0-46EE-B310-1430723238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59F6-FAFA-4F8A-8D65-7B04945C41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25FA-6799-4D0F-96FB-2717E8C988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896F-F8F1-4119-A0F1-1B1436D4A3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2693-6DF7-47A9-A1D4-AFF67ACF10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6B5F-EEBB-484D-9DCE-6EF1E1A2DC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6F17-3CBA-421A-BC7C-9BB21F40BB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CFC-81E9-4D1B-B39D-AC2F2E23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A8F-6D75-4ACE-BA72-A0B882D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4EB-CDD1-470D-8D1C-8204EA3BE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09D1-2E35-4B63-9572-0E48D7A0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C47A-9B07-4049-A34C-55C81A09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81F3-EE79-48DB-864F-4AA3F3C5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9F52-986E-4130-96C7-D9968BF3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3EE9-905D-4882-93FA-3204F549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2B645-97F3-471F-827E-BC262744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2CC0-922A-4DB4-BBAC-48008576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D69B-C217-4F7A-8D8D-6A5BD50F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99E6-C81E-431F-BEBF-AAD37F0A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E0C5-E324-4A80-B4D4-1A31C8CE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B8586-749C-4569-A3B5-B946082A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16AC6-AD36-4A84-AEB1-96D687F6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B143-5973-4655-BC12-17AB4B41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2260-7277-4AC1-825A-F15A1E3D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9F56-BACC-4FF7-9876-922DFBAC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180E9-E286-4E7C-AEA9-6093FEAD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A3290-AA41-4B41-98C4-DB308E88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7AFF3-594C-4059-92C8-67C5D357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ED9B-D7A8-46A3-B476-09B41504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0D3-B9F3-41D9-8A67-4CE7E5B8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55610-8800-4ED9-9048-EC574B35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557B2-ACD6-4A6C-977D-13B4F0F0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1742-A195-4A00-A818-B6D08B1F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CD27-A2E7-4995-87F9-DD5A000A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ECF2-07E6-4114-A8B7-49C59263A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2FF38-86FA-403E-AC09-77C34C6D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0E7F-53AA-4054-8A38-8592F7C6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2470-5B69-4B4D-92BA-2B60EFB8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CDF-24A8-4198-8D93-EB3B9785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4DF8-76D3-4248-8FD7-68DCBAE7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247-3A4F-4D56-85E7-C58A947A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AEF8-6C4C-46EE-9899-38F7873D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C1A-0752-47E0-9EE2-50A0719E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06F-7F2F-4963-BEEA-170CAC4C2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95F4-A656-46B0-95F5-E5CA38A99EB2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049A-3E34-4A35-A1B0-5973D2009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RACTIONS : PROBLÈM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 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Répondre aux questions posé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7"/>
          <p:cNvSpPr/>
          <p:nvPr/>
        </p:nvSpPr>
        <p:spPr>
          <a:xfrm>
            <a:off x="0" y="1773360"/>
            <a:ext cx="91440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 un sachet de 30 bonbon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20% sont des bonbons à la menth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Combien de bonbons à la menthe sont contenus dans le paquet 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285840" y="1714680"/>
            <a:ext cx="8643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a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une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class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de 25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élèv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l y a 60% de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fill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Combien y a-t-il de garçons dans cette classe ?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7"/>
          <p:cNvSpPr/>
          <p:nvPr/>
        </p:nvSpPr>
        <p:spPr>
          <a:xfrm>
            <a:off x="0" y="1643040"/>
            <a:ext cx="8929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’étiquette d’un fromage indique 60% de matières grass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Quelle est la quantité de matières grasses dans 50 grammes de ce fromage 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0" y="13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Des baskets coûtent 60 €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Pendant les soldes, il y a une réduction de 20%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Quel est le montant de la réduction 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Combien coûtent ces baske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pendant les soldes 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7"/>
          <p:cNvSpPr/>
          <p:nvPr/>
        </p:nvSpPr>
        <p:spPr>
          <a:xfrm>
            <a:off x="0" y="15717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Un paquet contient normalement 12 gâteaux. Sur un paquet en promotion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il est écrit « 25% en plus 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Combien y a-t-il de gâteau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dans ce paquet en promotion 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6:24:47Z</dcterms:modified>
  <cp:revision>19</cp:revision>
  <dc:subject/>
  <dc:title>PowerPoint Presentation</dc:title>
</cp:coreProperties>
</file>