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1601-B076-49F6-A132-CF55A36E21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85AE-0EA6-4E85-A043-2E5CBE7B37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B695-4C98-43F5-A53B-725047AE48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B7F7-8F64-46B8-84AB-9E0E85A4D7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A25D-6F75-41B1-93A5-036B639B48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1173-F85B-404A-A453-852794E07B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F23B-3B86-4CF0-9BF6-730784C592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A3CB-6EDA-488E-B9EF-16F71EF0C4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6FC1-0E9E-49B7-A554-E1207C5938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17AE-4C4B-4F2A-8D10-6300FEB0AF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80C2-8B9E-4B36-BE4D-CE83996A74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9A14-2EF9-4107-937F-05C1C9E5B9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C85-0355-4D6B-84C5-D84D061C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B9DB-9F2E-4646-AD66-2032D543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D4A-7EC3-4F91-8DAC-B90EC326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9EC-19B8-4665-AED3-F672EAB5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D920-E2E3-492C-84C8-7C7EBE9C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A28D-F8D9-4C6F-AAB1-9649065B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DA56-24AB-4713-B4D1-DA1FBAB8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81D1-4804-43B9-B42D-5A04FFC6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DF41-6980-4F26-B4C5-CA99D938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48D9-A8A6-4FEB-8F3B-8DDE4040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A70F-19BF-44D5-9991-75B89BF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057-5B17-4C27-8836-0C2FA1C5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5F11-B909-42AA-9EC9-7C4327B1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B807-10CB-4989-B208-0DE8A388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6432-7462-46EF-98C7-1E7570EA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3A5B-0F46-4E26-882D-F93F9729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EC33-3BD1-4942-A62C-80042936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9F9-2DC5-48BA-9A08-0BC8C5D2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A1B-778F-4339-91A6-BA851497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F12E-5337-4D03-8094-AD51882E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8DF-3EB7-4239-B77C-25E1384B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58F-E512-48CC-8AC2-62725F2A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1D53-A54F-4C54-88A2-CCD68F30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53B3-D975-4A53-A881-F529EA5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5316-6B2D-44BE-8F1D-F4BEFF1EF104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1988-8FFB-4D35-8B2E-D1EBD93A8E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RACINES CAR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ES (1)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ÉRIES N°4 ET 4B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7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1238400" y="2662200"/>
                <a:ext cx="200484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3"/>
              <p:cNvSpPr txBox="1"/>
              <p:nvPr/>
            </p:nvSpPr>
            <p:spPr>
              <a:xfrm>
                <a:off x="5634000" y="2625840"/>
                <a:ext cx="223056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1"/>
              <p:cNvSpPr txBox="1"/>
              <p:nvPr/>
            </p:nvSpPr>
            <p:spPr>
              <a:xfrm>
                <a:off x="1189080" y="2676600"/>
                <a:ext cx="21049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3"/>
              <p:cNvSpPr txBox="1"/>
              <p:nvPr/>
            </p:nvSpPr>
            <p:spPr>
              <a:xfrm>
                <a:off x="5430960" y="2625840"/>
                <a:ext cx="263520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1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1189080" y="2662200"/>
                <a:ext cx="21049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3"/>
              <p:cNvSpPr txBox="1"/>
              <p:nvPr/>
            </p:nvSpPr>
            <p:spPr>
              <a:xfrm>
                <a:off x="5684760" y="2625840"/>
                <a:ext cx="212904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6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Écrire 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ous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la forme        , avec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et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des entiers et </a:t>
            </a:r>
            <a:r>
              <a:rPr b="0" i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le plus petit possib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7072200" y="1143000"/>
                <a:ext cx="185760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8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1"/>
              <p:cNvSpPr txBox="1"/>
              <p:nvPr/>
            </p:nvSpPr>
            <p:spPr>
              <a:xfrm>
                <a:off x="1238400" y="2662200"/>
                <a:ext cx="200484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5937120" y="2625840"/>
                <a:ext cx="162252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5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1"/>
              <p:cNvSpPr txBox="1"/>
              <p:nvPr/>
            </p:nvSpPr>
            <p:spPr>
              <a:xfrm>
                <a:off x="1189080" y="2662200"/>
                <a:ext cx="21049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3"/>
              <p:cNvSpPr txBox="1"/>
              <p:nvPr/>
            </p:nvSpPr>
            <p:spPr>
              <a:xfrm>
                <a:off x="5634000" y="2625840"/>
                <a:ext cx="223056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2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1438200" y="2662200"/>
                <a:ext cx="160344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3"/>
              <p:cNvSpPr txBox="1"/>
              <p:nvPr/>
            </p:nvSpPr>
            <p:spPr>
              <a:xfrm>
                <a:off x="5684760" y="2625840"/>
                <a:ext cx="212904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1"/>
              <p:cNvSpPr txBox="1"/>
              <p:nvPr/>
            </p:nvSpPr>
            <p:spPr>
              <a:xfrm>
                <a:off x="1189080" y="2662200"/>
                <a:ext cx="21049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3"/>
              <p:cNvSpPr txBox="1"/>
              <p:nvPr/>
            </p:nvSpPr>
            <p:spPr>
              <a:xfrm>
                <a:off x="5634000" y="2625840"/>
                <a:ext cx="223056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6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1"/>
              <p:cNvSpPr txBox="1"/>
              <p:nvPr/>
            </p:nvSpPr>
            <p:spPr>
              <a:xfrm>
                <a:off x="1189080" y="2662200"/>
                <a:ext cx="21049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3"/>
              <p:cNvSpPr txBox="1"/>
              <p:nvPr/>
            </p:nvSpPr>
            <p:spPr>
              <a:xfrm>
                <a:off x="5684760" y="2625840"/>
                <a:ext cx="212904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1"/>
              <p:cNvSpPr txBox="1"/>
              <p:nvPr/>
            </p:nvSpPr>
            <p:spPr>
              <a:xfrm>
                <a:off x="938160" y="2662200"/>
                <a:ext cx="26067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3"/>
              <p:cNvSpPr txBox="1"/>
              <p:nvPr/>
            </p:nvSpPr>
            <p:spPr>
              <a:xfrm>
                <a:off x="5684760" y="2625840"/>
                <a:ext cx="212904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1"/>
              <p:cNvSpPr txBox="1"/>
              <p:nvPr/>
            </p:nvSpPr>
            <p:spPr>
              <a:xfrm>
                <a:off x="1189080" y="2662200"/>
                <a:ext cx="210492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13"/>
              <p:cNvSpPr txBox="1"/>
              <p:nvPr/>
            </p:nvSpPr>
            <p:spPr>
              <a:xfrm>
                <a:off x="5684760" y="2625840"/>
                <a:ext cx="212904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22T16:52:11Z</dcterms:modified>
  <cp:revision>28</cp:revision>
  <dc:subject/>
  <dc:title>Diapositive 1</dc:title>
</cp:coreProperties>
</file>