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78EE-28E8-4E37-9C51-BDFE9B8E6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D36-4F61-4CAB-9340-9FDB09B0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A39-75AB-4ED1-AFB0-7A9285A1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34CF-7800-452E-95FB-6F1848EB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153-4B39-401B-B3D5-431DC00A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F44-E537-4D1C-9480-51EB3F41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9E5-A7F1-4DDF-AB24-686717A2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651-0824-41C3-B4B3-3B0DA01E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D93B-53AD-4A2C-AB58-F4A4A78F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C29-81EC-4768-84D5-E7183755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0224-A279-4EC1-AA3D-9D921336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BA9-C175-4949-8279-50AB14B0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55CD-EFC6-415C-A82C-E1EEA13855A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FORME DÉVELOPPÉE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FORME FACTORISÉE (2)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ÉRIE N°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6"/>
              <p:cNvSpPr txBox="1"/>
              <p:nvPr/>
            </p:nvSpPr>
            <p:spPr>
              <a:xfrm>
                <a:off x="3051000" y="2571840"/>
                <a:ext cx="3451320" cy="21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714760" y="2643120"/>
                <a:ext cx="416088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"/>
              <p:cNvSpPr txBox="1"/>
              <p:nvPr/>
            </p:nvSpPr>
            <p:spPr>
              <a:xfrm>
                <a:off x="1928880" y="2571840"/>
                <a:ext cx="547380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2173320" y="2571840"/>
                <a:ext cx="4887720" cy="21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71680" y="3286080"/>
          <a:ext cx="8215200" cy="1781280"/>
        </p:xfrm>
        <a:graphic>
          <a:graphicData uri="http://schemas.openxmlformats.org/drawingml/2006/table">
            <a:tbl>
              <a:tblPr/>
              <a:tblGrid>
                <a:gridCol w="433080"/>
                <a:gridCol w="3495960"/>
                <a:gridCol w="3214440"/>
                <a:gridCol w="1071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lèche droite rayée 4"/>
          <p:cNvSpPr/>
          <p:nvPr/>
        </p:nvSpPr>
        <p:spPr>
          <a:xfrm rot="10800000">
            <a:off x="4000680" y="3928680"/>
            <a:ext cx="85392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5"/>
          <p:cNvSpPr/>
          <p:nvPr/>
        </p:nvSpPr>
        <p:spPr>
          <a:xfrm>
            <a:off x="1428840" y="3714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6"/>
          <p:cNvSpPr/>
          <p:nvPr/>
        </p:nvSpPr>
        <p:spPr>
          <a:xfrm>
            <a:off x="4214880" y="37148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²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lèche droite rayée 7"/>
          <p:cNvSpPr/>
          <p:nvPr/>
        </p:nvSpPr>
        <p:spPr>
          <a:xfrm rot="2838000">
            <a:off x="4362120" y="3092400"/>
            <a:ext cx="1687320" cy="173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10"/>
              <p:cNvSpPr txBox="1"/>
              <p:nvPr/>
            </p:nvSpPr>
            <p:spPr>
              <a:xfrm>
                <a:off x="3235320" y="928800"/>
                <a:ext cx="2638440" cy="18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10"/>
              <p:cNvSpPr txBox="1"/>
              <p:nvPr/>
            </p:nvSpPr>
            <p:spPr>
              <a:xfrm>
                <a:off x="2479680" y="928800"/>
                <a:ext cx="406224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83" name=""/>
          <p:cNvGraphicFramePr/>
          <p:nvPr/>
        </p:nvGraphicFramePr>
        <p:xfrm>
          <a:off x="571680" y="3286080"/>
          <a:ext cx="8215200" cy="1781280"/>
        </p:xfrm>
        <a:graphic>
          <a:graphicData uri="http://schemas.openxmlformats.org/drawingml/2006/table">
            <a:tbl>
              <a:tblPr/>
              <a:tblGrid>
                <a:gridCol w="433080"/>
                <a:gridCol w="3495960"/>
                <a:gridCol w="3214440"/>
                <a:gridCol w="1071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Flèche droite rayée 4"/>
          <p:cNvSpPr/>
          <p:nvPr/>
        </p:nvSpPr>
        <p:spPr>
          <a:xfrm rot="10800000">
            <a:off x="4000680" y="3928680"/>
            <a:ext cx="85392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5"/>
          <p:cNvSpPr/>
          <p:nvPr/>
        </p:nvSpPr>
        <p:spPr>
          <a:xfrm>
            <a:off x="1428840" y="3714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 4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6"/>
          <p:cNvSpPr/>
          <p:nvPr/>
        </p:nvSpPr>
        <p:spPr>
          <a:xfrm>
            <a:off x="4214880" y="37148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lèche droite rayée 7"/>
          <p:cNvSpPr/>
          <p:nvPr/>
        </p:nvSpPr>
        <p:spPr>
          <a:xfrm rot="2838000">
            <a:off x="4362120" y="3092400"/>
            <a:ext cx="1687320" cy="173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1785960" y="857160"/>
                <a:ext cx="568800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0" name=""/>
          <p:cNvGraphicFramePr/>
          <p:nvPr/>
        </p:nvGraphicFramePr>
        <p:xfrm>
          <a:off x="571680" y="3286080"/>
          <a:ext cx="8215200" cy="1781280"/>
        </p:xfrm>
        <a:graphic>
          <a:graphicData uri="http://schemas.openxmlformats.org/drawingml/2006/table">
            <a:tbl>
              <a:tblPr/>
              <a:tblGrid>
                <a:gridCol w="433080"/>
                <a:gridCol w="3495960"/>
                <a:gridCol w="3214440"/>
                <a:gridCol w="1071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Flèche droite rayée 4"/>
          <p:cNvSpPr/>
          <p:nvPr/>
        </p:nvSpPr>
        <p:spPr>
          <a:xfrm>
            <a:off x="4000680" y="3929040"/>
            <a:ext cx="85392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5"/>
          <p:cNvSpPr/>
          <p:nvPr/>
        </p:nvSpPr>
        <p:spPr>
          <a:xfrm>
            <a:off x="1428840" y="3714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 9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6"/>
          <p:cNvSpPr/>
          <p:nvPr/>
        </p:nvSpPr>
        <p:spPr>
          <a:xfrm>
            <a:off x="4214880" y="37148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lèche droite rayée 7"/>
          <p:cNvSpPr/>
          <p:nvPr/>
        </p:nvSpPr>
        <p:spPr>
          <a:xfrm rot="7825800">
            <a:off x="2982960" y="3041640"/>
            <a:ext cx="1689120" cy="171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214200" y="1000080"/>
                <a:ext cx="875664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571680" y="3286080"/>
          <a:ext cx="8215200" cy="1781280"/>
        </p:xfrm>
        <a:graphic>
          <a:graphicData uri="http://schemas.openxmlformats.org/drawingml/2006/table">
            <a:tbl>
              <a:tblPr/>
              <a:tblGrid>
                <a:gridCol w="433080"/>
                <a:gridCol w="3495960"/>
                <a:gridCol w="3214440"/>
                <a:gridCol w="1071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Flèche droite rayée 4"/>
          <p:cNvSpPr/>
          <p:nvPr/>
        </p:nvSpPr>
        <p:spPr>
          <a:xfrm rot="10800000">
            <a:off x="4000680" y="3928680"/>
            <a:ext cx="85392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5"/>
          <p:cNvSpPr/>
          <p:nvPr/>
        </p:nvSpPr>
        <p:spPr>
          <a:xfrm>
            <a:off x="1428840" y="3714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èche droite rayée 7"/>
          <p:cNvSpPr/>
          <p:nvPr/>
        </p:nvSpPr>
        <p:spPr>
          <a:xfrm rot="2838000">
            <a:off x="4362120" y="3092400"/>
            <a:ext cx="1687320" cy="173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4842000" y="3786120"/>
                <a:ext cx="2857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2571840" y="500040"/>
                <a:ext cx="3714840" cy="27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4" name=""/>
          <p:cNvGraphicFramePr/>
          <p:nvPr/>
        </p:nvGraphicFramePr>
        <p:xfrm>
          <a:off x="571680" y="3714840"/>
          <a:ext cx="8215200" cy="2428920"/>
        </p:xfrm>
        <a:graphic>
          <a:graphicData uri="http://schemas.openxmlformats.org/drawingml/2006/table">
            <a:tbl>
              <a:tblPr/>
              <a:tblGrid>
                <a:gridCol w="433080"/>
                <a:gridCol w="3495960"/>
                <a:gridCol w="3429000"/>
                <a:gridCol w="857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Flèche droite rayée 4"/>
          <p:cNvSpPr/>
          <p:nvPr/>
        </p:nvSpPr>
        <p:spPr>
          <a:xfrm>
            <a:off x="4071960" y="4643280"/>
            <a:ext cx="853920" cy="2145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lèche droite rayée 7"/>
          <p:cNvSpPr/>
          <p:nvPr/>
        </p:nvSpPr>
        <p:spPr>
          <a:xfrm rot="7825800">
            <a:off x="2464200" y="3280320"/>
            <a:ext cx="2307960" cy="1540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2000160" y="4214880"/>
                <a:ext cx="142884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4854600" y="4157640"/>
                <a:ext cx="31654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214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chacune des expressions projetées, l’inscrire dans la colonne qui lui correspond et compléter la forme manquante lorsque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Arial"/>
              </a:rPr>
              <a:t>cela est possibl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57120" y="1000080"/>
          <a:ext cx="8215560" cy="1101600"/>
        </p:xfrm>
        <a:graphic>
          <a:graphicData uri="http://schemas.openxmlformats.org/drawingml/2006/table">
            <a:tbl>
              <a:tblPr/>
              <a:tblGrid>
                <a:gridCol w="433440"/>
                <a:gridCol w="3852720"/>
                <a:gridCol w="3357720"/>
                <a:gridCol w="571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ZoneTexte 6"/>
          <p:cNvSpPr/>
          <p:nvPr/>
        </p:nvSpPr>
        <p:spPr>
          <a:xfrm>
            <a:off x="357120" y="357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disposez d’un tableau comme celui-ci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0"/>
              <p:cNvSpPr txBox="1"/>
              <p:nvPr/>
            </p:nvSpPr>
            <p:spPr>
              <a:xfrm>
                <a:off x="2000160" y="785880"/>
                <a:ext cx="528012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1" name=""/>
          <p:cNvGraphicFramePr/>
          <p:nvPr/>
        </p:nvGraphicFramePr>
        <p:xfrm>
          <a:off x="571680" y="3286080"/>
          <a:ext cx="8215200" cy="1781280"/>
        </p:xfrm>
        <a:graphic>
          <a:graphicData uri="http://schemas.openxmlformats.org/drawingml/2006/table">
            <a:tbl>
              <a:tblPr/>
              <a:tblGrid>
                <a:gridCol w="433080"/>
                <a:gridCol w="3495960"/>
                <a:gridCol w="3214440"/>
                <a:gridCol w="1071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Flèche droite rayée 4"/>
          <p:cNvSpPr/>
          <p:nvPr/>
        </p:nvSpPr>
        <p:spPr>
          <a:xfrm rot="10800000">
            <a:off x="4000680" y="3928680"/>
            <a:ext cx="85392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lèche droite rayée 6"/>
          <p:cNvSpPr/>
          <p:nvPr/>
        </p:nvSpPr>
        <p:spPr>
          <a:xfrm rot="2838000">
            <a:off x="4362120" y="3092400"/>
            <a:ext cx="1687320" cy="173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5445000" y="3714840"/>
                <a:ext cx="16509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111400" y="3817800"/>
                <a:ext cx="13651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2887560" y="642960"/>
                <a:ext cx="3349800" cy="21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8" name=""/>
          <p:cNvGraphicFramePr/>
          <p:nvPr/>
        </p:nvGraphicFramePr>
        <p:xfrm>
          <a:off x="571680" y="3286080"/>
          <a:ext cx="8215200" cy="1781280"/>
        </p:xfrm>
        <a:graphic>
          <a:graphicData uri="http://schemas.openxmlformats.org/drawingml/2006/table">
            <a:tbl>
              <a:tblPr/>
              <a:tblGrid>
                <a:gridCol w="433080"/>
                <a:gridCol w="3495960"/>
                <a:gridCol w="3214440"/>
                <a:gridCol w="1071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Flèche droite rayée 4"/>
          <p:cNvSpPr/>
          <p:nvPr/>
        </p:nvSpPr>
        <p:spPr>
          <a:xfrm rot="10800000">
            <a:off x="4000680" y="3928680"/>
            <a:ext cx="85392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5"/>
          <p:cNvSpPr/>
          <p:nvPr/>
        </p:nvSpPr>
        <p:spPr>
          <a:xfrm>
            <a:off x="1428840" y="3714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èche droite rayée 6"/>
          <p:cNvSpPr/>
          <p:nvPr/>
        </p:nvSpPr>
        <p:spPr>
          <a:xfrm rot="2838000">
            <a:off x="4362120" y="3092400"/>
            <a:ext cx="1687320" cy="173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5730840" y="3738600"/>
                <a:ext cx="10796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3"/>
              <p:cNvSpPr txBox="1"/>
              <p:nvPr/>
            </p:nvSpPr>
            <p:spPr>
              <a:xfrm>
                <a:off x="2571840" y="714240"/>
                <a:ext cx="416088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5" name=""/>
          <p:cNvGraphicFramePr/>
          <p:nvPr/>
        </p:nvGraphicFramePr>
        <p:xfrm>
          <a:off x="571680" y="3286080"/>
          <a:ext cx="8215200" cy="1781280"/>
        </p:xfrm>
        <a:graphic>
          <a:graphicData uri="http://schemas.openxmlformats.org/drawingml/2006/table">
            <a:tbl>
              <a:tblPr/>
              <a:tblGrid>
                <a:gridCol w="433080"/>
                <a:gridCol w="3495960"/>
                <a:gridCol w="3214440"/>
                <a:gridCol w="1071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Flèche droite rayée 4"/>
          <p:cNvSpPr/>
          <p:nvPr/>
        </p:nvSpPr>
        <p:spPr>
          <a:xfrm>
            <a:off x="4000680" y="3929040"/>
            <a:ext cx="85392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5"/>
          <p:cNvSpPr/>
          <p:nvPr/>
        </p:nvSpPr>
        <p:spPr>
          <a:xfrm>
            <a:off x="1428840" y="3714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6"/>
          <p:cNvSpPr/>
          <p:nvPr/>
        </p:nvSpPr>
        <p:spPr>
          <a:xfrm>
            <a:off x="4572000" y="37148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(4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)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lèche droite rayée 7"/>
          <p:cNvSpPr/>
          <p:nvPr/>
        </p:nvSpPr>
        <p:spPr>
          <a:xfrm rot="7825800">
            <a:off x="2982960" y="3041640"/>
            <a:ext cx="1689120" cy="171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1857240" y="714240"/>
                <a:ext cx="547380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2" name=""/>
          <p:cNvGraphicFramePr/>
          <p:nvPr/>
        </p:nvGraphicFramePr>
        <p:xfrm>
          <a:off x="571680" y="3286080"/>
          <a:ext cx="8215200" cy="1781280"/>
        </p:xfrm>
        <a:graphic>
          <a:graphicData uri="http://schemas.openxmlformats.org/drawingml/2006/table">
            <a:tbl>
              <a:tblPr/>
              <a:tblGrid>
                <a:gridCol w="433080"/>
                <a:gridCol w="3495960"/>
                <a:gridCol w="3214440"/>
                <a:gridCol w="1071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Flèche droite rayée 4"/>
          <p:cNvSpPr/>
          <p:nvPr/>
        </p:nvSpPr>
        <p:spPr>
          <a:xfrm>
            <a:off x="4000680" y="3929040"/>
            <a:ext cx="85392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5"/>
          <p:cNvSpPr/>
          <p:nvPr/>
        </p:nvSpPr>
        <p:spPr>
          <a:xfrm>
            <a:off x="1428840" y="371484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6"/>
          <p:cNvSpPr/>
          <p:nvPr/>
        </p:nvSpPr>
        <p:spPr>
          <a:xfrm>
            <a:off x="4214880" y="37148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lèche droite rayée 7"/>
          <p:cNvSpPr/>
          <p:nvPr/>
        </p:nvSpPr>
        <p:spPr>
          <a:xfrm rot="7825800">
            <a:off x="2982960" y="3041640"/>
            <a:ext cx="1689120" cy="171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3"/>
              <p:cNvSpPr txBox="1"/>
              <p:nvPr/>
            </p:nvSpPr>
            <p:spPr>
              <a:xfrm>
                <a:off x="2224080" y="571680"/>
                <a:ext cx="4786200" cy="21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571680" y="3286080"/>
          <a:ext cx="8215200" cy="1781280"/>
        </p:xfrm>
        <a:graphic>
          <a:graphicData uri="http://schemas.openxmlformats.org/drawingml/2006/table">
            <a:tbl>
              <a:tblPr/>
              <a:tblGrid>
                <a:gridCol w="433080"/>
                <a:gridCol w="3495960"/>
                <a:gridCol w="3214440"/>
                <a:gridCol w="1071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Flèche droite rayée 9"/>
          <p:cNvSpPr/>
          <p:nvPr/>
        </p:nvSpPr>
        <p:spPr>
          <a:xfrm rot="10800000">
            <a:off x="4000680" y="3928680"/>
            <a:ext cx="85392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lèche droite rayée 10"/>
          <p:cNvSpPr/>
          <p:nvPr/>
        </p:nvSpPr>
        <p:spPr>
          <a:xfrm rot="2838000">
            <a:off x="4362120" y="3092400"/>
            <a:ext cx="1687320" cy="1731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5508720" y="3643200"/>
                <a:ext cx="1523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1500120" y="3786120"/>
                <a:ext cx="21909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n exemple ?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4"/>
          <p:cNvSpPr/>
          <p:nvPr/>
        </p:nvSpPr>
        <p:spPr>
          <a:xfrm>
            <a:off x="785880" y="17146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²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28760" y="3000240"/>
          <a:ext cx="8215200" cy="1781280"/>
        </p:xfrm>
        <a:graphic>
          <a:graphicData uri="http://schemas.openxmlformats.org/drawingml/2006/table">
            <a:tbl>
              <a:tblPr/>
              <a:tblGrid>
                <a:gridCol w="433080"/>
                <a:gridCol w="3495960"/>
                <a:gridCol w="3214440"/>
                <a:gridCol w="1071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Flèche droite rayée 6"/>
          <p:cNvSpPr/>
          <p:nvPr/>
        </p:nvSpPr>
        <p:spPr>
          <a:xfrm rot="8356200">
            <a:off x="2541240" y="2808000"/>
            <a:ext cx="1884240" cy="1699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lèche droite rayée 7"/>
          <p:cNvSpPr/>
          <p:nvPr/>
        </p:nvSpPr>
        <p:spPr>
          <a:xfrm>
            <a:off x="4143240" y="3714840"/>
            <a:ext cx="714600" cy="1429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8"/>
          <p:cNvSpPr/>
          <p:nvPr/>
        </p:nvSpPr>
        <p:spPr>
          <a:xfrm>
            <a:off x="2000160" y="521496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... On continue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9"/>
          <p:cNvSpPr/>
          <p:nvPr/>
        </p:nvSpPr>
        <p:spPr>
          <a:xfrm>
            <a:off x="1000080" y="3429000"/>
            <a:ext cx="328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²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0"/>
          <p:cNvSpPr/>
          <p:nvPr/>
        </p:nvSpPr>
        <p:spPr>
          <a:xfrm>
            <a:off x="5000760" y="3429000"/>
            <a:ext cx="206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0"/>
              <p:cNvSpPr txBox="1"/>
              <p:nvPr/>
            </p:nvSpPr>
            <p:spPr>
              <a:xfrm>
                <a:off x="3164040" y="2428920"/>
                <a:ext cx="2638440" cy="18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10"/>
              <p:cNvSpPr txBox="1"/>
              <p:nvPr/>
            </p:nvSpPr>
            <p:spPr>
              <a:xfrm>
                <a:off x="2265480" y="2550960"/>
                <a:ext cx="4062240" cy="18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1947960" y="2622600"/>
                <a:ext cx="5688000" cy="18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6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173160" y="2714760"/>
                <a:ext cx="875664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2786040" y="2357280"/>
                <a:ext cx="3965760" cy="294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10"/>
              <p:cNvSpPr txBox="1"/>
              <p:nvPr/>
            </p:nvSpPr>
            <p:spPr>
              <a:xfrm>
                <a:off x="2214720" y="2571840"/>
                <a:ext cx="527976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Claudine Bertrand-Gorge</dc:creator>
  <dc:description/>
  <dc:language>en-US</dc:language>
  <cp:lastModifiedBy>Marionseg</cp:lastModifiedBy>
  <dcterms:modified xsi:type="dcterms:W3CDTF">2010-01-22T15:56:48Z</dcterms:modified>
  <cp:revision>32</cp:revision>
  <dc:subject/>
  <dc:title>Diapositive 1</dc:title>
</cp:coreProperties>
</file>