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70B2-4F82-47FD-B793-2FC66AFE3B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A15F-54A3-4C1C-9140-12502A0471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9047-3582-435A-812B-80E1A29488A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4611-4E06-416E-80A5-4F242D9870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BF5F-F639-4545-93CB-1C138EF6EE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087-4357-4AE6-8E52-7DACD08522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2F3D-B49E-4278-82F6-6DE264966B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7081-A3FC-4E7F-916F-AD2E4973A3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F376-3692-4627-94D3-0B20C79465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048A-8819-4E50-8F43-BE39F5BD27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181-27BF-4FFF-99F7-5B88C11F5A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468E-CFEE-463F-A92B-C24F91181F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C267-6FBC-462D-BF0D-BD07CC1C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9A12-980E-46B1-8002-ADD06543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A06-A665-4ED9-82D3-565DE0AF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028-F0D2-4141-8FD7-5BB28E84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6146-4660-42A5-B2F9-3E804E1A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4F08-A38A-4755-8D8E-7B15CAF4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CE13-5BB0-4CB5-8CAA-775D051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9979-B8B2-48A4-946C-950A524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9839-BFA1-4D62-B952-F7C398D7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396A-533E-4DA3-A0A0-7B613432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21EF-26CA-4885-A7C6-DF899E8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78A5-5158-4CFA-92D3-51A6AD07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F1BA-988B-4679-8999-96086DD1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4935-945D-4BEE-93D9-6A145C4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97A0-D68B-4305-B2F5-37151A8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C733-5EC3-44A5-9C7C-02FC42E4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7953-3C2F-4D9C-B2D9-F5158ECB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6FF-9C64-46DB-BBFF-CE5D6FDF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033-AFF4-4789-9F61-918B3CAD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82C4-310D-413D-A3D1-30565379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825C-81C2-458D-A6DF-BF52750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9B5-8D06-4F82-B75F-6BBFCA0F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C750-F0D4-4F13-8B6A-1250D834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E73-BF83-4443-B9CF-4083C39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2837-1EEB-4DEE-BDA1-63684418E66E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1603440" y="2333520"/>
            <a:ext cx="143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6068880" y="2335320"/>
            <a:ext cx="1440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572-87B9-4376-9563-F225E7E02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IMPLIFICATION DE FRACTIONS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2 ET N°2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"/>
              <p:cNvSpPr txBox="1"/>
              <p:nvPr/>
            </p:nvSpPr>
            <p:spPr>
              <a:xfrm>
                <a:off x="2050920" y="284148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65167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6504120" y="2841480"/>
                <a:ext cx="571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"/>
              <p:cNvSpPr txBox="1"/>
              <p:nvPr/>
            </p:nvSpPr>
            <p:spPr>
              <a:xfrm>
                <a:off x="2070000" y="2841480"/>
                <a:ext cx="520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2"/>
              <p:cNvSpPr txBox="1"/>
              <p:nvPr/>
            </p:nvSpPr>
            <p:spPr>
              <a:xfrm>
                <a:off x="205092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3"/>
              <p:cNvSpPr txBox="1"/>
              <p:nvPr/>
            </p:nvSpPr>
            <p:spPr>
              <a:xfrm>
                <a:off x="6548400" y="2841480"/>
                <a:ext cx="507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2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crire la fraction proposée sous la forme d’une fraction aussi simple que possible ou éventuellement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sous la forme d’un ent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2"/>
              <p:cNvSpPr txBox="1"/>
              <p:nvPr/>
            </p:nvSpPr>
            <p:spPr>
              <a:xfrm>
                <a:off x="2050920" y="2814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6519960" y="2814480"/>
                <a:ext cx="55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2"/>
              <p:cNvSpPr txBox="1"/>
              <p:nvPr/>
            </p:nvSpPr>
            <p:spPr>
              <a:xfrm>
                <a:off x="2050920" y="2836800"/>
                <a:ext cx="5716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6532560" y="2836800"/>
                <a:ext cx="520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205092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65167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2082960" y="2838600"/>
                <a:ext cx="507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6516720" y="2841480"/>
                <a:ext cx="5587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205092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65311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205092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6534000" y="2841480"/>
                <a:ext cx="5590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2066760" y="2841480"/>
                <a:ext cx="520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3"/>
              <p:cNvSpPr txBox="1"/>
              <p:nvPr/>
            </p:nvSpPr>
            <p:spPr>
              <a:xfrm>
                <a:off x="6516720" y="2841480"/>
                <a:ext cx="546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7:17Z</dcterms:modified>
  <cp:revision>15</cp:revision>
  <dc:subject/>
  <dc:title>Diapositive 1</dc:title>
</cp:coreProperties>
</file>