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CD96-DE0C-4D7D-A372-07D969B3BE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4D0F-5742-4499-83FB-8BF3D01169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B993-FCFC-4810-AD81-3470BC9810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AA6A-A52F-4ABD-B065-258221A7A1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E170-98F2-4098-9B13-BBE14544D1F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52BA-C1A1-4568-8F32-5C1DAFAD98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DAB7-6FBA-48D0-A95D-7E1935B335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C166-E948-4153-88D4-AD0AB630C6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A48C-7AE1-4790-AA68-9B820C208B3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71EF-3A56-4A4A-8747-7FDCDAE5AF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A782-E187-47BC-ABBB-35315D2948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586A-C3EB-4A4A-A12C-9CF17FE5E8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F12-C27D-4153-8253-AC5269A4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BC8-3102-42F8-A789-4CDC04F55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BAE-1AE4-45CD-AA14-0518EEEA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1E1-010C-472D-AC82-E9FEA0DB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241E-472D-491F-B39B-06CE7DC0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A07D-B6CC-4366-ABD9-1D4A7A48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9C08-932C-4F14-9BC6-01C44170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354-E9AC-4A03-BCCB-79C0501B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CC3E-BF45-452B-BA49-FB0B0576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5AF-1751-4605-9AAF-C3C6B6AF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853-D2B9-4E51-B2C6-5844095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93D-5600-4033-AB6F-55A41515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BA3F-0631-4152-B05F-4B19BC15F737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VALEURS APPROCHÉE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2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Espace réservé du contenu 7"/>
              <p:cNvSpPr txBox="1"/>
              <p:nvPr/>
            </p:nvSpPr>
            <p:spPr>
              <a:xfrm>
                <a:off x="2773440" y="3429000"/>
                <a:ext cx="33685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Espace réservé du contenu 7"/>
              <p:cNvSpPr txBox="1"/>
              <p:nvPr/>
            </p:nvSpPr>
            <p:spPr>
              <a:xfrm>
                <a:off x="2773440" y="3429000"/>
                <a:ext cx="336852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54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2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dix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Espace réservé du contenu 7"/>
              <p:cNvSpPr txBox="1"/>
              <p:nvPr/>
            </p:nvSpPr>
            <p:spPr>
              <a:xfrm>
                <a:off x="2146320" y="3244680"/>
                <a:ext cx="46213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ZoneTexte 9"/>
          <p:cNvSpPr/>
          <p:nvPr/>
        </p:nvSpPr>
        <p:spPr>
          <a:xfrm>
            <a:off x="214200" y="1268280"/>
            <a:ext cx="8643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mill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843280"/>
            <a:ext cx="91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pléter le tableau propos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3132000" y="3244680"/>
                <a:ext cx="26514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9"/>
          <p:cNvSpPr/>
          <p:nvPr/>
        </p:nvSpPr>
        <p:spPr>
          <a:xfrm>
            <a:off x="428760" y="126828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Espace réservé du contenu 7"/>
              <p:cNvSpPr txBox="1"/>
              <p:nvPr/>
            </p:nvSpPr>
            <p:spPr>
              <a:xfrm>
                <a:off x="3132000" y="3244680"/>
                <a:ext cx="26514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" name="ZoneTexte 9"/>
          <p:cNvSpPr/>
          <p:nvPr/>
        </p:nvSpPr>
        <p:spPr>
          <a:xfrm>
            <a:off x="428760" y="119700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Espace réservé du contenu 7"/>
              <p:cNvSpPr txBox="1"/>
              <p:nvPr/>
            </p:nvSpPr>
            <p:spPr>
              <a:xfrm>
                <a:off x="3132000" y="3244680"/>
                <a:ext cx="26514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" name="ZoneTexte 9"/>
          <p:cNvSpPr/>
          <p:nvPr/>
        </p:nvSpPr>
        <p:spPr>
          <a:xfrm>
            <a:off x="285840" y="126828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centièm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1409760" y="3262320"/>
                <a:ext cx="60958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9"/>
          <p:cNvSpPr/>
          <p:nvPr/>
        </p:nvSpPr>
        <p:spPr>
          <a:xfrm>
            <a:off x="428760" y="119700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mill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Espace réservé du contenu 7"/>
              <p:cNvSpPr txBox="1"/>
              <p:nvPr/>
            </p:nvSpPr>
            <p:spPr>
              <a:xfrm>
                <a:off x="1409760" y="3262320"/>
                <a:ext cx="609588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ZoneTexte 9"/>
          <p:cNvSpPr/>
          <p:nvPr/>
        </p:nvSpPr>
        <p:spPr>
          <a:xfrm>
            <a:off x="428760" y="126828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ix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Espace réservé du contenu 7"/>
              <p:cNvSpPr txBox="1"/>
              <p:nvPr/>
            </p:nvSpPr>
            <p:spPr>
              <a:xfrm>
                <a:off x="3056040" y="3244680"/>
                <a:ext cx="28033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3056040" y="3244680"/>
                <a:ext cx="28033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9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centièm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22T17:32:48Z</dcterms:modified>
  <cp:revision>36</cp:revision>
  <dc:subject/>
  <dc:title>Diapositive 1</dc:title>
</cp:coreProperties>
</file>