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8ED2-BF3E-4993-B9C3-D4A72BD0E8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F515-9F8D-49DF-AC3A-385B852F33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94A0-CC02-460B-B2CF-8A36C2519E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127C-23BC-481B-9964-B62644F4B2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1CED-E7AE-42EF-844F-4B52BB9099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5D2F-8CCF-4688-9E50-AC67C247DC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E2BE-F482-4135-BF7A-8F90EA8FFB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74C0-C22A-456D-A092-1018022D0D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23FB-3634-4E4D-A873-9D408C1257D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D993-E949-460F-A46D-E64430767EE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31D8-B316-41C9-8A3C-FF6A359138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875F-DB70-454F-A836-46C1BBB940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FC7C-4A1C-49B0-ABE7-E554EE4F21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EA04-F7F7-42D2-8359-D9F614F2D1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345E-C5B2-46A2-9457-DC2750CC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DC6F-09A0-4828-8D37-820F83A2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4FB6-087A-40FE-AD18-2038D3F0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7A9E-E383-4200-AC3C-62C59F6D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94E3-0423-44E4-B415-01396DF9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1A8F-1D63-4F01-8A87-24610F68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8F7A-DD1E-4838-801E-50BF57D8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6122-1094-4D92-BB56-E89F61A1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3FC6-D668-4302-9801-4DB883E0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A580-B843-47CD-BEF7-4C4C0EDC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FF1F-C4A8-42BE-9B09-48123C81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6EC6-23D9-41C8-9A35-261F0FE2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374C-D1B8-4240-904E-1EF7E56A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6E12-97C6-4306-A8E8-53B4CFEE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86F1-4EEF-43D5-96E5-D093834A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4345-B4C7-482C-A855-3FE5098B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DE70-30FE-4350-BBB6-91F59E9D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7CF9-DBEC-4606-AE3E-E66F869C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5A57-4076-4C5F-B35F-F63DC27D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918A-4AD5-425D-9B0F-36E21E79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9C40-98BF-4924-AFCC-F896695C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1B63-4628-4DE6-82A4-40D860F4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382C-EC45-48D6-84E2-A2334E46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4D60-9F15-4E2E-83FA-013E42F2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BB8D-663C-493B-A74E-F2F7EB295A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78E4-89E2-48FD-A3C4-0325264B6A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Divisibilité(2)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Arial"/>
                <a:ea typeface="Arial"/>
              </a:rPr>
              <a:t>Série n°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8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La fraction           s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fie-t-elle par 2 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5000760" y="1685880"/>
                <a:ext cx="1957320" cy="19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9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La fraction             s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fie-t-elle par 3 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4772160" y="1689120"/>
                <a:ext cx="2371680" cy="19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50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50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10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La fraction         s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fie-t-elle par 6 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3"/>
              <p:cNvSpPr txBox="1"/>
              <p:nvPr/>
            </p:nvSpPr>
            <p:spPr>
              <a:xfrm>
                <a:off x="5214960" y="1643040"/>
                <a:ext cx="1601640" cy="19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1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Bouton d'action : Retour 5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476360" y="2250360"/>
            <a:ext cx="655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Répondre aux questio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1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La fraction        s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fie-t-elle par 2 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"/>
              <p:cNvSpPr txBox="1"/>
              <p:nvPr/>
            </p:nvSpPr>
            <p:spPr>
              <a:xfrm>
                <a:off x="5357880" y="1643040"/>
                <a:ext cx="1187280" cy="19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2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La fraction        s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fie-t-elle par 4 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3"/>
              <p:cNvSpPr txBox="1"/>
              <p:nvPr/>
            </p:nvSpPr>
            <p:spPr>
              <a:xfrm>
                <a:off x="5429160" y="1643040"/>
                <a:ext cx="1187640" cy="19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3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La fraction         s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fie-t-elle par 3 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5214960" y="1643040"/>
                <a:ext cx="1536840" cy="19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4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La fraction         s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fie-t-elle par 5 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3"/>
              <p:cNvSpPr txBox="1"/>
              <p:nvPr/>
            </p:nvSpPr>
            <p:spPr>
              <a:xfrm>
                <a:off x="5249880" y="1687680"/>
                <a:ext cx="1536840" cy="19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5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La fraction        s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fie-t-elle par 9 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3"/>
              <p:cNvSpPr txBox="1"/>
              <p:nvPr/>
            </p:nvSpPr>
            <p:spPr>
              <a:xfrm>
                <a:off x="5429160" y="1643040"/>
                <a:ext cx="118440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6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La fraction        s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fie-t-elle par 6 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5357880" y="1643040"/>
                <a:ext cx="1187280" cy="19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17985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N°7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La fraction         s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fie-t-elle par 4 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5178600" y="1643040"/>
                <a:ext cx="1536480" cy="19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1:43:48Z</dcterms:created>
  <dc:creator>ms</dc:creator>
  <dc:description/>
  <dc:language>en-US</dc:language>
  <cp:lastModifiedBy>Marionseg</cp:lastModifiedBy>
  <dcterms:modified xsi:type="dcterms:W3CDTF">2010-01-22T15:28:46Z</dcterms:modified>
  <cp:revision>7</cp:revision>
  <dc:subject/>
  <dc:title>Diapositive 1</dc:title>
</cp:coreProperties>
</file>