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1468-121D-4EC7-B045-CE4773C553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3D94-D20C-477B-B536-79A0C370DE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B311-62A1-422E-A875-40A4EA176A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C44B-9FA5-41A2-90F3-1946E1E02B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A70F-0DA0-4726-ADF4-F209D3FDA9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CD80-78E3-420D-838B-A0EF3C5C8F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1098-1BD6-40B0-9F9B-04C3387A1F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3FE7-D66B-41A5-8E66-41E613D8F7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4030-F048-4D8D-B253-F848ECBF4B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BB89-0D8B-4183-9868-88382DD5BFF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EC5E-F498-4322-95FA-3EA8F85B4E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922B-A35C-4C15-B0D7-E3EA6F37D7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BFB2-25F5-4EB7-BEE4-F5D993FF6F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D3ED-54B8-4BC7-AA96-EA58C4E1A4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625C-4456-4DEB-981C-E32F8728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E42-A136-42A6-A9CC-6F4C6486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9F0-5E34-4FD6-AAE4-4A518154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869-377D-46AF-9EDE-1AEB79DA8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DB7-CB6C-4373-94C0-119841C6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748-9ABB-4495-B031-9D6252F5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E60-B5A6-4C3B-87F2-ECC8985B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8F94-759A-43B8-B942-54EEA3D6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4E3-8B53-479D-867D-D4B700F4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AFA-601C-4244-8589-AF605FF5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98B-1268-4E43-8736-19035552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F44-515A-487C-845B-30552081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AEA3-CC01-42AE-BD8D-8A0FD78B7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IERS PAS EN CALCUL LITTÉRAL (2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1557360" y="2709720"/>
                <a:ext cx="603072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×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2460600" y="2709720"/>
                <a:ext cx="42228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2511360" y="2709720"/>
                <a:ext cx="41212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Développer et réduire les expressions suivan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"/>
              <p:cNvSpPr txBox="1"/>
              <p:nvPr/>
            </p:nvSpPr>
            <p:spPr>
              <a:xfrm>
                <a:off x="2762280" y="2709720"/>
                <a:ext cx="36194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2309760" y="2709720"/>
                <a:ext cx="45244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×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2711520" y="2709720"/>
                <a:ext cx="372096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2259000" y="2709720"/>
                <a:ext cx="46260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2360520" y="2709720"/>
                <a:ext cx="44262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×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2411280" y="2709720"/>
                <a:ext cx="43228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2711520" y="2709720"/>
                <a:ext cx="371952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4:04:27Z</dcterms:created>
  <dc:creator>ms</dc:creator>
  <dc:description/>
  <dc:language>en-US</dc:language>
  <cp:lastModifiedBy>Marionseg</cp:lastModifiedBy>
  <dcterms:modified xsi:type="dcterms:W3CDTF">2010-01-17T20:24:07Z</dcterms:modified>
  <cp:revision>9</cp:revision>
  <dc:subject/>
  <dc:title>Calcul littéral (2) Série n°4</dc:title>
</cp:coreProperties>
</file>