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5.wmf" ContentType="image/x-wmf"/>
  <Override PartName="/ppt/media/image10.wmf" ContentType="image/x-wmf"/>
  <Override PartName="/ppt/media/image11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02E0-EAA1-4CA1-8D8F-FA735355BA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430E-FF00-4767-A008-67BCBB8FA1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399-6A8C-402E-8EFA-92C2D353EB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A396-2247-406C-8926-D4A9D3BE2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8A17-021E-4327-BB21-68620B2ACD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16A9-0DF7-4CFC-A776-C54B5D1172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13F-0793-4261-9399-ECF855167B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85CC-372D-4D34-99E1-2D1E87B990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B255-D26C-4C1C-B32E-B592FD503F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3668-566D-47AC-ABA6-619FF928D0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984F-D6FC-4F7B-99FE-1C05C5655C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2B15-6BBB-4100-9EB3-0BC06D1A1A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4ABE-AC53-464A-8365-DFB1B6127F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67A-2644-4447-B986-E7E80D93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160-F767-4E6D-9871-82EF6F09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EA4-296B-47F3-93C9-0CAFA636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83C6-57BF-4B88-943C-B50F4522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713-E98E-4CF5-AFCA-6648008A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3DE-361B-40BC-86E0-61756D4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C58-D3E4-4818-9D5E-0B60A499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445-6C64-4E5E-AF46-630D570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D25-8317-48C2-B0AC-3E4D9C45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4CFA-F5AF-409D-A2D5-D213A2F1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322-A5B3-426E-9747-317DDC7A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000-E88B-461A-BF4C-A7022D27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1F52-28E4-45D5-9F1F-ABE0FC9EBC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RANDISSEMENT ET RÉDUCTION (2)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5564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La figure (2) est-elle un agrandissement de la figure (1) ? 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Si oui, déterminer le coefficient d’agrandisse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210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9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0" y="0"/>
            <a:ext cx="1187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4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0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21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21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rcRect l="19999" t="20745" r="6664" b="20745"/>
          <a:stretch/>
        </p:blipFill>
        <p:spPr>
          <a:xfrm>
            <a:off x="250920" y="1438200"/>
            <a:ext cx="841824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1:18:52Z</dcterms:created>
  <dc:creator>ms</dc:creator>
  <dc:description/>
  <dc:language>en-US</dc:language>
  <cp:lastModifiedBy>Marionseg</cp:lastModifiedBy>
  <dcterms:modified xsi:type="dcterms:W3CDTF">2010-01-17T19:22:27Z</dcterms:modified>
  <cp:revision>14</cp:revision>
  <dc:subject/>
  <dc:title>La figure (2) est-elle un agrandissement de la figure (1) ?  Si oui, calculer le coefficient d’agrandissement.</dc:title>
</cp:coreProperties>
</file>