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A5AC-1B4F-45DC-8031-463CFD2652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CE95-4D69-4033-9F27-DA78D1F8A3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7B81-0B81-4935-AE24-2991454061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2FCE-D9A0-4564-8F96-A000EAA918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E1E6-4A60-4013-8C9D-FE45D835E3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AEA2-AD56-4B8A-94F0-3E4445346B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169B-0B0E-42E7-A424-3E7B1D4A8C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9112-51E7-4B1D-A58E-FF237A8979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75A6-2618-4A73-A4FE-F017D8A7C7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92FD-E876-4DC0-AF86-861D1407BD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FF8F-D6EC-4633-BE85-E64A9A4290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4CDC-8E43-41BE-9092-22556F96BB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2B5B-C139-4922-81B1-0DBE985272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E7DD-5884-4624-B3C2-0B1E6B6B75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9F4C-BD37-42F9-BE3E-AD2C17F822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6A9-5841-431D-8AE3-B74BEFA1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E95-2D3F-49B8-97EC-7E0A1E5B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BF4-9404-4419-A8DD-76A4EEF8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5E5-D34A-4C85-9256-ED33FEDA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6993-5C0B-41E5-B1E0-D46B2D0F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0B2-AFA0-4DDD-9A13-8756A260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415-5B71-4217-AFF5-6AC033B4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B74-A6AA-4C91-A1C5-AFCF89D0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5A8-41E8-48FF-B7FA-4CA0A8BF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7DA-7397-4024-8AFD-DD0335D5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612-3E65-4226-A79F-6A50C76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011-3B7D-4FD4-AD69-DC2BB6B8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F537-6E89-4B9D-8635-A236A8E89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3158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1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400" y="3429000"/>
            <a:ext cx="835812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Double, moitié, quart, triple .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1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tiers de 63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a moitié de 6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05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1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sixième de 79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0" spc="-1" strike="noStrike">
                <a:solidFill>
                  <a:srgbClr val="000000"/>
                </a:solidFill>
                <a:latin typeface="Arial"/>
                <a:ea typeface="Arial"/>
              </a:rPr>
              <a:t>Le neuvième de 1 413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2860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crire sur la grille-réponse uniquement le résultat de l’opération demand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tention! Chaque calcul est affiché en toutes lettres pendant un temps limi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alculatrice est indispensable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428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Calculer en utilisant la bonne touche de la calculatrice ..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1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triple de 23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1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quart de 51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1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double de 69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quadruple de 15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 quintuple de 321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519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  <a:ea typeface="Arial"/>
              </a:rPr>
              <a:t>Les trois quarts de 6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22T17:41:16Z</dcterms:modified>
  <cp:revision>25</cp:revision>
  <dc:subject/>
  <dc:title>Vocabulaire et calcul mental</dc:title>
</cp:coreProperties>
</file>