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E5C3-AEAA-4AE6-BCEA-7DF395F83C8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10D2-50C4-4260-91D9-25E6427867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E9D1-886F-4153-8C58-1814152587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FD39-D5B0-4994-88AE-B16978D269C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1854-71D6-4C96-A3A7-9C906A674F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8DFC-504F-4638-A5AF-472F323BD0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4EBB-50C6-481B-B85B-3462377E83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0103-1622-4380-A061-D9173FB7E3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18C21-770F-468B-B88E-9EB10106AA0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2EB7-3AFD-47AA-801F-A862FC300B5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9AE7-04D9-4C64-951F-7B3EA1FD6B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8082-0426-421A-B6B8-8498690DCB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DBC-E0FE-4F34-9DC8-94AB4E588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0C85-F552-47CA-B107-C0FF50FE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39F-073B-486C-B582-663951E9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222-ABDE-402E-B583-750CCEB03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DDA-B76F-4B78-86F8-CD8B2919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4BA-716A-45F1-94F1-DC983901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2FA-B6BC-48D7-8E78-22FACFE7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B77-1DBA-4811-A1EB-30B38889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4462-8B43-4DF0-B4C0-1E1AB032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3884-9578-41AD-B4AF-8A4F87CB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907-B58C-43AB-949D-848E06D0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C1D-0BF5-4522-B439-DCA1BB0B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F4D8-1913-488D-8523-DC54AAB51CE1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Calibri"/>
              </a:rPr>
              <a:t>VALEURS APPROCHÉES</a:t>
            </a: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</a:rPr>
              <a:t>SÉRIE N°3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Espace réservé du contenu 7"/>
              <p:cNvSpPr txBox="1"/>
              <p:nvPr/>
            </p:nvSpPr>
            <p:spPr>
              <a:xfrm>
                <a:off x="1957320" y="3441600"/>
                <a:ext cx="50007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,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3 m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1" name="ZoneTexte 9"/>
          <p:cNvSpPr/>
          <p:nvPr/>
        </p:nvSpPr>
        <p:spPr>
          <a:xfrm>
            <a:off x="142920" y="1268280"/>
            <a:ext cx="90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 centimètre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4" name="ZoneTexte 9"/>
          <p:cNvSpPr/>
          <p:nvPr/>
        </p:nvSpPr>
        <p:spPr>
          <a:xfrm>
            <a:off x="142920" y="1268280"/>
            <a:ext cx="90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 centimètre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Espace réservé du contenu 7"/>
              <p:cNvSpPr txBox="1"/>
              <p:nvPr/>
            </p:nvSpPr>
            <p:spPr>
              <a:xfrm>
                <a:off x="1957320" y="3441600"/>
                <a:ext cx="500076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,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m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43 mm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Espace réservé du contenu 7"/>
              <p:cNvSpPr txBox="1"/>
              <p:nvPr/>
            </p:nvSpPr>
            <p:spPr>
              <a:xfrm>
                <a:off x="2568600" y="3403440"/>
                <a:ext cx="37782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m²</m:t>
                    </m:r>
                    <m:r>
                      <m:t xml:space="preserve">÷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9" name="ZoneTexte 9"/>
          <p:cNvSpPr/>
          <p:nvPr/>
        </p:nvSpPr>
        <p:spPr>
          <a:xfrm>
            <a:off x="-71280" y="1305000"/>
            <a:ext cx="928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 millimètre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carré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93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0" name="ZoneTexte 4"/>
          <p:cNvSpPr/>
          <p:nvPr/>
        </p:nvSpPr>
        <p:spPr>
          <a:xfrm>
            <a:off x="0" y="2843280"/>
            <a:ext cx="91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ompléter le tableau propos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1" name="Espace réservé du contenu 7"/>
              <p:cNvSpPr txBox="1"/>
              <p:nvPr/>
            </p:nvSpPr>
            <p:spPr>
              <a:xfrm>
                <a:off x="2563920" y="3244680"/>
                <a:ext cx="378756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 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" name="ZoneTexte 9"/>
          <p:cNvSpPr/>
          <p:nvPr/>
        </p:nvSpPr>
        <p:spPr>
          <a:xfrm>
            <a:off x="428760" y="1268280"/>
            <a:ext cx="82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 mètre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Espace réservé du contenu 7"/>
              <p:cNvSpPr txBox="1"/>
              <p:nvPr/>
            </p:nvSpPr>
            <p:spPr>
              <a:xfrm>
                <a:off x="2563920" y="3244680"/>
                <a:ext cx="378756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 </m:t>
                    </m:r>
                    <m:r>
                      <m:t xml:space="preserve">m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 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7" name="ZoneTexte 9"/>
          <p:cNvSpPr/>
          <p:nvPr/>
        </p:nvSpPr>
        <p:spPr>
          <a:xfrm>
            <a:off x="0" y="1268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 centimètre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Espace réservé du contenu 7"/>
              <p:cNvSpPr txBox="1"/>
              <p:nvPr/>
            </p:nvSpPr>
            <p:spPr>
              <a:xfrm>
                <a:off x="2298600" y="3244680"/>
                <a:ext cx="431820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÷</m:t>
                    </m:r>
                    <m:r>
                      <m:t xml:space="preserve"> 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1" name="ZoneTexte 9"/>
          <p:cNvSpPr/>
          <p:nvPr/>
        </p:nvSpPr>
        <p:spPr>
          <a:xfrm>
            <a:off x="428760" y="1268280"/>
            <a:ext cx="82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litre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3" name="Espace réservé du contenu 7"/>
              <p:cNvSpPr txBox="1"/>
              <p:nvPr/>
            </p:nvSpPr>
            <p:spPr>
              <a:xfrm>
                <a:off x="2298600" y="3346560"/>
                <a:ext cx="431820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t xml:space="preserve">€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 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5" name="ZoneTexte 9"/>
          <p:cNvSpPr/>
          <p:nvPr/>
        </p:nvSpPr>
        <p:spPr>
          <a:xfrm>
            <a:off x="428760" y="1268280"/>
            <a:ext cx="828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excès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à un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euro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7" name="Espace réservé du contenu 7"/>
              <p:cNvSpPr txBox="1"/>
              <p:nvPr/>
            </p:nvSpPr>
            <p:spPr>
              <a:xfrm>
                <a:off x="2298600" y="3463920"/>
                <a:ext cx="431820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t xml:space="preserve">€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 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9" name="ZoneTexte 9"/>
          <p:cNvSpPr/>
          <p:nvPr/>
        </p:nvSpPr>
        <p:spPr>
          <a:xfrm>
            <a:off x="0" y="1233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centime d’euro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Espace réservé du contenu 7"/>
              <p:cNvSpPr txBox="1"/>
              <p:nvPr/>
            </p:nvSpPr>
            <p:spPr>
              <a:xfrm>
                <a:off x="2487600" y="3244680"/>
                <a:ext cx="394020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g</m:t>
                    </m:r>
                    <m:r>
                      <m:t xml:space="preserve">÷</m:t>
                    </m:r>
                    <m:r>
                      <m:t xml:space="preserve"> 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3" name="ZoneTexte 9"/>
          <p:cNvSpPr/>
          <p:nvPr/>
        </p:nvSpPr>
        <p:spPr>
          <a:xfrm>
            <a:off x="428760" y="1268280"/>
            <a:ext cx="8501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 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gramme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5" name="Espace réservé du contenu 7"/>
              <p:cNvSpPr txBox="1"/>
              <p:nvPr/>
            </p:nvSpPr>
            <p:spPr>
              <a:xfrm>
                <a:off x="1957320" y="3244680"/>
                <a:ext cx="500076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5 c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7" name="ZoneTexte 9"/>
          <p:cNvSpPr/>
          <p:nvPr/>
        </p:nvSpPr>
        <p:spPr>
          <a:xfrm>
            <a:off x="285840" y="1268280"/>
            <a:ext cx="8572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Donner une valeur approché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par défaut 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au</a:t>
            </a:r>
            <a:r>
              <a:rPr b="1" lang="fr-FR" sz="4400" spc="-1" strike="noStrike">
                <a:solidFill>
                  <a:srgbClr val="0070c0"/>
                </a:solidFill>
                <a:latin typeface="Arial"/>
              </a:rPr>
              <a:t> décilitre</a:t>
            </a: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 près de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Claudine Bertrand-Gorge</dc:creator>
  <dc:description/>
  <dc:language>en-US</dc:language>
  <cp:lastModifiedBy>Marionseg</cp:lastModifiedBy>
  <dcterms:modified xsi:type="dcterms:W3CDTF">2010-01-22T17:33:21Z</dcterms:modified>
  <cp:revision>39</cp:revision>
  <dc:subject/>
  <dc:title>Diapositive 1</dc:title>
</cp:coreProperties>
</file>