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668D-033D-4396-A80D-C73CDE004AF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3E3FB-7633-46C8-BD22-C7F38B42939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0907F-C501-485B-95D0-6C9721CAF12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B22DA-12C8-4A84-8D4B-6CEC18E1AFD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9115D-F32D-4787-B343-E11661E806E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6A51A-6F43-4AD5-B67E-9B2F2216DDD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0CE89-6B34-413B-B744-39C6D6575E7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85498-A3A9-46AE-BF4C-5ED7122EEC2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DF037-D595-431F-A3BF-23EF7CB70C1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F66FC-B5D1-4094-9212-1D92B8EDF7A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3F892-E938-4678-AF10-582748EF5EC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00E5B-9056-4B36-A8F7-60E7A54CE22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82514-C941-4882-B927-9A1F16A706E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6BC84-F0D2-4BC5-B18A-EF1D8C6DAE2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2A3CA-BB05-4643-877B-8F5A5FF19C2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1A1DF-DFAF-4D22-BF92-A12F8DCE738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801E-F56B-43B9-8014-C46F7B6AD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A30C-D4AE-440F-B522-42E4DE709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1830-634F-41BB-80AA-37A9118E0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EAF5-94A9-4666-B1EB-9233303F3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D142-850C-443F-AC8C-4819A90F1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6F3D-FD69-4EDF-9CE8-C6AB3E5DD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F587-94F9-4E55-8880-1E73527F5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DF16-647B-4E2B-ABBD-0FBEF0356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45A0-290C-4920-B656-7D450E9A0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4C6A-3603-4E90-A5D5-89E4AC89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5D9A-582E-4C40-914E-B042A87E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9BD7-887B-402E-B11D-3C7C288E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77357-A246-42D4-9DA4-FC250762DD54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203480"/>
            <a:ext cx="9144000" cy="35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LLE DIVISION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9999"/>
                </a:solidFill>
                <a:latin typeface="Arial"/>
              </a:rPr>
              <a:t>Énoncé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14200" y="2204640"/>
            <a:ext cx="8715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Le périmètre d’un carré est de 23 c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Quelle est la longueur d’un de ses côtés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9999"/>
                </a:solidFill>
                <a:latin typeface="Arial"/>
              </a:rPr>
              <a:t>Énoncé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14200" y="2204640"/>
            <a:ext cx="8715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Rosine a une boîte de 550 perles. Elle fabrique des colliers de 28 perles chacun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Combien de colliers peut-elle réaliser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9999"/>
                </a:solidFill>
                <a:latin typeface="Arial"/>
              </a:rPr>
              <a:t>Énoncé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4200" y="2204640"/>
            <a:ext cx="8715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Antoine parcourt 14 m en 16 pa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Quelle est, en cm, la longueur d’u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de ses pas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9999"/>
                </a:solidFill>
                <a:latin typeface="Arial"/>
              </a:rPr>
              <a:t>Énoncé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4200" y="2204640"/>
            <a:ext cx="8715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J’achète dix-huit sucettes pour 12,60 €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Quel est le prix d’une sucette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9999"/>
                </a:solidFill>
                <a:latin typeface="Arial"/>
              </a:rPr>
              <a:t>Énoncé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4200" y="2204640"/>
            <a:ext cx="8715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Combien peut-on rempli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de pots de 250 g avec 3,8 k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de confiture de fraises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1203480"/>
            <a:ext cx="9144000" cy="35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0000"/>
                </a:solidFill>
                <a:latin typeface="Arial"/>
                <a:ea typeface="Times New Roman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75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785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4400" spc="-1" strike="noStrike">
                <a:solidFill>
                  <a:srgbClr val="000000"/>
                </a:solidFill>
                <a:latin typeface="Arial"/>
              </a:rPr>
              <a:t>Pour chaque problème, choisir  la division la mieux adaptée : </a:t>
            </a:r>
            <a:br>
              <a:rPr sz="4400"/>
            </a:br>
            <a:r>
              <a:rPr b="0" i="1" lang="fr-FR" sz="4400" spc="-1" strike="noStrike">
                <a:solidFill>
                  <a:srgbClr val="000000"/>
                </a:solidFill>
                <a:latin typeface="Arial"/>
              </a:rPr>
              <a:t>cocher la case </a:t>
            </a:r>
            <a:r>
              <a:rPr b="1" i="1" lang="fr-FR" sz="4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fr-FR" sz="4400" spc="-1" strike="noStrike">
                <a:solidFill>
                  <a:srgbClr val="000000"/>
                </a:solidFill>
                <a:latin typeface="Arial"/>
              </a:rPr>
              <a:t> s’il s’agit d’une division euclidienne,  </a:t>
            </a:r>
            <a:br>
              <a:rPr sz="4400"/>
            </a:br>
            <a:r>
              <a:rPr b="0" i="1" lang="fr-FR" sz="4400" spc="-1" strike="noStrike">
                <a:solidFill>
                  <a:srgbClr val="000000"/>
                </a:solidFill>
                <a:latin typeface="Arial"/>
              </a:rPr>
              <a:t>la case </a:t>
            </a:r>
            <a:r>
              <a:rPr b="1" i="1" lang="fr-FR" sz="4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fr-FR" sz="4400" spc="-1" strike="noStrike">
                <a:solidFill>
                  <a:srgbClr val="000000"/>
                </a:solidFill>
                <a:latin typeface="Arial"/>
              </a:rPr>
              <a:t> s’il s’agit d’une division décimale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i="1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4400" spc="-1" strike="noStrike">
                <a:solidFill>
                  <a:srgbClr val="000000"/>
                </a:solidFill>
                <a:latin typeface="Arial"/>
              </a:rPr>
              <a:t>Compléter par l’affichage donné </a:t>
            </a:r>
            <a:br>
              <a:rPr sz="4400"/>
            </a:br>
            <a:r>
              <a:rPr b="0" i="1" lang="fr-FR" sz="4400" spc="-1" strike="noStrike">
                <a:solidFill>
                  <a:srgbClr val="000000"/>
                </a:solidFill>
                <a:latin typeface="Arial"/>
              </a:rPr>
              <a:t>par la calculatrice dans la colonne qui convient. </a:t>
            </a:r>
            <a:br>
              <a:rPr sz="4400"/>
            </a:br>
            <a:r>
              <a:rPr b="0" i="1" lang="fr-FR" sz="4400" spc="-1" strike="noStrike">
                <a:solidFill>
                  <a:srgbClr val="000000"/>
                </a:solidFill>
                <a:latin typeface="Arial"/>
              </a:rPr>
              <a:t>Enfin, écrire la réponse </a:t>
            </a:r>
            <a:br>
              <a:rPr sz="4400"/>
            </a:br>
            <a:r>
              <a:rPr b="0" i="1" lang="fr-FR" sz="4400" spc="-1" strike="noStrike">
                <a:solidFill>
                  <a:srgbClr val="000000"/>
                </a:solidFill>
                <a:latin typeface="Arial"/>
              </a:rPr>
              <a:t>à la question posée.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9999"/>
                </a:solidFill>
                <a:latin typeface="Arial"/>
              </a:rPr>
              <a:t>Énoncé 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14200" y="2204640"/>
            <a:ext cx="8715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Un collège a reçu 340 livrets scolaires. On les range dans des cartons pouvant contenir chacun 25 livret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Combien faut-il prévoir de cartons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9999"/>
                </a:solidFill>
                <a:latin typeface="Arial"/>
              </a:rPr>
              <a:t>Énoncé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14200" y="2204640"/>
            <a:ext cx="8715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Un fleuriste veut réaliser des bouquets de 7 roses. Il dispose de 158 rose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Combien de bouquets pourra-t-il réaliser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9999"/>
                </a:solidFill>
                <a:latin typeface="Arial"/>
              </a:rPr>
              <a:t>Énoncé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14200" y="2000160"/>
            <a:ext cx="8715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Un chocolatier doit répartir ses 4381 chocolats en ballotins contenant chacun 35 chocolats. Les chocolats restants sont pour lu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Combien va-t-il en manger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9999"/>
                </a:solidFill>
                <a:latin typeface="Arial"/>
              </a:rPr>
              <a:t>Énoncé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14200" y="2000160"/>
            <a:ext cx="8715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Quinze amis mangent ensemble au restauran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Ils partagent entre eux équitablement l'addition qui s'élève à 252 €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Combien chacun paie-t-il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9999"/>
                </a:solidFill>
                <a:latin typeface="Arial"/>
              </a:rPr>
              <a:t>Énoncé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14200" y="1714320"/>
            <a:ext cx="8715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Un centre aéré accueille 200 enfants encadrés par 25 adultes. Une sortie cinéma, avec transport en car, est prévue. Chaque car peut contenir 35 personnes au maxim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Combien le responsable doit-i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réserver de cars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9999"/>
                </a:solidFill>
                <a:latin typeface="Arial"/>
              </a:rPr>
              <a:t>Énoncé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14200" y="2204640"/>
            <a:ext cx="8715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La documentaliste d’un collège doit ranger 485 manuels sur des étagères pouvant en contenir 16 chacun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Combien restera-t-il de places disponibles sur la dernière étagère occupée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8T15:21:51Z</dcterms:created>
  <dc:creator>Claudine Bertrand-Gorge</dc:creator>
  <dc:description/>
  <dc:language>en-US</dc:language>
  <cp:lastModifiedBy>Marionseg</cp:lastModifiedBy>
  <dcterms:modified xsi:type="dcterms:W3CDTF">2010-01-22T17:24:56Z</dcterms:modified>
  <cp:revision>26</cp:revision>
  <dc:subject/>
  <dc:title>QUELLE DIVISION ?</dc:title>
</cp:coreProperties>
</file>