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5766-8835-4560-B330-CE22E5D0FAE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6A9C-552C-40EF-B69C-94F02656AB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9D9A-8051-4EDC-98F4-4E4B679B61D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34F0-408C-4594-A0D6-D29BBD7A40B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32C7-E0B3-4286-9F8A-985E657C92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1B17-1B65-46B7-AFBF-B3E7E88198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1549-DB07-4E22-8FD8-5787B70F6B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58D1-0551-4831-A83C-8756E37D0D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1EA6-0D40-4C50-B1B3-3475EF40D4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F483-7CC6-4D2E-A104-191F767A53A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9CAD-3882-404B-BC2F-138B016D2A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0DCAF-9957-485B-84AB-9CADE85623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7E6-90EF-4E54-BF62-1F6654218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832-A7CA-4D8E-B817-86D80C54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0AB-77A9-46A1-9251-7F4E87D6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4AEC-A7B0-4595-AA1C-29463F2D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298D-17C3-48AB-95F8-525197D1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46D6-CA9D-4AB1-A55B-5C995190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B39B-F022-4A80-8129-18664402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B1E7-A63E-460D-A29A-9CB5605A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8A13-F909-4125-86FF-569E9B47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1907-89F5-4E60-91D3-C7E17633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9826-E32A-4B63-B526-4696650A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6604-D566-4629-A7C4-C05C5293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6FB8-F3E4-40F9-92AE-AD0938B7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34CA-A51C-4267-964F-C583C886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1202-848A-4D31-B752-E0442DF7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6CC9-8E95-4ECD-8574-724C4BA8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A3D2-FD53-4A18-8512-813986D7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3B2-AEAD-45F7-A78E-94D5746C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700B-B711-4A9C-9B0E-B6B27C12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F349-6A32-4811-8D62-A01EC0AB0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2F2-23DC-4EF4-A479-07E35A95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D56-01E9-4F15-AF14-85D4B3E9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7A0-712D-4908-9743-6B8F1891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A121-1968-405C-B7C8-6B004119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8FB4-F485-447A-AEC7-86809B1BB82C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4932360" y="2349360"/>
            <a:ext cx="3743280" cy="215928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55C6-7F3E-423C-8BA5-0968E8B093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</a:rPr>
              <a:t>TABLES DE MULTIPLICATION</a:t>
            </a:r>
            <a:br>
              <a:rPr sz="5400"/>
            </a:b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SÉRIES N°1 ET 1BI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71320" y="3212640"/>
            <a:ext cx="3429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12 combien de fois 3 ?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072040" y="32137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21 combien de fois 3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42960" y="297396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4 pour obtenir 28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072040" y="294696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3 pour obtenir 24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1542960" y="3252960"/>
                <a:ext cx="17431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6006960" y="3252960"/>
                <a:ext cx="17431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</a:rPr>
              <a:t>FIN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40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2130120"/>
            <a:ext cx="8286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ffectuer la multiplication proposée, compléter l’égalité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 répondre à la ques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4271400" y="309492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4271400" y="35017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1730520" y="3254400"/>
                <a:ext cx="12016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18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7"/>
              <p:cNvSpPr txBox="1"/>
              <p:nvPr/>
            </p:nvSpPr>
            <p:spPr>
              <a:xfrm>
                <a:off x="6197760" y="3252960"/>
                <a:ext cx="1190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42960" y="3143880"/>
            <a:ext cx="36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ltiplier 5 pour obtenir 30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072040" y="311040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5 pour obtenir 40 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4"/>
              <p:cNvSpPr txBox="1"/>
              <p:nvPr/>
            </p:nvSpPr>
            <p:spPr>
              <a:xfrm>
                <a:off x="1447920" y="3252960"/>
                <a:ext cx="18158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6"/>
              <p:cNvSpPr txBox="1"/>
              <p:nvPr/>
            </p:nvSpPr>
            <p:spPr>
              <a:xfrm>
                <a:off x="6000840" y="3252960"/>
                <a:ext cx="17748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642960" y="32137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25 combien de fois 5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5072040" y="32137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27 combien de fois 9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1459080" y="3252960"/>
                <a:ext cx="17856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942160" y="3252960"/>
                <a:ext cx="17301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5143680" y="2988000"/>
            <a:ext cx="328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3 pour obtenir            12 ?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14240" y="2988000"/>
            <a:ext cx="328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4 pour obtenir            16 ?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1735200" y="3252960"/>
                <a:ext cx="1189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6269040" y="3252960"/>
                <a:ext cx="1190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33:29Z</dcterms:modified>
  <cp:revision>31</cp:revision>
  <dc:subject/>
  <dc:title>Diapositive 1</dc:title>
</cp:coreProperties>
</file>