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F314-B1E4-4722-A7E4-32B9834A30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78BB-65A2-4D43-9665-5E5AF018C3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C16C-732B-4C88-B274-1E7C6B2B1E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3AF2-4FF2-4D6E-AEC1-CBE8BC99C2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E82B-0591-47BC-ACE8-3E96EB68B1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D692-EBAD-4A04-A440-8437B12FE5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DB12-AD14-4BBD-8BEE-DA1C205356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96A-2132-4E8C-B560-89D29437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C15D-D923-4719-83AE-BDD4FAD1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578-A20E-4CC9-8A62-F61B8737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945-563D-4603-A7D4-83B557B3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C81F-0288-4CB4-BECE-CEB11932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3DBE-ACB3-40A6-9A0B-EF2E1270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FDBA-A140-4B06-9AE8-19D3152E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6C8C-1C94-4D6F-9650-4ED27BEB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4ED3-136A-44A3-B434-78E81DE9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B0D5-190D-4960-9FB4-5C7466B4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75E4-2C27-45F3-9749-7E0D401D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C05-A491-49C6-8D2C-59C2AE4E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D8C8-19DB-45AD-B744-C70343AC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867C-7058-4A2D-84FB-86F8FDFF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3E26-B07B-4A95-ACF1-93406DE4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E67B-572F-40D5-869C-56C15272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A0C1-E920-4DA1-87B7-D604514D2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646-D809-467A-B0C9-A26C7E1E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9B68-FAE1-451F-9028-D06FCAB5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7E06-9E10-4ACE-A23B-D3EF7D40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804-8A16-4041-89EB-EEB8AC01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4F9F-5C2C-462B-9788-0BB2C4B9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474B-929A-4797-AF39-FEF134F3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654-79A0-4CDC-8AAA-0FD3E46A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B5C7-2AF4-400A-BE26-BF35851521FE}" type="slidenum"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AA44-AA6C-4EA7-946C-197E86DEB7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ULTIPLICATION 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 3 ET N°3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Calculer et donner éventuellement le  résultat simplifi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1657440" y="2841480"/>
                <a:ext cx="1346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6137280" y="2841480"/>
                <a:ext cx="1320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492200" y="2828880"/>
                <a:ext cx="1676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848200" y="2841480"/>
                <a:ext cx="1892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571760" y="2841480"/>
                <a:ext cx="1511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6027840" y="2841480"/>
                <a:ext cx="1536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1555920" y="2841480"/>
                <a:ext cx="1549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6000840" y="2841480"/>
                <a:ext cx="1587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1204920" y="2828880"/>
                <a:ext cx="2247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5664240" y="2836800"/>
                <a:ext cx="2260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9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5:16Z</dcterms:modified>
  <cp:revision>21</cp:revision>
  <dc:subject/>
  <dc:title>Diapositive 1</dc:title>
</cp:coreProperties>
</file>