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DED0-5EF4-4226-A738-1B6F4CFF85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3550-9FBC-4E78-AC90-507428455C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D963-AE47-4818-8FD7-14790BEC1B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C7AF-37FD-4A09-9274-6251DC9980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B8D4-E1B7-4665-8288-96ED965CBB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4F6C-3D12-43D8-8C6F-6208F578B9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D276-409A-4BCB-A65B-4D59183660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AB23-5F10-4160-A9B9-48C9D52DD9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EBE9-F39F-4C32-B395-741B110345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759F-6972-4CA6-929A-CBF0EB06F2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C89C-E52A-41BE-A407-89FA84280A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C762-7625-4660-88AB-4B6EBCF18B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4360-2E89-406F-A301-F03F907376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70DB-5208-4802-9DD3-DB82567862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078-A01C-4AA3-9F44-3AFFF2E6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62D-A67C-47F8-8801-1C714D25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DCAF-4BDB-4300-937F-2BB05A4F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D9B-E70C-4040-80FF-B30C69EB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A0B4-A39B-4860-A8E3-20C7265D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7414-82B9-4099-A730-22739AC2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636B-8B5E-458C-BAB3-DB906542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488-2490-4E9D-AAD5-E80B100B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B9F-B7DD-46DD-A7C2-59A28F6D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512-87FF-4449-91FE-CCCA8467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603-B2DC-49CF-AF56-63EEDB96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7066-2B2D-4F38-BF5C-F3E5354C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95F2-5522-4932-A4E2-459DB60F409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EBEE-5B97-4224-BEBB-9F033C76E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NOMBRE MANQUANT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♦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– 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40 = 12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♦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503000" y="1571760"/>
            <a:ext cx="621180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a différence 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deux termes est 11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e plus petit est 37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  <a:ea typeface="Arial"/>
              </a:rPr>
              <a:t>Quel est le plus grand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00120" y="1571760"/>
            <a:ext cx="599760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a différence 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deux termes est 11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e plus grand est 37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  <a:ea typeface="Arial"/>
              </a:rPr>
              <a:t>Quel est le plus peti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7"/>
          <p:cNvSpPr/>
          <p:nvPr/>
        </p:nvSpPr>
        <p:spPr>
          <a:xfrm>
            <a:off x="1071720" y="714240"/>
            <a:ext cx="714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6600cc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1785600"/>
            <a:ext cx="507204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Trouver </a:t>
            </a:r>
            <a:br>
              <a:rPr sz="5400"/>
            </a:b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le nombre manquant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12 + ▲ = 3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▲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  <a:ea typeface="Arial"/>
              </a:rPr>
              <a:t>Quel nombr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faut-il ajouter à 25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pour obtenir 100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57200" y="1571760"/>
            <a:ext cx="642960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600cc"/>
                </a:solidFill>
                <a:latin typeface="Arial"/>
                <a:ea typeface="Arial"/>
              </a:rPr>
              <a:t>La somme de deux nombres est 44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6600cc"/>
                </a:solidFill>
                <a:latin typeface="Arial"/>
                <a:ea typeface="Arial"/>
              </a:rPr>
              <a:t>L’un des termes est 26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b050"/>
                </a:solidFill>
                <a:latin typeface="Arial"/>
                <a:ea typeface="Arial"/>
              </a:rPr>
              <a:t>Quel est l’autre terme 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90 = </a:t>
            </a: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■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+ 4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■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0012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♥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+ 570 = 1 0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♥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36 – </a:t>
            </a: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♣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= 27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♣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0012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  <a:ea typeface="Arial"/>
              </a:rPr>
              <a:t>Quel nomb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faut-il retrancher à 100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pour obtenir 86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6:35:25Z</dcterms:modified>
  <cp:revision>194</cp:revision>
  <dc:subject/>
  <dc:title>Diapositive 0</dc:title>
</cp:coreProperties>
</file>