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B3DD-BDF8-4143-98BE-84F8489C54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9C08-E96D-42E4-AA0D-14D1931B1B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FBAC-ACE0-4BFB-9BE4-784499D70C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3BF1-02DB-4FFA-BDE8-DF0EDF691A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66E5-6631-4206-97EB-EFB9265C7C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34A-FC3F-4F57-BC6D-C3DB1B8E85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F0E9-743D-4565-B404-FB6AA8035E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3514-B0F8-46E8-B176-0DB6F4D7A7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0550-BE0E-4A96-8CCB-B41AF9A8B5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1CF4-78DF-433B-87B9-8A9B5CC75B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723E-2D12-4C6B-8FB3-97932FDEF9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C050-28C1-4309-A691-50D8C950F2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1900-AF6B-4F73-904E-C14A939B9D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43B3-4A5B-4274-8A5F-5DC1C73ABF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1BC1-23C0-4A5D-B01E-ED777CADBC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4BFD-338E-4BD9-98EA-F999F766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0B2-0BA6-4CC4-AA9F-FDEAFE3D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BCD-BD5B-42FA-B9E6-DE414AEF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EA9-CB64-4061-BE93-5C702AD6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6F20-D18D-4307-9091-9B958378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CD0-EF78-436B-A67E-063FBAD9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CE8-C5AC-4872-9D80-3ABD0C00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243E-3DF0-4CA9-9A9E-C7222545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991-6464-406F-83A6-7744BEF0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922-E08C-4633-BEA2-10E10636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021B-5DB1-478A-9E0E-9DB515A7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B06-C2FD-48BF-BF04-D4A0EC0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3E6E-8E94-425E-8337-1E4A044C9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CODER UNE FIGURE (3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7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ôté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os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8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iagonal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erf-vo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9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ôté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0020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0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iagonal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arr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0020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7"/>
          <p:cNvSpPr/>
          <p:nvPr/>
        </p:nvSpPr>
        <p:spPr>
          <a:xfrm>
            <a:off x="324000" y="476280"/>
            <a:ext cx="851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eci est un quadrilatè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_x0012_Quadrilatère 0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590920" y="1905120"/>
            <a:ext cx="4025880" cy="373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Les figures suivantes sont faites à main levée.</a:t>
            </a:r>
            <a:br>
              <a:rPr sz="4800"/>
            </a:br>
            <a:br>
              <a:rPr sz="4800"/>
            </a:b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oder les diagonales ou les côtés des quadrilatères afin de respecter la consig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1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ôté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arallé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iagonal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519120" y="136440"/>
            <a:ext cx="815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3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ôté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arr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86000" y="1676520"/>
            <a:ext cx="467352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4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ôté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erf-vo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5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iagonal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parallé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519120" y="136440"/>
            <a:ext cx="815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6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der les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diagonal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afin que                                  ABCD soit un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los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_x0012_Quadrilatère 1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2209680" y="1676520"/>
            <a:ext cx="467388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nseg</dc:creator>
  <dc:description/>
  <dc:language>en-US</dc:language>
  <cp:lastModifiedBy>Marionseg</cp:lastModifiedBy>
  <dcterms:modified xsi:type="dcterms:W3CDTF">2010-05-30T07:55:27Z</dcterms:modified>
  <cp:revision>10</cp:revision>
  <dc:subject/>
  <dc:title>PowerPoint Presentation</dc:title>
</cp:coreProperties>
</file>