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E97C-2965-40AE-B595-37BCF5F596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1D90-9A95-490C-8A6C-2FDB0B26F1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E4EE-3CC3-430A-8DD7-4FB6FBE61F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614F-76F4-42D8-820C-309E62F04F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9743-07BD-4027-B799-5398934722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6253-D870-4B0F-8D2A-E15CCEF568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9888-CC90-45AA-A2F4-6707E117B6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9B51-20CD-4D4B-B1F6-BBFEBCF32C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B323-1A7B-4A71-83BF-825E89ED10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30A0-8DE9-468F-9C71-066C033311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6628-039F-422C-8D53-4690C04F40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94FA-1131-46ED-B584-6257636636C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3724-56A3-4FCE-97BA-E1DA670B8E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9D83-93F3-4CF5-97CF-43BC8420A2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DB7-D954-4AD7-ABF3-BC89C643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F2F-4172-4424-9235-CB295369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A7D-A1DF-496F-9A53-A1E31040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D1A-FFFA-48CA-B677-B71D21C5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C282-9815-4A7C-9880-80755E30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408F-C4C6-4ADC-91D8-156168A3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477-B0AB-47A3-B86D-350EA5C6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0B21-EADE-4AFB-90EB-A3DD4A3B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972-55BD-4A8F-ABD7-EF0DF1E9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2AE5-16E1-4DF7-A538-030F8BEE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8550-9E7F-4C7E-8CD3-E718EC14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8777-A318-4518-93D2-A8A852A0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ABC9-B166-4BC8-A200-4F242D656F6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9EA5-5A37-40F7-B84F-DF32071EBB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203480"/>
            <a:ext cx="91440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Division euclidienne</a:t>
            </a:r>
            <a:br>
              <a:rPr sz="6600"/>
            </a:br>
            <a:r>
              <a:rPr b="1" lang="fr-FR" sz="6600" spc="-1" strike="noStrike">
                <a:solidFill>
                  <a:srgbClr val="000000"/>
                </a:solidFill>
                <a:latin typeface="Arial"/>
                <a:ea typeface="Arial"/>
              </a:rPr>
              <a:t>Série 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Le reste dans cette divi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euclidienne est 6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Le diviseur est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4514760" y="3327480"/>
                <a:ext cx="114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2247840" y="2247840"/>
                <a:ext cx="453384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Rectangle 2"/>
          <p:cNvSpPr/>
          <p:nvPr/>
        </p:nvSpPr>
        <p:spPr>
          <a:xfrm>
            <a:off x="0" y="0"/>
            <a:ext cx="135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Le reste de la division euclidien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de 27 par 5 est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2"/>
              <p:cNvSpPr txBox="1"/>
              <p:nvPr/>
            </p:nvSpPr>
            <p:spPr>
              <a:xfrm>
                <a:off x="4514760" y="3327480"/>
                <a:ext cx="114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2263680" y="2111400"/>
                <a:ext cx="46785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Rectangle 2"/>
          <p:cNvSpPr/>
          <p:nvPr/>
        </p:nvSpPr>
        <p:spPr>
          <a:xfrm>
            <a:off x="0" y="0"/>
            <a:ext cx="135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Le reste dans cette div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euclidienne est 4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Le quotient est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4514760" y="3327480"/>
                <a:ext cx="114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2008080" y="2111400"/>
                <a:ext cx="46101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2"/>
          <p:cNvSpPr/>
          <p:nvPr/>
        </p:nvSpPr>
        <p:spPr>
          <a:xfrm>
            <a:off x="0" y="0"/>
            <a:ext cx="150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203480"/>
            <a:ext cx="91440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7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4514760" y="3327480"/>
                <a:ext cx="114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" name="ZoneTexte 10"/>
          <p:cNvSpPr/>
          <p:nvPr/>
        </p:nvSpPr>
        <p:spPr>
          <a:xfrm>
            <a:off x="0" y="114300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Arial"/>
              </a:rPr>
              <a:t>Compléter chaque phrase à l’aide du nombre qui convient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Le reste de la division euclidien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de 11 par 2 est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2"/>
              <p:cNvSpPr txBox="1"/>
              <p:nvPr/>
            </p:nvSpPr>
            <p:spPr>
              <a:xfrm>
                <a:off x="4514760" y="3327480"/>
                <a:ext cx="114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2419200" y="2013120"/>
                <a:ext cx="43228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Rectangle 2"/>
          <p:cNvSpPr/>
          <p:nvPr/>
        </p:nvSpPr>
        <p:spPr>
          <a:xfrm>
            <a:off x="0" y="0"/>
            <a:ext cx="135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Le quotient de la division euclidienne de 34 par 7 est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4514760" y="3327480"/>
                <a:ext cx="114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2052720" y="2104920"/>
                <a:ext cx="474984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" name="Rectangle 2"/>
          <p:cNvSpPr/>
          <p:nvPr/>
        </p:nvSpPr>
        <p:spPr>
          <a:xfrm>
            <a:off x="0" y="0"/>
            <a:ext cx="135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Le reste de la division euclidien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de 35 par 7 est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4514760" y="3327480"/>
                <a:ext cx="114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2230560" y="2058840"/>
                <a:ext cx="467172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2"/>
          <p:cNvSpPr/>
          <p:nvPr/>
        </p:nvSpPr>
        <p:spPr>
          <a:xfrm>
            <a:off x="0" y="0"/>
            <a:ext cx="135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Le reste de la division euclidien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de 22 par 6 est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"/>
              <p:cNvSpPr txBox="1"/>
              <p:nvPr/>
            </p:nvSpPr>
            <p:spPr>
              <a:xfrm>
                <a:off x="4514760" y="3327480"/>
                <a:ext cx="114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2444760" y="2168640"/>
                <a:ext cx="424332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Rectangle 2"/>
          <p:cNvSpPr/>
          <p:nvPr/>
        </p:nvSpPr>
        <p:spPr>
          <a:xfrm>
            <a:off x="0" y="0"/>
            <a:ext cx="135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Le quotient de la division euclidienne de 34 par 4 est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2"/>
              <p:cNvSpPr txBox="1"/>
              <p:nvPr/>
            </p:nvSpPr>
            <p:spPr>
              <a:xfrm>
                <a:off x="4514760" y="3327480"/>
                <a:ext cx="114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2282760" y="1984320"/>
                <a:ext cx="474984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Rectangle 2"/>
          <p:cNvSpPr/>
          <p:nvPr/>
        </p:nvSpPr>
        <p:spPr>
          <a:xfrm>
            <a:off x="0" y="0"/>
            <a:ext cx="135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Le reste de la division euclidien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de 54 par 9 est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2"/>
              <p:cNvSpPr txBox="1"/>
              <p:nvPr/>
            </p:nvSpPr>
            <p:spPr>
              <a:xfrm>
                <a:off x="4514760" y="3327480"/>
                <a:ext cx="114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135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2928960" y="2052720"/>
                <a:ext cx="318924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Le reste de la division euclidienn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de 11 par 3 est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2"/>
              <p:cNvSpPr txBox="1"/>
              <p:nvPr/>
            </p:nvSpPr>
            <p:spPr>
              <a:xfrm>
                <a:off x="4514760" y="3327480"/>
                <a:ext cx="11448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2322360" y="2112840"/>
                <a:ext cx="447048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Rectangle 2"/>
          <p:cNvSpPr/>
          <p:nvPr/>
        </p:nvSpPr>
        <p:spPr>
          <a:xfrm>
            <a:off x="0" y="0"/>
            <a:ext cx="135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ff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5:11:23Z</dcterms:created>
  <dc:creator>Claudine Bertrand-Gorge</dc:creator>
  <dc:description/>
  <dc:language>en-US</dc:language>
  <cp:lastModifiedBy>Marionseg</cp:lastModifiedBy>
  <dcterms:modified xsi:type="dcterms:W3CDTF">2010-01-22T15:45:24Z</dcterms:modified>
  <cp:revision>20</cp:revision>
  <dc:subject/>
  <dc:title>Diapositive 1</dc:title>
</cp:coreProperties>
</file>