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2A5C-24F5-407C-A95C-6EBA23440B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5CC1-1997-451B-8BE7-20FFBD7813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1ECF-4E90-49DD-80B1-9AE3D4D6DE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66AC-FF58-43F9-8770-DE1E4991A8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3023-8E63-4C44-96F1-4BB9C14D10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37A8-E0F9-439A-AFF1-A4D6F8FF4F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6B63-533D-403D-9C2A-E6B2BD54B0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8A96-9BFA-4BA0-A5A1-B4FF8407E6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7509-FC59-4C4F-A444-2F2E9985A1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0CCC-3BFD-49AB-95CC-14A0CAD7DF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75BF-87D7-4AD0-AB85-569C505DC8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8351-29AC-406A-832C-2EF4A50DBC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4E9F-9306-40B6-8D68-45FE444EE9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F3D3-9923-48B1-BCE0-94ED73AC4C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B9E-5EE7-477F-B23A-096B1EF3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88C-C0FF-471F-9A2B-9740BDA7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B58F-D39F-4113-BCAF-73EEA03E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D67-421E-4C3E-9CEA-4BC2C6EE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B18-F557-46EA-9A32-93ED8F09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66D-1879-4464-8BA1-FF8FEF12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697-C002-4792-A253-05F0E220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2558-ACCA-4F7E-AE6D-34BC4176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A48E-A594-4068-A135-AAC69E44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8810-6954-4873-800A-242E0BD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80DA-ADD9-46BD-AABE-1689BD2B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1E4A-495F-434A-BE01-E36EA842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8D9F-A17A-4C19-8A0F-136B4CC6A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IDENTITÉS REMARQUABLES (1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"/>
              <p:cNvSpPr txBox="1"/>
              <p:nvPr/>
            </p:nvSpPr>
            <p:spPr>
              <a:xfrm>
                <a:off x="1863720" y="2517840"/>
                <a:ext cx="597852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"/>
              <p:cNvSpPr txBox="1"/>
              <p:nvPr/>
            </p:nvSpPr>
            <p:spPr>
              <a:xfrm>
                <a:off x="366840" y="2517840"/>
                <a:ext cx="828036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1"/>
              <p:cNvSpPr txBox="1"/>
              <p:nvPr/>
            </p:nvSpPr>
            <p:spPr>
              <a:xfrm>
                <a:off x="2000160" y="2517840"/>
                <a:ext cx="5197680" cy="23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7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1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0000"/>
                </a:solidFill>
                <a:latin typeface="Calibri"/>
              </a:rPr>
              <a:t>Développer à l’aide des identités remarquables :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2273400" y="2517840"/>
                <a:ext cx="471492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2274840" y="2517840"/>
                <a:ext cx="5292720" cy="23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1"/>
              <p:cNvSpPr txBox="1"/>
              <p:nvPr/>
            </p:nvSpPr>
            <p:spPr>
              <a:xfrm>
                <a:off x="104760" y="2517840"/>
                <a:ext cx="8948880" cy="23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"/>
              <p:cNvSpPr txBox="1"/>
              <p:nvPr/>
            </p:nvSpPr>
            <p:spPr>
              <a:xfrm>
                <a:off x="2273400" y="2517840"/>
                <a:ext cx="5197320" cy="23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"/>
              <p:cNvSpPr txBox="1"/>
              <p:nvPr/>
            </p:nvSpPr>
            <p:spPr>
              <a:xfrm>
                <a:off x="3240" y="2517840"/>
                <a:ext cx="918360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"/>
              <p:cNvSpPr txBox="1"/>
              <p:nvPr/>
            </p:nvSpPr>
            <p:spPr>
              <a:xfrm>
                <a:off x="2273400" y="2517840"/>
                <a:ext cx="4808520" cy="23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"/>
              <p:cNvSpPr txBox="1"/>
              <p:nvPr/>
            </p:nvSpPr>
            <p:spPr>
              <a:xfrm>
                <a:off x="-239760" y="2517840"/>
                <a:ext cx="959652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8:56:38Z</dcterms:created>
  <dc:creator>ms</dc:creator>
  <dc:description/>
  <dc:language>en-US</dc:language>
  <cp:lastModifiedBy>Marionseg</cp:lastModifiedBy>
  <dcterms:modified xsi:type="dcterms:W3CDTF">2010-01-17T20:09:37Z</dcterms:modified>
  <cp:revision>4</cp:revision>
  <dc:subject/>
  <dc:title>Identités remarquables (1) Série n°1</dc:title>
</cp:coreProperties>
</file>