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8F6E-84E5-485D-AD98-96DBC4829C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D267-AA94-45A9-BE9D-E4ABDA6AE6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0B5E-7EB4-4CFA-BBA7-4120063C6C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C963-029E-4A1B-BEEE-491B1AC4C0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8B94-643F-4139-8C01-33BF1E135D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003D-F624-4351-8B68-FF59DDC2D3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1DE2-88E2-46C0-BB24-D06A99382B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F55D-9231-48AE-B25B-817A3E014E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7CD6-F384-4D36-8A06-2DB4E73835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1569-C577-4D87-A817-5AAC6EF735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7777-16E9-40CB-9F22-40762D0AF6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E037-2C99-4E35-9CCB-CB43F7F175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3B45-E119-48D1-B3D5-318D6EC719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B0B1-4630-4284-BA14-E543E857A1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2716-2E75-4985-A34F-AF2C72AF8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2B3C-1F93-4999-B1F4-69BC90FC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3E77-FA7A-4039-AE42-465B0630E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0EC1-3DE8-4813-9157-2E599014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9BD4-444C-44CA-BF60-F7AB42FE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EBEA-2149-4D35-8598-4C4B8E5D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14DD-4D64-4CD3-A008-DD22C76A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7D69-C25C-4C84-A00E-5FA850E1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F25A-F9C1-45EA-8CAB-FC950F42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B454-04EB-4261-B94C-26DEBD00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1EB0-D387-42DB-A11A-F7B6F5FC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9015-5BAB-4E99-8BA2-18499A5A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10DE-C878-4EDF-A799-AE36FC952B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480" y="278100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OTION DE PÉRIMÈTRE 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ET D’AIRE (2)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3851280" y="189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8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rcRect l="10400" t="11573" r="4130" b="731"/>
          <a:stretch/>
        </p:blipFill>
        <p:spPr>
          <a:xfrm>
            <a:off x="720720" y="1440000"/>
            <a:ext cx="7715160" cy="5105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5"/>
          <p:cNvSpPr/>
          <p:nvPr/>
        </p:nvSpPr>
        <p:spPr>
          <a:xfrm>
            <a:off x="3851280" y="189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9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rcRect l="17480" t="9006" r="0" b="4589"/>
          <a:stretch/>
        </p:blipFill>
        <p:spPr>
          <a:xfrm>
            <a:off x="720720" y="1440000"/>
            <a:ext cx="7448400" cy="503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3851280" y="189000"/>
            <a:ext cx="17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0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rcRect l="12050" t="7171" r="5430" b="9737"/>
          <a:stretch/>
        </p:blipFill>
        <p:spPr>
          <a:xfrm>
            <a:off x="720720" y="1440000"/>
            <a:ext cx="7448400" cy="4838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5"/>
          <p:cNvSpPr/>
          <p:nvPr/>
        </p:nvSpPr>
        <p:spPr>
          <a:xfrm>
            <a:off x="1714680" y="189000"/>
            <a:ext cx="607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ssai N°0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6" descr=""/>
          <p:cNvPicPr/>
          <p:nvPr/>
        </p:nvPicPr>
        <p:blipFill>
          <a:blip r:embed="rId1"/>
          <a:srcRect l="12400" t="11028" r="5430" b="3313"/>
          <a:stretch/>
        </p:blipFill>
        <p:spPr>
          <a:xfrm>
            <a:off x="720720" y="1440000"/>
            <a:ext cx="7416720" cy="498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3851280" y="189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1"/>
          <a:srcRect l="10400" t="14155" r="7090" b="0"/>
          <a:stretch/>
        </p:blipFill>
        <p:spPr>
          <a:xfrm>
            <a:off x="720720" y="1440000"/>
            <a:ext cx="7448400" cy="4998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3851280" y="189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2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rcRect l="16180" t="15617" r="0" b="-1275"/>
          <a:stretch/>
        </p:blipFill>
        <p:spPr>
          <a:xfrm>
            <a:off x="720720" y="1440000"/>
            <a:ext cx="7566120" cy="498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3851280" y="189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3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rcRect l="9920" t="9737" r="6620" b="3858"/>
          <a:stretch/>
        </p:blipFill>
        <p:spPr>
          <a:xfrm>
            <a:off x="720720" y="1440000"/>
            <a:ext cx="7534440" cy="503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3851280" y="189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4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rcRect l="8270" t="5149" r="7800" b="8446"/>
          <a:stretch/>
        </p:blipFill>
        <p:spPr>
          <a:xfrm>
            <a:off x="720720" y="1440000"/>
            <a:ext cx="7577280" cy="503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3851280" y="189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5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rcRect l="12400" t="9737" r="4610" b="3858"/>
          <a:stretch/>
        </p:blipFill>
        <p:spPr>
          <a:xfrm>
            <a:off x="720720" y="1440000"/>
            <a:ext cx="7491240" cy="503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3851280" y="189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6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rcRect l="12400" t="9737" r="4610" b="2566"/>
          <a:stretch/>
        </p:blipFill>
        <p:spPr>
          <a:xfrm>
            <a:off x="720720" y="1440000"/>
            <a:ext cx="7491240" cy="5105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3851280" y="189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7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rcRect l="9920" t="8446" r="7910" b="5880"/>
          <a:stretch/>
        </p:blipFill>
        <p:spPr>
          <a:xfrm>
            <a:off x="720720" y="1440000"/>
            <a:ext cx="7416720" cy="498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nseg</dc:creator>
  <dc:description/>
  <dc:language>en-US</dc:language>
  <cp:lastModifiedBy>Marionseg</cp:lastModifiedBy>
  <dcterms:modified xsi:type="dcterms:W3CDTF">2010-01-22T13:20:52Z</dcterms:modified>
  <cp:revision>9</cp:revision>
  <dc:subject/>
  <dc:title>PowerPoint Presentation</dc:title>
</cp:coreProperties>
</file>