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A85E-0733-4B54-8596-E7CDC2D35C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2E4-4CA2-4AFF-A027-8A3555DFE4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1D9-2FBA-4344-9089-AEDE401AE2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8CF5-131C-41D6-B69A-898285ACCD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D7A3-E4F0-4630-A24B-D327A75D23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B06-814F-4656-87DA-BBDBEF814E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5282-826C-451A-A6D9-AF296CEB6C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8DE3-8C3E-4126-BBFE-792669EE9D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6274-FEBB-4350-BA8F-7D67E4FA43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08AF-88E3-4772-9295-94D851096A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E3A4-DE5D-4C90-A4DA-08F7ADC525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B3C-53BC-40DA-80B0-50DEDC699A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C917-AA49-441B-8127-52A440199E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80E1-AE0A-4F73-9297-48DDDEDE78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1DD-3A2B-482B-8FB5-C89225AA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6B5C-955E-45E9-85F1-5A387CA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104-2647-4033-B507-BCF0FCB4F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B709-21D4-4057-A2CF-820C1DFB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F316-83C0-4815-8AB3-0E0A636D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D2E-C838-4AB9-AC92-E4F5543E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8DB-10D6-49D6-BCFA-2688DDB8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2C3-D4F9-45C2-A152-08CE8643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F56-B63B-46AA-8FBE-742E7964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52C-35E6-49A9-B880-DCCCC839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EB8-F032-4242-A418-D7D26BFE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2B8-B4BE-435F-A455-0C3BE186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02CA-C10D-40EB-8558-78DEF2B7D94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BEA12-C639-4DB0-AE68-F187A5A4A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MBRE MANQUANT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– 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7 = 1,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03000" y="1571760"/>
            <a:ext cx="621180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a différence de deux termes est 0,6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e plus petit est 5,4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  <a:ea typeface="Arial"/>
              </a:rPr>
              <a:t>Quel est le plus grand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99760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a différence de deux termes est 0,6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e plus grand est 5,4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  <a:ea typeface="Arial"/>
              </a:rPr>
              <a:t>Quel est le plus peti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1071720" y="714240"/>
            <a:ext cx="714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600cc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1785600"/>
            <a:ext cx="507204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Trouver </a:t>
            </a:r>
            <a:br>
              <a:rPr sz="5400"/>
            </a:b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le nombre manquan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0,4 + ▲ = 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▲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00120" y="1642680"/>
            <a:ext cx="5857920" cy="3357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Quel nombr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faut-il ajouter à  4,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pour obtenir 10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57200" y="1356840"/>
            <a:ext cx="6429600" cy="428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a somme 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deux termes est 17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’un des ter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est 11,2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  <a:ea typeface="Arial"/>
              </a:rPr>
              <a:t>Quel est l’autre terme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10 =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■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+ 6,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■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♥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+ 0,04 = 0,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♥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12 –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11,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857920" cy="3571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Quel nombr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faut-il soustraire à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pour obtenir 3,1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6:36:49Z</dcterms:modified>
  <cp:revision>208</cp:revision>
  <dc:subject/>
  <dc:title>Diapositive 0</dc:title>
</cp:coreProperties>
</file>