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4F3A8-5127-48EC-8B77-AF4C9398208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6025B-7394-4777-80C2-BBCADBB606D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9DD81-B359-448F-B610-E7DF0FE021D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A5ADE-0E86-4B20-8690-8C5D366AA5A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AE3DC-99F4-42D2-A511-148E379FEC1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8153C-CBB9-4EA2-94C7-B83BF6D0F1D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B7F74-B211-4E3B-B5A9-596815E55A8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CFBAE-A7F6-4AA5-9D7F-2C873512CD3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25A05-8F6B-48BA-8EA8-1E6CC320935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08F57-034D-468A-90D0-E95D6FA8237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85A4-80B4-46F6-A8D4-94E2CC440E6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2CA22-D219-4E3E-8C47-9DAC9BDAE24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824A1-3951-485A-8144-689DCE5D686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71568-FFFE-4EB0-B990-97C54C9DC3C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E3E7-6B4C-4632-BDD6-C49121B01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48AB-4B7C-48B0-B123-549958CC6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A67C-9029-42C2-9C66-F4BFC023E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F71E-E675-40ED-B078-AB3D3C5BD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8959-9549-40C4-8A1A-A074145C2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6499-2530-4AD9-B0A5-201FBCE24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1D07-A5E9-43FA-ABBB-A2CB61A2C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173B-579A-4006-B805-04DDC4E72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EF53-639C-41A5-BA9F-9A8CE5CFE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C672-43BA-4FCC-9AAF-B0C45EA4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4F19-649E-4814-BE55-F8BC2C2D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206A-FFDC-462D-8E47-4D33A1DB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C26D8-6981-4DA1-958A-4DE3BB0E92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263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PUISSANCES(1)</a:t>
            </a:r>
            <a:br>
              <a:rPr sz="6000"/>
            </a:b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Série n°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1476360" y="1293480"/>
            <a:ext cx="65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8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2"/>
              <p:cNvSpPr txBox="1"/>
              <p:nvPr/>
            </p:nvSpPr>
            <p:spPr>
              <a:xfrm>
                <a:off x="2416320" y="2714760"/>
                <a:ext cx="4857480" cy="16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1476360" y="1293480"/>
            <a:ext cx="65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9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2"/>
              <p:cNvSpPr txBox="1"/>
              <p:nvPr/>
            </p:nvSpPr>
            <p:spPr>
              <a:xfrm>
                <a:off x="2571840" y="2714760"/>
                <a:ext cx="4546440" cy="16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8</m:t>
                        </m:r>
                      </m:sup>
                    </m:sSup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1476360" y="1353960"/>
            <a:ext cx="65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10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2"/>
              <p:cNvSpPr txBox="1"/>
              <p:nvPr/>
            </p:nvSpPr>
            <p:spPr>
              <a:xfrm>
                <a:off x="919080" y="2714760"/>
                <a:ext cx="7853400" cy="16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1476360" y="620640"/>
            <a:ext cx="62532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ZoneTexte 2"/>
          <p:cNvSpPr/>
          <p:nvPr/>
        </p:nvSpPr>
        <p:spPr>
          <a:xfrm>
            <a:off x="3368520" y="2214720"/>
            <a:ext cx="2145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74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Bouton d'action : Retour 4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0" y="180144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Écrire avec une seule puissance de 10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5"/>
          <p:cNvSpPr/>
          <p:nvPr/>
        </p:nvSpPr>
        <p:spPr>
          <a:xfrm>
            <a:off x="1476360" y="1293480"/>
            <a:ext cx="65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1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2"/>
              <p:cNvSpPr txBox="1"/>
              <p:nvPr/>
            </p:nvSpPr>
            <p:spPr>
              <a:xfrm>
                <a:off x="2571840" y="2714760"/>
                <a:ext cx="4546440" cy="16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1476360" y="1293480"/>
            <a:ext cx="65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2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2"/>
              <p:cNvSpPr txBox="1"/>
              <p:nvPr/>
            </p:nvSpPr>
            <p:spPr>
              <a:xfrm>
                <a:off x="2365200" y="2714760"/>
                <a:ext cx="4961160" cy="16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1476360" y="1293480"/>
            <a:ext cx="65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3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2"/>
              <p:cNvSpPr txBox="1"/>
              <p:nvPr/>
            </p:nvSpPr>
            <p:spPr>
              <a:xfrm>
                <a:off x="2828880" y="2714760"/>
                <a:ext cx="4030560" cy="16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1476360" y="1293480"/>
            <a:ext cx="65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4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2"/>
              <p:cNvSpPr txBox="1"/>
              <p:nvPr/>
            </p:nvSpPr>
            <p:spPr>
              <a:xfrm>
                <a:off x="2211480" y="2714760"/>
                <a:ext cx="5268960" cy="16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1476360" y="1293480"/>
            <a:ext cx="65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5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2"/>
              <p:cNvSpPr txBox="1"/>
              <p:nvPr/>
            </p:nvSpPr>
            <p:spPr>
              <a:xfrm>
                <a:off x="2365200" y="2714760"/>
                <a:ext cx="4961160" cy="16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1476360" y="1293480"/>
            <a:ext cx="65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6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2"/>
              <p:cNvSpPr txBox="1"/>
              <p:nvPr/>
            </p:nvSpPr>
            <p:spPr>
              <a:xfrm>
                <a:off x="2673360" y="2714760"/>
                <a:ext cx="4341960" cy="16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1476360" y="1293480"/>
            <a:ext cx="65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7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2"/>
              <p:cNvSpPr txBox="1"/>
              <p:nvPr/>
            </p:nvSpPr>
            <p:spPr>
              <a:xfrm>
                <a:off x="2158920" y="2714760"/>
                <a:ext cx="5372280" cy="16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onseg</dc:creator>
  <dc:description/>
  <dc:language>en-US</dc:language>
  <cp:lastModifiedBy>Marionseg</cp:lastModifiedBy>
  <dcterms:modified xsi:type="dcterms:W3CDTF">2010-01-22T17:09:49Z</dcterms:modified>
  <cp:revision>31</cp:revision>
  <dc:subject/>
  <dc:title>PowerPoint Presentation</dc:title>
</cp:coreProperties>
</file>