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F2A3-4B87-43B7-A7B2-9F1887727C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A6FD-CB64-4096-BA76-C6CAD3C077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F1BF-C235-48BC-838E-6B7CEF6279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8C8D-F169-4DC3-9DCE-76A2ADB6B6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4B76-980D-4AE0-A4CA-AA050D8ADB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AEE7-C3D4-4C19-BA6F-CA7AF53E9A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47A5-CF9A-4A79-804E-F45F557537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5B16-CC46-4FC2-8C16-43E49DD182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6482-C8D1-4D1B-A252-9453F67BDE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828F-5803-4006-BC8D-89688D71D7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8899-1B97-4312-89FC-F75E4B7F47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9EF2-B261-439E-968C-FFC07CD26A4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6C9E-1788-4DA3-A0EF-49603A8112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80A8-6ED8-4439-9ECD-3065631F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EAF4-55BA-465A-9B34-85461BC1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BB4B-7C84-4D17-B921-32460AC4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2481-EA4A-4EEF-9E84-49472181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9D6-F4E5-4D0E-80B9-AA80D9FE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916D-975B-4ECF-9BAD-5ED04304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7FB6-4168-446D-81C6-E12686A7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B830-EC00-4FF3-9F0B-FFAF0D7E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98C4-1C29-41E5-A4D0-0A7AC29D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262-F910-4CC7-802C-C117ECC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FF7B-DA3C-449D-B6CA-538C31B5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81E-DD4C-48B1-8AA9-49E5A363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D5E6-2CA3-44FD-AAA6-E1834BEFDA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141 est divisible pa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575 est divisible pa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575 est divisible pa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p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9900"/>
                </a:solidFill>
                <a:latin typeface="Arial"/>
              </a:rPr>
              <a:t>VRAI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6000" spc="-1" strike="noStrike">
                <a:solidFill>
                  <a:srgbClr val="cc0000"/>
                </a:solidFill>
                <a:latin typeface="Arial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414 est divisible pa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414 est divisible pa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628 est divisible pa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628 est divisible pa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129 est divisible pa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129 est divisible par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141 est divisible par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4:35:11Z</dcterms:modified>
  <cp:revision>8</cp:revision>
  <dc:subject/>
  <dc:title>PowerPoint Presentation</dc:title>
</cp:coreProperties>
</file>