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8335-2BE0-48AE-9425-25A2044EB9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7B1C-08E6-47BD-B96D-5A3C527916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2360-D64A-499B-9FBC-0D96AF3BCD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4939-4C24-4670-AD95-C6467BFEB8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0583-4453-4E55-BA90-AD165CE750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88BA-3AE2-424F-95C9-FB70A73431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A928-6AA5-4EA8-B349-6DFFFB0059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FA33-26F5-4AC5-B650-A1DB6B65D0C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B982-B98C-4317-A64A-BB1D59B012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CDC2-7D8C-4B40-8241-87B899D46A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2DF1-218B-4358-8CE9-6FA1BE1148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0174-4A23-430F-A245-571E0ADC466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867D-ABA0-4637-AC88-D2548F8239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E49C-AC6C-4D25-9F39-AAAB76ACE9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AF9B-482C-446B-99F9-D2DF801777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1E13-E7A2-4E26-A16D-55C6812CB3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FD3-953B-4834-9E39-AC91FBC6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814E-F442-435A-9B59-EF66A771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2D4-9CC0-4A9F-A315-5E08C27E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EF5-52B5-4931-8EC8-BDE3FE78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8BC-E59A-4455-8D49-83BBD818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0A7-3A21-42B3-9F9B-A4536606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35F-9A78-4285-B8F3-1D9DF9EE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111-CD79-4352-A0FB-4E0FEDDB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E96C-8292-4429-A9D9-0B62A258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2DA-4BE7-416F-BC51-C42526D3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B15F-2A63-4D18-BBC9-B9D72BBE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DFF-2351-4D00-9326-21447F48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2174-C8E8-440B-AEBE-8746B40FD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FACTORISATIONS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21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12 – 21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47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14 – 4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4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23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34 – 3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34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17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27 – 17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59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8 – 8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actorisation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98989"/>
                </a:solidFill>
                <a:latin typeface="Calibri"/>
              </a:rPr>
              <a:t>Avec des nombres enti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actoriser pour calculer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n repér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facteur comm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signe de l’opé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s nombres à ajouter ou à soustr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27860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écrira uniquemen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e résultat fina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u calcul demand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7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4 + 7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6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5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8 + 5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13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12 + 12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7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15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11 + 5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1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17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8 + 3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 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26Z</dcterms:created>
  <dc:creator>Famille Ravet</dc:creator>
  <dc:description/>
  <dc:language>en-US</dc:language>
  <cp:lastModifiedBy>Marionseg</cp:lastModifiedBy>
  <dcterms:modified xsi:type="dcterms:W3CDTF">2010-01-23T14:57:24Z</dcterms:modified>
  <cp:revision>29</cp:revision>
  <dc:subject/>
  <dc:title>Vocabulaire et calcul mental</dc:title>
</cp:coreProperties>
</file>