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68A9-5082-457C-A3CD-E5B5B24A5A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E941-D00C-4F16-851F-20FA239E12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FB8A-F33E-4F68-B80C-D39865D0A7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1C22-5255-4B1C-A7F6-A56A9816A9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F15B-C312-43C7-9AD5-1FD8EFC3A8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77F4-2A00-4C25-BC22-A5D1460988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505B-5C1A-4F18-810A-3659B31056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9C32-4A18-4824-9233-1FF17BF844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51D-7D5F-43B0-BB90-98045BA438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2BF4-624C-4B50-BA1E-A1653F454B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BF5B-A1CA-4BAD-965F-EFDEEE4C92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C7F-8E4F-4D55-8914-E60BAF9750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2F8-CE05-4F36-A7AC-D3643C062A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8CEB-0F92-4A7F-AAAF-8D0366C6A3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82E-64A0-4CB9-8F93-2315CE22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6A3-E88D-4C67-BD3E-96D27583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BD65-E7C4-4481-9079-881935C8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768-24FD-4B8C-9E24-4F6D1FF8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715-EC2E-4BB0-BB46-97826B90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8DCD-1EB6-4528-B72D-1F4E6254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712-9B3E-463D-AA8B-E22A0873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4F5-BD62-455F-8D59-71E4524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F53-9749-4E06-992D-4ADBDE7D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219-DED4-4EF3-B1AA-292412F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BE6-EE2E-4AB0-B9AB-F16E4129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A403-7FDA-4721-8AC6-9743C5A5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FFB4-CB73-4B5C-B645-3A060EB36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2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711360" y="2209680"/>
                <a:ext cx="7805520" cy="274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2055960" y="2038320"/>
                <a:ext cx="5484600" cy="309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2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1870200" y="2038320"/>
                <a:ext cx="5856120" cy="309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7,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2546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léter les égalités 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2311560" y="2143080"/>
                <a:ext cx="46465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,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246240" y="2811600"/>
                <a:ext cx="873576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1270080" y="2166840"/>
                <a:ext cx="66913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665280" y="2338560"/>
                <a:ext cx="789912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3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104920" y="2168640"/>
                <a:ext cx="5019840" cy="28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35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571680" y="2854440"/>
                <a:ext cx="827244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,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71280" y="2759040"/>
                <a:ext cx="90504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3:04Z</dcterms:modified>
  <cp:revision>15</cp:revision>
  <dc:subject/>
  <dc:title>PowerPoint Presentation</dc:title>
</cp:coreProperties>
</file>