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B4E6-919A-4EAD-A022-0FD3BE6CF0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D13-9E27-462D-9D18-62EE1E69A7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8FF-DA08-4EAD-A76D-59DF8549F4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19AF-274B-411C-85BA-C1937CF718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4D41-A164-455D-B539-8EB7A35A70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03F6-D622-45F3-8D0A-1D427FDD27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E0A8-C575-408D-AB7F-932A9553DB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0488-2ECD-42B0-9D8E-F458040613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F83-E47C-4B13-964A-6A5F958D47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10BD-79B9-437F-AE8C-8BCE506872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AD79-CAAE-4500-8F26-3F2D45419F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7DE7-F2CB-4E1B-9F04-26F8C9BE7F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1B1-8E95-4667-9421-543FBECA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CD5-6081-4D2C-A6D8-97068AC2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698-3B1E-44B9-8F11-E8A6C739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DB5-D8EA-497C-ABAA-CDE0AC7D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BCC1-CF8F-42FE-8157-0D32951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4905-B19C-4893-A078-86CC52B1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AE53-6883-4784-A9CE-971E7D7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CB3B-3BF9-4E5F-A148-9548C0E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A98-4192-4863-B01A-2FC85BBA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74A2-1BD4-462B-B250-148E7407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7B5-683D-4A71-A318-53AB2969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481-94AC-44C7-B4FE-B2A7DFE6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38B2-1568-4B8C-ADA2-55BA214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FF73-39A4-48E2-A134-DC0DC72D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78E9-8D27-420C-8090-2DE77F27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F6CA-E774-4506-A6A5-1491ECB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9E15-D4F0-4DC5-9064-E5EFD18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97E-6550-406C-A5D8-DDED1DC4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2BA2-E994-4F44-883A-5C33328E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8C6-55FA-4724-8209-5D66C29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85B-22EB-4F12-AA25-93CBA663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F4D-CA30-4254-9F03-2FA44256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943-CE38-4D58-AAEA-CA1F913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392-D120-4112-B7DE-52936DA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E73-E0E5-45EE-AF84-6C3686D79320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7471-C66F-41FC-BC13-C39CE6C799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ES (1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S N°3 ET 3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450720" y="2874960"/>
                <a:ext cx="3764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4915080" y="2878200"/>
                <a:ext cx="3763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450720" y="2874960"/>
                <a:ext cx="376416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4943520" y="2878200"/>
                <a:ext cx="3706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536400" y="2874960"/>
                <a:ext cx="3592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"/>
              <p:cNvSpPr txBox="1"/>
              <p:nvPr/>
            </p:nvSpPr>
            <p:spPr>
              <a:xfrm>
                <a:off x="5000760" y="2878200"/>
                <a:ext cx="35924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6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ous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la forme        , avec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et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des entiers et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le plus petit possib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7072200" y="1100160"/>
                <a:ext cx="192888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785880" y="2878200"/>
                <a:ext cx="312408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0"/>
              <p:cNvSpPr txBox="1"/>
              <p:nvPr/>
            </p:nvSpPr>
            <p:spPr>
              <a:xfrm>
                <a:off x="4986360" y="2878200"/>
                <a:ext cx="36576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571680" y="2916360"/>
                <a:ext cx="35812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0"/>
              <p:cNvSpPr txBox="1"/>
              <p:nvPr/>
            </p:nvSpPr>
            <p:spPr>
              <a:xfrm>
                <a:off x="5062680" y="2916360"/>
                <a:ext cx="35049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824040" y="2878200"/>
                <a:ext cx="30477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5291280" y="2916360"/>
                <a:ext cx="30477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861840" y="2878200"/>
                <a:ext cx="297180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0"/>
              <p:cNvSpPr txBox="1"/>
              <p:nvPr/>
            </p:nvSpPr>
            <p:spPr>
              <a:xfrm>
                <a:off x="5291280" y="2916360"/>
                <a:ext cx="30477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1"/>
              <p:cNvSpPr txBox="1"/>
              <p:nvPr/>
            </p:nvSpPr>
            <p:spPr>
              <a:xfrm>
                <a:off x="1204920" y="2763720"/>
                <a:ext cx="228600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0"/>
              <p:cNvSpPr txBox="1"/>
              <p:nvPr/>
            </p:nvSpPr>
            <p:spPr>
              <a:xfrm>
                <a:off x="5672160" y="2801880"/>
                <a:ext cx="228600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1"/>
              <p:cNvSpPr txBox="1"/>
              <p:nvPr/>
            </p:nvSpPr>
            <p:spPr>
              <a:xfrm>
                <a:off x="938160" y="2763720"/>
                <a:ext cx="2819520" cy="144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5405400" y="2801880"/>
                <a:ext cx="28195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1"/>
              <p:cNvSpPr txBox="1"/>
              <p:nvPr/>
            </p:nvSpPr>
            <p:spPr>
              <a:xfrm>
                <a:off x="557280" y="2878200"/>
                <a:ext cx="358128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5062680" y="2916360"/>
                <a:ext cx="35049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2T16:51:16Z</dcterms:modified>
  <cp:revision>29</cp:revision>
  <dc:subject/>
  <dc:title>Diapositive 1</dc:title>
</cp:coreProperties>
</file>