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8382-3856-4525-8F7D-F640B060D1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A247-30E4-4195-9DAF-3F08A7BA27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357D-92A0-4C28-B39D-7D369E0CF8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87FF-BD50-401A-890E-63BFC18B2D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7547-F454-4F7A-BB42-D31F1DE94C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C11D-0669-40C6-B328-CA13A5612D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84ED-BC87-4B52-9EA2-7C778B19C4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45D5-39EA-4A08-8E81-3D7F53B968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BBFF-7443-4415-8403-DFC85BFEC9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4719-C2D4-4A82-8E16-303F91EB19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A28A-5381-47AD-97BB-9BAA635974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9206-0CAA-4878-8D4D-DB874C2AA4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474D-CC72-4BFD-BFEB-1598F5C5C5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DD41-12BE-484C-A681-4F6F8D6B87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C31F-0F92-4B1E-9BA7-3573092C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03A-D38B-4B78-A8FB-E9D52DF3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F9B-7B7C-42F6-95B0-4C7B9EBE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893-34A1-4A5B-A824-19688AEA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ADE-7222-4276-BF7C-437A2C9A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ED7D-2A80-4E18-B6DF-39585A11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E3B1-AEAC-4D51-8708-8D7D6E45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0BC4-9672-4BBC-8BD9-71D1D70C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88B-B10C-4C32-9561-D43EE6E3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A07-8C02-430A-A309-E2B0D45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53D-2FEC-422C-8B8B-C322B52E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AD87-D337-4897-81EB-16479D9F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E3D9-FC2B-4633-BB07-A4D237C80C1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FF98-0259-44C4-BCEB-3657BD3B9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PROPORTIONNALITÉ (1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2496960"/>
          <a:ext cx="8229600" cy="2735280"/>
        </p:xfrm>
        <a:graphic>
          <a:graphicData uri="http://schemas.openxmlformats.org/drawingml/2006/table">
            <a:tbl>
              <a:tblPr/>
              <a:tblGrid>
                <a:gridCol w="3828960"/>
                <a:gridCol w="2200320"/>
                <a:gridCol w="2200320"/>
              </a:tblGrid>
              <a:tr h="136872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5010120" y="2479680"/>
                <a:ext cx="77616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496960"/>
          <a:ext cx="8229600" cy="1463760"/>
        </p:xfrm>
        <a:graphic>
          <a:graphicData uri="http://schemas.openxmlformats.org/drawingml/2006/table">
            <a:tbl>
              <a:tblPr/>
              <a:tblGrid>
                <a:gridCol w="3757680"/>
                <a:gridCol w="1490760"/>
                <a:gridCol w="1490400"/>
                <a:gridCol w="149076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2496960"/>
          <a:ext cx="8229600" cy="1463760"/>
        </p:xfrm>
        <a:graphic>
          <a:graphicData uri="http://schemas.openxmlformats.org/drawingml/2006/table">
            <a:tbl>
              <a:tblPr/>
              <a:tblGrid>
                <a:gridCol w="3828960"/>
                <a:gridCol w="2200320"/>
                <a:gridCol w="220032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7030a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7030a0"/>
                </a:solidFill>
                <a:latin typeface="Arial"/>
                <a:ea typeface="Arial"/>
              </a:rPr>
              <a:t>Compléter les tableaux de proportionnalité suivants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" y="2496960"/>
          <a:ext cx="8229600" cy="1463760"/>
        </p:xfrm>
        <a:graphic>
          <a:graphicData uri="http://schemas.openxmlformats.org/drawingml/2006/table">
            <a:tbl>
              <a:tblPr/>
              <a:tblGrid>
                <a:gridCol w="3828960"/>
                <a:gridCol w="2200320"/>
                <a:gridCol w="220032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2496960"/>
          <a:ext cx="8229600" cy="1463760"/>
        </p:xfrm>
        <a:graphic>
          <a:graphicData uri="http://schemas.openxmlformats.org/drawingml/2006/table">
            <a:tbl>
              <a:tblPr/>
              <a:tblGrid>
                <a:gridCol w="3828960"/>
                <a:gridCol w="2200320"/>
                <a:gridCol w="220032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2496960"/>
          <a:ext cx="8229600" cy="1463760"/>
        </p:xfrm>
        <a:graphic>
          <a:graphicData uri="http://schemas.openxmlformats.org/drawingml/2006/table">
            <a:tbl>
              <a:tblPr/>
              <a:tblGrid>
                <a:gridCol w="3828960"/>
                <a:gridCol w="2200320"/>
                <a:gridCol w="220032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2496960"/>
          <a:ext cx="8229600" cy="1463760"/>
        </p:xfrm>
        <a:graphic>
          <a:graphicData uri="http://schemas.openxmlformats.org/drawingml/2006/table">
            <a:tbl>
              <a:tblPr/>
              <a:tblGrid>
                <a:gridCol w="3828960"/>
                <a:gridCol w="2200320"/>
                <a:gridCol w="220032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57200" y="2496960"/>
          <a:ext cx="8229600" cy="1463760"/>
        </p:xfrm>
        <a:graphic>
          <a:graphicData uri="http://schemas.openxmlformats.org/drawingml/2006/table">
            <a:tbl>
              <a:tblPr/>
              <a:tblGrid>
                <a:gridCol w="3828960"/>
                <a:gridCol w="2200320"/>
                <a:gridCol w="220032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2496960"/>
          <a:ext cx="8229600" cy="1463760"/>
        </p:xfrm>
        <a:graphic>
          <a:graphicData uri="http://schemas.openxmlformats.org/drawingml/2006/table">
            <a:tbl>
              <a:tblPr/>
              <a:tblGrid>
                <a:gridCol w="3757680"/>
                <a:gridCol w="1490760"/>
                <a:gridCol w="1490400"/>
                <a:gridCol w="149076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496960"/>
          <a:ext cx="8229600" cy="1463760"/>
        </p:xfrm>
        <a:graphic>
          <a:graphicData uri="http://schemas.openxmlformats.org/drawingml/2006/table">
            <a:tbl>
              <a:tblPr/>
              <a:tblGrid>
                <a:gridCol w="3828960"/>
                <a:gridCol w="2200320"/>
                <a:gridCol w="2200320"/>
              </a:tblGrid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marL="20520" indent="-20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sse en kg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x en €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4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Espace réservé du numéro de diapositive 7"/>
          <p:cNvSpPr/>
          <p:nvPr/>
        </p:nvSpPr>
        <p:spPr>
          <a:xfrm>
            <a:off x="0" y="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6:35:23Z</dcterms:created>
  <dc:creator>ms</dc:creator>
  <dc:description/>
  <dc:language>en-US</dc:language>
  <cp:lastModifiedBy>Marionseg</cp:lastModifiedBy>
  <dcterms:modified xsi:type="dcterms:W3CDTF">2010-01-22T14:23:36Z</dcterms:modified>
  <cp:revision>7</cp:revision>
  <dc:subject/>
  <dc:title>Proportionnalité (1)</dc:title>
</cp:coreProperties>
</file>