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C2BC-2489-43CC-82D2-8A980E460B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60D4-80BB-4680-90D0-BA5EFD81D0D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F32F-D63B-4D3F-934B-DEDCD290E7E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D525-4721-4AD0-BCEB-7111E703911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0545-6704-4214-8FFD-3EE2CA66250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96BC-A08F-46D9-909A-CB96BE58305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805D-CE50-49FA-8D49-4A91D3A5121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AEBB-5D44-4EA2-A9F8-39A24506DF6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F5F1-C56E-41CA-861D-740D01D23F9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CF05-E03D-4FBD-8673-6A13C6E6EED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D168-3C9F-49C1-A710-BB2F1D47F69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AA80-BE16-4C2F-8B7A-F827F1AA02A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B666-DC0E-4EB2-BD71-E08F90852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A9B2-59D4-47D0-9A1A-8FF8E9B2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99A0-51B3-491B-8A10-2C9852971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8886-CE8B-48AB-B81D-546C90EF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3DFB-A442-441D-A829-2BC1FFE2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E75E-9B78-4231-A574-51C6DCB0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677B-90F1-44F8-B01C-8018D966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5732-0F56-440B-8F04-1E5C7292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639C-549D-4438-AA83-B68F4D9B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5696-FB2B-4097-AAA0-A77F3A66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2129-C922-4CF1-8B17-ECDFEA4E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BA54-49D4-4D4B-B6E9-9B539DE2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14F8-51BF-42D1-A102-A3B6C8D4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B504-074B-4C18-9ADA-0C81775D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C8FC-FB2A-401E-9556-542F6E96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04C4-8D98-4D0F-A576-8BAFB84B8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ED0B-08A0-46DB-B862-6FA6DF0E1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6B98-1820-40C9-8B15-22FA126D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1E98-22F9-4414-A7ED-46A8316B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3E44-A865-4F57-AE1A-FFC5952A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E44B-7E47-4B71-9BF8-17174979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E466-4DC7-46F4-9821-8064B6DC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2C14-4ACB-4493-B938-BA71F692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D464-04AF-46D0-BEE6-8F7782A4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3505320" y="188640"/>
            <a:ext cx="2133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E8B0-FBC1-4C8A-AF09-F1970A6EB153}" type="slidenum"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>
            <a:off x="4557600" y="1052640"/>
            <a:ext cx="28800" cy="58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3"/>
          <p:cNvSpPr/>
          <p:nvPr/>
        </p:nvSpPr>
        <p:spPr>
          <a:xfrm>
            <a:off x="1332000" y="2333520"/>
            <a:ext cx="2016000" cy="2159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5796000" y="2335320"/>
            <a:ext cx="2016000" cy="2158920"/>
          </a:xfrm>
          <a:prstGeom prst="rect">
            <a:avLst/>
          </a:prstGeom>
          <a:noFill/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265F-13BD-4CA9-9BCF-F7D0859C59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IVISION DE FRACTIONS</a:t>
            </a:r>
            <a:br>
              <a:rPr sz="4400"/>
            </a:b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ÉRIES N°2 ET N°2B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4"/>
              <p:cNvSpPr txBox="1"/>
              <p:nvPr/>
            </p:nvSpPr>
            <p:spPr>
              <a:xfrm>
                <a:off x="1849320" y="2820960"/>
                <a:ext cx="96516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÷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Rectangle 7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6"/>
              <p:cNvSpPr txBox="1"/>
              <p:nvPr/>
            </p:nvSpPr>
            <p:spPr>
              <a:xfrm>
                <a:off x="6224760" y="2819520"/>
                <a:ext cx="114444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÷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8"/>
              <p:cNvSpPr txBox="1"/>
              <p:nvPr/>
            </p:nvSpPr>
            <p:spPr>
              <a:xfrm>
                <a:off x="1708200" y="2827440"/>
                <a:ext cx="124452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÷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9"/>
              <p:cNvSpPr txBox="1"/>
              <p:nvPr/>
            </p:nvSpPr>
            <p:spPr>
              <a:xfrm>
                <a:off x="6189840" y="2827440"/>
                <a:ext cx="122220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÷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4"/>
              <p:cNvSpPr txBox="1"/>
              <p:nvPr/>
            </p:nvSpPr>
            <p:spPr>
              <a:xfrm>
                <a:off x="1727280" y="2827440"/>
                <a:ext cx="120636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Rectangle 7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6"/>
              <p:cNvSpPr txBox="1"/>
              <p:nvPr/>
            </p:nvSpPr>
            <p:spPr>
              <a:xfrm>
                <a:off x="6172200" y="2827440"/>
                <a:ext cx="123516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44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Arial"/>
              </a:rPr>
              <a:t>Effectuer le calcul proposé et donner le résultat sous la forme d’une fraction aussi simple que possible ou éventuellement sous la forme d’un nombre enti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8"/>
              <p:cNvSpPr txBox="1"/>
              <p:nvPr/>
            </p:nvSpPr>
            <p:spPr>
              <a:xfrm>
                <a:off x="1835280" y="2824200"/>
                <a:ext cx="101412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Rectangle 11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10"/>
              <p:cNvSpPr txBox="1"/>
              <p:nvPr/>
            </p:nvSpPr>
            <p:spPr>
              <a:xfrm>
                <a:off x="6281640" y="2824200"/>
                <a:ext cx="101304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4"/>
              <p:cNvSpPr txBox="1"/>
              <p:nvPr/>
            </p:nvSpPr>
            <p:spPr>
              <a:xfrm>
                <a:off x="1830240" y="2827440"/>
                <a:ext cx="100044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Rectangle 7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6"/>
              <p:cNvSpPr txBox="1"/>
              <p:nvPr/>
            </p:nvSpPr>
            <p:spPr>
              <a:xfrm>
                <a:off x="6046920" y="2827440"/>
                <a:ext cx="148428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1754280" y="2827440"/>
                <a:ext cx="116820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÷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Rectangle 7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6"/>
              <p:cNvSpPr txBox="1"/>
              <p:nvPr/>
            </p:nvSpPr>
            <p:spPr>
              <a:xfrm>
                <a:off x="6234120" y="2827440"/>
                <a:ext cx="116856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÷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8"/>
              <p:cNvSpPr txBox="1"/>
              <p:nvPr/>
            </p:nvSpPr>
            <p:spPr>
              <a:xfrm>
                <a:off x="1835280" y="2852640"/>
                <a:ext cx="102852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9"/>
              <p:cNvSpPr txBox="1"/>
              <p:nvPr/>
            </p:nvSpPr>
            <p:spPr>
              <a:xfrm>
                <a:off x="6156360" y="2852640"/>
                <a:ext cx="121932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1720800" y="2827440"/>
                <a:ext cx="121932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" name="Rectangle 7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6"/>
              <p:cNvSpPr txBox="1"/>
              <p:nvPr/>
            </p:nvSpPr>
            <p:spPr>
              <a:xfrm>
                <a:off x="6184800" y="2827440"/>
                <a:ext cx="121932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1860480" y="2820960"/>
                <a:ext cx="94932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÷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Rectangle 7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6"/>
              <p:cNvSpPr txBox="1"/>
              <p:nvPr/>
            </p:nvSpPr>
            <p:spPr>
              <a:xfrm>
                <a:off x="6227640" y="2820960"/>
                <a:ext cx="114300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÷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4"/>
              <p:cNvSpPr txBox="1"/>
              <p:nvPr/>
            </p:nvSpPr>
            <p:spPr>
              <a:xfrm>
                <a:off x="1709640" y="2827440"/>
                <a:ext cx="123516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Rectangle 7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6181560" y="2827440"/>
                <a:ext cx="123516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8:18:55Z</dcterms:created>
  <dc:creator>.</dc:creator>
  <dc:description/>
  <dc:language>en-US</dc:language>
  <cp:lastModifiedBy>Marionseg</cp:lastModifiedBy>
  <dcterms:modified xsi:type="dcterms:W3CDTF">2010-01-17T20:03:18Z</dcterms:modified>
  <cp:revision>24</cp:revision>
  <dc:subject/>
  <dc:title>Diapositive 1</dc:title>
</cp:coreProperties>
</file>