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1BBC-8DA9-4F1B-A923-AE5A4D8345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955C-43EC-495B-BA56-9EA0723707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D45F-8A43-4F86-A6EA-CC97757490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F912-B0EC-4719-8B6B-D02B0BFED6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97B9-1403-488E-982D-24727A83D4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1E5A-9BA3-4361-B3C6-B7A557E28B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DFFB-8F15-4D5A-A77E-FF01489C63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640D-4C3B-4D7E-8149-0653550624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1F6D-08DC-4155-BBB9-8E044E6F6E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6275-9736-4543-834E-F7751EF12B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98BD-557A-4F49-887E-35BB4483AA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67A3-C2CD-4456-BABF-7BDCE14282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7E0E-6D33-489A-936C-AAD317B7C6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9186-F990-4B12-9BA0-94CF5075F6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03DC-E6ED-43CA-B6C4-99F9C65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056D-A7CE-4D1F-9F66-56400FCC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2B7-C2E8-462F-9755-837FFDB5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8D1-145F-4178-B041-33913D7B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A6CA-C08E-4D41-9705-A0C28750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CEC-EEB4-437A-B746-57F0F7A4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2B9-0905-44DA-AF88-AC86B77C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569-DEBC-4452-91B7-DA3BF704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B127-8E1C-4392-9CE9-301EF5D8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2FC-E1A0-4357-A749-832DD6DE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5BD-33B3-4BC0-A61C-E1987519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8EB-49B1-4784-99E7-6177FDB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4B9-9512-47C1-9CA3-04B55E9E30E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00D7-48AC-42DC-B803-7C29C537B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FONCTION LINÉAIRE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Augmenter un nombre de 100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iminuer un nombre de 0,1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Augmenter un nombre de 250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5bd3"/>
                </a:solidFill>
                <a:latin typeface="Arial"/>
                <a:ea typeface="Arial"/>
              </a:rPr>
              <a:t>Compléter </a:t>
            </a:r>
            <a:br>
              <a:rPr sz="6600"/>
            </a:br>
            <a:r>
              <a:rPr b="0" lang="fr-FR" sz="6600" spc="-1" strike="noStrike">
                <a:solidFill>
                  <a:srgbClr val="005bd3"/>
                </a:solidFill>
                <a:latin typeface="Arial"/>
                <a:ea typeface="Arial"/>
              </a:rPr>
              <a:t>par le nombre qui convient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Augmenter un nombre de 7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iminuer un nombre de 8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Augmenter un nombre de 50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iminuer un nombre de 15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iminuer un nombre de 100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Augmenter un nombre de 0,3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Diminuer un nombre de 2,5%</a:t>
            </a:r>
            <a:r>
              <a:rPr b="0" lang="fr-FR" sz="4400" spc="-1" strike="noStrike">
                <a:solidFill>
                  <a:srgbClr val="e40059"/>
                </a:solidFill>
                <a:latin typeface="Arial"/>
                <a:ea typeface="Arial"/>
              </a:rPr>
              <a:t>  </a:t>
            </a:r>
            <a:r>
              <a:rPr b="0" lang="fr-FR" sz="4400" spc="-1" strike="noStrike">
                <a:solidFill>
                  <a:srgbClr val="005bd3"/>
                </a:solidFill>
                <a:latin typeface="Arial"/>
                <a:ea typeface="Arial"/>
              </a:rPr>
              <a:t>revient à multiplier ce nombre par    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  <a:ea typeface="Arial"/>
              </a:rPr>
              <a:t>.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3:48:35Z</dcterms:modified>
  <cp:revision>205</cp:revision>
  <dc:subject/>
  <dc:title>Diapositive 0</dc:title>
</cp:coreProperties>
</file>