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chimes.wav" ContentType="audio/x-wav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665B-FC47-45FB-A1CF-03E1DBFB06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36A8-935C-4F07-BD6D-7E21D71295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E897-A9B9-4675-9E4C-E29DDF934E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14AE-BE70-42F1-9A6A-E209DD5D65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FD40-DE51-4B76-881B-11B3BAB2979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B87A-371C-4493-BB4A-4772C753A8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E27B-A625-4457-B7E1-C46B93065A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5CFD-44AF-4018-8AC5-4F7BD4C39F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77A1-5CCB-4976-ABE1-BB29AF967B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3082-BCE5-41DA-BC5E-2C28E8A314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1D14-6EAA-41F4-A7FE-591BF49085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4720-F4EF-45E7-A937-C477E12376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0F0E-1133-4A4C-9829-B9881C94DEE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56CB-F9D7-4262-A5C0-F6660AED55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4003-842E-470B-8C6E-677E8A22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BF1A-B8A9-4F88-B8E0-71F12E67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AC58-CF7F-40E8-AB87-EA930A1A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9C24-A2D7-445A-A6D4-CAF957E9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3FC7-1D5D-4A9E-80B2-5A6B5AA6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5098-600F-4925-B8E5-3B83941C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4A3B-3720-45D3-A950-CDD80866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69AC-1D83-4E18-914E-EACE88CE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AD77-6DF9-4C6D-867A-CC713A16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B585-4A53-406F-A1F3-C2A3A720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AFF5-CB56-4F1D-8000-8F224D61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5633-56D6-4718-9DFE-A522171A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B7CD-B2C8-48C7-B541-BFFCDF5D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4BDC-28A5-497B-B58F-5C0D1A0A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8B14-159E-4AE2-B0DD-E96FD9A5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A6EC-B952-461F-A3E6-B7C9D2A6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E3C5-983B-4BC3-AA0D-D4140EAB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59CF5-0645-4047-949B-A04C9832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9A2E4-13D3-4E55-87E6-322D4E0E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98E23-2BFE-4E43-A7C4-D162E638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8F031-AE3C-4E66-BA84-2C3DD3BC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8C2D0-A84A-45F1-988F-390C6804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36A3-D590-42E4-B375-9EC58572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C1000-5F68-4BC0-88C6-F6A16AE0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32742-7927-4FA8-A206-4C7789AB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50B2E-6C40-4EF6-9DF2-A19D0080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F0FF5-26D3-4D8F-8069-A589E414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1CDE2-BA3A-403E-AD3C-A7EA36C9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6BF09-4639-4912-94D1-E05E36D3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AB432-1C5A-4E76-AA0C-C7F9D5DC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E37B-2CA1-4175-B0E8-9ADABF8C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067B-5E03-4BE7-A949-C3AB311D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D2D4-3AAD-4341-BB18-E09DBD8B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926D-1594-41D2-9F2A-A035E735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FBCA-9583-415E-AAA3-8B27D930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D306-D9E0-4EED-B319-D8757884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2E17-EE82-4E31-8FF5-F9B6AE5490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B906-736E-4ABF-8163-61D716759D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93EB-C5B2-4F4F-8DF7-A44A0D3B2F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172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VOCABULAIRE ET OPÉRATIONS (2)</a:t>
            </a: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SÉRIE N°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8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1000 de plus que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9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100 fois plus que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10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1 dixième de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44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Traduire chaque phrase par une expression littéral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1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10 de plus que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2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10 de moins que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7982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3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10 fois plus que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79820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4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10 fois moins que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5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100 de moins que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6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1000 fois plus que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7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100 fois moins que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3:04:07Z</dcterms:created>
  <dc:creator>ms</dc:creator>
  <dc:description/>
  <dc:language>en-US</dc:language>
  <cp:lastModifiedBy>Marionseg</cp:lastModifiedBy>
  <dcterms:modified xsi:type="dcterms:W3CDTF">2010-01-22T17:56:03Z</dcterms:modified>
  <cp:revision>9</cp:revision>
  <dc:subject/>
  <dc:title>Effectuer  les calculs suivants</dc:title>
</cp:coreProperties>
</file>