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9BEB-C486-4A74-BD43-B298D394B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567F-BF43-4378-A810-C75322F64C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400F-195D-4F8B-88B6-09B923B8A5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BC39-C3D5-4004-9FF7-F23FDA9E6B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0367-39A7-408B-AB39-DBF8C1FF72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F918-683A-4401-B6AA-BEE2A14AB2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312-2792-46F6-B729-A80293E0F8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8F14-88D2-4270-8CF5-8CC2747A8FC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5575-BCBF-4CAF-87EA-F4895783141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534C-C4E6-4EF7-BEDB-0F3053D9AD2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961F-C91B-40A8-9B83-7DAA7F1CBB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17C4-68D3-49D5-BE55-ABBEA95F99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086C-6E01-4A30-AFDF-C6F90651C8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7FB0-039F-431E-9B75-7CFE9D53B57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5FDB-CC19-4433-8C87-B771E198E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FB1-F877-461C-9FD5-4274E29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41FD-FE48-47D7-BE5B-07EB6CD7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5D1-3EA8-48D3-8F6D-EEB76EE5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DC89-66D4-4115-87A0-92407FDB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2247-3C60-4939-9689-2DA7322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5ECC-6DF9-4FEC-8B53-2B89EB61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6F8A-0214-48EE-BCC3-8DE64C0A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F326-D9BC-4E25-ADC9-70941436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A41F-AC13-4A9B-B3A7-D31C1EC5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EB61-933A-4F87-BB8F-990E372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0B7-3733-46A8-8ADA-19086D99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3126-55FC-4ACE-B113-F6EA3ACE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B936-200A-4323-BCEB-44D8E3A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474A-E4F4-4C7F-AEE1-71BFDEF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DF81-56DA-4C3A-8C4D-0992EC96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4859-43E4-448E-A08E-5B73FC24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696-85DB-446E-9CE4-F705B716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F47-10AD-4577-83DB-91FB7D51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BA3E-0360-49B1-B450-655A573E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C0B-0827-4968-876B-64C5DD71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B6E-310E-460C-8A89-2E25353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A41-4A19-4F1E-8D3A-AB4BBEA7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85A-BF87-4F91-AF8A-D0BD61F0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8791-3EA7-4F3A-BB8E-33C2AE783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A3BA-1C3E-404D-99E6-62A1B28C71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1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77 et 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87 et 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85 et 3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1811160"/>
            <a:ext cx="655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Donner un diviseur différent de 1 des nombres suivants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26 et 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18 et 3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45 et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64 et 2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63 et 9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72 et 4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899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diviseur de 15 et 5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0:34:37Z</dcterms:created>
  <dc:creator>ms</dc:creator>
  <dc:description/>
  <dc:language>en-US</dc:language>
  <cp:lastModifiedBy>Marionseg</cp:lastModifiedBy>
  <dcterms:modified xsi:type="dcterms:W3CDTF">2010-01-22T14:40:36Z</dcterms:modified>
  <cp:revision>7</cp:revision>
  <dc:subject/>
  <dc:title>Diapositive 1</dc:title>
</cp:coreProperties>
</file>