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F799-0B64-4D60-9C2E-0062408F56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40E4-40BF-4918-92C0-07C1F76F6B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54F2-79B7-4F5C-8805-185ADEF810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74BE-73EF-450E-ADC4-C6E873265F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8C44-46C9-4EBF-8BDD-BF006A29D8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7410-B9DE-46B2-87AC-CAD49B3C5B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A4DA-E747-46DA-9926-67F4BC7A8D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88D8-8381-4F81-A35E-68ECAB9CC6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F7C6-B034-4A1F-80C9-D3491BD813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5B2A-9727-453F-95DD-774A2634BA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78D7-B20F-4A67-ADED-C11665BC0E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3DB1-06B6-4AEC-9F80-A3A5A1EFA8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317A-6AEB-4FE4-8C44-9BBB072836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B680-4A45-40BD-AAD9-D2F4925484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AA0-20E0-444C-9964-2253B276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4CF-BCDC-4D38-8CE3-34A1EFEA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413-59F5-41C2-AE82-5E61F792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233-8A4C-4E97-B13A-E8D9A87B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BFE-D423-42FD-BB98-74A24B5E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FA5-DEDF-4E43-B995-0CE402A3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1ED-5FF6-4AAB-A059-283F97E7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DAB-A7F1-4D3C-AC8E-06DD8A93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258-0C7D-4D53-A9C8-B9F2BBC0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E18-AF36-4276-9F28-865D8756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5F87-E06F-4AA5-AED8-F3938773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0AF-C021-45CC-8648-FF59652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F296-A2E8-4379-82B3-DE0648C00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AUTOUR DE PYTHAGORE 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9600" y="-133560"/>
            <a:ext cx="859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°8 :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e triangle RSV rectangle en 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Image 23" descr=""/>
          <p:cNvPicPr/>
          <p:nvPr/>
        </p:nvPicPr>
        <p:blipFill>
          <a:blip r:embed="rId1"/>
          <a:srcRect l="11960" t="1540" r="26920" b="1540"/>
          <a:stretch/>
        </p:blipFill>
        <p:spPr>
          <a:xfrm>
            <a:off x="2000160" y="1357200"/>
            <a:ext cx="4653000" cy="474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7360" y="-133560"/>
            <a:ext cx="862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°9 :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e triangle GEA rectangle en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age 8" descr=""/>
          <p:cNvPicPr/>
          <p:nvPr/>
        </p:nvPicPr>
        <p:blipFill>
          <a:blip r:embed="rId1"/>
          <a:srcRect l="31583" t="10318" r="32417" b="32262"/>
          <a:stretch/>
        </p:blipFill>
        <p:spPr>
          <a:xfrm>
            <a:off x="2589120" y="1477800"/>
            <a:ext cx="4054680" cy="416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0320" y="-133560"/>
            <a:ext cx="89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°10 :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e triangle RSU rectangle en 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 23" descr=""/>
          <p:cNvPicPr/>
          <p:nvPr/>
        </p:nvPicPr>
        <p:blipFill>
          <a:blip r:embed="rId1"/>
          <a:srcRect l="11960" t="1540" r="26920" b="1540"/>
          <a:stretch/>
        </p:blipFill>
        <p:spPr>
          <a:xfrm>
            <a:off x="2000160" y="1357200"/>
            <a:ext cx="4653000" cy="474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288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Ecrire l’égalité de Pythagore dans le triangle rectangle propos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4400" y="-133560"/>
            <a:ext cx="859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°1 :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e triangle ABC rectangle e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age 19" descr=""/>
          <p:cNvPicPr/>
          <p:nvPr/>
        </p:nvPicPr>
        <p:blipFill>
          <a:blip r:embed="rId1"/>
          <a:srcRect l="9970" t="12366" r="29910" b="9270"/>
          <a:stretch/>
        </p:blipFill>
        <p:spPr>
          <a:xfrm>
            <a:off x="2357280" y="1330200"/>
            <a:ext cx="4357800" cy="367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1040" y="-133560"/>
            <a:ext cx="87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°2 :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e triangle SON rectangle en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age 3" descr=""/>
          <p:cNvPicPr/>
          <p:nvPr/>
        </p:nvPicPr>
        <p:blipFill>
          <a:blip r:embed="rId1"/>
          <a:srcRect l="11960" t="15461" r="37890" b="23192"/>
          <a:stretch/>
        </p:blipFill>
        <p:spPr>
          <a:xfrm>
            <a:off x="2106720" y="1963800"/>
            <a:ext cx="4537080" cy="282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0320" y="-133560"/>
            <a:ext cx="870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°3 :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e triangle CDG rectangle e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 3" descr=""/>
          <p:cNvPicPr/>
          <p:nvPr/>
        </p:nvPicPr>
        <p:blipFill>
          <a:blip r:embed="rId1"/>
          <a:srcRect l="32417" t="9034" r="31583" b="30966"/>
          <a:stretch/>
        </p:blipFill>
        <p:spPr>
          <a:xfrm>
            <a:off x="2286000" y="1285920"/>
            <a:ext cx="4678200" cy="502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5960" y="-13356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°4 :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e triangle ILJ rectangle en 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Image 20" descr=""/>
          <p:cNvPicPr/>
          <p:nvPr/>
        </p:nvPicPr>
        <p:blipFill>
          <a:blip r:embed="rId1"/>
          <a:srcRect l="14960" t="9270" r="9970" b="10826"/>
          <a:stretch/>
        </p:blipFill>
        <p:spPr>
          <a:xfrm>
            <a:off x="1285920" y="1643040"/>
            <a:ext cx="6429240" cy="442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3120" y="-133560"/>
            <a:ext cx="890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°5 :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e triangle OMO’ rectangle en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 5" descr=""/>
          <p:cNvPicPr/>
          <p:nvPr/>
        </p:nvPicPr>
        <p:blipFill>
          <a:blip r:embed="rId1"/>
          <a:srcRect l="26920" t="6191" r="30910" b="15461"/>
          <a:stretch/>
        </p:blipFill>
        <p:spPr>
          <a:xfrm>
            <a:off x="2357280" y="1500120"/>
            <a:ext cx="4214880" cy="50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8160" y="-133560"/>
            <a:ext cx="81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°6 :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e triangle IJK rectangle e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age 20" descr=""/>
          <p:cNvPicPr/>
          <p:nvPr/>
        </p:nvPicPr>
        <p:blipFill>
          <a:blip r:embed="rId1"/>
          <a:srcRect l="14960" t="9270" r="9970" b="10826"/>
          <a:stretch/>
        </p:blipFill>
        <p:spPr>
          <a:xfrm>
            <a:off x="1285920" y="1643040"/>
            <a:ext cx="6429240" cy="442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9240" y="-133560"/>
            <a:ext cx="865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N°7 :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e triangle BCD rectangle e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 7" descr=""/>
          <p:cNvPicPr/>
          <p:nvPr/>
        </p:nvPicPr>
        <p:blipFill>
          <a:blip r:embed="rId1"/>
          <a:srcRect l="32417" t="9034" r="31583" b="32262"/>
          <a:stretch/>
        </p:blipFill>
        <p:spPr>
          <a:xfrm>
            <a:off x="2643120" y="1500120"/>
            <a:ext cx="4054680" cy="425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9:42:20Z</dcterms:created>
  <dc:creator>ms</dc:creator>
  <dc:description/>
  <dc:language>en-US</dc:language>
  <cp:lastModifiedBy>Marionseg</cp:lastModifiedBy>
  <dcterms:modified xsi:type="dcterms:W3CDTF">2010-01-21T14:36:46Z</dcterms:modified>
  <cp:revision>22</cp:revision>
  <dc:subject/>
  <dc:title>Diapositive 1</dc:title>
</cp:coreProperties>
</file>