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0A3-7DEF-492C-9C27-E13CCFCADC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AD5-F096-46D2-AECC-83B37AD2D6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020E-83B2-4B1E-96D6-19319A0301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29D-B028-4DC0-810E-68C72CD272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2A3-73E8-4B68-BB63-0168B50F14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73AD-C10B-4524-AABB-96C073145F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9B4E-EDBE-432B-ACA8-C537DADEA5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68E-5640-4AB0-AA1B-9779C70E15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43AD-49FE-495D-B154-3631D497966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BB11-6D61-44D1-BF11-ABECB74D3B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F0A-8C56-4A43-AD08-69F2A1C73D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D06B-057A-4AA7-83EF-9A3AF83BE7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B26-12F7-4577-974D-96C7F75AC3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2B35-4974-4DF9-8C08-327B8968F9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527-120B-4971-9B6D-EAEF1B6B2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323-F801-4EFF-81B8-909E9DEF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C26-5B4A-4F1C-B9F2-20EBE1A3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356-9693-451F-8EE5-76976C06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BBB-641A-41CE-ABD6-4AC05A29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BD46-C513-42F7-B6AC-23E7234A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8A0-9767-4810-9183-E41232B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905-A32B-4182-AF03-D3732374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697-744F-41D4-90F9-F7736E02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9C9-1BEB-4AD9-A729-EBB34C33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132-E1D1-4458-AD3F-EA36AB1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FB3-406F-4E29-93E4-72AE62E1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BAD1-BBE9-4558-83A6-956846639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IDENTITÉS REMARQUABLES (2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2338560" y="2647800"/>
                <a:ext cx="458280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"/>
              <p:cNvSpPr txBox="1"/>
              <p:nvPr/>
            </p:nvSpPr>
            <p:spPr>
              <a:xfrm>
                <a:off x="963720" y="2647800"/>
                <a:ext cx="733248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898560" y="1803240"/>
                <a:ext cx="7462800" cy="377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Factoriser à l’aide des identités remarquables </a:t>
            </a:r>
            <a:br>
              <a:rPr sz="6000"/>
            </a:br>
            <a:r>
              <a:rPr b="0" i="1" lang="fr-FR" sz="6000" spc="-1" strike="noStrike" u="sng">
                <a:solidFill>
                  <a:srgbClr val="000000"/>
                </a:solidFill>
                <a:uFillTx/>
                <a:latin typeface="Calibri"/>
              </a:rPr>
              <a:t>si c’est possible</a:t>
            </a:r>
            <a:r>
              <a:rPr b="0" i="1" lang="fr-FR" sz="60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2665440" y="2647800"/>
                <a:ext cx="392760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2403360" y="2647800"/>
                <a:ext cx="445140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766800" y="1803240"/>
                <a:ext cx="7726320" cy="377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374760" y="2583000"/>
                <a:ext cx="85104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2"/>
              <p:cNvSpPr txBox="1"/>
              <p:nvPr/>
            </p:nvSpPr>
            <p:spPr>
              <a:xfrm>
                <a:off x="1552680" y="1803240"/>
                <a:ext cx="6154560" cy="377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112680" y="2583000"/>
                <a:ext cx="903456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2795760" y="2647800"/>
                <a:ext cx="3666960" cy="20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9:07:09Z</dcterms:created>
  <dc:creator>ms</dc:creator>
  <dc:description/>
  <dc:language>en-US</dc:language>
  <cp:lastModifiedBy>Marionseg</cp:lastModifiedBy>
  <dcterms:modified xsi:type="dcterms:W3CDTF">2010-01-17T20:10:10Z</dcterms:modified>
  <cp:revision>10</cp:revision>
  <dc:subject/>
  <dc:title>Identités remarquables (1) Série n°2</dc:title>
</cp:coreProperties>
</file>