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688F-B12E-453A-BE6D-44D8DBC625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2EFF-6AF7-469F-B937-71B0C31F92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5AF3-F5FC-4D11-AE1D-F8F02D4A27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2D60-2AE3-42F1-B584-5E8F900EAE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2DE0-F038-4543-9A12-56164BA01B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3366-8357-49C6-BB08-30850ED743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F8C1B-22FE-49E2-BCD7-B9E25EC5A3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3693-C04E-4D0D-B4BA-BB40F1811E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CAC5-1431-479C-BAED-FD272007DD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B24E0-FB6B-4890-B99C-3DB72B8952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7BA4-C53D-4F55-A50B-E2FCDF9723B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46EA-CA4E-4B7A-BA86-5BCFE37D56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604-D282-4B4B-AE48-A78007C0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19A8-B3BA-4555-AA24-FAD1691E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CB1A-7893-4D9A-B686-2F153233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AE6-1C2A-48D7-BFBC-8F8CEB88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3F68-D044-4E17-BBCA-8822BDDE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923-F118-49F0-B14F-F833DDA5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441-9C2D-4DA9-8E81-7E70E488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24DF-0CC0-4A95-BD43-DCCA533B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9B2C-2688-454A-AD62-9D702E4E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D0AB-BB82-49CA-8D7F-D2372965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06A-AB1B-4791-9808-B1C42B14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520-5FC5-4562-80A3-8931BFCC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4299-7A99-40B0-A2A1-1F0E16BBC824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VALEURS APPROCHÉES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1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Espace réservé du contenu 7"/>
              <p:cNvSpPr txBox="1"/>
              <p:nvPr/>
            </p:nvSpPr>
            <p:spPr>
              <a:xfrm>
                <a:off x="2801880" y="3244680"/>
                <a:ext cx="33116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5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1" name="ZoneTexte 9"/>
          <p:cNvSpPr/>
          <p:nvPr/>
        </p:nvSpPr>
        <p:spPr>
          <a:xfrm>
            <a:off x="214200" y="1268280"/>
            <a:ext cx="87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cent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4" name="ZoneTexte 9"/>
          <p:cNvSpPr/>
          <p:nvPr/>
        </p:nvSpPr>
        <p:spPr>
          <a:xfrm>
            <a:off x="214200" y="1268280"/>
            <a:ext cx="87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dix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Espace réservé du contenu 7"/>
              <p:cNvSpPr txBox="1"/>
              <p:nvPr/>
            </p:nvSpPr>
            <p:spPr>
              <a:xfrm>
                <a:off x="2801880" y="3244680"/>
                <a:ext cx="331164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953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Espace réservé du contenu 7"/>
              <p:cNvSpPr txBox="1"/>
              <p:nvPr/>
            </p:nvSpPr>
            <p:spPr>
              <a:xfrm>
                <a:off x="1500120" y="3244680"/>
                <a:ext cx="6191280" cy="175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" name="ZoneTexte 9"/>
          <p:cNvSpPr/>
          <p:nvPr/>
        </p:nvSpPr>
        <p:spPr>
          <a:xfrm>
            <a:off x="428760" y="126828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l’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unité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9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4"/>
          <p:cNvSpPr/>
          <p:nvPr/>
        </p:nvSpPr>
        <p:spPr>
          <a:xfrm>
            <a:off x="0" y="2843280"/>
            <a:ext cx="91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ompléter le tableau propos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Espace réservé du contenu 7"/>
              <p:cNvSpPr txBox="1"/>
              <p:nvPr/>
            </p:nvSpPr>
            <p:spPr>
              <a:xfrm>
                <a:off x="1409760" y="3244680"/>
                <a:ext cx="60958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74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" name="ZoneTexte 9"/>
          <p:cNvSpPr/>
          <p:nvPr/>
        </p:nvSpPr>
        <p:spPr>
          <a:xfrm>
            <a:off x="428760" y="128592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l’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unité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Espace réservé du contenu 7"/>
              <p:cNvSpPr txBox="1"/>
              <p:nvPr/>
            </p:nvSpPr>
            <p:spPr>
              <a:xfrm>
                <a:off x="1409760" y="3244680"/>
                <a:ext cx="60958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74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" name="ZoneTexte 9"/>
          <p:cNvSpPr/>
          <p:nvPr/>
        </p:nvSpPr>
        <p:spPr>
          <a:xfrm>
            <a:off x="428760" y="126828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l’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unité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Espace réservé du contenu 7"/>
              <p:cNvSpPr txBox="1"/>
              <p:nvPr/>
            </p:nvSpPr>
            <p:spPr>
              <a:xfrm>
                <a:off x="1409760" y="3244680"/>
                <a:ext cx="60958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74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" name="ZoneTexte 9"/>
          <p:cNvSpPr/>
          <p:nvPr/>
        </p:nvSpPr>
        <p:spPr>
          <a:xfrm>
            <a:off x="428760" y="126828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cent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Espace réservé du contenu 7"/>
              <p:cNvSpPr txBox="1"/>
              <p:nvPr/>
            </p:nvSpPr>
            <p:spPr>
              <a:xfrm>
                <a:off x="1409760" y="3244680"/>
                <a:ext cx="60958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74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ZoneTexte 9"/>
          <p:cNvSpPr/>
          <p:nvPr/>
        </p:nvSpPr>
        <p:spPr>
          <a:xfrm>
            <a:off x="428760" y="126828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millièm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Espace réservé du contenu 7"/>
              <p:cNvSpPr txBox="1"/>
              <p:nvPr/>
            </p:nvSpPr>
            <p:spPr>
              <a:xfrm>
                <a:off x="1409760" y="3244680"/>
                <a:ext cx="60958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7499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" name="ZoneTexte 9"/>
          <p:cNvSpPr/>
          <p:nvPr/>
        </p:nvSpPr>
        <p:spPr>
          <a:xfrm>
            <a:off x="428760" y="126828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dixièm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Espace réservé du contenu 7"/>
              <p:cNvSpPr txBox="1"/>
              <p:nvPr/>
            </p:nvSpPr>
            <p:spPr>
              <a:xfrm>
                <a:off x="2773440" y="3244680"/>
                <a:ext cx="33685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ZoneTexte 9"/>
          <p:cNvSpPr/>
          <p:nvPr/>
        </p:nvSpPr>
        <p:spPr>
          <a:xfrm>
            <a:off x="214200" y="1268280"/>
            <a:ext cx="87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cent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Espace réservé du contenu 7"/>
              <p:cNvSpPr txBox="1"/>
              <p:nvPr/>
            </p:nvSpPr>
            <p:spPr>
              <a:xfrm>
                <a:off x="2773440" y="3244680"/>
                <a:ext cx="336852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7" name="ZoneTexte 9"/>
          <p:cNvSpPr/>
          <p:nvPr/>
        </p:nvSpPr>
        <p:spPr>
          <a:xfrm>
            <a:off x="214200" y="1268280"/>
            <a:ext cx="8715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dixièm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22T17:32:25Z</dcterms:modified>
  <cp:revision>34</cp:revision>
  <dc:subject/>
  <dc:title>Diapositive 1</dc:title>
</cp:coreProperties>
</file>