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DCD1-ACC3-4221-ACD2-50C7B8927E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AF2C-22E9-4194-BA77-6B6701AC90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5D3C-197E-4F9B-8975-22A8318C8A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053D-E9EB-4B94-8646-F18EE545DA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A54B0-1C0A-4C09-AB37-0220F8E5F2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5FB7-2B46-43FC-8575-0B786D0AD2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3059-5EDD-4802-A01A-CC43D5561F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685E-54A7-486F-9969-3CCEDCC99E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616-EFAC-42B7-B1E4-40FBB6D8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75E8-4249-4D79-9D72-3D872F94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5D0-F323-45F4-9204-75EBED83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050-CA65-4FC5-94FF-BBB42420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AF6-F5D3-43B8-8341-4E5B3D45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7502-D047-4C38-BA74-3C7A6BFB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C155-4197-4C67-9C41-D7D29A61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001-D2D1-479B-976F-8D060BD7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05C-0065-4576-8DDF-894BDBF4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40B-ED2C-4694-BF1A-AC98BD3F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987-1ECF-49B9-8E1E-30E903DE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CCB-E6D4-4CF3-97C8-C21777AC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1E39-F69D-4D11-92BA-D273E846B5F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GRANDISSEMENT ET RÉDUCTION (1)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684360" y="4869000"/>
            <a:ext cx="77724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Le triangle ABC est-il une réduction du triangle AEF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_x0014_Agrand-Réduc 1-1.pdf                                           004AFEB7_x000b_Disque imac                    BFCC89D1:"/>
          <p:cNvPicPr/>
          <p:nvPr/>
        </p:nvPicPr>
        <p:blipFill>
          <a:blip r:embed="rId1"/>
          <a:stretch/>
        </p:blipFill>
        <p:spPr>
          <a:xfrm>
            <a:off x="1314360" y="1092240"/>
            <a:ext cx="6515280" cy="467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_x0014_Agrand-Réduc 1-2.pdf                                           004AFEB7_x000b_Disque imac                    BFCC89D1:"/>
          <p:cNvPicPr/>
          <p:nvPr/>
        </p:nvPicPr>
        <p:blipFill>
          <a:blip r:embed="rId1"/>
          <a:stretch/>
        </p:blipFill>
        <p:spPr>
          <a:xfrm>
            <a:off x="1333440" y="1092240"/>
            <a:ext cx="6477120" cy="467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_x0014_Agrand-Réduc 1-3.pdf                                           004AFEB7_x000b_Disque imac                    BFCC89D1:"/>
          <p:cNvPicPr/>
          <p:nvPr/>
        </p:nvPicPr>
        <p:blipFill>
          <a:blip r:embed="rId1"/>
          <a:stretch/>
        </p:blipFill>
        <p:spPr>
          <a:xfrm>
            <a:off x="1314360" y="1092240"/>
            <a:ext cx="6515280" cy="467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_x0014_Agrand-Réduc 1-4.pdf                                           004AFEB7_x000b_Disque imac                    BFCC89D1:"/>
          <p:cNvPicPr/>
          <p:nvPr/>
        </p:nvPicPr>
        <p:blipFill>
          <a:blip r:embed="rId1"/>
          <a:stretch/>
        </p:blipFill>
        <p:spPr>
          <a:xfrm>
            <a:off x="1314360" y="1092240"/>
            <a:ext cx="6515280" cy="467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0" y="0"/>
            <a:ext cx="100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_x0014_Agrand-Réduc 1-5.pdf                                           004AFEB7_x000b_Disque imac                    BFCC89D1:"/>
          <p:cNvPicPr/>
          <p:nvPr/>
        </p:nvPicPr>
        <p:blipFill>
          <a:blip r:embed="rId1"/>
          <a:stretch/>
        </p:blipFill>
        <p:spPr>
          <a:xfrm>
            <a:off x="1314360" y="1092240"/>
            <a:ext cx="6515280" cy="4673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6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Bouton d'action : Retour 7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0:36:36Z</dcterms:created>
  <dc:creator>ms</dc:creator>
  <dc:description/>
  <dc:language>en-US</dc:language>
  <cp:lastModifiedBy>Marionseg</cp:lastModifiedBy>
  <dcterms:modified xsi:type="dcterms:W3CDTF">2010-05-30T07:46:39Z</dcterms:modified>
  <cp:revision>11</cp:revision>
  <dc:subject/>
  <dc:title>N°1: Le triangle ABC est-il une réduction du triangle AEF ?</dc:title>
</cp:coreProperties>
</file>