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332-99F2-4FB0-B984-B44B5EC4D0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1BE-6791-4B28-AE56-9664CDCF41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C6FD-C446-42DD-B063-0E8CFA737F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A7B-E429-4F02-A3A5-AF9DFA3729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9DF7-0602-4375-99BD-9F80116B49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F7BA-40C3-4B5D-94E6-19AE610ACB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979-4D17-49D9-A5A0-3E3A6B7330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231-2E21-4672-9EEA-CFDB505084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4CE6-6CDB-478A-AC93-A36E31F151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AC69-2B56-4656-8236-893CBA560F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35AF-8D90-48D5-8BF1-41ABE657F6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ACFF-13CB-47D8-A4D9-E9F351D710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D50-3DD5-4C69-8972-1AF5A68148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C249-7844-4D8A-AE95-5BC60DD1A8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05FF-AA43-42A7-B5F1-05E77EEC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DBFB-8CB0-4ACB-B1A6-F32EEC1F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B9D-BFC4-4B56-B546-9BC4C1A4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CA7-D3CC-4288-8C09-D2C71E44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C67-66CD-40CE-9E2E-FD57BE6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C79-B302-4AA9-B516-957F2979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C8D-2F1A-42BF-BB1E-3147E4C5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D6B-EE73-4815-85C6-1D8A78E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A40-FD0A-44FE-B7E1-700622BC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114-63FA-4343-B021-2693B9FE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96C-F50D-42DE-A7F2-A9985573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0C2-7985-4205-8409-6EA3E3D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6455-46AD-4F8F-AAD3-A5780751756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42C7-F081-448E-A421-2BF847DF8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TION DE FONCTIO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7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1"/>
          <p:cNvSpPr/>
          <p:nvPr/>
        </p:nvSpPr>
        <p:spPr>
          <a:xfrm>
            <a:off x="0" y="464328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e40059"/>
                </a:solidFill>
                <a:latin typeface="Arial"/>
              </a:rPr>
              <a:t>Citer un nombre strictement positif ayant une image strictement négative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7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1"/>
          <p:cNvSpPr/>
          <p:nvPr/>
        </p:nvSpPr>
        <p:spPr>
          <a:xfrm>
            <a:off x="0" y="4616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Quel est le nombre minimum de valeurs de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 pour lesquelles on a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f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(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x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)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 = – 1,7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7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1"/>
          <p:cNvSpPr/>
          <p:nvPr/>
        </p:nvSpPr>
        <p:spPr>
          <a:xfrm>
            <a:off x="0" y="4643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Trouver deux nombres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et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b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tels que  «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 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ait pour image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b 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et</a:t>
            </a:r>
            <a:r>
              <a:rPr b="0" i="1" lang="fr-FR" sz="4400" spc="-1" strike="noStrike">
                <a:solidFill>
                  <a:srgbClr val="e40059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«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 b</a:t>
            </a:r>
            <a:r>
              <a:rPr b="0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ait pour image </a:t>
            </a:r>
            <a:r>
              <a:rPr b="0" i="1" lang="fr-FR" sz="44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a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</a:rPr>
              <a:t> » 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1428480"/>
            <a:ext cx="8358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À partir de la représentation graphique d’une fonction </a:t>
            </a:r>
            <a:r>
              <a:rPr b="0" i="1" lang="fr-FR" sz="5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Times New Roman"/>
              </a:rPr>
              <a:t>, répondre aux question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1"/>
          <p:cNvSpPr/>
          <p:nvPr/>
        </p:nvSpPr>
        <p:spPr>
          <a:xfrm>
            <a:off x="285840" y="4643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Quelle est l’image de 2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285840" y="4643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un antécédent de – 3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285840" y="4643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Quelle est l’image de – 3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1"/>
          <p:cNvSpPr/>
          <p:nvPr/>
        </p:nvSpPr>
        <p:spPr>
          <a:xfrm>
            <a:off x="285840" y="464328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un antécédent de – 2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11"/>
          <p:cNvSpPr/>
          <p:nvPr/>
        </p:nvSpPr>
        <p:spPr>
          <a:xfrm>
            <a:off x="285840" y="46432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Citer des nombres dont l’image est 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ZoneTexte 11"/>
          <p:cNvSpPr/>
          <p:nvPr/>
        </p:nvSpPr>
        <p:spPr>
          <a:xfrm>
            <a:off x="0" y="464328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200" spc="-1" strike="noStrike">
                <a:solidFill>
                  <a:srgbClr val="e40059"/>
                </a:solidFill>
                <a:latin typeface="Arial"/>
              </a:rPr>
              <a:t>Sur ce dessin, combien de nombres ont 1,5 pour image ?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79640" y="539640"/>
            <a:ext cx="7143480" cy="4075200"/>
          </a:xfrm>
          <a:prstGeom prst="rect">
            <a:avLst/>
          </a:prstGeom>
          <a:ln w="0">
            <a:noFill/>
          </a:ln>
        </p:spPr>
      </p:pic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0" y="4643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40059"/>
                </a:solidFill>
                <a:latin typeface="Arial"/>
              </a:rPr>
              <a:t>Quel est le nombre minimum d’antécédents de 0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4:04:24Z</dcterms:modified>
  <cp:revision>159</cp:revision>
  <dc:subject/>
  <dc:title>Diapositive 0</dc:title>
</cp:coreProperties>
</file>