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F744-7398-46F3-A228-031FB204DD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C09D-7622-45A4-9355-B36D5F324A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8E1A-0585-44AC-8329-0165EE7555A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ED9A-C323-4DD2-AD47-B001F12B142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43C0-DFA5-4C09-8002-34E87686E7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2C55-64E9-4CB7-85CE-61892E7CA5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292C-12D6-4C59-AD9E-D5A2D42A0E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089-A79D-4F51-92C8-028D91D6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7F3C-DED3-4848-ADDF-AA4F49A3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6D2-C3BC-4E3E-9DA4-7EDD7969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4C7-5FF4-416F-A693-1DE64050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1926-9994-443C-B8D0-18B13128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6598-364F-4B70-B982-52EAD006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268D-97AC-4251-ABCD-CA70DE4D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308E-EA16-4C20-8879-6F670720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4ACF-CFBA-462C-A70E-36868A6B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B4D3-9D49-4352-8503-F4AF1AB1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5EC9-E1DE-47E4-8A97-2A7AD104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7BC-4589-40A8-AF50-2D583319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97BF-5B4D-4DBE-A1DB-0AD4A971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51BC-14D7-4344-9572-A4891A2F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94C2-2AB6-4E87-9D1E-8B05AA1C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0A16-B8C1-4D0B-AD40-08AB3DE8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CBACD-1765-4973-AC7D-9E343945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EDE34-B14A-4807-9F18-78AA0194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1E7A5-37C6-4E89-A262-3D2BD387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53BF1-2C69-41A0-9B2C-A9E4F3B9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56F1B-3610-41A9-A032-AE0C6B42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C640A-E908-4B74-860A-321B33DE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E8D-B38D-41B0-843D-D5A816AE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6EE96-728B-4F63-980A-BE2542C1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5896A-B24D-43C6-9B83-BD30A832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92592-7127-49EE-8F05-DA26863A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5A969-6DA4-4D54-99B7-6C649E7E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8DD28-5D61-4CA9-B4CE-3608619E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4FBC3-7773-4613-A74E-92BD04EA7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C783F-0594-429B-BEB9-A7A5BBD1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449B-D477-4741-836A-677B60D7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6EED-F6E6-4802-A3F4-BD607943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F46-3524-4DD7-B426-59E129F0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413-48D2-4F92-B92B-387B6AC2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FF6B-88B8-4B22-90B1-35B6C26A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5EA7-3775-4370-B10D-CF108FFC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A680-49D7-43B5-A201-DFAA8CD85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6F81-7BEC-4F6F-A8E3-E5C87B59490C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468360" y="2349360"/>
            <a:ext cx="374328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32360" y="2349360"/>
            <a:ext cx="3743280" cy="215928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2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E9DE-8514-414E-9621-9419824D2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RACTIONS : PROBLÈM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RIE N°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Répondre aux questions posées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7"/>
          <p:cNvSpPr/>
          <p:nvPr/>
        </p:nvSpPr>
        <p:spPr>
          <a:xfrm>
            <a:off x="0" y="177336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lisa boit     litre de lait le mati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t      de litre au goû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Quelle fraction de litre de la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</a:rPr>
              <a:t>boit-elle chaque jour 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3397320" y="2155680"/>
                <a:ext cx="46044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Text Box 12"/>
          <p:cNvSpPr/>
          <p:nvPr/>
        </p:nvSpPr>
        <p:spPr>
          <a:xfrm>
            <a:off x="0" y="360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Problème n°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3"/>
              <p:cNvSpPr txBox="1"/>
              <p:nvPr/>
            </p:nvSpPr>
            <p:spPr>
              <a:xfrm>
                <a:off x="2786040" y="3227400"/>
                <a:ext cx="46044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7"/>
          <p:cNvSpPr/>
          <p:nvPr/>
        </p:nvSpPr>
        <p:spPr>
          <a:xfrm>
            <a:off x="0" y="171468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ns une classe, les     des élèves sont blond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    des élèves sont bru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s autres sont rou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Quelle fraction du nombre d’élèves de la classe représente ceux qui sont roux 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4162320" y="2070000"/>
                <a:ext cx="4096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12"/>
          <p:cNvSpPr/>
          <p:nvPr/>
        </p:nvSpPr>
        <p:spPr>
          <a:xfrm>
            <a:off x="0" y="360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Problème n°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2571840" y="3000240"/>
                <a:ext cx="409320" cy="10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7"/>
          <p:cNvSpPr/>
          <p:nvPr/>
        </p:nvSpPr>
        <p:spPr>
          <a:xfrm>
            <a:off x="0" y="1643040"/>
            <a:ext cx="8929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ns un collège,    des élèves déjeunent à 12h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 élèves déjeunent à 12h3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ous les autres déjeunent à 13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Quelle fraction du nombre total d’élèves représente ceux qui déjeunent à 13 h 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8"/>
              <p:cNvSpPr txBox="1"/>
              <p:nvPr/>
            </p:nvSpPr>
            <p:spPr>
              <a:xfrm>
                <a:off x="3233880" y="1927080"/>
                <a:ext cx="4093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Text Box 12"/>
          <p:cNvSpPr/>
          <p:nvPr/>
        </p:nvSpPr>
        <p:spPr>
          <a:xfrm>
            <a:off x="0" y="360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Problème n°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"/>
              <p:cNvSpPr txBox="1"/>
              <p:nvPr/>
            </p:nvSpPr>
            <p:spPr>
              <a:xfrm>
                <a:off x="1357200" y="2928960"/>
                <a:ext cx="4096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7"/>
          <p:cNvSpPr/>
          <p:nvPr/>
        </p:nvSpPr>
        <p:spPr>
          <a:xfrm>
            <a:off x="0" y="1357200"/>
            <a:ext cx="9144000" cy="58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édric achète un VTT. Il paie    de son prix 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commande. Il donne les    à la livrais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t il règle le reste en 4 versements égau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Quelle fraction du prix total lui reste-t-il à payer après la livrais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Quelle fraction du prix total paiera-t-il à chaque versement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8"/>
              <p:cNvSpPr txBox="1"/>
              <p:nvPr/>
            </p:nvSpPr>
            <p:spPr>
              <a:xfrm>
                <a:off x="5877000" y="1177920"/>
                <a:ext cx="40968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Text Box 12"/>
          <p:cNvSpPr/>
          <p:nvPr/>
        </p:nvSpPr>
        <p:spPr>
          <a:xfrm>
            <a:off x="0" y="360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Problème n°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5643720" y="2176560"/>
                <a:ext cx="4093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7"/>
          <p:cNvSpPr/>
          <p:nvPr/>
        </p:nvSpPr>
        <p:spPr>
          <a:xfrm>
            <a:off x="0" y="114300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lara a mangé    d’un gâtea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ierre mange la moitié du r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Quelle fraction du gâteau représ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la part mangée par Pierre 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Quelle fraction du gâteau représ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le morceau restant 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4662360" y="1428840"/>
                <a:ext cx="4096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Text Box 12"/>
          <p:cNvSpPr/>
          <p:nvPr/>
        </p:nvSpPr>
        <p:spPr>
          <a:xfrm>
            <a:off x="0" y="36036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</a:rPr>
              <a:t>Problème n°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5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6:22:23Z</dcterms:modified>
  <cp:revision>26</cp:revision>
  <dc:subject/>
  <dc:title>PowerPoint Presentation</dc:title>
</cp:coreProperties>
</file>