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2CBA-92A6-4E49-BF37-9ED0B7D605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E50C-B210-4136-9F15-5936A15ABE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CB71-B525-47DB-B8CB-C548CF5E8D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5B2D-376E-4676-A050-A42C8D37CB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0886-54E9-456F-8E04-A6F14ED202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754C-EE0B-49E1-9D14-6E64E29CD0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0C83-5D36-4C43-B4FD-6E7BE51D6B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54A9-1BE2-4C4B-A0D2-437B0B8BC8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7B84-6BE6-4E7E-BAAF-CE8DEF9E97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D061-9B0E-40AF-A0E7-74AE565992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4305-A737-483F-AEBE-F5940E3317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759F-8855-4A64-AD17-ECC89AA491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7E0-902E-4B94-94CD-AD6C7EF871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71C4-3A35-43A7-BEC0-89E6B73E2A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97D9-8FC3-432C-ADEF-D9A008B0A0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CFEC-FD04-4FDD-9A75-B1584FA5C3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A933-664A-4B42-A048-0EE5FD47DBB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BF35-98E7-4EC4-AD77-C7F634A446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5232-5FD7-4F31-81E9-7F7C6DD0C3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C08-EABE-4D1F-8CD7-4238C8F2F55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431E-CA02-4DC2-9CD9-8FB2DBD1E9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5891-E4C4-499F-931C-244FD5B217C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BCCE-FA45-4CA1-8ED7-031E3A342A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0C03-EFB4-414D-8DC9-7EDB2C3C5B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5C40-ACE2-44FF-89BC-E383886FBE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AC73-EE4E-411E-B0E2-1A729DDE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25D-CA49-45CE-B51D-EA87CF4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6CE-6961-4B47-B1E5-C7CC9E62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814-8136-4F74-B389-430BA5724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49E-B7F3-4F64-A732-7B7EE02E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9FB-C616-4DF4-B7DF-660B628E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3ECA-3D06-4B95-A050-F25B064F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CC64-9F21-4E6B-87CD-C50193AC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D898-1F78-4826-9D4F-C9F8E6B8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4CD-8DA2-4932-8874-3DD5A2B8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27AC-EF12-4E18-BEEC-A26C624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B3D-FB44-496C-815C-4787CC5D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116-F2BD-4809-8FF8-50CCB8BB0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ITÉS REMARQUABLES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3129120" y="2571840"/>
                <a:ext cx="332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1515960" y="2595600"/>
                <a:ext cx="6556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2395440" y="2571840"/>
                <a:ext cx="47944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1467000" y="2571840"/>
                <a:ext cx="66546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1606680" y="1030320"/>
                <a:ext cx="63594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428760" y="3000240"/>
          <a:ext cx="8429400" cy="1067040"/>
        </p:xfrm>
        <a:graphic>
          <a:graphicData uri="http://schemas.openxmlformats.org/drawingml/2006/table">
            <a:tbl>
              <a:tblPr/>
              <a:tblGrid>
                <a:gridCol w="4214520"/>
                <a:gridCol w="4214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Flèche droite rayée 4"/>
          <p:cNvSpPr/>
          <p:nvPr/>
        </p:nvSpPr>
        <p:spPr>
          <a:xfrm rot="10800000">
            <a:off x="4218120" y="3643200"/>
            <a:ext cx="85392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5"/>
          <p:cNvSpPr/>
          <p:nvPr/>
        </p:nvSpPr>
        <p:spPr>
          <a:xfrm>
            <a:off x="100008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6"/>
          <p:cNvSpPr/>
          <p:nvPr/>
        </p:nvSpPr>
        <p:spPr>
          <a:xfrm>
            <a:off x="492912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èche droite rayée 7"/>
          <p:cNvSpPr/>
          <p:nvPr/>
        </p:nvSpPr>
        <p:spPr>
          <a:xfrm rot="2838000">
            <a:off x="4473360" y="273672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28760" y="3005280"/>
          <a:ext cx="8286480" cy="106668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ZoneTexte 5"/>
          <p:cNvSpPr/>
          <p:nvPr/>
        </p:nvSpPr>
        <p:spPr>
          <a:xfrm>
            <a:off x="550080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6"/>
          <p:cNvSpPr/>
          <p:nvPr/>
        </p:nvSpPr>
        <p:spPr>
          <a:xfrm>
            <a:off x="78588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835360" y="642960"/>
                <a:ext cx="3916440" cy="17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3" name="Flèche droite rayée 10"/>
          <p:cNvSpPr/>
          <p:nvPr/>
        </p:nvSpPr>
        <p:spPr>
          <a:xfrm rot="2838000">
            <a:off x="4473360" y="273672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lèche droite rayée 11"/>
          <p:cNvSpPr/>
          <p:nvPr/>
        </p:nvSpPr>
        <p:spPr>
          <a:xfrm rot="10800000">
            <a:off x="4218120" y="3643200"/>
            <a:ext cx="85392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Flèche droite rayée 4"/>
          <p:cNvSpPr/>
          <p:nvPr/>
        </p:nvSpPr>
        <p:spPr>
          <a:xfrm>
            <a:off x="4218120" y="3643200"/>
            <a:ext cx="85392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5"/>
          <p:cNvSpPr/>
          <p:nvPr/>
        </p:nvSpPr>
        <p:spPr>
          <a:xfrm>
            <a:off x="1143000" y="3429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4786200" y="3425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èche droite rayée 7"/>
          <p:cNvSpPr/>
          <p:nvPr/>
        </p:nvSpPr>
        <p:spPr>
          <a:xfrm rot="7493400">
            <a:off x="2878200" y="266508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346480" y="731880"/>
                <a:ext cx="4894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28760" y="3000240"/>
          <a:ext cx="8215200" cy="106704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Flèche droite rayée 9"/>
          <p:cNvSpPr/>
          <p:nvPr/>
        </p:nvSpPr>
        <p:spPr>
          <a:xfrm>
            <a:off x="4146480" y="3714840"/>
            <a:ext cx="85428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10"/>
          <p:cNvSpPr/>
          <p:nvPr/>
        </p:nvSpPr>
        <p:spPr>
          <a:xfrm>
            <a:off x="500040" y="342900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 60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lèche droite rayée 12"/>
          <p:cNvSpPr/>
          <p:nvPr/>
        </p:nvSpPr>
        <p:spPr>
          <a:xfrm rot="7493400">
            <a:off x="2238480" y="266508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3"/>
          <p:cNvSpPr/>
          <p:nvPr/>
        </p:nvSpPr>
        <p:spPr>
          <a:xfrm>
            <a:off x="492912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758960" y="731880"/>
                <a:ext cx="7242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Flèche droite rayée 8"/>
          <p:cNvSpPr/>
          <p:nvPr/>
        </p:nvSpPr>
        <p:spPr>
          <a:xfrm rot="10800000">
            <a:off x="4142880" y="3643200"/>
            <a:ext cx="8542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9"/>
          <p:cNvSpPr/>
          <p:nvPr/>
        </p:nvSpPr>
        <p:spPr>
          <a:xfrm>
            <a:off x="1214280" y="3429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10"/>
          <p:cNvSpPr/>
          <p:nvPr/>
        </p:nvSpPr>
        <p:spPr>
          <a:xfrm>
            <a:off x="492912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(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lèche droite rayée 11"/>
          <p:cNvSpPr/>
          <p:nvPr/>
        </p:nvSpPr>
        <p:spPr>
          <a:xfrm rot="3875400">
            <a:off x="4556880" y="2694600"/>
            <a:ext cx="1679400" cy="223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1600200" y="874800"/>
                <a:ext cx="6950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3357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chacune des expressions projetées, l’inscrire dans la colonne qui lui correspond et compléter la forme manquan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85920" y="2184480"/>
          <a:ext cx="6408720" cy="1101600"/>
        </p:xfrm>
        <a:graphic>
          <a:graphicData uri="http://schemas.openxmlformats.org/drawingml/2006/table">
            <a:tbl>
              <a:tblPr/>
              <a:tblGrid>
                <a:gridCol w="3286080"/>
                <a:gridCol w="2622600"/>
                <a:gridCol w="500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ZoneTexte 6"/>
          <p:cNvSpPr/>
          <p:nvPr/>
        </p:nvSpPr>
        <p:spPr>
          <a:xfrm>
            <a:off x="357120" y="134460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Flèche droite rayée 8"/>
          <p:cNvSpPr/>
          <p:nvPr/>
        </p:nvSpPr>
        <p:spPr>
          <a:xfrm rot="10800000">
            <a:off x="4146120" y="3643200"/>
            <a:ext cx="8542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oneTexte 9"/>
          <p:cNvSpPr/>
          <p:nvPr/>
        </p:nvSpPr>
        <p:spPr>
          <a:xfrm>
            <a:off x="928800" y="342900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+20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10"/>
          <p:cNvSpPr/>
          <p:nvPr/>
        </p:nvSpPr>
        <p:spPr>
          <a:xfrm>
            <a:off x="464328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lèche droite rayée 11"/>
          <p:cNvSpPr/>
          <p:nvPr/>
        </p:nvSpPr>
        <p:spPr>
          <a:xfrm rot="3875400">
            <a:off x="4264200" y="2766600"/>
            <a:ext cx="1679760" cy="223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2475000" y="714240"/>
                <a:ext cx="411012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lèche droite rayée 4"/>
          <p:cNvSpPr/>
          <p:nvPr/>
        </p:nvSpPr>
        <p:spPr>
          <a:xfrm>
            <a:off x="4146480" y="3643200"/>
            <a:ext cx="8542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oneTexte 5"/>
          <p:cNvSpPr/>
          <p:nvPr/>
        </p:nvSpPr>
        <p:spPr>
          <a:xfrm>
            <a:off x="1357200" y="342900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492912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)(2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lèche droite rayée 7"/>
          <p:cNvSpPr/>
          <p:nvPr/>
        </p:nvSpPr>
        <p:spPr>
          <a:xfrm rot="7493400">
            <a:off x="2949120" y="2665440"/>
            <a:ext cx="1884240" cy="169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3000240" y="660240"/>
                <a:ext cx="332748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28760" y="3000240"/>
          <a:ext cx="8215200" cy="1067040"/>
        </p:xfrm>
        <a:graphic>
          <a:graphicData uri="http://schemas.openxmlformats.org/drawingml/2006/table">
            <a:tbl>
              <a:tblPr/>
              <a:tblGrid>
                <a:gridCol w="4108320"/>
                <a:gridCol w="410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Flèche droite rayée 4"/>
          <p:cNvSpPr/>
          <p:nvPr/>
        </p:nvSpPr>
        <p:spPr>
          <a:xfrm>
            <a:off x="4143240" y="3714840"/>
            <a:ext cx="854280" cy="214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5"/>
          <p:cNvSpPr/>
          <p:nvPr/>
        </p:nvSpPr>
        <p:spPr>
          <a:xfrm>
            <a:off x="714240" y="342900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2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9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èche droite rayée 6"/>
          <p:cNvSpPr/>
          <p:nvPr/>
        </p:nvSpPr>
        <p:spPr>
          <a:xfrm rot="7493400">
            <a:off x="2878200" y="266508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7"/>
          <p:cNvSpPr/>
          <p:nvPr/>
        </p:nvSpPr>
        <p:spPr>
          <a:xfrm>
            <a:off x="5429160" y="3429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801800" y="785880"/>
                <a:ext cx="65563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Flèche droite rayée 4"/>
          <p:cNvSpPr/>
          <p:nvPr/>
        </p:nvSpPr>
        <p:spPr>
          <a:xfrm>
            <a:off x="4146480" y="3643200"/>
            <a:ext cx="8542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5"/>
          <p:cNvSpPr/>
          <p:nvPr/>
        </p:nvSpPr>
        <p:spPr>
          <a:xfrm>
            <a:off x="863640" y="3429000"/>
            <a:ext cx="27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 – 100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lèche droite rayée 6"/>
          <p:cNvSpPr/>
          <p:nvPr/>
        </p:nvSpPr>
        <p:spPr>
          <a:xfrm rot="7493400">
            <a:off x="2592360" y="2665080"/>
            <a:ext cx="1884240" cy="169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7"/>
          <p:cNvSpPr/>
          <p:nvPr/>
        </p:nvSpPr>
        <p:spPr>
          <a:xfrm>
            <a:off x="4643280" y="342900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– 10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9 + 10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2214720" y="785880"/>
                <a:ext cx="4792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428760" y="3000240"/>
          <a:ext cx="8286480" cy="1067040"/>
        </p:xfrm>
        <a:graphic>
          <a:graphicData uri="http://schemas.openxmlformats.org/drawingml/2006/table">
            <a:tbl>
              <a:tblPr/>
              <a:tblGrid>
                <a:gridCol w="4143240"/>
                <a:gridCol w="4143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Flèche droite rayée 9"/>
          <p:cNvSpPr/>
          <p:nvPr/>
        </p:nvSpPr>
        <p:spPr>
          <a:xfrm>
            <a:off x="4289400" y="3643200"/>
            <a:ext cx="854280" cy="214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10"/>
          <p:cNvSpPr/>
          <p:nvPr/>
        </p:nvSpPr>
        <p:spPr>
          <a:xfrm>
            <a:off x="928800" y="3429000"/>
            <a:ext cx="32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 – 28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lèche droite rayée 12"/>
          <p:cNvSpPr/>
          <p:nvPr/>
        </p:nvSpPr>
        <p:spPr>
          <a:xfrm rot="7493400">
            <a:off x="2806200" y="2736720"/>
            <a:ext cx="1884240" cy="1695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13"/>
          <p:cNvSpPr/>
          <p:nvPr/>
        </p:nvSpPr>
        <p:spPr>
          <a:xfrm>
            <a:off x="5143680" y="3429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– 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²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2052720" y="731880"/>
                <a:ext cx="66546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28760" y="3000240"/>
          <a:ext cx="7443720" cy="1781280"/>
        </p:xfrm>
        <a:graphic>
          <a:graphicData uri="http://schemas.openxmlformats.org/drawingml/2006/table">
            <a:tbl>
              <a:tblPr/>
              <a:tblGrid>
                <a:gridCol w="3657600"/>
                <a:gridCol w="3214440"/>
                <a:gridCol w="571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eece1"/>
                      </a:solidFill>
                    </a:lnR>
                    <a:lnT w="5760">
                      <a:solidFill>
                        <a:srgbClr val="eeece1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eece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eeece1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eeece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Flèche droite rayée 6"/>
          <p:cNvSpPr/>
          <p:nvPr/>
        </p:nvSpPr>
        <p:spPr>
          <a:xfrm rot="8356200">
            <a:off x="2596320" y="2816280"/>
            <a:ext cx="1806840" cy="311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lèche droite rayée 7"/>
          <p:cNvSpPr/>
          <p:nvPr/>
        </p:nvSpPr>
        <p:spPr>
          <a:xfrm>
            <a:off x="3929040" y="3714840"/>
            <a:ext cx="925560" cy="142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200016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3"/>
              <p:cNvSpPr txBox="1"/>
              <p:nvPr/>
            </p:nvSpPr>
            <p:spPr>
              <a:xfrm>
                <a:off x="928800" y="3429000"/>
                <a:ext cx="28573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4848120" y="3419640"/>
                <a:ext cx="14590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2857680" y="1714680"/>
                <a:ext cx="28573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1905120" y="2571840"/>
                <a:ext cx="5775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500200" y="2473200"/>
                <a:ext cx="391644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2346480" y="2571840"/>
                <a:ext cx="48942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173240" y="2571840"/>
                <a:ext cx="7242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319040" y="2571840"/>
                <a:ext cx="69501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2500200" y="2473200"/>
                <a:ext cx="4108680" cy="17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9:56:04Z</dcterms:created>
  <dc:creator>ms</dc:creator>
  <dc:description/>
  <dc:language>en-US</dc:language>
  <cp:lastModifiedBy>Marionseg</cp:lastModifiedBy>
  <dcterms:modified xsi:type="dcterms:W3CDTF">2010-01-02T14:04:42Z</dcterms:modified>
  <cp:revision>8</cp:revision>
  <dc:subject/>
  <dc:title>Identités remarquables (2) Série n°3</dc:title>
</cp:coreProperties>
</file>