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B5DF-192A-46C4-AB61-A0C86A86B1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D160-4683-4F8B-ABE1-33A2729589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294F-3C27-4312-B77B-05893D0688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28BF-656E-45DC-8F30-6345C54FC7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248B-2BE7-4CFA-B3FA-0EF9F8F636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4336-2A0C-47CF-B205-0E4C82CCE7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92C0-D1AA-4830-AA79-28DECF499B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CBCD-EAB4-4D15-95C4-117CFAFCDA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2690-21CB-4757-9D65-3F526D164F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A9B5-5746-46BF-9A7C-5FC16BA067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AF6B-CA74-4736-BDFE-45838CD53F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CE38-66F1-476D-AE83-FBF8EDF8EC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BEBF-AFEC-4296-BD84-FEA91477C8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6F0C-30AD-4ACA-88FD-96A8599FA7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2585-0070-4454-B630-1A60432AEE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C631-7C08-4C34-A47A-E2497FA236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0A8B-C072-487A-9680-DF198BE498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5DDF-4ABD-4160-8330-F1F919E819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E508-063D-4CD2-BE88-060C5C548B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604D-B489-4281-8AEC-3AC8FC14C5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CBD2-8058-4AFC-A792-1EE64D019F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A2A7-43E3-4687-A371-3A0A5E8DD9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07E1-7FAB-4BF1-AF1A-1FF0206FA3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4F2B-31FA-4311-B8F9-A702E05136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3B11-8FCD-4D0C-8CD6-B9E705233F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5FA-B2E9-4264-A8AF-FD359E3F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F47-1FE9-4CCF-B818-019DE9D7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33D-F862-4EDB-8A34-FCFBB5E1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56B-8B8E-41F5-BCD6-8D5FD033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2309-1503-42CE-A56A-E6BF9BFE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B90-5112-454D-AE62-1D15664E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917-850D-47C8-A700-54CADD13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C7E-7FEE-4F64-A8EF-57E947C7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BCD-8325-45F8-8CAC-EB23CF0B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10AD-AAA0-428C-9A2F-085A2DBF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18F-099E-459B-9D0C-5C10C868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687-8A03-468F-AF41-08D315A1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3DC6-4F80-45F4-BE14-60F5432C03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Sym&#233;tries(1)%20Corrections/Sym&#233;tries1.1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Sym&#233;tries(1)%20Corrections/Sym&#233;tries1.2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file:///Sym&#233;tries(1)%20Corrections/Sym&#233;tries1.3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ÉTRIES(1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8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14975" t="27998" r="38270" b="31113"/>
          <a:stretch/>
        </p:blipFill>
        <p:spPr>
          <a:xfrm>
            <a:off x="428760" y="2309760"/>
            <a:ext cx="8194680" cy="3834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9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12978" t="18040" r="37269" b="22400"/>
          <a:stretch/>
        </p:blipFill>
        <p:spPr>
          <a:xfrm>
            <a:off x="214200" y="1214280"/>
            <a:ext cx="8713800" cy="558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19967" t="26130" r="39934" b="14311"/>
          <a:stretch/>
        </p:blipFill>
        <p:spPr>
          <a:xfrm>
            <a:off x="1049400" y="1214280"/>
            <a:ext cx="7022880" cy="558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rcRect l="21631" t="8090" r="41598" b="32350"/>
          <a:stretch/>
        </p:blipFill>
        <p:spPr>
          <a:xfrm>
            <a:off x="1357200" y="1214280"/>
            <a:ext cx="6440760" cy="5580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rcRect l="19967" t="12442" r="43262" b="27998"/>
          <a:stretch/>
        </p:blipFill>
        <p:spPr>
          <a:xfrm>
            <a:off x="1417680" y="1214280"/>
            <a:ext cx="6440400" cy="55803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4"/>
          <p:cNvSpPr/>
          <p:nvPr/>
        </p:nvSpPr>
        <p:spPr>
          <a:xfrm>
            <a:off x="179280" y="100008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: 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16639" t="19286" r="34942" b="21154"/>
          <a:stretch/>
        </p:blipFill>
        <p:spPr>
          <a:xfrm>
            <a:off x="371520" y="1206360"/>
            <a:ext cx="8480520" cy="5580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>
            <a:off x="195120" y="1143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3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16639" t="14311" r="38270" b="26130"/>
          <a:stretch/>
        </p:blipFill>
        <p:spPr>
          <a:xfrm>
            <a:off x="642960" y="1206360"/>
            <a:ext cx="7885080" cy="55803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179280" y="9288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: 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20634" t="13688" r="31615" b="26752"/>
          <a:stretch/>
        </p:blipFill>
        <p:spPr>
          <a:xfrm>
            <a:off x="428760" y="1214280"/>
            <a:ext cx="8348400" cy="55803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179280" y="100008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: 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6639" t="5598" r="39934" b="30490"/>
          <a:stretch/>
        </p:blipFill>
        <p:spPr>
          <a:xfrm>
            <a:off x="1071720" y="1214280"/>
            <a:ext cx="7075440" cy="5580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4"/>
          <p:cNvSpPr/>
          <p:nvPr/>
        </p:nvSpPr>
        <p:spPr>
          <a:xfrm>
            <a:off x="179280" y="100008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: 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Les figures suivantes sont-elles symétriques par rapport à la droite (d) 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8303" t="24884" r="41598" b="15556"/>
          <a:stretch/>
        </p:blipFill>
        <p:spPr>
          <a:xfrm>
            <a:off x="990720" y="1214280"/>
            <a:ext cx="7010280" cy="55803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/>
          <p:cNvSpPr/>
          <p:nvPr/>
        </p:nvSpPr>
        <p:spPr>
          <a:xfrm>
            <a:off x="179280" y="100008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: 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179280" y="100008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: 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14975" t="27998" r="38270" b="31113"/>
          <a:stretch/>
        </p:blipFill>
        <p:spPr>
          <a:xfrm>
            <a:off x="285840" y="2143080"/>
            <a:ext cx="8194680" cy="3834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12978" t="18040" r="37269" b="22400"/>
          <a:stretch/>
        </p:blipFill>
        <p:spPr>
          <a:xfrm>
            <a:off x="214200" y="1214280"/>
            <a:ext cx="8713800" cy="55803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179280" y="100008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: 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9967" t="26130" r="39934" b="14311"/>
          <a:stretch/>
        </p:blipFill>
        <p:spPr>
          <a:xfrm>
            <a:off x="1049400" y="1214280"/>
            <a:ext cx="7022880" cy="558036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"/>
          <p:cNvSpPr/>
          <p:nvPr/>
        </p:nvSpPr>
        <p:spPr>
          <a:xfrm>
            <a:off x="179280" y="100008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: 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21631" t="8090" r="41598" b="32350"/>
          <a:stretch/>
        </p:blipFill>
        <p:spPr>
          <a:xfrm>
            <a:off x="1357200" y="1214280"/>
            <a:ext cx="6440760" cy="558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2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rcRect l="19967" t="12442" r="43262" b="27998"/>
          <a:stretch/>
        </p:blipFill>
        <p:spPr>
          <a:xfrm>
            <a:off x="1417680" y="1214280"/>
            <a:ext cx="6440400" cy="558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3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16639" t="19286" r="34942" b="21154"/>
          <a:stretch/>
        </p:blipFill>
        <p:spPr>
          <a:xfrm>
            <a:off x="371520" y="1206360"/>
            <a:ext cx="8480520" cy="558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4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6639" t="14311" r="38270" b="26130"/>
          <a:stretch/>
        </p:blipFill>
        <p:spPr>
          <a:xfrm>
            <a:off x="642960" y="1206360"/>
            <a:ext cx="7885080" cy="558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5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20634" t="13688" r="31615" b="26752"/>
          <a:stretch/>
        </p:blipFill>
        <p:spPr>
          <a:xfrm>
            <a:off x="428760" y="1214280"/>
            <a:ext cx="8348400" cy="558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16639" t="5598" r="39934" b="30490"/>
          <a:stretch/>
        </p:blipFill>
        <p:spPr>
          <a:xfrm>
            <a:off x="1071720" y="1214280"/>
            <a:ext cx="7075440" cy="558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7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18303" t="24884" r="41598" b="15556"/>
          <a:stretch/>
        </p:blipFill>
        <p:spPr>
          <a:xfrm>
            <a:off x="990720" y="1214280"/>
            <a:ext cx="7010280" cy="5580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45:17Z</dcterms:created>
  <dc:creator>Seguy</dc:creator>
  <dc:description/>
  <dc:language>en-US</dc:language>
  <cp:lastModifiedBy>Marionseg</cp:lastModifiedBy>
  <dcterms:modified xsi:type="dcterms:W3CDTF">2010-05-19T16:28:22Z</dcterms:modified>
  <cp:revision>34</cp:revision>
  <dc:subject/>
  <dc:title>Les figures suivantes sont-elles symétriques par rapport à la droite (d) ?</dc:title>
</cp:coreProperties>
</file>