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520-5295-42F1-9FBF-0EFB2D398B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199C-27D7-407F-9226-1874920AB0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47BA-A638-4BA3-A30B-B6A8A37B7B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0A4D-6B4E-44FC-B1FC-A85E5A36EE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0768-4391-4F65-98AC-B376F7E4A9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409B-2F37-4212-A34C-F21FA80617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ACD-DB8C-4667-89A1-E29AA593C0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E4E4-540D-4F2C-847C-AA67B03DE5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3EED-6467-4689-89F6-7BCF869B80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DDF-64EF-416B-AA9D-9EB6AEB9C9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535B-846E-42F6-A51E-A3BC8F58FD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C8F-4B73-4B90-BD21-D2181F8350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597D-066F-429C-862A-6E47AF336A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BF4B-B073-449F-BEF1-DC33D4B9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57C-2E8A-4DEC-A8DD-4E97739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92AB-3EC5-4E7F-9289-44B1A6956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62A-230B-4CAB-9639-3FDBE97E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D907-7A0A-4BC9-9673-2CE5FCCD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A58-4251-4037-8070-5BECD5A1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B36-14EF-446F-A5E1-D50C62C7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EA1C-9764-4991-9699-EE0A276F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298-A940-4C96-8ECA-3D2ED921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D644-396C-4EB9-851B-F50A5F7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BD03-7500-476D-8F42-E58E38B3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3E4-9DF8-4DE9-81BB-4B1D24DC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80F6-0AE4-486C-A26E-660B90302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2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Sachant qu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st 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néga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non nul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et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un nombre 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positif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non nul,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donner le signe des expressions</a:t>
            </a:r>
            <a:br>
              <a:rPr sz="3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lorsque cela est possible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1"/>
              <p:cNvSpPr txBox="1"/>
              <p:nvPr/>
            </p:nvSpPr>
            <p:spPr>
              <a:xfrm>
                <a:off x="3417840" y="2517840"/>
                <a:ext cx="217008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1798560" y="3238560"/>
                <a:ext cx="5751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5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0"/>
              <p:cNvSpPr txBox="1"/>
              <p:nvPr/>
            </p:nvSpPr>
            <p:spPr>
              <a:xfrm>
                <a:off x="3238560" y="3238560"/>
                <a:ext cx="2760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²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1"/>
              <p:cNvSpPr txBox="1"/>
              <p:nvPr/>
            </p:nvSpPr>
            <p:spPr>
              <a:xfrm>
                <a:off x="3957480" y="2517840"/>
                <a:ext cx="1068480" cy="28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10"/>
              <p:cNvSpPr txBox="1"/>
              <p:nvPr/>
            </p:nvSpPr>
            <p:spPr>
              <a:xfrm>
                <a:off x="3957480" y="2517840"/>
                <a:ext cx="1263960" cy="27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10"/>
              <p:cNvSpPr txBox="1"/>
              <p:nvPr/>
            </p:nvSpPr>
            <p:spPr>
              <a:xfrm>
                <a:off x="1079640" y="3238560"/>
                <a:ext cx="7387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2517840" y="3238560"/>
                <a:ext cx="48988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2"/>
              <p:cNvSpPr txBox="1"/>
              <p:nvPr/>
            </p:nvSpPr>
            <p:spPr>
              <a:xfrm>
                <a:off x="2158920" y="3238560"/>
                <a:ext cx="496260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0"/>
              <p:cNvSpPr txBox="1"/>
              <p:nvPr/>
            </p:nvSpPr>
            <p:spPr>
              <a:xfrm>
                <a:off x="2878200" y="3238560"/>
                <a:ext cx="3502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2"/>
              <p:cNvSpPr txBox="1"/>
              <p:nvPr/>
            </p:nvSpPr>
            <p:spPr>
              <a:xfrm>
                <a:off x="2878200" y="2517840"/>
                <a:ext cx="3411360" cy="27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5:49Z</dcterms:created>
  <dc:creator>ms</dc:creator>
  <dc:description/>
  <dc:language>en-US</dc:language>
  <cp:lastModifiedBy>Marionseg</cp:lastModifiedBy>
  <dcterms:modified xsi:type="dcterms:W3CDTF">2010-01-22T16:45:38Z</dcterms:modified>
  <cp:revision>8</cp:revision>
  <dc:subject/>
  <dc:title>Nombres relatifs (2) Série n°3  Sachant que n est un nombre négatif et p un nombre positif donner le signe des expressions lorsque cela est possible   10 secondes par calcul</dc:title>
</cp:coreProperties>
</file>