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3F5C-01DD-4110-A9D6-AC2E4ECDA3C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ce réservé du numéro de diapositive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3CD9-311A-4912-9838-CE2F047647F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2921-720D-404B-AA07-5E675D06664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A755-CD97-4203-A947-0F548EF38C4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5031-7C45-401F-87DF-896D3C8B66E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6981-A759-48B0-9030-4C0603A3056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AACF-320E-46A9-AA77-3CEEC5BA130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CB51-6950-40C2-A234-912CAB3DCFD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5B13-C04E-4A7F-A3A0-C5060DEF0EB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51E0-69E0-448A-AB21-66D36BF7599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0AF0-19AC-4692-9E74-68B8F3CAA2A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51D1-E8B5-4008-87A4-C7D08EF303C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7CBB-54AD-4A1F-842A-4A5396CBB6B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CB23-D6F2-4FDE-A90B-DBEC483D79B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4BEA-CA4B-48E9-8BD1-322247F7A04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BCA9-FA67-4D4F-B749-AEAE44BECB6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6FEC-7EE7-481B-A3A1-5C5601B467E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291E-4C58-4513-851E-3964CBBD833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1B6B-593C-4CA7-80CB-027EC7E4B52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6A6E-1023-4F18-A6F6-B52CB271219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C0A1-4030-4681-82B0-D5CE5114965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6485-F2FA-4084-AE9D-2AA18B15FBB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84F1-5618-4A9D-83A7-4D728476B31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0D64-7F54-4489-B429-01BFF76E136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46F5-A94E-4265-BE9B-26BFAE91992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01AA-7201-41EF-B5F1-06C65BF4A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A351-A2E4-420E-93D6-DC6E67BA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DE78-F9CD-4BA8-9017-F8358059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E575-9F06-49FA-BA44-FEED91E76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7594-E1A2-4D16-AF86-8966ECC4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4DF0-0858-492E-9A12-EE9A0900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21C7-3BA0-4512-9DE8-463F4BA6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E41E-EF1A-4931-A376-FF102B43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2F3F-443D-4F67-8AD7-C176C54A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B734-4813-48BF-A163-49227FB6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1147-A317-4780-ABE9-A85F9BBE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293C-9B65-461F-B8DB-954115C1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2244-7409-47B1-8C38-26CFEF9D45E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file:///Sym&#233;tries(2)%20Corrections/Sym&#233;tries2.1.g3w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Sym&#233;tries(2)%20Corrections/Sym&#233;tries2.2.g3w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file:///Sym&#233;tries(2)%20Corrections/Sym&#233;tries2.3.g3w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file:///Sym&#233;tries(2)%20Corrections/Sym&#233;tries2.4.g3w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file:///Sym&#233;tries(2)%20Corrections/Sym&#233;tries2.5.g3w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file:///Sym&#233;tries(2)%20Corrections/Sym&#233;tries2.6.g3w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file:///Sym&#233;tries(2)%20Corrections/Sym&#233;tries2.7.g3w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ÉTRIES(2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8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rcRect l="9984" t="16802" r="34942" b="19909"/>
          <a:stretch/>
        </p:blipFill>
        <p:spPr>
          <a:xfrm>
            <a:off x="357120" y="1571760"/>
            <a:ext cx="8461440" cy="52005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9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rcRect l="11981" t="19286" r="32282" b="14934"/>
          <a:stretch/>
        </p:blipFill>
        <p:spPr>
          <a:xfrm>
            <a:off x="285840" y="1398600"/>
            <a:ext cx="8562960" cy="54054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10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rcRect l="19967" t="9336" r="36273" b="34219"/>
          <a:stretch/>
        </p:blipFill>
        <p:spPr>
          <a:xfrm>
            <a:off x="1135080" y="1862280"/>
            <a:ext cx="6723000" cy="4638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rcRect l="6656" t="18663" r="43262" b="15556"/>
          <a:stretch/>
        </p:blipFill>
        <p:spPr>
          <a:xfrm>
            <a:off x="714240" y="1386000"/>
            <a:ext cx="7686720" cy="540072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4"/>
          <p:cNvSpPr/>
          <p:nvPr/>
        </p:nvSpPr>
        <p:spPr>
          <a:xfrm>
            <a:off x="179280" y="98100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1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OUI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8987" t="6221" r="40935" b="27998"/>
          <a:stretch/>
        </p:blipFill>
        <p:spPr>
          <a:xfrm>
            <a:off x="763560" y="1386000"/>
            <a:ext cx="7685280" cy="540072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4"/>
          <p:cNvSpPr/>
          <p:nvPr/>
        </p:nvSpPr>
        <p:spPr>
          <a:xfrm>
            <a:off x="179280" y="98100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2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rcRect l="12644" t="14934" r="38938" b="20532"/>
          <a:stretch/>
        </p:blipFill>
        <p:spPr>
          <a:xfrm>
            <a:off x="857160" y="1482840"/>
            <a:ext cx="7439040" cy="530388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4"/>
          <p:cNvSpPr/>
          <p:nvPr/>
        </p:nvSpPr>
        <p:spPr>
          <a:xfrm>
            <a:off x="179280" y="98100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3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rcRect l="13311" t="13688" r="34942" b="14311"/>
          <a:stretch/>
        </p:blipFill>
        <p:spPr>
          <a:xfrm>
            <a:off x="800280" y="1233360"/>
            <a:ext cx="7557840" cy="562464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4"/>
          <p:cNvSpPr/>
          <p:nvPr/>
        </p:nvSpPr>
        <p:spPr>
          <a:xfrm>
            <a:off x="179280" y="98100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N˚4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I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1"/>
          <a:srcRect l="11981" t="12442" r="37937" b="27998"/>
          <a:stretch/>
        </p:blipFill>
        <p:spPr>
          <a:xfrm>
            <a:off x="735120" y="1643040"/>
            <a:ext cx="7694640" cy="489420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4"/>
          <p:cNvSpPr/>
          <p:nvPr/>
        </p:nvSpPr>
        <p:spPr>
          <a:xfrm>
            <a:off x="179280" y="98100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5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rcRect l="21631" t="18663" r="33278" b="9336"/>
          <a:stretch/>
        </p:blipFill>
        <p:spPr>
          <a:xfrm>
            <a:off x="1285920" y="1233360"/>
            <a:ext cx="6584760" cy="562464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4"/>
          <p:cNvSpPr/>
          <p:nvPr/>
        </p:nvSpPr>
        <p:spPr>
          <a:xfrm>
            <a:off x="179280" y="98100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6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I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0000"/>
                </a:solidFill>
                <a:latin typeface="Arial"/>
              </a:rPr>
              <a:t>Les figures suivantes sont-elles symétriques par rapport à la droite (d) 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1"/>
          <a:srcRect l="8987" t="19909" r="36606" b="12442"/>
          <a:stretch/>
        </p:blipFill>
        <p:spPr>
          <a:xfrm>
            <a:off x="428760" y="1298520"/>
            <a:ext cx="8358120" cy="555948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4"/>
          <p:cNvSpPr/>
          <p:nvPr/>
        </p:nvSpPr>
        <p:spPr>
          <a:xfrm>
            <a:off x="179280" y="98100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7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I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"/>
          <p:cNvPicPr/>
          <p:nvPr/>
        </p:nvPicPr>
        <p:blipFill>
          <a:blip r:embed="rId1"/>
          <a:srcRect l="9984" t="16802" r="34942" b="19909"/>
          <a:stretch/>
        </p:blipFill>
        <p:spPr>
          <a:xfrm>
            <a:off x="357120" y="1571760"/>
            <a:ext cx="8461440" cy="520056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4"/>
          <p:cNvSpPr/>
          <p:nvPr/>
        </p:nvSpPr>
        <p:spPr>
          <a:xfrm>
            <a:off x="179280" y="98100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8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N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rcRect l="11981" t="19286" r="32282" b="14934"/>
          <a:stretch/>
        </p:blipFill>
        <p:spPr>
          <a:xfrm>
            <a:off x="285840" y="1398600"/>
            <a:ext cx="8562960" cy="540540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4"/>
          <p:cNvSpPr/>
          <p:nvPr/>
        </p:nvSpPr>
        <p:spPr>
          <a:xfrm>
            <a:off x="179280" y="98100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9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4"/>
          <p:cNvSpPr/>
          <p:nvPr/>
        </p:nvSpPr>
        <p:spPr>
          <a:xfrm>
            <a:off x="179280" y="98100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10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I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rcRect l="19967" t="9336" r="36273" b="34219"/>
          <a:stretch/>
        </p:blipFill>
        <p:spPr>
          <a:xfrm>
            <a:off x="1135080" y="1862280"/>
            <a:ext cx="6723000" cy="4638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1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rcRect l="6656" t="18663" r="43262" b="15556"/>
          <a:stretch/>
        </p:blipFill>
        <p:spPr>
          <a:xfrm>
            <a:off x="714240" y="1386000"/>
            <a:ext cx="768672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2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rcRect l="8987" t="6221" r="40935" b="27998"/>
          <a:stretch/>
        </p:blipFill>
        <p:spPr>
          <a:xfrm>
            <a:off x="763560" y="1386000"/>
            <a:ext cx="768528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3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rcRect l="12644" t="14934" r="38938" b="20532"/>
          <a:stretch/>
        </p:blipFill>
        <p:spPr>
          <a:xfrm>
            <a:off x="857160" y="1482840"/>
            <a:ext cx="7439040" cy="53038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4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rcRect l="13311" t="13688" r="34942" b="14311"/>
          <a:stretch/>
        </p:blipFill>
        <p:spPr>
          <a:xfrm>
            <a:off x="800280" y="1233360"/>
            <a:ext cx="7557840" cy="5624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5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rcRect l="11981" t="12442" r="37937" b="27998"/>
          <a:stretch/>
        </p:blipFill>
        <p:spPr>
          <a:xfrm>
            <a:off x="735120" y="1643040"/>
            <a:ext cx="7694640" cy="4894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6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rcRect l="21631" t="18663" r="33278" b="9336"/>
          <a:stretch/>
        </p:blipFill>
        <p:spPr>
          <a:xfrm>
            <a:off x="1285920" y="1233360"/>
            <a:ext cx="6584760" cy="5624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7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rcRect l="8987" t="19909" r="36606" b="12442"/>
          <a:stretch/>
        </p:blipFill>
        <p:spPr>
          <a:xfrm>
            <a:off x="428760" y="1298520"/>
            <a:ext cx="8358120" cy="55594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15:45:17Z</dcterms:created>
  <dc:creator>Seguy</dc:creator>
  <dc:description/>
  <dc:language>en-US</dc:language>
  <cp:lastModifiedBy>Marionseg</cp:lastModifiedBy>
  <dcterms:modified xsi:type="dcterms:W3CDTF">2010-05-19T16:30:12Z</dcterms:modified>
  <cp:revision>23</cp:revision>
  <dc:subject/>
  <dc:title>Les figures suivantes sont-elles symétriques par rapport à la droite (d) ?</dc:title>
</cp:coreProperties>
</file>