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495F-E101-4B4D-81B7-A1397841EF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3BA-4D49-4393-872B-E56B7924F0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C57E-7FEE-4B10-BA1B-7BD6A6AB33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C4C8-4CE1-49BB-A315-4D1BD88C49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69F2-8500-44DD-A96B-C0127FC1AA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C365-6AA4-4C72-8876-6A6ADCFC6B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2383-B86F-48D1-B6A3-D048C5CADF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0521-ED3F-4783-9A8D-3DFC0ADD17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7964-3BE3-4899-A1F9-1E0EC4977F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F59-BEBE-4938-8DCB-B417509FFE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F37F-2615-4A53-922C-6E048C5B98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0E4E-FE02-4A8B-9522-52E1CFC39A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9304-3E94-4446-9F75-9A3EC04CFD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F348-B6C0-413B-8DF5-DCAF84F1CC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877-CF49-4707-9715-D5BD205E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D33-B503-4F13-B47C-56EF63E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FAFF-42CD-4839-9D2F-79768D9F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6AC2-BE9F-45DA-82E4-EB8CE72E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7FEE-AC39-4664-8FC5-281765B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989-6A55-49B3-A8A9-7E089103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EEF-1B99-4A9E-A964-5893B90F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64D-2941-4601-BCD4-0A81F985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230-DB37-4DF0-8A90-44B6AA1B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5FA7-0963-4D89-BF4D-00FA0C1A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3DE-8C5E-44C4-9E47-6CA9FC74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0FE-05A9-441B-8E54-2A2E5799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9581-5A39-4242-ADB6-FE5A58149E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1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10 calcul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2158920" y="3238560"/>
                <a:ext cx="4945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2158920" y="3238560"/>
                <a:ext cx="50896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2158920" y="3238560"/>
                <a:ext cx="5106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0" y="2857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alculer en respectan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les règles opératoires et les priorités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158920" y="3238560"/>
                <a:ext cx="57690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158920" y="3238560"/>
                <a:ext cx="50356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58920" y="3238560"/>
                <a:ext cx="5106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158920" y="3238560"/>
                <a:ext cx="5016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0"/>
              <p:cNvSpPr txBox="1"/>
              <p:nvPr/>
            </p:nvSpPr>
            <p:spPr>
              <a:xfrm>
                <a:off x="2158920" y="3238560"/>
                <a:ext cx="50356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2158920" y="3238560"/>
                <a:ext cx="50166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2158920" y="3238560"/>
                <a:ext cx="49989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÷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26:09Z</dcterms:created>
  <dc:creator>ms</dc:creator>
  <dc:description/>
  <dc:language>en-US</dc:language>
  <cp:lastModifiedBy>Marionseg</cp:lastModifiedBy>
  <dcterms:modified xsi:type="dcterms:W3CDTF">2010-01-22T16:41:31Z</dcterms:modified>
  <cp:revision>17</cp:revision>
  <dc:subject/>
  <dc:title>Nombres relatifs (1) Série n°3  10 calculs 15 secondes par calcul</dc:title>
</cp:coreProperties>
</file>