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957E-62C8-4F84-92B0-11A62849E4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9113-A67F-4D37-936B-7DD7B94F55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B952-C2A4-4AF4-A57B-C241382DB9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B5E0-D1A3-4A9D-BBCB-56F98A6982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33CF-B147-41B9-8E5C-0BC260C8D9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65E1-EC33-4C26-AAD5-B50301B200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8416-3123-4F94-9E46-EC2E98AB0F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084A-7AB1-447D-BCAA-7B0DD33139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2905-268C-4606-A229-209EC1F3DE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65BD-D26D-401E-B5FD-FF5A683F82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DEDF-C8F3-466C-B09F-A1F100C2EF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B52B-0502-47F9-8222-F21BB3FBDD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EDB-EEB4-4E24-80AC-3BC80BA5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425-DA03-4801-9D60-D216F49C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36E-6BFB-47ED-8AD5-9A4F62C8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F9C-6F1B-46B9-92A3-BF3242A1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0CCE-B2BA-41D0-93CE-276A2565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4C7-B517-4EB8-AC6F-EE7356CF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9E8-B7AD-4654-9EA9-FC619726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D2F-30C1-4478-AEE2-D332EC0E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E26F-483D-4596-B800-B0DBD6C6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43F-052D-4567-8B29-C5C2F9F5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8F2C-EE83-49DD-90D9-711605B6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F6B-5677-4859-A067-E1F3BDC3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7507-418B-47A3-B66A-07A4D32364C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3AB0-8239-4D38-B4E8-C542A2E40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MULTIPLICATION ET DIVISION PAR 10, …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5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406520" y="2158920"/>
                <a:ext cx="639144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55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438200" y="2158920"/>
                <a:ext cx="63867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6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436840" y="2158920"/>
                <a:ext cx="45640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1809720" y="2158920"/>
                <a:ext cx="547704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DIVISION PAR DIX,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26938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Écrire la réponse au calcul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130560" y="2158920"/>
                <a:ext cx="29415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220680" y="2158920"/>
                <a:ext cx="872964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066760" y="2158920"/>
                <a:ext cx="50706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34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1662120" y="2158920"/>
                <a:ext cx="588024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371680" y="2158920"/>
                <a:ext cx="44625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2575080" y="2158920"/>
                <a:ext cx="40557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3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23:38Z</dcterms:created>
  <dc:creator>Claudine Bertrand-Gorge</dc:creator>
  <dc:description/>
  <dc:language>en-US</dc:language>
  <cp:lastModifiedBy>Marionseg</cp:lastModifiedBy>
  <dcterms:modified xsi:type="dcterms:W3CDTF">2010-01-22T16:30:09Z</dcterms:modified>
  <cp:revision>24</cp:revision>
  <dc:subject/>
  <dc:title>Écrire le résultat</dc:title>
</cp:coreProperties>
</file>