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65F7-5609-41F3-9239-862AE3183AE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F32E-2F6E-477D-834D-43B2FDC9E89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48A9-2ED2-4364-B0D6-5B77A3D21AB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A865-5465-4C75-B439-E74FE3B45C8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1C76-FD0A-4D38-8814-522D6808138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2832-7848-4BD5-A8AF-D9480113ACE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FDBE-9FA5-4C27-86DA-AF1DA88AB84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3F10-3F3D-4F76-AA8F-271B01D583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0B25-DD60-45CC-B0DD-D4F16A6FC14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2552-361B-48AD-9D82-44474B0BB5B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1CAC-DFF9-4021-BD8D-AE37B4977F7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BD72-3438-4715-A3DB-19ED60C1C9E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11E1-E397-4C4C-8492-E565D0E473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9C74-1C64-4992-B3DF-67486C0D648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EE62-98EE-426F-8A1A-DAEC013E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848A-A434-426C-9A56-A478F7C5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F6C2-F318-4CE2-AC2F-A1336B93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2B2A-791F-4C0E-B58F-293258A9B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2654-7F49-42DB-A4F0-06A28CF3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ADB9-A77C-4258-BAFD-FBBAB3CF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96B5-F096-4D68-8FBE-BDCCFAC1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C761-EE8D-4988-8A31-4142560F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4846-63F2-482B-A0C4-676D5078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4888-840B-4CE4-8D05-287E5401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0BFE-C3ED-4B9B-B27F-620AD267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1845-6005-495B-92B2-697768EF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2F16-2BD5-4BD0-9F41-613306A254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Calibri"/>
                <a:ea typeface="Times New Roman"/>
              </a:rPr>
              <a:t>PREMIERS PAS EN CALCUL LITTÉRAL (1)</a:t>
            </a:r>
            <a:br>
              <a:rPr sz="72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Série n°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2"/>
              <p:cNvSpPr txBox="1"/>
              <p:nvPr/>
            </p:nvSpPr>
            <p:spPr>
              <a:xfrm>
                <a:off x="1959120" y="2611440"/>
                <a:ext cx="5225760" cy="17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2"/>
              <p:cNvSpPr txBox="1"/>
              <p:nvPr/>
            </p:nvSpPr>
            <p:spPr>
              <a:xfrm>
                <a:off x="903240" y="2857680"/>
                <a:ext cx="734220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2"/>
              <p:cNvSpPr txBox="1"/>
              <p:nvPr/>
            </p:nvSpPr>
            <p:spPr>
              <a:xfrm>
                <a:off x="2260440" y="2857680"/>
                <a:ext cx="462600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²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82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Répondre par VRAI ou FAUX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"/>
              <p:cNvSpPr txBox="1"/>
              <p:nvPr/>
            </p:nvSpPr>
            <p:spPr>
              <a:xfrm>
                <a:off x="2562120" y="2857680"/>
                <a:ext cx="402300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2"/>
              <p:cNvSpPr txBox="1"/>
              <p:nvPr/>
            </p:nvSpPr>
            <p:spPr>
              <a:xfrm>
                <a:off x="2260440" y="2857680"/>
                <a:ext cx="462456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2"/>
              <p:cNvSpPr txBox="1"/>
              <p:nvPr/>
            </p:nvSpPr>
            <p:spPr>
              <a:xfrm>
                <a:off x="1908000" y="2857680"/>
                <a:ext cx="532944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2"/>
              <p:cNvSpPr txBox="1"/>
              <p:nvPr/>
            </p:nvSpPr>
            <p:spPr>
              <a:xfrm>
                <a:off x="1419120" y="2862360"/>
                <a:ext cx="623592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²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2"/>
              <p:cNvSpPr txBox="1"/>
              <p:nvPr/>
            </p:nvSpPr>
            <p:spPr>
              <a:xfrm>
                <a:off x="2662200" y="2857680"/>
                <a:ext cx="382284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2"/>
              <p:cNvSpPr txBox="1"/>
              <p:nvPr/>
            </p:nvSpPr>
            <p:spPr>
              <a:xfrm>
                <a:off x="1255680" y="2857680"/>
                <a:ext cx="663408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x</m:t>
                    </m:r>
                    <m:r>
                      <m:t xml:space="preserve">²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1957320" y="2857680"/>
                <a:ext cx="522756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2T14:04:27Z</dcterms:created>
  <dc:creator>ms</dc:creator>
  <dc:description/>
  <dc:language>en-US</dc:language>
  <cp:lastModifiedBy>Marionseg</cp:lastModifiedBy>
  <dcterms:modified xsi:type="dcterms:W3CDTF">2010-01-17T20:23:30Z</dcterms:modified>
  <cp:revision>15</cp:revision>
  <dc:subject/>
  <dc:title>Calcul littéral (2) Série n°4</dc:title>
</cp:coreProperties>
</file>