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0FFF-D42A-487D-8B29-8A59728740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A200-4A0B-4F6E-B591-0F7FC46386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2132-397E-442F-BEDB-E0F3BFAB42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851E-A227-400F-B48B-460FF7A21F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088C-63CC-407F-BCAF-3C3314AC69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336B-0938-4319-A4B5-2A53C644A4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BAD3-D097-4388-BE8B-8007C544D4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D3AF-82F5-4C08-BBBC-5586D3FB59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78F6-8A38-4A5B-B08D-EE534AF768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CA7B-2EDD-4A69-A609-0847174C39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281C-D743-4B90-875E-A9067618E1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C30C-2A4A-48DB-BBA1-ED7E534884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64C9-1BB9-4C18-9795-739486EC24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6011-99BC-4798-8C98-DA8E49BD98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E629-9BDA-4698-B4A3-C99752393B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C78E-9B0B-4A98-BF39-A2C8645F6F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768B-50F3-4530-822E-5273340257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8328-7AEE-49BE-A759-EB7E41D617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7074-E14B-4ADA-B49A-9FB24095D7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2617-FD7B-4EEB-8D8B-2C9096127F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B24E-29D7-4C2D-8C10-5069D5903E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4E3B-1BED-4C8B-8ED4-F48EEFB129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4CF5-127E-4AA1-B494-DE412B3975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1C7C-2310-4ED5-832F-5CADCDFB85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D0D6-7776-4764-88A1-3755A57784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229C-EBE4-4552-8C13-4595A84321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BE6E-CB1C-4D68-9AE2-F099AAEC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D9B-AC58-48CC-83EC-5FC777CC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3B8-812C-4AB2-BF29-8AFAC27A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D31-476F-4469-A5CF-DFCD2F82C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8BC-5A76-4ED3-AAD9-2EDDF0ED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46D3-D14C-4B04-98E1-A2EAAE74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529-35C4-4ACF-82CD-CCC89F3C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C06B-6B18-4F18-B10C-55EFFFB5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B2A-B794-4221-95D8-93C7E09D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D61-7FD3-486A-80E2-98619252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93C3-B56F-45E9-9DFD-84B73FAA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173-A105-49F7-8683-62C70C00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EDA2-A865-4465-8656-01AE1731B96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3"/>
          <p:cNvSpPr/>
          <p:nvPr/>
        </p:nvSpPr>
        <p:spPr>
          <a:xfrm>
            <a:off x="714240" y="2071800"/>
            <a:ext cx="771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PROBABILITÉ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SÉRIE N°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00040" y="2518920"/>
            <a:ext cx="81439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urne opaque contient quatre boules orange numérotées de 1 à 4, trois boules violettes numérotées de 1 à 3 et deux boules vertes numérotées de 1 à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au hasard une boule dans l’u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e boule avec un numéro impair ou une boule orang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llipse 57"/>
          <p:cNvSpPr/>
          <p:nvPr/>
        </p:nvSpPr>
        <p:spPr>
          <a:xfrm>
            <a:off x="1357200" y="1857240"/>
            <a:ext cx="571680" cy="571680"/>
          </a:xfrm>
          <a:prstGeom prst="ellipse">
            <a:avLst/>
          </a:prstGeom>
          <a:solidFill>
            <a:srgbClr val="f1850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58"/>
          <p:cNvSpPr/>
          <p:nvPr/>
        </p:nvSpPr>
        <p:spPr>
          <a:xfrm>
            <a:off x="15001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llipse 59"/>
          <p:cNvSpPr/>
          <p:nvPr/>
        </p:nvSpPr>
        <p:spPr>
          <a:xfrm>
            <a:off x="2000160" y="1857240"/>
            <a:ext cx="571680" cy="571680"/>
          </a:xfrm>
          <a:prstGeom prst="ellipse">
            <a:avLst/>
          </a:prstGeom>
          <a:solidFill>
            <a:srgbClr val="f1850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llipse 60"/>
          <p:cNvSpPr/>
          <p:nvPr/>
        </p:nvSpPr>
        <p:spPr>
          <a:xfrm>
            <a:off x="2643120" y="1857240"/>
            <a:ext cx="571680" cy="571680"/>
          </a:xfrm>
          <a:prstGeom prst="ellipse">
            <a:avLst/>
          </a:prstGeom>
          <a:solidFill>
            <a:srgbClr val="f1850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61"/>
          <p:cNvSpPr/>
          <p:nvPr/>
        </p:nvSpPr>
        <p:spPr>
          <a:xfrm>
            <a:off x="21430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62"/>
          <p:cNvSpPr/>
          <p:nvPr/>
        </p:nvSpPr>
        <p:spPr>
          <a:xfrm>
            <a:off x="27860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llipse 63"/>
          <p:cNvSpPr/>
          <p:nvPr/>
        </p:nvSpPr>
        <p:spPr>
          <a:xfrm>
            <a:off x="3286080" y="1857240"/>
            <a:ext cx="571680" cy="571680"/>
          </a:xfrm>
          <a:prstGeom prst="ellipse">
            <a:avLst/>
          </a:prstGeom>
          <a:solidFill>
            <a:srgbClr val="f1850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64"/>
          <p:cNvSpPr/>
          <p:nvPr/>
        </p:nvSpPr>
        <p:spPr>
          <a:xfrm>
            <a:off x="4071960" y="1857240"/>
            <a:ext cx="57132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llipse 65"/>
          <p:cNvSpPr/>
          <p:nvPr/>
        </p:nvSpPr>
        <p:spPr>
          <a:xfrm>
            <a:off x="4714920" y="1857240"/>
            <a:ext cx="57132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llipse 66"/>
          <p:cNvSpPr/>
          <p:nvPr/>
        </p:nvSpPr>
        <p:spPr>
          <a:xfrm>
            <a:off x="6143760" y="1857240"/>
            <a:ext cx="571320" cy="571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llipse 67"/>
          <p:cNvSpPr/>
          <p:nvPr/>
        </p:nvSpPr>
        <p:spPr>
          <a:xfrm>
            <a:off x="5357880" y="1857240"/>
            <a:ext cx="57132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68"/>
          <p:cNvSpPr/>
          <p:nvPr/>
        </p:nvSpPr>
        <p:spPr>
          <a:xfrm>
            <a:off x="342900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ZoneTexte 69"/>
          <p:cNvSpPr/>
          <p:nvPr/>
        </p:nvSpPr>
        <p:spPr>
          <a:xfrm>
            <a:off x="42148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70"/>
          <p:cNvSpPr/>
          <p:nvPr/>
        </p:nvSpPr>
        <p:spPr>
          <a:xfrm>
            <a:off x="48578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71"/>
          <p:cNvSpPr/>
          <p:nvPr/>
        </p:nvSpPr>
        <p:spPr>
          <a:xfrm>
            <a:off x="550080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72"/>
          <p:cNvSpPr/>
          <p:nvPr/>
        </p:nvSpPr>
        <p:spPr>
          <a:xfrm>
            <a:off x="628668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llipse 73"/>
          <p:cNvSpPr/>
          <p:nvPr/>
        </p:nvSpPr>
        <p:spPr>
          <a:xfrm>
            <a:off x="6786720" y="1857240"/>
            <a:ext cx="571320" cy="571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74"/>
          <p:cNvSpPr/>
          <p:nvPr/>
        </p:nvSpPr>
        <p:spPr>
          <a:xfrm>
            <a:off x="69292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280" y="2491920"/>
            <a:ext cx="82472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dé octogonal (8 faces) parfaitement équilibré porte les numéros : 1 ; 2 ; 2 ; 3 ; 3 ; 3 ; 3 et 4. On lance ce d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 numéro    pair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-143280" y="2071800"/>
            <a:ext cx="542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i="1" lang="fr-FR" sz="2600" spc="-1" strike="noStrike">
                <a:solidFill>
                  <a:srgbClr val="0070c0"/>
                </a:solidFill>
                <a:latin typeface="Arial"/>
              </a:rPr>
              <a:t>Un jeu de tarot (jeu de 78 cartes) est constitué de quatre couleurs : carreau, pique, trèfle et cœur. Pour chacune d’elles, il y a 10 cartes numérotées de 1 à 10 et 4 « têtes » : valet, cavalier, dame et roi. Il y a 21 cartes numérotées de 1 à 21 qui sont des atouts. Le « 21 » et le « 1 » sont des « bouts ». Il y a un troisième bout : « l’excuse 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71680" y="2064960"/>
            <a:ext cx="40719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une carte au hasard dans un jeu de tar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 «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BOU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»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onnecteur droit 12"/>
          <p:cNvSpPr/>
          <p:nvPr/>
        </p:nvSpPr>
        <p:spPr>
          <a:xfrm flipH="1">
            <a:off x="5357880" y="1785960"/>
            <a:ext cx="1440" cy="4572000"/>
          </a:xfrm>
          <a:prstGeom prst="line">
            <a:avLst/>
          </a:prstGeom>
          <a:ln w="19080">
            <a:solidFill>
              <a:srgbClr val="0000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C:\Documents and Settings\C.Bertrand\Mes documents\IREM\images irem\petit.png"/>
          <p:cNvPicPr/>
          <p:nvPr/>
        </p:nvPicPr>
        <p:blipFill>
          <a:blip r:embed="rId1"/>
          <a:stretch/>
        </p:blipFill>
        <p:spPr>
          <a:xfrm rot="21000000">
            <a:off x="571320" y="142920"/>
            <a:ext cx="996840" cy="1857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:\Documents and Settings\C.Bertrand\Mes documents\IREM\images irem\vingt-un.png"/>
          <p:cNvPicPr/>
          <p:nvPr/>
        </p:nvPicPr>
        <p:blipFill>
          <a:blip r:embed="rId2"/>
          <a:stretch/>
        </p:blipFill>
        <p:spPr>
          <a:xfrm rot="600000">
            <a:off x="2797200" y="74160"/>
            <a:ext cx="1020600" cy="187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Documents and Settings\C.Bertrand\Mes documents\IREM\images irem\exuse.png"/>
          <p:cNvPicPr/>
          <p:nvPr/>
        </p:nvPicPr>
        <p:blipFill>
          <a:blip r:embed="rId3"/>
          <a:stretch/>
        </p:blipFill>
        <p:spPr>
          <a:xfrm rot="600000">
            <a:off x="6940440" y="99720"/>
            <a:ext cx="1017720" cy="18716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-143280" y="2071800"/>
            <a:ext cx="542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6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i="1" lang="fr-FR" sz="2600" spc="-1" strike="noStrike">
                <a:solidFill>
                  <a:srgbClr val="0070c0"/>
                </a:solidFill>
                <a:latin typeface="Arial"/>
              </a:rPr>
              <a:t>Un jeu de tarot (jeu de 78 cartes) est constitué de quatre couleurs : carreau, pique, trèfle et cœur. Pour chacune d’elles, il y a 10 cartes numérotées de 1 à 10 et 4 « têtes » : valet, cavalier, dame et roi. Il y a 21 cartes numérotées de 1 à 21 qui sont des atouts. Le « 21 » et le « 1 » sont des « bouts ». Il y a un troisième bout : « l’excuse 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71680" y="2064960"/>
            <a:ext cx="40719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une carte au hasard dans un jeu de tar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e « 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TÊT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»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necteur droit 12"/>
          <p:cNvSpPr/>
          <p:nvPr/>
        </p:nvSpPr>
        <p:spPr>
          <a:xfrm flipH="1">
            <a:off x="5357880" y="1785960"/>
            <a:ext cx="1440" cy="4572000"/>
          </a:xfrm>
          <a:prstGeom prst="line">
            <a:avLst/>
          </a:prstGeom>
          <a:ln w="19080">
            <a:solidFill>
              <a:srgbClr val="0000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C:\Documents and Settings\C.Bertrand\Mes documents\IREM\images irem\petit.png"/>
          <p:cNvPicPr/>
          <p:nvPr/>
        </p:nvPicPr>
        <p:blipFill>
          <a:blip r:embed="rId1"/>
          <a:stretch/>
        </p:blipFill>
        <p:spPr>
          <a:xfrm rot="21000000">
            <a:off x="571320" y="142920"/>
            <a:ext cx="996840" cy="1857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:\Documents and Settings\C.Bertrand\Mes documents\IREM\images irem\vingt-un.png"/>
          <p:cNvPicPr/>
          <p:nvPr/>
        </p:nvPicPr>
        <p:blipFill>
          <a:blip r:embed="rId2"/>
          <a:stretch/>
        </p:blipFill>
        <p:spPr>
          <a:xfrm rot="600000">
            <a:off x="2797200" y="74160"/>
            <a:ext cx="1020600" cy="18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C:\Documents and Settings\C.Bertrand\Mes documents\IREM\images irem\exuse.png"/>
          <p:cNvPicPr/>
          <p:nvPr/>
        </p:nvPicPr>
        <p:blipFill>
          <a:blip r:embed="rId3"/>
          <a:stretch/>
        </p:blipFill>
        <p:spPr>
          <a:xfrm rot="600000">
            <a:off x="6940440" y="99720"/>
            <a:ext cx="1017720" cy="1871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712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Rectangle à coins arrondis 8"/>
          <p:cNvGrpSpPr/>
          <p:nvPr/>
        </p:nvGrpSpPr>
        <p:grpSpPr>
          <a:xfrm>
            <a:off x="7480440" y="5052960"/>
            <a:ext cx="1571400" cy="1725840"/>
            <a:chOff x="7480440" y="5052960"/>
            <a:chExt cx="1571400" cy="1725840"/>
          </a:xfrm>
        </p:grpSpPr>
        <p:pic>
          <p:nvPicPr>
            <p:cNvPr id="132" name="Rectangle à coins arrondis 8" descr=""/>
            <p:cNvPicPr/>
            <p:nvPr/>
          </p:nvPicPr>
          <p:blipFill>
            <a:blip r:embed="rId1"/>
            <a:stretch/>
          </p:blipFill>
          <p:spPr>
            <a:xfrm>
              <a:off x="7480440" y="5052960"/>
              <a:ext cx="1571400" cy="17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532640" y="5103720"/>
              <a:ext cx="593640" cy="13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-432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2"/>
              <p:cNvSpPr txBox="1"/>
              <p:nvPr/>
            </p:nvSpPr>
            <p:spPr>
              <a:xfrm>
                <a:off x="7605720" y="5072040"/>
                <a:ext cx="6094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Pensées 7"/>
          <p:cNvSpPr/>
          <p:nvPr/>
        </p:nvSpPr>
        <p:spPr>
          <a:xfrm>
            <a:off x="219240" y="2357280"/>
            <a:ext cx="8638920" cy="342900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6"/>
          <p:cNvSpPr/>
          <p:nvPr/>
        </p:nvSpPr>
        <p:spPr>
          <a:xfrm>
            <a:off x="1071720" y="2943360"/>
            <a:ext cx="703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1 chance sur 2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d’obtenir une fille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si l’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suppose l’équiprobabilité des naissa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sexe des bébés nés précédemment n’influe en rien sur celui du bébé à naît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Soit une probabilité d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14200" y="1131840"/>
            <a:ext cx="86439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85840" y="1214280"/>
            <a:ext cx="857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nie attend son quatrième enfant. Le couple a déjà trois garç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elle est la probabilité pour que le bébé à naître soit une fille 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"/>
          <p:cNvPicPr/>
          <p:nvPr/>
        </p:nvPicPr>
        <p:blipFill>
          <a:blip r:embed="rId1"/>
          <a:srcRect l="8267" t="13999" r="19419" b="22002"/>
          <a:stretch/>
        </p:blipFill>
        <p:spPr>
          <a:xfrm>
            <a:off x="6500880" y="0"/>
            <a:ext cx="2643120" cy="2416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4520" y="1714680"/>
            <a:ext cx="80726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joueur fait tourner la roue de loterie ci-dess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elle est la probabilité de gagner 5 €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165240" y="-106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ensées 4"/>
          <p:cNvSpPr/>
          <p:nvPr/>
        </p:nvSpPr>
        <p:spPr>
          <a:xfrm>
            <a:off x="214200" y="2786040"/>
            <a:ext cx="7000920" cy="235764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ZoneTexte 5"/>
          <p:cNvSpPr/>
          <p:nvPr/>
        </p:nvSpPr>
        <p:spPr>
          <a:xfrm>
            <a:off x="1000080" y="3357720"/>
            <a:ext cx="66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1 chance sur 6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de gagner 5 €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soit une probabilité d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Rectangle à coins arrondis 7"/>
          <p:cNvGrpSpPr/>
          <p:nvPr/>
        </p:nvGrpSpPr>
        <p:grpSpPr>
          <a:xfrm>
            <a:off x="6626160" y="4913280"/>
            <a:ext cx="2365560" cy="1700280"/>
            <a:chOff x="6626160" y="4913280"/>
            <a:chExt cx="2365560" cy="1700280"/>
          </a:xfrm>
        </p:grpSpPr>
        <p:pic>
          <p:nvPicPr>
            <p:cNvPr id="146" name="Rectangle à coins arrondis 7" descr=""/>
            <p:cNvPicPr/>
            <p:nvPr/>
          </p:nvPicPr>
          <p:blipFill>
            <a:blip r:embed="rId2"/>
            <a:stretch/>
          </p:blipFill>
          <p:spPr>
            <a:xfrm>
              <a:off x="6626160" y="4913280"/>
              <a:ext cx="236556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684840" y="4970520"/>
              <a:ext cx="77472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6786720" y="4929120"/>
                <a:ext cx="5839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"/>
          <p:cNvPicPr/>
          <p:nvPr/>
        </p:nvPicPr>
        <p:blipFill>
          <a:blip r:embed="rId1"/>
          <a:srcRect l="8267" t="13999" r="19419" b="22002"/>
          <a:stretch/>
        </p:blipFill>
        <p:spPr>
          <a:xfrm>
            <a:off x="6500880" y="71280"/>
            <a:ext cx="2643120" cy="24163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4520" y="1785960"/>
            <a:ext cx="80726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joueur fait tourner la roue de loterie ci-dess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elle probabilité a-t-il de gagn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165240" y="-106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ensées 4"/>
          <p:cNvSpPr/>
          <p:nvPr/>
        </p:nvSpPr>
        <p:spPr>
          <a:xfrm>
            <a:off x="214200" y="2786040"/>
            <a:ext cx="7000920" cy="235764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5"/>
          <p:cNvSpPr/>
          <p:nvPr/>
        </p:nvSpPr>
        <p:spPr>
          <a:xfrm>
            <a:off x="1000080" y="3357720"/>
            <a:ext cx="66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2 chances sur 6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de gagn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soit une probabilité d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Rectangle à coins arrondis 7"/>
          <p:cNvGrpSpPr/>
          <p:nvPr/>
        </p:nvGrpSpPr>
        <p:grpSpPr>
          <a:xfrm>
            <a:off x="6040440" y="4913280"/>
            <a:ext cx="2994120" cy="1749600"/>
            <a:chOff x="6040440" y="4913280"/>
            <a:chExt cx="2994120" cy="1749600"/>
          </a:xfrm>
        </p:grpSpPr>
        <p:pic>
          <p:nvPicPr>
            <p:cNvPr id="155" name="Rectangle à coins arrondis 7" descr=""/>
            <p:cNvPicPr/>
            <p:nvPr/>
          </p:nvPicPr>
          <p:blipFill>
            <a:blip r:embed="rId2"/>
            <a:stretch/>
          </p:blipFill>
          <p:spPr>
            <a:xfrm>
              <a:off x="6040440" y="4913280"/>
              <a:ext cx="2994120" cy="17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6130800" y="5002200"/>
              <a:ext cx="1352520" cy="15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6296040" y="5165640"/>
                <a:ext cx="102240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0" y="1285920"/>
            <a:ext cx="842976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lance simultanément deux dés non pipés de couleurs différ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elle est la probabilité pour que la somme des chiffres soit un  nombre supérieur ou égal à 12 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C:\Documents and Settings\C.Bertrand\Mes documents\IREM\images irem\des_rouge_bleu.png"/>
          <p:cNvPicPr/>
          <p:nvPr/>
        </p:nvPicPr>
        <p:blipFill>
          <a:blip r:embed="rId1"/>
          <a:stretch/>
        </p:blipFill>
        <p:spPr>
          <a:xfrm>
            <a:off x="6045120" y="0"/>
            <a:ext cx="2276640" cy="1324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285840" y="-214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ensées 4"/>
          <p:cNvSpPr/>
          <p:nvPr/>
        </p:nvSpPr>
        <p:spPr>
          <a:xfrm>
            <a:off x="214200" y="3214800"/>
            <a:ext cx="7215480" cy="207144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5"/>
          <p:cNvSpPr/>
          <p:nvPr/>
        </p:nvSpPr>
        <p:spPr>
          <a:xfrm>
            <a:off x="1071720" y="3500280"/>
            <a:ext cx="671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Il y a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36 résultats possibles (6 × 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La seule solution est :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6 et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soit une probabilité d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Rectangle à coins arrondis 7"/>
          <p:cNvGrpSpPr/>
          <p:nvPr/>
        </p:nvGrpSpPr>
        <p:grpSpPr>
          <a:xfrm>
            <a:off x="6480000" y="4840200"/>
            <a:ext cx="1878120" cy="1609920"/>
            <a:chOff x="6480000" y="4840200"/>
            <a:chExt cx="1878120" cy="1609920"/>
          </a:xfrm>
        </p:grpSpPr>
        <p:pic>
          <p:nvPicPr>
            <p:cNvPr id="164" name="Rectangle à coins arrondis 7" descr=""/>
            <p:cNvPicPr/>
            <p:nvPr/>
          </p:nvPicPr>
          <p:blipFill>
            <a:blip r:embed="rId2"/>
            <a:stretch/>
          </p:blipFill>
          <p:spPr>
            <a:xfrm>
              <a:off x="6480000" y="4840200"/>
              <a:ext cx="187812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546960" y="4903920"/>
              <a:ext cx="836640" cy="14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6597720" y="4989600"/>
                <a:ext cx="7300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0" y="1285920"/>
            <a:ext cx="8429760" cy="18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lance simultanément deux dés non pipés de couleurs différe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elle est la probabilité pour que la somme des chiffres soit égale à 6 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C:\Documents and Settings\C.Bertrand\Mes documents\IREM\images irem\des_rouge_bleu.png"/>
          <p:cNvPicPr/>
          <p:nvPr/>
        </p:nvPicPr>
        <p:blipFill>
          <a:blip r:embed="rId1"/>
          <a:stretch/>
        </p:blipFill>
        <p:spPr>
          <a:xfrm>
            <a:off x="6045120" y="0"/>
            <a:ext cx="2276640" cy="1324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285840" y="-2142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ensées 4"/>
          <p:cNvSpPr/>
          <p:nvPr/>
        </p:nvSpPr>
        <p:spPr>
          <a:xfrm>
            <a:off x="0" y="2714760"/>
            <a:ext cx="9144000" cy="257148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5"/>
          <p:cNvSpPr/>
          <p:nvPr/>
        </p:nvSpPr>
        <p:spPr>
          <a:xfrm>
            <a:off x="1071720" y="3075120"/>
            <a:ext cx="728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Il y a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36 résultats possibles (6 × 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Les solutions sont :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1 et 5 ; 2 et 4 ; 3 e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                                   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4 et 2 ; 5 et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Soit une probabilité d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Rectangle à coins arrondis 7"/>
          <p:cNvGrpSpPr/>
          <p:nvPr/>
        </p:nvGrpSpPr>
        <p:grpSpPr>
          <a:xfrm>
            <a:off x="7102440" y="5108400"/>
            <a:ext cx="1865520" cy="1609920"/>
            <a:chOff x="7102440" y="5108400"/>
            <a:chExt cx="1865520" cy="1609920"/>
          </a:xfrm>
        </p:grpSpPr>
        <p:pic>
          <p:nvPicPr>
            <p:cNvPr id="173" name="Rectangle à coins arrondis 7" descr=""/>
            <p:cNvPicPr/>
            <p:nvPr/>
          </p:nvPicPr>
          <p:blipFill>
            <a:blip r:embed="rId2"/>
            <a:stretch/>
          </p:blipFill>
          <p:spPr>
            <a:xfrm>
              <a:off x="7102440" y="5108400"/>
              <a:ext cx="186552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7164360" y="5173560"/>
              <a:ext cx="838080" cy="14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7229520" y="5259240"/>
                <a:ext cx="7300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2"/>
          <p:cNvSpPr/>
          <p:nvPr/>
        </p:nvSpPr>
        <p:spPr>
          <a:xfrm>
            <a:off x="357120" y="1643040"/>
            <a:ext cx="8072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terminer la probabilité pour que chacun des événements suivants soit réalisé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4"/>
          <p:cNvSpPr/>
          <p:nvPr/>
        </p:nvSpPr>
        <p:spPr>
          <a:xfrm>
            <a:off x="285840" y="371484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résultat sera donné sous la forme d’un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fraction irréductible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 d’un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nombre enti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0040" y="21600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285840" y="1928880"/>
            <a:ext cx="85010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urne opaque contient quatre boules orange numérotées de 1 à 4, trois boules violettes numérotées de 1 à 3 et deux boules vertes numérotées de 1 à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choisit au hasard une boule dans l’ur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lle est la probabilité d’obtenir une boule  portant un numéro pai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e 25"/>
          <p:cNvGrpSpPr/>
          <p:nvPr/>
        </p:nvGrpSpPr>
        <p:grpSpPr>
          <a:xfrm>
            <a:off x="1601640" y="1200240"/>
            <a:ext cx="6000840" cy="571320"/>
            <a:chOff x="1601640" y="1200240"/>
            <a:chExt cx="6000840" cy="571320"/>
          </a:xfrm>
        </p:grpSpPr>
        <p:sp>
          <p:nvSpPr>
            <p:cNvPr id="179" name="Ellipse 4"/>
            <p:cNvSpPr/>
            <p:nvPr/>
          </p:nvSpPr>
          <p:spPr>
            <a:xfrm>
              <a:off x="1601640" y="1200240"/>
              <a:ext cx="571320" cy="571320"/>
            </a:xfrm>
            <a:prstGeom prst="ellipse">
              <a:avLst/>
            </a:prstGeom>
            <a:solidFill>
              <a:srgbClr val="f1850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ZoneTexte 5"/>
            <p:cNvSpPr/>
            <p:nvPr/>
          </p:nvSpPr>
          <p:spPr>
            <a:xfrm>
              <a:off x="1744200" y="12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Ellipse 6"/>
            <p:cNvSpPr/>
            <p:nvPr/>
          </p:nvSpPr>
          <p:spPr>
            <a:xfrm>
              <a:off x="2244600" y="1200240"/>
              <a:ext cx="571320" cy="571320"/>
            </a:xfrm>
            <a:prstGeom prst="ellipse">
              <a:avLst/>
            </a:prstGeom>
            <a:solidFill>
              <a:srgbClr val="f1850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Ellipse 7"/>
            <p:cNvSpPr/>
            <p:nvPr/>
          </p:nvSpPr>
          <p:spPr>
            <a:xfrm>
              <a:off x="2887560" y="1200240"/>
              <a:ext cx="571320" cy="571320"/>
            </a:xfrm>
            <a:prstGeom prst="ellipse">
              <a:avLst/>
            </a:prstGeom>
            <a:solidFill>
              <a:srgbClr val="f1850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ZoneTexte 8"/>
            <p:cNvSpPr/>
            <p:nvPr/>
          </p:nvSpPr>
          <p:spPr>
            <a:xfrm>
              <a:off x="2387160" y="12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ZoneTexte 9"/>
            <p:cNvSpPr/>
            <p:nvPr/>
          </p:nvSpPr>
          <p:spPr>
            <a:xfrm>
              <a:off x="3030480" y="12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Ellipse 10"/>
            <p:cNvSpPr/>
            <p:nvPr/>
          </p:nvSpPr>
          <p:spPr>
            <a:xfrm>
              <a:off x="3530520" y="1200240"/>
              <a:ext cx="571320" cy="571320"/>
            </a:xfrm>
            <a:prstGeom prst="ellipse">
              <a:avLst/>
            </a:prstGeom>
            <a:solidFill>
              <a:srgbClr val="f1850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Ellipse 11"/>
            <p:cNvSpPr/>
            <p:nvPr/>
          </p:nvSpPr>
          <p:spPr>
            <a:xfrm>
              <a:off x="4316400" y="1200240"/>
              <a:ext cx="571320" cy="571320"/>
            </a:xfrm>
            <a:prstGeom prst="ellipse">
              <a:avLst/>
            </a:prstGeom>
            <a:solidFill>
              <a:srgbClr val="7030a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Ellipse 12"/>
            <p:cNvSpPr/>
            <p:nvPr/>
          </p:nvSpPr>
          <p:spPr>
            <a:xfrm>
              <a:off x="4959360" y="1200240"/>
              <a:ext cx="571320" cy="571320"/>
            </a:xfrm>
            <a:prstGeom prst="ellipse">
              <a:avLst/>
            </a:prstGeom>
            <a:solidFill>
              <a:srgbClr val="7030a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Ellipse 13"/>
            <p:cNvSpPr/>
            <p:nvPr/>
          </p:nvSpPr>
          <p:spPr>
            <a:xfrm>
              <a:off x="6388200" y="1200240"/>
              <a:ext cx="571320" cy="57132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Ellipse 14"/>
            <p:cNvSpPr/>
            <p:nvPr/>
          </p:nvSpPr>
          <p:spPr>
            <a:xfrm>
              <a:off x="5602320" y="1200240"/>
              <a:ext cx="571320" cy="571320"/>
            </a:xfrm>
            <a:prstGeom prst="ellipse">
              <a:avLst/>
            </a:prstGeom>
            <a:solidFill>
              <a:srgbClr val="7030a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ZoneTexte 15"/>
            <p:cNvSpPr/>
            <p:nvPr/>
          </p:nvSpPr>
          <p:spPr>
            <a:xfrm>
              <a:off x="3673440" y="12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ZoneTexte 16"/>
            <p:cNvSpPr/>
            <p:nvPr/>
          </p:nvSpPr>
          <p:spPr>
            <a:xfrm>
              <a:off x="4459320" y="12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ZoneTexte 17"/>
            <p:cNvSpPr/>
            <p:nvPr/>
          </p:nvSpPr>
          <p:spPr>
            <a:xfrm>
              <a:off x="5102280" y="12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ZoneTexte 18"/>
            <p:cNvSpPr/>
            <p:nvPr/>
          </p:nvSpPr>
          <p:spPr>
            <a:xfrm>
              <a:off x="5745240" y="12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ZoneTexte 19"/>
            <p:cNvSpPr/>
            <p:nvPr/>
          </p:nvSpPr>
          <p:spPr>
            <a:xfrm>
              <a:off x="6531120" y="12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Ellipse 21"/>
            <p:cNvSpPr/>
            <p:nvPr/>
          </p:nvSpPr>
          <p:spPr>
            <a:xfrm>
              <a:off x="7031160" y="1200240"/>
              <a:ext cx="571320" cy="57132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ZoneTexte 22"/>
            <p:cNvSpPr/>
            <p:nvPr/>
          </p:nvSpPr>
          <p:spPr>
            <a:xfrm>
              <a:off x="7174080" y="12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ensées 26"/>
          <p:cNvSpPr/>
          <p:nvPr/>
        </p:nvSpPr>
        <p:spPr>
          <a:xfrm>
            <a:off x="0" y="3467160"/>
            <a:ext cx="9144000" cy="224784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oneTexte 27"/>
          <p:cNvSpPr/>
          <p:nvPr/>
        </p:nvSpPr>
        <p:spPr>
          <a:xfrm>
            <a:off x="514440" y="3929040"/>
            <a:ext cx="88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Il y a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4 boules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portant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un numéro p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On a donc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4 chances sur 9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de tirer un numéro pa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soit une probabilité d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ectangle à coins arrondis 28"/>
          <p:cNvGrpSpPr/>
          <p:nvPr/>
        </p:nvGrpSpPr>
        <p:grpSpPr>
          <a:xfrm>
            <a:off x="7643880" y="5340240"/>
            <a:ext cx="1371600" cy="1401840"/>
            <a:chOff x="7643880" y="5340240"/>
            <a:chExt cx="1371600" cy="1401840"/>
          </a:xfrm>
        </p:grpSpPr>
        <p:pic>
          <p:nvPicPr>
            <p:cNvPr id="200" name="Rectangle à coins arrondis 28" descr=""/>
            <p:cNvPicPr/>
            <p:nvPr/>
          </p:nvPicPr>
          <p:blipFill>
            <a:blip r:embed="rId1"/>
            <a:stretch/>
          </p:blipFill>
          <p:spPr>
            <a:xfrm>
              <a:off x="7643880" y="5340240"/>
              <a:ext cx="13716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702560" y="5398920"/>
              <a:ext cx="77472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7877160" y="5391000"/>
                <a:ext cx="51120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21600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285840" y="1928880"/>
            <a:ext cx="850104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urne opaque contient quatre boules orange numérotées de 1 à 4, trois boules violettes numérotées de 1 à 3 et deux boules vertes numérotées de 1 à 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choisit au hasard une boule dans l’ur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lle est la probabilité d’obtenir une boule avec un numéro impair ou une boule orang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e 25"/>
          <p:cNvGrpSpPr/>
          <p:nvPr/>
        </p:nvGrpSpPr>
        <p:grpSpPr>
          <a:xfrm>
            <a:off x="1601640" y="1200240"/>
            <a:ext cx="6000840" cy="571320"/>
            <a:chOff x="1601640" y="1200240"/>
            <a:chExt cx="6000840" cy="571320"/>
          </a:xfrm>
        </p:grpSpPr>
        <p:sp>
          <p:nvSpPr>
            <p:cNvPr id="206" name="Ellipse 4"/>
            <p:cNvSpPr/>
            <p:nvPr/>
          </p:nvSpPr>
          <p:spPr>
            <a:xfrm>
              <a:off x="1601640" y="1200240"/>
              <a:ext cx="571320" cy="571320"/>
            </a:xfrm>
            <a:prstGeom prst="ellipse">
              <a:avLst/>
            </a:prstGeom>
            <a:solidFill>
              <a:srgbClr val="f1850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ZoneTexte 5"/>
            <p:cNvSpPr/>
            <p:nvPr/>
          </p:nvSpPr>
          <p:spPr>
            <a:xfrm>
              <a:off x="1744200" y="12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Ellipse 6"/>
            <p:cNvSpPr/>
            <p:nvPr/>
          </p:nvSpPr>
          <p:spPr>
            <a:xfrm>
              <a:off x="2244600" y="1200240"/>
              <a:ext cx="571320" cy="571320"/>
            </a:xfrm>
            <a:prstGeom prst="ellipse">
              <a:avLst/>
            </a:prstGeom>
            <a:solidFill>
              <a:srgbClr val="f1850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Ellipse 7"/>
            <p:cNvSpPr/>
            <p:nvPr/>
          </p:nvSpPr>
          <p:spPr>
            <a:xfrm>
              <a:off x="2887560" y="1200240"/>
              <a:ext cx="571320" cy="571320"/>
            </a:xfrm>
            <a:prstGeom prst="ellipse">
              <a:avLst/>
            </a:prstGeom>
            <a:solidFill>
              <a:srgbClr val="f1850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ZoneTexte 8"/>
            <p:cNvSpPr/>
            <p:nvPr/>
          </p:nvSpPr>
          <p:spPr>
            <a:xfrm>
              <a:off x="2387160" y="12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ZoneTexte 9"/>
            <p:cNvSpPr/>
            <p:nvPr/>
          </p:nvSpPr>
          <p:spPr>
            <a:xfrm>
              <a:off x="3030480" y="12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Ellipse 10"/>
            <p:cNvSpPr/>
            <p:nvPr/>
          </p:nvSpPr>
          <p:spPr>
            <a:xfrm>
              <a:off x="3530520" y="1200240"/>
              <a:ext cx="571320" cy="571320"/>
            </a:xfrm>
            <a:prstGeom prst="ellipse">
              <a:avLst/>
            </a:prstGeom>
            <a:solidFill>
              <a:srgbClr val="f1850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Ellipse 11"/>
            <p:cNvSpPr/>
            <p:nvPr/>
          </p:nvSpPr>
          <p:spPr>
            <a:xfrm>
              <a:off x="4316400" y="1200240"/>
              <a:ext cx="571320" cy="571320"/>
            </a:xfrm>
            <a:prstGeom prst="ellipse">
              <a:avLst/>
            </a:prstGeom>
            <a:solidFill>
              <a:srgbClr val="7030a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Ellipse 12"/>
            <p:cNvSpPr/>
            <p:nvPr/>
          </p:nvSpPr>
          <p:spPr>
            <a:xfrm>
              <a:off x="4959360" y="1200240"/>
              <a:ext cx="571320" cy="571320"/>
            </a:xfrm>
            <a:prstGeom prst="ellipse">
              <a:avLst/>
            </a:prstGeom>
            <a:solidFill>
              <a:srgbClr val="7030a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Ellipse 13"/>
            <p:cNvSpPr/>
            <p:nvPr/>
          </p:nvSpPr>
          <p:spPr>
            <a:xfrm>
              <a:off x="6388200" y="1200240"/>
              <a:ext cx="571320" cy="57132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Ellipse 14"/>
            <p:cNvSpPr/>
            <p:nvPr/>
          </p:nvSpPr>
          <p:spPr>
            <a:xfrm>
              <a:off x="5602320" y="1200240"/>
              <a:ext cx="571320" cy="571320"/>
            </a:xfrm>
            <a:prstGeom prst="ellipse">
              <a:avLst/>
            </a:prstGeom>
            <a:solidFill>
              <a:srgbClr val="7030a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ZoneTexte 15"/>
            <p:cNvSpPr/>
            <p:nvPr/>
          </p:nvSpPr>
          <p:spPr>
            <a:xfrm>
              <a:off x="3673440" y="12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ZoneTexte 16"/>
            <p:cNvSpPr/>
            <p:nvPr/>
          </p:nvSpPr>
          <p:spPr>
            <a:xfrm>
              <a:off x="4459320" y="12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ZoneTexte 17"/>
            <p:cNvSpPr/>
            <p:nvPr/>
          </p:nvSpPr>
          <p:spPr>
            <a:xfrm>
              <a:off x="5102280" y="12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ZoneTexte 18"/>
            <p:cNvSpPr/>
            <p:nvPr/>
          </p:nvSpPr>
          <p:spPr>
            <a:xfrm>
              <a:off x="5745240" y="12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ZoneTexte 19"/>
            <p:cNvSpPr/>
            <p:nvPr/>
          </p:nvSpPr>
          <p:spPr>
            <a:xfrm>
              <a:off x="6531120" y="12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Ellipse 21"/>
            <p:cNvSpPr/>
            <p:nvPr/>
          </p:nvSpPr>
          <p:spPr>
            <a:xfrm>
              <a:off x="7031160" y="1200240"/>
              <a:ext cx="571320" cy="571320"/>
            </a:xfrm>
            <a:prstGeom prst="ellipse">
              <a:avLst/>
            </a:prstGeom>
            <a:solidFill>
              <a:srgbClr val="00b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ZoneTexte 22"/>
            <p:cNvSpPr/>
            <p:nvPr/>
          </p:nvSpPr>
          <p:spPr>
            <a:xfrm>
              <a:off x="7174080" y="12715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ensées 26"/>
          <p:cNvSpPr/>
          <p:nvPr/>
        </p:nvSpPr>
        <p:spPr>
          <a:xfrm>
            <a:off x="0" y="3286080"/>
            <a:ext cx="9144000" cy="271476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oneTexte 27"/>
          <p:cNvSpPr/>
          <p:nvPr/>
        </p:nvSpPr>
        <p:spPr>
          <a:xfrm>
            <a:off x="933480" y="3754440"/>
            <a:ext cx="808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Il y a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5 boules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portant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un numéro impair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et il y en a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2 de plus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qui sont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o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On a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7 chances sur 9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de réuss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soit une probabilité d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Rectangle à coins arrondis 28"/>
          <p:cNvGrpSpPr/>
          <p:nvPr/>
        </p:nvGrpSpPr>
        <p:grpSpPr>
          <a:xfrm>
            <a:off x="7937640" y="5340240"/>
            <a:ext cx="1382400" cy="1401840"/>
            <a:chOff x="7937640" y="5340240"/>
            <a:chExt cx="1382400" cy="1401840"/>
          </a:xfrm>
        </p:grpSpPr>
        <p:pic>
          <p:nvPicPr>
            <p:cNvPr id="227" name="Rectangle à coins arrondis 28" descr=""/>
            <p:cNvPicPr/>
            <p:nvPr/>
          </p:nvPicPr>
          <p:blipFill>
            <a:blip r:embed="rId1"/>
            <a:stretch/>
          </p:blipFill>
          <p:spPr>
            <a:xfrm>
              <a:off x="7937640" y="5340240"/>
              <a:ext cx="13824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7999560" y="5398920"/>
              <a:ext cx="77292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8151840" y="5391000"/>
                <a:ext cx="4744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99680" y="1357200"/>
            <a:ext cx="824724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dé octogonal (8 faces) parfaitement équilibré porte les numéros : 1 ; 2 ; 2 ; 3 ; 3 ; 3 ; 3 et 4. On lance ce d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le est la probabilité d’obtenir un numéro  pair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57168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ensées 3"/>
          <p:cNvSpPr/>
          <p:nvPr/>
        </p:nvSpPr>
        <p:spPr>
          <a:xfrm>
            <a:off x="0" y="3214800"/>
            <a:ext cx="9144000" cy="250020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ZoneTexte 5"/>
          <p:cNvSpPr/>
          <p:nvPr/>
        </p:nvSpPr>
        <p:spPr>
          <a:xfrm>
            <a:off x="933480" y="3754440"/>
            <a:ext cx="808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Il y a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3 faces sur 8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portant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un numéro pai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On a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3 chances sur 8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d’obtenir un numéro pai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soit une probabilité d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Rectangle à coins arrondis 6"/>
          <p:cNvGrpSpPr/>
          <p:nvPr/>
        </p:nvGrpSpPr>
        <p:grpSpPr>
          <a:xfrm>
            <a:off x="7626240" y="5194440"/>
            <a:ext cx="1384560" cy="1401480"/>
            <a:chOff x="7626240" y="5194440"/>
            <a:chExt cx="1384560" cy="1401480"/>
          </a:xfrm>
        </p:grpSpPr>
        <p:pic>
          <p:nvPicPr>
            <p:cNvPr id="235" name="Rectangle à coins arrondis 6" descr=""/>
            <p:cNvPicPr/>
            <p:nvPr/>
          </p:nvPicPr>
          <p:blipFill>
            <a:blip r:embed="rId1"/>
            <a:stretch/>
          </p:blipFill>
          <p:spPr>
            <a:xfrm>
              <a:off x="7626240" y="5194440"/>
              <a:ext cx="1384560" cy="14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684920" y="5256360"/>
              <a:ext cx="774720" cy="12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7" name="Object 2"/>
              <p:cNvSpPr txBox="1"/>
              <p:nvPr/>
            </p:nvSpPr>
            <p:spPr>
              <a:xfrm>
                <a:off x="7829640" y="5229360"/>
                <a:ext cx="51120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0" y="1414080"/>
            <a:ext cx="88581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70c0"/>
                </a:solidFill>
                <a:latin typeface="Arial"/>
              </a:rPr>
              <a:t>Un jeu de tarot (jeu de 78 cartes) est constitué de quatre couleurs : carreau, pique, trèfle et cœur. Pour chacune d’elles, il y a 10 cartes numérotées de 1 à 10 et 4 « têtes » : valet, cavalier, dame et roi. Il y a 21 cartes numérotées de 1 à 21 qui sont des atouts. Le « 21 » et le « 1 » sont des « bouts ». Il y a un troisième bout : « l’excus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7" descr="C:\Documents and Settings\C.Bertrand\Mes documents\IREM\images irem\petit.png"/>
          <p:cNvPicPr/>
          <p:nvPr/>
        </p:nvPicPr>
        <p:blipFill>
          <a:blip r:embed="rId1"/>
          <a:stretch/>
        </p:blipFill>
        <p:spPr>
          <a:xfrm rot="21000000">
            <a:off x="763200" y="135000"/>
            <a:ext cx="638280" cy="1187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C:\Documents and Settings\C.Bertrand\Mes documents\IREM\images irem\vingt-un.png"/>
          <p:cNvPicPr/>
          <p:nvPr/>
        </p:nvPicPr>
        <p:blipFill>
          <a:blip r:embed="rId2"/>
          <a:stretch/>
        </p:blipFill>
        <p:spPr>
          <a:xfrm rot="600000">
            <a:off x="2855520" y="48960"/>
            <a:ext cx="665280" cy="1218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C:\Documents and Settings\C.Bertrand\Mes documents\IREM\images irem\exuse.png"/>
          <p:cNvPicPr/>
          <p:nvPr/>
        </p:nvPicPr>
        <p:blipFill>
          <a:blip r:embed="rId3"/>
          <a:stretch/>
        </p:blipFill>
        <p:spPr>
          <a:xfrm rot="600000">
            <a:off x="7400880" y="47520"/>
            <a:ext cx="649440" cy="119376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2"/>
          <p:cNvSpPr/>
          <p:nvPr/>
        </p:nvSpPr>
        <p:spPr>
          <a:xfrm>
            <a:off x="500040" y="2160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oneTexte 8"/>
          <p:cNvSpPr/>
          <p:nvPr/>
        </p:nvSpPr>
        <p:spPr>
          <a:xfrm>
            <a:off x="371520" y="3171960"/>
            <a:ext cx="85010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choisit une carte au hasard dans un jeu de tar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le est la probabilité de tirer un « BOUT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ensées 9"/>
          <p:cNvSpPr/>
          <p:nvPr/>
        </p:nvSpPr>
        <p:spPr>
          <a:xfrm>
            <a:off x="0" y="3857760"/>
            <a:ext cx="9144000" cy="221436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ZoneTexte 13"/>
          <p:cNvSpPr/>
          <p:nvPr/>
        </p:nvSpPr>
        <p:spPr>
          <a:xfrm>
            <a:off x="914400" y="4172040"/>
            <a:ext cx="84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Il y a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3 bouts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dans un jeu de tar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On a donc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3 chances sur 78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de tirer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un « bout 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soit une probabilité d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Rectangle à coins arrondis 14"/>
          <p:cNvGrpSpPr/>
          <p:nvPr/>
        </p:nvGrpSpPr>
        <p:grpSpPr>
          <a:xfrm>
            <a:off x="6742080" y="5638680"/>
            <a:ext cx="2444760" cy="1189080"/>
            <a:chOff x="6742080" y="5638680"/>
            <a:chExt cx="2444760" cy="1189080"/>
          </a:xfrm>
        </p:grpSpPr>
        <p:pic>
          <p:nvPicPr>
            <p:cNvPr id="247" name="Rectangle à coins arrondis 14" descr=""/>
            <p:cNvPicPr/>
            <p:nvPr/>
          </p:nvPicPr>
          <p:blipFill>
            <a:blip r:embed="rId4"/>
            <a:stretch/>
          </p:blipFill>
          <p:spPr>
            <a:xfrm>
              <a:off x="6742080" y="5638680"/>
              <a:ext cx="24447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813720" y="5713560"/>
              <a:ext cx="196056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9" name="Object 2"/>
              <p:cNvSpPr txBox="1"/>
              <p:nvPr/>
            </p:nvSpPr>
            <p:spPr>
              <a:xfrm>
                <a:off x="6878520" y="5643720"/>
                <a:ext cx="18874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0" y="1499760"/>
            <a:ext cx="88581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70c0"/>
                </a:solidFill>
                <a:latin typeface="Arial"/>
              </a:rPr>
              <a:t>Un jeu de tarot (jeu de 78 cartes) est constitué de quatre couleurs : carreau, pique, trèfle et cœur. Pour chacune d’elles, il y a 10 cartes numérotées de 1 à 10 et 4 « têtes » : valet, cavalier, dame et roi. Il y a 21 cartes numérotées de 1 à 21 qui sont des atouts. Le « 21 » et le « 1 » sont des « bouts ». Il y a un troisième bout : « l’excus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C:\Documents and Settings\C.Bertrand\Mes documents\IREM\images irem\petit.png"/>
          <p:cNvPicPr/>
          <p:nvPr/>
        </p:nvPicPr>
        <p:blipFill>
          <a:blip r:embed="rId1"/>
          <a:stretch/>
        </p:blipFill>
        <p:spPr>
          <a:xfrm rot="21000000">
            <a:off x="763200" y="135000"/>
            <a:ext cx="638280" cy="1187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C:\Documents and Settings\C.Bertrand\Mes documents\IREM\images irem\vingt-un.png"/>
          <p:cNvPicPr/>
          <p:nvPr/>
        </p:nvPicPr>
        <p:blipFill>
          <a:blip r:embed="rId2"/>
          <a:stretch/>
        </p:blipFill>
        <p:spPr>
          <a:xfrm rot="600000">
            <a:off x="2855520" y="48960"/>
            <a:ext cx="665280" cy="1218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C:\Documents and Settings\C.Bertrand\Mes documents\IREM\images irem\exuse.png"/>
          <p:cNvPicPr/>
          <p:nvPr/>
        </p:nvPicPr>
        <p:blipFill>
          <a:blip r:embed="rId3"/>
          <a:stretch/>
        </p:blipFill>
        <p:spPr>
          <a:xfrm rot="600000">
            <a:off x="7400880" y="47520"/>
            <a:ext cx="649440" cy="11937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2"/>
          <p:cNvSpPr/>
          <p:nvPr/>
        </p:nvSpPr>
        <p:spPr>
          <a:xfrm>
            <a:off x="500040" y="216000"/>
            <a:ext cx="77724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ZoneTexte 8"/>
          <p:cNvSpPr/>
          <p:nvPr/>
        </p:nvSpPr>
        <p:spPr>
          <a:xfrm>
            <a:off x="357120" y="3214800"/>
            <a:ext cx="8501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choisit une carte au hasard dans un jeu de tar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le est la probabilité d’obtenir une «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TÊT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»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ensées 9"/>
          <p:cNvSpPr/>
          <p:nvPr/>
        </p:nvSpPr>
        <p:spPr>
          <a:xfrm>
            <a:off x="-142920" y="3857760"/>
            <a:ext cx="9215640" cy="207144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ZoneTexte 13"/>
          <p:cNvSpPr/>
          <p:nvPr/>
        </p:nvSpPr>
        <p:spPr>
          <a:xfrm>
            <a:off x="671400" y="4186080"/>
            <a:ext cx="797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Il y a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4 × 4 = 16 « têtes »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dans un jeu de tar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On a donc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16 chances sur 78 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de tirer une tê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soit une probabilité d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Rectangle à coins arrondis 14"/>
          <p:cNvGrpSpPr/>
          <p:nvPr/>
        </p:nvGrpSpPr>
        <p:grpSpPr>
          <a:xfrm>
            <a:off x="6838920" y="5626080"/>
            <a:ext cx="2328840" cy="1201680"/>
            <a:chOff x="6838920" y="5626080"/>
            <a:chExt cx="2328840" cy="1201680"/>
          </a:xfrm>
        </p:grpSpPr>
        <p:pic>
          <p:nvPicPr>
            <p:cNvPr id="259" name="Rectangle à coins arrondis 14" descr=""/>
            <p:cNvPicPr/>
            <p:nvPr/>
          </p:nvPicPr>
          <p:blipFill>
            <a:blip r:embed="rId4"/>
            <a:stretch/>
          </p:blipFill>
          <p:spPr>
            <a:xfrm>
              <a:off x="6838920" y="5626080"/>
              <a:ext cx="232884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915240" y="5700600"/>
              <a:ext cx="1857240" cy="10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6892920" y="5640480"/>
                <a:ext cx="188748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712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à coins arrondis 8"/>
          <p:cNvGrpSpPr/>
          <p:nvPr/>
        </p:nvGrpSpPr>
        <p:grpSpPr>
          <a:xfrm>
            <a:off x="6480000" y="4913280"/>
            <a:ext cx="2183040" cy="1785960"/>
            <a:chOff x="6480000" y="4913280"/>
            <a:chExt cx="2183040" cy="1785960"/>
          </a:xfrm>
        </p:grpSpPr>
        <p:pic>
          <p:nvPicPr>
            <p:cNvPr id="52" name="Rectangle à coins arrondis 8" descr=""/>
            <p:cNvPicPr/>
            <p:nvPr/>
          </p:nvPicPr>
          <p:blipFill>
            <a:blip r:embed="rId1"/>
            <a:stretch/>
          </p:blipFill>
          <p:spPr>
            <a:xfrm>
              <a:off x="6480000" y="4913280"/>
              <a:ext cx="218304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539040" y="4967280"/>
              <a:ext cx="709560" cy="13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0 : un ess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0040" y="1428480"/>
            <a:ext cx="78487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une pièce de monnaie non truqué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6643800" y="4929120"/>
                <a:ext cx="6080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Pensées 7"/>
          <p:cNvSpPr/>
          <p:nvPr/>
        </p:nvSpPr>
        <p:spPr>
          <a:xfrm>
            <a:off x="571680" y="3071880"/>
            <a:ext cx="6500520" cy="2500200"/>
          </a:xfrm>
          <a:prstGeom prst="cloudCallout">
            <a:avLst>
              <a:gd name="adj1" fmla="val -24212"/>
              <a:gd name="adj2" fmla="val 72097"/>
            </a:avLst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6"/>
          <p:cNvSpPr/>
          <p:nvPr/>
        </p:nvSpPr>
        <p:spPr>
          <a:xfrm>
            <a:off x="1285920" y="3714840"/>
            <a:ext cx="66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1 chance sur 2 d’obtenir « pile 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soit une probabilité d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9"/>
          <p:cNvSpPr/>
          <p:nvPr/>
        </p:nvSpPr>
        <p:spPr>
          <a:xfrm>
            <a:off x="500040" y="200016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« 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I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 »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28760" y="2491920"/>
            <a:ext cx="850104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nie attend son quatrième enfant. Le couple a déjà trois garç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pour que le bébé à naître soit une fille 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(On supposera l’équiprobabilité des naissanc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"/>
          <p:cNvPicPr/>
          <p:nvPr/>
        </p:nvPicPr>
        <p:blipFill>
          <a:blip r:embed="rId1"/>
          <a:srcRect l="8267" t="13999" r="19419" b="22002"/>
          <a:stretch/>
        </p:blipFill>
        <p:spPr>
          <a:xfrm>
            <a:off x="5500800" y="214200"/>
            <a:ext cx="3429000" cy="3135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400" y="3571920"/>
            <a:ext cx="807228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joueur fait tourner la roue de loterie ci-dess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e gagner 5 €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rcRect l="8267" t="13999" r="19419" b="22002"/>
          <a:stretch/>
        </p:blipFill>
        <p:spPr>
          <a:xfrm>
            <a:off x="5500800" y="214200"/>
            <a:ext cx="3429000" cy="31356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28760" y="3571920"/>
            <a:ext cx="80722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joueur fait tourner la roue de loterie ci-dess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probabilité a-t-il de gagner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85480" y="3519000"/>
            <a:ext cx="84294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simultanément deux dés non pipés de couleurs différen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pour que la somme des chiffres soit un  nombre supérieur ou égal à 12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Documents and Settings\C.Bertrand\Mes documents\IREM\images irem\des_rouge_bleu.png"/>
          <p:cNvPicPr/>
          <p:nvPr/>
        </p:nvPicPr>
        <p:blipFill>
          <a:blip r:embed="rId1"/>
          <a:stretch/>
        </p:blipFill>
        <p:spPr>
          <a:xfrm>
            <a:off x="3429000" y="1778040"/>
            <a:ext cx="2276640" cy="1324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85840" y="3429000"/>
            <a:ext cx="850104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lance simultanément deux dés non pipés de couleurs différen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pour que la somme des chiffres soit égale à 6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:\Documents and Settings\C.Bertrand\Mes documents\IREM\images irem\des_rouge_bleu.png"/>
          <p:cNvPicPr/>
          <p:nvPr/>
        </p:nvPicPr>
        <p:blipFill>
          <a:blip r:embed="rId1"/>
          <a:stretch/>
        </p:blipFill>
        <p:spPr>
          <a:xfrm>
            <a:off x="3429000" y="1765440"/>
            <a:ext cx="2276640" cy="1323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500040" y="216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21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500040" y="2518920"/>
            <a:ext cx="81439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urne opaque contient quatre boules orange numérotées de 1 à 4, trois boules violettes numérotées de 1 à 3 et deux boules vertes numérotées de 1 à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n choisit au hasard une boule dans l’u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elle est la probabilité d’obtenir une boule  portant un numéro pai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lipse 4"/>
          <p:cNvSpPr/>
          <p:nvPr/>
        </p:nvSpPr>
        <p:spPr>
          <a:xfrm>
            <a:off x="1357200" y="1857240"/>
            <a:ext cx="571680" cy="571680"/>
          </a:xfrm>
          <a:prstGeom prst="ellipse">
            <a:avLst/>
          </a:prstGeom>
          <a:solidFill>
            <a:srgbClr val="f1850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5"/>
          <p:cNvSpPr/>
          <p:nvPr/>
        </p:nvSpPr>
        <p:spPr>
          <a:xfrm>
            <a:off x="150012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llipse 6"/>
          <p:cNvSpPr/>
          <p:nvPr/>
        </p:nvSpPr>
        <p:spPr>
          <a:xfrm>
            <a:off x="2000160" y="1857240"/>
            <a:ext cx="571680" cy="571680"/>
          </a:xfrm>
          <a:prstGeom prst="ellipse">
            <a:avLst/>
          </a:prstGeom>
          <a:solidFill>
            <a:srgbClr val="f1850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llipse 7"/>
          <p:cNvSpPr/>
          <p:nvPr/>
        </p:nvSpPr>
        <p:spPr>
          <a:xfrm>
            <a:off x="2643120" y="1857240"/>
            <a:ext cx="571680" cy="571680"/>
          </a:xfrm>
          <a:prstGeom prst="ellipse">
            <a:avLst/>
          </a:prstGeom>
          <a:solidFill>
            <a:srgbClr val="f1850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8"/>
          <p:cNvSpPr/>
          <p:nvPr/>
        </p:nvSpPr>
        <p:spPr>
          <a:xfrm>
            <a:off x="21430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9"/>
          <p:cNvSpPr/>
          <p:nvPr/>
        </p:nvSpPr>
        <p:spPr>
          <a:xfrm>
            <a:off x="27860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llipse 10"/>
          <p:cNvSpPr/>
          <p:nvPr/>
        </p:nvSpPr>
        <p:spPr>
          <a:xfrm>
            <a:off x="3286080" y="1857240"/>
            <a:ext cx="571680" cy="571680"/>
          </a:xfrm>
          <a:prstGeom prst="ellipse">
            <a:avLst/>
          </a:prstGeom>
          <a:solidFill>
            <a:srgbClr val="f1850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llipse 11"/>
          <p:cNvSpPr/>
          <p:nvPr/>
        </p:nvSpPr>
        <p:spPr>
          <a:xfrm>
            <a:off x="4071960" y="1857240"/>
            <a:ext cx="57132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llipse 12"/>
          <p:cNvSpPr/>
          <p:nvPr/>
        </p:nvSpPr>
        <p:spPr>
          <a:xfrm>
            <a:off x="4714920" y="1857240"/>
            <a:ext cx="57132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Ellipse 13"/>
          <p:cNvSpPr/>
          <p:nvPr/>
        </p:nvSpPr>
        <p:spPr>
          <a:xfrm>
            <a:off x="6143760" y="1857240"/>
            <a:ext cx="571320" cy="571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llipse 14"/>
          <p:cNvSpPr/>
          <p:nvPr/>
        </p:nvSpPr>
        <p:spPr>
          <a:xfrm>
            <a:off x="5357880" y="1857240"/>
            <a:ext cx="571320" cy="57168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5"/>
          <p:cNvSpPr/>
          <p:nvPr/>
        </p:nvSpPr>
        <p:spPr>
          <a:xfrm>
            <a:off x="342900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16"/>
          <p:cNvSpPr/>
          <p:nvPr/>
        </p:nvSpPr>
        <p:spPr>
          <a:xfrm>
            <a:off x="42148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17"/>
          <p:cNvSpPr/>
          <p:nvPr/>
        </p:nvSpPr>
        <p:spPr>
          <a:xfrm>
            <a:off x="485784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18"/>
          <p:cNvSpPr/>
          <p:nvPr/>
        </p:nvSpPr>
        <p:spPr>
          <a:xfrm>
            <a:off x="550080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9"/>
          <p:cNvSpPr/>
          <p:nvPr/>
        </p:nvSpPr>
        <p:spPr>
          <a:xfrm>
            <a:off x="6286680" y="19288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llipse 21"/>
          <p:cNvSpPr/>
          <p:nvPr/>
        </p:nvSpPr>
        <p:spPr>
          <a:xfrm>
            <a:off x="6786720" y="1857240"/>
            <a:ext cx="571320" cy="571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22"/>
          <p:cNvSpPr/>
          <p:nvPr/>
        </p:nvSpPr>
        <p:spPr>
          <a:xfrm>
            <a:off x="6929280" y="1928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22:51:51Z</dcterms:created>
  <dc:creator>Claudine Bertrand-Gorge</dc:creator>
  <dc:description/>
  <dc:language>en-US</dc:language>
  <cp:lastModifiedBy>Marionseg</cp:lastModifiedBy>
  <dcterms:modified xsi:type="dcterms:W3CDTF">2010-01-09T21:13:31Z</dcterms:modified>
  <cp:revision>86</cp:revision>
  <dc:subject/>
  <dc:title>N° 1</dc:title>
</cp:coreProperties>
</file>