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15460-2E5D-4703-A7FD-87A5D88CCA8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1DD91-EEF4-4317-B918-26ECC084706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EC1FE-7427-4F06-9EB2-67920CB46DD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C5C08-1344-485F-89DB-C1DA2E92D4C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9637E-5778-4911-A10D-7FA3C3E5E43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53DF1-B349-4197-AFD2-CB7EE22148B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CCABF-AB1E-461C-9420-4B1D5141204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AE2C7-F9D2-4153-A7A9-19E14B65C0D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58FD5-1D80-4EB4-8564-1BF640A069E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80F1F-7FFC-430B-AF9B-0A259A99A92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84B15-D5D3-4A26-B501-28FE5357A98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A9D8E-E14D-4504-B83F-0B23616ECD3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7043-33CE-4DF2-89E8-B00474EC8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1181-5528-405F-A9D4-15D5B597C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0C94-868D-435D-AE93-DE6B8C866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08CF-9014-4009-A6F2-C467912F8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0113C-85F1-43B4-93A1-13FBBA032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AFB2C-2614-4F85-A9D9-8EA841425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0E4F5-69A4-4012-9964-FF88DA6AD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32299-0CCB-4DD3-8823-56A7D7627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CCCF2-1F21-46A4-BFBC-A36142416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4BA1F-5ED3-4050-B63B-4C0795456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8556D-9DBA-439F-B4B5-A3A2D674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84B3-4295-4B99-8F9E-2F874073E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E51F5-19A3-489F-85C3-DF1C94C36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66D0E-A851-400F-9379-245034209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80BE5-3C2A-4036-84CE-58532F4DB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887E0-EE56-4B10-9480-C0CB91426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04145-EBBB-436A-A587-660E40741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2363-279F-4CD2-B9BF-984032F88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0509-52FC-485A-ACFD-C02617B1E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8071-623F-4E2E-9C67-AF7C4DFA0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A098-02BA-418E-97FB-7492ADBEB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D133-D6B3-401D-B85F-92017401A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DAB0-F68C-4939-9B93-FDE19012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661A-4515-45F4-BE00-1D02A30C7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3505320" y="188640"/>
            <a:ext cx="2133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3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DC2F1-0246-4E99-AE5C-D6AD05D6E852}" type="slidenum"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7"/>
          <p:cNvSpPr/>
          <p:nvPr/>
        </p:nvSpPr>
        <p:spPr>
          <a:xfrm>
            <a:off x="4557600" y="1052640"/>
            <a:ext cx="28800" cy="580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7"/>
          <p:cNvSpPr/>
          <p:nvPr/>
        </p:nvSpPr>
        <p:spPr>
          <a:xfrm>
            <a:off x="468360" y="2349360"/>
            <a:ext cx="3743280" cy="215928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8"/>
          <p:cNvSpPr/>
          <p:nvPr/>
        </p:nvSpPr>
        <p:spPr>
          <a:xfrm>
            <a:off x="4932360" y="2349360"/>
            <a:ext cx="3743280" cy="2159280"/>
          </a:xfrm>
          <a:prstGeom prst="rect">
            <a:avLst/>
          </a:prstGeom>
          <a:noFill/>
          <a:ln w="63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26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29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566CE-19CA-475D-B96D-4BCEAE4F71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RACINES CARR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É</a:t>
            </a:r>
            <a:r>
              <a:rPr b="1" lang="fr-FR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ES (1) </a:t>
            </a:r>
            <a:br>
              <a:rPr sz="6000"/>
            </a:br>
            <a:r>
              <a:rPr b="1" lang="fr-FR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SÉRIES N°2 ET 2BI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9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10"/>
              <p:cNvSpPr txBox="1"/>
              <p:nvPr/>
            </p:nvSpPr>
            <p:spPr>
              <a:xfrm>
                <a:off x="4464000" y="3193920"/>
                <a:ext cx="21600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46" name="Rectangle 12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4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11"/>
              <p:cNvSpPr txBox="1"/>
              <p:nvPr/>
            </p:nvSpPr>
            <p:spPr>
              <a:xfrm>
                <a:off x="1438200" y="2338560"/>
                <a:ext cx="1446120" cy="22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10"/>
              <p:cNvSpPr txBox="1"/>
              <p:nvPr/>
            </p:nvSpPr>
            <p:spPr>
              <a:xfrm>
                <a:off x="5824440" y="2338560"/>
                <a:ext cx="175104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10"/>
              <p:cNvSpPr txBox="1"/>
              <p:nvPr/>
            </p:nvSpPr>
            <p:spPr>
              <a:xfrm>
                <a:off x="4464000" y="3193920"/>
                <a:ext cx="21600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53" name="Rectangle 12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11"/>
              <p:cNvSpPr txBox="1"/>
              <p:nvPr/>
            </p:nvSpPr>
            <p:spPr>
              <a:xfrm>
                <a:off x="830160" y="2473200"/>
                <a:ext cx="2739960" cy="18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8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13"/>
              <p:cNvSpPr txBox="1"/>
              <p:nvPr/>
            </p:nvSpPr>
            <p:spPr>
              <a:xfrm>
                <a:off x="5380200" y="2523960"/>
                <a:ext cx="2738160" cy="182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9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10"/>
              <p:cNvSpPr txBox="1"/>
              <p:nvPr/>
            </p:nvSpPr>
            <p:spPr>
              <a:xfrm>
                <a:off x="4464000" y="3193920"/>
                <a:ext cx="21600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0" name="Rectangle 12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4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11"/>
              <p:cNvSpPr txBox="1"/>
              <p:nvPr/>
            </p:nvSpPr>
            <p:spPr>
              <a:xfrm>
                <a:off x="1324080" y="2300400"/>
                <a:ext cx="167472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10"/>
              <p:cNvSpPr txBox="1"/>
              <p:nvPr/>
            </p:nvSpPr>
            <p:spPr>
              <a:xfrm>
                <a:off x="5786280" y="2338560"/>
                <a:ext cx="182736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  <a:ea typeface="Times New Roman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166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Bouton d'action : Retour 4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Écrire </a:t>
            </a:r>
            <a:r>
              <a:rPr b="0" i="1" lang="fr-FR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sous</a:t>
            </a:r>
            <a:r>
              <a:rPr b="0" i="1" lang="en-US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fr-FR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forme</a:t>
            </a:r>
            <a:r>
              <a:rPr b="0" i="1" lang="en-US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 aussi simple que possible.</a:t>
            </a:r>
            <a:r>
              <a:rPr b="0" i="1" lang="fr-FR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10"/>
              <p:cNvSpPr txBox="1"/>
              <p:nvPr/>
            </p:nvSpPr>
            <p:spPr>
              <a:xfrm>
                <a:off x="4464000" y="3193920"/>
                <a:ext cx="21600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7" name="Rectangle 12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11"/>
              <p:cNvSpPr txBox="1"/>
              <p:nvPr/>
            </p:nvSpPr>
            <p:spPr>
              <a:xfrm>
                <a:off x="1438200" y="2662200"/>
                <a:ext cx="1604880" cy="16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99" name="Rectangle 14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13"/>
              <p:cNvSpPr txBox="1"/>
              <p:nvPr/>
            </p:nvSpPr>
            <p:spPr>
              <a:xfrm>
                <a:off x="5987880" y="2676600"/>
                <a:ext cx="1521000" cy="15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10"/>
              <p:cNvSpPr txBox="1"/>
              <p:nvPr/>
            </p:nvSpPr>
            <p:spPr>
              <a:xfrm>
                <a:off x="4464000" y="3193920"/>
                <a:ext cx="21600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04" name="Rectangle 12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11"/>
              <p:cNvSpPr txBox="1"/>
              <p:nvPr/>
            </p:nvSpPr>
            <p:spPr>
              <a:xfrm>
                <a:off x="1438200" y="2625840"/>
                <a:ext cx="171612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06" name="Rectangle 14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13"/>
              <p:cNvSpPr txBox="1"/>
              <p:nvPr/>
            </p:nvSpPr>
            <p:spPr>
              <a:xfrm>
                <a:off x="5937120" y="2625840"/>
                <a:ext cx="1622520" cy="16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10"/>
              <p:cNvSpPr txBox="1"/>
              <p:nvPr/>
            </p:nvSpPr>
            <p:spPr>
              <a:xfrm>
                <a:off x="4464000" y="3193920"/>
                <a:ext cx="21600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1" name="Rectangle 12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11"/>
              <p:cNvSpPr txBox="1"/>
              <p:nvPr/>
            </p:nvSpPr>
            <p:spPr>
              <a:xfrm>
                <a:off x="1438200" y="2625840"/>
                <a:ext cx="1522440" cy="15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13" name="Rectangle 14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13"/>
              <p:cNvSpPr txBox="1"/>
              <p:nvPr/>
            </p:nvSpPr>
            <p:spPr>
              <a:xfrm>
                <a:off x="5937120" y="2625840"/>
                <a:ext cx="1622520" cy="16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10"/>
              <p:cNvSpPr txBox="1"/>
              <p:nvPr/>
            </p:nvSpPr>
            <p:spPr>
              <a:xfrm>
                <a:off x="4464000" y="3193920"/>
                <a:ext cx="21600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8" name="Rectangle 12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11"/>
              <p:cNvSpPr txBox="1"/>
              <p:nvPr/>
            </p:nvSpPr>
            <p:spPr>
              <a:xfrm>
                <a:off x="1387440" y="2575080"/>
                <a:ext cx="1623960" cy="16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8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13"/>
              <p:cNvSpPr txBox="1"/>
              <p:nvPr/>
            </p:nvSpPr>
            <p:spPr>
              <a:xfrm>
                <a:off x="5734080" y="2625840"/>
                <a:ext cx="2028960" cy="16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10"/>
              <p:cNvSpPr txBox="1"/>
              <p:nvPr/>
            </p:nvSpPr>
            <p:spPr>
              <a:xfrm>
                <a:off x="4464000" y="3193920"/>
                <a:ext cx="21600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5" name="Rectangle 12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11"/>
              <p:cNvSpPr txBox="1"/>
              <p:nvPr/>
            </p:nvSpPr>
            <p:spPr>
              <a:xfrm>
                <a:off x="879480" y="2473200"/>
                <a:ext cx="2639880" cy="18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13"/>
              <p:cNvSpPr txBox="1"/>
              <p:nvPr/>
            </p:nvSpPr>
            <p:spPr>
              <a:xfrm>
                <a:off x="5430960" y="2523960"/>
                <a:ext cx="2635200" cy="182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9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10"/>
              <p:cNvSpPr txBox="1"/>
              <p:nvPr/>
            </p:nvSpPr>
            <p:spPr>
              <a:xfrm>
                <a:off x="4464000" y="3193920"/>
                <a:ext cx="21600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2" name="Rectangle 12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4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11"/>
              <p:cNvSpPr txBox="1"/>
              <p:nvPr/>
            </p:nvSpPr>
            <p:spPr>
              <a:xfrm>
                <a:off x="423720" y="2371680"/>
                <a:ext cx="3552840" cy="20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13"/>
              <p:cNvSpPr txBox="1"/>
              <p:nvPr/>
            </p:nvSpPr>
            <p:spPr>
              <a:xfrm>
                <a:off x="4973760" y="2424240"/>
                <a:ext cx="3549600" cy="20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10"/>
              <p:cNvSpPr txBox="1"/>
              <p:nvPr/>
            </p:nvSpPr>
            <p:spPr>
              <a:xfrm>
                <a:off x="4464000" y="3193920"/>
                <a:ext cx="21600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9" name="Rectangle 12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4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11"/>
              <p:cNvSpPr txBox="1"/>
              <p:nvPr/>
            </p:nvSpPr>
            <p:spPr>
              <a:xfrm>
                <a:off x="460440" y="2575080"/>
                <a:ext cx="3754440" cy="16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8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Object 13"/>
              <p:cNvSpPr txBox="1"/>
              <p:nvPr/>
            </p:nvSpPr>
            <p:spPr>
              <a:xfrm>
                <a:off x="4714920" y="2625840"/>
                <a:ext cx="4157640" cy="16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1T18:18:55Z</dcterms:created>
  <dc:creator>.</dc:creator>
  <dc:description/>
  <dc:language>en-US</dc:language>
  <cp:lastModifiedBy>Marionseg</cp:lastModifiedBy>
  <dcterms:modified xsi:type="dcterms:W3CDTF">2010-01-22T16:49:18Z</dcterms:modified>
  <cp:revision>25</cp:revision>
  <dc:subject/>
  <dc:title>Diapositive 1</dc:title>
</cp:coreProperties>
</file>