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7887-B645-43B9-840C-9DE6E3A879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666A-B292-4930-B9EB-781384E689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AFC1-DEF4-43F1-9C0B-A28F699275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63D6-FAC8-4407-90C0-C7E2D7A7DC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56D9-334F-456B-A7BE-B65A2C056D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DF5E-96E7-4C1B-9D41-3D868F1DF5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A606-C243-4319-94C8-077F218894A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E588-5158-4EAA-B33A-ED704950BE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CED-8006-41A0-A9DA-5974EE8004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39AF-D2E9-4466-B5C7-55891582358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03DD-B80E-4250-BA02-10619B06C7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AAC3-C8D7-4BBC-A2BD-4416C97669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329D-57D9-46C2-8AAB-CD416828DD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4964-2769-4B42-A8AB-7142741A46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49C-448F-4977-A40E-18FFBB7E0F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A7BC-FDE1-4C82-ACBC-BCE57F3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51E-111F-44AA-9DF6-5CD791DE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9A7D-9024-4D64-8189-DFE773AA8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5ED-EC0D-48C9-9738-7A0793FA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C73F-A866-414F-856C-76427BA1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E61-57C0-4D87-B351-F22A05F3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E3B0-43D4-472A-BB03-BFC4B359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1343-4382-4B9D-AA7F-8BE8161C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881-62B8-4799-98F0-947BEED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13B-550A-4E64-8424-D1535D2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296E-FB6D-4D2A-9B3D-7C88DFD6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B99-CBC9-4A7B-A7B9-F2D06807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B525-A494-4BA3-9A18-C4A4D9AE90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S DE CALCULS (1)</a:t>
            </a:r>
            <a:br>
              <a:rPr sz="7200"/>
            </a:br>
            <a:r>
              <a:rPr b="1" lang="fr-FR" sz="54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8"/>
          <p:cNvSpPr/>
          <p:nvPr/>
        </p:nvSpPr>
        <p:spPr>
          <a:xfrm>
            <a:off x="307188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Calculer le carré du résul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4214880" y="928800"/>
                <a:ext cx="19969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3959280" y="785880"/>
                <a:ext cx="28987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214880" y="114300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278604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Retranch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Calculer le quart du résul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4284720" y="214200"/>
                <a:ext cx="151128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214880" y="217440"/>
                <a:ext cx="16524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4251240" y="42876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2357280" y="214200"/>
            <a:ext cx="442944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dou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929040" y="892080"/>
                <a:ext cx="1033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3700440" y="754200"/>
                <a:ext cx="1800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313160" y="109872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57184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dixiè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e retrancher à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4756320" y="214200"/>
                <a:ext cx="11016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3373560" y="217440"/>
                <a:ext cx="241272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4956120" y="45576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900" spc="-1" strike="noStrike">
                <a:solidFill>
                  <a:srgbClr val="000000"/>
                </a:solidFill>
                <a:latin typeface="Arial"/>
                <a:ea typeface="Arial"/>
              </a:rPr>
              <a:t>Le nombre de départ étan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4900" spc="-1" strike="noStrike">
                <a:solidFill>
                  <a:srgbClr val="000000"/>
                </a:solidFill>
                <a:latin typeface="Arial"/>
                <a:ea typeface="Arial"/>
              </a:rPr>
              <a:t>, exprimer le résultat final de chaque programme de calculs en fonction de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49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e ce n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Multiplier pa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Calculer le carré du résul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Retranch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Calibri"/>
              </a:rPr>
              <a:t>Calculer le quart du résult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doub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dixiè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e retrancher à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8"/>
          <p:cNvSpPr/>
          <p:nvPr/>
        </p:nvSpPr>
        <p:spPr>
          <a:xfrm>
            <a:off x="2357280" y="214200"/>
            <a:ext cx="442944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27340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3"/>
          <p:cNvSpPr/>
          <p:nvPr/>
        </p:nvSpPr>
        <p:spPr>
          <a:xfrm>
            <a:off x="214200" y="342900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e ce n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3"/>
          <p:cNvSpPr/>
          <p:nvPr/>
        </p:nvSpPr>
        <p:spPr>
          <a:xfrm>
            <a:off x="214200" y="4572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Multiplier par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322880" y="754200"/>
                <a:ext cx="9633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3632040" y="754200"/>
                <a:ext cx="16542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313160" y="109872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3:38:56Z</dcterms:created>
  <dc:creator>Marionseg</dc:creator>
  <dc:description/>
  <dc:language>en-US</dc:language>
  <cp:lastModifiedBy>Marionseg</cp:lastModifiedBy>
  <dcterms:modified xsi:type="dcterms:W3CDTF">2010-01-22T17:00:50Z</dcterms:modified>
  <cp:revision>6</cp:revision>
  <dc:subject/>
  <dc:title>Programmes de calculs (1) Série n°2</dc:title>
</cp:coreProperties>
</file>