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1CBC-4B91-4110-8C40-39D92ABB0F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56B8-5083-4A1B-AAC1-ECAAB98AD8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4F0E-A5C2-4531-BBF3-EEBC1C89DB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55AD-37B3-470E-AEBB-37DD220DFA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DA9C-677C-4EBA-83CB-DB4273C99BA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63CD-2E33-41C4-897D-60D9414562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9D6F-79E4-4764-A381-8872547052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582A-BAAC-48A6-8E7B-E5A29E96FAC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BD4C7-712C-49E8-9A03-AB61DB1E55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BA85-7E28-416C-A944-C10C295552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E6BC-2266-4E0E-B8DE-B3664C486F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B86E-E9FF-4E14-BF97-8CCA42447AB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EDE1-AF24-4326-9CA2-046C5B6F16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B228-2ADB-4F40-B2D8-8AC2CF8B63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40C-A510-4B37-B896-6C4703C579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D47D-7E9F-4C95-A453-9E7337B79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FD9C-B50A-4FF3-B943-8907377B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FE9-B875-4C12-AC68-44D3C1883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AEC-9D84-4E66-B37B-405C4BD5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042B-36F6-47A5-B8EC-0A95AA0A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E93-4C91-469B-8913-7E4BF84F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62A8-1470-4CAD-BCCA-1C069FFD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C5B-BCBE-4B9B-9BD5-283BFCA09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307-FD1E-4B7C-88CE-4FEF0B4E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775-E792-4CE7-9E77-C10D6459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BF3-7D2B-4267-A3EF-2E88EF5B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023-6F6C-45EB-839E-47F858AC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15A5-F596-4482-9845-213CDE2DEF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S DE CALCULS (2)</a:t>
            </a:r>
            <a:br>
              <a:rPr sz="80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"/>
          <p:cNvSpPr/>
          <p:nvPr/>
        </p:nvSpPr>
        <p:spPr>
          <a:xfrm>
            <a:off x="2643120" y="71280"/>
            <a:ext cx="4429080" cy="19288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184464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3"/>
          <p:cNvSpPr/>
          <p:nvPr/>
        </p:nvSpPr>
        <p:spPr>
          <a:xfrm>
            <a:off x="214200" y="314316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alculer la moitié de ce nomb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3"/>
          <p:cNvSpPr/>
          <p:nvPr/>
        </p:nvSpPr>
        <p:spPr>
          <a:xfrm>
            <a:off x="214200" y="450072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jouter le carré du nombre cho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tre 3"/>
          <p:cNvSpPr/>
          <p:nvPr/>
        </p:nvSpPr>
        <p:spPr>
          <a:xfrm>
            <a:off x="214200" y="5715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oubler le résultat obte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3849840" y="73080"/>
                <a:ext cx="2158920" cy="19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3857760" y="71280"/>
                <a:ext cx="75708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929040" y="28584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3143160" y="0"/>
                <a:ext cx="328608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"/>
          <p:cNvSpPr/>
          <p:nvPr/>
        </p:nvSpPr>
        <p:spPr>
          <a:xfrm>
            <a:off x="2786040" y="0"/>
            <a:ext cx="4429080" cy="1285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127332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3"/>
          <p:cNvSpPr/>
          <p:nvPr/>
        </p:nvSpPr>
        <p:spPr>
          <a:xfrm>
            <a:off x="214200" y="221472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e retrancher à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3"/>
          <p:cNvSpPr/>
          <p:nvPr/>
        </p:nvSpPr>
        <p:spPr>
          <a:xfrm>
            <a:off x="214200" y="3500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Multiplier la différence obtenue par le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itre 3"/>
          <p:cNvSpPr/>
          <p:nvPr/>
        </p:nvSpPr>
        <p:spPr>
          <a:xfrm>
            <a:off x="214200" y="500076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4 à ce prod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2"/>
              <p:cNvSpPr txBox="1"/>
              <p:nvPr/>
            </p:nvSpPr>
            <p:spPr>
              <a:xfrm>
                <a:off x="3071880" y="252360"/>
                <a:ext cx="278604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3"/>
              <p:cNvSpPr txBox="1"/>
              <p:nvPr/>
            </p:nvSpPr>
            <p:spPr>
              <a:xfrm>
                <a:off x="3786120" y="247680"/>
                <a:ext cx="1785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4"/>
              <p:cNvSpPr txBox="1"/>
              <p:nvPr/>
            </p:nvSpPr>
            <p:spPr>
              <a:xfrm>
                <a:off x="4857840" y="45576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5"/>
              <p:cNvSpPr txBox="1"/>
              <p:nvPr/>
            </p:nvSpPr>
            <p:spPr>
              <a:xfrm>
                <a:off x="3071880" y="252360"/>
                <a:ext cx="40179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2786040" y="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4200" y="177336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3"/>
          <p:cNvSpPr/>
          <p:nvPr/>
        </p:nvSpPr>
        <p:spPr>
          <a:xfrm>
            <a:off x="214200" y="257184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ti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3"/>
          <p:cNvSpPr/>
          <p:nvPr/>
        </p:nvSpPr>
        <p:spPr>
          <a:xfrm>
            <a:off x="214200" y="371484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ube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tre 3"/>
          <p:cNvSpPr/>
          <p:nvPr/>
        </p:nvSpPr>
        <p:spPr>
          <a:xfrm>
            <a:off x="214200" y="492912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le triple du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2"/>
              <p:cNvSpPr txBox="1"/>
              <p:nvPr/>
            </p:nvSpPr>
            <p:spPr>
              <a:xfrm>
                <a:off x="3214800" y="-71280"/>
                <a:ext cx="192888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3"/>
              <p:cNvSpPr txBox="1"/>
              <p:nvPr/>
            </p:nvSpPr>
            <p:spPr>
              <a:xfrm>
                <a:off x="3575160" y="142920"/>
                <a:ext cx="85392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4"/>
              <p:cNvSpPr txBox="1"/>
              <p:nvPr/>
            </p:nvSpPr>
            <p:spPr>
              <a:xfrm>
                <a:off x="3670200" y="35712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6"/>
              <p:cNvSpPr txBox="1"/>
              <p:nvPr/>
            </p:nvSpPr>
            <p:spPr>
              <a:xfrm>
                <a:off x="3218040" y="-71280"/>
                <a:ext cx="3568680" cy="22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"/>
          <p:cNvSpPr/>
          <p:nvPr/>
        </p:nvSpPr>
        <p:spPr>
          <a:xfrm>
            <a:off x="3214800" y="0"/>
            <a:ext cx="4429080" cy="1285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200" y="134460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re 3"/>
          <p:cNvSpPr/>
          <p:nvPr/>
        </p:nvSpPr>
        <p:spPr>
          <a:xfrm>
            <a:off x="214200" y="221472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Retranch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re 3"/>
          <p:cNvSpPr/>
          <p:nvPr/>
        </p:nvSpPr>
        <p:spPr>
          <a:xfrm>
            <a:off x="214200" y="3500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e cette diffé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tre 3"/>
          <p:cNvSpPr/>
          <p:nvPr/>
        </p:nvSpPr>
        <p:spPr>
          <a:xfrm>
            <a:off x="214200" y="5143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Prendre 10 % du résultat obte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3286080" y="114480"/>
                <a:ext cx="263052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3286080" y="114480"/>
                <a:ext cx="434808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0,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3571920" y="45576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3571920" y="247680"/>
                <a:ext cx="17143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Le nombre de départ étan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, exprimer le résultat final de chaque programme de calculs en fonction de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113040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3"/>
          <p:cNvSpPr/>
          <p:nvPr/>
        </p:nvSpPr>
        <p:spPr>
          <a:xfrm>
            <a:off x="214200" y="200016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3"/>
          <p:cNvSpPr/>
          <p:nvPr/>
        </p:nvSpPr>
        <p:spPr>
          <a:xfrm>
            <a:off x="214200" y="300024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3"/>
          <p:cNvSpPr/>
          <p:nvPr/>
        </p:nvSpPr>
        <p:spPr>
          <a:xfrm>
            <a:off x="214200" y="435780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ui soustraire le carré du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3"/>
          <p:cNvSpPr/>
          <p:nvPr/>
        </p:nvSpPr>
        <p:spPr>
          <a:xfrm>
            <a:off x="214200" y="228600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a moitié de ce nomb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3"/>
          <p:cNvSpPr/>
          <p:nvPr/>
        </p:nvSpPr>
        <p:spPr>
          <a:xfrm>
            <a:off x="214200" y="385776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le carré du nombre chois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3"/>
          <p:cNvSpPr/>
          <p:nvPr/>
        </p:nvSpPr>
        <p:spPr>
          <a:xfrm>
            <a:off x="214200" y="53578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Doubler le résultat obte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e retrancher à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3"/>
          <p:cNvSpPr/>
          <p:nvPr/>
        </p:nvSpPr>
        <p:spPr>
          <a:xfrm>
            <a:off x="214200" y="357192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Multiplier la différence obtenue par le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3"/>
          <p:cNvSpPr/>
          <p:nvPr/>
        </p:nvSpPr>
        <p:spPr>
          <a:xfrm>
            <a:off x="214200" y="5143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4 à ce produi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3"/>
          <p:cNvSpPr/>
          <p:nvPr/>
        </p:nvSpPr>
        <p:spPr>
          <a:xfrm>
            <a:off x="214200" y="185724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son ti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3"/>
          <p:cNvSpPr/>
          <p:nvPr/>
        </p:nvSpPr>
        <p:spPr>
          <a:xfrm>
            <a:off x="214200" y="2857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ube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3"/>
          <p:cNvSpPr/>
          <p:nvPr/>
        </p:nvSpPr>
        <p:spPr>
          <a:xfrm>
            <a:off x="214200" y="42148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le triple du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Retranch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3"/>
          <p:cNvSpPr/>
          <p:nvPr/>
        </p:nvSpPr>
        <p:spPr>
          <a:xfrm>
            <a:off x="214200" y="3429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e cette diffé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3"/>
          <p:cNvSpPr/>
          <p:nvPr/>
        </p:nvSpPr>
        <p:spPr>
          <a:xfrm>
            <a:off x="214200" y="521496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Prendre 10 % du résultat obten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"/>
          <p:cNvSpPr/>
          <p:nvPr/>
        </p:nvSpPr>
        <p:spPr>
          <a:xfrm>
            <a:off x="3357720" y="71280"/>
            <a:ext cx="4429080" cy="121464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01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3"/>
          <p:cNvSpPr/>
          <p:nvPr/>
        </p:nvSpPr>
        <p:spPr>
          <a:xfrm>
            <a:off x="214200" y="207180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Ajouter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3"/>
          <p:cNvSpPr/>
          <p:nvPr/>
        </p:nvSpPr>
        <p:spPr>
          <a:xfrm>
            <a:off x="214200" y="30718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Calculer le carré du résulta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Lui soustraire le carré du nombre choisi au dépar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3"/>
          <p:cNvSpPr/>
          <p:nvPr/>
        </p:nvSpPr>
        <p:spPr>
          <a:xfrm>
            <a:off x="4429080" y="1785960"/>
            <a:ext cx="27147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3714840" y="142920"/>
                <a:ext cx="242892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3922560" y="285840"/>
                <a:ext cx="17211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3929040" y="50004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5"/>
              <p:cNvSpPr txBox="1"/>
              <p:nvPr/>
            </p:nvSpPr>
            <p:spPr>
              <a:xfrm>
                <a:off x="3716280" y="142920"/>
                <a:ext cx="3855960" cy="11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7:05:01Z</dcterms:modified>
  <cp:revision>47</cp:revision>
  <dc:subject/>
  <dc:title>Vocabulaire et calcul mental</dc:title>
</cp:coreProperties>
</file>