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6B64-6A2D-445C-B458-1C3C92E51F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CB08-4638-4B28-BCC2-CC30F62819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ED73-B783-41FE-BA34-554431B580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1D04-BFE7-4CE1-BA65-5A5126908C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2FF5-D5B9-44CD-B167-7EDA0A614F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9394-E956-44A1-878F-8CC378C1F3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375A-5D1B-4378-A195-0450715665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4638-1A3C-4507-8016-574863661D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6DA0-1EF8-48C5-9ABC-DE08D9564E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13F2-9154-43F2-820D-952F6F1639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6624-763D-4216-9BD5-5CC73DD6B2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C0DB-A14D-44AB-BD47-D4D84E6695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D92C-209F-4956-8C9A-46BDED56B8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234E-DF23-4C15-A2AF-25406C49E8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65D8-074C-4A3F-8694-56E3A56646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04EB-6336-44B5-93DA-7DFBAF9C93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A139-3230-4BFC-A592-2BA6B277BB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875E-E318-4C14-8BC5-5BF7934BFB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DADC-3FCA-4767-8F94-60FBD1360E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9C2E-3ABF-40CB-B651-6691C71D49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65E3-3A2C-46AF-A776-9FD7EE6984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87B7-0B43-4319-8D52-0BF798950E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350A-6195-4D56-8A6C-3F616091BE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B470-17CC-4DA3-8428-325ADBF8BC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0D65-8ABB-40B3-AA47-E39A05E9D2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6917-1869-4D9A-8CFA-AEAA10F2AC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3AC5-13D0-4142-B17F-232BC165F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042A-930B-427E-9F40-05EAAFE1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2098-4C8C-4AA7-96B9-13196AA9D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CD2-23E7-4888-AF6C-7163A70B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0644-3E75-4CF4-AF07-D0805FF3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0B90-DD58-48CF-B5D6-E1A07937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D614-95E0-4076-8CD4-B278DEAA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218F-1A27-49D7-AE91-D0C3FA51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0575-CE6B-4545-AFA4-76423233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873-C811-4BDD-B3A8-169AD575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583-C27B-4B8B-89E3-C5898F4B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3B3-8A44-4940-8EC7-A201D3FC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5CE1-E524-4910-9E1B-56E6D42E3F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FORME DÉVELOPPÉE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FORME FACTORISÉE (3)</a:t>
            </a:r>
            <a:br>
              <a:rPr sz="6000"/>
            </a:b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-98280" y="925560"/>
                <a:ext cx="80341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3"/>
              <p:cNvSpPr txBox="1"/>
              <p:nvPr/>
            </p:nvSpPr>
            <p:spPr>
              <a:xfrm>
                <a:off x="-123840" y="1992240"/>
                <a:ext cx="913464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-85680" y="3913200"/>
                <a:ext cx="8613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2478240" y="5203800"/>
                <a:ext cx="34477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2"/>
              <p:cNvSpPr txBox="1"/>
              <p:nvPr/>
            </p:nvSpPr>
            <p:spPr>
              <a:xfrm>
                <a:off x="-112680" y="995400"/>
                <a:ext cx="86900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-71280" y="3500280"/>
                <a:ext cx="69912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-95400" y="2214720"/>
                <a:ext cx="882360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5"/>
              <p:cNvSpPr txBox="1"/>
              <p:nvPr/>
            </p:nvSpPr>
            <p:spPr>
              <a:xfrm>
                <a:off x="2637000" y="5000760"/>
                <a:ext cx="40068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428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3"/>
              <p:cNvSpPr txBox="1"/>
              <p:nvPr/>
            </p:nvSpPr>
            <p:spPr>
              <a:xfrm>
                <a:off x="-71280" y="3500280"/>
                <a:ext cx="69912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-95400" y="2214720"/>
                <a:ext cx="882360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2922480" y="5095800"/>
                <a:ext cx="34340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2"/>
              <p:cNvSpPr txBox="1"/>
              <p:nvPr/>
            </p:nvSpPr>
            <p:spPr>
              <a:xfrm>
                <a:off x="-112680" y="995400"/>
                <a:ext cx="86900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Voici une proposition de correction en utilisant la forme la plus adaptée à chaque calcu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5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 </a:t>
            </a:r>
            <a:r>
              <a:rPr b="1" i="1" lang="fr-FR" sz="6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1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0" y="1042920"/>
                <a:ext cx="8715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3"/>
              <p:cNvSpPr txBox="1"/>
              <p:nvPr/>
            </p:nvSpPr>
            <p:spPr>
              <a:xfrm>
                <a:off x="71280" y="3548160"/>
                <a:ext cx="81853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-28440" y="2257560"/>
                <a:ext cx="82454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5"/>
              <p:cNvSpPr txBox="1"/>
              <p:nvPr/>
            </p:nvSpPr>
            <p:spPr>
              <a:xfrm>
                <a:off x="4786200" y="4932360"/>
                <a:ext cx="20005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0" y="1042920"/>
                <a:ext cx="8715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3"/>
              <p:cNvSpPr txBox="1"/>
              <p:nvPr/>
            </p:nvSpPr>
            <p:spPr>
              <a:xfrm>
                <a:off x="71280" y="3548160"/>
                <a:ext cx="81853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-73080" y="2257560"/>
                <a:ext cx="82472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8" name="ZoneTexte 9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4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5"/>
              <p:cNvSpPr txBox="1"/>
              <p:nvPr/>
            </p:nvSpPr>
            <p:spPr>
              <a:xfrm>
                <a:off x="4359240" y="4932360"/>
                <a:ext cx="2357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-50760" y="1046160"/>
                <a:ext cx="89946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-71280" y="3500280"/>
                <a:ext cx="83073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-95400" y="2214720"/>
                <a:ext cx="728676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7" name="ZoneTexte 9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0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5"/>
              <p:cNvSpPr txBox="1"/>
              <p:nvPr/>
            </p:nvSpPr>
            <p:spPr>
              <a:xfrm>
                <a:off x="4537080" y="4932360"/>
                <a:ext cx="200016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-50760" y="1046160"/>
                <a:ext cx="89946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3"/>
              <p:cNvSpPr txBox="1"/>
              <p:nvPr/>
            </p:nvSpPr>
            <p:spPr>
              <a:xfrm>
                <a:off x="-71280" y="3500280"/>
                <a:ext cx="83073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-95400" y="2214720"/>
                <a:ext cx="728676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ZoneTexte 11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 –2 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6"/>
              <p:cNvSpPr txBox="1"/>
              <p:nvPr/>
            </p:nvSpPr>
            <p:spPr>
              <a:xfrm>
                <a:off x="4786200" y="4932360"/>
                <a:ext cx="20005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-71280" y="291960"/>
                <a:ext cx="835812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"/>
              <p:cNvSpPr txBox="1"/>
              <p:nvPr/>
            </p:nvSpPr>
            <p:spPr>
              <a:xfrm>
                <a:off x="-122400" y="1992240"/>
                <a:ext cx="92394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-84240" y="3627360"/>
                <a:ext cx="8612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746280" y="5203800"/>
                <a:ext cx="33382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7"/>
              <p:cNvSpPr txBox="1"/>
              <p:nvPr/>
            </p:nvSpPr>
            <p:spPr>
              <a:xfrm>
                <a:off x="4214880" y="4978440"/>
                <a:ext cx="2786040" cy="18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Dans chaque cas, les 3 expressions sont égales. Calculer la valeur numérique pour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 donné </a:t>
            </a:r>
            <a:r>
              <a:rPr b="1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en choisissant la forme de l’expression la plus adapté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-71280" y="291960"/>
                <a:ext cx="835812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-122400" y="1992240"/>
                <a:ext cx="92394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4"/>
              <p:cNvSpPr txBox="1"/>
              <p:nvPr/>
            </p:nvSpPr>
            <p:spPr>
              <a:xfrm>
                <a:off x="-84240" y="3627360"/>
                <a:ext cx="8612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1019160" y="5232240"/>
                <a:ext cx="3338640" cy="15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7"/>
              <p:cNvSpPr txBox="1"/>
              <p:nvPr/>
            </p:nvSpPr>
            <p:spPr>
              <a:xfrm>
                <a:off x="4700520" y="5462640"/>
                <a:ext cx="18147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2"/>
              <p:cNvSpPr txBox="1"/>
              <p:nvPr/>
            </p:nvSpPr>
            <p:spPr>
              <a:xfrm>
                <a:off x="-98280" y="925560"/>
                <a:ext cx="80341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-123840" y="1992240"/>
                <a:ext cx="913464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4"/>
              <p:cNvSpPr txBox="1"/>
              <p:nvPr/>
            </p:nvSpPr>
            <p:spPr>
              <a:xfrm>
                <a:off x="-85680" y="3913200"/>
                <a:ext cx="8613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1071720" y="5160960"/>
                <a:ext cx="33368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5045040" y="5462640"/>
                <a:ext cx="2268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-98280" y="925560"/>
                <a:ext cx="80341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-123840" y="1992240"/>
                <a:ext cx="913464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-85680" y="3913200"/>
                <a:ext cx="8613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857160" y="5203800"/>
                <a:ext cx="36705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6"/>
              <p:cNvSpPr txBox="1"/>
              <p:nvPr/>
            </p:nvSpPr>
            <p:spPr>
              <a:xfrm>
                <a:off x="5025960" y="5462640"/>
                <a:ext cx="18795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-71280" y="3500280"/>
                <a:ext cx="69912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4"/>
              <p:cNvSpPr txBox="1"/>
              <p:nvPr/>
            </p:nvSpPr>
            <p:spPr>
              <a:xfrm>
                <a:off x="-95400" y="2214720"/>
                <a:ext cx="882360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5"/>
              <p:cNvSpPr txBox="1"/>
              <p:nvPr/>
            </p:nvSpPr>
            <p:spPr>
              <a:xfrm>
                <a:off x="571680" y="5222880"/>
                <a:ext cx="41335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6"/>
              <p:cNvSpPr txBox="1"/>
              <p:nvPr/>
            </p:nvSpPr>
            <p:spPr>
              <a:xfrm>
                <a:off x="4908600" y="5375160"/>
                <a:ext cx="18781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2"/>
              <p:cNvSpPr txBox="1"/>
              <p:nvPr/>
            </p:nvSpPr>
            <p:spPr>
              <a:xfrm>
                <a:off x="-63360" y="995400"/>
                <a:ext cx="85899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428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-71280" y="3500280"/>
                <a:ext cx="69912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-95400" y="2214720"/>
                <a:ext cx="882360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5"/>
              <p:cNvSpPr txBox="1"/>
              <p:nvPr/>
            </p:nvSpPr>
            <p:spPr>
              <a:xfrm>
                <a:off x="1285920" y="5270400"/>
                <a:ext cx="362412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6"/>
              <p:cNvSpPr txBox="1"/>
              <p:nvPr/>
            </p:nvSpPr>
            <p:spPr>
              <a:xfrm>
                <a:off x="4971960" y="5297400"/>
                <a:ext cx="18147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2"/>
              <p:cNvSpPr txBox="1"/>
              <p:nvPr/>
            </p:nvSpPr>
            <p:spPr>
              <a:xfrm>
                <a:off x="-63360" y="995400"/>
                <a:ext cx="85899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5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 </a:t>
            </a:r>
            <a:r>
              <a:rPr b="1" i="1" lang="fr-FR" sz="6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6"/>
              <p:cNvSpPr txBox="1"/>
              <p:nvPr/>
            </p:nvSpPr>
            <p:spPr>
              <a:xfrm>
                <a:off x="0" y="1042920"/>
                <a:ext cx="8715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8"/>
              <p:cNvSpPr txBox="1"/>
              <p:nvPr/>
            </p:nvSpPr>
            <p:spPr>
              <a:xfrm>
                <a:off x="71280" y="3548160"/>
                <a:ext cx="81853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9"/>
              <p:cNvSpPr txBox="1"/>
              <p:nvPr/>
            </p:nvSpPr>
            <p:spPr>
              <a:xfrm>
                <a:off x="-28440" y="2257560"/>
                <a:ext cx="82454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5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0" y="1042920"/>
                <a:ext cx="8715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71280" y="3548160"/>
                <a:ext cx="818532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-73080" y="2257560"/>
                <a:ext cx="824724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5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2"/>
              <p:cNvSpPr txBox="1"/>
              <p:nvPr/>
            </p:nvSpPr>
            <p:spPr>
              <a:xfrm>
                <a:off x="-84240" y="1046160"/>
                <a:ext cx="89931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-71280" y="3500280"/>
                <a:ext cx="83073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-95400" y="2214720"/>
                <a:ext cx="728676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5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 </a:t>
            </a:r>
            <a:r>
              <a:rPr b="1" i="1" lang="fr-FR" sz="6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2"/>
              <p:cNvSpPr txBox="1"/>
              <p:nvPr/>
            </p:nvSpPr>
            <p:spPr>
              <a:xfrm>
                <a:off x="-50760" y="1046160"/>
                <a:ext cx="89946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3"/>
              <p:cNvSpPr txBox="1"/>
              <p:nvPr/>
            </p:nvSpPr>
            <p:spPr>
              <a:xfrm>
                <a:off x="-71280" y="3500280"/>
                <a:ext cx="83073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-95400" y="2214720"/>
                <a:ext cx="728676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2"/>
              <p:cNvSpPr txBox="1"/>
              <p:nvPr/>
            </p:nvSpPr>
            <p:spPr>
              <a:xfrm>
                <a:off x="-71280" y="291960"/>
                <a:ext cx="835812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5"/>
              <p:cNvSpPr txBox="1"/>
              <p:nvPr/>
            </p:nvSpPr>
            <p:spPr>
              <a:xfrm>
                <a:off x="-122400" y="1992240"/>
                <a:ext cx="92394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-84240" y="3627360"/>
                <a:ext cx="8612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7"/>
              <p:cNvSpPr txBox="1"/>
              <p:nvPr/>
            </p:nvSpPr>
            <p:spPr>
              <a:xfrm>
                <a:off x="2643120" y="5176800"/>
                <a:ext cx="311616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2"/>
              <p:cNvSpPr txBox="1"/>
              <p:nvPr/>
            </p:nvSpPr>
            <p:spPr>
              <a:xfrm>
                <a:off x="-71280" y="291960"/>
                <a:ext cx="835812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-122400" y="1992240"/>
                <a:ext cx="92394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-84240" y="3627360"/>
                <a:ext cx="8612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2643120" y="5176800"/>
                <a:ext cx="311472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"/>
              <p:cNvSpPr txBox="1"/>
              <p:nvPr/>
            </p:nvSpPr>
            <p:spPr>
              <a:xfrm>
                <a:off x="-98280" y="925560"/>
                <a:ext cx="80341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-123840" y="1992240"/>
                <a:ext cx="913464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-85680" y="3913200"/>
                <a:ext cx="86137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5"/>
              <p:cNvSpPr txBox="1"/>
              <p:nvPr/>
            </p:nvSpPr>
            <p:spPr>
              <a:xfrm>
                <a:off x="2643120" y="5176800"/>
                <a:ext cx="311472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3:56:17Z</dcterms:created>
  <dc:creator>ms</dc:creator>
  <dc:description/>
  <dc:language>en-US</dc:language>
  <cp:lastModifiedBy>Marionseg</cp:lastModifiedBy>
  <dcterms:modified xsi:type="dcterms:W3CDTF">2010-01-22T16:11:15Z</dcterms:modified>
  <cp:revision>23</cp:revision>
  <dc:subject/>
  <dc:title>S’agit-il d’une expression développée ? factorisée ?</dc:title>
</cp:coreProperties>
</file>