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78E3-B6C8-45D8-A3EB-2F77A10588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3043-C662-491B-A9AE-DE0FD4F086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B0C-33AA-4354-BF1F-95F1C1E7F9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0266-6084-4DEB-8B38-DE7FCE45B3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05D2-8F23-4011-99AC-7140275089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7330-F12C-424A-9E8C-BC679F42A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2EBF-34A6-41FB-A8D2-8328A331B0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7F98-ECCA-4188-AC5D-FE09C4932B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42A-089A-458F-A585-0CDB5EB0B3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ACC9-BCDB-45F2-A3E0-1C8FF13E92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F619-A5B0-49F3-A7A6-CF381937FC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E915-AF46-4C26-8A20-811D3BDD16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D39-DAE4-4361-8990-C3E5B4C5F2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40F7-C9DC-4CB3-AFBD-42C120A226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55BA-CDBC-4AA6-9571-7A5D489A6E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8089-A2FA-434C-B1A1-062C5C23E3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E49-FB41-4454-B506-D4AFB7018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216B-DC1F-4505-AB88-1C2927289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08A-4F4E-48F4-82E5-286D8AE1E7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AC09-533C-40B7-B78B-C48F83F120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A41-2293-42F3-9949-9941F88BA8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CFFC-701F-4AE1-B829-81220CD76C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F26-3625-4867-91FC-769DA4DDB4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E2D8-D802-41B0-8300-8C4AC68704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D8CB-03C3-4CFF-B077-A71285A80B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5DD-2B9A-44CA-9229-5C77A0BD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4A8-A329-4974-9A7E-D288BA73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7BA-CC4B-4FCC-8837-4CDE29E5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2F1-430F-481A-B7D3-7EA7E956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775-09E1-4B35-9359-069F5A0A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47CF-9CF4-4747-88AE-E47A62FF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1AB-7057-4036-8C65-E489D368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2BE-9274-43D1-9286-667D876B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E6F-DAB5-4495-940C-1F29624F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713-619F-49CE-A17D-C459FD86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6E4-1B56-42A0-AC62-3BB2AE6C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3B4-4833-40DC-B4A3-2B80B921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67BA-838A-4D71-BB38-AD6BDBFB859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Sym&#233;tries(4)%20Corrections/Sym&#233;tries4.1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Sym&#233;tries(4)%20Corrections/Sym&#233;tries4.2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Sym&#233;tries(4)%20Corrections/Sym&#233;tries4.3.g2w" TargetMode="Externa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S(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21168" t="11203" r="21168" b="31357"/>
          <a:stretch/>
        </p:blipFill>
        <p:spPr>
          <a:xfrm>
            <a:off x="184320" y="1500120"/>
            <a:ext cx="883440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15979" t="23891" r="23165" b="31357"/>
          <a:stretch/>
        </p:blipFill>
        <p:spPr>
          <a:xfrm>
            <a:off x="0" y="2071800"/>
            <a:ext cx="9159840" cy="360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rcRect l="23165" t="14931" r="25962" b="27629"/>
          <a:stretch/>
        </p:blipFill>
        <p:spPr>
          <a:xfrm>
            <a:off x="714240" y="1442880"/>
            <a:ext cx="779472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17175" t="14931" r="22770" b="24639"/>
          <a:stretch/>
        </p:blipFill>
        <p:spPr>
          <a:xfrm>
            <a:off x="33480" y="1643040"/>
            <a:ext cx="9039240" cy="48672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rcRect l="29956" t="14931" r="25962" b="17921"/>
          <a:stretch/>
        </p:blipFill>
        <p:spPr>
          <a:xfrm>
            <a:off x="1104840" y="1281240"/>
            <a:ext cx="6753240" cy="55054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rcRect l="16774" t="10455" r="22770" b="31357"/>
          <a:stretch/>
        </p:blipFill>
        <p:spPr>
          <a:xfrm>
            <a:off x="0" y="1714680"/>
            <a:ext cx="9099720" cy="4686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16774" t="10455" r="23966" b="27629"/>
          <a:stretch/>
        </p:blipFill>
        <p:spPr>
          <a:xfrm>
            <a:off x="152280" y="1228680"/>
            <a:ext cx="8920440" cy="49863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rcRect l="21168" t="11203" r="25562" b="29861"/>
          <a:stretch/>
        </p:blipFill>
        <p:spPr>
          <a:xfrm>
            <a:off x="482760" y="1525680"/>
            <a:ext cx="8161200" cy="48322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rcRect l="22369" t="18668" r="23966" b="32852"/>
          <a:stretch/>
        </p:blipFill>
        <p:spPr>
          <a:xfrm>
            <a:off x="500040" y="1857240"/>
            <a:ext cx="822312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Les figures suivantes sont-elles symétriques par rapport au point O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rcRect l="23966" t="7465" r="25962" b="26134"/>
          <a:stretch/>
        </p:blipFill>
        <p:spPr>
          <a:xfrm>
            <a:off x="757080" y="1271520"/>
            <a:ext cx="7672680" cy="54435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rcRect l="21168" t="11203" r="21168" b="31357"/>
          <a:stretch/>
        </p:blipFill>
        <p:spPr>
          <a:xfrm>
            <a:off x="184320" y="1500120"/>
            <a:ext cx="8834400" cy="471024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15979" t="23891" r="23165" b="31357"/>
          <a:stretch/>
        </p:blipFill>
        <p:spPr>
          <a:xfrm>
            <a:off x="0" y="2071800"/>
            <a:ext cx="9159840" cy="360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rcRect l="23165" t="14931" r="25962" b="27629"/>
          <a:stretch/>
        </p:blipFill>
        <p:spPr>
          <a:xfrm>
            <a:off x="714240" y="1442880"/>
            <a:ext cx="7794720" cy="471024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rcRect l="17175" t="14931" r="22770" b="24639"/>
          <a:stretch/>
        </p:blipFill>
        <p:spPr>
          <a:xfrm>
            <a:off x="33480" y="1643040"/>
            <a:ext cx="9039240" cy="4867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rcRect l="29956" t="14931" r="25962" b="17921"/>
          <a:stretch/>
        </p:blipFill>
        <p:spPr>
          <a:xfrm>
            <a:off x="1104840" y="1281240"/>
            <a:ext cx="6753240" cy="5505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6774" t="10455" r="22770" b="31357"/>
          <a:stretch/>
        </p:blipFill>
        <p:spPr>
          <a:xfrm>
            <a:off x="0" y="1714680"/>
            <a:ext cx="9099720" cy="4686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16774" t="10455" r="23966" b="27629"/>
          <a:stretch/>
        </p:blipFill>
        <p:spPr>
          <a:xfrm>
            <a:off x="152280" y="1228680"/>
            <a:ext cx="8920440" cy="498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21168" t="11203" r="25562" b="29861"/>
          <a:stretch/>
        </p:blipFill>
        <p:spPr>
          <a:xfrm>
            <a:off x="482760" y="1525680"/>
            <a:ext cx="8161200" cy="4832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22369" t="18668" r="23966" b="32852"/>
          <a:stretch/>
        </p:blipFill>
        <p:spPr>
          <a:xfrm>
            <a:off x="500040" y="1857240"/>
            <a:ext cx="822312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rcRect l="23966" t="7465" r="25962" b="26134"/>
          <a:stretch/>
        </p:blipFill>
        <p:spPr>
          <a:xfrm>
            <a:off x="757080" y="1271520"/>
            <a:ext cx="7672680" cy="5443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5:17Z</dcterms:created>
  <dc:creator>Seguy</dc:creator>
  <dc:description/>
  <dc:language>en-US</dc:language>
  <cp:lastModifiedBy>Marionseg</cp:lastModifiedBy>
  <dcterms:modified xsi:type="dcterms:W3CDTF">2010-07-05T19:44:18Z</dcterms:modified>
  <cp:revision>25</cp:revision>
  <dc:subject/>
  <dc:title>Les figures suivantes sont-elles symétriques par rapport à la droite (d) ?</dc:title>
</cp:coreProperties>
</file>