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5.wmf" ContentType="image/x-wmf"/>
  <Override PartName="/ppt/media/image10.wmf" ContentType="image/x-wmf"/>
  <Override PartName="/ppt/media/image11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D414-0709-48D8-BCCC-861965CC62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64A7-9ADE-46EA-9590-D726A749DC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7EDE-979E-4450-ADC4-5BF6CE2805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B858-9E6E-4A40-B06A-C44295A68D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E39E-6B81-4A54-BEC7-27CFF9A223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5BAF-B346-4356-9332-2823E462A2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F9D0-F535-4A2A-9889-8329EFA620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0F13-E68A-44FB-B162-FBB15D56EA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FCB4-93E4-44AE-812C-24AE0B0B3F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792D-5AF8-420E-BA06-148AB68EC7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5AAE-9127-4354-AAB9-EF374D221E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53FA-40C5-4686-B4BF-D220E042B0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F489-5C26-42F9-BA82-C40FF7F0FE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4D9-F6F0-45FF-B084-DA71AD24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8A4D-AC20-428E-AE27-A9010765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0D6-7363-4CE3-B461-4B1FADB0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F257-1DAA-411B-9876-47DC72E8E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3945-B5E9-4B95-9BC1-3B91B906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1F07-B5FA-4B46-87F6-12439E91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724-FFA9-43D3-B400-B6E43006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B6F-74E6-4AE7-9523-CC25938B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122-F52B-47C1-B5A6-802B12C4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2F51-628A-47E0-8DE6-E556BF89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691-1BD5-4DCE-8160-1E92A6F3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7202-52C3-4F47-B1ED-6D71CD8D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743A-FC8C-470A-8DDF-2516676FC3D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PATRONS DE SOLIDES (1)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s figures suivantes sont-elles des patrons d’un parallélépipède rectangle ?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i oui, préciser s’il s’agit d’un cube.</a:t>
            </a:r>
            <a:br>
              <a:rPr sz="3200"/>
            </a:br>
            <a:br>
              <a:rPr sz="32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0 questions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71680" y="1000080"/>
            <a:ext cx="8305560" cy="5356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42960" y="714240"/>
            <a:ext cx="8305920" cy="5356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61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4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28760" y="663480"/>
            <a:ext cx="8305560" cy="5356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305560" cy="5356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8305560" cy="5356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57120" y="1000080"/>
            <a:ext cx="8305920" cy="5356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8305560" cy="5356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57120" y="714240"/>
            <a:ext cx="8305920" cy="5356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80960" y="785880"/>
            <a:ext cx="8305920" cy="5356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305560" cy="5356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2:06:42Z</dcterms:created>
  <dc:creator>ms</dc:creator>
  <dc:description/>
  <dc:language>en-US</dc:language>
  <cp:lastModifiedBy>Marionseg</cp:lastModifiedBy>
  <dcterms:modified xsi:type="dcterms:W3CDTF">2010-05-30T08:02:03Z</dcterms:modified>
  <cp:revision>18</cp:revision>
  <dc:subject/>
  <dc:title>Diapositive 1</dc:title>
</cp:coreProperties>
</file>