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4E9-D889-432A-82F7-65A8C23333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3B90-14D1-42B0-9F40-62FE84749F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8722-BCAF-45E0-AD95-C6A0436F20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BBEF-54E9-433B-9AF8-6BB80C33B5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79EE-8E5E-4EF3-93BF-826D89D864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A83C-71EE-4A39-AFF8-9BB7BA6171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DCC-44BE-45D0-A2B6-03058DC0BD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8E55-50C8-4C60-AF5B-847362A7CF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5CD1-F496-411A-9271-8AAB301415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183-7A7F-472C-A048-1F50F9F457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8C4A-C0F3-43ED-A7EE-97DE78DC5E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2AF-57C0-42C6-B081-B9AEDB4815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8582-1C3D-4613-B6D8-42C006BCC8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7E93-6CAB-4CE3-B379-1D773A37A1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BA6-C5E8-4B07-BE0A-34443692D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5078-2C47-4041-853A-6B034E8E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8ED-959F-4C61-93F1-44775D56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08C1-7FD9-41A2-AA0D-632CAABB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3FF-341F-4FE2-9F3D-7C4FAF3B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34D-10EF-402A-AC2F-C34167EE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982-A29E-47A3-AEB0-95ACB351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682-1DE5-4E23-AE23-E04510DC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9209-209D-4EFB-91E9-4C15316E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252-3CF9-4178-BECE-ADFA59FB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FE27-29EF-43CD-9A4A-AB9DDCD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F02B-93A5-4BBD-8457-F0C2489F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7C2E-866A-406E-BB8A-347F57DB8F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C7A9-987E-40BE-BBAD-2D45E1EB35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AFFINE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La fonction représentée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est-elle affine ?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Répondre par oui ou non</a:t>
            </a:r>
            <a:r>
              <a:rPr b="0" lang="fr-FR" sz="66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3:27:02Z</dcterms:modified>
  <cp:revision>130</cp:revision>
  <dc:subject/>
  <dc:title>Diapositive 0</dc:title>
</cp:coreProperties>
</file>