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C51-EB59-43A6-A67A-931D6AEDC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2A06-7660-4457-983E-E1916295F0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12B2-93A3-44DD-9044-A6FD6C627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C6D7-C88E-443E-9F12-1F2F691BE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64C1-CC51-43AE-80EC-31CFE628F9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E60E-610C-42A8-B2EC-29D9ADCAED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D5AC-1D64-4473-9917-C32F5944E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6DD-4AF8-49DE-A225-EF581B7E51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77A-B7B2-4DB5-8BEF-EE61AE3A92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6DF0-B4D5-406D-B9B6-DCBD3E1BC6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2527-DC1F-4E76-A4C9-7ABA801D60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529-1AF3-4E7B-A5E0-00448015C7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A4C5-1BDF-4B02-9BA4-2209BE53D7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DDEA-37D0-4A11-BFA2-038DBE46A8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B9C-6601-48BA-8B09-F7AC8A69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9A5-EF29-44C7-8835-F6E6E213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141-2486-4798-8D90-2168E7B48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FB7-3871-49F9-86A9-7BCC3359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9CFB-2742-4C36-B0B9-548CFA13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43A7-CDCA-4714-9E87-AEDFED80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1AD-3826-4E01-A587-23A4F736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4785-5499-4390-B352-960137A4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DA8A-7158-4D8E-BD4E-E55C133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52FD-707A-4680-AD5C-EC1AF967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7F8C-3B13-444F-BDA4-0705CBA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4B6-ADC5-4E18-96F5-9B797639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1C51-E36A-47E7-811F-D6AEEE6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CF7E-2E2C-4F6E-AD3F-A1222C99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0E4-62A9-4400-BF50-B91A4295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9A6A-8020-4B27-AB66-337054C5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D1A-947F-42CC-AE39-BA914CC3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FC7C-570F-4FED-BC81-15048ADF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6691-D21C-4C5E-92EC-7C62374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5F5-4A17-472A-B228-AB7313AA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41E-276B-47E3-AB7F-568131D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A86-99A7-44CC-8018-CEFF3105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CB0-593A-407A-9A5F-E4E82BA6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A23-A3AF-42C4-9E92-40A76B95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80C-4955-435B-AAF7-9C9132074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180A-B19C-4726-B43A-44A4CD78C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3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3544920" y="2144880"/>
                <a:ext cx="1500120" cy="29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3294000" y="2143080"/>
                <a:ext cx="284976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3137040" y="2144880"/>
                <a:ext cx="264924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2258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Écrire avec une seule puissance d’un seul nombr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3429000" y="2143080"/>
                <a:ext cx="1209600" cy="300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3357720" y="2144880"/>
                <a:ext cx="167292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3357720" y="2144880"/>
                <a:ext cx="1465200" cy="29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3357720" y="2144880"/>
                <a:ext cx="1709640" cy="29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3357720" y="2144880"/>
                <a:ext cx="1500120" cy="29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357720" y="2144880"/>
                <a:ext cx="1968480" cy="29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079640" y="720720"/>
            <a:ext cx="6553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3357720" y="2098800"/>
                <a:ext cx="1874520" cy="30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42:24Z</dcterms:created>
  <dc:creator>ms</dc:creator>
  <dc:description/>
  <dc:language>en-US</dc:language>
  <cp:lastModifiedBy>Marionseg</cp:lastModifiedBy>
  <dcterms:modified xsi:type="dcterms:W3CDTF">2010-01-22T17:14:19Z</dcterms:modified>
  <cp:revision>15</cp:revision>
  <dc:subject/>
  <dc:title>Diapositive 1</dc:title>
</cp:coreProperties>
</file>