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51FF-F1ED-4511-875D-D823A4C329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E65B-467C-4BEB-A1E5-70696E8669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2825-308B-4B92-A996-585E805B5F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0B47-1342-4070-B879-4978B4EA52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7C6B-21B0-4447-B23F-2BB9773F2A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0CDC-58AD-4A75-976E-D9D7A6BEA4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A675-008D-4C49-A7FB-3B1D22135B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9E3B-6BAF-4B09-AF94-FF144A55E1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1F23-D54F-4682-812C-407DA047F9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A77E-DE5A-40DE-8C50-E18D1DCA3B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27A5-A948-41D6-8043-DBD5B53183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B9AC-896D-4FB6-826E-C72C5EEE2B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B302-67A6-4853-9D1E-101F645555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EF81-5956-4459-857A-D8FE26BB3D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7225-F94B-4211-A299-2B0D2576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A21-FA58-41FC-905A-09B39A27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2B1-AA7E-4693-9701-79407FDF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D2F-1410-4B70-B9BB-B25D9A04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509A-10B9-4A6E-8E60-8CA28D96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CCFE-A46B-4B4F-A679-FD2366E9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E8E-ABD8-406C-8DD7-A4ECA3BC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E891-05FD-4381-9AE9-734642A5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C15-FB5E-4429-A570-E680B10F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9E4-E20C-488B-991B-202B5B7F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C9B-33B1-432E-B34A-BCF8642F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1182-0856-4DA2-9DEA-E23CD80F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5C05-7415-4C15-A527-FFA714EE5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UISSANCES(4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1743120" y="2089080"/>
                <a:ext cx="5865840" cy="36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0" y="2089080"/>
                <a:ext cx="9215280" cy="28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-71280" y="2089080"/>
                <a:ext cx="9191520" cy="270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476360" y="620640"/>
            <a:ext cx="625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ZoneTexte 2"/>
          <p:cNvSpPr/>
          <p:nvPr/>
        </p:nvSpPr>
        <p:spPr>
          <a:xfrm>
            <a:off x="3368520" y="2214720"/>
            <a:ext cx="21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Bouton d'action : Retour 4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21506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Répondre pa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9900"/>
                </a:solidFill>
                <a:latin typeface="Arial"/>
              </a:rPr>
              <a:t>VRAI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fr-FR" sz="6000" spc="-1" strike="noStrike">
                <a:solidFill>
                  <a:srgbClr val="cc0000"/>
                </a:solidFill>
                <a:latin typeface="Arial"/>
              </a:rPr>
              <a:t>FAU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2000160" y="2143080"/>
                <a:ext cx="4980240" cy="35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636480" y="3035160"/>
                <a:ext cx="807876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1079640" y="2757600"/>
                <a:ext cx="7192800" cy="23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1798560" y="2089080"/>
                <a:ext cx="5754600" cy="36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1135080" y="3035160"/>
                <a:ext cx="708192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0" y="3035160"/>
                <a:ext cx="907416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1135080" y="2813040"/>
                <a:ext cx="708192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7:15:56Z</dcterms:modified>
  <cp:revision>44</cp:revision>
  <dc:subject/>
  <dc:title>PowerPoint Presentation</dc:title>
</cp:coreProperties>
</file>