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06BD-CDB9-4961-9435-BC76CF9F1F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7183-5222-4965-84E0-55C46B5400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CE77-C6A9-4581-9919-724D4FB1E8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645F-E078-400A-9B2A-DA2545C6AB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13F8-35C5-43C3-80CA-97C78473FE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CDE4-F3A2-4CC9-B9B9-D894504996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D9AC-F187-4675-91D5-1EDF50C7CC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C7CD-CEC0-464F-95E5-E57CB45E82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60A5-8B73-40C0-B10B-DD1AAF38ED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19E5-A6C0-4991-9983-F84193D6E8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6FCA-44DA-427D-88AF-7ADC4A4F66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FC49-41ED-4D7F-BCA7-DFB392F835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D1CF-9904-4309-9341-4F399B3192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AFB5-FF00-4DF0-A67D-F63DCA95B3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3C3-86B6-42D4-9BF4-D903E9B2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254-120F-40CD-AEC2-B88F299B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9956-5F66-4107-ABDE-92102CB2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603-ABF6-4A67-853A-D535D2D7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8DAF-9EF4-4D8A-915A-DB31A50C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4D56-601B-4B4A-978E-B6EBC5E4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62E9-804E-4B6B-A731-BDDEF375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195B-4FEE-4866-836B-B421700A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711B-D981-4E27-833F-789B5C00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DE3B-48E4-4A4C-A121-E2C1FEA1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FFA4-3BAE-4F6C-8FE9-6ACF35DE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48F-1C8E-4D95-B214-DBA34930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6BE5-43AB-46C1-875F-FB8FFC25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6F48-9FA0-48D8-98F5-F0C8C3C6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F955-F960-4AA6-8079-4949CA6A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5FCB-60B7-42F3-B36B-845C0468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67AD-1C11-4F7D-97AF-DF9AEC3B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9CD-96AF-4947-8CF6-B75DAEF1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51A-AE58-4F27-B7E8-16D57034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1E9-60C6-4A50-8079-F121B5B2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2329-7368-4E1E-984F-AC9F3BE8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733-7F8D-4192-8521-15C4D1D8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36BF-CACF-4E88-ABB2-D1AA846C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FEB-F201-4F2C-9257-85669336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874E-0F8D-4085-88F3-58770F849F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DDA8-12DE-4F48-AFBE-935AA328D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UISSANCES(1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896760" y="2517840"/>
                <a:ext cx="75330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×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727200" y="2517840"/>
                <a:ext cx="777384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2"/>
              <p:cNvSpPr txBox="1"/>
              <p:nvPr/>
            </p:nvSpPr>
            <p:spPr>
              <a:xfrm>
                <a:off x="1908000" y="1886040"/>
                <a:ext cx="5470560" cy="302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 </m:t>
                                        </m:r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476360" y="620640"/>
            <a:ext cx="625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ZoneTexte 2"/>
          <p:cNvSpPr/>
          <p:nvPr/>
        </p:nvSpPr>
        <p:spPr>
          <a:xfrm>
            <a:off x="3368520" y="2214720"/>
            <a:ext cx="21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26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Bouton d'action : Retour 6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Calculer et donner le résultat avec une seule puissance de 10 ou sous forme décima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1476360" y="128952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2143080" y="2517840"/>
                <a:ext cx="518148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476360" y="143712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2143080" y="2517840"/>
                <a:ext cx="523260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" name="Rectangle 6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3214800" y="2517840"/>
                <a:ext cx="2806560" cy="34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6"/>
          <p:cNvSpPr/>
          <p:nvPr/>
        </p:nvSpPr>
        <p:spPr>
          <a:xfrm>
            <a:off x="0" y="4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2000160" y="2517840"/>
                <a:ext cx="558972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000160" y="2517840"/>
                <a:ext cx="542772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2571840" y="2517840"/>
                <a:ext cx="413208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2071800" y="2517840"/>
                <a:ext cx="547668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7:11:00Z</dcterms:modified>
  <cp:revision>21</cp:revision>
  <dc:subject/>
  <dc:title>PowerPoint Presentation</dc:title>
</cp:coreProperties>
</file>