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B348-3531-4282-8999-57C3651159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6CB4-0580-4189-BBC9-18E282D7C4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CA97-EFFD-41EF-A4DF-6985589BFB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DE2C-47C5-4919-B04A-D39C7F2BBB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57FB-C183-4DC0-9EC6-A4099C74A8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0C4E-A2B7-40C9-9C08-5C205D25CC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4165-4B8F-4A0D-ADD6-F64323FF65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6C20-C4DE-4033-B557-149F813321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FDA8-8F92-41BD-BCCA-DB9138B62D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D7C3-2303-4455-96BE-4460230F6F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0198-88F5-49CF-BBE1-366B24A38A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3186-500C-4B08-8D8F-DEB76407BC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A614-6C1E-4D79-B8DC-84A8B856E7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4D04-0E35-4531-88F7-495CAD2295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E00-443F-41BB-9A52-6F3D5E88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F69-0D27-4983-8E60-9D0D81D6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383-3F4B-4B9D-AC89-428FCF45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CBF-1FC2-40FB-A3C8-A65A564B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0F82-B68C-4EF9-B726-B0839EEB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DD5B-A08A-4017-8540-80390D9D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E34C-3A88-40C9-A6F1-27FC9CE6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8273-CD86-4498-878C-BFE3630C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BFFD-A316-4034-9DFB-5A898B5D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0497-3B11-4F5D-961A-ED6CA0F9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D177-3CF3-4448-9847-4BEE92CC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942-A9AD-4FA5-A5A3-D48D0472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ECB3-9EF7-4D6F-9EED-418C9578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67FB-63A7-4689-B231-E0E25E6E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3D21-0FA0-4DFC-9A13-129B4ECC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F39D-570D-4B6B-BD12-3B048EFE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34D7-BD4A-4EA9-A4AA-414AFF64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B6E0-076A-49FD-A0E7-F6FD1D74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425E7-1E24-4E20-821F-C9660D8C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DBDF-58F0-4D74-BE74-1D39B20A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3AEA-D38E-48A4-9CE0-C04EA44B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2C198-CEB6-4FA4-B7B4-A33AAAE1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221-C8BE-4CC0-99ED-2568A9F5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813EC-EDCE-4DEB-B99F-4559F2EC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C88E-4D4F-4F76-BC31-7473B2C3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4BEA8-4C6D-447E-80B3-B897D8AC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71ED6-5FF8-46DC-BE94-EEAC702E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E826-8560-4910-9846-FB1834A6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9666-4D45-4E27-8231-844ED62C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73818-04B9-44ED-B224-7ED7D011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8F4-08BA-4D69-AC99-6A9084C8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6A0-8C90-484E-91A1-F2AA50B2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9544-65B2-4C52-AE39-29E8C814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0FAD-8771-4468-AFFB-5E54A17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3C1-E52E-4AF0-894A-659ACE98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7D1-D989-4BCF-808C-ED39C382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1CDB-2FAD-4650-8C5D-F255D380B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71B0-364E-45F9-B104-D44056362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4EFB-8CE5-46F1-94E4-6787DF0C1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729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VOCABULAIRE ET OPÉRATIONS (2)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8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carré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u double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9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somme du carré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et du carré de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4200" y="179820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10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carré de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somme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et de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Traduire chaque phrase par une expression littéra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1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somme de 7 et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u produit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2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produit de 7 par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somme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et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7982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3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a différence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u carré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et de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4200" y="179820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4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quotient de la somme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et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ar 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5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produit de 7 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par le carré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5840" y="17982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6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carré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u produit de 7 par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N°7 :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Le double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u carré de </a:t>
            </a:r>
            <a:r>
              <a:rPr b="0" i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2:17:09Z</dcterms:created>
  <dc:creator>ms</dc:creator>
  <dc:description/>
  <dc:language>en-US</dc:language>
  <cp:lastModifiedBy>Marionseg</cp:lastModifiedBy>
  <dcterms:modified xsi:type="dcterms:W3CDTF">2010-01-22T18:01:59Z</dcterms:modified>
  <cp:revision>12</cp:revision>
  <dc:subject/>
  <dc:title>Traduire chaque phrase par une expression littérale</dc:title>
</cp:coreProperties>
</file>