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0811-82E9-4862-80E9-F0FC8537C3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3216-8727-4DD0-9AC6-6A831D3AF7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5246-9BC1-4CEC-B827-76C0821F3B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E549-B056-4049-AA8B-E939CFA534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B667-6332-4F6B-8F3A-56A22D962C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B5E7-7CB1-459E-8F67-6915A5CC8E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A92C-25EE-4A8A-A101-E0DAEDF14A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ED98-4044-43D1-9DA6-3927EAF50D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CB15-771B-44AD-BD91-04933E1427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C68D-A48F-42F8-B194-2300262ECF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0996-39BA-4837-BFC2-831CD0A465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0DBE-511D-4E6B-B428-FEC2059BE6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A4AC-F5B2-47F8-9397-6091F2456D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B352-0748-4C4C-B2BE-687856C7E5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B116-B6F9-4354-8ED9-6A9CF59D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1B0F-16CF-417D-AD9C-70A4A693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5DB-9CE3-421B-8EA9-DEABA4504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9CF4-1BB6-4746-B28A-BA90CEFE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DD2-24AA-4FAB-AE19-4F269977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5C0B-E346-4268-AD64-76CA835A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8BC2-8A5F-471C-B73D-B068D185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E66-361F-440F-B52F-0E99DB74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E1EF-D3BD-457D-800B-4F0F7178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0E96-0D9E-4A32-A3A7-6FE8091D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057F-C210-40CC-94EC-F0A51DE3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FDB7-C820-46AE-A899-271E1E6B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A6BB-D279-4D09-8577-76F076CFD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ombres relatifs (1)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4</a:t>
            </a:r>
            <a:br>
              <a:rPr sz="6000"/>
            </a:br>
            <a:br>
              <a:rPr sz="6000"/>
            </a:b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10 calcul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9"/>
              <p:cNvSpPr txBox="1"/>
              <p:nvPr/>
            </p:nvSpPr>
            <p:spPr>
              <a:xfrm>
                <a:off x="287280" y="3238560"/>
                <a:ext cx="86155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7"/>
              <p:cNvSpPr txBox="1"/>
              <p:nvPr/>
            </p:nvSpPr>
            <p:spPr>
              <a:xfrm>
                <a:off x="1438200" y="3238560"/>
                <a:ext cx="65214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7"/>
              <p:cNvSpPr txBox="1"/>
              <p:nvPr/>
            </p:nvSpPr>
            <p:spPr>
              <a:xfrm>
                <a:off x="539640" y="3238560"/>
                <a:ext cx="82854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br>
              <a:rPr sz="8000"/>
            </a:br>
            <a:br>
              <a:rPr sz="6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14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0" y="28576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alculer en respectant les règles opératoires.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7"/>
              <p:cNvSpPr txBox="1"/>
              <p:nvPr/>
            </p:nvSpPr>
            <p:spPr>
              <a:xfrm>
                <a:off x="719280" y="3238560"/>
                <a:ext cx="77119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1079640" y="3238560"/>
                <a:ext cx="72403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898560" y="3238560"/>
                <a:ext cx="75643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141120" y="3240000"/>
                <a:ext cx="8715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1079640" y="3238560"/>
                <a:ext cx="720864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0,1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179280" y="3238560"/>
                <a:ext cx="88822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780000" y="3170160"/>
            <a:ext cx="158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7"/>
              <p:cNvSpPr txBox="1"/>
              <p:nvPr/>
            </p:nvSpPr>
            <p:spPr>
              <a:xfrm>
                <a:off x="719280" y="3238560"/>
                <a:ext cx="77803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3:34:45Z</dcterms:created>
  <dc:creator>ms</dc:creator>
  <dc:description/>
  <dc:language>en-US</dc:language>
  <cp:lastModifiedBy>Marionseg</cp:lastModifiedBy>
  <dcterms:modified xsi:type="dcterms:W3CDTF">2010-01-22T16:42:01Z</dcterms:modified>
  <cp:revision>10</cp:revision>
  <dc:subject/>
  <dc:title>Nombres relatifs (1) Série n°4  10 calculs 15 secondes par calcul</dc:title>
</cp:coreProperties>
</file>