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E5AE-54ED-4D3F-8D95-38934CBAB7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8E29-0CE3-4B02-B616-35107E3C40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C831-8B6C-4444-A463-58D5E057CE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F44A-8802-4A09-B1CE-EB1E939D5D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5F56-37C9-4665-9DD2-CAC942D875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C5E4-856A-4D0F-8195-89213735F5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81C4-915E-4506-933C-6A9502EEC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ACDD-431F-4901-81C2-F075C2CD8F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1811-718E-4C27-8CF3-B8F7C9067A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6C46-AE21-4A72-AD4B-3A918A4601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369C-3E23-4D38-B3F1-DCAC77E67E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E459-DB7D-4682-B3BF-329CCBB3E8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D35D-1EBD-46DD-969E-8621A1F67B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5925-C1EA-425A-A4EF-2CEB6C5B59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065-DA1D-4359-80F1-3ED5F17A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881-25D0-41F3-ACEC-D4CF022C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4C2F-E2D5-455C-860E-B3C1A4AD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088-60D0-4F55-A95C-3A7B0676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8CB-129A-49B5-A240-E13A7863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67D-CFED-4273-B690-247A8A0B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BED-89CA-48DB-89A5-F70F6369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D90-1B96-407C-8D5D-DAB1111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5BE-AC02-4D31-8653-B95E1906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963-1A90-4BAA-A3AB-18D25A4B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DEEF-4591-4232-ABE3-5B708FD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857-F60C-480E-A40C-F3B1C12B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FF50-521C-4A37-B0D4-E84F7A86B8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2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1020600" y="2800440"/>
                <a:ext cx="762192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2008080" y="1943280"/>
                <a:ext cx="5948640" cy="30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949320" y="2800440"/>
                <a:ext cx="762156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2546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léter les égalités 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71280" y="2811600"/>
                <a:ext cx="901548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339840" y="2811600"/>
                <a:ext cx="855000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1270080" y="2166840"/>
                <a:ext cx="669132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12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711360" y="2338560"/>
                <a:ext cx="780732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5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3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1827360" y="2168640"/>
                <a:ext cx="5576760" cy="28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896760" y="2811600"/>
                <a:ext cx="743436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293760" y="2811600"/>
                <a:ext cx="873612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4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2:38Z</dcterms:modified>
  <cp:revision>20</cp:revision>
  <dc:subject/>
  <dc:title>PowerPoint Presentation</dc:title>
</cp:coreProperties>
</file>