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E462-5391-4B77-8FC9-B70E8EC37F5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7E73-CA5B-4ECF-B593-3E1D35299CA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461D-769E-4ED4-A9BA-E85E0373298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EECB-72B7-4190-8AAC-9A4A6D2FB42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DC30-BB84-4E8C-B670-A0066D89767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554E-B6C0-4070-88FF-D1216F87EED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0B31-CA77-4E09-8635-5B378364DE8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4732-8D18-4F6A-98E2-D886D0645E4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84B9-F6C8-4C2D-A30F-8BFEF835628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B1EA-B49E-46AA-B5E8-EA5DAFC88BA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ED9F-7452-4D2B-AE1D-41D8088BE25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5996-6C72-4ABD-86C5-9AFCA176362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36CC-D2C9-40EC-BEE1-A93E9FB4B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2025-582A-4E24-9F70-7715F045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8A7B-FE0B-48D2-98AD-2C9975551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3695-B50E-44D0-9952-87C38BB16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8086-3B2A-42C2-B5B0-B9A77E41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20A0-1D38-48EC-9B8A-41548822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8570-50DB-4213-A5C6-E795F9DC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D3F0-90C2-49DA-B9A0-2A1BB92F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451E-763F-4573-B139-2EA5DAE2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8C22-7A80-4F4C-89F7-42507683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E3F1-E2C8-44FB-BD5B-EC319247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807D-7FA3-4F82-8121-E393632C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12C6-0E16-4FED-8641-D20A1CA22921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840" y="2601720"/>
            <a:ext cx="8643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0000"/>
                </a:solidFill>
                <a:latin typeface="Calibri"/>
              </a:rPr>
              <a:t>CHANGEMENTS D’UNITÉS</a:t>
            </a:r>
            <a:br>
              <a:rPr sz="5400"/>
            </a:br>
            <a:r>
              <a:rPr b="1" lang="fr-FR" sz="5400" spc="-1" strike="noStrike">
                <a:solidFill>
                  <a:srgbClr val="000000"/>
                </a:solidFill>
                <a:latin typeface="Calibri"/>
              </a:rPr>
              <a:t>SÉRIE N°5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2" name="Espace réservé du contenu 7"/>
              <p:cNvSpPr txBox="1"/>
              <p:nvPr/>
            </p:nvSpPr>
            <p:spPr>
              <a:xfrm>
                <a:off x="428760" y="2878200"/>
                <a:ext cx="830232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 200 m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4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5" name="Espace réservé du contenu 7"/>
              <p:cNvSpPr txBox="1"/>
              <p:nvPr/>
            </p:nvSpPr>
            <p:spPr>
              <a:xfrm>
                <a:off x="520560" y="2878200"/>
                <a:ext cx="8123400" cy="15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 222 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c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7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8" name="Espace réservé du contenu 7"/>
              <p:cNvSpPr txBox="1"/>
              <p:nvPr/>
            </p:nvSpPr>
            <p:spPr>
              <a:xfrm>
                <a:off x="357120" y="2878200"/>
                <a:ext cx="8540640" cy="15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 900 c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0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3840" y="2601720"/>
            <a:ext cx="8643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83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0" name="ZoneTexte 4"/>
          <p:cNvSpPr/>
          <p:nvPr/>
        </p:nvSpPr>
        <p:spPr>
          <a:xfrm>
            <a:off x="0" y="25542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mpléter par le nomb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qui manqu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" name="Espace réservé du contenu 7"/>
              <p:cNvSpPr txBox="1"/>
              <p:nvPr/>
            </p:nvSpPr>
            <p:spPr>
              <a:xfrm>
                <a:off x="1041480" y="2901960"/>
                <a:ext cx="720072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3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" name="Espace réservé du contenu 7"/>
              <p:cNvSpPr txBox="1"/>
              <p:nvPr/>
            </p:nvSpPr>
            <p:spPr>
              <a:xfrm>
                <a:off x="428760" y="2919240"/>
                <a:ext cx="8370720" cy="15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750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d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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6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" name="Espace réservé du contenu 7"/>
              <p:cNvSpPr txBox="1"/>
              <p:nvPr/>
            </p:nvSpPr>
            <p:spPr>
              <a:xfrm>
                <a:off x="428760" y="2878200"/>
                <a:ext cx="8288280" cy="15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c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9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" name="Espace réservé du contenu 7"/>
              <p:cNvSpPr txBox="1"/>
              <p:nvPr/>
            </p:nvSpPr>
            <p:spPr>
              <a:xfrm>
                <a:off x="142920" y="2916360"/>
                <a:ext cx="8929800" cy="14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2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3" name="Espace réservé du contenu 7"/>
              <p:cNvSpPr txBox="1"/>
              <p:nvPr/>
            </p:nvSpPr>
            <p:spPr>
              <a:xfrm>
                <a:off x="71280" y="2878200"/>
                <a:ext cx="8972640" cy="15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,6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5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" name="Espace réservé du contenu 7"/>
              <p:cNvSpPr txBox="1"/>
              <p:nvPr/>
            </p:nvSpPr>
            <p:spPr>
              <a:xfrm>
                <a:off x="1285920" y="2928960"/>
                <a:ext cx="6459480" cy="14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8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9" name="Espace réservé du contenu 7"/>
              <p:cNvSpPr txBox="1"/>
              <p:nvPr/>
            </p:nvSpPr>
            <p:spPr>
              <a:xfrm>
                <a:off x="911160" y="2928960"/>
                <a:ext cx="703260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,8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1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16:13:30Z</dcterms:created>
  <dc:creator>Claudine Bertrand-Gorge</dc:creator>
  <dc:description/>
  <dc:language>en-US</dc:language>
  <cp:lastModifiedBy>Marionseg</cp:lastModifiedBy>
  <dcterms:modified xsi:type="dcterms:W3CDTF">2010-01-17T18:02:56Z</dcterms:modified>
  <cp:revision>44</cp:revision>
  <dc:subject/>
  <dc:title>Diapositive 1</dc:title>
</cp:coreProperties>
</file>