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CE0C-5AF1-4E3E-A399-A2EB830272B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1DC-200F-4A12-963D-56076F1BFD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6C47-6478-42AA-8B15-464CC7A29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198E-B3E3-4DC6-A169-9E5B5FD73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6F1B-259E-4F0D-946B-25EF3C951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B59F-0EA2-4B26-BE58-09AC991E4C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4891-095A-4379-AE74-655644A240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E1B2-B034-48AC-B287-7199A2831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9DAE-B0FB-49EF-9B44-94CCC5CEDE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22CA-9C1D-48F3-884E-19EC3DB15E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21CB-A381-42ED-A597-728DC152BB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1B67-1605-4321-BFAA-DD02C7E5E1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EAB4-BFB6-4A6B-A0F0-C8B249B40B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10B2-DFE7-4AAE-9E91-E48B9DA34D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449-4464-4083-97CE-B4731FF6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A4B9-3827-43E5-881D-6106198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569-FD50-441E-BF30-7E93059E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DD0-9D35-4D00-A881-4FDC7849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7B2-8616-42ED-BE21-52AEABB1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225-D218-47D3-B181-72BBDD00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7E49-6789-4EC7-B618-E9298A68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E7BA-3A79-4C2A-8F65-F92D163A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94F-35FF-401B-949A-3539FF95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F27-E81E-430F-BC5E-E7B6BC36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14A-2B3B-4BDB-9E1B-240C778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B8B-F34A-41F1-8FBE-9770615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D960-EB09-401A-AF31-6DA89E1DD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279440" y="2592360"/>
                <a:ext cx="66135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538280" y="2492280"/>
                <a:ext cx="609588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476360" y="13500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279440" y="2492280"/>
                <a:ext cx="661356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01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nner l’écriture décimale des nombres suivants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2881440" y="2592360"/>
                <a:ext cx="340992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468520" y="2492280"/>
                <a:ext cx="423720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106720" y="2592360"/>
                <a:ext cx="49593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1951200" y="2492280"/>
                <a:ext cx="527040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476360" y="14371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416320" y="2592360"/>
                <a:ext cx="43401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106720" y="2592360"/>
                <a:ext cx="49593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1590840" y="2592360"/>
                <a:ext cx="599256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1:30Z</dcterms:modified>
  <cp:revision>14</cp:revision>
  <dc:subject/>
  <dc:title>PowerPoint Presentation</dc:title>
</cp:coreProperties>
</file>