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38D4-3A13-4AAD-92A3-D57954BF7C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5646-9CD4-45BB-8F10-174D444970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F686-977C-47CF-8962-ABE8382FFB8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9F01-0B67-4349-84F5-1D6F2D1E43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FE27-11E7-4E44-8504-198019C949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B060-D456-4D34-BF8C-B19F94A9D5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F792-26A6-4577-9275-58C8C16D42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74F5-C256-43D3-93F2-D8C26FFC91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24D1-C062-41F6-AA5B-BC478F1131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7846-F6A3-48FC-8A1D-7E2D03F0FA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31B4-5E10-4EB0-B440-0711582BAA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7C2C-94C0-456D-8F52-AF48036478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D448-F3E0-44FF-B252-8DC2421CEC0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9125-7043-444B-92E4-8377D3F2A0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2003-8C9A-42D4-BAFA-34CD6CD9F4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6BD8-418E-422F-984A-A0817AEAB3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B0F8-3AC5-4600-97A9-8C23EF665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325-ED10-4038-A4C5-BB2E666A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173-1952-43A2-9598-152C143D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5BC7-3AED-4D9C-90DE-C4407906E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FEB1-BF64-455B-854B-FB7F82A1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F6D-E185-4F53-BB09-22BA4C85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906-E9B2-419C-AD21-E4447AFF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EED-ABA2-4DB8-8AC6-94C1988C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5F6-A807-4640-9E51-AEFD2B30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D23-7C2F-4A59-9B58-ADEE6129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2673-1AD3-4F66-A767-B67C7E82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4B9-740B-4E60-B911-608E898F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BBC3-F612-4C39-A759-86344AFD4A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FACTORISATIONS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0" spc="-1" strike="noStrike">
                <a:solidFill>
                  <a:srgbClr val="000000"/>
                </a:solidFill>
                <a:latin typeface="Calibri"/>
              </a:rPr>
              <a:t>1,8 </a:t>
            </a:r>
            <a:r>
              <a:rPr b="0" lang="fr-FR" sz="7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000" spc="-1" strike="noStrike">
                <a:solidFill>
                  <a:srgbClr val="000000"/>
                </a:solidFill>
                <a:latin typeface="Calibri"/>
              </a:rPr>
              <a:t> 3,147 – 0,8 </a:t>
            </a:r>
            <a:r>
              <a:rPr b="0" lang="fr-FR" sz="7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000" spc="-1" strike="noStrike">
                <a:solidFill>
                  <a:srgbClr val="000000"/>
                </a:solidFill>
                <a:latin typeface="Calibri"/>
              </a:rPr>
              <a:t> 3,147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23,4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 5 – 13,4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 5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1857240" y="2641680"/>
            <a:ext cx="5572440" cy="23590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0" y="19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500120" y="2643120"/>
            <a:ext cx="6122880" cy="2376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136520" y="2857680"/>
            <a:ext cx="7007400" cy="23763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8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actorisation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14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98989"/>
                </a:solidFill>
                <a:latin typeface="Calibri"/>
              </a:rPr>
              <a:t>Avec des nombres entiers, décimaux ou en écriture fractionna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actoriser pour calculer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n repér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facteur comm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 signe de l’opé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898989"/>
                </a:solidFill>
                <a:latin typeface="Calibri"/>
              </a:rPr>
              <a:t>Les nombres à ajouter ou à soustra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ig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760" y="278604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écrira uniquemen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le résultat fina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du calcul demand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 7 + 3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 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1,4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 81 + 1,4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 1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2,1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 125 – 25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 2,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113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0,75 – 13 </a:t>
            </a:r>
            <a:r>
              <a:rPr b="0" lang="fr-FR" sz="7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7800" spc="-1" strike="noStrike">
                <a:solidFill>
                  <a:srgbClr val="000000"/>
                </a:solidFill>
                <a:latin typeface="Calibri"/>
              </a:rPr>
              <a:t> 0,75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130480"/>
            <a:ext cx="9144000" cy="30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4,02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  97 + 4,02 </a:t>
            </a:r>
            <a:r>
              <a:rPr b="0" lang="fr-FR" sz="8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 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26Z</dcterms:created>
  <dc:creator>Famille Ravet</dc:creator>
  <dc:description/>
  <dc:language>en-US</dc:language>
  <cp:lastModifiedBy>Marionseg</cp:lastModifiedBy>
  <dcterms:modified xsi:type="dcterms:W3CDTF">2010-01-23T14:57:47Z</dcterms:modified>
  <cp:revision>33</cp:revision>
  <dc:subject/>
  <dc:title>Vocabulaire et calcul mental</dc:title>
</cp:coreProperties>
</file>