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491F-AE10-4EC7-B7BF-1D0D826365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0CBB-8602-4E17-863C-673FECF1A5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CA94-2FB9-45C5-BE21-28BFA83E75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0585-8DAB-45C5-A1DE-1B3802C734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D5D8-1F60-477E-B033-653330883C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BDC5-6121-4DA1-8247-3F8E19EA48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FFD2-A3B9-4EDC-A68D-12A646BDB8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85FD-993A-435D-822A-31780C5320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F5CA-3EB6-43FE-8C56-5C2E1FCD4B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5B23-9472-4007-9C20-F827BB6434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6A9B-9122-4B73-AE12-1020760A4B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354C-5323-4F05-A328-99DB8C4768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CB0D-334F-41D7-B65B-AB14D0547E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E34D-F080-4AC5-B729-050628843C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98A7-C69F-4F9A-B2D1-DE76AF2B89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D399-2ED5-4875-B461-22A566A163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59BC-D24D-43F7-9ED4-7FC5C8A937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143C-B029-4C5E-9A00-8396AA44C1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EC86-9033-4795-9FB5-E8114FBA27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8C4E-1694-48C8-8449-7B71A391C9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CD1C-2146-4D4A-A453-3F53C8A22C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9F17-0B02-4CB1-B7D3-BB46A91964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5EF7-B4CE-4F0C-987C-5776F5E8EE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27E0-3D0E-4535-B512-1DC24650B4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E1CC-4EB5-4805-B6F9-6198FD938A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68DE-DADA-4496-937B-611B8C8DDA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A2CF-ACE0-4A25-94F3-1FADF1599B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E414-4F91-47AF-947C-33B1A97F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BE8-76FE-4761-8EFF-FC847F5D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52A-BAF2-475B-AB60-E20C478E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1DD-BB18-4DAE-90AE-2B1C31D1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8CE-6AB6-4AAA-A999-48ED8D63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6CDE-446B-4C36-BBCB-9F822F77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52A-6F3F-46A8-B4ED-A62DFCAE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32B-AA82-4857-8798-2AAF3670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927-1B75-467A-ACF4-D7083C2A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8D6-0317-4754-B10A-D1313CB8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6C8-71C2-4C25-AE5E-CE9CF7AC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9AD-EE18-46E9-A507-FCE7995B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7AC9-CCB8-4940-874D-BF58D1336A8F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rigonom&#233;trie%20S&#233;rie%20n&#176;1%20Fig1.g2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240000"/>
            <a:ext cx="9144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Calibri"/>
              </a:rPr>
              <a:t>TRIGONOMÉTRIE</a:t>
            </a:r>
            <a:br>
              <a:rPr sz="8000"/>
            </a:br>
            <a:br>
              <a:rPr sz="8000"/>
            </a:br>
            <a:r>
              <a:rPr b="1" lang="fr-FR" sz="8000" spc="-1" strike="noStrike">
                <a:solidFill>
                  <a:srgbClr val="000000"/>
                </a:solidFill>
                <a:latin typeface="Calibri"/>
              </a:rPr>
              <a:t>SÉRIE N°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" descr=""/>
          <p:cNvPicPr/>
          <p:nvPr/>
        </p:nvPicPr>
        <p:blipFill>
          <a:blip r:embed="rId1"/>
          <a:stretch/>
        </p:blipFill>
        <p:spPr>
          <a:xfrm>
            <a:off x="2214720" y="1376280"/>
            <a:ext cx="6858000" cy="4981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45720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2378160" y="372960"/>
                <a:ext cx="45370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" name="ZoneTexte 7"/>
          <p:cNvSpPr/>
          <p:nvPr/>
        </p:nvSpPr>
        <p:spPr>
          <a:xfrm>
            <a:off x="142920" y="5572080"/>
            <a:ext cx="7072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BCDEFGH est u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arallélépipède rectang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4135320" y="1487520"/>
            <a:ext cx="5008680" cy="5370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2378160" y="372960"/>
                <a:ext cx="45370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O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O'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ZoneTexte 8"/>
          <p:cNvSpPr/>
          <p:nvPr/>
        </p:nvSpPr>
        <p:spPr>
          <a:xfrm>
            <a:off x="214200" y="2901960"/>
            <a:ext cx="7715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ylindre d’axe (OO’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t de rayon [OA]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 appartient au cercle de b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6350040" cy="49068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45720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2378160" y="372960"/>
                <a:ext cx="45370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E</m:t>
                            </m:r>
                          </m:e>
                        </m:acc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"/>
          <p:cNvPicPr/>
          <p:nvPr/>
        </p:nvPicPr>
        <p:blipFill>
          <a:blip r:embed="rId1"/>
          <a:srcRect l="0" t="0" r="9717" b="-316"/>
          <a:stretch/>
        </p:blipFill>
        <p:spPr>
          <a:xfrm>
            <a:off x="3857760" y="911160"/>
            <a:ext cx="5286240" cy="594684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5"/>
              <p:cNvSpPr txBox="1"/>
              <p:nvPr/>
            </p:nvSpPr>
            <p:spPr>
              <a:xfrm>
                <a:off x="2378160" y="372960"/>
                <a:ext cx="45370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ZoneTexte 7"/>
          <p:cNvSpPr/>
          <p:nvPr/>
        </p:nvSpPr>
        <p:spPr>
          <a:xfrm>
            <a:off x="428760" y="5429160"/>
            <a:ext cx="7500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YRAM est une pyra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 hauteur [PO]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1071720" y="1571760"/>
            <a:ext cx="7265880" cy="4357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2378160" y="322200"/>
                <a:ext cx="453708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5" name="ZoneTexte 7"/>
          <p:cNvSpPr/>
          <p:nvPr/>
        </p:nvSpPr>
        <p:spPr>
          <a:xfrm>
            <a:off x="0" y="5977080"/>
            <a:ext cx="892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ône de base le cercle de diamètre [AB] et de hauteur [SO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42680" y="2571840"/>
            <a:ext cx="60008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600" spc="-1" strike="noStrike">
                <a:solidFill>
                  <a:srgbClr val="11488b"/>
                </a:solidFill>
                <a:latin typeface="Calibri"/>
              </a:rPr>
              <a:t>Correction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128520" y="1138320"/>
                <a:ext cx="58197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ns le triangle FOU rectangle en O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14240" y="2143080"/>
            <a:ext cx="7643880" cy="452592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6500880" y="35712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266760" y="1660680"/>
                <a:ext cx="24987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F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U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0" y="2049480"/>
            <a:ext cx="8643960" cy="480852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500880" y="35712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146160" y="1138320"/>
                <a:ext cx="5784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ns le triangle ABD rectangle en B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284040" y="1677960"/>
                <a:ext cx="24638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D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214280" y="1857240"/>
            <a:ext cx="6929640" cy="50007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6500880" y="35712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176040" y="1138320"/>
                <a:ext cx="571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ns le triangle JNZ rectangle en N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3325680" y="1660680"/>
                <a:ext cx="38880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Z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Z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000080" y="1500120"/>
            <a:ext cx="7643880" cy="5295960"/>
          </a:xfrm>
          <a:prstGeom prst="rect">
            <a:avLst/>
          </a:prstGeom>
          <a:ln w="0">
            <a:noFill/>
          </a:ln>
        </p:spPr>
      </p:pic>
      <p:sp>
        <p:nvSpPr>
          <p:cNvPr id="123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6500880" y="35712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198360" y="1138320"/>
                <a:ext cx="5678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ns le triangle VXP rectangle en V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5356080" y="4749840"/>
                <a:ext cx="24638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V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00120"/>
            <a:ext cx="914400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1488b"/>
                </a:solidFill>
                <a:latin typeface="Calibri"/>
              </a:rPr>
              <a:t>Cosinus d’un angle ai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36428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040"/>
                </a:solidFill>
                <a:latin typeface="Calibri"/>
              </a:rPr>
              <a:t>dans différentes configurations du plan ou de l’e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"/>
          <p:cNvPicPr/>
          <p:nvPr/>
        </p:nvPicPr>
        <p:blipFill>
          <a:blip r:embed="rId1"/>
          <a:stretch/>
        </p:blipFill>
        <p:spPr>
          <a:xfrm>
            <a:off x="4008600" y="2033640"/>
            <a:ext cx="4921200" cy="4538520"/>
          </a:xfrm>
          <a:prstGeom prst="rect">
            <a:avLst/>
          </a:prstGeom>
          <a:ln w="0">
            <a:noFill/>
          </a:ln>
        </p:spPr>
      </p:pic>
      <p:sp>
        <p:nvSpPr>
          <p:cNvPr id="12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7"/>
          <p:cNvSpPr/>
          <p:nvPr/>
        </p:nvSpPr>
        <p:spPr>
          <a:xfrm>
            <a:off x="0" y="5000760"/>
            <a:ext cx="3714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[SW] est un diamèt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u cercle de centre H et Y appartient au cerc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6500880" y="35712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111240" y="1138320"/>
                <a:ext cx="5854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ns le triangle SYW rectangle en Y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39600" y="1660680"/>
                <a:ext cx="44784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H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S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W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"/>
          <p:cNvPicPr/>
          <p:nvPr/>
        </p:nvPicPr>
        <p:blipFill>
          <a:blip r:embed="rId1"/>
          <a:stretch/>
        </p:blipFill>
        <p:spPr>
          <a:xfrm>
            <a:off x="2214720" y="1376280"/>
            <a:ext cx="6858000" cy="49816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45720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7"/>
          <p:cNvSpPr/>
          <p:nvPr/>
        </p:nvSpPr>
        <p:spPr>
          <a:xfrm>
            <a:off x="142920" y="5572080"/>
            <a:ext cx="7072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BCDEFGH est u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arallélépipède rectang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6500880" y="35712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128520" y="1138320"/>
                <a:ext cx="58197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ns le triangle BDH rectangle en D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282600" y="1677960"/>
                <a:ext cx="24652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H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4135320" y="1487520"/>
            <a:ext cx="5008680" cy="5370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8"/>
          <p:cNvSpPr/>
          <p:nvPr/>
        </p:nvSpPr>
        <p:spPr>
          <a:xfrm>
            <a:off x="214200" y="2901960"/>
            <a:ext cx="7715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ylindre d’axe (OO’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t de rayon [OA]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 appartient au cercle de b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500880" y="35712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76320" y="1138320"/>
                <a:ext cx="5925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ns le triangle OAO' rectangle en O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181080" y="1660680"/>
                <a:ext cx="26715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O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O</m:t>
                    </m:r>
                    <m:r>
                      <m:t xml:space="preserve"> 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O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1500120" y="1714680"/>
            <a:ext cx="6350040" cy="49068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45720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6500880" y="35712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146160" y="1138320"/>
                <a:ext cx="5783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ns le triangle ABE rectangle en B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299880" y="1677960"/>
                <a:ext cx="24307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9" descr=""/>
          <p:cNvPicPr/>
          <p:nvPr/>
        </p:nvPicPr>
        <p:blipFill>
          <a:blip r:embed="rId1"/>
          <a:srcRect l="0" t="0" r="9717" b="-316"/>
          <a:stretch/>
        </p:blipFill>
        <p:spPr>
          <a:xfrm>
            <a:off x="3714840" y="1054080"/>
            <a:ext cx="5214960" cy="5865840"/>
          </a:xfrm>
          <a:prstGeom prst="rect">
            <a:avLst/>
          </a:prstGeom>
          <a:ln w="0">
            <a:noFill/>
          </a:ln>
        </p:spPr>
      </p:pic>
      <p:sp>
        <p:nvSpPr>
          <p:cNvPr id="154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7"/>
          <p:cNvSpPr/>
          <p:nvPr/>
        </p:nvSpPr>
        <p:spPr>
          <a:xfrm>
            <a:off x="142920" y="5118120"/>
            <a:ext cx="7072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YRAM est une pyram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 hauteur [PO]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6500880" y="35712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128520" y="1138320"/>
                <a:ext cx="5818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ns le triangle PRO rectangle en O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266760" y="1677960"/>
                <a:ext cx="24987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R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7265880" cy="43574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4"/>
          <p:cNvSpPr/>
          <p:nvPr/>
        </p:nvSpPr>
        <p:spPr>
          <a:xfrm>
            <a:off x="6500880" y="35712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146160" y="1138320"/>
                <a:ext cx="5783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ans le triangle SOA rectangle en O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266760" y="1660680"/>
                <a:ext cx="249876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S</m:t>
                        </m:r>
                      </m:e>
                    </m:acc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ZoneTexte 7"/>
          <p:cNvSpPr/>
          <p:nvPr/>
        </p:nvSpPr>
        <p:spPr>
          <a:xfrm>
            <a:off x="0" y="59770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ône de base le cercle de diamètre [AB] et de hauteur [SO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71480" y="257184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600" spc="-1" strike="noStrike">
                <a:solidFill>
                  <a:srgbClr val="11488b"/>
                </a:solidFill>
                <a:latin typeface="Calibri"/>
              </a:rPr>
              <a:t>FIN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3"/>
          <p:cNvSpPr/>
          <p:nvPr/>
        </p:nvSpPr>
        <p:spPr>
          <a:xfrm>
            <a:off x="0" y="1428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Dans chaque cas,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analyser la situation et écrire sur la feuille-réponse le cosinus de l’angle demandé en utilisant les points de la figure et en précisant le </a:t>
            </a:r>
            <a:r>
              <a:rPr b="0" lang="fr-FR" sz="3600" spc="-1" strike="noStrike" u="sng">
                <a:solidFill>
                  <a:srgbClr val="000000"/>
                </a:solidFill>
                <a:uFillTx/>
                <a:latin typeface="Gill Sans MT"/>
              </a:rPr>
              <a:t>nom du triangle rectangle</a:t>
            </a:r>
            <a:r>
              <a:rPr b="0" lang="fr-FR" sz="3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6" descr=""/>
          <p:cNvPicPr/>
          <p:nvPr/>
        </p:nvPicPr>
        <p:blipFill>
          <a:blip r:embed="rId1"/>
          <a:stretch/>
        </p:blipFill>
        <p:spPr>
          <a:xfrm>
            <a:off x="571680" y="0"/>
            <a:ext cx="57909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57440" y="500040"/>
            <a:ext cx="4243320" cy="214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Il faudra écrire sur la feuille-réponse :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119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4572000" y="2786040"/>
                <a:ext cx="416088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an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5857920" y="4071960"/>
                <a:ext cx="28004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T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2378160" y="372960"/>
                <a:ext cx="4537080" cy="15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714240" y="2143080"/>
            <a:ext cx="7643880" cy="452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0" y="2049480"/>
            <a:ext cx="8643960" cy="480852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2378160" y="372960"/>
                <a:ext cx="45370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D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2378160" y="372960"/>
                <a:ext cx="45370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214280" y="1857240"/>
            <a:ext cx="6929640" cy="5000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1000080" y="1500120"/>
            <a:ext cx="7643880" cy="529596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2378160" y="372960"/>
                <a:ext cx="45370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3222720" y="2033640"/>
            <a:ext cx="4921200" cy="453852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2378160" y="372960"/>
                <a:ext cx="45370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iang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ctangle</m:t>
                        </m:r>
                        <m:r>
                          <m:t xml:space="preserve"> </m:t>
                        </m:r>
                        <m:r>
                          <m:t xml:space="preserve">?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ZoneTexte 7"/>
          <p:cNvSpPr/>
          <p:nvPr/>
        </p:nvSpPr>
        <p:spPr>
          <a:xfrm>
            <a:off x="0" y="5000760"/>
            <a:ext cx="37148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[SW] est un diamèt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u cercle de centre H et Y appartient au cerc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3:55:23Z</dcterms:created>
  <dc:creator>Famille Ravet</dc:creator>
  <dc:description/>
  <dc:language>en-US</dc:language>
  <cp:lastModifiedBy>Marionseg</cp:lastModifiedBy>
  <dcterms:modified xsi:type="dcterms:W3CDTF">2010-05-30T08:09:39Z</dcterms:modified>
  <cp:revision>76</cp:revision>
  <dc:subject/>
  <dc:title>Cosinus d’un angle aigu</dc:title>
</cp:coreProperties>
</file>