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9989-FEC7-4ADC-A0B2-B3D1096DD83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4854-A648-47C4-BACE-77200E200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E756-5155-4D7F-9B6A-7FEA6E748E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76E-4151-4116-8291-1C6DF3275B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B359-E336-43A5-9BE6-9929C5D20C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65C-A3AE-49F7-98EE-E079483D12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96EF-4D98-4DAF-85A5-EA9E519176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B20-6794-45B5-B6B6-31A1E2CF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E52-8D30-424F-9802-11C3D216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B56-FE9F-4FBA-81B6-6182B1C83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7CF-96BD-4643-AAAC-99461A33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F51F-D9A0-4A03-AC4F-38A19AD9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E58C-6E32-459D-A024-F188D399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0FA7-2C44-41EE-971D-65884175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3B8B-D2C2-446F-B60B-678A7BBD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0033-EC86-4EF0-BB15-731503D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5A9-05D1-4694-BCBC-1BE2DECF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1480-2C41-43A0-A4CD-36C65BC8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7376-E3B0-42F3-B2B4-F3626FA0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47A0-DC4E-40AF-A068-FC734AAD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DB96-3E51-4649-949F-55E851E9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3C4A-26AE-46A3-9421-C66D73AF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B635-BC33-4F87-BB27-5DB4B503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2EF1-756A-43FD-8077-71075E8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E4B-7BC5-4124-A12E-2255E93C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E67-FB90-4CDD-BF7A-FBF7E7AC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142-908F-4FA2-AA6B-EA5D799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D2BC-D46B-4BBD-9612-9D34288D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4C71-520F-40D5-881F-51A0B76E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DC5-174B-498A-9E0F-627B249A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2FF-8ABA-44B9-A2A6-0A9E9E4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0F14-502A-49C5-874B-5B50B6B20E2E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47843-B211-46EA-BBBF-C5BF5CAF2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4 ET N°4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1571760" y="2841480"/>
                <a:ext cx="1523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027840" y="2835360"/>
                <a:ext cx="1549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1531800" y="2841480"/>
                <a:ext cx="1613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6010200" y="2835360"/>
                <a:ext cx="1575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379520" y="2841480"/>
                <a:ext cx="1892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5810400" y="2835360"/>
                <a:ext cx="1968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143000" y="2714760"/>
                <a:ext cx="2365200" cy="12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5670720" y="2835360"/>
                <a:ext cx="2247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220760" y="2841480"/>
                <a:ext cx="2209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5854680" y="2835360"/>
                <a:ext cx="1879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9:12:26Z</dcterms:created>
  <dc:creator>ms</dc:creator>
  <dc:description/>
  <dc:language>en-US</dc:language>
  <cp:lastModifiedBy>Marionseg</cp:lastModifiedBy>
  <dcterms:modified xsi:type="dcterms:W3CDTF">2010-01-17T20:05:31Z</dcterms:modified>
  <cp:revision>6</cp:revision>
  <dc:subject/>
  <dc:title>Calculer et donner éventuellement le  résultat simplifié.</dc:title>
</cp:coreProperties>
</file>