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375F-6D1F-433F-95D1-B293B7AED9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F93A-7370-43B2-8E5F-F518861A70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011C-4882-4788-830E-8AEA4F4B71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0F6F-F806-44F3-A627-A5CFD96FA7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EB5A-3246-4B5B-8AE6-BE728D2FD3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1FB4-2178-4D28-BF99-0CED291390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C2BB-1707-4C7A-90DD-359B2B5876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C4CF-F901-4544-80AB-11A0045F04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A570-531A-4929-AACE-CB79EF7701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EAC6-DC46-491C-8EBF-9D033ECF1C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BC05-C13D-4BE0-9500-B0D4F54FC1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0F2F-63EE-48EB-B1BE-9F028D5656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DBCC-C9E1-44D8-9D3D-83C7B056BC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B86A-D73E-4C49-8E44-9CB5E6336E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7030-7EC2-4BB5-8987-44081E1173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50D-A399-427E-B1E0-BACA6AD1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E8A-B24D-4C11-8198-DEB30184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C0D5-3CDC-46B4-A05A-612CCE9D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CFA-2A6B-4BA6-9CC3-A6094406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D08-CB40-4A91-903C-21EED3CF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4E2-11C5-46AE-8730-112CF438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149-F4BF-4046-B2DF-DA5C8F03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5E2-80B7-4226-A15F-72F814DC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497-852E-4352-B5C2-161BAAC6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CC2-B78F-4EFC-B20E-F0E8EFDB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5341-8894-4E32-9363-4546AA0D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9CD-86B2-4BCD-AF62-62A69D20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DC2D-FA18-4EDA-936F-662FA96128C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3"/>
          <p:cNvSpPr/>
          <p:nvPr/>
        </p:nvSpPr>
        <p:spPr>
          <a:xfrm>
            <a:off x="714240" y="2071800"/>
            <a:ext cx="771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PROBABILITÉ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SÉRIE N°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Rectangle à coins arrondis 8"/>
          <p:cNvGrpSpPr/>
          <p:nvPr/>
        </p:nvGrpSpPr>
        <p:grpSpPr>
          <a:xfrm>
            <a:off x="7656480" y="5175360"/>
            <a:ext cx="1243080" cy="1609560"/>
            <a:chOff x="7656480" y="5175360"/>
            <a:chExt cx="1243080" cy="1609560"/>
          </a:xfrm>
        </p:grpSpPr>
        <p:pic>
          <p:nvPicPr>
            <p:cNvPr id="95" name="Rectangle à coins arrondis 8" descr=""/>
            <p:cNvPicPr/>
            <p:nvPr/>
          </p:nvPicPr>
          <p:blipFill>
            <a:blip r:embed="rId1"/>
            <a:stretch/>
          </p:blipFill>
          <p:spPr>
            <a:xfrm>
              <a:off x="7656480" y="5175360"/>
              <a:ext cx="124308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718400" y="5235480"/>
              <a:ext cx="773280" cy="14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-432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7867800" y="5191200"/>
                <a:ext cx="6490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Pensées 7"/>
          <p:cNvSpPr/>
          <p:nvPr/>
        </p:nvSpPr>
        <p:spPr>
          <a:xfrm>
            <a:off x="-214200" y="2357280"/>
            <a:ext cx="9358200" cy="3429000"/>
          </a:xfrm>
          <a:prstGeom prst="cloudCallout">
            <a:avLst>
              <a:gd name="adj1" fmla="val -24212"/>
              <a:gd name="adj2" fmla="val 7209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6"/>
          <p:cNvSpPr/>
          <p:nvPr/>
        </p:nvSpPr>
        <p:spPr>
          <a:xfrm>
            <a:off x="633240" y="3000240"/>
            <a:ext cx="721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Probabilité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e ne pas obtenir 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PILE »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Probabilité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’obtenir 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FACE» et «FACE»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66760" y="1104840"/>
            <a:ext cx="86439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deux fois de suite une pièce de monnaie .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au moins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une fois « 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PI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 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6858000" y="3143160"/>
                <a:ext cx="12859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ZoneTexte 10"/>
          <p:cNvSpPr/>
          <p:nvPr/>
        </p:nvSpPr>
        <p:spPr>
          <a:xfrm>
            <a:off x="361800" y="3956040"/>
            <a:ext cx="82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Soit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1 chance sur 4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e ne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pas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 obtenir 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PIL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onc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3 chances sur 4 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’obtenir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au moins un 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PIL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1500120" y="47624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a probabilité est d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ensées 57"/>
          <p:cNvSpPr/>
          <p:nvPr/>
        </p:nvSpPr>
        <p:spPr>
          <a:xfrm>
            <a:off x="0" y="2436840"/>
            <a:ext cx="9144000" cy="3571920"/>
          </a:xfrm>
          <a:prstGeom prst="cloudCallout">
            <a:avLst>
              <a:gd name="adj1" fmla="val -24212"/>
              <a:gd name="adj2" fmla="val 7209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Rectangle à coins arrondis 30"/>
          <p:cNvGrpSpPr/>
          <p:nvPr/>
        </p:nvGrpSpPr>
        <p:grpSpPr>
          <a:xfrm>
            <a:off x="7302600" y="5340240"/>
            <a:ext cx="1877760" cy="1395360"/>
            <a:chOff x="7302600" y="5340240"/>
            <a:chExt cx="1877760" cy="1395360"/>
          </a:xfrm>
        </p:grpSpPr>
        <p:pic>
          <p:nvPicPr>
            <p:cNvPr id="107" name="Rectangle à coins arrondis 30" descr=""/>
            <p:cNvPicPr/>
            <p:nvPr/>
          </p:nvPicPr>
          <p:blipFill>
            <a:blip r:embed="rId1"/>
            <a:stretch/>
          </p:blipFill>
          <p:spPr>
            <a:xfrm>
              <a:off x="7302600" y="5340240"/>
              <a:ext cx="187776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7385040" y="5424480"/>
              <a:ext cx="129708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0040" y="-171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31"/>
          <p:cNvSpPr/>
          <p:nvPr/>
        </p:nvSpPr>
        <p:spPr>
          <a:xfrm>
            <a:off x="3444840" y="6006960"/>
            <a:ext cx="450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22268"/>
                </a:solidFill>
                <a:latin typeface="Arial"/>
              </a:rPr>
              <a:t>La probabilité est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1"/>
          <p:cNvSpPr/>
          <p:nvPr/>
        </p:nvSpPr>
        <p:spPr>
          <a:xfrm>
            <a:off x="249120" y="928800"/>
            <a:ext cx="79297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urne opaque contient 5 boules bleues, 4 boules rouges et 3 boules jaunes, indiscernables au touc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tire une première boule de l’urne : elle est jau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la remet dans l’urne et on tire une seconde bo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lle est la probabilité qu’elle soit roug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58"/>
          <p:cNvSpPr/>
          <p:nvPr/>
        </p:nvSpPr>
        <p:spPr>
          <a:xfrm>
            <a:off x="1714680" y="294336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On remet la boule dans l’urne. 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Le premier tirage n’influe en rien sur le second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. Il y a 12 boules dans l’urn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96"/>
          <p:cNvSpPr/>
          <p:nvPr/>
        </p:nvSpPr>
        <p:spPr>
          <a:xfrm>
            <a:off x="2701800" y="50785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4 chances sur 12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7429680" y="5429160"/>
                <a:ext cx="134280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5" name="Groupe 59"/>
          <p:cNvGrpSpPr/>
          <p:nvPr/>
        </p:nvGrpSpPr>
        <p:grpSpPr>
          <a:xfrm>
            <a:off x="577800" y="4259160"/>
            <a:ext cx="7988400" cy="584280"/>
            <a:chOff x="577800" y="4259160"/>
            <a:chExt cx="7988400" cy="584280"/>
          </a:xfrm>
        </p:grpSpPr>
        <p:sp>
          <p:nvSpPr>
            <p:cNvPr id="116" name="Ellipse 60"/>
            <p:cNvSpPr/>
            <p:nvPr/>
          </p:nvSpPr>
          <p:spPr>
            <a:xfrm>
              <a:off x="7994880" y="4271760"/>
              <a:ext cx="571320" cy="5716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Ellipse 61"/>
            <p:cNvSpPr/>
            <p:nvPr/>
          </p:nvSpPr>
          <p:spPr>
            <a:xfrm>
              <a:off x="1220760" y="4265280"/>
              <a:ext cx="571320" cy="571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Ellipse 62"/>
            <p:cNvSpPr/>
            <p:nvPr/>
          </p:nvSpPr>
          <p:spPr>
            <a:xfrm>
              <a:off x="1863720" y="4265280"/>
              <a:ext cx="571320" cy="571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Ellipse 63"/>
            <p:cNvSpPr/>
            <p:nvPr/>
          </p:nvSpPr>
          <p:spPr>
            <a:xfrm>
              <a:off x="2506680" y="4265280"/>
              <a:ext cx="571320" cy="571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Ellipse 76"/>
            <p:cNvSpPr/>
            <p:nvPr/>
          </p:nvSpPr>
          <p:spPr>
            <a:xfrm>
              <a:off x="3149640" y="4259160"/>
              <a:ext cx="571320" cy="571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Ellipse 77"/>
            <p:cNvSpPr/>
            <p:nvPr/>
          </p:nvSpPr>
          <p:spPr>
            <a:xfrm>
              <a:off x="3935520" y="4265280"/>
              <a:ext cx="571320" cy="571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Ellipse 79"/>
            <p:cNvSpPr/>
            <p:nvPr/>
          </p:nvSpPr>
          <p:spPr>
            <a:xfrm>
              <a:off x="4578480" y="4265280"/>
              <a:ext cx="571320" cy="571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Ellipse 81"/>
            <p:cNvSpPr/>
            <p:nvPr/>
          </p:nvSpPr>
          <p:spPr>
            <a:xfrm>
              <a:off x="5864400" y="4265280"/>
              <a:ext cx="571320" cy="571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Ellipse 90"/>
            <p:cNvSpPr/>
            <p:nvPr/>
          </p:nvSpPr>
          <p:spPr>
            <a:xfrm>
              <a:off x="5221440" y="4265280"/>
              <a:ext cx="571320" cy="571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Ellipse 91"/>
            <p:cNvSpPr/>
            <p:nvPr/>
          </p:nvSpPr>
          <p:spPr>
            <a:xfrm>
              <a:off x="577800" y="4265280"/>
              <a:ext cx="571320" cy="571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Ellipse 93"/>
            <p:cNvSpPr/>
            <p:nvPr/>
          </p:nvSpPr>
          <p:spPr>
            <a:xfrm>
              <a:off x="7293240" y="4265280"/>
              <a:ext cx="571320" cy="5716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Ellipse 94"/>
            <p:cNvSpPr/>
            <p:nvPr/>
          </p:nvSpPr>
          <p:spPr>
            <a:xfrm>
              <a:off x="6650280" y="4265280"/>
              <a:ext cx="571320" cy="5716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13"/>
          <p:cNvSpPr/>
          <p:nvPr/>
        </p:nvSpPr>
        <p:spPr>
          <a:xfrm flipV="1">
            <a:off x="8034480" y="418104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V="1">
            <a:off x="3164040" y="421272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 flipV="1">
            <a:off x="2571840" y="414288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 flipV="1">
            <a:off x="1949400" y="414288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 flipV="1">
            <a:off x="1262160" y="414144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636480" y="411588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V="1">
            <a:off x="7319880" y="413676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V="1">
            <a:off x="6715080" y="409068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Rectangle à coins arrondis 30"/>
          <p:cNvGrpSpPr/>
          <p:nvPr/>
        </p:nvGrpSpPr>
        <p:grpSpPr>
          <a:xfrm>
            <a:off x="6888240" y="5340240"/>
            <a:ext cx="1884240" cy="1395360"/>
            <a:chOff x="6888240" y="5340240"/>
            <a:chExt cx="1884240" cy="1395360"/>
          </a:xfrm>
        </p:grpSpPr>
        <p:pic>
          <p:nvPicPr>
            <p:cNvPr id="137" name="Rectangle à coins arrondis 30" descr=""/>
            <p:cNvPicPr/>
            <p:nvPr/>
          </p:nvPicPr>
          <p:blipFill>
            <a:blip r:embed="rId1"/>
            <a:stretch/>
          </p:blipFill>
          <p:spPr>
            <a:xfrm>
              <a:off x="6888240" y="5340240"/>
              <a:ext cx="18842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975360" y="5424480"/>
              <a:ext cx="12956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0040" y="-171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31"/>
          <p:cNvSpPr/>
          <p:nvPr/>
        </p:nvSpPr>
        <p:spPr>
          <a:xfrm>
            <a:off x="2968560" y="5767560"/>
            <a:ext cx="450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222268"/>
                </a:solidFill>
                <a:latin typeface="Arial"/>
              </a:rPr>
              <a:t>La probabilité est de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1"/>
          <p:cNvSpPr/>
          <p:nvPr/>
        </p:nvSpPr>
        <p:spPr>
          <a:xfrm>
            <a:off x="249120" y="928800"/>
            <a:ext cx="79297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urne opaque contient 5 boules bleues, 4 boules rouges et 3 boules jaunes, indiscernables au touc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tire une première boule de l’urne : elle est jau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la pose sur la table et on tire une seconde bo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lle est la probabilité qu’elle ne soit pas jaun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7319880" y="5429160"/>
                <a:ext cx="68904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3" name="Groupe 59"/>
          <p:cNvGrpSpPr/>
          <p:nvPr/>
        </p:nvGrpSpPr>
        <p:grpSpPr>
          <a:xfrm>
            <a:off x="915840" y="4683240"/>
            <a:ext cx="7286760" cy="577800"/>
            <a:chOff x="915840" y="4683240"/>
            <a:chExt cx="7286760" cy="577800"/>
          </a:xfrm>
        </p:grpSpPr>
        <p:sp>
          <p:nvSpPr>
            <p:cNvPr id="144" name="Ellipse 61"/>
            <p:cNvSpPr/>
            <p:nvPr/>
          </p:nvSpPr>
          <p:spPr>
            <a:xfrm>
              <a:off x="1558800" y="4689360"/>
              <a:ext cx="571320" cy="571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Ellipse 62"/>
            <p:cNvSpPr/>
            <p:nvPr/>
          </p:nvSpPr>
          <p:spPr>
            <a:xfrm>
              <a:off x="2201760" y="4689360"/>
              <a:ext cx="571320" cy="571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Ellipse 63"/>
            <p:cNvSpPr/>
            <p:nvPr/>
          </p:nvSpPr>
          <p:spPr>
            <a:xfrm>
              <a:off x="2844720" y="4689360"/>
              <a:ext cx="571320" cy="571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Ellipse 76"/>
            <p:cNvSpPr/>
            <p:nvPr/>
          </p:nvSpPr>
          <p:spPr>
            <a:xfrm>
              <a:off x="3487680" y="4683240"/>
              <a:ext cx="571320" cy="571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Ellipse 77"/>
            <p:cNvSpPr/>
            <p:nvPr/>
          </p:nvSpPr>
          <p:spPr>
            <a:xfrm>
              <a:off x="4273560" y="4689360"/>
              <a:ext cx="571320" cy="571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Ellipse 79"/>
            <p:cNvSpPr/>
            <p:nvPr/>
          </p:nvSpPr>
          <p:spPr>
            <a:xfrm>
              <a:off x="4916520" y="4689360"/>
              <a:ext cx="571320" cy="571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Ellipse 81"/>
            <p:cNvSpPr/>
            <p:nvPr/>
          </p:nvSpPr>
          <p:spPr>
            <a:xfrm>
              <a:off x="6202440" y="4689360"/>
              <a:ext cx="571320" cy="571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Ellipse 90"/>
            <p:cNvSpPr/>
            <p:nvPr/>
          </p:nvSpPr>
          <p:spPr>
            <a:xfrm>
              <a:off x="5559480" y="4689360"/>
              <a:ext cx="571320" cy="571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Ellipse 91"/>
            <p:cNvSpPr/>
            <p:nvPr/>
          </p:nvSpPr>
          <p:spPr>
            <a:xfrm>
              <a:off x="915840" y="4689360"/>
              <a:ext cx="571320" cy="571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Ellipse 93"/>
            <p:cNvSpPr/>
            <p:nvPr/>
          </p:nvSpPr>
          <p:spPr>
            <a:xfrm>
              <a:off x="7631280" y="4689360"/>
              <a:ext cx="571320" cy="5716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Ellipse 94"/>
            <p:cNvSpPr/>
            <p:nvPr/>
          </p:nvSpPr>
          <p:spPr>
            <a:xfrm>
              <a:off x="6988320" y="4689360"/>
              <a:ext cx="571320" cy="5716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ZoneTexte 32"/>
          <p:cNvSpPr/>
          <p:nvPr/>
        </p:nvSpPr>
        <p:spPr>
          <a:xfrm>
            <a:off x="285840" y="246708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Après le premier ti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46"/>
          <p:cNvSpPr/>
          <p:nvPr/>
        </p:nvSpPr>
        <p:spPr>
          <a:xfrm>
            <a:off x="4143240" y="371484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Il y a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11 boules </a:t>
            </a: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dans l’u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ZoneTexte 47"/>
          <p:cNvSpPr/>
          <p:nvPr/>
        </p:nvSpPr>
        <p:spPr>
          <a:xfrm>
            <a:off x="309600" y="40719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Second tirag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e 33"/>
          <p:cNvGrpSpPr/>
          <p:nvPr/>
        </p:nvGrpSpPr>
        <p:grpSpPr>
          <a:xfrm>
            <a:off x="785880" y="3000240"/>
            <a:ext cx="7929360" cy="578160"/>
            <a:chOff x="785880" y="3000240"/>
            <a:chExt cx="7929360" cy="578160"/>
          </a:xfrm>
        </p:grpSpPr>
        <p:sp>
          <p:nvSpPr>
            <p:cNvPr id="159" name="Ellipse 34"/>
            <p:cNvSpPr/>
            <p:nvPr/>
          </p:nvSpPr>
          <p:spPr>
            <a:xfrm>
              <a:off x="1428480" y="3006360"/>
              <a:ext cx="571320" cy="57204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Ellipse 35"/>
            <p:cNvSpPr/>
            <p:nvPr/>
          </p:nvSpPr>
          <p:spPr>
            <a:xfrm>
              <a:off x="2071440" y="3006360"/>
              <a:ext cx="571320" cy="57204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Ellipse 36"/>
            <p:cNvSpPr/>
            <p:nvPr/>
          </p:nvSpPr>
          <p:spPr>
            <a:xfrm>
              <a:off x="2714400" y="3006360"/>
              <a:ext cx="571320" cy="57204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Ellipse 37"/>
            <p:cNvSpPr/>
            <p:nvPr/>
          </p:nvSpPr>
          <p:spPr>
            <a:xfrm>
              <a:off x="3357360" y="3000240"/>
              <a:ext cx="571320" cy="57204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Ellipse 38"/>
            <p:cNvSpPr/>
            <p:nvPr/>
          </p:nvSpPr>
          <p:spPr>
            <a:xfrm>
              <a:off x="4143240" y="3006360"/>
              <a:ext cx="571320" cy="5720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Ellipse 39"/>
            <p:cNvSpPr/>
            <p:nvPr/>
          </p:nvSpPr>
          <p:spPr>
            <a:xfrm>
              <a:off x="4786200" y="3006360"/>
              <a:ext cx="571320" cy="5720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Ellipse 40"/>
            <p:cNvSpPr/>
            <p:nvPr/>
          </p:nvSpPr>
          <p:spPr>
            <a:xfrm>
              <a:off x="6072120" y="3006360"/>
              <a:ext cx="571320" cy="5720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Ellipse 41"/>
            <p:cNvSpPr/>
            <p:nvPr/>
          </p:nvSpPr>
          <p:spPr>
            <a:xfrm>
              <a:off x="5429160" y="3006360"/>
              <a:ext cx="571320" cy="5720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Ellipse 42"/>
            <p:cNvSpPr/>
            <p:nvPr/>
          </p:nvSpPr>
          <p:spPr>
            <a:xfrm>
              <a:off x="785880" y="3006360"/>
              <a:ext cx="571320" cy="57204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Ellipse 43"/>
            <p:cNvSpPr/>
            <p:nvPr/>
          </p:nvSpPr>
          <p:spPr>
            <a:xfrm>
              <a:off x="8143920" y="3006360"/>
              <a:ext cx="571320" cy="57204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Ellipse 44"/>
            <p:cNvSpPr/>
            <p:nvPr/>
          </p:nvSpPr>
          <p:spPr>
            <a:xfrm>
              <a:off x="7500960" y="3006360"/>
              <a:ext cx="571320" cy="57204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Ellipse 45"/>
            <p:cNvSpPr/>
            <p:nvPr/>
          </p:nvSpPr>
          <p:spPr>
            <a:xfrm>
              <a:off x="6858000" y="3006360"/>
              <a:ext cx="571320" cy="57204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e 69"/>
          <p:cNvGrpSpPr/>
          <p:nvPr/>
        </p:nvGrpSpPr>
        <p:grpSpPr>
          <a:xfrm>
            <a:off x="1071720" y="4429080"/>
            <a:ext cx="5500440" cy="214200"/>
            <a:chOff x="1071720" y="4429080"/>
            <a:chExt cx="5500440" cy="214200"/>
          </a:xfrm>
        </p:grpSpPr>
        <p:sp>
          <p:nvSpPr>
            <p:cNvPr id="172" name="Flèche vers le bas 48"/>
            <p:cNvSpPr/>
            <p:nvPr/>
          </p:nvSpPr>
          <p:spPr>
            <a:xfrm>
              <a:off x="1071720" y="4429080"/>
              <a:ext cx="214200" cy="214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lèche vers le bas 49"/>
            <p:cNvSpPr/>
            <p:nvPr/>
          </p:nvSpPr>
          <p:spPr>
            <a:xfrm>
              <a:off x="1714320" y="4429080"/>
              <a:ext cx="214200" cy="214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lèche vers le bas 50"/>
            <p:cNvSpPr/>
            <p:nvPr/>
          </p:nvSpPr>
          <p:spPr>
            <a:xfrm>
              <a:off x="2357280" y="4429080"/>
              <a:ext cx="214200" cy="214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lèche vers le bas 59"/>
            <p:cNvSpPr/>
            <p:nvPr/>
          </p:nvSpPr>
          <p:spPr>
            <a:xfrm>
              <a:off x="3000240" y="4429080"/>
              <a:ext cx="214200" cy="214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lèche vers le bas 64"/>
            <p:cNvSpPr/>
            <p:nvPr/>
          </p:nvSpPr>
          <p:spPr>
            <a:xfrm>
              <a:off x="3714840" y="4429080"/>
              <a:ext cx="214200" cy="214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lèche vers le bas 65"/>
            <p:cNvSpPr/>
            <p:nvPr/>
          </p:nvSpPr>
          <p:spPr>
            <a:xfrm>
              <a:off x="4429080" y="4429080"/>
              <a:ext cx="214200" cy="214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lèche vers le bas 66"/>
            <p:cNvSpPr/>
            <p:nvPr/>
          </p:nvSpPr>
          <p:spPr>
            <a:xfrm>
              <a:off x="5072040" y="4429080"/>
              <a:ext cx="214200" cy="214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lèche vers le bas 67"/>
            <p:cNvSpPr/>
            <p:nvPr/>
          </p:nvSpPr>
          <p:spPr>
            <a:xfrm>
              <a:off x="5715000" y="4429080"/>
              <a:ext cx="214200" cy="214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lèche vers le bas 68"/>
            <p:cNvSpPr/>
            <p:nvPr/>
          </p:nvSpPr>
          <p:spPr>
            <a:xfrm>
              <a:off x="6357960" y="4429080"/>
              <a:ext cx="214200" cy="2142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00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Line 13"/>
          <p:cNvSpPr/>
          <p:nvPr/>
        </p:nvSpPr>
        <p:spPr>
          <a:xfrm flipV="1">
            <a:off x="8196120" y="288900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 flipV="1">
            <a:off x="7012080" y="456048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 flipV="1">
            <a:off x="7688160" y="4584240"/>
            <a:ext cx="500040" cy="785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252360" y="857160"/>
            <a:ext cx="8715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lance un dé pipé à six faces numérotées de 1 à 6. La probabilité d’obtenir « 1 » est 0,2. Celle d’obtenir « 6 » est égale à 0,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a autant de chance d’obtenir 2, 3, 4 ou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la probabilité d’obtenir « 3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500040" y="-141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ensées 3"/>
          <p:cNvSpPr/>
          <p:nvPr/>
        </p:nvSpPr>
        <p:spPr>
          <a:xfrm>
            <a:off x="-285840" y="2928960"/>
            <a:ext cx="9144000" cy="2857320"/>
          </a:xfrm>
          <a:prstGeom prst="cloudCallout">
            <a:avLst>
              <a:gd name="adj1" fmla="val -24212"/>
              <a:gd name="adj2" fmla="val 7209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oneTexte 6"/>
          <p:cNvSpPr/>
          <p:nvPr/>
        </p:nvSpPr>
        <p:spPr>
          <a:xfrm>
            <a:off x="428760" y="342900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Probabilité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d’obtenir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«1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» ou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«6»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: 0,2 + 0,4 = 0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7"/>
          <p:cNvSpPr/>
          <p:nvPr/>
        </p:nvSpPr>
        <p:spPr>
          <a:xfrm>
            <a:off x="142920" y="4000680"/>
            <a:ext cx="864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Probabilité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d’obtenir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« 2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», « 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3 », « 4 »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 ou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« 5 »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: 0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8"/>
          <p:cNvSpPr/>
          <p:nvPr/>
        </p:nvSpPr>
        <p:spPr>
          <a:xfrm>
            <a:off x="500040" y="457200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Probabilité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d’obtenir « 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3 »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2"/>
              <p:cNvSpPr txBox="1"/>
              <p:nvPr/>
            </p:nvSpPr>
            <p:spPr>
              <a:xfrm>
                <a:off x="5394240" y="4500720"/>
                <a:ext cx="11397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4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,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Rectangle 9"/>
          <p:cNvSpPr/>
          <p:nvPr/>
        </p:nvSpPr>
        <p:spPr>
          <a:xfrm>
            <a:off x="3143160" y="60008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La probabilité est d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Rectangle à coins arrondis 10"/>
          <p:cNvGrpSpPr/>
          <p:nvPr/>
        </p:nvGrpSpPr>
        <p:grpSpPr>
          <a:xfrm>
            <a:off x="7265880" y="5340240"/>
            <a:ext cx="1695600" cy="1395360"/>
            <a:chOff x="7265880" y="5340240"/>
            <a:chExt cx="1695600" cy="1395360"/>
          </a:xfrm>
        </p:grpSpPr>
        <p:pic>
          <p:nvPicPr>
            <p:cNvPr id="193" name="Rectangle à coins arrondis 10" descr=""/>
            <p:cNvPicPr/>
            <p:nvPr/>
          </p:nvPicPr>
          <p:blipFill>
            <a:blip r:embed="rId1"/>
            <a:stretch/>
          </p:blipFill>
          <p:spPr>
            <a:xfrm>
              <a:off x="7265880" y="5340240"/>
              <a:ext cx="169560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350120" y="5421240"/>
              <a:ext cx="1158840" cy="12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95" name="Object 3"/>
              <p:cNvSpPr txBox="1"/>
              <p:nvPr/>
            </p:nvSpPr>
            <p:spPr>
              <a:xfrm>
                <a:off x="7358040" y="5657760"/>
                <a:ext cx="9860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0,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5712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3880" y="3643200"/>
            <a:ext cx="79297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terminer la probabilité pour que chacun des événements suivants soit réalisé.</a:t>
            </a:r>
            <a:br>
              <a:rPr sz="4400"/>
            </a:br>
            <a:br>
              <a:rPr sz="4400"/>
            </a:b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Le résultat sera donné sous la forme d’une </a:t>
            </a:r>
            <a:r>
              <a:rPr b="1" i="1" lang="fr-FR" sz="4000" spc="-1" strike="noStrike">
                <a:solidFill>
                  <a:srgbClr val="000000"/>
                </a:solidFill>
                <a:latin typeface="Arial"/>
              </a:rPr>
              <a:t>fraction irréductible. </a:t>
            </a:r>
            <a:br>
              <a:rPr sz="40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85480" y="2491920"/>
            <a:ext cx="86439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deux fois de suite une pièce de monna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l’a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chant qu’on a obtenu « 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I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 » au premier lancer,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« 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» au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econd lancer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500040" y="21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56760" y="2571840"/>
            <a:ext cx="835812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deux fois de suite une pièce de monnaie en l’a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« 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PIL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» au moins une fois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00040" y="21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llipse 5"/>
          <p:cNvSpPr/>
          <p:nvPr/>
        </p:nvSpPr>
        <p:spPr>
          <a:xfrm>
            <a:off x="1357200" y="1857240"/>
            <a:ext cx="571680" cy="57168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e 6"/>
          <p:cNvSpPr/>
          <p:nvPr/>
        </p:nvSpPr>
        <p:spPr>
          <a:xfrm>
            <a:off x="2000160" y="1857240"/>
            <a:ext cx="571680" cy="57168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e 7"/>
          <p:cNvSpPr/>
          <p:nvPr/>
        </p:nvSpPr>
        <p:spPr>
          <a:xfrm>
            <a:off x="2643120" y="1857240"/>
            <a:ext cx="571680" cy="57168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8"/>
          <p:cNvSpPr/>
          <p:nvPr/>
        </p:nvSpPr>
        <p:spPr>
          <a:xfrm>
            <a:off x="3286080" y="1851120"/>
            <a:ext cx="571680" cy="5713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9"/>
          <p:cNvSpPr/>
          <p:nvPr/>
        </p:nvSpPr>
        <p:spPr>
          <a:xfrm>
            <a:off x="407196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10"/>
          <p:cNvSpPr/>
          <p:nvPr/>
        </p:nvSpPr>
        <p:spPr>
          <a:xfrm>
            <a:off x="471492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Ellipse 11"/>
          <p:cNvSpPr/>
          <p:nvPr/>
        </p:nvSpPr>
        <p:spPr>
          <a:xfrm>
            <a:off x="600084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Ellipse 12"/>
          <p:cNvSpPr/>
          <p:nvPr/>
        </p:nvSpPr>
        <p:spPr>
          <a:xfrm>
            <a:off x="5357880" y="1857240"/>
            <a:ext cx="571320" cy="571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13"/>
          <p:cNvSpPr/>
          <p:nvPr/>
        </p:nvSpPr>
        <p:spPr>
          <a:xfrm>
            <a:off x="714240" y="1857240"/>
            <a:ext cx="571680" cy="57168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Ellipse 14"/>
          <p:cNvSpPr/>
          <p:nvPr/>
        </p:nvSpPr>
        <p:spPr>
          <a:xfrm>
            <a:off x="8072280" y="1857240"/>
            <a:ext cx="57168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Ellipse 15"/>
          <p:cNvSpPr/>
          <p:nvPr/>
        </p:nvSpPr>
        <p:spPr>
          <a:xfrm>
            <a:off x="7429680" y="1857240"/>
            <a:ext cx="57132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llipse 16"/>
          <p:cNvSpPr/>
          <p:nvPr/>
        </p:nvSpPr>
        <p:spPr>
          <a:xfrm>
            <a:off x="6786720" y="1857240"/>
            <a:ext cx="571320" cy="5716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00040" y="21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42920" y="2857680"/>
            <a:ext cx="878688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urne opaque contient 5 boules bleues, 4 boules rouges et 3 boules jaunes, indiscernables au tou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tire une première boule de l’urne : elle est jau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 remet dans l’urne et on tire une seconde bo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qu’elle soit roug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2920" y="2857680"/>
            <a:ext cx="8786880" cy="17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urne opaque contient 5 boules bleues, 4 boules rouges et 3 boules jaunes, indiscernables au touc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tire une première boule de l’urne : elle est jau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 pose sur la table et on tire une seconde bo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qu’elle ne soit pas jau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e 17"/>
          <p:cNvGrpSpPr/>
          <p:nvPr/>
        </p:nvGrpSpPr>
        <p:grpSpPr>
          <a:xfrm>
            <a:off x="714240" y="1851120"/>
            <a:ext cx="7929720" cy="577800"/>
            <a:chOff x="714240" y="1851120"/>
            <a:chExt cx="7929720" cy="577800"/>
          </a:xfrm>
        </p:grpSpPr>
        <p:sp>
          <p:nvSpPr>
            <p:cNvPr id="70" name="Ellipse 5"/>
            <p:cNvSpPr/>
            <p:nvPr/>
          </p:nvSpPr>
          <p:spPr>
            <a:xfrm>
              <a:off x="1357200" y="1857240"/>
              <a:ext cx="571320" cy="571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6"/>
            <p:cNvSpPr/>
            <p:nvPr/>
          </p:nvSpPr>
          <p:spPr>
            <a:xfrm>
              <a:off x="2000160" y="1857240"/>
              <a:ext cx="571320" cy="571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Ellipse 7"/>
            <p:cNvSpPr/>
            <p:nvPr/>
          </p:nvSpPr>
          <p:spPr>
            <a:xfrm>
              <a:off x="2643120" y="1857240"/>
              <a:ext cx="571320" cy="571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8"/>
            <p:cNvSpPr/>
            <p:nvPr/>
          </p:nvSpPr>
          <p:spPr>
            <a:xfrm>
              <a:off x="3286080" y="1851120"/>
              <a:ext cx="571320" cy="571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Ellipse 9"/>
            <p:cNvSpPr/>
            <p:nvPr/>
          </p:nvSpPr>
          <p:spPr>
            <a:xfrm>
              <a:off x="4071960" y="1857240"/>
              <a:ext cx="571320" cy="571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Ellipse 10"/>
            <p:cNvSpPr/>
            <p:nvPr/>
          </p:nvSpPr>
          <p:spPr>
            <a:xfrm>
              <a:off x="4714920" y="1857240"/>
              <a:ext cx="571320" cy="571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1"/>
            <p:cNvSpPr/>
            <p:nvPr/>
          </p:nvSpPr>
          <p:spPr>
            <a:xfrm>
              <a:off x="6000840" y="1857240"/>
              <a:ext cx="571320" cy="571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2"/>
            <p:cNvSpPr/>
            <p:nvPr/>
          </p:nvSpPr>
          <p:spPr>
            <a:xfrm>
              <a:off x="5357880" y="1857240"/>
              <a:ext cx="571320" cy="57168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Ellipse 13"/>
            <p:cNvSpPr/>
            <p:nvPr/>
          </p:nvSpPr>
          <p:spPr>
            <a:xfrm>
              <a:off x="714240" y="1857240"/>
              <a:ext cx="571320" cy="571680"/>
            </a:xfrm>
            <a:prstGeom prst="ellipse">
              <a:avLst/>
            </a:prstGeom>
            <a:solidFill>
              <a:srgbClr val="333399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Ellipse 14"/>
            <p:cNvSpPr/>
            <p:nvPr/>
          </p:nvSpPr>
          <p:spPr>
            <a:xfrm>
              <a:off x="8072640" y="1857240"/>
              <a:ext cx="571320" cy="5716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5"/>
            <p:cNvSpPr/>
            <p:nvPr/>
          </p:nvSpPr>
          <p:spPr>
            <a:xfrm>
              <a:off x="7429680" y="1857240"/>
              <a:ext cx="571320" cy="5716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6"/>
            <p:cNvSpPr/>
            <p:nvPr/>
          </p:nvSpPr>
          <p:spPr>
            <a:xfrm>
              <a:off x="6786720" y="1857240"/>
              <a:ext cx="571320" cy="5716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Rectangle 2"/>
          <p:cNvSpPr/>
          <p:nvPr/>
        </p:nvSpPr>
        <p:spPr>
          <a:xfrm>
            <a:off x="500040" y="21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14200" y="2071800"/>
            <a:ext cx="8715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un dé pipé à six faces numérotées de 1 à 6. La probabilité d’obtenir « 1 » est 0,2. Celle d’obtenir « 6 » est égale à 0,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a autant de chance d’obtenir 2, 3, 4 ou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éterminer la probabilité d’obtenir « 3 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500040" y="21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Rectangle à coins arrondis 8"/>
          <p:cNvGrpSpPr/>
          <p:nvPr/>
        </p:nvGrpSpPr>
        <p:grpSpPr>
          <a:xfrm>
            <a:off x="6480000" y="4979880"/>
            <a:ext cx="2183040" cy="1798920"/>
            <a:chOff x="6480000" y="4979880"/>
            <a:chExt cx="2183040" cy="1798920"/>
          </a:xfrm>
        </p:grpSpPr>
        <p:pic>
          <p:nvPicPr>
            <p:cNvPr id="87" name="Rectangle à coins arrondis 8" descr=""/>
            <p:cNvPicPr/>
            <p:nvPr/>
          </p:nvPicPr>
          <p:blipFill>
            <a:blip r:embed="rId1"/>
            <a:stretch/>
          </p:blipFill>
          <p:spPr>
            <a:xfrm>
              <a:off x="6480000" y="4979880"/>
              <a:ext cx="218304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539040" y="5038560"/>
              <a:ext cx="709560" cy="13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-432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6597720" y="4956120"/>
                <a:ext cx="6490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Pensées 7"/>
          <p:cNvSpPr/>
          <p:nvPr/>
        </p:nvSpPr>
        <p:spPr>
          <a:xfrm>
            <a:off x="0" y="2714760"/>
            <a:ext cx="7429680" cy="3143160"/>
          </a:xfrm>
          <a:prstGeom prst="cloudCallout">
            <a:avLst>
              <a:gd name="adj1" fmla="val -24212"/>
              <a:gd name="adj2" fmla="val 7209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6"/>
          <p:cNvSpPr/>
          <p:nvPr/>
        </p:nvSpPr>
        <p:spPr>
          <a:xfrm>
            <a:off x="681120" y="3351240"/>
            <a:ext cx="664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1 chance sur 2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d’obtenir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«FACE»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au second lancer.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emier lancer n’influe en rien sur le seco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Soit une probabilité d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14200" y="1131840"/>
            <a:ext cx="86439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deux fois de suite une pièce de monnaie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achant qu’on a obtenu « 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I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 » au premier lancer,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« 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» au second lancer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22:51:51Z</dcterms:created>
  <dc:creator>Claudine Bertrand-Gorge</dc:creator>
  <dc:description/>
  <dc:language>en-US</dc:language>
  <cp:lastModifiedBy>Marionseg</cp:lastModifiedBy>
  <dcterms:modified xsi:type="dcterms:W3CDTF">2010-01-09T21:13:21Z</dcterms:modified>
  <cp:revision>101</cp:revision>
  <dc:subject/>
  <dc:title>N° 1</dc:title>
</cp:coreProperties>
</file>