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2016-9590-41BA-94D8-1AF2CBA3BE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CDAB-41DE-4297-B238-8156EAE30B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C976-78DD-4EA5-933A-D61DF3939A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F793-6156-4F17-8295-103A70AD71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458F-E934-46CA-87E9-372B450DD3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2FE-28AA-451C-BA5A-63442FDF0C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B03B-CD58-46FB-AD5E-F1444B8A6B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D408-757C-443B-8B98-3D0C90BDA9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6E4D-1FED-4819-859F-E55E1E60E6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02CA-1004-438D-86D4-7E4F5144B2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6312-29F0-4789-865A-C4967E3F56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3AD4-A630-4AA5-9172-A65FA9272D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1458-87C6-4661-B3D9-E5392C893C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4D3F-C886-4206-8731-DD0322E9B0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C77-A512-4057-A3D2-8D75A37A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FBD-483F-4B89-9925-0EEC050C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957-E72F-49F5-80DD-12853B51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F2F-CF9F-4DA3-8D22-8F268A91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46F5-462B-483B-AC8D-4CEAB22B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8CB4-7D5D-4C81-8680-3E50526B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DCD9-0449-4F36-9A9D-891D6BB9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0EBC-A74E-406A-A224-F35E853A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1821-8F7D-40B5-8A9B-689A7F27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D0BF-B40E-417E-A976-176F5BEC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5FF2-17BE-4AA7-AAE1-71CDF5E8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0E7E-888E-4742-B496-75F79662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E215-DD3E-42F1-A6A7-859C016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352A-3E5F-4DF2-A364-D0496DE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D048-532B-4135-BA3D-A173A6EC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5BDA-F415-43C0-905C-6C2E5352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15F3-80ED-4900-A93C-47D6E833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E39-37E4-4655-A212-8FDA6B16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F53-5CE1-4E6D-8713-B2FD431F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7ACF-FE47-4F85-9F92-741B198C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CD6-A32A-4F0D-A23E-4877DFF4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6F9-DF56-40E0-92AD-6078BAFE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E6A8-A45E-47B8-8990-48107262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B026-CBDE-465F-B50B-CEC9BF87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3319-5A10-491D-B1CB-AFD2CC7C6B1B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EB14-7DC2-4267-9E61-4FDB82BB9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642960" y="2244600"/>
            <a:ext cx="9786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UR DE THALÈS</a:t>
            </a:r>
            <a:br>
              <a:rPr sz="6000"/>
            </a:b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ites parallèles ou non parallèles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RIE N°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00080" y="142920"/>
            <a:ext cx="8429760" cy="639900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571760" y="312840"/>
            <a:ext cx="7929360" cy="6545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5"/>
          <p:cNvSpPr/>
          <p:nvPr/>
        </p:nvSpPr>
        <p:spPr>
          <a:xfrm>
            <a:off x="0" y="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971640" y="695160"/>
            <a:ext cx="8172360" cy="5696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99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9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Sur chacune des figures, les droites (MN) et (BC) sont-elles parallèles ? Justifier la réponse.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1112760" y="714240"/>
            <a:ext cx="803124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rcRect l="0" t="0" r="22433" b="0"/>
          <a:stretch/>
        </p:blipFill>
        <p:spPr>
          <a:xfrm>
            <a:off x="1571760" y="-15840"/>
            <a:ext cx="6072120" cy="644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928800" y="500040"/>
            <a:ext cx="769284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928800" y="84240"/>
            <a:ext cx="8215200" cy="6273720"/>
          </a:xfrm>
          <a:prstGeom prst="rect">
            <a:avLst/>
          </a:prstGeom>
          <a:ln w="0">
            <a:noFill/>
          </a:ln>
        </p:spPr>
      </p:pic>
      <p:sp>
        <p:nvSpPr>
          <p:cNvPr id="94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071720" y="428760"/>
            <a:ext cx="7358040" cy="5929200"/>
          </a:xfrm>
          <a:prstGeom prst="rect">
            <a:avLst/>
          </a:prstGeom>
          <a:ln w="0">
            <a:noFill/>
          </a:ln>
        </p:spPr>
      </p:pic>
      <p:sp>
        <p:nvSpPr>
          <p:cNvPr id="96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214280" y="428760"/>
            <a:ext cx="8226720" cy="596268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357200" y="0"/>
            <a:ext cx="8215560" cy="6591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21T14:39:31Z</dcterms:modified>
  <cp:revision>33</cp:revision>
  <dc:subject/>
  <dc:title>Diapositive 1</dc:title>
</cp:coreProperties>
</file>