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615DA-25E8-4048-8A38-09039E805B6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A4169-61A8-408A-B922-689808DF009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F70F9-307B-4469-B8B5-37E0DC39ACC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5FD38-1364-44E4-B1EF-D560A5341AC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37C60-714F-4342-91DA-20ECA5991B8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290B4-F443-45CC-AC8D-929737BBAD3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26B79-33D3-4FC7-93A3-7B6589AE16A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0C140-A56A-43A0-BB5B-9B59BA6C44B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F51CE-C7DE-4AAC-99D8-939114D1F2C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A3E42-1E57-4796-ABC1-8CB05E01B3F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0EE4A-436D-4011-B36D-61E3AD8B214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9ADA0-6ACA-4A99-B68E-E041FB2AF35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A206-F8B9-45DC-B574-165835E875A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F38AF-7DBD-4DD2-B17D-481941A8DAF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2CCE-B5B0-41EB-9A28-05DA76A0A4E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34F8-B0E5-4FC8-B675-7E701ADCE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B8F1-2B28-4455-90C1-17E2CEBD9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46B0-1304-423B-8F04-48243AFEF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4578-6D60-4572-BDCF-F9D872A2F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A0DD-D8CA-42D8-A152-DD1F0E5F3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13E9-4F06-4CF6-B658-E984844CB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A266-CF2E-4B57-8114-557F510BD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ED9C-92AF-486B-AA31-2ADE372EB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2EF4-881A-4B3F-A919-5D687782A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6C41-BC70-4D85-B0DF-44FA3472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86C4-2345-4FFA-9BAD-438F1910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9F7E-F112-4A11-BD74-CA10D604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1B713-A80E-4332-8B16-F1ACD10E237F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ZoneTexte 3"/>
          <p:cNvSpPr/>
          <p:nvPr/>
        </p:nvSpPr>
        <p:spPr>
          <a:xfrm>
            <a:off x="714240" y="2071800"/>
            <a:ext cx="771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PROBABILITÉ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SÉRIE N°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42876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°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rcRect l="4134" t="0" r="25625" b="39216"/>
          <a:stretch/>
        </p:blipFill>
        <p:spPr>
          <a:xfrm>
            <a:off x="5938920" y="214200"/>
            <a:ext cx="3143160" cy="28656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214200" y="1356840"/>
            <a:ext cx="621504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n lance deux fois de suite la roue de loter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i-cont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n gagne si la flèche s’arrête sur un secteur ve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Quelle est la probabilité de gagner aux deux lancers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 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Connecteur droit avec flèche 6"/>
          <p:cNvCxnSpPr/>
          <p:nvPr/>
        </p:nvCxnSpPr>
        <p:spPr>
          <a:xfrm>
            <a:off x="7509960" y="1571760"/>
            <a:ext cx="500760" cy="429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9" name="ZoneTexte 5"/>
          <p:cNvSpPr/>
          <p:nvPr/>
        </p:nvSpPr>
        <p:spPr>
          <a:xfrm>
            <a:off x="0" y="3571920"/>
            <a:ext cx="90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Premier tirage : 4 chances sur 12 de tomber sur un secteur v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oneTexte 7"/>
          <p:cNvSpPr/>
          <p:nvPr/>
        </p:nvSpPr>
        <p:spPr>
          <a:xfrm>
            <a:off x="-11160" y="4286160"/>
            <a:ext cx="915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Second tirage : 4 chances sur 12 de tomber sur un secteur vert </a:t>
            </a: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9"/>
          <p:cNvSpPr/>
          <p:nvPr/>
        </p:nvSpPr>
        <p:spPr>
          <a:xfrm>
            <a:off x="28440" y="5062680"/>
            <a:ext cx="69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Probabilité de gagner deux fois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Rectangle à coins arrondis 10"/>
          <p:cNvGrpSpPr/>
          <p:nvPr/>
        </p:nvGrpSpPr>
        <p:grpSpPr>
          <a:xfrm>
            <a:off x="6072120" y="4840200"/>
            <a:ext cx="2681280" cy="1414440"/>
            <a:chOff x="6072120" y="4840200"/>
            <a:chExt cx="2681280" cy="1414440"/>
          </a:xfrm>
        </p:grpSpPr>
        <p:pic>
          <p:nvPicPr>
            <p:cNvPr id="83" name="Rectangle à coins arrondis 10" descr=""/>
            <p:cNvPicPr/>
            <p:nvPr/>
          </p:nvPicPr>
          <p:blipFill>
            <a:blip r:embed="rId2"/>
            <a:stretch/>
          </p:blipFill>
          <p:spPr>
            <a:xfrm>
              <a:off x="6072120" y="4840200"/>
              <a:ext cx="268128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6154560" y="4924440"/>
              <a:ext cx="1922760" cy="12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5" name="Object 2"/>
              <p:cNvSpPr txBox="1"/>
              <p:nvPr/>
            </p:nvSpPr>
            <p:spPr>
              <a:xfrm>
                <a:off x="6219720" y="5114880"/>
                <a:ext cx="173196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×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1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500040" y="-1825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°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rcRect l="4134" t="0" r="25625" b="39216"/>
          <a:stretch/>
        </p:blipFill>
        <p:spPr>
          <a:xfrm>
            <a:off x="5935680" y="98280"/>
            <a:ext cx="3143160" cy="28656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3"/>
          <p:cNvSpPr/>
          <p:nvPr/>
        </p:nvSpPr>
        <p:spPr>
          <a:xfrm>
            <a:off x="285840" y="965160"/>
            <a:ext cx="6000840" cy="19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n lance deux fois de suite la roue de loteri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i-cont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n gagne si la flèche s’arrête sur un secteur ve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Quelle est la probabilité de gagner une fois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au moins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Connecteur droit avec flèche 13"/>
          <p:cNvCxnSpPr/>
          <p:nvPr/>
        </p:nvCxnSpPr>
        <p:spPr>
          <a:xfrm>
            <a:off x="7573680" y="1571760"/>
            <a:ext cx="500760" cy="429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0" name="Pensées 7"/>
          <p:cNvSpPr/>
          <p:nvPr/>
        </p:nvSpPr>
        <p:spPr>
          <a:xfrm>
            <a:off x="-214200" y="2786040"/>
            <a:ext cx="9358200" cy="3357720"/>
          </a:xfrm>
          <a:prstGeom prst="cloudCallout">
            <a:avLst>
              <a:gd name="adj1" fmla="val -24212"/>
              <a:gd name="adj2" fmla="val 72097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oneTexte 11"/>
          <p:cNvSpPr/>
          <p:nvPr/>
        </p:nvSpPr>
        <p:spPr>
          <a:xfrm>
            <a:off x="692280" y="3282840"/>
            <a:ext cx="621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Probabilité de perdre deux fois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2"/>
              <p:cNvSpPr txBox="1"/>
              <p:nvPr/>
            </p:nvSpPr>
            <p:spPr>
              <a:xfrm>
                <a:off x="6335640" y="3232080"/>
                <a:ext cx="189072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3" name="ZoneTexte 14"/>
          <p:cNvSpPr/>
          <p:nvPr/>
        </p:nvSpPr>
        <p:spPr>
          <a:xfrm>
            <a:off x="939960" y="3897360"/>
            <a:ext cx="75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Gagner une fois au moins est l’événement contrai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ZoneTexte 15"/>
          <p:cNvSpPr/>
          <p:nvPr/>
        </p:nvSpPr>
        <p:spPr>
          <a:xfrm>
            <a:off x="523800" y="5108400"/>
            <a:ext cx="735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Probabilité de gagner une fois au moin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oneTexte 16"/>
          <p:cNvSpPr/>
          <p:nvPr/>
        </p:nvSpPr>
        <p:spPr>
          <a:xfrm>
            <a:off x="498600" y="434196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On a </a:t>
            </a: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64 chances sur 144 </a:t>
            </a: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de ne pas gag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Donc </a:t>
            </a: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80 chances sur 144 </a:t>
            </a: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de gagner au moins une fo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Rectangle à coins arrondis 17"/>
          <p:cNvGrpSpPr/>
          <p:nvPr/>
        </p:nvGrpSpPr>
        <p:grpSpPr>
          <a:xfrm>
            <a:off x="7370640" y="5553000"/>
            <a:ext cx="1694160" cy="1244520"/>
            <a:chOff x="7370640" y="5553000"/>
            <a:chExt cx="1694160" cy="1244520"/>
          </a:xfrm>
        </p:grpSpPr>
        <p:pic>
          <p:nvPicPr>
            <p:cNvPr id="97" name="Rectangle à coins arrondis 17" descr=""/>
            <p:cNvPicPr/>
            <p:nvPr/>
          </p:nvPicPr>
          <p:blipFill>
            <a:blip r:embed="rId2"/>
            <a:stretch/>
          </p:blipFill>
          <p:spPr>
            <a:xfrm>
              <a:off x="7370640" y="5553000"/>
              <a:ext cx="169416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7450200" y="5630760"/>
              <a:ext cx="1168200" cy="109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9" name="Object 2"/>
              <p:cNvSpPr txBox="1"/>
              <p:nvPr/>
            </p:nvSpPr>
            <p:spPr>
              <a:xfrm>
                <a:off x="7332840" y="5727600"/>
                <a:ext cx="140328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4</m:t>
                        </m:r>
                      </m:den>
                    </m:f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 </m:t>
                        </m:r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1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357120" y="1277640"/>
            <a:ext cx="842976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n a écrit les 26 lettres de l’alphabet sur 26 cartons découpés et indiscernables au toucher. Ces 26 cartons sont mélangés dans un sac opaqu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n tire successivement deux cartons au hasard et sans remi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Quelle est la probabilité de tirer d’abord une voyelle puis une consonne 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357120" y="-285840"/>
            <a:ext cx="7772400" cy="20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°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ZoneTexte 4"/>
          <p:cNvSpPr/>
          <p:nvPr/>
        </p:nvSpPr>
        <p:spPr>
          <a:xfrm>
            <a:off x="285840" y="3497400"/>
            <a:ext cx="85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Premier tirage :  </a:t>
            </a: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6 chances sur 26 </a:t>
            </a: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de tirer une voyel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6"/>
          <p:cNvSpPr/>
          <p:nvPr/>
        </p:nvSpPr>
        <p:spPr>
          <a:xfrm>
            <a:off x="857160" y="2857680"/>
            <a:ext cx="728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Dans l’alphabet, il y a 6 voyelles et 20 conson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7"/>
          <p:cNvSpPr/>
          <p:nvPr/>
        </p:nvSpPr>
        <p:spPr>
          <a:xfrm>
            <a:off x="298440" y="4030560"/>
            <a:ext cx="857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Second tirage :  il reste 20 consonnes et 25 let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soit </a:t>
            </a: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20 chances sur 25 </a:t>
            </a: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de tirer une conson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142920" y="500220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Probabilité de tirer une voyelle puis une consonne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Rectangle à coins arrondis 9"/>
          <p:cNvGrpSpPr/>
          <p:nvPr/>
        </p:nvGrpSpPr>
        <p:grpSpPr>
          <a:xfrm>
            <a:off x="7272360" y="5413320"/>
            <a:ext cx="1884240" cy="1384200"/>
            <a:chOff x="7272360" y="5413320"/>
            <a:chExt cx="1884240" cy="1384200"/>
          </a:xfrm>
        </p:grpSpPr>
        <p:pic>
          <p:nvPicPr>
            <p:cNvPr id="107" name="Rectangle à coins arrondis 9" descr=""/>
            <p:cNvPicPr/>
            <p:nvPr/>
          </p:nvPicPr>
          <p:blipFill>
            <a:blip r:embed="rId1"/>
            <a:stretch/>
          </p:blipFill>
          <p:spPr>
            <a:xfrm>
              <a:off x="7272360" y="5413320"/>
              <a:ext cx="1884240" cy="13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7359480" y="5495760"/>
              <a:ext cx="1297080" cy="12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9" name="Object 2"/>
              <p:cNvSpPr txBox="1"/>
              <p:nvPr/>
            </p:nvSpPr>
            <p:spPr>
              <a:xfrm>
                <a:off x="7485120" y="5708520"/>
                <a:ext cx="107460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den>
                    </m:f>
                    <m:r>
                      <m:t xml:space="preserve"> </m:t>
                    </m:r>
                    <m:r>
                      <m:t xml:space="preserve">×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98280" y="999720"/>
            <a:ext cx="914400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e boîte métallique contient 2 jetons blancs et 5 jetons noirs indiscernab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u touc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n tire au hasard un jeton. On note sa couleur et on le remet dans la boî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n tire un second jeton et on note sa couleu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Quelle est la probabilité d’avoir tiré deux jetons de couleurs différente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500040" y="-1699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°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ensées 3"/>
          <p:cNvSpPr/>
          <p:nvPr/>
        </p:nvSpPr>
        <p:spPr>
          <a:xfrm>
            <a:off x="357120" y="2857680"/>
            <a:ext cx="8358120" cy="1214280"/>
          </a:xfrm>
          <a:prstGeom prst="cloudCallout">
            <a:avLst>
              <a:gd name="adj1" fmla="val -24212"/>
              <a:gd name="adj2" fmla="val 72097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ZoneTexte 4"/>
          <p:cNvSpPr/>
          <p:nvPr/>
        </p:nvSpPr>
        <p:spPr>
          <a:xfrm>
            <a:off x="1285920" y="3071880"/>
            <a:ext cx="6845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On peut tirer </a:t>
            </a: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d’abord </a:t>
            </a: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un jeton</a:t>
            </a: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 blanc puis</a:t>
            </a: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 un jeton </a:t>
            </a: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no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 u="sng">
                <a:solidFill>
                  <a:srgbClr val="333399"/>
                </a:solidFill>
                <a:uFillTx/>
                <a:latin typeface="Arial"/>
              </a:rPr>
              <a:t>ou</a:t>
            </a: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d’abord</a:t>
            </a: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 un jeton </a:t>
            </a: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noir</a:t>
            </a: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 puis un jeton </a:t>
            </a: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blanc</a:t>
            </a: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214200" y="4429080"/>
            <a:ext cx="835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Probabilité de tirer un jeton blanc puis un noir 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2"/>
              <p:cNvSpPr txBox="1"/>
              <p:nvPr/>
            </p:nvSpPr>
            <p:spPr>
              <a:xfrm>
                <a:off x="7429680" y="4351320"/>
                <a:ext cx="88236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 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Rectangle 7"/>
          <p:cNvSpPr/>
          <p:nvPr/>
        </p:nvSpPr>
        <p:spPr>
          <a:xfrm>
            <a:off x="201600" y="506556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Probabilité de tirer un jeton noir puis un blanc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3"/>
              <p:cNvSpPr txBox="1"/>
              <p:nvPr/>
            </p:nvSpPr>
            <p:spPr>
              <a:xfrm>
                <a:off x="7429680" y="5079960"/>
                <a:ext cx="88236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 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Rectangle 9"/>
          <p:cNvSpPr/>
          <p:nvPr/>
        </p:nvSpPr>
        <p:spPr>
          <a:xfrm>
            <a:off x="214200" y="5745240"/>
            <a:ext cx="500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Probabilité de tirer deux jetons de couleurs différentes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Rectangle à coins arrondis 10"/>
          <p:cNvGrpSpPr/>
          <p:nvPr/>
        </p:nvGrpSpPr>
        <p:grpSpPr>
          <a:xfrm>
            <a:off x="5413320" y="5626080"/>
            <a:ext cx="2425680" cy="1109520"/>
            <a:chOff x="5413320" y="5626080"/>
            <a:chExt cx="2425680" cy="1109520"/>
          </a:xfrm>
        </p:grpSpPr>
        <p:pic>
          <p:nvPicPr>
            <p:cNvPr id="120" name="Rectangle à coins arrondis 10" descr=""/>
            <p:cNvPicPr/>
            <p:nvPr/>
          </p:nvPicPr>
          <p:blipFill>
            <a:blip r:embed="rId1"/>
            <a:stretch/>
          </p:blipFill>
          <p:spPr>
            <a:xfrm>
              <a:off x="5413320" y="5626080"/>
              <a:ext cx="242568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481720" y="5695920"/>
              <a:ext cx="175248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2" name="Object 2"/>
              <p:cNvSpPr txBox="1"/>
              <p:nvPr/>
            </p:nvSpPr>
            <p:spPr>
              <a:xfrm>
                <a:off x="5753160" y="5819760"/>
                <a:ext cx="116028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 </m:t>
                    </m:r>
                    <m:r>
                      <m:t xml:space="preserve">×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 </m:t>
                    </m:r>
                    <m:r>
                      <m:t xml:space="preserve">×</m:t>
                    </m:r>
                    <m:r>
                      <m:t xml:space="preserve"> 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57120" y="2571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320" y="2413080"/>
            <a:ext cx="8072280" cy="21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éterminer la probabilité pour que chacun des événements suivants soit réalisé.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oneTexte 2"/>
          <p:cNvSpPr/>
          <p:nvPr/>
        </p:nvSpPr>
        <p:spPr>
          <a:xfrm>
            <a:off x="142920" y="3767040"/>
            <a:ext cx="878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5400" spc="-1" strike="noStrike">
                <a:solidFill>
                  <a:srgbClr val="000000"/>
                </a:solidFill>
                <a:latin typeface="Arial"/>
              </a:rPr>
              <a:t>Il n’est pas demandé d’effectuer ou de réduir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5400" spc="-1" strike="noStrike">
                <a:solidFill>
                  <a:srgbClr val="000000"/>
                </a:solidFill>
                <a:latin typeface="Arial"/>
              </a:rPr>
              <a:t>les calcu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57120" y="2642760"/>
            <a:ext cx="84297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n tire successivement deux cartes dans un jeu de 32 cartes, sans remi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Quelle est la probabilité d’obtenir deux rois 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500040" y="216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°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500040" y="216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°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rcRect l="4134" t="0" r="25625" b="39216"/>
          <a:stretch/>
        </p:blipFill>
        <p:spPr>
          <a:xfrm>
            <a:off x="5500800" y="214200"/>
            <a:ext cx="3143160" cy="28656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23800" y="3249360"/>
            <a:ext cx="814392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n lance deux fois de suite la roue de loter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i-dess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n gagne si la flèche s’arrête sur un secteur ve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Quelle est la probabilité de gagner aux deux lancers 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Connecteur droit avec flèche 6"/>
          <p:cNvCxnSpPr/>
          <p:nvPr/>
        </p:nvCxnSpPr>
        <p:spPr>
          <a:xfrm>
            <a:off x="7071840" y="1571760"/>
            <a:ext cx="500760" cy="429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fade thruBlk="true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500040" y="216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°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rcRect l="4134" t="0" r="25625" b="39216"/>
          <a:stretch/>
        </p:blipFill>
        <p:spPr>
          <a:xfrm>
            <a:off x="5521320" y="227160"/>
            <a:ext cx="3143160" cy="28652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>
            <a:off x="500040" y="3214800"/>
            <a:ext cx="828684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n lance deux fois de suite la roue de loterie ci-dess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n gagne si la flèche s’arrête sur un secteur ve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Quelle est la probabilité de gagner une fois </a:t>
            </a: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au moins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Connecteur droit avec flèche 13"/>
          <p:cNvCxnSpPr/>
          <p:nvPr/>
        </p:nvCxnSpPr>
        <p:spPr>
          <a:xfrm>
            <a:off x="7071840" y="1571760"/>
            <a:ext cx="500760" cy="429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57120" y="2071800"/>
            <a:ext cx="842976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n a écrit les 26 lettres de l’alphabet sur 26 cartons découpés et indiscernables au toucher. Ces 26 cartons sont mélangés dans un sac opaqu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n tire successivement deux cartons au hasard et sans remi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Quelle est la probabilité de tirer d’abord une voyelle puis une consonn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500040" y="216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°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85840" y="2071800"/>
            <a:ext cx="857232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boîte métallique contient 2 jetons blancs et 5 jetons noirs indiscernables au touc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n tire au hasard un jeton. On note sa couleur et on le remet dans la boî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n tire un second jeton et on note sa couleu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Quelle est la probabilité d’avoir tiré deux jetons de couleurs différente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500040" y="216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°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57120" y="2571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57120" y="1214280"/>
            <a:ext cx="842976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n tire successivement deux cartes dans un jeu de 32 cartes, sans remi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Quelle est la probabilité d’obtenir deux rois 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00040" y="216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°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ZoneTexte 9"/>
          <p:cNvSpPr/>
          <p:nvPr/>
        </p:nvSpPr>
        <p:spPr>
          <a:xfrm>
            <a:off x="285840" y="3071880"/>
            <a:ext cx="85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Premier tirage : </a:t>
            </a: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4 chances sur 32 </a:t>
            </a: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de tirer un ro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ZoneTexte 10"/>
          <p:cNvSpPr/>
          <p:nvPr/>
        </p:nvSpPr>
        <p:spPr>
          <a:xfrm>
            <a:off x="285840" y="3786120"/>
            <a:ext cx="857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Second tirage : il reste 3 rois et 31 car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soit </a:t>
            </a: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3 chances sur 31 </a:t>
            </a: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de tirer un ro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1"/>
          <p:cNvSpPr/>
          <p:nvPr/>
        </p:nvSpPr>
        <p:spPr>
          <a:xfrm>
            <a:off x="285840" y="4824360"/>
            <a:ext cx="69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Probabilité de tirer deux rois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Rectangle à coins arrondis 12"/>
          <p:cNvGrpSpPr/>
          <p:nvPr/>
        </p:nvGrpSpPr>
        <p:grpSpPr>
          <a:xfrm>
            <a:off x="6072120" y="4863960"/>
            <a:ext cx="1876320" cy="1390680"/>
            <a:chOff x="6072120" y="4863960"/>
            <a:chExt cx="1876320" cy="1390680"/>
          </a:xfrm>
        </p:grpSpPr>
        <p:pic>
          <p:nvPicPr>
            <p:cNvPr id="72" name="Rectangle à coins arrondis 12" descr=""/>
            <p:cNvPicPr/>
            <p:nvPr/>
          </p:nvPicPr>
          <p:blipFill>
            <a:blip r:embed="rId1"/>
            <a:stretch/>
          </p:blipFill>
          <p:spPr>
            <a:xfrm>
              <a:off x="6072120" y="4863960"/>
              <a:ext cx="187632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6154560" y="4948200"/>
              <a:ext cx="12956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4" name="Object 2"/>
              <p:cNvSpPr txBox="1"/>
              <p:nvPr/>
            </p:nvSpPr>
            <p:spPr>
              <a:xfrm>
                <a:off x="6286680" y="5167440"/>
                <a:ext cx="102996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×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2T22:51:51Z</dcterms:created>
  <dc:creator>Claudine Bertrand-Gorge</dc:creator>
  <dc:description/>
  <dc:language>en-US</dc:language>
  <cp:lastModifiedBy>Marionseg</cp:lastModifiedBy>
  <dcterms:modified xsi:type="dcterms:W3CDTF">2009-12-22T10:39:58Z</dcterms:modified>
  <cp:revision>81</cp:revision>
  <dc:subject/>
  <dc:title>N° 1</dc:title>
</cp:coreProperties>
</file>