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C4FA-D8A4-4C5A-AB06-817D83BD7E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A5AA-4F2D-4D0A-B5CA-479AD05B7D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835E-B60B-4FD1-BD07-00E8F2B539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5A2-A6A7-4C86-BD78-DDB7B2C4FE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06AB-A0FB-4A51-9882-51DCCA8495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7367-240D-4880-8718-ABD7B47AA8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A697-C9B6-4F53-AB0C-0CDE8485FA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4144-6F95-4E00-BE2F-6BA2AABB32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E951-2C4D-48CA-99D0-A8C0F7B8B6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796A-C1F3-49C5-9A28-117909DD14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2F6C-4717-444B-ABD7-F63174F3E3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D373-F58B-4EA3-93CB-D24CB2269F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FF64-4355-46C2-B18E-31A97DFD2E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273B-FD68-42BF-97D9-35628C2396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5578-B2D7-4A26-98EC-FAAF08A1A2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75A-C814-4B07-A5E3-9CA81658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0ED-AF3F-4C8C-98A9-A9E827AC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E67-58EC-4BB9-8087-A360812D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7C0-243F-4C17-ACA6-115ED904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202-2D7E-438B-BE9E-58AA6C36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D02-238F-44E6-B354-A05CC3CC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93C-7C60-42FD-8D80-FBF5C5C1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A9A-117D-4023-86C2-0AB5E6D0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19C-0D1A-47B5-866B-ED3565B9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B26-948E-4C11-B054-DD6E90D8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D589-E9AD-4883-A6D1-76064C7A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A2C-2DFB-42ED-84C5-0671C18E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96C6-E0B2-4939-BF36-56E5A27E6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CODER UNE FIGURE (2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7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équilatéral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   BCD est équilaté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676520"/>
            <a:ext cx="4851360" cy="44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8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isocèle en C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   BCD est isocèle en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676520"/>
            <a:ext cx="4851360" cy="44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9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équilatéral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BCD est isocèle en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676520"/>
            <a:ext cx="4851360" cy="44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18864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10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rectangle et isocèle en B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BCD est rectangle et isocèle en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676520"/>
            <a:ext cx="4851360" cy="44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Les figures suivantes sont faites à main levée.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Coder les côtés afin de respecter la consig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0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isocèle en A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   BCD est isocèle en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828800"/>
            <a:ext cx="4851360" cy="441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1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isocèle en A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   BCD est rectangle en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676520"/>
            <a:ext cx="4851360" cy="44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1886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2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rectangle et isocèle en B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BCD est isocèle en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286840" cy="5326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_x000c_Triangle.pdf                                                   004B003C_x000b_Disque imac                    BFCC89D1:"/>
          <p:cNvPicPr/>
          <p:nvPr/>
        </p:nvPicPr>
        <p:blipFill>
          <a:blip r:embed="rId2"/>
          <a:stretch/>
        </p:blipFill>
        <p:spPr>
          <a:xfrm>
            <a:off x="2133720" y="1676520"/>
            <a:ext cx="4851360" cy="44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3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isocèle en A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BCD est équilaté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752480"/>
            <a:ext cx="4851360" cy="441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4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rectangle en B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BCD est équilaté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600200"/>
            <a:ext cx="4851360" cy="441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5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équilatéral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      BCD est isocèle en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676520"/>
            <a:ext cx="4851360" cy="44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18864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6/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ABC est isocèle en C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BCD est rectangle et isocèle en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_x000c_Triangle.pdf     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133720" y="1676520"/>
            <a:ext cx="4851360" cy="44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nseg</dc:creator>
  <dc:description/>
  <dc:language>en-US</dc:language>
  <cp:lastModifiedBy>Marionseg</cp:lastModifiedBy>
  <dcterms:modified xsi:type="dcterms:W3CDTF">2010-05-30T07:54:44Z</dcterms:modified>
  <cp:revision>15</cp:revision>
  <dc:subject/>
  <dc:title>PowerPoint Presentation</dc:title>
</cp:coreProperties>
</file>