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DD85-C6F1-4976-AFAF-0C4D4E1E68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E8FA-CC69-4A60-A654-6E4854E592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66F-00B5-43DA-A2A8-5075BB91D2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D2D6-63CB-4DCC-B574-9D32FE63B4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CE40-FEE2-4557-908A-2525ABB074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40C1-5202-4860-8FD5-E7A6530458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CB27-0AD6-4943-B8C0-C17DB0004D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303A-7C09-4265-B810-2AA95801A2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4C37-FD34-4B51-98AC-9B7C453751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8470-5F54-48DE-AC3F-8379E83583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0E5A-0458-4D63-AD05-5187D3B609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3FA1-E594-458E-A026-B9624C5649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9C19-43A4-4D66-A839-42AACAEDE2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8962-AFC0-4800-95F3-5A8DE05E3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B801-39C5-416F-9B36-0916A59D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063-A8D3-4B0E-8167-E392BF85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7598-EDB0-4C7D-88C4-89A3621E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DBEE-024C-4484-8FF1-C2A51E17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A56-59D5-43FA-BDC9-37BC0C36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EA0-E366-4524-B08C-F6C708C4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9E7-9E7F-46A4-A1B1-D78D2DFC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B5B-6952-4FF4-8B82-0C78B0B0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15C6-1F09-48A3-BA75-27914CE5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2D0-F6D7-4B7E-8C81-9799DE72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9D25-1D66-4D46-98AB-8608DD1B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81B-13A5-4AD1-80A7-9CA89B7B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C1B7-F91A-4672-8F41-5AC078AFCE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333399"/>
                </a:solidFill>
                <a:latin typeface="Trebuchet MS"/>
              </a:rPr>
              <a:t>TABLEUR</a:t>
            </a:r>
            <a:br>
              <a:rPr sz="6000"/>
            </a:br>
            <a:r>
              <a:rPr b="1" lang="fr-FR" sz="4400" spc="-1" strike="noStrike">
                <a:solidFill>
                  <a:srgbClr val="333399"/>
                </a:solidFill>
                <a:latin typeface="Trebuchet MS"/>
              </a:rPr>
              <a:t>Série n°1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808080"/>
                </a:solidFill>
                <a:latin typeface="Trebuchet MS"/>
              </a:rPr>
              <a:t>10 ques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9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rcRect l="0" t="22146" r="71974" b="53130"/>
          <a:stretch/>
        </p:blipFill>
        <p:spPr>
          <a:xfrm>
            <a:off x="1260360" y="539640"/>
            <a:ext cx="6559560" cy="434196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10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22146" r="71974" b="51176"/>
          <a:stretch/>
        </p:blipFill>
        <p:spPr>
          <a:xfrm>
            <a:off x="1260360" y="539640"/>
            <a:ext cx="6559560" cy="46846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11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1"/>
          <a:srcRect l="0" t="22146" r="71974" b="50197"/>
          <a:stretch/>
        </p:blipFill>
        <p:spPr>
          <a:xfrm>
            <a:off x="1260360" y="539640"/>
            <a:ext cx="6559560" cy="48564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3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333399"/>
                </a:solidFill>
                <a:latin typeface="Trebuchet MS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Je pense à un nombre entier que j’écris dans la cellule B1,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759120" y="5681520"/>
            <a:ext cx="40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042920" y="4941720"/>
            <a:ext cx="6985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et je calcule 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rcRect l="0" t="21486" r="71439" b="67776"/>
          <a:stretch/>
        </p:blipFill>
        <p:spPr>
          <a:xfrm>
            <a:off x="1143000" y="2000160"/>
            <a:ext cx="6686640" cy="18860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2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1"/>
          <a:srcRect l="0" t="22146" r="71974" b="66442"/>
          <a:stretch/>
        </p:blipFill>
        <p:spPr>
          <a:xfrm>
            <a:off x="1260360" y="539640"/>
            <a:ext cx="6559560" cy="20052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3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rcRect l="0" t="22146" r="71974" b="64966"/>
          <a:stretch/>
        </p:blipFill>
        <p:spPr>
          <a:xfrm>
            <a:off x="1260360" y="539640"/>
            <a:ext cx="6559560" cy="226404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4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rcRect l="0" t="22146" r="71974" b="62894"/>
          <a:stretch/>
        </p:blipFill>
        <p:spPr>
          <a:xfrm>
            <a:off x="1260360" y="539640"/>
            <a:ext cx="6559560" cy="26272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5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"/>
          <p:cNvPicPr/>
          <p:nvPr/>
        </p:nvPicPr>
        <p:blipFill>
          <a:blip r:embed="rId1"/>
          <a:srcRect l="0" t="22146" r="71974" b="59966"/>
          <a:stretch/>
        </p:blipFill>
        <p:spPr>
          <a:xfrm>
            <a:off x="1260360" y="539640"/>
            <a:ext cx="6559560" cy="314172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6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9" descr=""/>
          <p:cNvPicPr/>
          <p:nvPr/>
        </p:nvPicPr>
        <p:blipFill>
          <a:blip r:embed="rId1"/>
          <a:srcRect l="0" t="22146" r="71974" b="58012"/>
          <a:stretch/>
        </p:blipFill>
        <p:spPr>
          <a:xfrm>
            <a:off x="1260360" y="539640"/>
            <a:ext cx="6559560" cy="34848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7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rcRect l="0" t="22146" r="71974" b="56058"/>
          <a:stretch/>
        </p:blipFill>
        <p:spPr>
          <a:xfrm>
            <a:off x="1260360" y="539640"/>
            <a:ext cx="6559560" cy="382752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544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00"/>
                </a:solidFill>
                <a:latin typeface="Trebuchet MS"/>
              </a:rPr>
              <a:t>Formule en B8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523880" y="2744640"/>
            <a:ext cx="3048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1"/>
          <a:srcRect l="0" t="22146" r="71974" b="54104"/>
          <a:stretch/>
        </p:blipFill>
        <p:spPr>
          <a:xfrm>
            <a:off x="1260360" y="539640"/>
            <a:ext cx="6559560" cy="41706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17T17:55:49Z</dcterms:modified>
  <cp:revision>9</cp:revision>
  <dc:subject/>
  <dc:title>PowerPoint Presentation</dc:title>
</cp:coreProperties>
</file>