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BFA0-8471-42F4-89CA-F984C5CEE8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2B36-6C7E-495C-B70F-A58100130E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11B-F91C-41D3-BD27-39564CC506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58B8-474D-4059-9E89-8B88CCE020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91BE-A217-448D-B1AA-C25C508BA0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7D49-E354-4A73-BBAD-976DD6760C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DE46-2647-4451-BEC6-719DCE56F7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1E97-3C5B-45E9-A92B-E0700A1A35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39BD-99D5-4128-8A7D-D5898B1288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42E-A926-44DD-91C8-46FAA7696B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6B70-BEE2-48C0-89B1-C80FC8D021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46A7-0FFF-43AE-B6E1-50D56673C0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9240-A10A-4E7E-AC8C-A0C6509CA1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737F-F449-429C-A551-A4818083FD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767C-7705-49AD-B7DE-B5053247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6A8-01B6-4208-BFF1-BF7B2D43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162A-A170-4CE0-B130-93B3A284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A8E-4EF2-4287-8284-46F26913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CAB-9365-4E11-BDF8-DE99ADD2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CFF-20BB-4B38-A768-818AD09E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F771-B276-4175-A6D9-CE366E07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DE2E-97E9-432E-890D-688CE8B0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A79-2139-4761-BB17-854B3227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7F7C-7CB1-464B-B0A5-9C45A2DC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D355-9417-4C66-BAF9-C1E3DFB8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49D-8FF6-41BC-9280-2009D282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D92-3B16-4C19-8577-B7D589DA7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-176040" y="2709720"/>
                <a:ext cx="9493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309600" y="2630520"/>
                <a:ext cx="851832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49320" y="2709720"/>
                <a:ext cx="90504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Répondre par VRAI ou FAUX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2562120" y="2857680"/>
                <a:ext cx="4023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260440" y="2857680"/>
                <a:ext cx="4624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2259000" y="2857680"/>
                <a:ext cx="4626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73240" y="2071800"/>
                <a:ext cx="4927680" cy="28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1405080" y="2068560"/>
                <a:ext cx="633888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²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255680" y="2857680"/>
                <a:ext cx="6634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399960" y="2759040"/>
                <a:ext cx="834408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3:47Z</dcterms:modified>
  <cp:revision>17</cp:revision>
  <dc:subject/>
  <dc:title>Calcul littéral (2) Série n°4</dc:title>
</cp:coreProperties>
</file>