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2ABE-D6E5-40B6-A52E-9BF88A23090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BA70-C2CA-4198-927E-2DCC2C9404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8A52-92CB-4B50-91FE-CCF68CC2C2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FFC6-1D91-4163-8E08-B693978E88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4A35-C74F-46AE-897D-B7AD639A53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F8E4-7FAC-4201-AF1B-7484EEF168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1087-BB9F-4558-917B-1C69ED75FD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3EBC-F337-481D-806F-0B401C55E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864B-AF2F-49F9-B217-A66FC0B2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ABC-7F42-45BA-B160-8FF0F032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50C-D619-4C06-B199-8813E028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401C-906D-41E2-BCDD-D9AA17F8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C8CA-9603-4DFE-AA89-B33EF637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94C7-6F62-4739-AF27-0D03B44D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1983-B533-458E-9DE1-8E513D42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0916-1ED8-47BA-BF6F-9AA95376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E843-FDE0-4A89-A379-9031CE15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B257-60AE-4834-A2FB-5688C62F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AFE-2291-4DD1-9A87-29DFB1A1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127D-BDA7-4534-9180-C32AF428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162A-76FF-4E8A-9D37-DC82936C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0D23-3160-4C71-AB32-8467BC9F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AFC7-25B2-4BC1-B4F1-AD738B4D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122C-450C-4D6E-93EF-E514806A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C50-0607-4A31-8A16-1D5E5571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C2D-6323-49B6-A6BC-EA107DC3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0125-8D6B-4456-ADA6-DA1802E2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C494-C513-45DB-8FD8-81A428EB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84F-D460-41BA-863F-A33828A5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034F-E611-4079-AFAD-BA3B8C6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8CA5-FD5D-405C-8D9D-425A939F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5544-98EA-40C0-82C1-19E63FF25BED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900000" y="2333520"/>
            <a:ext cx="2880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6E5C-7174-457E-9592-466FAC10C8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VISION 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3 ET N°3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Effectuer le calcul proposé et donner le résultat sous la forme d’une fraction aussi simple que possible ou éventuellement sous la forme d’un nombre ent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0"/>
              <p:cNvSpPr txBox="1"/>
              <p:nvPr/>
            </p:nvSpPr>
            <p:spPr>
              <a:xfrm>
                <a:off x="1527120" y="2820960"/>
                <a:ext cx="16383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13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2"/>
              <p:cNvSpPr txBox="1"/>
              <p:nvPr/>
            </p:nvSpPr>
            <p:spPr>
              <a:xfrm>
                <a:off x="5973840" y="2824200"/>
                <a:ext cx="16383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1628640" y="2827440"/>
                <a:ext cx="1406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6105600" y="2827440"/>
                <a:ext cx="13809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1450800" y="2827440"/>
                <a:ext cx="17654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5916600" y="2827440"/>
                <a:ext cx="17654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1492200" y="2819520"/>
                <a:ext cx="16876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5925960" y="2827440"/>
                <a:ext cx="17402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1665360" y="2820960"/>
                <a:ext cx="13446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"/>
              <p:cNvSpPr txBox="1"/>
              <p:nvPr/>
            </p:nvSpPr>
            <p:spPr>
              <a:xfrm>
                <a:off x="6021360" y="2827440"/>
                <a:ext cx="15350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20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3:39Z</dcterms:modified>
  <cp:revision>25</cp:revision>
  <dc:subject/>
  <dc:title>Diapositive 1</dc:title>
</cp:coreProperties>
</file>