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5AC-A9F7-4E52-99F2-13C21FD6AE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5460-FC35-4169-B4D3-6D50021C09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B9C9-55F7-46C2-B74F-0F29557FB1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636-D9D2-4DB5-9C0F-B151338513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47CC-AC64-4108-9CE1-30A7003BD8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950-ED8B-4C61-ABBE-CF49D9878F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B635-6503-402E-B18F-BBD4CDC22C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437-F714-445D-A071-77DFAB3714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25D-4841-4537-821F-AC520F7CAB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CB8E-E81C-47F0-8CCC-907393235B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2EB-C554-46FA-BFE7-A0CC90CC02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CAD2-74BC-4726-8829-4924AA671C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A951-6ACF-45E7-A68A-6AFD61E4BA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569E-8E02-4275-AB84-DA3538F81F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15D-DE46-47A1-A801-0BFB15DA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77D-A0BC-4666-AE4C-CE43823C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E3B2-C348-4989-ADA4-3096F971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323-B41C-4A6D-A2EF-B0AC029E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4275-6CC5-461B-98BE-084C9D7A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DA4D-9A65-44BA-8825-224E6E04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A395-74BD-43BE-998D-845664C0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EE2-EEDE-4644-A216-EBD78FFE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B6A1-5FCE-43C6-8992-B1DC5A0A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D8F-C834-40EA-9C49-FC59564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7529-DB66-4B29-AEF6-8CE3C50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ADA-6428-451B-8491-4BE434BB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49D1-A959-4A80-AF4B-6A0F8CA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4C45-F572-43C8-B131-C00C6430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C5FF-21D5-4FE6-BEE1-0BE7B79D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0003-BDE3-44CC-B167-BBAB4EA4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860-6A3F-49BB-AE41-B89E6A97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30E-71D7-40FF-BFC7-8A004327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9AB-02F6-4074-BAC5-92D979CC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001-FE3D-43A1-932A-54EB2D9E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4D8-3756-4954-9AE7-FFCFDD46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9F1-C27E-45CC-9C4A-27B1150D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4C75-2725-4FB6-AB36-230FF78F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FB2-54BC-4783-9206-4723B213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17E8-8430-4A50-8546-481795B30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BF4F-184F-40D0-A6C8-760A19358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30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3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5"/>
              <p:cNvSpPr txBox="1"/>
              <p:nvPr/>
            </p:nvSpPr>
            <p:spPr>
              <a:xfrm>
                <a:off x="1403280" y="3238560"/>
                <a:ext cx="59626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2916360" y="3238560"/>
                <a:ext cx="33289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755640" y="3238560"/>
                <a:ext cx="77202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3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Pour chaque expression, dire s’il s’agit d’une somme, d’une différence, d’un produit ou d’un quoti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2843280" y="3238560"/>
                <a:ext cx="2879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124000" y="3238560"/>
                <a:ext cx="497376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2556000" y="3238560"/>
                <a:ext cx="42066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147680" y="3238560"/>
                <a:ext cx="69357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2268360" y="3238560"/>
                <a:ext cx="50454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971640" y="3238560"/>
                <a:ext cx="73738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332000" y="3238560"/>
                <a:ext cx="64101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41:14Z</dcterms:created>
  <dc:creator>ms</dc:creator>
  <dc:description/>
  <dc:language>en-US</dc:language>
  <cp:lastModifiedBy>Marionseg</cp:lastModifiedBy>
  <dcterms:modified xsi:type="dcterms:W3CDTF">2010-01-22T18:02:58Z</dcterms:modified>
  <cp:revision>11</cp:revision>
  <dc:subject/>
  <dc:title>S’agit-il d’une somme ? D’une différence ? D’un produit ? D’un quotient ?</dc:title>
</cp:coreProperties>
</file>