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153-B1BD-4B24-A07B-F0EAB9E474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C5DC-37B8-4BF4-9E50-6722B2AFFA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0A08-BF7C-4DE0-85A6-1E0AED9FC8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A995-F8B5-4BEF-82CF-C856E03E99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FD74-3957-414E-BCF0-6DB0A3B3A57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6FEC-A6C5-457D-9B19-55BAC581CD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69A9-FB24-443C-9EEA-58E7463DBF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D9D4-8B5D-4181-A82F-5D1A7E824A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65E5-5C3C-4156-A8E6-346D354D24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EA0-29D0-49BE-985F-BB372B6BCE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8BA6-405A-4390-B9DE-851A5382F8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8CD5-2E0F-4E72-A318-0D567F4C60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9872-6293-4DAA-BC73-9F544958C0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C88B-868D-4E48-BD50-5DF84770CB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7B9-040A-45AE-86D2-936EEB19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B71-73A0-48FF-9F37-FF459C4E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6CE-CD53-4168-98A5-34B74745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363-7272-48F2-9492-3B80C376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D92-1896-4069-B802-146FF5D8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2FFD-E5A2-4E89-9D93-6607C0E9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461-A764-4157-AC4D-70F41287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17D-5F18-4A64-A947-32C86A6A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93FF-BDCE-4905-A454-59A3DF9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36E-7781-43B0-936A-A96BD64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5E6-CD0E-4B4A-A0DE-AC3EEAB0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3977-8B6A-4DF5-85AA-E106D44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27DA-93A8-40E6-8711-E90EC8EC83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OPÉRATION ?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 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ntoine a joué sur la D.S deux fois plus longtemps que Thomas qui a lui-même joué trois fois plus longtemps que son  cousin Guillau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Guillaume a joué 16 minutes avant que sa mère ne l’interromp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de temps a joué Antoin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de bouquets de 9 roses peut-on composer avec 226 roses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0920" y="1800000"/>
            <a:ext cx="8929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hloé range son café moulu dans une boîte. Elle en utilise une première fois 80 g et une seconde fois 125 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combien la masse de café da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boîte a-t-elle diminué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Compléter la fiche-réponse en écrivant </a:t>
            </a: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d’abord l’opération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 à effectuer </a:t>
            </a: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puis son résulta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Seine, la Loire et le Rhône sont trois grands fleuves de Fra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Seine a une longueur de 776 km, le Rhône de 522 km et la Loire de 236 km de plus que la Se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longueur de la Loir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éo a pêché une truite de 700 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on grand-père Jean-Yves en a pêché une de 772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masse de poisson vont-i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amener à la maison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différence de deux nombres est 0,41. Le plus petit des deux est 1,27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grand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560" y="1800000"/>
            <a:ext cx="8929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e étiquette rectangulaire a une longueur de 70 mm et une largeur de 35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son périmètr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4297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 kg d’abricots coûte 3,60 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vais-je payer 1,2 kg de ces fruits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920" y="1800000"/>
            <a:ext cx="88581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vec une bouteille de jus d’orange, on peut remplir 7 ver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faut-il ouvrir de bouteilles pour que chacun des 26 élèves de 6</a:t>
            </a:r>
            <a:r>
              <a:rPr b="1" i="1" lang="fr-FR" sz="3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ait un verre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4200" y="180000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s parents de Robin lui ont acheté un téléphone portable avec un forfait de 28 € par mois, démarrant le premier janvier 2009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vont-ils payer pour l’année 2009 entière 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5:21:51Z</dcterms:created>
  <dc:creator>Claudine Bertrand-Gorge</dc:creator>
  <dc:description/>
  <dc:language>en-US</dc:language>
  <cp:lastModifiedBy>Marionseg</cp:lastModifiedBy>
  <dcterms:modified xsi:type="dcterms:W3CDTF">2010-01-22T17:31:28Z</dcterms:modified>
  <cp:revision>27</cp:revision>
  <dc:subject/>
  <dc:title>QUELLE DIVISION ?</dc:title>
</cp:coreProperties>
</file>