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BDF6-72CB-4BFD-954C-2C0651B6EB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4CC1-3AF5-491D-B221-0E2ED47ACC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40D5-F745-4A12-B658-A2EF4C91F5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73C4-7826-48CF-AC26-A373623D4B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5692-E936-4E01-AA42-D6A07CBEC7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6396-0238-41C9-BFEA-92E4DA7C27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322F-7577-42DE-A06E-CBBD719DEC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00A3-0A5C-4F8C-997D-BCEAA0425A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60F7-5D04-4164-ADE8-5EE6ECE7ADB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E499-C90C-4AC9-9BC4-3C39F26C65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6052-E3F3-4DF3-8AF8-57EEA763A2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4A51-39F4-4AF4-96F4-4638B66E59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69F8-6B8B-4E24-BDCB-DAD02F430C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0C5D-8883-4BD6-BFBB-81016D8909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B29-C961-409D-8E38-BB1B8CC2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9087-7ED5-42D6-91E8-5AF34A2E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894-2429-4D42-9C54-D50AADD9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B76-361C-4545-A28A-75A9556CE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2FD-3140-4BB8-B1E1-DA31C8A1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AD5-1D15-4DBA-B4F1-72CAF28D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9255-E96D-46E9-A798-B7551745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184-2AA8-475E-8379-ACC9883D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5B0-CAD1-4F95-B138-1BA3B379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6C1-4E6D-4C10-8FC2-72C384BA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6CF-22FE-4090-A2C1-5CA0DB80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6F9-4C6E-4A91-B368-193B7515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C577-342F-4651-97F4-CA96ECA618B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BC50-33BB-4D61-A34E-8D56AB51E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FONCTION AFFINE SÉRIE 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428840" y="5857920"/>
            <a:ext cx="6286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=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?        </a:t>
            </a: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b = ?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428840" y="5857920"/>
            <a:ext cx="6286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=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?        </a:t>
            </a: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b = ?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428840" y="5857920"/>
            <a:ext cx="6286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=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?        </a:t>
            </a: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b = ?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200" y="1499760"/>
            <a:ext cx="8686800" cy="364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5bd3"/>
                </a:solidFill>
                <a:latin typeface="Arial"/>
                <a:ea typeface="Arial"/>
              </a:rPr>
              <a:t>Déterminer le coefficient directeur « </a:t>
            </a:r>
            <a:r>
              <a:rPr b="0" i="1" lang="fr-FR" sz="54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5bd3"/>
                </a:solidFill>
                <a:latin typeface="Arial"/>
                <a:ea typeface="Arial"/>
              </a:rPr>
              <a:t> » et l’ordonnée à l’origine « </a:t>
            </a:r>
            <a:r>
              <a:rPr b="0" i="1" lang="fr-FR" sz="54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b</a:t>
            </a:r>
            <a:r>
              <a:rPr b="0" lang="fr-FR" sz="5400" spc="-1" strike="noStrike">
                <a:solidFill>
                  <a:srgbClr val="005bd3"/>
                </a:solidFill>
                <a:latin typeface="Arial"/>
                <a:ea typeface="Arial"/>
              </a:rPr>
              <a:t> » de la droite  représentant une fonction affin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28840" y="5857920"/>
            <a:ext cx="6286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=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?        </a:t>
            </a: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b = ?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28840" y="5857920"/>
            <a:ext cx="6286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=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?        </a:t>
            </a: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b = ?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28840" y="5857920"/>
            <a:ext cx="6286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=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?        </a:t>
            </a: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b = ?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  <p:sp>
        <p:nvSpPr>
          <p:cNvPr id="61" name="Sous-titre 2"/>
          <p:cNvSpPr/>
          <p:nvPr/>
        </p:nvSpPr>
        <p:spPr>
          <a:xfrm>
            <a:off x="1428840" y="5857920"/>
            <a:ext cx="6286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=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?        </a:t>
            </a: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b = ?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28840" y="5857920"/>
            <a:ext cx="6286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=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?        </a:t>
            </a: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b = ?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28840" y="5857920"/>
            <a:ext cx="6286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=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?        </a:t>
            </a: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b = ?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28840" y="5857920"/>
            <a:ext cx="6286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=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?        </a:t>
            </a: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b = ?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Nicole</dc:creator>
  <dc:description/>
  <dc:language>en-US</dc:language>
  <cp:lastModifiedBy>Marionseg</cp:lastModifiedBy>
  <dcterms:modified xsi:type="dcterms:W3CDTF">2010-01-22T13:28:00Z</dcterms:modified>
  <cp:revision>140</cp:revision>
  <dc:subject/>
  <dc:title>Diapositive 0</dc:title>
</cp:coreProperties>
</file>