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773-55EB-4E17-9823-101EEF886C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84DE-4B5B-465F-87D6-6E9F6510FF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80C6-3F76-4C8B-A3DF-EEA248249F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8417-09BE-4663-8695-F7722F5DB3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BD01-0A0E-43D8-9F29-72FB9444A2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E69C-9FBC-4BDD-ACB8-A767321127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325-8088-4F2B-AE94-D725014512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71D-4981-47B8-B604-17A112A00B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A11F-CD32-44F6-B8DA-64F9853167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A3D0-D9BB-4629-9BF9-6DEE89A308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43F1-F931-4FF4-A004-54B367316A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D916-5485-45B6-AC2B-B2D96D742D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1051-ADB9-4A5B-AC88-E7ECC8B48F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647-3CE2-42A6-8E11-26EB4CF8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4C4-4BEA-45F7-9DA2-D401F72B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263-8546-4AC5-8D13-8904DB50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2FB-CD0E-4C82-A400-B0264C11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849B-C449-40E3-B139-E6088A6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064-9090-46AF-AAD2-012EF852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917-E9BE-4622-9908-ECDCF119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DD7-D962-413C-A011-0EF5591D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6EA-A4C0-4C0C-895A-360AE953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41E-27B8-4CB4-BD59-F43ABC5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CD0-9945-413D-B17A-3396AB6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BAF7-9A81-420B-905D-90ABE5FE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8B0A-E097-45C0-B84D-BC08E363825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PATRONS DE SOLIDES (3)</a:t>
            </a:r>
            <a:br>
              <a:rPr sz="4400"/>
            </a:br>
            <a:br>
              <a:rPr sz="44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es figures suivantes sont-elles des patrons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’un cylindre de révolution ?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questions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rcRect l="12500" t="3837" r="29687" b="0"/>
          <a:stretch/>
        </p:blipFill>
        <p:spPr>
          <a:xfrm>
            <a:off x="2143080" y="928800"/>
            <a:ext cx="5318280" cy="57006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4"/>
          <p:cNvSpPr/>
          <p:nvPr/>
        </p:nvSpPr>
        <p:spPr>
          <a:xfrm>
            <a:off x="3857760" y="29163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0" y="2858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rcRect l="12500" t="1400" r="15627" b="0"/>
          <a:stretch/>
        </p:blipFill>
        <p:spPr>
          <a:xfrm>
            <a:off x="1214280" y="785880"/>
            <a:ext cx="6612120" cy="584496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4"/>
          <p:cNvSpPr/>
          <p:nvPr/>
        </p:nvSpPr>
        <p:spPr>
          <a:xfrm>
            <a:off x="4071960" y="1785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5"/>
          <p:cNvSpPr/>
          <p:nvPr/>
        </p:nvSpPr>
        <p:spPr>
          <a:xfrm>
            <a:off x="4000680" y="4143240"/>
            <a:ext cx="1285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6987" t="0" r="10700" b="0"/>
          <a:stretch/>
        </p:blipFill>
        <p:spPr>
          <a:xfrm>
            <a:off x="642960" y="357120"/>
            <a:ext cx="7572240" cy="592956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4"/>
          <p:cNvSpPr/>
          <p:nvPr/>
        </p:nvSpPr>
        <p:spPr>
          <a:xfrm>
            <a:off x="3929040" y="2571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9147" t="0" r="0" b="7227"/>
          <a:stretch/>
        </p:blipFill>
        <p:spPr>
          <a:xfrm>
            <a:off x="785880" y="928800"/>
            <a:ext cx="8358120" cy="55004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4"/>
          <p:cNvSpPr/>
          <p:nvPr/>
        </p:nvSpPr>
        <p:spPr>
          <a:xfrm>
            <a:off x="4286160" y="378612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13980" t="0" r="0" b="8430"/>
          <a:stretch/>
        </p:blipFill>
        <p:spPr>
          <a:xfrm>
            <a:off x="1000080" y="928800"/>
            <a:ext cx="791388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4"/>
          <p:cNvSpPr/>
          <p:nvPr/>
        </p:nvSpPr>
        <p:spPr>
          <a:xfrm>
            <a:off x="4286160" y="35719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25013" t="22646" r="27740" b="0"/>
          <a:stretch/>
        </p:blipFill>
        <p:spPr>
          <a:xfrm>
            <a:off x="2143080" y="1285920"/>
            <a:ext cx="4857840" cy="512604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5"/>
          <p:cNvSpPr/>
          <p:nvPr/>
        </p:nvSpPr>
        <p:spPr>
          <a:xfrm>
            <a:off x="421488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21873" t="6263" r="20313" b="20842"/>
          <a:stretch/>
        </p:blipFill>
        <p:spPr>
          <a:xfrm>
            <a:off x="1643040" y="1500120"/>
            <a:ext cx="531828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5"/>
          <p:cNvSpPr/>
          <p:nvPr/>
        </p:nvSpPr>
        <p:spPr>
          <a:xfrm>
            <a:off x="3643200" y="35002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9373" t="0" r="14067" b="3837"/>
          <a:stretch/>
        </p:blipFill>
        <p:spPr>
          <a:xfrm>
            <a:off x="928800" y="928800"/>
            <a:ext cx="7043760" cy="570060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4"/>
          <p:cNvSpPr/>
          <p:nvPr/>
        </p:nvSpPr>
        <p:spPr>
          <a:xfrm>
            <a:off x="4286160" y="2143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rcRect l="14067" t="3837" r="25000" b="15979"/>
          <a:stretch/>
        </p:blipFill>
        <p:spPr>
          <a:xfrm>
            <a:off x="2071800" y="1000080"/>
            <a:ext cx="5605200" cy="475452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4"/>
          <p:cNvSpPr/>
          <p:nvPr/>
        </p:nvSpPr>
        <p:spPr>
          <a:xfrm>
            <a:off x="4286160" y="3286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3"/>
          <p:cNvSpPr/>
          <p:nvPr/>
        </p:nvSpPr>
        <p:spPr>
          <a:xfrm>
            <a:off x="0" y="285840"/>
            <a:ext cx="121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rcRect l="5094" t="7914" r="4606" b="22104"/>
          <a:stretch/>
        </p:blipFill>
        <p:spPr>
          <a:xfrm>
            <a:off x="142920" y="1285920"/>
            <a:ext cx="8858160" cy="442116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4"/>
          <p:cNvSpPr/>
          <p:nvPr/>
        </p:nvSpPr>
        <p:spPr>
          <a:xfrm>
            <a:off x="1714680" y="277344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3T12:06:42Z</dcterms:created>
  <dc:creator>ms</dc:creator>
  <dc:description/>
  <dc:language>en-US</dc:language>
  <cp:lastModifiedBy>Marionseg</cp:lastModifiedBy>
  <dcterms:modified xsi:type="dcterms:W3CDTF">2010-05-30T08:02:41Z</dcterms:modified>
  <cp:revision>24</cp:revision>
  <dc:subject/>
  <dc:title>Diapositive 1</dc:title>
</cp:coreProperties>
</file>