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6315-5C2D-4BA7-8BE8-4B6D6E4F52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527B-9CFB-497C-AB75-6C4B1ADB4F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0165-D9FD-4388-8F80-07ECB5E9F3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8C65-2160-41AA-BDF7-CC27543D33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8065-D3B9-4111-AD96-7D882A98BE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FC7B-AA1D-4905-B8CF-F0C5C6E8C1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C985-0C01-4D7D-AFC3-4E69C863C79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4C3E-329A-4407-B23E-E6ECB91B50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4368-AD1E-4E58-908A-12F670A63A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265F-A6E5-448F-9BF3-8F5EF09612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E6C5-1ADE-4941-93FE-08BEF73F58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6BE6-50AB-4753-A58F-7E01A2C55B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0F64-0B1B-478A-AB76-FAD80BA399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00FC-F80E-4BA3-A35E-83D439F2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0D9-2F45-477B-9831-EA8DE60D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1457-25E9-44D6-8537-8DDF027D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6DCB-6816-478D-9228-4AB3818E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D7C2-78B6-4DB4-AB10-0D4B08A0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894D-BACF-4F67-8B7F-42B14935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903A-5AEE-46D5-9ED0-C516DE39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1614-20AA-42E2-A8FA-E8BA3969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CDDA-5555-4A1B-83CB-E5CA09C4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9AFE-58A2-408D-B472-39231FE7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ED28-1843-4555-BE0B-CE4C9664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5C50-A079-408C-871B-78FFA3F4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C155-1350-4FB8-9253-626196F2B7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877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ombres relatifs (2)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2</a:t>
            </a:r>
            <a:br>
              <a:rPr sz="6000"/>
            </a:br>
            <a:br>
              <a:rPr sz="6000"/>
            </a:b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Sachant que </a:t>
            </a:r>
            <a:r>
              <a:rPr b="1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est un nombre </a:t>
            </a:r>
            <a:r>
              <a:rPr b="1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négatif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 non nul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et </a:t>
            </a:r>
            <a:r>
              <a:rPr b="1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un nombre </a:t>
            </a:r>
            <a:r>
              <a:rPr b="1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positif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 non nul,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donner le signe des expressions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lorsque cela est possible.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2"/>
              <p:cNvSpPr txBox="1"/>
              <p:nvPr/>
            </p:nvSpPr>
            <p:spPr>
              <a:xfrm>
                <a:off x="2878200" y="3238560"/>
                <a:ext cx="426384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1"/>
              <p:cNvSpPr txBox="1"/>
              <p:nvPr/>
            </p:nvSpPr>
            <p:spPr>
              <a:xfrm>
                <a:off x="2878200" y="3238560"/>
                <a:ext cx="29401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²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²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br>
              <a:rPr sz="8000"/>
            </a:br>
            <a:br>
              <a:rPr sz="6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56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1"/>
              <p:cNvSpPr txBox="1"/>
              <p:nvPr/>
            </p:nvSpPr>
            <p:spPr>
              <a:xfrm>
                <a:off x="3598920" y="3238560"/>
                <a:ext cx="175248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²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2"/>
              <p:cNvSpPr txBox="1"/>
              <p:nvPr/>
            </p:nvSpPr>
            <p:spPr>
              <a:xfrm>
                <a:off x="3598920" y="3238560"/>
                <a:ext cx="25556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²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11"/>
              <p:cNvSpPr txBox="1"/>
              <p:nvPr/>
            </p:nvSpPr>
            <p:spPr>
              <a:xfrm>
                <a:off x="3238560" y="3238560"/>
                <a:ext cx="33321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1"/>
              <p:cNvSpPr txBox="1"/>
              <p:nvPr/>
            </p:nvSpPr>
            <p:spPr>
              <a:xfrm>
                <a:off x="719280" y="3238560"/>
                <a:ext cx="77374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10"/>
              <p:cNvSpPr txBox="1"/>
              <p:nvPr/>
            </p:nvSpPr>
            <p:spPr>
              <a:xfrm>
                <a:off x="3238560" y="3238560"/>
                <a:ext cx="329256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3"/>
              <p:cNvSpPr txBox="1"/>
              <p:nvPr/>
            </p:nvSpPr>
            <p:spPr>
              <a:xfrm>
                <a:off x="2878200" y="3238560"/>
                <a:ext cx="36608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1"/>
              <p:cNvSpPr txBox="1"/>
              <p:nvPr/>
            </p:nvSpPr>
            <p:spPr>
              <a:xfrm>
                <a:off x="2878200" y="3238560"/>
                <a:ext cx="36986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3"/>
              <p:cNvSpPr txBox="1"/>
              <p:nvPr/>
            </p:nvSpPr>
            <p:spPr>
              <a:xfrm>
                <a:off x="2878200" y="3238560"/>
                <a:ext cx="36068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4:24:25Z</dcterms:created>
  <dc:creator>ms</dc:creator>
  <dc:description/>
  <dc:language>en-US</dc:language>
  <cp:lastModifiedBy>Marionseg</cp:lastModifiedBy>
  <dcterms:modified xsi:type="dcterms:W3CDTF">2010-01-22T16:44:53Z</dcterms:modified>
  <cp:revision>9</cp:revision>
  <dc:subject/>
  <dc:title>Nombres relatifs (2) Série n°2  Sachant que n est un nombre négatif et p un nombre positif donner le signe des expressions lorsque cela est possible   10 secondes par calcul</dc:title>
</cp:coreProperties>
</file>