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F4B5-DE32-4767-B44C-2F18E606E9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8FF3-1176-47E8-991E-58BFBC2C2A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6D1F-89ED-4502-AD7A-FFD3E8B40E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D837-8178-4739-9807-0EA79EA906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DA10-6D50-46CA-81BB-260E68F657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2328-D8AD-4F1C-BE43-DD58C16FB8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54DB-968E-443B-AAFB-2E6070C435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C2DF-4D06-43EA-BBBA-77A0ACC618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0EAA-0881-4A0F-9585-4C2AC8FBAA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760E-7248-4C78-A20E-6E88118E22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1C90-2622-4FD1-B86F-F38F8966B2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0956-74EA-4EE8-A077-1E74D81914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0C30-01C2-4D49-B169-14B5F46D37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7EBD-5C88-4D77-AB40-BEC1197D02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8348-696B-4A8E-A9FD-13C590A0BB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3AE-B2E3-43AC-82FD-6016DEB4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FD6-EE42-496B-83D2-BD1F8DF3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6AD-F613-41BA-9BBA-12CE8BE4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9D59-7768-4DA9-8E6C-740661EE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6646-D2DC-4F2C-8587-34BA4BEF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B9E-FDB6-437F-8012-805A116B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997-5525-4FB0-A17E-B8CB1CC1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EB0-7726-4713-B15B-B12372E9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2B0-3CF5-4679-9DFF-6986BAFF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887-41A6-42D4-BC65-C953CD89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FE1-EDAA-4AE2-B9E0-A1D11E8A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FD5-4945-4D8F-8F13-AFF75F49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54FA-1A88-463C-A7B8-2008CC4CCA1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REPÉRAGE SUR UNE DROITE GRADUÉE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3" descr=""/>
          <p:cNvPicPr/>
          <p:nvPr/>
        </p:nvPicPr>
        <p:blipFill>
          <a:blip r:embed="rId1"/>
          <a:srcRect l="0" t="12983" r="3991" b="57488"/>
          <a:stretch/>
        </p:blipFill>
        <p:spPr>
          <a:xfrm>
            <a:off x="252360" y="2879640"/>
            <a:ext cx="8666280" cy="143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3" descr=""/>
          <p:cNvPicPr/>
          <p:nvPr/>
        </p:nvPicPr>
        <p:blipFill>
          <a:blip r:embed="rId1"/>
          <a:srcRect l="1001" t="18540" r="6981" b="51931"/>
          <a:stretch/>
        </p:blipFill>
        <p:spPr>
          <a:xfrm>
            <a:off x="395280" y="2879640"/>
            <a:ext cx="8305920" cy="143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3" descr=""/>
          <p:cNvPicPr/>
          <p:nvPr/>
        </p:nvPicPr>
        <p:blipFill>
          <a:blip r:embed="rId1"/>
          <a:srcRect l="0" t="18540" r="4992" b="51931"/>
          <a:stretch/>
        </p:blipFill>
        <p:spPr>
          <a:xfrm>
            <a:off x="287280" y="2879640"/>
            <a:ext cx="8577360" cy="143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 3" descr=""/>
          <p:cNvPicPr/>
          <p:nvPr/>
        </p:nvPicPr>
        <p:blipFill>
          <a:blip r:embed="rId1"/>
          <a:srcRect l="1001" t="18540" r="4992" b="51931"/>
          <a:stretch/>
        </p:blipFill>
        <p:spPr>
          <a:xfrm>
            <a:off x="324000" y="2879640"/>
            <a:ext cx="8486640" cy="143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c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6000" spc="-1" strike="noStrike">
                <a:solidFill>
                  <a:srgbClr val="c00000"/>
                </a:solidFill>
                <a:latin typeface="Arial"/>
                <a:ea typeface="Arial"/>
              </a:rPr>
              <a:t>Donner l’abscisse du point B en écriture décimale.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6981" t="9270" r="4992" b="61201"/>
          <a:stretch/>
        </p:blipFill>
        <p:spPr>
          <a:xfrm>
            <a:off x="612720" y="2879640"/>
            <a:ext cx="7945560" cy="143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3" descr=""/>
          <p:cNvPicPr/>
          <p:nvPr/>
        </p:nvPicPr>
        <p:blipFill>
          <a:blip r:embed="rId1"/>
          <a:srcRect l="0" t="18540" r="5980" b="51931"/>
          <a:stretch/>
        </p:blipFill>
        <p:spPr>
          <a:xfrm>
            <a:off x="360360" y="2879640"/>
            <a:ext cx="8485200" cy="143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 3" descr=""/>
          <p:cNvPicPr/>
          <p:nvPr/>
        </p:nvPicPr>
        <p:blipFill>
          <a:blip r:embed="rId1"/>
          <a:srcRect l="0" t="18540" r="4992" b="51931"/>
          <a:stretch/>
        </p:blipFill>
        <p:spPr>
          <a:xfrm>
            <a:off x="287280" y="2879640"/>
            <a:ext cx="8577360" cy="143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age 3" descr=""/>
          <p:cNvPicPr/>
          <p:nvPr/>
        </p:nvPicPr>
        <p:blipFill>
          <a:blip r:embed="rId1"/>
          <a:srcRect l="0" t="18540" r="4992" b="51931"/>
          <a:stretch/>
        </p:blipFill>
        <p:spPr>
          <a:xfrm>
            <a:off x="252360" y="2879640"/>
            <a:ext cx="8575560" cy="143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rcRect l="0" t="18540" r="4992" b="51931"/>
          <a:stretch/>
        </p:blipFill>
        <p:spPr>
          <a:xfrm>
            <a:off x="287280" y="2879640"/>
            <a:ext cx="8577360" cy="143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mage 3" descr=""/>
          <p:cNvPicPr/>
          <p:nvPr/>
        </p:nvPicPr>
        <p:blipFill>
          <a:blip r:embed="rId1"/>
          <a:srcRect l="0" t="18540" r="4992" b="51931"/>
          <a:stretch/>
        </p:blipFill>
        <p:spPr>
          <a:xfrm>
            <a:off x="287280" y="2879640"/>
            <a:ext cx="8577360" cy="143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3" descr=""/>
          <p:cNvPicPr/>
          <p:nvPr/>
        </p:nvPicPr>
        <p:blipFill>
          <a:blip r:embed="rId1"/>
          <a:srcRect l="1001" t="7426" r="3991" b="63045"/>
          <a:stretch/>
        </p:blipFill>
        <p:spPr>
          <a:xfrm>
            <a:off x="287280" y="2879640"/>
            <a:ext cx="8577360" cy="143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4:26:21Z</dcterms:modified>
  <cp:revision>14</cp:revision>
  <dc:subject/>
  <dc:title>Repérage Série n°1</dc:title>
</cp:coreProperties>
</file>