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E0AD-7168-456A-92A7-935F183A22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21E3-6AEE-4F22-972D-3E203EB7EE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E31C-83EE-40CA-9467-D91582E95C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D9FD-EC00-4648-B260-2D7E32F25B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3AE6-1C0A-4AF0-9A06-C62DB88468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8A4D-ED03-4F72-BD61-A91238375F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E9E5-1C46-437B-98C2-F4D311D476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E85E-7471-4155-8628-C291450774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6860-C1DE-4CF7-BC87-CA874B2DEB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F8D0-111E-4C31-B14C-460E6F5067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291-E088-4DB8-802D-9376AC5D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57B-DC31-45F4-8405-6B481F93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AB4-BE52-4847-9F66-B0438CB0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C3E-5AAE-4B6D-BBF8-64DAB369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A31-3D9A-45D0-9420-937CEAC9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EC31-A46F-4D67-AB36-766C8789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88BF-1980-4FE2-A15E-5842EF7A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84D-3D13-4CE8-95D0-93C1E3BB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FE8-12C3-4EA9-BC45-B8660808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F07-C76C-48B6-97D7-E1FB29AB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0A9-1E26-49EF-A3D5-9F7449BA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DE1-F668-400E-A8C9-7FBAF2F2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AA26-CF2D-4674-958E-16EDEA128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CODER UNE FIGURE (4)</a:t>
            </a:r>
            <a:br>
              <a:rPr sz="8000"/>
            </a:b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SÉRIE N°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Les figures suivantes sont faites à main levée.</a:t>
            </a:r>
            <a:br>
              <a:rPr sz="4800"/>
            </a:br>
            <a:br>
              <a:rPr sz="4800"/>
            </a:br>
            <a:r>
              <a:rPr b="0" i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oder chaque figure afin de respecter les informations données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0/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(CE) est la médiatrice de [AB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295280" y="1219320"/>
            <a:ext cx="6477120" cy="51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1/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(AE) est la médiane relative à [BC] dans le triangle B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51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72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2/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E est le point d’intersection des hauteurs (ou l’orthocentre) dans le triangle 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371600" y="1447920"/>
            <a:ext cx="6477120" cy="51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6931080" y="250920"/>
                <a:ext cx="12128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ZoneTexte 7"/>
          <p:cNvSpPr/>
          <p:nvPr/>
        </p:nvSpPr>
        <p:spPr>
          <a:xfrm>
            <a:off x="571680" y="28584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3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(CE) est la bissectrice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514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4/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E est le centre du cercle circonscri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au triangle 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371600" y="1371600"/>
            <a:ext cx="6477120" cy="514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5/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(AB) est la hauteur issue de A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dans le triangle 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371600" y="1371600"/>
            <a:ext cx="6477120" cy="514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6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ionseg</dc:creator>
  <dc:description/>
  <dc:language>en-US</dc:language>
  <cp:lastModifiedBy>Marionseg</cp:lastModifiedBy>
  <dcterms:modified xsi:type="dcterms:W3CDTF">2010-05-30T07:57:29Z</dcterms:modified>
  <cp:revision>20</cp:revision>
  <dc:subject/>
  <dc:title>PowerPoint Presentation</dc:title>
</cp:coreProperties>
</file>