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1F512-A752-4F6B-AADE-1F1A7EB8E3B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68CEB-9CE0-480A-9A82-3B4D8113837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A3081-311E-4D1C-80BB-2DAB9733655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C7735-E687-421F-923C-4B529F9DFEF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756DC-12B1-4D9D-913A-ECCC99A5D77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0D18F-713D-40E4-959C-90CD27635AE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1ADF4-5EC0-43C2-8E29-B7E395A2A6B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A3DFF-BF85-4ECD-A038-15E2CDE56D7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5504E-D31D-486F-8820-085599F29EA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B9FCE-EB5C-47A8-B262-26B444DFD2D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D705D-411F-47D0-9E07-C1ABB7B76E2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60E12-826D-445F-90D2-4D560F1DF2B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76C3D-6E2C-4E6C-9CA2-CC0BC5F92F6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68537-6447-4907-BA2F-2E6B27BC1CA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906E-8479-4B89-99C2-A9D652376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3298-E045-47E2-B5D2-60819D944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8A1C-F8B4-4745-A7AA-BEA5C21AB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3C42-5A4F-46CA-B740-31CA4FB37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974FE-F56E-4064-977A-828CD0323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E4A3A-3604-4882-9AF8-4B7788FC9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A8669-CFBA-4394-B082-C1DEE8979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A8F43-801C-4361-B4D1-9492D1C15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AD77A-888B-4A94-8B89-F932B6573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3940A-5501-48ED-9568-79445291F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CC374-BBE1-4B5D-9DAA-0B70F6AB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C6AE-D06D-4C68-B6CE-E66B36C53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9FBA2-D34F-4F02-AD62-74859F17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77DDF-72E7-41F3-A2F8-6F9CF131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B6D26-D75D-476C-823A-7CD43520C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E155D-2618-44B4-8C65-5DEF08451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C6B64-66F3-4D66-A7D9-DB64DE33D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AAF7-6AB3-477C-93E9-2EB1AA1DA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C38D-6A2D-45EC-A054-435D21971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BE35-D22F-4FD6-8804-29C61E31C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F004-B375-4D5F-A8FE-9B890E2E8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D614-BACE-4091-8F3F-6D67C883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1B7E-0587-4C72-B02D-C1EFCF48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AEFF-EA63-44C9-8F54-5DA0A2D8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6B4AF-1C80-4F05-BB00-03AEF8F59F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596B8-0BC0-4961-A918-390C8530AD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640" y="263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Divisibilité(1)</a:t>
            </a:r>
            <a:br>
              <a:rPr sz="6000"/>
            </a:b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Série n°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17985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N°8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6 est un multiple de 4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0" y="17985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N°9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54 est divisible par 9</a:t>
            </a: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0" y="17985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N°10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48 est un multiple de 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8760" y="264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  <a:ea typeface="Times New Roman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103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Bouton d'action : Retour 5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1476360" y="2250360"/>
            <a:ext cx="65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Répondre pa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9900"/>
                </a:solidFill>
                <a:latin typeface="Arial"/>
              </a:rPr>
              <a:t>VRAI</a:t>
            </a: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1" lang="fr-FR" sz="6000" spc="-1" strike="noStrike">
                <a:solidFill>
                  <a:srgbClr val="cc0000"/>
                </a:solidFill>
                <a:latin typeface="Arial"/>
              </a:rPr>
              <a:t>FAU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17985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N°1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18 est un multiple de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17985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N°2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36 est divisible par 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17985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N°3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56 est un diviseur de 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0" y="17985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N°4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7 est un diviseur de 6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0" y="17985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N°5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47 est un multiple de 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17985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N°6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9 est un diviseur de 8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17985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N°7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7 est un diviseur de 5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0:53:53Z</dcterms:created>
  <dc:creator>ms</dc:creator>
  <dc:description/>
  <dc:language>en-US</dc:language>
  <cp:lastModifiedBy>Marionseg</cp:lastModifiedBy>
  <dcterms:modified xsi:type="dcterms:W3CDTF">2010-01-22T14:43:27Z</dcterms:modified>
  <cp:revision>6</cp:revision>
  <dc:subject/>
  <dc:title>Diapositive 1</dc:title>
</cp:coreProperties>
</file>