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68A7-344B-4C64-AA4E-002E1DDE106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DD54-15C8-41AB-B273-F4812574E30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8871-C576-42DE-971B-F141624ADB3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31EB-2569-46CB-A6E8-9AFFD10F83A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48CF-C540-45D6-8A15-DD9845309B7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D9D8-0425-43D5-BBB5-FC227DFBEBE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B0BB-409C-4B0A-AAFA-D5A9B7927BB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31A4-1CDE-46CB-BA92-B2CDBD4912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74AF-3FC6-4267-B066-620A77277AB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C220-9E2E-432A-9D3C-61E399EB28D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4EE8-2598-450C-9C8C-AB947FB825E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93A5-37CA-41D3-9A10-A4B7B2CDCF4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241B-4CEB-44BE-80D8-1E625BF6B01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A24F-8D00-40F6-A8A2-F7C4BE36D59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312F-819F-43D8-AE59-4B9FF496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0213-8DB6-4E5F-8671-CE04B3E5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26F5-9DAC-4C2E-B85F-29AC0E82E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11A4-FD78-428A-BF1A-DEF07FF7F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B173-C7D0-440C-84F5-351AA05A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99B7-BD69-4AE9-A89F-6B391374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A630-B665-49B7-A107-F18DDE38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EB7A-6B3C-4675-98A2-CBF7945D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7C14-5127-4B4C-81F5-0F075254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56CB-CCE1-4323-9148-834A483A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7A52-53FB-4E65-A166-3972EF78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7A9D-2711-448F-A6BB-93A38A6D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8860-2017-4062-94F0-E3A257D28208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E9489-DA5F-4930-B967-9B60BD74CC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ENSEMBLES DE NOMBRES</a:t>
            </a:r>
            <a:br>
              <a:rPr sz="6600"/>
            </a:b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SÉRIE 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3"/>
              <p:cNvSpPr txBox="1"/>
              <p:nvPr/>
            </p:nvSpPr>
            <p:spPr>
              <a:xfrm>
                <a:off x="122400" y="2973240"/>
                <a:ext cx="892476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'</m:t>
                    </m:r>
                    <m:r>
                      <m:rPr>
                        <m:lit/>
                        <m:nor/>
                      </m:rPr>
                      <m:t xml:space="preserve">es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u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ombr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ationnel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3"/>
              <p:cNvSpPr txBox="1"/>
              <p:nvPr/>
            </p:nvSpPr>
            <p:spPr>
              <a:xfrm>
                <a:off x="111240" y="2859120"/>
                <a:ext cx="895500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'</m:t>
                    </m:r>
                    <m:r>
                      <m:rPr>
                        <m:lit/>
                        <m:nor/>
                      </m:rPr>
                      <m:t xml:space="preserve">es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s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u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ombr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cimal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3"/>
              <p:cNvSpPr txBox="1"/>
              <p:nvPr/>
            </p:nvSpPr>
            <p:spPr>
              <a:xfrm>
                <a:off x="282600" y="2536920"/>
                <a:ext cx="8688240" cy="17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u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ombr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cimal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82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4127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Répondre par VRAI ou FAUX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2"/>
              <p:cNvSpPr txBox="1"/>
              <p:nvPr/>
            </p:nvSpPr>
            <p:spPr>
              <a:xfrm>
                <a:off x="349200" y="2746440"/>
                <a:ext cx="846468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u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ombr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rrationne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835200" y="2460600"/>
                <a:ext cx="7492680" cy="17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u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ombr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cimal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3"/>
              <p:cNvSpPr txBox="1"/>
              <p:nvPr/>
            </p:nvSpPr>
            <p:spPr>
              <a:xfrm>
                <a:off x="995400" y="2841480"/>
                <a:ext cx="717228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u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ombr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ntier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3"/>
              <p:cNvSpPr txBox="1"/>
              <p:nvPr/>
            </p:nvSpPr>
            <p:spPr>
              <a:xfrm>
                <a:off x="511200" y="2428920"/>
                <a:ext cx="8140680" cy="17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π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u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ombr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ationnel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3"/>
              <p:cNvSpPr txBox="1"/>
              <p:nvPr/>
            </p:nvSpPr>
            <p:spPr>
              <a:xfrm>
                <a:off x="673200" y="2428920"/>
                <a:ext cx="7816680" cy="17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u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ombr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cimal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479520" y="2109960"/>
                <a:ext cx="8204040" cy="24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7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u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ombr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ntier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3"/>
              <p:cNvSpPr txBox="1"/>
              <p:nvPr/>
            </p:nvSpPr>
            <p:spPr>
              <a:xfrm>
                <a:off x="285840" y="2428920"/>
                <a:ext cx="8593200" cy="17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es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u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ombr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cimal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16:22:08Z</dcterms:created>
  <dc:creator>Claudine Bertrand-Gorge</dc:creator>
  <dc:description/>
  <dc:language>en-US</dc:language>
  <cp:lastModifiedBy>Marionseg</cp:lastModifiedBy>
  <dcterms:modified xsi:type="dcterms:W3CDTF">2010-01-22T15:48:41Z</dcterms:modified>
  <cp:revision>24</cp:revision>
  <dc:subject/>
  <dc:title>Répondre par VRAI ou FAUX</dc:title>
</cp:coreProperties>
</file>