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A1D3-CF07-41EB-BF38-43985D49FA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1ED3-B183-4DAD-8AD1-C4C3F154D7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E675-8D1E-465B-9A67-25F2E7DDDC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BFA8-417F-4DEB-854B-6E04597BE9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F9E7-2F01-4702-9D8E-46E88F79E9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8C38-73BA-4613-8010-71E7B79DB0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3933-FA8A-41AE-B412-C8398054CD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949F-F868-4BD0-AFCD-3F9D49F510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6D02-33A6-4D86-B23B-0C176365F9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38D0-BCF4-4AEB-A3B9-E1719CFF1C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785-2D2F-4F7D-947D-04B0E77971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2699-4049-489F-BC89-867B6974FC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91DC-96E6-4F51-8B02-9064EFA055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2028-ABC4-48F1-AEE1-8606F91A70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D2B0-919E-4E3D-BB8A-F0577224CA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101D-B41B-4395-B011-2E08EBB067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C21-9CD5-44BF-BDF3-6CF17155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3870-524E-4D81-BBC2-25F3EFE5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367C-15E4-43D4-94BF-1ED39163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720-E691-4C75-B01E-13BE2CF9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D43-7E68-49E7-A2A3-8543FF0E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462-9791-4EE9-BAB9-90362B69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E16-CB59-45DF-9C21-D9841643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42A-96BC-4824-A560-3FD4B3C8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113-6103-4A00-925E-755A27A0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814-BC9F-41D7-B722-821E9E7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BE0-9A58-4E82-8D49-D6AFE777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DB9-4851-48BE-A8CA-452DFB04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267-F0DD-4DA4-8ED6-D1E08D05D5C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240000"/>
            <a:ext cx="9144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TRIGONOMÉTRIE</a:t>
            </a:r>
            <a:br>
              <a:rPr sz="8000"/>
            </a:b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58960" y="1571760"/>
            <a:ext cx="7408800" cy="4572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7"/>
              <p:cNvSpPr txBox="1"/>
              <p:nvPr/>
            </p:nvSpPr>
            <p:spPr>
              <a:xfrm>
                <a:off x="2500200" y="584280"/>
                <a:ext cx="316080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571760" y="571680"/>
            <a:ext cx="592920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71680" y="1455840"/>
                <a:ext cx="31604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S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428920" y="214200"/>
            <a:ext cx="4017960" cy="60357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22440" y="1670040"/>
                <a:ext cx="27730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I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11040" y="1571760"/>
            <a:ext cx="8404200" cy="45194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2471760" y="639720"/>
                <a:ext cx="3216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714680" y="1214280"/>
            <a:ext cx="6365520" cy="4900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286160" y="2786040"/>
            <a:ext cx="533520" cy="668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5929200" y="3214800"/>
            <a:ext cx="507960" cy="6429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2527200" y="639720"/>
                <a:ext cx="3105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71480" y="25718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600" spc="-1" strike="noStrike">
                <a:solidFill>
                  <a:srgbClr val="11488b"/>
                </a:solidFill>
                <a:latin typeface="Calibri"/>
              </a:rPr>
              <a:t>FI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" y="2571480"/>
            <a:ext cx="822960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Pour chaque triangle qui apparaîtr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crire le rapport demandé en utilisant les lettres de la figure, puis, si c’est possibl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donner la valeur numérique exac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289720" cy="50720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7"/>
              <p:cNvSpPr txBox="1"/>
              <p:nvPr/>
            </p:nvSpPr>
            <p:spPr>
              <a:xfrm>
                <a:off x="2473200" y="639720"/>
                <a:ext cx="32162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735120" y="1428840"/>
            <a:ext cx="8078760" cy="464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7"/>
              <p:cNvSpPr txBox="1"/>
              <p:nvPr/>
            </p:nvSpPr>
            <p:spPr>
              <a:xfrm>
                <a:off x="2554200" y="639720"/>
                <a:ext cx="304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M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0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92000" y="1357200"/>
            <a:ext cx="7280280" cy="4857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2500200" y="639720"/>
                <a:ext cx="3160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00120" y="1143000"/>
            <a:ext cx="6232680" cy="3846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7"/>
              <p:cNvSpPr txBox="1"/>
              <p:nvPr/>
            </p:nvSpPr>
            <p:spPr>
              <a:xfrm>
                <a:off x="2498760" y="612720"/>
                <a:ext cx="3162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2643120" y="-479520"/>
            <a:ext cx="5572080" cy="76946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654120" y="1571760"/>
                <a:ext cx="2995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357280" y="-55440"/>
            <a:ext cx="4929480" cy="69134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2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7"/>
              <p:cNvSpPr txBox="1"/>
              <p:nvPr/>
            </p:nvSpPr>
            <p:spPr>
              <a:xfrm>
                <a:off x="808200" y="2384280"/>
                <a:ext cx="28288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K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74720" y="1047600"/>
            <a:ext cx="6583320" cy="4338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0" rIns="900000" tIns="-442800" bIns="-442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556000" y="639720"/>
                <a:ext cx="304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12:40:35Z</dcterms:created>
  <dc:creator>Famille Ravet</dc:creator>
  <dc:description/>
  <dc:language>en-US</dc:language>
  <cp:lastModifiedBy>Marionseg</cp:lastModifiedBy>
  <dcterms:modified xsi:type="dcterms:W3CDTF">2010-01-22T13:04:40Z</dcterms:modified>
  <cp:revision>42</cp:revision>
  <dc:subject/>
  <dc:title>Contrôle de maths</dc:title>
</cp:coreProperties>
</file>