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DB63-42AB-4E50-BDBF-E70AC4A809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CE7-C269-45A5-9CBB-9F0B95C0A0B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8BBE-2EF6-40A8-B15C-5B3CE23B46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29EF-E96F-406D-A71C-B57BD9BA66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094C-6F63-4CA7-8568-774859E4AD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D15D-8A4C-42A7-A47C-9BC83B4A0B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B2EF-4BD6-48E0-8B9D-D999EF998B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1A50-F6A2-48DB-B6B6-2578A404DE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2FB7-8D92-4666-94D7-B788812B15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E083-DA1E-4DD5-8237-F1E5F2A469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4008-A4DD-4280-B639-D3113D8FAA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FF71-527B-4A70-B60B-08F1FA412F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356A-DE27-410A-A2E2-A73588E408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637F-0BC7-47B5-A62B-20D1EEB16D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2AFA-9BE8-41D9-BEEA-976FBEEC9C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4BE7-C536-4A44-A042-8D20952021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9373-8A56-45F0-8CAD-6E890BAF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8B09-BAFF-4307-8729-A88DE3F7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7BF-1E1B-4F69-89FA-B66AEB56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8C61-F171-4F37-AEAE-D76DE74D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193A-AA14-43BF-97F5-0B96DA4D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9BD-C680-4344-BF49-028B1C2D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5BA-EBD0-47B4-9943-2C757F8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9014-3A62-43E1-BC7D-F7F6A97C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EA3-182A-4444-8A47-03723B3E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79E-D6C7-4B79-9B73-807984D1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21C7-135B-4482-B373-CC4DF3F7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2D9-60BD-4310-8339-8B6F3589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7AB1-9C55-41EA-827F-119F97B35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FACTORISATIONS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0040" y="2130480"/>
            <a:ext cx="807264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21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(– 12) + 21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47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14 – 47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12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57120" y="2130480"/>
            <a:ext cx="985824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400" spc="-1" strike="noStrike">
                <a:solidFill>
                  <a:srgbClr val="000000"/>
                </a:solidFill>
                <a:latin typeface="Calibri"/>
              </a:rPr>
              <a:t>(– 23) </a:t>
            </a:r>
            <a:r>
              <a:rPr b="0" lang="fr-FR" sz="7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400" spc="-1" strike="noStrike">
                <a:solidFill>
                  <a:srgbClr val="000000"/>
                </a:solidFill>
                <a:latin typeface="Calibri"/>
              </a:rPr>
              <a:t> (– 34) – 13 </a:t>
            </a:r>
            <a:r>
              <a:rPr b="0" lang="fr-FR" sz="7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400" spc="-1" strike="noStrike">
                <a:solidFill>
                  <a:srgbClr val="000000"/>
                </a:solidFill>
                <a:latin typeface="Calibri"/>
              </a:rPr>
              <a:t> 34</a:t>
            </a:r>
            <a:endParaRPr b="0" lang="en-US" sz="7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214200" y="2130480"/>
            <a:ext cx="95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(– 17)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27 – 17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(– 7)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59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(– 8) – 8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(– 59)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actorisa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Avec des nombres relatif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actoriser pour calculer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 repér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facteur comm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signe de l’opé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s nombres à ajouter ou à soustr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278568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ouver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forme factorisée du calcul propos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crire le résultat fi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(– 7)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4 + (– 7)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6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5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(– 8) + 5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2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95816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13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12 – 12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(– 7)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214200" y="2130480"/>
            <a:ext cx="95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(– 11) – 5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(– 11)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17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5 + 3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5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23T14:58:43Z</dcterms:modified>
  <cp:revision>31</cp:revision>
  <dc:subject/>
  <dc:title>Vocabulaire et calcul mental</dc:title>
</cp:coreProperties>
</file>