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E5DF-5522-40C3-BB6B-382ED68774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6892-465F-41DD-BD1B-8AF6D2901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0B5-FBB8-4CE6-AB37-7F52FB0511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815E-398C-4662-A770-07CFA8FBC1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74F-6EAA-4BA9-B977-B368692D80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77ED-62E0-46E2-9D47-64FEBD8786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ED16-8868-44E4-A065-C78E3479A9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8C4-5729-4F4C-A946-C6271A40B0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E0E1-4A1C-4A8C-824E-CC5C2FC4C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5F4B-0BF2-458E-B037-7ED39FD229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51F-9FAC-4B0A-99DE-F7D141F9DC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82A6-20B9-4145-85E1-F7382B4FDA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E7D-9630-44DB-B25F-36D0595B75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0DC-BDAC-4E17-B88B-5EC9FD8C2E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5B9-AB5D-4D3B-AC2F-C748D9BB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D8C2-C0D1-4413-B022-4DAABF38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7E3-3EED-462E-8BBB-FDCAD5BD0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C49-E3FF-4059-A91B-F90F138E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7FE0-1773-4307-AE40-A8DD4BBB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017E-DC1F-43DD-AECB-A16C292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0090-E332-4AC5-8852-0B682D65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7925-59EB-4992-8FBB-BB7B2DE4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7BFB-7D80-4F2F-94A0-FDE82763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45AA-1F87-445F-AD97-3F47A277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9E29-2FC3-4C71-BA19-2B97035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23F5-A91A-468C-B7F0-53C4428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3CAD-B107-45D4-A19E-8EE631AE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33AC-4A56-46FE-9721-888961D3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AEEF-2184-4223-BBCB-B2EFBA9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8759-B95E-44B7-B760-08491F37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5A95-FDC0-4836-AB8C-CAA4D6B3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7D6D-BF59-4936-B5B7-00FB62E1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B1AB-37C8-4CCD-87DD-EC863950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B5F-B9C3-41C7-8491-3AA18FB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5F0-A5C1-4627-B3C0-D21C6E2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F0C5-C6B2-41AB-B30D-44C4A32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0FD-21D6-4F14-9BA0-04BA1EBC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4FF-DAFB-429C-A730-A7686EA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112B-9726-4975-BE55-C6E55F1C4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C69-5D68-460C-841A-0FCB6146E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260440" y="2238480"/>
                <a:ext cx="465156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6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1795320" y="2238480"/>
                <a:ext cx="558180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4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797120" y="2238480"/>
                <a:ext cx="558000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6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Bouton d'action : Retour 8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Écrire avec une seule puissance de 1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1476360" y="12895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3035160" y="2340000"/>
                <a:ext cx="310068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476360" y="143712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2828880" y="2340000"/>
                <a:ext cx="35132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2828880" y="2340000"/>
                <a:ext cx="35132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2725560" y="2340000"/>
                <a:ext cx="372132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2828880" y="2340000"/>
                <a:ext cx="35132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2879640" y="2340000"/>
                <a:ext cx="341172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2468520" y="2238480"/>
                <a:ext cx="4237200" cy="23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0:28Z</dcterms:modified>
  <cp:revision>16</cp:revision>
  <dc:subject/>
  <dc:title>PowerPoint Presentation</dc:title>
</cp:coreProperties>
</file>