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DB01-0F97-4171-8103-1CBCBAB01A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F0D-2571-4A64-82A0-3D327821FB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4A16-D9BD-44A7-8D41-5788311D1D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7D9B-CDB9-43EB-B221-62171A3403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09EA-216B-47A8-A12F-AF379B86C5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4DD1-05DA-4204-A9C6-80EE413AFB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3B1F-BB6D-4F6A-B263-0723EE6CF5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6A6B-5F43-4FAB-AE26-679D926A7C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7A8C-FFE5-440D-9525-68FC25F514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313-F068-4178-8BFA-EAB50A1EBC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CF1-7DE8-4C69-9DE4-030E974619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D511-AA4F-4E81-B5BE-1DE7780CE9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0588-34E8-4811-A203-5028C7D18B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8776-3D39-4E16-AB7D-AC191C490E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6B7D-3529-4EFB-8441-40FE915994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81DB-A11E-4395-9880-45971CE4E7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AF3F-906F-493B-A903-4874A96E3E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C3B0-25D8-48F2-A4AD-027F25A4F4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4640-825C-4E29-ADC9-2F62C89097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588-E276-421D-A687-D21D4B18D5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F354-076A-4B86-B411-9C7EB0BC6F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7F1D-DCDE-4091-B59A-C923FE4F22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A66E-3A1E-4A6E-9765-7F739A7F54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F6EC-9B1E-42BD-B510-CB5087D5B4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CE12-A4D8-4C55-AAD2-C600AA40FB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D00-4298-4CBC-BC65-1CB5267C2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F66-628D-44E6-9586-5E1A6CB1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C9D-C229-45B8-AAB2-E5AF00101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BF1-EB4A-4137-B0B3-2DD83146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D09-EC70-48A0-83C6-D88E6263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A66-B016-457D-B407-B3F6FD81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0C9-95ED-4269-B52E-3D6AA692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CC5-A219-4D2D-A577-D39DDB98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91D4-F113-40D7-BCBF-0DF1A541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C22-7A3F-4F7C-AF0F-DD8AFBFA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16A-4314-46A1-9AB3-D2D9F580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AAF9-4A64-4457-A753-F51EF9F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5428-5AD4-4F63-9B28-E698BA017D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Sym&#233;tries(5)%20Corrections/Sym&#233;tries5.1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Sym&#233;tries(5)%20Corrections/Sym&#233;tries5.2.g3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Sym&#233;tries(5)%20Corrections/Sym&#233;tries5.3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ÉTRIES(5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15569" t="12937" r="46029" b="24036"/>
          <a:stretch/>
        </p:blipFill>
        <p:spPr>
          <a:xfrm>
            <a:off x="1554120" y="1436760"/>
            <a:ext cx="6089760" cy="5349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rcRect l="16019" t="12937" r="30797" b="25618"/>
          <a:stretch/>
        </p:blipFill>
        <p:spPr>
          <a:xfrm>
            <a:off x="357120" y="1428840"/>
            <a:ext cx="8434440" cy="5214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rcRect l="13907" t="16070" r="48355" b="23376"/>
          <a:stretch/>
        </p:blipFill>
        <p:spPr>
          <a:xfrm>
            <a:off x="1571760" y="1574640"/>
            <a:ext cx="5984640" cy="5140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rcRect l="18879" t="17882" r="40731" b="18212"/>
          <a:stretch/>
        </p:blipFill>
        <p:spPr>
          <a:xfrm>
            <a:off x="1370160" y="1285920"/>
            <a:ext cx="6403680" cy="54244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4"/>
          <p:cNvSpPr/>
          <p:nvPr/>
        </p:nvSpPr>
        <p:spPr>
          <a:xfrm>
            <a:off x="179280" y="12096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/(d2)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18218" t="12937" r="42716" b="25269"/>
          <a:stretch/>
        </p:blipFill>
        <p:spPr>
          <a:xfrm>
            <a:off x="1449360" y="1398600"/>
            <a:ext cx="6194520" cy="5245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4"/>
          <p:cNvSpPr/>
          <p:nvPr/>
        </p:nvSpPr>
        <p:spPr>
          <a:xfrm>
            <a:off x="179280" y="12096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/(d2) et O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rcRect l="27487" t="14176" r="34771" b="22697"/>
          <a:stretch/>
        </p:blipFill>
        <p:spPr>
          <a:xfrm>
            <a:off x="1515960" y="1357200"/>
            <a:ext cx="5985000" cy="53578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>
            <a:off x="179280" y="12096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/O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16894" t="14675" r="42055" b="22199"/>
          <a:stretch/>
        </p:blipFill>
        <p:spPr>
          <a:xfrm>
            <a:off x="1276200" y="1357200"/>
            <a:ext cx="6510600" cy="53578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79280" y="113832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15569" t="19116" r="45365" b="17851"/>
          <a:stretch/>
        </p:blipFill>
        <p:spPr>
          <a:xfrm>
            <a:off x="1449360" y="1428840"/>
            <a:ext cx="6194520" cy="534996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4"/>
          <p:cNvSpPr/>
          <p:nvPr/>
        </p:nvSpPr>
        <p:spPr>
          <a:xfrm>
            <a:off x="179280" y="12096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/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6230" t="15017" r="51325" b="17652"/>
          <a:stretch/>
        </p:blipFill>
        <p:spPr>
          <a:xfrm>
            <a:off x="1998720" y="1143000"/>
            <a:ext cx="5145120" cy="5715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179280" y="1214280"/>
            <a:ext cx="2448000" cy="64800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81567" h="21600">
                <a:moveTo>
                  <a:pt x="0" y="0"/>
                </a:moveTo>
                <a:lnTo>
                  <a:pt x="81567" y="0"/>
                </a:lnTo>
                <a:lnTo>
                  <a:pt x="81567" y="21600"/>
                </a:lnTo>
                <a:lnTo>
                  <a:pt x="0" y="21600"/>
                </a:lnTo>
                <a:close/>
              </a:path>
              <a:path fill="lightenLess" w="81567" h="21600">
                <a:moveTo>
                  <a:pt x="0" y="0"/>
                </a:moveTo>
                <a:lnTo>
                  <a:pt x="81567" y="0"/>
                </a:lnTo>
                <a:lnTo>
                  <a:pt x="80167" y="1400"/>
                </a:lnTo>
                <a:lnTo>
                  <a:pt x="1400" y="1400"/>
                </a:lnTo>
                <a:close/>
              </a:path>
              <a:path fill="darken" w="81567" h="21600">
                <a:moveTo>
                  <a:pt x="81567" y="0"/>
                </a:moveTo>
                <a:lnTo>
                  <a:pt x="81567" y="21600"/>
                </a:lnTo>
                <a:lnTo>
                  <a:pt x="80167" y="20200"/>
                </a:lnTo>
                <a:lnTo>
                  <a:pt x="80167" y="1400"/>
                </a:lnTo>
                <a:close/>
              </a:path>
              <a:path fill="darkenLess" w="81567" h="21600">
                <a:moveTo>
                  <a:pt x="81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67" y="20200"/>
                </a:lnTo>
                <a:close/>
              </a:path>
              <a:path fill="lighten" w="81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Les figures suivantes sont-elles symétriques par rapport à une droite et/ou un point ? Si oui, préciser l’axe ou le centre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20864" t="16699" r="31461" b="19334"/>
          <a:stretch/>
        </p:blipFill>
        <p:spPr>
          <a:xfrm>
            <a:off x="798480" y="1428840"/>
            <a:ext cx="7559640" cy="54291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4"/>
          <p:cNvSpPr/>
          <p:nvPr/>
        </p:nvSpPr>
        <p:spPr>
          <a:xfrm>
            <a:off x="179280" y="12096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rcRect l="15569" t="12937" r="46029" b="24036"/>
          <a:stretch/>
        </p:blipFill>
        <p:spPr>
          <a:xfrm>
            <a:off x="1554120" y="1436760"/>
            <a:ext cx="6089760" cy="53499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4"/>
          <p:cNvSpPr/>
          <p:nvPr/>
        </p:nvSpPr>
        <p:spPr>
          <a:xfrm>
            <a:off x="179280" y="128124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8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/(O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16019" t="12937" r="30797" b="25618"/>
          <a:stretch/>
        </p:blipFill>
        <p:spPr>
          <a:xfrm>
            <a:off x="357120" y="1428840"/>
            <a:ext cx="8434440" cy="52149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179280" y="12096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9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I/O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rcRect l="13907" t="16070" r="48355" b="23376"/>
          <a:stretch/>
        </p:blipFill>
        <p:spPr>
          <a:xfrm>
            <a:off x="1571760" y="1574640"/>
            <a:ext cx="5984640" cy="5140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0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OUI / (d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179280" y="1209600"/>
            <a:ext cx="2448000" cy="647640"/>
          </a:xfrm>
          <a:custGeom>
            <a:avLst/>
            <a:gdLst>
              <a:gd name="textAreaLeft" fmla="*/ 41760 w 2448000"/>
              <a:gd name="textAreaRight" fmla="*/ 2406240 w 24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81612" h="21600">
                <a:moveTo>
                  <a:pt x="0" y="0"/>
                </a:moveTo>
                <a:lnTo>
                  <a:pt x="81612" y="0"/>
                </a:lnTo>
                <a:lnTo>
                  <a:pt x="81612" y="21600"/>
                </a:lnTo>
                <a:lnTo>
                  <a:pt x="0" y="21600"/>
                </a:lnTo>
                <a:close/>
              </a:path>
              <a:path fill="lightenLess" w="81612" h="21600">
                <a:moveTo>
                  <a:pt x="0" y="0"/>
                </a:moveTo>
                <a:lnTo>
                  <a:pt x="81612" y="0"/>
                </a:lnTo>
                <a:lnTo>
                  <a:pt x="80212" y="1400"/>
                </a:lnTo>
                <a:lnTo>
                  <a:pt x="1400" y="1400"/>
                </a:lnTo>
                <a:close/>
              </a:path>
              <a:path fill="darken" w="81612" h="21600">
                <a:moveTo>
                  <a:pt x="81612" y="0"/>
                </a:moveTo>
                <a:lnTo>
                  <a:pt x="81612" y="21600"/>
                </a:lnTo>
                <a:lnTo>
                  <a:pt x="80212" y="20200"/>
                </a:lnTo>
                <a:lnTo>
                  <a:pt x="80212" y="1400"/>
                </a:lnTo>
                <a:close/>
              </a:path>
              <a:path fill="darkenLess" w="81612" h="21600">
                <a:moveTo>
                  <a:pt x="8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212" y="20200"/>
                </a:lnTo>
                <a:close/>
              </a:path>
              <a:path fill="lighten" w="8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1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rcRect l="18879" t="17882" r="40731" b="18212"/>
          <a:stretch/>
        </p:blipFill>
        <p:spPr>
          <a:xfrm>
            <a:off x="1370160" y="1285920"/>
            <a:ext cx="6403680" cy="5424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2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8218" t="12937" r="42716" b="25269"/>
          <a:stretch/>
        </p:blipFill>
        <p:spPr>
          <a:xfrm>
            <a:off x="1449360" y="1398600"/>
            <a:ext cx="6194520" cy="52452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3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rcRect l="27487" t="14176" r="34771" b="22697"/>
          <a:stretch/>
        </p:blipFill>
        <p:spPr>
          <a:xfrm>
            <a:off x="1515960" y="1357200"/>
            <a:ext cx="59850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4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16894" t="14675" r="42055" b="22199"/>
          <a:stretch/>
        </p:blipFill>
        <p:spPr>
          <a:xfrm>
            <a:off x="1276200" y="1357200"/>
            <a:ext cx="6510600" cy="535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5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5569" t="19116" r="45365" b="17851"/>
          <a:stretch/>
        </p:blipFill>
        <p:spPr>
          <a:xfrm>
            <a:off x="1449360" y="1428840"/>
            <a:ext cx="6194520" cy="5349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16230" t="15017" r="51325" b="17652"/>
          <a:stretch/>
        </p:blipFill>
        <p:spPr>
          <a:xfrm>
            <a:off x="1998720" y="1143000"/>
            <a:ext cx="5145120" cy="5715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OpenSymbol"/>
              </a:rPr>
              <a:t>˚7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20864" t="16699" r="31461" b="19334"/>
          <a:stretch/>
        </p:blipFill>
        <p:spPr>
          <a:xfrm>
            <a:off x="798480" y="1428840"/>
            <a:ext cx="7559640" cy="5429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15:45:17Z</dcterms:created>
  <dc:creator>Seguy</dc:creator>
  <dc:description/>
  <dc:language>en-US</dc:language>
  <cp:lastModifiedBy>Marionseg</cp:lastModifiedBy>
  <dcterms:modified xsi:type="dcterms:W3CDTF">2010-05-19T16:29:18Z</dcterms:modified>
  <cp:revision>33</cp:revision>
  <dc:subject/>
  <dc:title>Les figures suivantes sont-elles symétriques par rapport à la droite (d) ?</dc:title>
</cp:coreProperties>
</file>