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3A56-6826-415A-A709-6D0A3F0FFE5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AD717-2DAD-4F06-AEC1-206A110A76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5D7A-D9D3-4E3A-B837-C81CF15DBC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39E9-090A-4DAE-AB8B-CAD4CA92450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A46F-311D-40AE-9B40-68AA7711B3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3AA3-A1C8-4FC5-841A-0749097B30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B05A-1D58-417D-83E3-616CE9F6EB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5D33-F1FB-4517-873D-8D8AE8A6F0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B61-CB5C-411E-A9AF-329ACA07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8AB-8E06-42F0-A6AD-08860B80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43A-0BD6-41F6-84EF-2CE61FEB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A2E9-42A5-4153-BDC4-81996725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82EE-6152-4B8C-9558-81D0C19D2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9A1F7-7290-4914-A864-27189277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E76C-AE03-4199-841B-9D926FA0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D5E6-B48F-4856-9B06-36694ADF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0E2D-CA51-4948-9A5F-ADD38E78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9217-86A1-4878-9FFC-BBFACBA9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F5B8-C41F-479D-8CF6-7B972311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646-BC91-4812-AD4C-F024769E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151F-20F4-45B6-BA60-12251EF9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B267-07FD-475A-A2E7-51698F32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F8C03-58C7-44AC-8DB5-98F874B5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8A94-55F5-4FFC-98A1-B90984E1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31C6-C12A-47B4-BEA0-0D811528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B2A-38B0-4AFD-89C6-42340BC0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C85-84ED-495C-B40C-09AC528F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BCD-6CAE-42D3-9B9C-91B94AA1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728-F307-4017-B4E9-199445AB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51F-A172-455A-8730-1C8B7B7B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8D7B-BB1B-4961-8BE0-222C3B98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A419-2680-4D9E-AC99-E76CFA88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A10A-DE7A-45AC-A001-B0950D471A1D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72000" y="1052640"/>
            <a:ext cx="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332000" y="2333520"/>
            <a:ext cx="201600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5796000" y="2335320"/>
            <a:ext cx="201600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775B-4E2D-4E58-88E8-D5DC936A2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DITION ET SOUSTRACTIO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4 ET N°4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Effectuer le calcul proposé et donner le résultat sous la forme d’une fraction aussi simple que possible ou éventuellement sous la forme d’un nombre ent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3505320" y="189000"/>
            <a:ext cx="2133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"/>
              <p:cNvSpPr txBox="1"/>
              <p:nvPr/>
            </p:nvSpPr>
            <p:spPr>
              <a:xfrm>
                <a:off x="1619280" y="2841480"/>
                <a:ext cx="1409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5923080" y="2841480"/>
                <a:ext cx="1409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3505320" y="189000"/>
            <a:ext cx="2133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1730520" y="2841480"/>
                <a:ext cx="1206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6292800" y="2841480"/>
                <a:ext cx="101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3505320" y="189000"/>
            <a:ext cx="2133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635120" y="2841480"/>
                <a:ext cx="1397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6005520" y="2841480"/>
                <a:ext cx="1574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3505320" y="189000"/>
            <a:ext cx="2133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1619280" y="2841480"/>
                <a:ext cx="1422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6086520" y="2841480"/>
                <a:ext cx="1422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3505320" y="189000"/>
            <a:ext cx="2133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1476360" y="2841480"/>
                <a:ext cx="1714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5940360" y="2841480"/>
                <a:ext cx="1714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9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6T08:43:13Z</dcterms:created>
  <dc:creator>ms</dc:creator>
  <dc:description/>
  <dc:language>en-US</dc:language>
  <cp:lastModifiedBy>Marionseg</cp:lastModifiedBy>
  <dcterms:modified xsi:type="dcterms:W3CDTF">2010-01-17T20:02:37Z</dcterms:modified>
  <cp:revision>5</cp:revision>
  <dc:subject/>
  <dc:title>Calculer et donner éventuellement le résultat simplifié.</dc:title>
</cp:coreProperties>
</file>