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3BD40-5E92-4117-84BD-709D524B28F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303CD-F167-4616-B28E-14F3443BA662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A29D2-47FE-451A-9405-2CE746158AD5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84080-D6A2-48AA-9FB6-AAF0BB4B9978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5B6C5-075A-4FCE-BAB8-18846C8C0038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C9B06-D2C9-4821-B9FA-A4673B655BC0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C2388-08B3-49CC-B4BF-5E657734643E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4E1C3-AC51-46D6-8954-AC9029C011E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CB1A0-CF08-42D8-8983-5C63AF581D47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30BA7-40F2-4F69-A640-B2D7D485BDAE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EC1C9-4E17-4293-A558-2F5D43D327E2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E42BA-FFD4-4EA6-BDF6-F5FC7C92DA64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B81AB-C008-4F27-A0BC-10E86D7E9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6BBED-8F7A-4527-B85A-6552C6705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61D0A-FD6D-4FE6-A48B-54E4CD6BB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BDBDD-83F5-451A-8B5E-EB0E123B5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D5544-A87C-414D-ADA6-79D21C29E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E84B0-1E76-4DEE-9C45-070F4A382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06E35-65DF-4562-8AF5-43D61DECE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C78B7-CCA2-47DB-B52A-0776251F7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56DA9-D54B-4258-9292-C24A7C8FB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5C2ED-E485-448E-AFB2-5117D841D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2973D-AD3A-41BD-82F8-EE8A11C63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85046-D2F2-4AE3-BD35-A6D4BA50B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1694D-168D-435A-999E-678539B9A8A0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22BBF-04C2-4926-A4E9-F2056827E59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.png"/><Relationship Id="rId3" Type="http://schemas.openxmlformats.org/officeDocument/2006/relationships/slide" Target="slide4.xm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260172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Calibri"/>
              </a:rPr>
              <a:t>MULTIPLICATION ET DIVISION PAR 10, …</a:t>
            </a:r>
            <a:br>
              <a:rPr sz="5400"/>
            </a:br>
            <a:br>
              <a:rPr sz="5400"/>
            </a:br>
            <a:r>
              <a:rPr b="1" lang="fr-FR" sz="5400" spc="-1" strike="noStrike">
                <a:solidFill>
                  <a:srgbClr val="000000"/>
                </a:solidFill>
                <a:latin typeface="Calibri"/>
              </a:rPr>
              <a:t>SÉRIE N°7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ZoneTexte 2"/>
          <p:cNvSpPr/>
          <p:nvPr/>
        </p:nvSpPr>
        <p:spPr>
          <a:xfrm>
            <a:off x="214200" y="19836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Object 4"/>
              <p:cNvSpPr txBox="1"/>
              <p:nvPr/>
            </p:nvSpPr>
            <p:spPr>
              <a:xfrm>
                <a:off x="1712880" y="2158920"/>
                <a:ext cx="5778360" cy="15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00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ZoneTexte 2"/>
          <p:cNvSpPr/>
          <p:nvPr/>
        </p:nvSpPr>
        <p:spPr>
          <a:xfrm>
            <a:off x="214200" y="19836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Object 4"/>
              <p:cNvSpPr txBox="1"/>
              <p:nvPr/>
            </p:nvSpPr>
            <p:spPr>
              <a:xfrm>
                <a:off x="1712880" y="2158920"/>
                <a:ext cx="5778360" cy="15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500</m:t>
                    </m:r>
                    <m:r>
                      <m:t xml:space="preserve">×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01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ZoneTexte 2"/>
          <p:cNvSpPr/>
          <p:nvPr/>
        </p:nvSpPr>
        <p:spPr>
          <a:xfrm>
            <a:off x="214200" y="19836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Object 4"/>
              <p:cNvSpPr txBox="1"/>
              <p:nvPr/>
            </p:nvSpPr>
            <p:spPr>
              <a:xfrm>
                <a:off x="2117880" y="2158920"/>
                <a:ext cx="4968720" cy="14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1</m:t>
                    </m:r>
                    <m:r>
                      <m:t xml:space="preserve">×</m:t>
                    </m:r>
                    <m:r>
                      <m:t xml:space="preserve">9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32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ZoneTexte 2"/>
          <p:cNvSpPr/>
          <p:nvPr/>
        </p:nvSpPr>
        <p:spPr>
          <a:xfrm>
            <a:off x="214200" y="19836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Object 4"/>
              <p:cNvSpPr txBox="1"/>
              <p:nvPr/>
            </p:nvSpPr>
            <p:spPr>
              <a:xfrm>
                <a:off x="952560" y="2158920"/>
                <a:ext cx="7300800" cy="15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00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01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8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0" spc="-1" strike="noStrike">
                <a:solidFill>
                  <a:srgbClr val="000000"/>
                </a:solidFill>
                <a:latin typeface="Arial"/>
                <a:ea typeface="Arial"/>
              </a:rPr>
              <a:t>FIN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2" name="Titre 1"/>
          <p:cNvGrpSpPr/>
          <p:nvPr/>
        </p:nvGrpSpPr>
        <p:grpSpPr>
          <a:xfrm>
            <a:off x="3193920" y="5126040"/>
            <a:ext cx="5748480" cy="1317600"/>
            <a:chOff x="3193920" y="5126040"/>
            <a:chExt cx="5748480" cy="1317600"/>
          </a:xfrm>
        </p:grpSpPr>
        <p:pic>
          <p:nvPicPr>
            <p:cNvPr id="73" name="Titre 1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3193920" y="5126040"/>
              <a:ext cx="5748480" cy="131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"/>
            <p:cNvSpPr/>
            <p:nvPr/>
          </p:nvSpPr>
          <p:spPr>
            <a:xfrm>
              <a:off x="3214800" y="5143680"/>
              <a:ext cx="5715000" cy="12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Correction : cliquer sur la flèche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pour revenir à la 1</a:t>
              </a:r>
              <a:r>
                <a:rPr b="0" lang="fr-FR" sz="4000" spc="-1" strike="noStrike" baseline="30000">
                  <a:solidFill>
                    <a:srgbClr val="19934a"/>
                  </a:solidFill>
                  <a:latin typeface="French Script MT"/>
                  <a:ea typeface="Times New Roman"/>
                </a:rPr>
                <a:t>ère</a:t>
              </a: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 question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" name="Bouton d'action : Retour 3">
            <a:hlinkClick r:id="rId3" action="ppaction://hlinksldjump"/>
          </p:cNvPr>
          <p:cNvSpPr/>
          <p:nvPr/>
        </p:nvSpPr>
        <p:spPr>
          <a:xfrm>
            <a:off x="7929720" y="5357880"/>
            <a:ext cx="857160" cy="857160"/>
          </a:xfrm>
          <a:custGeom>
            <a:avLst/>
            <a:gdLst>
              <a:gd name="textAreaLeft" fmla="*/ 55440 w 857160"/>
              <a:gd name="textAreaRight" fmla="*/ 801720 w 857160"/>
              <a:gd name="textAreaTop" fmla="*/ 55440 h 857160"/>
              <a:gd name="textAreaBottom" fmla="*/ 801720 h 857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b050"/>
          </a:solidFill>
          <a:ln w="25560">
            <a:solidFill>
              <a:srgbClr val="1993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13840" y="2601720"/>
            <a:ext cx="86439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000000"/>
                </a:solidFill>
                <a:latin typeface="Arial"/>
                <a:ea typeface="Arial"/>
              </a:rPr>
              <a:t>MULTIPLICATION PAR 0,1 ; …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itre 1"/>
          <p:cNvSpPr/>
          <p:nvPr/>
        </p:nvSpPr>
        <p:spPr>
          <a:xfrm>
            <a:off x="0" y="2693880"/>
            <a:ext cx="91440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000" spc="-1" strike="noStrike">
                <a:solidFill>
                  <a:srgbClr val="000000"/>
                </a:solidFill>
                <a:latin typeface="Arial"/>
              </a:rPr>
              <a:t>Écrire la réponse au calcul.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ZoneTexte 2"/>
          <p:cNvSpPr/>
          <p:nvPr/>
        </p:nvSpPr>
        <p:spPr>
          <a:xfrm>
            <a:off x="214200" y="19836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Object 4"/>
              <p:cNvSpPr txBox="1"/>
              <p:nvPr/>
            </p:nvSpPr>
            <p:spPr>
              <a:xfrm>
                <a:off x="3081240" y="2158920"/>
                <a:ext cx="3041640" cy="14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t xml:space="preserve">×</m:t>
                    </m:r>
                    <m:r>
                      <m:t xml:space="preserve">0,1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ZoneTexte 2"/>
          <p:cNvSpPr/>
          <p:nvPr/>
        </p:nvSpPr>
        <p:spPr>
          <a:xfrm>
            <a:off x="214200" y="19836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" name="Object 4"/>
              <p:cNvSpPr txBox="1"/>
              <p:nvPr/>
            </p:nvSpPr>
            <p:spPr>
              <a:xfrm>
                <a:off x="2270160" y="2158920"/>
                <a:ext cx="4664160" cy="14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54</m:t>
                    </m:r>
                    <m:r>
                      <m:t xml:space="preserve">×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1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ZoneTexte 2"/>
          <p:cNvSpPr/>
          <p:nvPr/>
        </p:nvSpPr>
        <p:spPr>
          <a:xfrm>
            <a:off x="214200" y="19836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Object 4"/>
              <p:cNvSpPr txBox="1"/>
              <p:nvPr/>
            </p:nvSpPr>
            <p:spPr>
              <a:xfrm>
                <a:off x="2117880" y="2158920"/>
                <a:ext cx="4968720" cy="14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t xml:space="preserve">,</m:t>
                    </m:r>
                    <m:r>
                      <m:t xml:space="preserve">2</m:t>
                    </m:r>
                    <m:r>
                      <m:t xml:space="preserve">×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1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ZoneTexte 2"/>
          <p:cNvSpPr/>
          <p:nvPr/>
        </p:nvSpPr>
        <p:spPr>
          <a:xfrm>
            <a:off x="214200" y="19836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Object 4"/>
              <p:cNvSpPr txBox="1"/>
              <p:nvPr/>
            </p:nvSpPr>
            <p:spPr>
              <a:xfrm>
                <a:off x="2219400" y="2158920"/>
                <a:ext cx="4765680" cy="14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75</m:t>
                    </m:r>
                    <m:r>
                      <m:t xml:space="preserve">×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01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ZoneTexte 2"/>
          <p:cNvSpPr/>
          <p:nvPr/>
        </p:nvSpPr>
        <p:spPr>
          <a:xfrm>
            <a:off x="214200" y="19836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Object 4"/>
              <p:cNvSpPr txBox="1"/>
              <p:nvPr/>
            </p:nvSpPr>
            <p:spPr>
              <a:xfrm>
                <a:off x="2473200" y="2158920"/>
                <a:ext cx="4259520" cy="14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,</m:t>
                    </m:r>
                    <m:r>
                      <m:t xml:space="preserve">3</m:t>
                    </m:r>
                    <m:r>
                      <m:t xml:space="preserve">×</m:t>
                    </m:r>
                    <m:r>
                      <m:t xml:space="preserve">0,1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ZoneTexte 2"/>
          <p:cNvSpPr/>
          <p:nvPr/>
        </p:nvSpPr>
        <p:spPr>
          <a:xfrm>
            <a:off x="214200" y="19836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Object 4"/>
              <p:cNvSpPr txBox="1"/>
              <p:nvPr/>
            </p:nvSpPr>
            <p:spPr>
              <a:xfrm>
                <a:off x="2371680" y="2158920"/>
                <a:ext cx="4460760" cy="14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1</m:t>
                    </m:r>
                    <m:r>
                      <m:t xml:space="preserve">×</m:t>
                    </m:r>
                    <m:r>
                      <m:t xml:space="preserve">0,6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4T16:23:38Z</dcterms:created>
  <dc:creator>Claudine Bertrand-Gorge</dc:creator>
  <dc:description/>
  <dc:language>en-US</dc:language>
  <cp:lastModifiedBy>Marionseg</cp:lastModifiedBy>
  <dcterms:modified xsi:type="dcterms:W3CDTF">2010-01-22T16:31:30Z</dcterms:modified>
  <cp:revision>28</cp:revision>
  <dc:subject/>
  <dc:title>Écrire le résultat</dc:title>
</cp:coreProperties>
</file>