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E9BA-A527-43B5-AF3D-26B06DB120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48B7-B165-4B4F-A494-84AED22EA3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5E66-0026-4888-B58A-377A0461E3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E8C6-9005-4774-AD32-C9697F7468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CECE-593A-4BB8-966F-9084E9F4AF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11C-051F-4275-85FA-89E2D8890A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CF1B-4A63-4F69-91DE-DD485691D6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64D6-4724-4252-9DE2-6789CDC336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9F8D-9988-4E7B-8C65-31DE29D849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4384-C48C-4B8C-8387-DBC8EBCBD5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78B4-4796-4277-AA8E-7D5E295017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B6B9-6410-4859-9039-0E9B13E5F7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7E61-592A-4CAA-918C-150BE6CB94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070A-1427-48DA-A3C5-A79025C0DE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6EC-E4DE-4BA3-BF05-403AA29D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084-CC79-44A7-89B0-B8AE8319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9B4-269E-4D6F-915A-E2C3E07C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99F-A949-4A87-AE71-2A724E39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3A12-785C-4E2E-B15F-64233CD5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B8F-7544-4D6C-AF2B-5972247E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1EE-24CD-4466-86B7-28DF8F85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9ED5-8AD2-4006-A0C6-338F5EAD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F59-3C05-4029-BD13-20E4F14F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F87-5DB0-42FC-BA4C-BCA6681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59C8-840F-4849-9D2F-843E9199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636-2167-430D-91AC-79C88310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201A-9869-4025-A5F7-AFB64F7EB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IERS PAS EN CALCUL LITTÉRAL (2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1355760" y="2709720"/>
                <a:ext cx="64342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817560" y="2665440"/>
                <a:ext cx="74404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1054080" y="2709720"/>
                <a:ext cx="70372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évelopper et réduire les expressions suivantes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"/>
              <p:cNvSpPr txBox="1"/>
              <p:nvPr/>
            </p:nvSpPr>
            <p:spPr>
              <a:xfrm>
                <a:off x="1606680" y="2709720"/>
                <a:ext cx="59324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1706400" y="2709720"/>
                <a:ext cx="57312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1305000" y="2709720"/>
                <a:ext cx="65358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1606680" y="2709720"/>
                <a:ext cx="59324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1204920" y="2709720"/>
                <a:ext cx="67374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1355760" y="2709720"/>
                <a:ext cx="64342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1706400" y="2709720"/>
                <a:ext cx="57312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4:04:27Z</dcterms:created>
  <dc:creator>ms</dc:creator>
  <dc:description/>
  <dc:language>en-US</dc:language>
  <cp:lastModifiedBy>Marionseg</cp:lastModifiedBy>
  <dcterms:modified xsi:type="dcterms:W3CDTF">2010-01-17T20:24:23Z</dcterms:modified>
  <cp:revision>10</cp:revision>
  <dc:subject/>
  <dc:title>Calcul littéral (2) Série n°4</dc:title>
</cp:coreProperties>
</file>