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dt" idx="7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ftr" idx="7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6"/>
          <p:cNvSpPr>
            <a:spLocks noGrp="1"/>
          </p:cNvSpPr>
          <p:nvPr>
            <p:ph type="sldNum" idx="7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9E48-1B9D-4D79-9510-6C2A674A73C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8BD7-4FED-448C-A329-289A402B303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3829-7376-4927-A7C9-36248FA3ED8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7395-47CA-47AF-93E5-0B1EC22A0C1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0BB9-F1DE-4B17-BAB9-9039938C36D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B0CB-AF51-4A27-8E0B-2080037D17D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EDB2-8F2E-43A1-AE53-599D63DBE06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746F-F305-42E5-B14C-E22F0100F37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F645-BB01-4F6A-9727-8010B09676E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A116-B377-4AB5-8636-048F0A97022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F1F3-B9AC-4D8E-BBBB-094A5E23D43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7BBA-D84C-4AA5-A904-E60AE6CB694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240E-41CD-45E7-9FF8-92444A0EB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9D75-8BD3-4392-B19E-CA8A96D1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12A8BA-0E3C-4E33-8F2E-68DBDCF1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ADC6E-CF1F-4DC5-ACA9-58872FFE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5473E8-0B4A-4DC8-AAC1-84E678ED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6E0F9-7CF9-4E92-8720-DF2F6664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591490-B741-4383-9C3A-607E3107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B51F20-4278-4B16-ACED-9BB941FA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DC4B70-3CF6-4A96-A994-32A7DAE4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DFE78D-E9AE-4ADC-AE98-E447677C7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9337D8-611B-4803-93FC-F22A70679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66D753-C338-4947-BD00-C6046FA29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B048-2D26-4F68-8514-7931968FD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12A8E7-7F2B-4253-9A59-7F89FD58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C3EDFA-409A-48F8-A7C4-4F3B7239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F1DFEB-B367-44B4-A993-906877A9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D20E88-8D34-4746-BC55-5E18A1B7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30FBC7-BBB3-460C-852B-B70AB733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CEE606-2ACA-4FCA-AFEF-54F63B60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BDDC16-8D1C-4B8F-AD1D-9DC2EFAF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45B5FA-C5A3-4725-BC11-00A37630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4CC1D9-18C5-4B11-AE40-16152223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4E13B6-202D-4557-87E7-4A75FA83D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5694-4163-4C4D-BA1C-D7AAB0439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190142-8588-4A88-8946-E84C967D3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E116E5-35D8-402E-8B32-3D90EFB05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02C885-CD37-4B1B-9D7C-A18D6AC3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017F9-9D53-4B91-8D64-C71E789B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3472D-4E4D-4C06-B28A-8BF8B5BC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7936FA-061A-48B3-99D4-8799E442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FA084-47C1-49B7-ADF9-94AF6DED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43C953-D0C2-43C5-B6B7-9F13F0A2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B4DB1B-24FB-44B3-A715-65367C2E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3348C-AB59-4804-9AC6-F1E80B7E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C463-DDC8-4F20-8B2E-F3F050A88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6CF3CD-1A6D-4ADA-ABEA-C4863427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12E68-4494-4175-A857-32227905B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E089C-8A21-4755-8EB4-A479A4AA8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ABE007-2303-4364-ACE5-D5F44E98C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4E9DD2-5F79-4343-B515-B09D3E8B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545C1C-6627-4E68-8FD3-257DF8BA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08F156-4FF1-44C0-9091-E331DF53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9D0738-5E8B-425D-932D-B8B6EC10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BC65A3-E0BE-454D-BDC7-AEBC420E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3CD108-7767-46AD-B97F-AFB54467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7A35D-7D1C-45E9-BFC8-51DA5A26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567384-4100-416D-AABC-7972FE57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E42CAE-9467-4B8C-A1B6-8F7D4E8C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E0A8C5-8FE4-4A12-A0FE-9D3BE6E2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C35349-5E73-476F-9302-2D15985B4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0E97EB-6D2C-4D80-AD2B-DB337629D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673C8D-47CE-46CC-98FA-0E56A8E89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F01056-349A-4757-83D5-F73C4C69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9CADED-6CBA-4EF1-B2D6-C9C73710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3DAE52-F4C2-4DDC-AA3D-F3864E79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D97B2F-DA0C-490F-986A-CFF3E2AD0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A3F9-B1DF-49D8-8D4E-0487FDC6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C63D83-63F2-48CE-B7C0-B91095AB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1CBFFD-ECE7-4BBB-98B8-02D36FC2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7C7088-7D05-4A27-9B85-B050A456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0693B6-F205-483A-9F2C-F6481F24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3BFBBA-BDC9-46F5-BB1C-CDA6B143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DCAF51-5D33-40DB-B7A4-14F64AF39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0003B5-E470-4389-BA26-5036086D2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3F563C-2682-40FA-AEE1-29765D7E4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C40529-5684-4146-9A4F-C916D8BD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917294-F3DA-4938-9E77-40DBA26E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EF0E-B274-4879-B439-E1BE8D8C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BA5CD5-2621-444D-A3A0-AAE345FF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AF3158-3EDE-4286-BDFB-B0893397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3D0958-04A5-4F2D-81F7-57A29015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10F59C-8780-40BC-82D2-25436A90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DFB967-B758-4696-8A48-10E26A3F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51BF65-34B3-40CE-9703-6A1B9418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4C8569-E2E8-42E5-A28F-667EEB4C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65C6E0-22A1-4CEA-AEE2-00B4B2887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91654F-6482-4D1B-BF98-C0FEA1E9D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9A3C2E-1349-417B-92F1-6A8A49A4E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6B7D-3359-4264-AAFB-F6335F6A1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630AC6-DCC9-4F64-A170-500137CF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ED6524-A98E-4AE4-93ED-55896A2F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C1EA44-8DFE-48C9-960F-9D3D2E01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8C38C2-70D5-4425-B708-670F5BA8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FB485E-625C-484D-83FF-4EC78CD0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6370EB-36DA-4C0D-B176-B7E9D31C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887222-17D2-4C91-A152-BC676145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D423B8-FEB2-4BE0-B917-80E96F32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669499-7256-4452-A1AC-535407A4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D8F138-4320-49C1-A647-B3EC32BB6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C5A3-0530-4177-BFA3-587836F8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4F44D7-2134-4CB2-82C3-65FFFE954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2FA1BB-E472-445E-ABD5-C5612217D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4E6CB4-8EF7-4337-A65F-4E28DC3E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6CDE73-17BA-41C3-9615-6174BABE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1DBB1A-9409-4CC8-A2BE-F87B9E42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3E4549-02F6-4B98-AC19-5691D9EA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3BB5BE-0D48-44AA-AF66-690B9B5F8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8D331A-DE0F-4988-A3F1-AA006144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D099EC-4EE8-4E2D-A2C5-79666C63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3DD689-A569-4CCE-A878-2846A054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1596-18C7-4474-8637-0F73690C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DFB6BF-6F9F-4085-9946-78AF56AD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657CAA-6857-4E3B-8617-770AED3B7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F4D124-76C6-43B9-AE95-4672B7E2D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761A79-12F9-420D-8CC1-0807ADAE5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9D35F3-FCE0-4122-B4FA-4E886EA5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FFA755-A9A5-4137-9F42-C6D02655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51D11C-7FDC-4297-A65A-7F931F28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A5FD05-5CD2-4B59-B7C3-35ADFD82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8F3B0E-1A0E-4899-BF2B-0240453A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D2AB3A-38CA-49F4-9B65-E345B95A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66DB-A56F-4343-AFC4-D283D971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E9D4-A23F-4F6D-B9D6-D8C79B46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A037DC-B9EC-4EA3-9B17-1CB6F79A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F8899F-F187-4B1E-BE0B-23F92D1C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5999DD-3296-4C2B-B465-EBFA15E1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819480-B045-49CA-A640-6190D64AA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14F04C-82E7-46AD-BC03-2F4CB5378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02760F-73F6-4D02-891B-E869A7B34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299F54-D1D8-4091-B538-9F60D1D7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6F2958-E387-4627-9270-84888DA6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ACC94F-1BC2-408D-A5D4-A276D2B2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FA7AAA-0378-4EBD-931F-959B40C0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9505-2ACD-47C3-A3C2-4C7F6F5D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4C3026-C7B1-4E30-8408-A9F6B0E1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1A03FE-CEBE-4561-888B-3F601CB9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58F2EF-AC4E-4650-808D-3EF5A1F3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5DE18E-2D15-43E7-BD2B-4EF646F4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A301BF-8123-4624-BC91-66ED2B09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3E4171-8F92-4471-808F-C454DB5D4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7C6F70-2BC9-4230-932D-FCF01166B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2133A0-5342-4027-BCAE-B0420E077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A1F0CF-76B7-4F5B-A4ED-24AD701D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1CD481-287E-46CF-8301-C5749330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79A2-C19D-48C2-9FD2-01589B8E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F39C9C-4C64-4A28-89C2-F592ED7A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C915D0-A107-4971-8450-9A630E98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B8C8BC-9AED-4B43-885B-DE5EA8F6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DE2F58-38BF-4D7A-AB86-623B6356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52F2CB-A090-4047-8F6C-1D559C73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C3505B-4559-45C0-997C-E6AAA108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D1FE61-1EC3-4A1C-BF48-98F8CAB7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BEF1C5-F37B-467D-B084-1E527D84B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79B8A4-9141-4D62-A77C-9A863EA62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F5A2A7-E7EC-46D7-94E7-62345B550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95238-C115-43A7-A91C-EE1151A14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295241-F884-4DCC-BA03-586D9A90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C1FEEC-26F8-4D16-ADFB-06F4E650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0F80F2-1197-4991-AA84-73E9AE66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41109E-1E1A-4546-BFCA-B2A1EE76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CDEBDD-0297-4FA1-AB87-F83F5498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44AB21-9A05-43AF-A690-651BB004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9603E4-04F0-4F39-BC4A-A2BA1624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094D58-5E3C-4A11-B05D-44D8C88D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3D569F-333F-4958-B244-BA4C3E1D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01AD58-BA21-49F0-AE85-3E21D93AD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16AFD-7EBE-4F80-B8EA-E00EAD800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AB60A8-56D9-4E81-BB5A-AFB2686AA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16E6D0-44FF-47F2-9685-6903F4FA5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EF02AE-94D4-437B-B399-72C9E891D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787CDC-05F2-47C8-BC65-938547D5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911FB9-D6FF-4549-9B3B-FE032C32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43BCBC-B8B1-4149-B46F-496B5545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FBAFA7-3ADD-4FC7-92DD-24EF7DC5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3AC1E4-C217-4942-B852-75A5993B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39EFA1-6C9F-4CB6-B8DD-48074350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369881-DE8D-468A-82FB-F453931F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31320-E0AC-4758-9A94-C92CDDE2E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721DAE-A22C-466B-93B3-4D341207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BB9C38-B419-4998-AC0C-3664BB35E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1FD17D-2C4E-4B35-997D-6B08A1FC8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A84777-9187-4FB3-8F4A-88218441C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82B16B-60FE-4130-BC9D-F4AD5009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3BC341-4BDA-4486-8AC8-A3AFDBC9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DA7B9D-E1DE-4326-92C4-5F343B05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BA0E6E-3AAB-442B-A1C6-AA834214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32D651-4937-42C7-BF99-DA80170B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B3078B-0952-4781-9AC9-EE34662D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DE16A-FCD8-442E-ACD2-9787609C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97184C-5788-4168-9B32-80817941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23AAFB-F434-4FD0-83C0-61B87880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9E4BA2-2D0C-44DE-9EE4-8F3BDDF3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441D60-2B3D-4CD6-9F75-9405F5BBC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C41ACD-8CD4-4A16-914D-46DE7A871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F29A10-0941-43F6-BDBE-25D895AEA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C49CA5-66FC-4C92-90AC-437867A4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7D50AF-BE48-4C3D-9913-69B60C1F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00F933-8546-4DE5-9C84-1939D166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5F2871-06F5-4411-99BB-B2CA124D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FEAD6-4D8B-4D2B-ACBD-B543DC08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0FEE9D-B3E3-4734-8FB1-999CECEF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3C6BB5-AB0B-44B3-AD45-062BB025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37B590-C0EB-48A3-9ACE-2099D55C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E6EA24-B6F6-4598-A204-69AC3B9D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CB67DD-9AB7-4AC6-AAFB-78064E50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628A83-D8FD-4597-A750-F27915A76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C04DB7-DEB5-4CCD-97C7-579CBB6BB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47676E2-4AC3-4417-9E51-CD5FF2DC5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4DA038-CE8A-4C2C-91A1-C7240EA4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1FCD92-9DA8-4878-ABE1-17662A55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F31F7-D863-427F-8567-1301767C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FAECCC-CFE1-4E24-A352-A328E42F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42C1ED3-0B79-40FA-B525-90F5BB96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347B17-6C61-4416-BFFA-058AB107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8D86E4-EC69-4F7E-A66B-40BC6BA5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4F620D8-2D0F-4E1C-A458-B5BC2F9B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8AD938D-5F2C-4830-97FD-58E39370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0F26F1-3CB4-4671-A0E4-845FF526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58AC5A7-0FCC-48B5-B031-7B809824E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09BC6C-DB16-4E35-A7D0-AB3C90511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FFDBB-8296-473E-9FB5-88ED7C7C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0D2D-A9DA-4A93-A478-FDF1DFAD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9D13F-848D-4BD2-886D-4D19BC36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0570D-42B3-4983-8F94-A774094F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7C0B1-676C-4BE4-A00C-FCFCE213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9FDC8-82DA-45DA-9D27-0D2E9AC3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44DC8-7279-4F25-B3DF-E13A5009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B2740-D87C-4B43-8C72-3987B898E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26145-336D-42C9-AB93-038780FA2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8CFDE-054A-4F38-8499-60EB75790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3B496-BF9C-4F60-8B51-C954AABD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EF7BD-E051-4D0F-BF17-65EC14B6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21E9-1951-46CD-9F8F-D960CA42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99879-BCA7-40E9-AA2B-685DB043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54592-37F3-4E38-A6C0-858CED72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E0A71-82BE-4286-8D9D-927691E7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F798C-9C1E-4817-BD18-41D45614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003FB-BD71-4CC0-8628-0DC5F57B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D8320-54DB-4A54-AF0B-8679BFAD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A4548-B6FB-49E1-A3AD-360DBAB2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0B1F8-F7F1-4FB9-BFEC-B06A629EC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3DF1E-0003-40A8-B955-0415B012D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53D14-EFE3-4561-9265-9E6550462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D6C7-D8DC-4C6A-B069-433B3202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2DDFD-9FB6-433B-B702-4D42AC70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ADD68-E5DF-45E5-B5CA-46CCC2790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511B3-94C5-4F6F-B088-F56717C7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8950A-FA2D-4ABA-99C3-87B84565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6630B-0D89-4954-A2EA-06C03A2D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E0937-6618-47D2-B56B-D81F6CE6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2521C-CD82-4E59-9C8F-3CA4C699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6ABCD-498F-46EF-93AF-ACAC211B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940C7-F276-4170-B3AF-5D9407D5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7778D-8930-4532-ACCB-5745DDCC1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483C-8A96-49D9-B2F4-BA5A68F9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B2001-9866-41C7-8AE8-0BFC35D13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35CE4-BCC2-4121-8B25-B9B438826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49F58-0100-48AF-B1E5-C3B6B6E1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78CE7-0BAD-463F-A57A-44EC18F2D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42D8C-1D52-405C-96C6-C19AB4CF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A1761-E23F-461F-B462-DCEBD22E5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5378D-1592-4442-9700-086290534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B32D1-0829-4185-9711-039F7DDD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6735B-1D3F-4BF5-A810-96DBB2C3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BE466-3852-4D0D-A1B3-67C5C1C3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A381-0387-4C1B-92F0-CC8083FB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21E33-2057-4BAC-936E-254D041B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72CFB-D159-4B6B-B800-585A96302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348C5-7307-47FB-806B-EB825D1C3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9F5C0-978A-4A5C-BD64-8ECC7F9BA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CA7C6-DC08-4510-BE68-6645BD22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91C29-3DD6-42D9-A03B-D53E5B04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76B58-1866-43F7-9A1C-ABDC5EA1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9DF95-3239-440F-AF4E-E0559E92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78DDD-6BDA-4A25-8D1B-0415FAF6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50487-E54B-43EB-BF8B-B7E34D93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BAA2-5475-4325-8050-64AFC992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F5AE9-B75A-4DA0-A39C-7C3F8E72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CF9A1-5EDC-499D-A707-19444B32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681FD-FB32-4AF8-B888-5CD2E4BA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715B4-CAFD-423B-AE64-2464D7CC3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D8398-9C89-436B-A6F8-9341CFBA1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E8949-BD73-4D83-8CE8-BE6E6799E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1A4F8-FFCD-4F4B-8BCE-9CBEBFE5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B0CF7-B49F-48B9-A1B2-4F3893CF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B49CA-24AD-46FB-B4A1-B13FEE22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6F743-14F7-4004-9426-C8CEFA8F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281F-517C-4CED-B885-9031BD54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598CB-29F2-443C-B283-A6359D86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A91EE-6D61-4504-A706-298506E3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85984-7B9D-47A0-977D-FB65C642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ECB0C-4AC3-477D-8DB4-2522FC47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96EA9-1F8A-4AC2-83C3-54984DEB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9C6BE-2C02-43B3-9490-ECCF808D8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DE3B8-807D-46CD-B081-9E40CF123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1FEC9F-5F24-4D5A-B140-38851FA50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AA9C3A-1AD8-48E6-B22E-709EC54E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FBFD31-5904-4E03-A502-3F69E762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8027-B83E-4A1E-B6A6-D49947BFB326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E29B-5F5B-4703-B076-4E9A2720E1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6CCA-63EA-4EFE-941E-4077B959BBD1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23CA-2054-4AFE-A339-C29E773371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0415-1F29-4AC0-BFFF-0466726CF232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25DC-BB2E-4DF7-8BF8-E09404F8E1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1795-7C2D-4312-931B-0EB6F4D111C2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4D7F-79BD-426F-83AA-54B583944C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B915-35E5-42FA-BB0E-E353FCC46CB9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E7D8-ECA1-4FD5-963B-64F23AA9BA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EB9E-1F46-4669-9D39-AC7D151D3A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Line 7"/>
          <p:cNvSpPr/>
          <p:nvPr/>
        </p:nvSpPr>
        <p:spPr>
          <a:xfrm>
            <a:off x="4557600" y="1268280"/>
            <a:ext cx="2880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8"/>
          <p:cNvSpPr/>
          <p:nvPr/>
        </p:nvSpPr>
        <p:spPr>
          <a:xfrm>
            <a:off x="898560" y="2333520"/>
            <a:ext cx="2879640" cy="21592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9"/>
          <p:cNvSpPr/>
          <p:nvPr/>
        </p:nvSpPr>
        <p:spPr>
          <a:xfrm>
            <a:off x="5353200" y="2335320"/>
            <a:ext cx="2879640" cy="2158920"/>
          </a:xfrm>
          <a:prstGeom prst="rect">
            <a:avLst/>
          </a:prstGeom>
          <a:noFill/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sldNum" idx="45"/>
          </p:nvPr>
        </p:nvSpPr>
        <p:spPr>
          <a:xfrm>
            <a:off x="3505320" y="189000"/>
            <a:ext cx="2133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8B02-7C42-4E93-B6D2-9FE4472848F4}" type="slidenum"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Line 7"/>
          <p:cNvSpPr/>
          <p:nvPr/>
        </p:nvSpPr>
        <p:spPr>
          <a:xfrm>
            <a:off x="4557600" y="1268280"/>
            <a:ext cx="2880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8"/>
          <p:cNvSpPr/>
          <p:nvPr/>
        </p:nvSpPr>
        <p:spPr>
          <a:xfrm>
            <a:off x="898560" y="2333520"/>
            <a:ext cx="2879640" cy="21592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9"/>
          <p:cNvSpPr/>
          <p:nvPr/>
        </p:nvSpPr>
        <p:spPr>
          <a:xfrm>
            <a:off x="5353200" y="2335320"/>
            <a:ext cx="2879640" cy="2158920"/>
          </a:xfrm>
          <a:prstGeom prst="rect">
            <a:avLst/>
          </a:prstGeom>
          <a:noFill/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sldNum" idx="48"/>
          </p:nvPr>
        </p:nvSpPr>
        <p:spPr>
          <a:xfrm>
            <a:off x="3505320" y="189000"/>
            <a:ext cx="2133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1AF5-81FB-4487-9731-121CC84C8BB5}" type="slidenum"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Line 7"/>
          <p:cNvSpPr/>
          <p:nvPr/>
        </p:nvSpPr>
        <p:spPr>
          <a:xfrm>
            <a:off x="4557600" y="1268280"/>
            <a:ext cx="2880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8"/>
          <p:cNvSpPr/>
          <p:nvPr/>
        </p:nvSpPr>
        <p:spPr>
          <a:xfrm>
            <a:off x="898560" y="2333520"/>
            <a:ext cx="2879640" cy="21592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9"/>
          <p:cNvSpPr/>
          <p:nvPr/>
        </p:nvSpPr>
        <p:spPr>
          <a:xfrm>
            <a:off x="5353200" y="2335320"/>
            <a:ext cx="2879640" cy="2158920"/>
          </a:xfrm>
          <a:prstGeom prst="rect">
            <a:avLst/>
          </a:prstGeom>
          <a:noFill/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sldNum" idx="51"/>
          </p:nvPr>
        </p:nvSpPr>
        <p:spPr>
          <a:xfrm>
            <a:off x="3505320" y="189000"/>
            <a:ext cx="2133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5FEF-127F-47F9-BB30-EA4D663E1606}" type="slidenum"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Line 7"/>
          <p:cNvSpPr/>
          <p:nvPr/>
        </p:nvSpPr>
        <p:spPr>
          <a:xfrm>
            <a:off x="4557600" y="1268280"/>
            <a:ext cx="2880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8"/>
          <p:cNvSpPr/>
          <p:nvPr/>
        </p:nvSpPr>
        <p:spPr>
          <a:xfrm>
            <a:off x="898560" y="2333520"/>
            <a:ext cx="2879640" cy="21592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9"/>
          <p:cNvSpPr/>
          <p:nvPr/>
        </p:nvSpPr>
        <p:spPr>
          <a:xfrm>
            <a:off x="5353200" y="2335320"/>
            <a:ext cx="2879640" cy="2158920"/>
          </a:xfrm>
          <a:prstGeom prst="rect">
            <a:avLst/>
          </a:prstGeom>
          <a:noFill/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sldNum" idx="54"/>
          </p:nvPr>
        </p:nvSpPr>
        <p:spPr>
          <a:xfrm>
            <a:off x="3505320" y="189000"/>
            <a:ext cx="2133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4B18-1819-4671-AAD6-9F9F27057F08}" type="slidenum"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Line 7"/>
          <p:cNvSpPr/>
          <p:nvPr/>
        </p:nvSpPr>
        <p:spPr>
          <a:xfrm>
            <a:off x="4557600" y="1268280"/>
            <a:ext cx="2880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8"/>
          <p:cNvSpPr/>
          <p:nvPr/>
        </p:nvSpPr>
        <p:spPr>
          <a:xfrm>
            <a:off x="898560" y="2333520"/>
            <a:ext cx="2879640" cy="21592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9"/>
          <p:cNvSpPr/>
          <p:nvPr/>
        </p:nvSpPr>
        <p:spPr>
          <a:xfrm>
            <a:off x="5353200" y="2335320"/>
            <a:ext cx="2879640" cy="2158920"/>
          </a:xfrm>
          <a:prstGeom prst="rect">
            <a:avLst/>
          </a:prstGeom>
          <a:noFill/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 type="sldNum" idx="57"/>
          </p:nvPr>
        </p:nvSpPr>
        <p:spPr>
          <a:xfrm>
            <a:off x="3505320" y="189000"/>
            <a:ext cx="2133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5F76-C747-4DDA-8295-964D282C823A}" type="slidenum"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3505320" y="189000"/>
            <a:ext cx="2133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72A4-3574-4048-8A4B-C032C3B426AC}" type="slidenum"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4557600" y="1268280"/>
            <a:ext cx="2880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898560" y="2333520"/>
            <a:ext cx="2879640" cy="21592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5353200" y="2335320"/>
            <a:ext cx="2879640" cy="2158920"/>
          </a:xfrm>
          <a:prstGeom prst="rect">
            <a:avLst/>
          </a:prstGeom>
          <a:noFill/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Line 7"/>
          <p:cNvSpPr/>
          <p:nvPr/>
        </p:nvSpPr>
        <p:spPr>
          <a:xfrm>
            <a:off x="4557600" y="1268280"/>
            <a:ext cx="2880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8"/>
          <p:cNvSpPr/>
          <p:nvPr/>
        </p:nvSpPr>
        <p:spPr>
          <a:xfrm>
            <a:off x="898560" y="2333520"/>
            <a:ext cx="2879640" cy="21592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9"/>
          <p:cNvSpPr/>
          <p:nvPr/>
        </p:nvSpPr>
        <p:spPr>
          <a:xfrm>
            <a:off x="5353200" y="2335320"/>
            <a:ext cx="2879640" cy="2158920"/>
          </a:xfrm>
          <a:prstGeom prst="rect">
            <a:avLst/>
          </a:prstGeom>
          <a:noFill/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sldNum" idx="60"/>
          </p:nvPr>
        </p:nvSpPr>
        <p:spPr>
          <a:xfrm>
            <a:off x="3505320" y="189000"/>
            <a:ext cx="2133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57C8D-0AA8-4877-BEE8-592673387993}" type="slidenum"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Line 7"/>
          <p:cNvSpPr/>
          <p:nvPr/>
        </p:nvSpPr>
        <p:spPr>
          <a:xfrm>
            <a:off x="4557600" y="1268280"/>
            <a:ext cx="2880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8"/>
          <p:cNvSpPr/>
          <p:nvPr/>
        </p:nvSpPr>
        <p:spPr>
          <a:xfrm>
            <a:off x="898560" y="2333520"/>
            <a:ext cx="2879640" cy="21592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9"/>
          <p:cNvSpPr/>
          <p:nvPr/>
        </p:nvSpPr>
        <p:spPr>
          <a:xfrm>
            <a:off x="5353200" y="2335320"/>
            <a:ext cx="2879640" cy="2158920"/>
          </a:xfrm>
          <a:prstGeom prst="rect">
            <a:avLst/>
          </a:prstGeom>
          <a:noFill/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sldNum" idx="63"/>
          </p:nvPr>
        </p:nvSpPr>
        <p:spPr>
          <a:xfrm>
            <a:off x="3505320" y="189000"/>
            <a:ext cx="2133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F61A-4A3C-4C3E-992B-DDA76D0A1891}" type="slidenum"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Line 7"/>
          <p:cNvSpPr/>
          <p:nvPr/>
        </p:nvSpPr>
        <p:spPr>
          <a:xfrm>
            <a:off x="4557600" y="1268280"/>
            <a:ext cx="2880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8"/>
          <p:cNvSpPr/>
          <p:nvPr/>
        </p:nvSpPr>
        <p:spPr>
          <a:xfrm>
            <a:off x="898560" y="2333520"/>
            <a:ext cx="2879640" cy="21592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9"/>
          <p:cNvSpPr/>
          <p:nvPr/>
        </p:nvSpPr>
        <p:spPr>
          <a:xfrm>
            <a:off x="5353200" y="2335320"/>
            <a:ext cx="2879640" cy="2158920"/>
          </a:xfrm>
          <a:prstGeom prst="rect">
            <a:avLst/>
          </a:prstGeom>
          <a:noFill/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 type="sldNum" idx="66"/>
          </p:nvPr>
        </p:nvSpPr>
        <p:spPr>
          <a:xfrm>
            <a:off x="3505320" y="189000"/>
            <a:ext cx="2133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CB2C-D782-4FC4-99C4-2CC9995D4885}" type="slidenum"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Line 7"/>
          <p:cNvSpPr/>
          <p:nvPr/>
        </p:nvSpPr>
        <p:spPr>
          <a:xfrm>
            <a:off x="4557600" y="1268280"/>
            <a:ext cx="2880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8"/>
          <p:cNvSpPr/>
          <p:nvPr/>
        </p:nvSpPr>
        <p:spPr>
          <a:xfrm>
            <a:off x="898560" y="2333520"/>
            <a:ext cx="2879640" cy="21592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9"/>
          <p:cNvSpPr/>
          <p:nvPr/>
        </p:nvSpPr>
        <p:spPr>
          <a:xfrm>
            <a:off x="5353200" y="2335320"/>
            <a:ext cx="2879640" cy="2158920"/>
          </a:xfrm>
          <a:prstGeom prst="rect">
            <a:avLst/>
          </a:prstGeom>
          <a:noFill/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sldNum" idx="69"/>
          </p:nvPr>
        </p:nvSpPr>
        <p:spPr>
          <a:xfrm>
            <a:off x="3505320" y="189000"/>
            <a:ext cx="2133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0E45-88C8-4AE8-A22B-E4DAF6B474AB}" type="slidenum"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Line 7"/>
          <p:cNvSpPr/>
          <p:nvPr/>
        </p:nvSpPr>
        <p:spPr>
          <a:xfrm>
            <a:off x="4557600" y="1268280"/>
            <a:ext cx="28800" cy="558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8"/>
          <p:cNvSpPr/>
          <p:nvPr/>
        </p:nvSpPr>
        <p:spPr>
          <a:xfrm>
            <a:off x="898560" y="2333520"/>
            <a:ext cx="2879640" cy="21592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Rectangle 9"/>
          <p:cNvSpPr/>
          <p:nvPr/>
        </p:nvSpPr>
        <p:spPr>
          <a:xfrm>
            <a:off x="5353200" y="2335320"/>
            <a:ext cx="2879640" cy="2158920"/>
          </a:xfrm>
          <a:prstGeom prst="rect">
            <a:avLst/>
          </a:prstGeom>
          <a:noFill/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 type="sldNum" idx="72"/>
          </p:nvPr>
        </p:nvSpPr>
        <p:spPr>
          <a:xfrm>
            <a:off x="3505320" y="189000"/>
            <a:ext cx="2133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18A9-5577-4112-86EE-EE3D070F307B}" type="slidenum"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0EC0-0E62-46EA-A2FF-EE8916575AB3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7C1A-C68D-44C1-B495-B9FC04408A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5BCC-754D-4B02-9D91-09F1EF4CF1E0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ED14-6CF0-43CF-B933-7914BEE542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1C72-9A9E-4CC5-988C-10680CF12A49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D534-89A5-4333-9779-2FCEEEA536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AD72-C777-429A-9C36-756D67AE5281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5DBD-8FB2-4165-ABF9-A15B4EF774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1561-B0A9-47BC-BE0E-286776FDD15D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F9CC-C10F-462F-9756-8A88054602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D68B-BFFD-4E60-BF35-7B319B90B597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764A-7118-4DEF-B02F-10E0A4876B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110E-3E8A-4CD1-9FC3-55D80C2866F8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253E-E475-4C4C-A66C-77A2801FE0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0" y="26017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0000"/>
                </a:solidFill>
                <a:latin typeface="Calibri"/>
              </a:rPr>
              <a:t>MULTIPLICATION ET DIVISION PAR 10, …</a:t>
            </a:r>
            <a:br>
              <a:rPr sz="5400"/>
            </a:br>
            <a:br>
              <a:rPr sz="5400"/>
            </a:br>
            <a:r>
              <a:rPr b="1" lang="fr-FR" sz="5400" spc="-1" strike="noStrike">
                <a:solidFill>
                  <a:srgbClr val="000000"/>
                </a:solidFill>
                <a:latin typeface="Calibri"/>
              </a:rPr>
              <a:t>SÉRIE N°2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8" name="Object 4"/>
              <p:cNvSpPr txBox="1"/>
              <p:nvPr/>
            </p:nvSpPr>
            <p:spPr>
              <a:xfrm>
                <a:off x="2017800" y="2158920"/>
                <a:ext cx="5170320" cy="15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×</m:t>
                    </m:r>
                    <m:r>
                      <m:t xml:space="preserve">1,5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0" name="Object 4"/>
              <p:cNvSpPr txBox="1"/>
              <p:nvPr/>
            </p:nvSpPr>
            <p:spPr>
              <a:xfrm>
                <a:off x="1965240" y="2158920"/>
                <a:ext cx="5273640" cy="15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,</m:t>
                    </m:r>
                    <m:r>
                      <m:t xml:space="preserve">7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2" name="Object 4"/>
              <p:cNvSpPr txBox="1"/>
              <p:nvPr/>
            </p:nvSpPr>
            <p:spPr>
              <a:xfrm>
                <a:off x="2017800" y="2109960"/>
                <a:ext cx="5168880" cy="16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4" name="Object 4"/>
              <p:cNvSpPr txBox="1"/>
              <p:nvPr/>
            </p:nvSpPr>
            <p:spPr>
              <a:xfrm>
                <a:off x="2575080" y="2158920"/>
                <a:ext cx="405576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×</m:t>
                    </m:r>
                    <m:r>
                      <m:t xml:space="preserve">1,7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  <a:ea typeface="Times New Roman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6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027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8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9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213840" y="2601720"/>
            <a:ext cx="8643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Arial"/>
                <a:ea typeface="Arial"/>
              </a:rPr>
              <a:t>MULTIPLICATION PAR DIX, 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Titre 1"/>
          <p:cNvSpPr/>
          <p:nvPr/>
        </p:nvSpPr>
        <p:spPr>
          <a:xfrm>
            <a:off x="0" y="26938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0000"/>
                </a:solidFill>
                <a:latin typeface="Arial"/>
              </a:rPr>
              <a:t>Écrire la réponse au calcul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6" name="Object 4"/>
              <p:cNvSpPr txBox="1"/>
              <p:nvPr/>
            </p:nvSpPr>
            <p:spPr>
              <a:xfrm>
                <a:off x="2876400" y="2158920"/>
                <a:ext cx="3449880" cy="15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,1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8" name="Object 4"/>
              <p:cNvSpPr txBox="1"/>
              <p:nvPr/>
            </p:nvSpPr>
            <p:spPr>
              <a:xfrm>
                <a:off x="2522520" y="2158920"/>
                <a:ext cx="4157640" cy="14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,3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0" name="Object 4"/>
              <p:cNvSpPr txBox="1"/>
              <p:nvPr/>
            </p:nvSpPr>
            <p:spPr>
              <a:xfrm>
                <a:off x="1660680" y="2158920"/>
                <a:ext cx="5881680" cy="15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25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2" name="Object 4"/>
              <p:cNvSpPr txBox="1"/>
              <p:nvPr/>
            </p:nvSpPr>
            <p:spPr>
              <a:xfrm>
                <a:off x="2625840" y="2158920"/>
                <a:ext cx="395424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4" name="Object 4"/>
              <p:cNvSpPr txBox="1"/>
              <p:nvPr/>
            </p:nvSpPr>
            <p:spPr>
              <a:xfrm>
                <a:off x="2754360" y="2158920"/>
                <a:ext cx="4167000" cy="14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6" name="Object 4"/>
              <p:cNvSpPr txBox="1"/>
              <p:nvPr/>
            </p:nvSpPr>
            <p:spPr>
              <a:xfrm>
                <a:off x="2021040" y="2158920"/>
                <a:ext cx="577980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23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16:23:38Z</dcterms:created>
  <dc:creator>Claudine Bertrand-Gorge</dc:creator>
  <dc:description/>
  <dc:language>en-US</dc:language>
  <cp:lastModifiedBy>Marionseg</cp:lastModifiedBy>
  <dcterms:modified xsi:type="dcterms:W3CDTF">2010-01-22T16:28:06Z</dcterms:modified>
  <cp:revision>29</cp:revision>
  <dc:subject/>
  <dc:title>Écrire le résultat</dc:title>
</cp:coreProperties>
</file>