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A26D-21DB-4E5E-8F25-3C11B70586A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C173-D363-4BDE-B3CF-2DA4884EA01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2BD5-C155-4420-B215-4276B883B5D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997F-DC7E-426B-BC73-A3CCF3F2C98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6F13-D0EA-4208-B6FD-F4C82E10CEC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991A-B6EF-4F69-8CFC-83AC06642E2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C114-65F0-43FE-8E71-2A453291DD6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92FD-6A91-4247-B306-0688460302D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7954-C181-4957-A031-6447CC14EEF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1F56-A7E2-4CD4-B065-1BBBE76BF4C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A426-288B-4515-868A-0A38101BF30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E0A3-15B1-4788-8EA8-219B2E90E55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2F5E-876C-4A8F-BAFC-E9A07E504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091F-767E-46FA-B7C2-43B08FD1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2E51-FBBB-428E-AF41-B64135D2D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BFDC-8400-442E-88C6-2647648D3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3B79-B9B5-46E0-92E5-E5E18AEF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A2E4-687F-4680-B300-A3584E08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CAAA-C8B2-4CAC-9D72-9A7CEAF8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2980-32FA-48AC-B281-377086AD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50CC-21F3-4D8B-98D0-0B4A6F36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0D17-F79B-4EAC-BE3D-86B42517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5A0D-6C0F-4DDB-A09D-DF9D2143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5185-E0FF-4E40-B6BF-51B77C2A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3B16-DB82-4DDC-8FAD-6FF08ABE3D0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FC3C-B04B-482C-9257-337A655950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6017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0000"/>
                </a:solidFill>
                <a:latin typeface="Calibri"/>
              </a:rPr>
              <a:t>MULTIPLICATION ET DIVISION PAR 10, …</a:t>
            </a:r>
            <a:br>
              <a:rPr sz="5400"/>
            </a:br>
            <a:br>
              <a:rPr sz="54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SÉRIE N°6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596880" y="2057400"/>
                <a:ext cx="80107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1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1459080" y="2109960"/>
                <a:ext cx="6287760" cy="14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7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1306440" y="2057400"/>
                <a:ext cx="659124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÷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=</m:t>
                    </m:r>
                    <m:r>
                      <m:t xml:space="preserve">0,3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2473200" y="2109960"/>
                <a:ext cx="4259520" cy="14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3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840" y="2601720"/>
            <a:ext cx="8643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DIVISION PAR DIX, 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re 1"/>
          <p:cNvSpPr/>
          <p:nvPr/>
        </p:nvSpPr>
        <p:spPr>
          <a:xfrm>
            <a:off x="0" y="26938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0000"/>
                </a:solidFill>
                <a:latin typeface="Arial"/>
              </a:rPr>
              <a:t>Écrire le nombre manquant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4"/>
              <p:cNvSpPr txBox="1"/>
              <p:nvPr/>
            </p:nvSpPr>
            <p:spPr>
              <a:xfrm>
                <a:off x="1965240" y="2158920"/>
                <a:ext cx="527364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4"/>
              <p:cNvSpPr txBox="1"/>
              <p:nvPr/>
            </p:nvSpPr>
            <p:spPr>
              <a:xfrm>
                <a:off x="1255680" y="2109960"/>
                <a:ext cx="6692760" cy="14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1560600" y="2109960"/>
                <a:ext cx="6084720" cy="14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4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1306440" y="2109960"/>
                <a:ext cx="6591240" cy="14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1459080" y="2057400"/>
                <a:ext cx="628776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÷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1560600" y="2109960"/>
                <a:ext cx="6084720" cy="14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16:23:38Z</dcterms:created>
  <dc:creator>Claudine Bertrand-Gorge</dc:creator>
  <dc:description/>
  <dc:language>en-US</dc:language>
  <cp:lastModifiedBy>Marionseg</cp:lastModifiedBy>
  <dcterms:modified xsi:type="dcterms:W3CDTF">2010-01-22T16:30:57Z</dcterms:modified>
  <cp:revision>30</cp:revision>
  <dc:subject/>
  <dc:title>Écrire le résultat</dc:title>
</cp:coreProperties>
</file>