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6BE4-C42C-4805-8EF2-D2EE48B84A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9383-53CC-4E9F-A4CA-17FF6D7BFD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4E18-66E7-4723-A0F4-343CE10BA7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7B35-679B-4B2B-90A3-C14291CCA0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0DBA-115E-419F-93F5-F4A2833B07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3BAA-2C0E-4DB3-B903-FBF5BDA48F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A50A-E9A8-44FB-851A-5B148606CA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9E4A-EEFC-45CD-8E4A-938D869B8E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226E-17E2-4E2C-8D3F-436D8C73CA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69F8-3A7A-4729-B013-29BF3D3860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E49A-4CB5-49BA-B53C-54F3F4957E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E8B7-FC4F-4414-83DA-48D55328BE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91F8-C9C0-4A38-93A9-8F306F8FB2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A654-8B2D-4A5C-B565-8029F6B285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3C2-D664-4113-B812-EFCFE99D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0A8-314E-484C-88DF-99E8ED6D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E35-B4E4-4494-927D-A237CCA24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563D-B4B0-4963-8E1F-B0CA5E44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78D-4859-4689-80E1-6A95BE3B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98D-A7E1-4BF4-AF45-00AE69B7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625-33A3-4831-9DEB-212BE988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705B-E4C0-4A97-BD24-F1C01D50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47DF-C9E3-4F5F-90C4-363AA9EB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27C-38FC-40E3-8971-F5C4B136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B13-A4BF-45F5-BE6F-51CD417D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257-3D63-415E-B9B7-A5A6C779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6E26-F713-40C7-AEB9-3C9A0C9B24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480" y="278100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OTION DE PÉRIMÈTRE 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ET D’AIRE (1)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rcRect l="14880" t="3858" r="1650" b="9550"/>
          <a:stretch/>
        </p:blipFill>
        <p:spPr>
          <a:xfrm>
            <a:off x="720720" y="1440000"/>
            <a:ext cx="7534440" cy="5041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4180" t="9193" r="2130" b="5149"/>
          <a:stretch/>
        </p:blipFill>
        <p:spPr>
          <a:xfrm>
            <a:off x="720720" y="1440000"/>
            <a:ext cx="7556400" cy="498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3851280" y="189000"/>
            <a:ext cx="17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rcRect l="15360" t="13595" r="1650" b="0"/>
          <a:stretch/>
        </p:blipFill>
        <p:spPr>
          <a:xfrm>
            <a:off x="720720" y="1440000"/>
            <a:ext cx="7491240" cy="503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5"/>
          <p:cNvSpPr/>
          <p:nvPr/>
        </p:nvSpPr>
        <p:spPr>
          <a:xfrm>
            <a:off x="1714680" y="18900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ssai N°0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6" descr=""/>
          <p:cNvPicPr/>
          <p:nvPr/>
        </p:nvPicPr>
        <p:blipFill>
          <a:blip r:embed="rId1"/>
          <a:srcRect l="12400" t="11028" r="5430" b="3313"/>
          <a:stretch/>
        </p:blipFill>
        <p:spPr>
          <a:xfrm>
            <a:off x="720720" y="1440000"/>
            <a:ext cx="7416720" cy="498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1"/>
          <a:srcRect l="7440" t="6424" r="8270" b="7715"/>
          <a:stretch/>
        </p:blipFill>
        <p:spPr>
          <a:xfrm>
            <a:off x="720720" y="1440000"/>
            <a:ext cx="7608960" cy="4998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2400" t="11573" r="3660" b="2566"/>
          <a:stretch/>
        </p:blipFill>
        <p:spPr>
          <a:xfrm>
            <a:off x="720720" y="1440000"/>
            <a:ext cx="7577280" cy="49989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7440" t="13595" r="8270" b="0"/>
          <a:stretch/>
        </p:blipFill>
        <p:spPr>
          <a:xfrm>
            <a:off x="720720" y="1440000"/>
            <a:ext cx="7608960" cy="503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9570" t="12304" r="7440" b="1291"/>
          <a:stretch/>
        </p:blipFill>
        <p:spPr>
          <a:xfrm>
            <a:off x="720720" y="1440000"/>
            <a:ext cx="7491240" cy="503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11580" t="2566" r="5790" b="12133"/>
          <a:stretch/>
        </p:blipFill>
        <p:spPr>
          <a:xfrm>
            <a:off x="720720" y="1440000"/>
            <a:ext cx="7459560" cy="496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9920" t="3858" r="5790" b="12304"/>
          <a:stretch/>
        </p:blipFill>
        <p:spPr>
          <a:xfrm>
            <a:off x="720720" y="1440000"/>
            <a:ext cx="7610400" cy="4881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3851280" y="18900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rcRect l="2950" t="0" r="14060" b="14886"/>
          <a:stretch/>
        </p:blipFill>
        <p:spPr>
          <a:xfrm>
            <a:off x="720720" y="1440000"/>
            <a:ext cx="7491240" cy="495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3:18:46Z</dcterms:modified>
  <cp:revision>7</cp:revision>
  <dc:subject/>
  <dc:title>PowerPoint Presentation</dc:title>
</cp:coreProperties>
</file>