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5F90-A111-4A60-A1E8-54B87DA0F2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1B3E-1CB1-48DE-BFE0-38AF64070E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1315-208B-4023-B822-83E94AD52D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3363-D275-4144-9D98-139AE22D30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FEA9-35AD-407E-8BC3-23E0C02A00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8A7D-9859-4136-892C-9B09C797B6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75F1-8FEE-44EC-BCB5-921FABA568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CE4B-0829-4844-88B5-C8E21F8405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5E50-8AA0-4B20-81B0-48C7F7B537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78CE-D54C-4FDE-A0D3-9A2C53ECCC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4132-C2A3-4A50-9F4C-B3FE2566D0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1679-3874-4F65-9D62-5084193A8A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B17F-BF4E-4216-ADF0-844D8DD394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71B-3608-442A-8B1C-385199B474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BF1-8EFF-4669-8B06-E6FB2FE3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D7F-6748-4CCF-9752-5C6005EF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304-0F39-4AB7-9665-CAF09560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32D-6F6A-4EEF-9F60-D67D0EC8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6F9-913B-49CF-B424-569C5F0A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BFF-3DD1-44CD-91D1-CFE8722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5C7-E7FC-4104-B0BE-42E58E68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7DB-8426-4AB0-8669-4388A46D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FDAD-A052-400F-8C39-061BEDCF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F0E-2FEA-4819-BC82-B70F0C22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4A7-D294-4C52-BD14-9BB94A0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9A8-58FD-498D-9329-E570FE10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5A04-AEAD-4FE2-8CBD-E575FEA53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ent mil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086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Un  milliardiè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ille milliar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651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Écrire sous la forme d’une puissance de 10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il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n centiè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n milliar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086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n cent millième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n mill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1094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Un millièm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08:16Z</dcterms:modified>
  <cp:revision>29</cp:revision>
  <dc:subject/>
  <dc:title>PowerPoint Presentation</dc:title>
</cp:coreProperties>
</file>