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BB30-2262-4EFD-AEBF-B32C7FB243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58C9-B06C-45AF-90E8-52478ADF52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688A-192F-40A0-A96D-EE3113713B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6490-34E6-4F3E-B0CF-67F3C94C80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0AE6-C4B4-4083-9B1F-673AC210939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3FB5-D441-4B64-AACF-DBC9A512F8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C6DB-2091-4237-A159-43E4A47E49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B6AF-A8F9-40E7-97D9-C116B2F19C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C12A0-5DF4-4DF2-ABF0-B3F0FCC07E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0805-A873-4D48-9772-294C519380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CD90-1518-4C1A-8697-C37C9A88FE6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A688-6EA2-47AF-8D82-4E2B681478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5DD5-41D8-4C60-AD4C-75AF1796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8A31-BD93-4E5F-AE2D-9EC5CE47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F29-53FF-42BC-BD93-5223BDBA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B97-F06C-42F7-B945-46DB3072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602F-F1AE-458C-862E-24C58592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B6E7-B201-472E-BFC7-3E56A7A7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DB9-73DB-4458-A6F7-7DF7BBA3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ABA2-9205-4E23-888D-97A3DAC4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F214-98CE-42E0-BC45-90B2647D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5C42-5CA2-4B6D-9282-DFC98E88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A7AA-C93D-4C61-B219-A7A1B819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421-BE76-4E90-B66D-AC5CE8EC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BB72-B7FD-45E3-B590-1EA942FD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0DEC-DE9B-498F-8BAE-DD3B6E46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EA6B-C031-47B6-AC3C-9BCC9861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898E-ABE1-4399-B5A7-733153BDD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FB0E-915E-4029-AB0D-7DEF44987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F98E-5668-4CE9-AC45-E22549FF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5FC8-2413-4B32-96AD-BC321301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6596-AB5D-465F-B853-8DF37E0B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7972C-DE30-4BA9-99B7-B65FCA0A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438D2-5D51-4BEF-851D-3812E334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8D4-C70A-4E7B-B1F6-D3415A28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3780A-2F9D-4B04-AF32-94C03FBB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22B3-EE1E-4018-A699-4510F2CD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07D6E-F37F-4806-A741-1D453A47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98121-2B4A-4A51-9148-99A07966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A2B0F-C9F6-44BE-9AE6-50BC3DDE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02C69-41F5-44CD-9ED4-5E0D6A67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B713-3545-4EDD-9177-052F1957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4F082-90D7-48EB-92E6-AA4EAC7E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32E27-48A4-4182-AFDC-69988B18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6BF7-C013-4459-8616-46DE9136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0D2-95BE-439E-93DD-8AEC1CAD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D459-94A4-4449-86A7-05C1A6E6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72393-5DE1-4C07-A50F-58FAED10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F388-6E3B-46EE-9585-420593D5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DC63-B9DD-413C-A520-AE1ACF90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4B1F0-2627-419D-A412-8A3F2BA3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E201A-842D-4EC8-8B1A-BF75B52F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207D-07A9-4BB5-9142-1587E3FB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EB5C-B7FB-4BE1-97EB-EE9D1D732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767CE-9167-4850-B235-5AD1CB22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D32-E883-4A16-A907-2CE286F80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254-A1E2-49CF-AE4B-1E32F9D5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435-03A4-4907-850A-66DBA09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452A-3CCF-4E64-A823-F3DCA645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2A5-555F-48FF-87BD-F84FED6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FE548-6B2F-4552-8974-E798ADFDEB79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9"/>
          <p:cNvSpPr/>
          <p:nvPr/>
        </p:nvSpPr>
        <p:spPr>
          <a:xfrm>
            <a:off x="614160" y="3187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n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0"/>
          <p:cNvSpPr/>
          <p:nvPr/>
        </p:nvSpPr>
        <p:spPr>
          <a:xfrm>
            <a:off x="2773440" y="3187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21"/>
          <p:cNvSpPr/>
          <p:nvPr/>
        </p:nvSpPr>
        <p:spPr>
          <a:xfrm>
            <a:off x="5006520" y="3187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en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23"/>
          <p:cNvSpPr/>
          <p:nvPr/>
        </p:nvSpPr>
        <p:spPr>
          <a:xfrm>
            <a:off x="7021800" y="3187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CC62-1BBD-427B-A128-C3452A19BFBB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DA39-0A63-4D7F-818E-C0F170550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46B1-D36F-4ECC-82FD-891FAF4C8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ULTIPLICATION D’UN NOMBRE PAR UNE FRACTION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2 ET N°2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978200" y="3209760"/>
                <a:ext cx="6220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5"/>
              <p:cNvSpPr txBox="1"/>
              <p:nvPr/>
            </p:nvSpPr>
            <p:spPr>
              <a:xfrm>
                <a:off x="3348000" y="3205080"/>
                <a:ext cx="469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6"/>
              <p:cNvSpPr txBox="1"/>
              <p:nvPr/>
            </p:nvSpPr>
            <p:spPr>
              <a:xfrm>
                <a:off x="6286680" y="3176640"/>
                <a:ext cx="630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"/>
              <p:cNvSpPr txBox="1"/>
              <p:nvPr/>
            </p:nvSpPr>
            <p:spPr>
              <a:xfrm>
                <a:off x="7794720" y="3144960"/>
                <a:ext cx="5205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1951200" y="3235320"/>
                <a:ext cx="7365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5"/>
              <p:cNvSpPr txBox="1"/>
              <p:nvPr/>
            </p:nvSpPr>
            <p:spPr>
              <a:xfrm>
                <a:off x="3276720" y="3225960"/>
                <a:ext cx="4190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6264360" y="3224160"/>
                <a:ext cx="723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7"/>
              <p:cNvSpPr txBox="1"/>
              <p:nvPr/>
            </p:nvSpPr>
            <p:spPr>
              <a:xfrm>
                <a:off x="7583400" y="3225960"/>
                <a:ext cx="406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857240" y="323856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5"/>
              <p:cNvSpPr txBox="1"/>
              <p:nvPr/>
            </p:nvSpPr>
            <p:spPr>
              <a:xfrm>
                <a:off x="3308400" y="3230640"/>
                <a:ext cx="3682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6"/>
              <p:cNvSpPr txBox="1"/>
              <p:nvPr/>
            </p:nvSpPr>
            <p:spPr>
              <a:xfrm>
                <a:off x="6254640" y="3238560"/>
                <a:ext cx="74628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7"/>
              <p:cNvSpPr txBox="1"/>
              <p:nvPr/>
            </p:nvSpPr>
            <p:spPr>
              <a:xfrm>
                <a:off x="7628040" y="3238560"/>
                <a:ext cx="3636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24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Effectuer les calculs le plus simplement possible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et donner le résultat sous la forme qui convient :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nombre entier,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nombre décimal,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écriture fractionn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0"/>
              <p:cNvSpPr txBox="1"/>
              <p:nvPr/>
            </p:nvSpPr>
            <p:spPr>
              <a:xfrm>
                <a:off x="4444920" y="3143160"/>
                <a:ext cx="25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1"/>
              <p:cNvSpPr txBox="1"/>
              <p:nvPr/>
            </p:nvSpPr>
            <p:spPr>
              <a:xfrm>
                <a:off x="4444920" y="3143160"/>
                <a:ext cx="25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2"/>
              <p:cNvSpPr txBox="1"/>
              <p:nvPr/>
            </p:nvSpPr>
            <p:spPr>
              <a:xfrm>
                <a:off x="4444920" y="3143160"/>
                <a:ext cx="2541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14"/>
              <p:cNvSpPr txBox="1"/>
              <p:nvPr/>
            </p:nvSpPr>
            <p:spPr>
              <a:xfrm>
                <a:off x="2138400" y="2878200"/>
                <a:ext cx="3301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5"/>
              <p:cNvSpPr txBox="1"/>
              <p:nvPr/>
            </p:nvSpPr>
            <p:spPr>
              <a:xfrm>
                <a:off x="3492360" y="3141720"/>
                <a:ext cx="266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18"/>
              <p:cNvSpPr txBox="1"/>
              <p:nvPr/>
            </p:nvSpPr>
            <p:spPr>
              <a:xfrm>
                <a:off x="7759800" y="3166920"/>
                <a:ext cx="4316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Rectangle 20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19"/>
              <p:cNvSpPr txBox="1"/>
              <p:nvPr/>
            </p:nvSpPr>
            <p:spPr>
              <a:xfrm>
                <a:off x="6504120" y="2957400"/>
                <a:ext cx="3124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2124000" y="2838600"/>
                <a:ext cx="304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6"/>
              <p:cNvSpPr txBox="1"/>
              <p:nvPr/>
            </p:nvSpPr>
            <p:spPr>
              <a:xfrm>
                <a:off x="3419640" y="3147840"/>
                <a:ext cx="4824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7842240" y="3147840"/>
                <a:ext cx="26676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8"/>
              <p:cNvSpPr txBox="1"/>
              <p:nvPr/>
            </p:nvSpPr>
            <p:spPr>
              <a:xfrm>
                <a:off x="6516720" y="2924280"/>
                <a:ext cx="276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7"/>
              <p:cNvSpPr txBox="1"/>
              <p:nvPr/>
            </p:nvSpPr>
            <p:spPr>
              <a:xfrm>
                <a:off x="7867800" y="3147840"/>
                <a:ext cx="2412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8"/>
              <p:cNvSpPr txBox="1"/>
              <p:nvPr/>
            </p:nvSpPr>
            <p:spPr>
              <a:xfrm>
                <a:off x="2124000" y="2924280"/>
                <a:ext cx="457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Rectangle 10"/>
          <p:cNvSpPr/>
          <p:nvPr/>
        </p:nvSpPr>
        <p:spPr>
          <a:xfrm>
            <a:off x="3348000" y="3167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1"/>
              <p:cNvSpPr txBox="1"/>
              <p:nvPr/>
            </p:nvSpPr>
            <p:spPr>
              <a:xfrm>
                <a:off x="3492360" y="3213000"/>
                <a:ext cx="241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13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12"/>
              <p:cNvSpPr txBox="1"/>
              <p:nvPr/>
            </p:nvSpPr>
            <p:spPr>
              <a:xfrm>
                <a:off x="6372360" y="2924280"/>
                <a:ext cx="457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7721640" y="3124080"/>
                <a:ext cx="5713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084400" y="2857680"/>
                <a:ext cx="507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Rectangle 10"/>
          <p:cNvSpPr/>
          <p:nvPr/>
        </p:nvSpPr>
        <p:spPr>
          <a:xfrm>
            <a:off x="3349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11"/>
              <p:cNvSpPr txBox="1"/>
              <p:nvPr/>
            </p:nvSpPr>
            <p:spPr>
              <a:xfrm>
                <a:off x="3419640" y="3213000"/>
                <a:ext cx="520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3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12"/>
              <p:cNvSpPr txBox="1"/>
              <p:nvPr/>
            </p:nvSpPr>
            <p:spPr>
              <a:xfrm>
                <a:off x="6372360" y="2924280"/>
                <a:ext cx="4572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3398760" y="3213000"/>
                <a:ext cx="584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7"/>
              <p:cNvSpPr txBox="1"/>
              <p:nvPr/>
            </p:nvSpPr>
            <p:spPr>
              <a:xfrm>
                <a:off x="7666200" y="3149640"/>
                <a:ext cx="6346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0"/>
              <p:cNvSpPr txBox="1"/>
              <p:nvPr/>
            </p:nvSpPr>
            <p:spPr>
              <a:xfrm>
                <a:off x="2124000" y="2924280"/>
                <a:ext cx="27648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Rectangle 13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2"/>
              <p:cNvSpPr txBox="1"/>
              <p:nvPr/>
            </p:nvSpPr>
            <p:spPr>
              <a:xfrm>
                <a:off x="6516720" y="2924280"/>
                <a:ext cx="276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4"/>
              <p:cNvSpPr txBox="1"/>
              <p:nvPr/>
            </p:nvSpPr>
            <p:spPr>
              <a:xfrm>
                <a:off x="1976400" y="2879640"/>
                <a:ext cx="685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"/>
              <p:cNvSpPr txBox="1"/>
              <p:nvPr/>
            </p:nvSpPr>
            <p:spPr>
              <a:xfrm>
                <a:off x="3475080" y="3171960"/>
                <a:ext cx="4824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6"/>
              <p:cNvSpPr txBox="1"/>
              <p:nvPr/>
            </p:nvSpPr>
            <p:spPr>
              <a:xfrm>
                <a:off x="6232680" y="2828880"/>
                <a:ext cx="761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7"/>
              <p:cNvSpPr txBox="1"/>
              <p:nvPr/>
            </p:nvSpPr>
            <p:spPr>
              <a:xfrm>
                <a:off x="7734240" y="3151080"/>
                <a:ext cx="533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1946160" y="2879640"/>
                <a:ext cx="6858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5"/>
              <p:cNvSpPr txBox="1"/>
              <p:nvPr/>
            </p:nvSpPr>
            <p:spPr>
              <a:xfrm>
                <a:off x="3429000" y="3181320"/>
                <a:ext cx="241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"/>
              <p:cNvSpPr txBox="1"/>
              <p:nvPr/>
            </p:nvSpPr>
            <p:spPr>
              <a:xfrm>
                <a:off x="6257880" y="2828880"/>
                <a:ext cx="762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7"/>
              <p:cNvSpPr txBox="1"/>
              <p:nvPr/>
            </p:nvSpPr>
            <p:spPr>
              <a:xfrm>
                <a:off x="7791480" y="3162240"/>
                <a:ext cx="241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4:34Z</dcterms:modified>
  <cp:revision>35</cp:revision>
  <dc:subject/>
  <dc:title>Diapositive 1</dc:title>
</cp:coreProperties>
</file>