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5608-2FF2-453A-BC78-595214BB8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FA7-8277-4E5A-96EC-24D9D4F21C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9F2-6B48-4377-88AF-EEC9EBC836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3EB-623B-48EE-A663-D60265AF3F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157-776C-4821-A37C-2953B7D53E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041F-C0C3-4EBF-BD1F-66E28A90D5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0687-0EA0-4AE6-B4C0-5F6D0AFCA7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3696-91C2-415C-A6EE-C0F2115AA1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DAC7-A17C-401F-B603-EB357BFA88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4D8-510C-4AC1-A4D2-9AB3B70C54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5799-3E2F-4B84-9CF3-D05F460545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8EEC-5F7A-418D-85C6-364EA5E785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AF98-D7A7-4311-95C4-F6CA27F53B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13FB-9DC4-4B42-994A-0B6A8D542E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31CD-D191-4182-9EAC-329273D4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FD3-F6CB-4E3F-A1D2-C62835FB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BAA-BAAA-4239-837A-33C8B351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545-B590-4A00-8605-95946A074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82A-F179-4481-BCA4-D660847A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C79-8CA7-4B38-B7EA-BEABE796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39A2-ECF2-44F7-943C-EC6CAAF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0BDD-9484-43A9-8067-69F5BBD4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87C0-E6E5-4AB7-A61A-EB22E056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F1FD-2265-499F-A511-D97F3AD3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2A81-6325-454F-B793-38CA6673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3E9-38D1-4013-B5EF-8DD26CB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1F3C-B338-4441-A7E6-A640473A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5A4-11A3-4FD6-AE7C-B51D0527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0FCF-924E-48E7-A236-C29A88EC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7CA-44F4-470F-9BAA-7C003577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D8EF-A476-4A30-B37F-FAC276C1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B55-4B48-42C1-9154-04C50F4C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108-6FE9-4FB8-B6A0-C89CAC6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597-9EF1-4D76-975D-DD828A64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910-5B92-4E90-8704-EF20887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D22-A274-448F-B713-BAD0571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D3F-0B41-4B29-A94A-D5A61BF1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3E8-0E4F-4AF1-BDDC-E2693A0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5979-46EC-400E-92B8-F30BCD337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B6E1-4C64-49B0-B503-14AC64588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4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8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opposé de l’opposé de – 5 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9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inverse de 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l’opposé de – 5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10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opposé de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l’inverse de – 5 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Répondre aux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1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opposé de – 5 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2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opposé de     ?   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7178760" y="2428920"/>
                <a:ext cx="67932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17982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3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inverse de 5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4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inverse de – 5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5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inverse de     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7180200" y="2479680"/>
                <a:ext cx="6778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6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inverse de      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7000920" y="2428920"/>
                <a:ext cx="10429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N°7 :</a:t>
            </a:r>
            <a:br>
              <a:rPr sz="5400"/>
            </a:b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Quel est l’opposé de       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7000920" y="2428920"/>
                <a:ext cx="104292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14:51Z</dcterms:created>
  <dc:creator>ms</dc:creator>
  <dc:description/>
  <dc:language>en-US</dc:language>
  <cp:lastModifiedBy>Marionseg</cp:lastModifiedBy>
  <dcterms:modified xsi:type="dcterms:W3CDTF">2010-01-22T18:05:33Z</dcterms:modified>
  <cp:revision>10</cp:revision>
  <dc:subject/>
  <dc:title>Effectuer  les calculs suivants</dc:title>
</cp:coreProperties>
</file>