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CC6F-3D85-429A-AAF9-511C057AE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FDD6-EA19-4D3A-ADB1-13E316EEE9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E869-F3FE-463A-BB4F-FFA616E4DF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46EC-B69E-40AD-A590-693B213A3C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5FFF-F02E-4120-9CE8-406EE3ED1A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14507-B7A2-442F-941C-C1B0F5916D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A06F-EFF3-41E0-93D2-9966BD6398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11F9-3AF6-401A-B26D-7BEF015EF5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B88B-0560-49D9-B732-6D648F7068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E24-58F9-4ACA-8B95-6AA105B2B2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C3E-A344-45E5-8491-D4194C8995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A641-1E58-4B6F-A533-3224C15533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4999-766D-49ED-B522-616B5180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C30-D868-43E9-9FC2-C072E27E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D962-1D62-40BB-BB20-FCAA5789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506-63B9-4134-87D8-3BBDE754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021D-79BE-49F3-8890-B87FF7F0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BA7C-6EE7-4C6E-B5EB-E6B6AF05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B715A-FBF6-43FE-925F-5CD56487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A11F9-0029-4BB4-8086-6F6C79D6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B9D9-46BC-4172-8866-186A9482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5D34-610B-4235-8420-41C01C5F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098D-AE7D-4F8F-A82C-B2061070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E13-4798-4274-AB85-4B1634D8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683A-27D3-4E87-8E4D-A834E9FA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033-6C06-4978-8651-8B32E521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830BC-0B7F-41EF-91BF-5FFDDB43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3F28-4D5C-4F22-A782-959B7F81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54D0-8974-4268-B4D1-300F73ADD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AA0C-52FB-49C6-B875-85DED8DD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6C21-4E66-48C8-80FB-08A14F1B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C28-1F9C-4623-B9CC-6EFB0FFB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5E8-9694-411F-88AD-C32FE45D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DF5-581E-485D-8C1F-B1240ED8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6FC-9B11-4DAB-B5FC-79F46670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8A46-A0F7-42E3-8B2F-2F78F0F2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724A-0BE0-4266-B9A6-4B56EF45DDE0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6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03B-1B87-4987-9C03-32C851092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1 ET N°1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85112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315120" y="285768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631512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1849320" y="2841480"/>
                <a:ext cx="99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1733400" y="2841480"/>
                <a:ext cx="1181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6072120" y="2776680"/>
                <a:ext cx="146052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6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838160" y="2822400"/>
                <a:ext cx="990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6300720" y="2824200"/>
                <a:ext cx="98892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83528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631656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84788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31836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83528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30252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85112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630252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1860480" y="2841480"/>
                <a:ext cx="939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334200" y="2841480"/>
                <a:ext cx="927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851120" y="2841480"/>
                <a:ext cx="965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6324480" y="284148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4:49Z</dcterms:modified>
  <cp:revision>25</cp:revision>
  <dc:subject/>
  <dc:title>Diapositive 1</dc:title>
</cp:coreProperties>
</file>