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110E-4A10-4147-B212-7B5FAFDB22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78F5-8D40-4A39-9D11-C491DF54F3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B611-0FCE-46B0-9854-958944F27B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B6AC-BD08-443F-BAF0-079C44C8C0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CB6C-DF1C-4BFF-B72A-91E74D24F8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9E76-2470-4F7D-8F8C-33ED8F22DC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5979-C29B-458E-A0AB-1A400F2F67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F768-8781-4B6A-9492-DC55C98D1B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843D-852D-4713-A0D9-5DACCBF565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2FB7-6BCD-4F27-9011-7E3B1005B0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E58C-AB3D-45A0-BC93-5BC22EC93F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9CA3-8AB2-400F-99AA-EFD799FB3F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57B5-F9CA-45A1-AB64-9E61E049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D53-BBD7-4E18-92B9-AEB84B6C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F35-4237-45CE-AAFB-82427EDB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6357-8F0D-42E7-834A-895BAFFA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FED5-353B-4485-AF6F-81A60766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8DDE-DF61-46BC-9D9D-6969E51B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ECF0-935B-4659-80B9-9833577F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7BF6-76BD-4C2A-ADE7-039DEA24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E702-D041-474E-9150-182B31D9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B1A1-49D7-42EE-AB18-399724BF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076A-A732-4A7D-9285-2424FCFA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8E08-A288-42E8-848C-0F94191E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0F02-965F-403B-BFE9-63A14180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AA51-67C6-4D08-83A5-BF60EECA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A85D-2AF0-45D6-9019-BD011581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5D6F-00B6-42DD-9191-AD18E38B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89E8-6AFD-48E2-8F9D-AC455587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65F-1F65-48BC-A695-EABDF13E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AEF-572E-4A39-9B31-C972C892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B9F7-00D7-4E01-9572-51B90F04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FCD8-18A0-485D-810A-87D29099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86A-8EF1-46CB-8E63-62448C92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ED46-2DE1-4880-994E-33E1A8CC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330-54D5-4FCA-B4C8-92DA55FF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12FA-7A59-4CF1-973B-1BE08D0D465F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468360" y="2349360"/>
            <a:ext cx="374328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4932360" y="2349360"/>
            <a:ext cx="3743280" cy="215928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A083-083D-4432-A85E-F915B29091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RACINES CARR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ES (2) 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ÉRIES N°1 ET 1B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1"/>
              <p:cNvSpPr txBox="1"/>
              <p:nvPr/>
            </p:nvSpPr>
            <p:spPr>
              <a:xfrm>
                <a:off x="965160" y="2901960"/>
                <a:ext cx="27367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5311800" y="2906640"/>
                <a:ext cx="29671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3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1"/>
              <p:cNvSpPr txBox="1"/>
              <p:nvPr/>
            </p:nvSpPr>
            <p:spPr>
              <a:xfrm>
                <a:off x="851040" y="2901960"/>
                <a:ext cx="29653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"/>
              <p:cNvSpPr txBox="1"/>
              <p:nvPr/>
            </p:nvSpPr>
            <p:spPr>
              <a:xfrm>
                <a:off x="5284800" y="2906640"/>
                <a:ext cx="30225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</m:e>
                    </m:rad>
                    <m:r>
                      <m:t xml:space="preserve">+</m:t>
                    </m:r>
                    <m:r>
                      <m:t xml:space="preserve">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1"/>
              <p:cNvSpPr txBox="1"/>
              <p:nvPr/>
            </p:nvSpPr>
            <p:spPr>
              <a:xfrm>
                <a:off x="679320" y="2901960"/>
                <a:ext cx="33069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0"/>
              <p:cNvSpPr txBox="1"/>
              <p:nvPr/>
            </p:nvSpPr>
            <p:spPr>
              <a:xfrm>
                <a:off x="5284800" y="2906640"/>
                <a:ext cx="30225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66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Écrire </a:t>
            </a:r>
            <a:r>
              <a:rPr b="0" i="1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sous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forme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aussi simple que possible.</a:t>
            </a:r>
            <a:r>
              <a:rPr b="0" i="1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7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1"/>
              <p:cNvSpPr txBox="1"/>
              <p:nvPr/>
            </p:nvSpPr>
            <p:spPr>
              <a:xfrm>
                <a:off x="793800" y="2901960"/>
                <a:ext cx="307800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0"/>
              <p:cNvSpPr txBox="1"/>
              <p:nvPr/>
            </p:nvSpPr>
            <p:spPr>
              <a:xfrm>
                <a:off x="5227560" y="2906640"/>
                <a:ext cx="31370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4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1"/>
              <p:cNvSpPr txBox="1"/>
              <p:nvPr/>
            </p:nvSpPr>
            <p:spPr>
              <a:xfrm>
                <a:off x="366840" y="2930400"/>
                <a:ext cx="3933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0"/>
              <p:cNvSpPr txBox="1"/>
              <p:nvPr/>
            </p:nvSpPr>
            <p:spPr>
              <a:xfrm>
                <a:off x="4829040" y="2906640"/>
                <a:ext cx="39355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1"/>
              <p:cNvSpPr txBox="1"/>
              <p:nvPr/>
            </p:nvSpPr>
            <p:spPr>
              <a:xfrm>
                <a:off x="479520" y="3008160"/>
                <a:ext cx="35989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0"/>
              <p:cNvSpPr txBox="1"/>
              <p:nvPr/>
            </p:nvSpPr>
            <p:spPr>
              <a:xfrm>
                <a:off x="4884840" y="3008160"/>
                <a:ext cx="386532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8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1"/>
              <p:cNvSpPr txBox="1"/>
              <p:nvPr/>
            </p:nvSpPr>
            <p:spPr>
              <a:xfrm>
                <a:off x="611280" y="3008160"/>
                <a:ext cx="35416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9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5133960" y="3008160"/>
                <a:ext cx="32749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1"/>
              <p:cNvSpPr txBox="1"/>
              <p:nvPr/>
            </p:nvSpPr>
            <p:spPr>
              <a:xfrm>
                <a:off x="736560" y="2901960"/>
                <a:ext cx="31939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0"/>
              <p:cNvSpPr txBox="1"/>
              <p:nvPr/>
            </p:nvSpPr>
            <p:spPr>
              <a:xfrm>
                <a:off x="5199120" y="2906640"/>
                <a:ext cx="31939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1"/>
              <p:cNvSpPr txBox="1"/>
              <p:nvPr/>
            </p:nvSpPr>
            <p:spPr>
              <a:xfrm>
                <a:off x="965160" y="2901960"/>
                <a:ext cx="27367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0"/>
              <p:cNvSpPr txBox="1"/>
              <p:nvPr/>
            </p:nvSpPr>
            <p:spPr>
              <a:xfrm>
                <a:off x="5342040" y="2906640"/>
                <a:ext cx="29080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9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1136520" y="2901960"/>
                <a:ext cx="239400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5570640" y="2906640"/>
                <a:ext cx="24508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22T16:53:18Z</dcterms:modified>
  <cp:revision>27</cp:revision>
  <dc:subject/>
  <dc:title>Diapositive 1</dc:title>
</cp:coreProperties>
</file>