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162E-7F60-4D87-95D2-1BBD16E166D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8863-C5A1-44C2-B6F8-0504A8F5E1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5190-6610-400C-A8DF-495D1E9FF3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B793-2208-40BD-82DA-1BD9FAA589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D5E7-34F2-4258-B0CA-523E198B53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20D5-D977-453D-BF5F-1E03A48C70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6403-7701-404D-925F-687E015712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5867-1F5F-4C87-A1B5-1E027EA731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EB61-5D3B-4117-8629-8A19C84A47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48FF-013E-4399-A294-60200795BE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FF31-C9E9-492B-8236-BECA7A048E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6A64-29FB-4E76-A46D-36119528CB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3D27-8DFA-4477-A506-729D48351D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4AED-853B-4C85-86AB-3A7A1ACE619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454-5BD0-4B46-97AD-0D60537B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B8B0-CDBB-4504-A7EC-20EC7441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A5A-25A8-47B7-944E-981F2566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0905-2D42-4301-9C34-79EAC6D8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570F-6914-4681-AA56-084282F5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5537-5A1B-4222-9880-35B8D6A1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F0A6-FC3D-4059-B4DE-C9403CCC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414B-6831-4F70-897B-CE764301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101C-7292-4D65-A0CB-881B8E2E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9960-1F0D-4EC5-BE46-FEA0202F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73DB-7530-4560-ABDB-F0FD5D02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490C-A7D8-4500-A229-68DE001D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581A-A145-4E27-8BE0-6880C246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064A-4FA0-4BB4-B4FA-A8FD6CB7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F745-A867-44D2-A250-37E8DF3D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F0A6-5827-49DB-BBFB-F507D620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2989-5B4D-41E7-ADE6-F584862E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E4E-9D1E-4F34-B8BC-187783B4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80F9-943B-4237-842C-F82B08C2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26C6-77A8-47F3-AA05-521A1DC2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1CB4-B669-4715-9A95-9621196F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0E9-1B7E-4E93-8353-7C7CB301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35D-841C-4909-BB31-7427988D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08FC-6598-47A6-AFBE-D4676721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E1E7-ACC8-48E7-A057-D3A024F170C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A612-342B-41D9-AABF-F84F1BBC9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E906-F069-4B59-B1D3-236D8C73628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923E-A022-4B17-85C3-C93F366A45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FONCTION LINÉAIRE </a:t>
            </a:r>
            <a:br>
              <a:rPr sz="6600"/>
            </a:b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SÉRIE 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Multiplier un nombre par 1,0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revient à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…………</a:t>
            </a: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 ce nomb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de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......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Multiplier un nombre par 0,0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revient à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…………</a:t>
            </a: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 ce nomb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de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......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Multiplier un nombre par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revient à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…………</a:t>
            </a: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 ce nomb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de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......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1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70c0"/>
                </a:solidFill>
                <a:latin typeface="Arial"/>
                <a:ea typeface="Arial"/>
              </a:rPr>
              <a:t>Compléter par </a:t>
            </a:r>
            <a:br>
              <a:rPr sz="4800"/>
            </a:br>
            <a:r>
              <a:rPr b="0" lang="fr-FR" sz="4800" spc="-1" strike="noStrike">
                <a:solidFill>
                  <a:srgbClr val="0070c0"/>
                </a:solidFill>
                <a:latin typeface="Arial"/>
                <a:ea typeface="Arial"/>
              </a:rPr>
              <a:t>« augmenter » ou « diminuer » </a:t>
            </a:r>
            <a:br>
              <a:rPr sz="4800"/>
            </a:br>
            <a:r>
              <a:rPr b="0" lang="fr-FR" sz="4800" spc="-1" strike="noStrike">
                <a:solidFill>
                  <a:srgbClr val="0070c0"/>
                </a:solidFill>
                <a:latin typeface="Arial"/>
                <a:ea typeface="Arial"/>
              </a:rPr>
              <a:t>puis par le taux de pourcentage qui convien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Multiplier un nombre par 1,0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revient à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…………</a:t>
            </a: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 ce nomb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de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......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Multiplier un nombre par 0,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revient à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…………</a:t>
            </a: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 ce nomb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de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......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Multiplier un nombre par 1,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revient à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…………</a:t>
            </a: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 ce nomb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de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......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Multiplier un nombre par 0,5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revient à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…………</a:t>
            </a: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 ce nomb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de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......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Multiplier un nombre par 1,19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revient à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…………</a:t>
            </a: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 ce nomb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de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......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Multiplier un nombre par 0,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revient à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…………</a:t>
            </a: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 ce nomb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de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......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Multiplier un nombre par 0,4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revient à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…………</a:t>
            </a: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 ce nomb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de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......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14:57:41Z</dcterms:created>
  <dc:creator>ms</dc:creator>
  <dc:description/>
  <dc:language>en-US</dc:language>
  <cp:lastModifiedBy>Marionseg</cp:lastModifiedBy>
  <dcterms:modified xsi:type="dcterms:W3CDTF">2010-01-22T13:55:07Z</dcterms:modified>
  <cp:revision>7</cp:revision>
  <dc:subject/>
  <dc:title>Fonction Linéaire  Série n°6</dc:title>
</cp:coreProperties>
</file>