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C299-AFC9-4FE9-9878-398B84FDCA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B2CA-D472-42D0-9578-3B60325773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2FD9-6A08-4129-81FB-C623234573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52A6-22BA-4F62-817A-38044A9BF6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CB18-8077-47A5-B640-9156132A59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281D-00DD-4136-B011-2ED3708ECB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BCB0-DDC8-4CC2-8C83-E2ED0959FB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5957-B4C3-4A53-864F-E79DE41289E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4F3C-1399-420F-8653-67114A5E59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1743-7EFF-4C02-8BD3-218FF79E29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B7D0-E88E-489F-8125-7D64A30969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1BBD-36ED-4FE7-AC7E-6E0DFB6E635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D9A1-639A-4495-B186-DD4874A54E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121D-87B2-46EF-B69D-E22FEB0396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732F-5E4E-497B-955B-CCCE0DBD9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AD5-0196-40C5-ADA0-C7627286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036-E408-4FC7-BB9B-2A99D7A2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4D8F-A655-4113-B268-9AAE6361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7716-C3D1-4FD7-8F65-02EBAABC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E3B4-2081-499D-AD09-CE9FF875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BC79-19B1-48C7-809B-80847061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33E8-C300-49BD-9716-F294AA79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97B0-19B8-4E26-9DB3-0F6E1A6C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639C-72D5-4F0C-A9D3-9DED3388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5EED-EBF3-4991-A3B4-690ADF36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6EF-4BB1-4DDB-AAB9-32BC1BCD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AE83-C782-4271-8B33-B8550E87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DCA3-B832-4FE0-B438-FEEFEFE1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D175-A773-4582-B8B3-9DD14756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8538-2B1B-4D5B-B5A8-DDCF8605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D1C5-B6C3-4AE2-86ED-23B02F10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F81-0549-477A-A430-A0143607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04A-2EB1-4AE1-93C1-D8C5BF9A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EADC-13CF-4B6C-905A-E7E306CE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2444-E481-458E-B575-294EE543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C37F-E38C-49AE-88D9-31ABBBCB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BDE0-9361-45C9-96B2-D3A5BAF0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1FC-127C-4E5C-BA44-7F559977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30DE-9447-4918-8E36-C4F6363334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F260-98C4-4B54-85A2-2FA938D10E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Divisibilité(2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277164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000000"/>
                </a:solidFill>
                <a:latin typeface="Arial"/>
                <a:ea typeface="Times New Roman"/>
              </a:rPr>
              <a:t>La fraction       es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000000"/>
                </a:solidFill>
                <a:latin typeface="Arial"/>
                <a:ea typeface="Times New Roman"/>
              </a:rPr>
              <a:t>irréductibl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3"/>
              <p:cNvSpPr txBox="1"/>
              <p:nvPr/>
            </p:nvSpPr>
            <p:spPr>
              <a:xfrm>
                <a:off x="5143680" y="2471760"/>
                <a:ext cx="1187280" cy="19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277164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000000"/>
                </a:solidFill>
                <a:latin typeface="Arial"/>
                <a:ea typeface="Times New Roman"/>
              </a:rPr>
              <a:t>La fraction       es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000000"/>
                </a:solidFill>
                <a:latin typeface="Arial"/>
                <a:ea typeface="Times New Roman"/>
              </a:rPr>
              <a:t>irréductibl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3"/>
              <p:cNvSpPr txBox="1"/>
              <p:nvPr/>
            </p:nvSpPr>
            <p:spPr>
              <a:xfrm>
                <a:off x="5214960" y="2543040"/>
                <a:ext cx="1187280" cy="18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277164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000000"/>
                </a:solidFill>
                <a:latin typeface="Arial"/>
                <a:ea typeface="Times New Roman"/>
              </a:rPr>
              <a:t>La fraction       est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000000"/>
                </a:solidFill>
                <a:latin typeface="Arial"/>
                <a:ea typeface="Times New Roman"/>
              </a:rPr>
              <a:t>irréductible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5214960" y="2500200"/>
                <a:ext cx="1187280" cy="195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8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Bouton d'action : Retour 5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476360" y="225036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Répondre pa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9900"/>
                </a:solidFill>
                <a:latin typeface="Arial"/>
              </a:rPr>
              <a:t>VRAI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FR" sz="6000" spc="-1" strike="noStrike">
                <a:solidFill>
                  <a:srgbClr val="cc0000"/>
                </a:solidFill>
                <a:latin typeface="Arial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230184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es nombres 40 et 58 sont premiers entre e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230184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es nombres 77 et 35 sont premiers entre e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230184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es nombres 49 et 45 sont premiers entre e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230184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es nombres 13 et 39 sont premiers entre e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230184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es nombres 27 et 37 sont premiers entre e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277164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a fraction       e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irréducti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5241960" y="2428920"/>
                <a:ext cx="1116000" cy="19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277164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a fraction       e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irréductib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3"/>
              <p:cNvSpPr txBox="1"/>
              <p:nvPr/>
            </p:nvSpPr>
            <p:spPr>
              <a:xfrm>
                <a:off x="5214960" y="2400480"/>
                <a:ext cx="1187280" cy="19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1:09:21Z</dcterms:created>
  <dc:creator>ms</dc:creator>
  <dc:description/>
  <dc:language>en-US</dc:language>
  <cp:lastModifiedBy>Marionseg</cp:lastModifiedBy>
  <dcterms:modified xsi:type="dcterms:W3CDTF">2010-01-22T15:36:49Z</dcterms:modified>
  <cp:revision>7</cp:revision>
  <dc:subject/>
  <dc:title>Diapositive 1</dc:title>
</cp:coreProperties>
</file>