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6043-F897-4266-9B21-F66357C026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3F45-4E50-4653-A973-E2DAF7CCF03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CFB1-B363-427C-97C0-922D41B0AC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FF40-AEE4-4143-9127-7518085589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6E1E-C732-42EA-A67E-FF9A4EA330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7B9A-A0F1-4C30-B363-B7291C3BBD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1313-BA6C-43A4-8940-E27D5BE231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4750-BD01-4EE5-99BF-870DA0873A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DD71-ECF5-4707-90CB-0664A95AD1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F720-774D-4097-A489-043A89841FB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797C-5EA7-4035-943E-B59C857FFF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47CF-F8FA-474B-B813-9B13A41BC55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C9EB-E8E1-4856-8C98-B5D0C6ECEC3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3EFB-1BE7-48F4-9C9D-7CE5136CF8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F959-A84C-4C6C-8BC6-06FE2F2BB77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4806-72AB-4E48-ACEC-01848D15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967C-CD8F-4C30-B797-4BE5F231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9180-25E3-404F-B62A-104F1CA4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2B88-F669-451A-96E8-4DE72087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CFE9-9E23-4021-B81D-9C3F91EA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7FA6-8DB7-46EA-9F06-6F64C7AC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0C2-9492-456E-A8B1-1F749469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D00-E28C-484E-AF2E-F1BDEF4E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559-3D63-4AEC-96C3-0C8F8F09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4BE-FFAF-4C03-AA31-2013B311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DAD-7CE3-4F7E-85E9-01A969F2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66F-D7FC-4D67-BB5E-5E2F6423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34DE-C411-44B9-ADF0-89BB5B6BE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ES DE CALCULS (2)</a:t>
            </a:r>
            <a:br>
              <a:rPr sz="80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2928960" y="0"/>
            <a:ext cx="4429080" cy="128592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re 3"/>
          <p:cNvSpPr/>
          <p:nvPr/>
        </p:nvSpPr>
        <p:spPr>
          <a:xfrm>
            <a:off x="214200" y="185724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Retranch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3"/>
          <p:cNvSpPr/>
          <p:nvPr/>
        </p:nvSpPr>
        <p:spPr>
          <a:xfrm>
            <a:off x="214200" y="3286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par 3 cette différ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3"/>
          <p:cNvSpPr/>
          <p:nvPr/>
        </p:nvSpPr>
        <p:spPr>
          <a:xfrm>
            <a:off x="214200" y="507204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r le cube du résultat obten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3643200" y="142920"/>
                <a:ext cx="27147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4273560" y="142920"/>
                <a:ext cx="19414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4286160" y="357120"/>
                <a:ext cx="619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5"/>
              <p:cNvSpPr txBox="1"/>
              <p:nvPr/>
            </p:nvSpPr>
            <p:spPr>
              <a:xfrm>
                <a:off x="3357720" y="0"/>
                <a:ext cx="35715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"/>
          <p:cNvSpPr/>
          <p:nvPr/>
        </p:nvSpPr>
        <p:spPr>
          <a:xfrm>
            <a:off x="2286000" y="0"/>
            <a:ext cx="4429080" cy="1214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3"/>
          <p:cNvSpPr/>
          <p:nvPr/>
        </p:nvSpPr>
        <p:spPr>
          <a:xfrm>
            <a:off x="214200" y="192888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ce nombre par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re 3"/>
          <p:cNvSpPr/>
          <p:nvPr/>
        </p:nvSpPr>
        <p:spPr>
          <a:xfrm>
            <a:off x="214200" y="292896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uter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itre 3"/>
          <p:cNvSpPr/>
          <p:nvPr/>
        </p:nvSpPr>
        <p:spPr>
          <a:xfrm>
            <a:off x="214200" y="435780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cette somm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2"/>
              <p:cNvSpPr txBox="1"/>
              <p:nvPr/>
            </p:nvSpPr>
            <p:spPr>
              <a:xfrm>
                <a:off x="3517920" y="73080"/>
                <a:ext cx="23223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3500280" y="71280"/>
                <a:ext cx="108612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3929040" y="28584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2820960" y="71280"/>
                <a:ext cx="33228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0"/>
          <p:cNvSpPr/>
          <p:nvPr/>
        </p:nvSpPr>
        <p:spPr>
          <a:xfrm>
            <a:off x="2643120" y="0"/>
            <a:ext cx="507204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4200" y="1856880"/>
            <a:ext cx="8715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tre 3"/>
          <p:cNvSpPr/>
          <p:nvPr/>
        </p:nvSpPr>
        <p:spPr>
          <a:xfrm>
            <a:off x="214200" y="271476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uter le double de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itre 3"/>
          <p:cNvSpPr/>
          <p:nvPr/>
        </p:nvSpPr>
        <p:spPr>
          <a:xfrm>
            <a:off x="214200" y="378612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er la somme par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3"/>
          <p:cNvSpPr/>
          <p:nvPr/>
        </p:nvSpPr>
        <p:spPr>
          <a:xfrm>
            <a:off x="214200" y="51436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uter le carré du nombre choisi au dé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2"/>
              <p:cNvSpPr txBox="1"/>
              <p:nvPr/>
            </p:nvSpPr>
            <p:spPr>
              <a:xfrm>
                <a:off x="2857680" y="142920"/>
                <a:ext cx="317160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2928960" y="142920"/>
                <a:ext cx="3029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2957400" y="357120"/>
                <a:ext cx="619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2886120" y="142920"/>
                <a:ext cx="464328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2428920" y="0"/>
            <a:ext cx="5286240" cy="12142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re 3"/>
          <p:cNvSpPr/>
          <p:nvPr/>
        </p:nvSpPr>
        <p:spPr>
          <a:xfrm>
            <a:off x="214200" y="192888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uter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tre 3"/>
          <p:cNvSpPr/>
          <p:nvPr/>
        </p:nvSpPr>
        <p:spPr>
          <a:xfrm>
            <a:off x="214200" y="342900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ncher la somme obtenue à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itre 3"/>
          <p:cNvSpPr/>
          <p:nvPr/>
        </p:nvSpPr>
        <p:spPr>
          <a:xfrm>
            <a:off x="214200" y="478620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le résultat par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"/>
              <p:cNvSpPr txBox="1"/>
              <p:nvPr/>
            </p:nvSpPr>
            <p:spPr>
              <a:xfrm>
                <a:off x="3260880" y="142920"/>
                <a:ext cx="402588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5060880" y="142920"/>
                <a:ext cx="19400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5"/>
              <p:cNvSpPr txBox="1"/>
              <p:nvPr/>
            </p:nvSpPr>
            <p:spPr>
              <a:xfrm>
                <a:off x="5072040" y="357120"/>
                <a:ext cx="619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6"/>
              <p:cNvSpPr txBox="1"/>
              <p:nvPr/>
            </p:nvSpPr>
            <p:spPr>
              <a:xfrm>
                <a:off x="2554200" y="142920"/>
                <a:ext cx="494676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nombre de départ étant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xprimer le résultat final de chaque programme de calculs en fonction de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3"/>
          <p:cNvSpPr/>
          <p:nvPr/>
        </p:nvSpPr>
        <p:spPr>
          <a:xfrm>
            <a:off x="214200" y="185724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r le carré de ce nomb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3"/>
          <p:cNvSpPr/>
          <p:nvPr/>
        </p:nvSpPr>
        <p:spPr>
          <a:xfrm>
            <a:off x="214200" y="28576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ncher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re 3"/>
          <p:cNvSpPr/>
          <p:nvPr/>
        </p:nvSpPr>
        <p:spPr>
          <a:xfrm>
            <a:off x="214200" y="457200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le résultat par la moitié du nombre choisi au dép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re 3"/>
          <p:cNvSpPr/>
          <p:nvPr/>
        </p:nvSpPr>
        <p:spPr>
          <a:xfrm>
            <a:off x="214200" y="185724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</a:rPr>
              <a:t>Retrancher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re 3"/>
          <p:cNvSpPr/>
          <p:nvPr/>
        </p:nvSpPr>
        <p:spPr>
          <a:xfrm>
            <a:off x="214200" y="3286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par 3 cette différenc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3"/>
          <p:cNvSpPr/>
          <p:nvPr/>
        </p:nvSpPr>
        <p:spPr>
          <a:xfrm>
            <a:off x="214200" y="507204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r le cube du résultat obten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tre 3"/>
          <p:cNvSpPr/>
          <p:nvPr/>
        </p:nvSpPr>
        <p:spPr>
          <a:xfrm>
            <a:off x="214200" y="192888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ce nombre par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tre 3"/>
          <p:cNvSpPr/>
          <p:nvPr/>
        </p:nvSpPr>
        <p:spPr>
          <a:xfrm>
            <a:off x="214200" y="292896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uter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re 3"/>
          <p:cNvSpPr/>
          <p:nvPr/>
        </p:nvSpPr>
        <p:spPr>
          <a:xfrm>
            <a:off x="214200" y="435780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cette somme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re 3"/>
          <p:cNvSpPr/>
          <p:nvPr/>
        </p:nvSpPr>
        <p:spPr>
          <a:xfrm>
            <a:off x="214200" y="185724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uter le double de 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3"/>
          <p:cNvSpPr/>
          <p:nvPr/>
        </p:nvSpPr>
        <p:spPr>
          <a:xfrm>
            <a:off x="214200" y="28576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viser la somme par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3"/>
          <p:cNvSpPr/>
          <p:nvPr/>
        </p:nvSpPr>
        <p:spPr>
          <a:xfrm>
            <a:off x="214200" y="421488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uter le carré du nombre choisi au dép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987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itre 3"/>
          <p:cNvSpPr/>
          <p:nvPr/>
        </p:nvSpPr>
        <p:spPr>
          <a:xfrm>
            <a:off x="214200" y="1928880"/>
            <a:ext cx="89298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jouter 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3"/>
          <p:cNvSpPr/>
          <p:nvPr/>
        </p:nvSpPr>
        <p:spPr>
          <a:xfrm>
            <a:off x="214200" y="342900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ncher la somme obtenue à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3"/>
          <p:cNvSpPr/>
          <p:nvPr/>
        </p:nvSpPr>
        <p:spPr>
          <a:xfrm>
            <a:off x="214200" y="478620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le résultat par 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2643120" y="0"/>
            <a:ext cx="4429080" cy="178596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558440"/>
            <a:ext cx="8715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ZoneTexte 2"/>
          <p:cNvSpPr/>
          <p:nvPr/>
        </p:nvSpPr>
        <p:spPr>
          <a:xfrm>
            <a:off x="0" y="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tre 3"/>
          <p:cNvSpPr/>
          <p:nvPr/>
        </p:nvSpPr>
        <p:spPr>
          <a:xfrm>
            <a:off x="214200" y="23572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r le carré de ce nomb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3"/>
          <p:cNvSpPr/>
          <p:nvPr/>
        </p:nvSpPr>
        <p:spPr>
          <a:xfrm>
            <a:off x="214200" y="3214800"/>
            <a:ext cx="89298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ancher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tre 3"/>
          <p:cNvSpPr/>
          <p:nvPr/>
        </p:nvSpPr>
        <p:spPr>
          <a:xfrm>
            <a:off x="214200" y="492912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le résultat par la moitié du nombre choisi au dépa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"/>
              <p:cNvSpPr txBox="1"/>
              <p:nvPr/>
            </p:nvSpPr>
            <p:spPr>
              <a:xfrm>
                <a:off x="4000680" y="109440"/>
                <a:ext cx="23209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3"/>
              <p:cNvSpPr txBox="1"/>
              <p:nvPr/>
            </p:nvSpPr>
            <p:spPr>
              <a:xfrm>
                <a:off x="4000680" y="109440"/>
                <a:ext cx="108720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4"/>
              <p:cNvSpPr txBox="1"/>
              <p:nvPr/>
            </p:nvSpPr>
            <p:spPr>
              <a:xfrm>
                <a:off x="4000680" y="455760"/>
                <a:ext cx="6188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3095640" y="-214200"/>
                <a:ext cx="3476520" cy="19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09T21:22:42Z</dcterms:modified>
  <cp:revision>48</cp:revision>
  <dc:subject/>
  <dc:title>Vocabulaire et calcul mental</dc:title>
</cp:coreProperties>
</file>