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BC6D-11B2-41D5-9142-DE3F00D713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F332-D208-46EA-B9B4-D8C324935D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D0DC-287C-46EF-86F0-6BEAB2D45D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5A73-55A7-4248-B79D-94AEDF2943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C6CD-5CDC-445D-BEEB-1AA449AA09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276D-F9EE-4AF1-9816-CCAC9C2D3E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7151-F36D-4C12-9795-E6FD2A16FE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BD37-EE83-43B2-8485-4C7CF147A6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FD99-618C-4266-B7D3-1D16CF1506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81FE-80BF-4E4F-935D-6C0A0490AD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81E0-F9CB-4EB9-BB1F-D77C577E63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FB04-FB3C-46D0-8989-C60E4E430E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084E-F573-4F96-AA9B-68D3FAC77C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F400-E9CB-4882-AA8B-8D30965EE2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0D54-7321-4B8D-B3F8-1EB9FCAF12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721-EFC1-48A9-8716-3162527B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369-8399-435E-B0BC-8B4F9F63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3B6-951C-4D84-8E3E-37E4931D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9045-2C2F-495A-B84E-074EF6EA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10C-B0C4-411D-9B07-7396B24C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07F-0C4A-4B7E-96BD-9AE1F0B7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F38-4598-42AC-B36E-A77CD43A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299-B7C4-46E7-9279-1BDAFE72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A93E-40CB-4BB6-9B88-DABB7412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F9E6-69A0-4E22-A165-BCA1D31B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6C92-B682-4C2D-8DD7-C90C0FF3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EEC-F36D-42FD-8532-197DEC32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98E1-CE5F-4EEB-807A-C6ECC9D0F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158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VOCABULAIRE ET OPÉRATIONS (1)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S N°1 ET 1BI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28400" y="3429000"/>
            <a:ext cx="835812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98989"/>
                </a:solidFill>
                <a:latin typeface="Calibri"/>
              </a:rPr>
              <a:t>Somme, différence, produit et quoti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85840" y="2519280"/>
            <a:ext cx="4038480" cy="20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Arial"/>
                <a:ea typeface="Arial"/>
              </a:rPr>
              <a:t>Le produit de 12 par 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890600" y="2519280"/>
            <a:ext cx="40388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ff"/>
                </a:solidFill>
                <a:latin typeface="Arial"/>
                <a:ea typeface="Arial"/>
              </a:rPr>
              <a:t>Le produit de 4 par 1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onnecteur droit 14"/>
          <p:cNvSpPr/>
          <p:nvPr/>
        </p:nvSpPr>
        <p:spPr>
          <a:xfrm>
            <a:off x="4571280" y="1417680"/>
            <a:ext cx="4680" cy="522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5840" y="2519280"/>
            <a:ext cx="4038480" cy="20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Arial"/>
                <a:ea typeface="Arial"/>
              </a:rPr>
              <a:t>Le quotient de 64 par 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90960" y="2519280"/>
            <a:ext cx="37958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ff"/>
                </a:solidFill>
                <a:latin typeface="Arial"/>
                <a:ea typeface="Arial"/>
              </a:rPr>
              <a:t>Le quotient de 45 par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onnecteur droit 14"/>
          <p:cNvSpPr/>
          <p:nvPr/>
        </p:nvSpPr>
        <p:spPr>
          <a:xfrm>
            <a:off x="4571280" y="1417680"/>
            <a:ext cx="4680" cy="522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85840" y="2519280"/>
            <a:ext cx="4038480" cy="20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Arial"/>
                <a:ea typeface="Arial"/>
              </a:rPr>
              <a:t>Le produit de 8 par 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90600" y="2519280"/>
            <a:ext cx="40388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ff"/>
                </a:solidFill>
                <a:latin typeface="Arial"/>
                <a:ea typeface="Arial"/>
              </a:rPr>
              <a:t>Le produit de 6 par 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nnecteur droit 14"/>
          <p:cNvSpPr/>
          <p:nvPr/>
        </p:nvSpPr>
        <p:spPr>
          <a:xfrm>
            <a:off x="4571280" y="1417680"/>
            <a:ext cx="4680" cy="522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5840" y="2519280"/>
            <a:ext cx="4038480" cy="20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ff0000"/>
                </a:solidFill>
                <a:latin typeface="Arial"/>
                <a:ea typeface="Arial"/>
              </a:rPr>
              <a:t>La différence de 88 et de 1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890600" y="2519280"/>
            <a:ext cx="40388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0000ff"/>
                </a:solidFill>
                <a:latin typeface="Arial"/>
                <a:ea typeface="Arial"/>
              </a:rPr>
              <a:t>La différence de 44 et de 1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necteur droit 14"/>
          <p:cNvSpPr/>
          <p:nvPr/>
        </p:nvSpPr>
        <p:spPr>
          <a:xfrm>
            <a:off x="4571280" y="1417680"/>
            <a:ext cx="4680" cy="522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95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02860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crire sur la grille-réponse uniquement le résultat de l’opération demandé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tention! Chaque calcul est affiché en toutes lettres pendant un temps limi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calculatrice n’est pas autorisé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Calculer mentalement ..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840" y="2519280"/>
            <a:ext cx="4038480" cy="20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Arial"/>
                <a:ea typeface="Arial"/>
              </a:rPr>
              <a:t>La somme de 85 et de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890600" y="2519280"/>
            <a:ext cx="40388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ff"/>
                </a:solidFill>
                <a:latin typeface="Arial"/>
                <a:ea typeface="Arial"/>
              </a:rPr>
              <a:t>La somme de 84 et de 16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onnecteur droit 14"/>
          <p:cNvSpPr/>
          <p:nvPr/>
        </p:nvSpPr>
        <p:spPr>
          <a:xfrm>
            <a:off x="4571280" y="1417680"/>
            <a:ext cx="4680" cy="522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840" y="2519280"/>
            <a:ext cx="4038480" cy="20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Arial"/>
                <a:ea typeface="Arial"/>
              </a:rPr>
              <a:t>Le quotient de 15 par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890600" y="2519280"/>
            <a:ext cx="40388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ff"/>
                </a:solidFill>
                <a:latin typeface="Arial"/>
                <a:ea typeface="Arial"/>
              </a:rPr>
              <a:t>Le quotient de 12 par 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onnecteur droit 14"/>
          <p:cNvSpPr/>
          <p:nvPr/>
        </p:nvSpPr>
        <p:spPr>
          <a:xfrm>
            <a:off x="4571280" y="1417680"/>
            <a:ext cx="4680" cy="522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5840" y="2519280"/>
            <a:ext cx="4038480" cy="20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Arial"/>
                <a:ea typeface="Arial"/>
              </a:rPr>
              <a:t>La différence de 79 et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Arial"/>
                <a:ea typeface="Arial"/>
              </a:rPr>
              <a:t>de 4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890600" y="2519280"/>
            <a:ext cx="40388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ff"/>
                </a:solidFill>
                <a:latin typeface="Arial"/>
                <a:ea typeface="Arial"/>
              </a:rPr>
              <a:t>La différence de 69 et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ff"/>
                </a:solidFill>
                <a:latin typeface="Arial"/>
                <a:ea typeface="Arial"/>
              </a:rPr>
              <a:t>de 5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onnecteur droit 14"/>
          <p:cNvSpPr/>
          <p:nvPr/>
        </p:nvSpPr>
        <p:spPr>
          <a:xfrm>
            <a:off x="4571280" y="1417680"/>
            <a:ext cx="4680" cy="522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5840" y="2519280"/>
            <a:ext cx="4038480" cy="20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Arial"/>
                <a:ea typeface="Arial"/>
              </a:rPr>
              <a:t>Le produit de 9 par 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890600" y="2519280"/>
            <a:ext cx="40388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ff"/>
                </a:solidFill>
                <a:latin typeface="Arial"/>
                <a:ea typeface="Arial"/>
              </a:rPr>
              <a:t>Le produit de 7 par 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Connecteur droit 14"/>
          <p:cNvSpPr/>
          <p:nvPr/>
        </p:nvSpPr>
        <p:spPr>
          <a:xfrm>
            <a:off x="4571280" y="1417680"/>
            <a:ext cx="4680" cy="522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2519280"/>
            <a:ext cx="4038480" cy="20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Arial"/>
                <a:ea typeface="Arial"/>
              </a:rPr>
              <a:t>La différence de 70 et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Arial"/>
                <a:ea typeface="Arial"/>
              </a:rPr>
              <a:t>de 3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890600" y="2519280"/>
            <a:ext cx="40388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ff"/>
                </a:solidFill>
                <a:latin typeface="Arial"/>
                <a:ea typeface="Arial"/>
              </a:rPr>
              <a:t>La différence de 80 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ff"/>
                </a:solidFill>
                <a:latin typeface="Arial"/>
                <a:ea typeface="Arial"/>
              </a:rPr>
              <a:t>de 2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onnecteur droit 14"/>
          <p:cNvSpPr/>
          <p:nvPr/>
        </p:nvSpPr>
        <p:spPr>
          <a:xfrm>
            <a:off x="4571280" y="1417680"/>
            <a:ext cx="4680" cy="522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5840" y="2519280"/>
            <a:ext cx="4038480" cy="20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0000"/>
                </a:solidFill>
                <a:latin typeface="Arial"/>
                <a:ea typeface="Arial"/>
              </a:rPr>
              <a:t>La somme de 13 et de 2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890600" y="2519280"/>
            <a:ext cx="40388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ff"/>
                </a:solidFill>
                <a:latin typeface="Arial"/>
                <a:ea typeface="Arial"/>
              </a:rPr>
              <a:t>La somme de 25 et de 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onnecteur droit 14"/>
          <p:cNvSpPr/>
          <p:nvPr/>
        </p:nvSpPr>
        <p:spPr>
          <a:xfrm>
            <a:off x="4571280" y="1417680"/>
            <a:ext cx="4680" cy="522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23:26Z</dcterms:created>
  <dc:creator>Famille Ravet</dc:creator>
  <dc:description/>
  <dc:language>en-US</dc:language>
  <cp:lastModifiedBy>Marionseg</cp:lastModifiedBy>
  <dcterms:modified xsi:type="dcterms:W3CDTF">2010-01-22T17:42:48Z</dcterms:modified>
  <cp:revision>21</cp:revision>
  <dc:subject/>
  <dc:title>Vocabulaire et calcul mental</dc:title>
</cp:coreProperties>
</file>