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B703-1CC1-460C-B2FD-F1977A7698C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D811-A58D-406C-BD3B-963CD06DEE8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A18B-F9DD-417E-89FD-1A28805614C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D0B9-E20F-45DA-9318-4EC4BD00841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0A60-23A7-4562-A13B-623057944AA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6426-091F-43FA-B4F1-C841715ECD5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998A-8FFA-4827-9CEC-8BE398985C1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E173-CCDE-4233-A249-F1819F4BBA7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E795-37DF-4176-8E46-5BB33D296D4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3D89-3D42-4385-8EF4-4B673B1A22F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2B91-E512-4B74-9E20-2319BA37E9E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D353-FF73-4B28-A226-F19D508640D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35EB-6823-4159-B344-7B6A207B9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5450-7916-405A-BC5F-FEB37F5F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FA04-D7FC-4499-91C7-380FF44C7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0110-FA94-4486-8EE2-D39F2328E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8ADB-80D1-472D-9816-7650C325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2905-BF1F-42A8-A922-FB63C74B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80CD-4300-4A1F-84F3-B875C5D6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64DC-0B39-47FE-A6CC-3B448345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53FE-697E-4E9C-854E-2B6FA8F7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5EB0-4C29-40A2-BBDA-925FD96A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7E2B-6E61-46BD-A53A-A385FDE1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A046-4ECE-436F-B608-71138575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5579-7511-4666-8C26-84A8E670A6E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BFA6-D396-4EFA-8F85-6D1F845A22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6017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0000"/>
                </a:solidFill>
                <a:latin typeface="Calibri"/>
              </a:rPr>
              <a:t>MULTIPLICATION ET DIVISION PAR 10, …</a:t>
            </a:r>
            <a:br>
              <a:rPr sz="5400"/>
            </a:br>
            <a:br>
              <a:rPr sz="54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SÉRIE N°9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1562040" y="2109960"/>
                <a:ext cx="6083280" cy="14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,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446040" y="2158920"/>
                <a:ext cx="8313840" cy="15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1407960" y="2158920"/>
                <a:ext cx="63882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5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181080" y="2158920"/>
                <a:ext cx="8820000" cy="13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3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840" y="2601720"/>
            <a:ext cx="8643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MULTIPLICATION ET DIVISION PAR 10 ; 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re 1"/>
          <p:cNvSpPr/>
          <p:nvPr/>
        </p:nvSpPr>
        <p:spPr>
          <a:xfrm>
            <a:off x="0" y="26938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0000"/>
                </a:solidFill>
                <a:latin typeface="Arial"/>
              </a:rPr>
              <a:t>Écrire le nombre manquant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4"/>
              <p:cNvSpPr txBox="1"/>
              <p:nvPr/>
            </p:nvSpPr>
            <p:spPr>
              <a:xfrm>
                <a:off x="1865160" y="2158920"/>
                <a:ext cx="54756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,7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4"/>
              <p:cNvSpPr txBox="1"/>
              <p:nvPr/>
            </p:nvSpPr>
            <p:spPr>
              <a:xfrm>
                <a:off x="1257480" y="2158920"/>
                <a:ext cx="6690960" cy="15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÷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=</m:t>
                    </m:r>
                    <m:r>
                      <m:t xml:space="preserve">0,9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1662120" y="2158920"/>
                <a:ext cx="588024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4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1560600" y="2158920"/>
                <a:ext cx="608328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,2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1257480" y="2158920"/>
                <a:ext cx="669096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62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851040" y="2158920"/>
                <a:ext cx="7502400" cy="15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16:23:38Z</dcterms:created>
  <dc:creator>Claudine Bertrand-Gorge</dc:creator>
  <dc:description/>
  <dc:language>en-US</dc:language>
  <cp:lastModifiedBy>Marionseg</cp:lastModifiedBy>
  <dcterms:modified xsi:type="dcterms:W3CDTF">2010-01-22T16:32:50Z</dcterms:modified>
  <cp:revision>25</cp:revision>
  <dc:subject/>
  <dc:title>Écrire le résultat</dc:title>
</cp:coreProperties>
</file>