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43CA-F532-4860-841B-4176E40E6D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1ED5-E1B0-4A01-A93D-FEB9D75FB3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6083-5C7B-4571-8797-9B756544F3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39F9-F726-451E-AF0A-12B73AE277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BFF7-9C9A-4A1F-9EE2-57E9504D5D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16EB-9119-4A34-9560-AC0EA8F783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234A-F229-46ED-A7BF-A56F09020F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D79-0D3C-4383-9FB2-A3EA08F9CD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ACDD-C695-4F21-BFF0-87382719AE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0B4B-3A10-43AD-9C39-6B6E4F4B5F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359-F27D-444A-8E8E-4366E5A420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E9DE-07E0-4B54-97B8-110A339245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D4A1-FC0C-47FF-8A02-C9F4A95B70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72CB-5494-4497-B7B8-4D8D728FF7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FF7-552C-40FA-9CCE-A19DBFC1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2AD-BEAD-4875-8C47-B28991CB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6C1-9E75-4D0C-9603-95235C45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37E1-0A53-4407-B835-1DA9339B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A17-290F-44A8-8C6A-FC8E5599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073-B89F-4B63-9EBE-D18B61E0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13B-7256-4982-B273-1E9EAC1F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9948-C6D3-4612-AEFE-1457924F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3ED-1CBF-4968-B220-202EC675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DE09-DDFA-44A0-9BF8-6DCDFA0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C61F-BA4F-4647-809C-0C56B89E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D32-F27B-4F01-9ACC-1EAF387A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31B0-F687-418C-9C01-FB3CB16B2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AUTOUR DE PYTHAGORE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SÉRI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880" y="-164880"/>
            <a:ext cx="129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5638680" y="3200400"/>
                <a:ext cx="3027600" cy="26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Picture 6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762120" y="1219320"/>
            <a:ext cx="4889520" cy="359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2880" y="-164880"/>
            <a:ext cx="129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5562720" y="3352680"/>
                <a:ext cx="306216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6" name="Picture 7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609480" y="1219320"/>
            <a:ext cx="4889520" cy="359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520" y="-164880"/>
            <a:ext cx="155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5638680" y="3276720"/>
                <a:ext cx="3016440" cy="24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0" name="Picture 6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685800" y="1219320"/>
            <a:ext cx="4889520" cy="359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288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Déterminer si le triangle ABC est rectangle ou non. Si oui, préciser en quel sommet</a:t>
            </a:r>
            <a:r>
              <a:rPr b="1" i="1" lang="fr-FR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880" y="-164880"/>
            <a:ext cx="129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6248520" y="2971800"/>
                <a:ext cx="222084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3" name="Picture 9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762120" y="1143000"/>
            <a:ext cx="4889520" cy="359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880" y="-164880"/>
            <a:ext cx="129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6172200" y="2971800"/>
                <a:ext cx="2454120" cy="22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7" name="Picture 6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838080" y="1219320"/>
            <a:ext cx="4889520" cy="359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880" y="-164880"/>
            <a:ext cx="1425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 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5943600" y="3048120"/>
                <a:ext cx="2781360" cy="24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1" name="Picture 6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762120" y="1295280"/>
            <a:ext cx="4889520" cy="359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2880" y="-164880"/>
            <a:ext cx="129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5715000" y="3048120"/>
                <a:ext cx="30193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5" name="Picture 6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762120" y="1447920"/>
            <a:ext cx="4889520" cy="3593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880" y="-164880"/>
            <a:ext cx="129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6019920" y="3352680"/>
                <a:ext cx="2454120" cy="221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9" name="Picture 6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762120" y="1295280"/>
            <a:ext cx="4889520" cy="359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880" y="-164880"/>
            <a:ext cx="129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5638680" y="3124080"/>
                <a:ext cx="306576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3" name="Picture 6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838080" y="1371600"/>
            <a:ext cx="4889520" cy="359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880" y="-164880"/>
            <a:ext cx="129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 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5562720" y="3200400"/>
                <a:ext cx="3019320" cy="25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7" name="Picture 6" descr="_x000e_Triangle 3.pdf                                                 004A2F42_x000b_Disque imac                    BFCC89D1:"/>
          <p:cNvPicPr/>
          <p:nvPr/>
        </p:nvPicPr>
        <p:blipFill>
          <a:blip r:embed="rId1"/>
          <a:stretch/>
        </p:blipFill>
        <p:spPr>
          <a:xfrm>
            <a:off x="762120" y="1295280"/>
            <a:ext cx="4889520" cy="359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9:42:20Z</dcterms:created>
  <dc:creator>ms</dc:creator>
  <dc:description/>
  <dc:language>en-US</dc:language>
  <cp:lastModifiedBy>Marionseg</cp:lastModifiedBy>
  <dcterms:modified xsi:type="dcterms:W3CDTF">2010-05-30T07:50:21Z</dcterms:modified>
  <cp:revision>30</cp:revision>
  <dc:subject/>
  <dc:title>Diapositive 1</dc:title>
</cp:coreProperties>
</file>