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58EB-3FE4-430D-9114-81CBD28CF5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9B69-197D-4F71-9BA8-4338E27B1B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F0C1-F833-42F4-AE47-30EDDBAF12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74D8-46A0-4438-B387-6054FC5BCC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29C5-83CC-431E-8B0B-AE4E7D6869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CA4F-D6FD-4F62-AF7B-53CC7BC408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CAC7-0C53-463D-9540-A14AB5F3DC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54EB-AA56-444D-8D3B-D908C1DF69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A13F-6062-4196-B7CD-02378E5F21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3811-B51C-4BCD-A253-E932696687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26B5-9977-4B22-AF9B-9EBD68376F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0A5D-F28F-48D7-8872-97751C6F5C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8A13-920D-4A61-9214-FFF461F3C4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41FE-9BC9-4E9F-ABDB-21C80E46FF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265-8343-4AD4-AD7F-93B8FFE9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480-0279-4E79-8F58-EFD2E36E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893-D91A-4087-9C48-35430E4C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2B97-A96B-479E-B667-B48D5FD6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572B-FA9B-4C41-BB3B-C09435FB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516A-5A7E-4AAE-A9C8-91A9BBCC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0496-3F75-4D31-AE31-4BCDB620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4947-F11A-433A-9671-AA74591C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8CCF-6F7B-422F-B6F6-C59CE13B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D1DC-7CCC-43F7-BA33-369681E0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F276-CC50-4B8E-A103-2FAD27B6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785-9F5A-4BA2-B87D-FC1EC424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2EB0-6F6B-4444-A463-93777655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496A-2F5B-4120-977B-74FC8AFD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E58DE-A9FA-44BA-AB97-752410F0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3CBD3-74CE-4DF0-87F8-6C4814C1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42FF-8411-4B15-BB97-3F90EAE4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ABB9-B359-4594-9539-5C2F3F36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AB5-D89F-4C2C-A287-C746FDBE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315-28C0-4333-8A9B-4DB6B9E5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E89B-3D16-4AC5-9040-BBBE2F94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A79-D587-41B6-B625-C44E5DC1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5738-EB48-4F3A-AB5A-9B45A225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2AE-367B-4601-98AA-A3ACFE38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E412-44D8-4EB3-B51F-6092FEC00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671E-E2EF-4AA6-8E87-7ACDA73BF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IDENTITÉS REMARQUABLES (2)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s n°1 et 1bi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928440" y="1571400"/>
            <a:ext cx="7358040" cy="192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28440" y="4214880"/>
            <a:ext cx="7358040" cy="192888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2203560" y="1798560"/>
                <a:ext cx="464328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3"/>
              <p:cNvSpPr txBox="1"/>
              <p:nvPr/>
            </p:nvSpPr>
            <p:spPr>
              <a:xfrm>
                <a:off x="2798640" y="4497480"/>
                <a:ext cx="380844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928440" y="1571400"/>
            <a:ext cx="7358040" cy="192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28440" y="4214880"/>
            <a:ext cx="7358040" cy="192888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"/>
              <p:cNvSpPr txBox="1"/>
              <p:nvPr/>
            </p:nvSpPr>
            <p:spPr>
              <a:xfrm>
                <a:off x="3024360" y="1798560"/>
                <a:ext cx="300024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3384720" y="4497480"/>
                <a:ext cx="263664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928440" y="1571400"/>
            <a:ext cx="7358040" cy="192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28440" y="4214880"/>
            <a:ext cx="7358040" cy="192888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2"/>
              <p:cNvSpPr txBox="1"/>
              <p:nvPr/>
            </p:nvSpPr>
            <p:spPr>
              <a:xfrm>
                <a:off x="2739960" y="1798560"/>
                <a:ext cx="357192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3"/>
              <p:cNvSpPr txBox="1"/>
              <p:nvPr/>
            </p:nvSpPr>
            <p:spPr>
              <a:xfrm>
                <a:off x="3238560" y="4497480"/>
                <a:ext cx="292896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201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0000"/>
                </a:solidFill>
                <a:latin typeface="Calibri"/>
              </a:rPr>
              <a:t>Factoriser à l’aide des identités remarquables </a:t>
            </a:r>
            <a:br>
              <a:rPr sz="6000"/>
            </a:br>
            <a:r>
              <a:rPr b="0" i="1" lang="fr-FR" sz="6000" spc="-1" strike="noStrike" u="sng">
                <a:solidFill>
                  <a:srgbClr val="000000"/>
                </a:solidFill>
                <a:uFillTx/>
                <a:latin typeface="Calibri"/>
              </a:rPr>
              <a:t>si c’est possible</a:t>
            </a:r>
            <a:r>
              <a:rPr b="0" i="1" lang="fr-FR" sz="60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28440" y="1571400"/>
            <a:ext cx="7358040" cy="192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28440" y="4214880"/>
            <a:ext cx="7358040" cy="192888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1"/>
              <p:cNvSpPr txBox="1"/>
              <p:nvPr/>
            </p:nvSpPr>
            <p:spPr>
              <a:xfrm>
                <a:off x="3238560" y="1798560"/>
                <a:ext cx="257184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3"/>
              <p:cNvSpPr txBox="1"/>
              <p:nvPr/>
            </p:nvSpPr>
            <p:spPr>
              <a:xfrm>
                <a:off x="3238560" y="4497480"/>
                <a:ext cx="292896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28440" y="1571400"/>
            <a:ext cx="7358040" cy="192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28440" y="4214880"/>
            <a:ext cx="7358040" cy="192888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2738520" y="1798560"/>
                <a:ext cx="357192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"/>
              <p:cNvSpPr txBox="1"/>
              <p:nvPr/>
            </p:nvSpPr>
            <p:spPr>
              <a:xfrm>
                <a:off x="2909880" y="4497480"/>
                <a:ext cx="358776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28440" y="1571400"/>
            <a:ext cx="7358040" cy="192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28440" y="4214880"/>
            <a:ext cx="7358040" cy="192888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2"/>
              <p:cNvSpPr txBox="1"/>
              <p:nvPr/>
            </p:nvSpPr>
            <p:spPr>
              <a:xfrm>
                <a:off x="2131920" y="1798560"/>
                <a:ext cx="47865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2470320" y="4497480"/>
                <a:ext cx="446688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28440" y="1571400"/>
            <a:ext cx="7358040" cy="192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28440" y="4214880"/>
            <a:ext cx="7358040" cy="192888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2"/>
              <p:cNvSpPr txBox="1"/>
              <p:nvPr/>
            </p:nvSpPr>
            <p:spPr>
              <a:xfrm>
                <a:off x="3524400" y="1798560"/>
                <a:ext cx="20001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3"/>
              <p:cNvSpPr txBox="1"/>
              <p:nvPr/>
            </p:nvSpPr>
            <p:spPr>
              <a:xfrm>
                <a:off x="3129120" y="4497480"/>
                <a:ext cx="314784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28440" y="1571400"/>
            <a:ext cx="7358040" cy="192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28440" y="4214880"/>
            <a:ext cx="7358040" cy="192888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2560680" y="1798560"/>
                <a:ext cx="392904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3"/>
              <p:cNvSpPr txBox="1"/>
              <p:nvPr/>
            </p:nvSpPr>
            <p:spPr>
              <a:xfrm>
                <a:off x="2652840" y="4497480"/>
                <a:ext cx="41004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928440" y="1571400"/>
            <a:ext cx="7358040" cy="192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28440" y="4214880"/>
            <a:ext cx="7358040" cy="192888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2"/>
              <p:cNvSpPr txBox="1"/>
              <p:nvPr/>
            </p:nvSpPr>
            <p:spPr>
              <a:xfrm>
                <a:off x="2952720" y="1798560"/>
                <a:ext cx="314316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1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2543040" y="4497480"/>
                <a:ext cx="431964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28440" y="1571400"/>
            <a:ext cx="7358040" cy="19285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28440" y="4214880"/>
            <a:ext cx="7358040" cy="1928880"/>
          </a:xfrm>
          <a:prstGeom prst="rect">
            <a:avLst/>
          </a:prstGeom>
          <a:noFill/>
          <a:ln w="7632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2523960" y="1798560"/>
                <a:ext cx="400068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3"/>
              <p:cNvSpPr txBox="1"/>
              <p:nvPr/>
            </p:nvSpPr>
            <p:spPr>
              <a:xfrm>
                <a:off x="2873520" y="4497480"/>
                <a:ext cx="366048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9:16:23Z</dcterms:created>
  <dc:creator>ms</dc:creator>
  <dc:description/>
  <dc:language>en-US</dc:language>
  <cp:lastModifiedBy>Marionseg</cp:lastModifiedBy>
  <dcterms:modified xsi:type="dcterms:W3CDTF">2010-01-17T20:11:11Z</dcterms:modified>
  <cp:revision>6</cp:revision>
  <dc:subject/>
  <dc:title>Identités remarquables (2) Séries n°1 et 1bis</dc:title>
</cp:coreProperties>
</file>