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E418-E1B0-4A5C-8428-8B18017FBE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012D-B61D-4050-BEDF-BCC8F6500B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FA43-6E6F-463D-BE04-C073649813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21D8-17EE-4FE3-BC69-3760CEF628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4B0D-9DD6-4939-8AC4-6E3760B10D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41DE-FC41-4607-9CD0-D6487DDBBB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30D-D4A7-4CB1-9E2A-8DD1369E61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7186-FAA0-405D-9C62-A57E35D2AA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4722-50ED-466E-B1DF-FB99ADFB6D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30FA-8F68-4561-BE46-36C286A606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DD24-171D-4998-BC5D-6AF965A36B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3725-42B5-4D6D-9377-4C27460482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F163-73C5-4F55-9683-57E48E0115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AC0F-8CDE-4A22-A709-C6C2FB30DC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65D-1864-4D93-89F6-C67B773D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08D-5737-4F8A-8523-CB5DED49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ADA-C72A-4677-821D-17F850E5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946-365D-422C-A911-D7E20C9F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C24-E8B8-4F2E-81D0-1B02A3E2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4262-A9AA-4147-AA03-BAC66294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95E5-7A53-4B9D-97D5-42BB50D6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ED68-FBB6-47BD-A9C8-0A0E6F25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2AA-DBBD-4FA4-B14D-17148ECF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E42D-CBC5-4FAC-94E8-7526F417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00BB-2AD5-4B48-AB0A-D347006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08A-0A9F-4275-ACB2-F5CB6083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DE34-66FF-48B2-B8D7-D91AEA96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30A-71F0-4750-8D24-D6A6DAE3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4698-DDE2-43DD-9621-34D710F1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DE1E-F9D1-4AAB-AD44-72520E13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7781-0D7E-4886-AA3C-FAC1A228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47D-4D1B-48DA-93EE-A77DD668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C4E-6E86-4147-8874-2E1F5E42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E40-7145-473D-A263-84D9050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8C4-E27C-43B0-9FBB-E6169940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FA7-381C-4689-9D94-9BE77E59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718-81B8-4F05-AD7B-E976A16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F91-7F43-4495-8073-98B45DD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0620-1325-4500-B85B-6FAA289E1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64B-8A58-4D31-9CF4-918E7E184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3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755640" y="3238560"/>
                <a:ext cx="77882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"/>
              <p:cNvSpPr txBox="1"/>
              <p:nvPr/>
            </p:nvSpPr>
            <p:spPr>
              <a:xfrm>
                <a:off x="2268360" y="3238560"/>
                <a:ext cx="50133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179280" y="3238560"/>
                <a:ext cx="8697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÷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Pour chaque expression, dire s’il s’agit d’une somme, d’une différence, d’un produit ou d’un quotie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2987640" y="3238560"/>
                <a:ext cx="3764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8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187280" y="3238560"/>
                <a:ext cx="712980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,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2916360" y="3238560"/>
                <a:ext cx="31813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3059280" y="3238560"/>
                <a:ext cx="33289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484360" y="3238560"/>
                <a:ext cx="4254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95640" y="3238560"/>
                <a:ext cx="493056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1258920" y="3238560"/>
                <a:ext cx="6561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28:07Z</dcterms:created>
  <dc:creator>ms</dc:creator>
  <dc:description/>
  <dc:language>en-US</dc:language>
  <cp:lastModifiedBy>Marionseg</cp:lastModifiedBy>
  <dcterms:modified xsi:type="dcterms:W3CDTF">2010-01-22T18:02:28Z</dcterms:modified>
  <cp:revision>12</cp:revision>
  <dc:subject/>
  <dc:title>S’agit-il d’une somme ? D’une différence ? D’un produit ? D’un quotient ?</dc:title>
</cp:coreProperties>
</file>