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1559-A2FA-44E1-8751-E6C8D892E9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747F-EEB7-4517-AAF1-6162848A06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405A-1364-4170-A721-3D4617AE4A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444F-49B9-491F-AB79-8CFA9BEB05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C2DF-C21B-40B9-9EF0-656324999B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52D0-4914-4549-AED9-D2F8330AE2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9E1A-52A8-40FA-B5CD-88742D0ADB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3A9B-FD8C-4FAC-A267-624110A844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46F6-AA4A-4949-B094-86C0B96112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5EB9-A28D-45D1-9D93-1DCAB2E204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67B5-A5E4-4216-8CD0-6F029AB851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71DB-7982-413A-B715-523AC10EB9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EF19-71E8-468B-9ABE-4611419AE0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44DD-6A1C-4965-8B4D-1460828AB3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45D6-7F3A-4410-81DF-C92C10176B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D49C-570D-42D1-86E6-775EB2B067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CBCA-1B8D-4E3E-A1F8-078C0C92EE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8D9D-FA6A-435B-BC1F-E153508648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290D-BEA4-483B-98DD-A040433890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F1A5-1C11-4796-B77E-2A3C730E0C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425A-46B4-4E6D-B97E-F477CF8AF1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F5CA-2567-4C50-91B6-F07EF395DA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2586-5368-418A-BC50-7B983CE214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7BE5-B170-4F0E-A1CF-84509197CB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D40B-5161-413A-BC65-C9DE229D04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68C4-F8D1-4A6D-A137-7A4F8D0482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5E41-8B6D-41C2-8B6A-69DC86D8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FF7-454D-4C6D-B2FE-9BE938CB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DDD6-2AE6-434D-8F45-83644299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9FE-3056-492C-8C9A-1D3C9A5C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6B7D-E69E-48FD-A07B-F1F136BA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74D6-2D96-4CF8-BE4F-6B587ED2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0BF-C5FA-4CBC-ABE0-9DD8FFFB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1980-7E15-4E05-B493-32903F8B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531F-2BE4-4A1C-B006-1950F345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E79-51F0-4364-A89B-6D673279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677-1B2D-4B73-B4E7-3E557EEA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E102-CD1F-413A-8DB2-9016D40F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AFF3-A3CA-445B-A7C9-9E991E96C27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oneTexte 3"/>
          <p:cNvSpPr/>
          <p:nvPr/>
        </p:nvSpPr>
        <p:spPr>
          <a:xfrm>
            <a:off x="714240" y="2071800"/>
            <a:ext cx="771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PROBABILITÉ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SÉRIE N°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21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28760" y="2518920"/>
            <a:ext cx="81439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choisit une carte au hasard dans un jeu de 32 car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e tirer un vale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1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28760" y="2518920"/>
            <a:ext cx="81439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choisit une carte au hasard dans un jeu de 32 car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e tirer un piqu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21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28760" y="2518920"/>
            <a:ext cx="81439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choisit une carte au hasard dans un jeu de 32 car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e tirer une carte de couleur noir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21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28760" y="2518920"/>
            <a:ext cx="81439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choisit une carte au hasard dans un jeu de 32 car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e tirer un pique ou un vale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712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0040" y="1428840"/>
            <a:ext cx="82152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lance un dé à 6 faces non pip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le chiffre « 2 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ensées 7"/>
          <p:cNvSpPr/>
          <p:nvPr/>
        </p:nvSpPr>
        <p:spPr>
          <a:xfrm>
            <a:off x="571680" y="2714760"/>
            <a:ext cx="6500520" cy="2500200"/>
          </a:xfrm>
          <a:prstGeom prst="cloudCallout">
            <a:avLst>
              <a:gd name="adj1" fmla="val -22967"/>
              <a:gd name="adj2" fmla="val 78379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6"/>
          <p:cNvSpPr/>
          <p:nvPr/>
        </p:nvSpPr>
        <p:spPr>
          <a:xfrm>
            <a:off x="1285920" y="3143160"/>
            <a:ext cx="66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ur un dé à 6 faces, il n’y a qu’u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eul chiffre « 2 » :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1 chance sur 6 pour l’obtenir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oit une probabilité de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Rectangle à coins arrondis 11"/>
          <p:cNvGrpSpPr/>
          <p:nvPr/>
        </p:nvGrpSpPr>
        <p:grpSpPr>
          <a:xfrm>
            <a:off x="6980400" y="4913280"/>
            <a:ext cx="2004840" cy="1835280"/>
            <a:chOff x="6980400" y="4913280"/>
            <a:chExt cx="2004840" cy="1835280"/>
          </a:xfrm>
        </p:grpSpPr>
        <p:pic>
          <p:nvPicPr>
            <p:cNvPr id="85" name="Rectangle à coins arrondis 11" descr=""/>
            <p:cNvPicPr/>
            <p:nvPr/>
          </p:nvPicPr>
          <p:blipFill>
            <a:blip r:embed="rId1"/>
            <a:stretch/>
          </p:blipFill>
          <p:spPr>
            <a:xfrm>
              <a:off x="6980400" y="4913280"/>
              <a:ext cx="200484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7039080" y="4967280"/>
              <a:ext cx="7095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7172280" y="4857840"/>
                <a:ext cx="6094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ectangle à coins arrondis 10"/>
          <p:cNvGrpSpPr/>
          <p:nvPr/>
        </p:nvGrpSpPr>
        <p:grpSpPr>
          <a:xfrm>
            <a:off x="7765920" y="4767120"/>
            <a:ext cx="1371600" cy="1468440"/>
            <a:chOff x="7765920" y="4767120"/>
            <a:chExt cx="1371600" cy="1468440"/>
          </a:xfrm>
        </p:grpSpPr>
        <p:pic>
          <p:nvPicPr>
            <p:cNvPr id="89" name="Rectangle à coins arrondis 10" descr=""/>
            <p:cNvPicPr/>
            <p:nvPr/>
          </p:nvPicPr>
          <p:blipFill>
            <a:blip r:embed="rId1"/>
            <a:stretch/>
          </p:blipFill>
          <p:spPr>
            <a:xfrm>
              <a:off x="7765920" y="4767120"/>
              <a:ext cx="137160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7824960" y="4824360"/>
              <a:ext cx="7095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00040" y="1428840"/>
            <a:ext cx="82152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lance un dé à 6 faces non pip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un chiffre pai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2"/>
              <p:cNvSpPr txBox="1"/>
              <p:nvPr/>
            </p:nvSpPr>
            <p:spPr>
              <a:xfrm>
                <a:off x="6326280" y="4714920"/>
                <a:ext cx="14572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Pensées 7"/>
          <p:cNvSpPr/>
          <p:nvPr/>
        </p:nvSpPr>
        <p:spPr>
          <a:xfrm>
            <a:off x="571680" y="2714760"/>
            <a:ext cx="6500520" cy="2500200"/>
          </a:xfrm>
          <a:prstGeom prst="cloudCallout">
            <a:avLst>
              <a:gd name="adj1" fmla="val -22967"/>
              <a:gd name="adj2" fmla="val 78379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6"/>
          <p:cNvSpPr/>
          <p:nvPr/>
        </p:nvSpPr>
        <p:spPr>
          <a:xfrm>
            <a:off x="1285920" y="3143160"/>
            <a:ext cx="6643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ur un dé, il y a 3 chiffres pairs :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3 chances sur 6 d’obtenir « un pair »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oit une probabilité de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3"/>
          <p:cNvSpPr/>
          <p:nvPr/>
        </p:nvSpPr>
        <p:spPr>
          <a:xfrm flipV="1">
            <a:off x="6786720" y="4928760"/>
            <a:ext cx="23940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 flipV="1">
            <a:off x="6786720" y="5714640"/>
            <a:ext cx="23940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7694640" y="4714920"/>
                <a:ext cx="9730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5"/>
              <p:cNvSpPr txBox="1"/>
              <p:nvPr/>
            </p:nvSpPr>
            <p:spPr>
              <a:xfrm>
                <a:off x="5857920" y="4714920"/>
                <a:ext cx="6080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Rectangle à coins arrondis 10"/>
          <p:cNvGrpSpPr/>
          <p:nvPr/>
        </p:nvGrpSpPr>
        <p:grpSpPr>
          <a:xfrm>
            <a:off x="7765920" y="4767120"/>
            <a:ext cx="1371600" cy="1468440"/>
            <a:chOff x="7765920" y="4767120"/>
            <a:chExt cx="1371600" cy="1468440"/>
          </a:xfrm>
        </p:grpSpPr>
        <p:pic>
          <p:nvPicPr>
            <p:cNvPr id="101" name="Rectangle à coins arrondis 10" descr=""/>
            <p:cNvPicPr/>
            <p:nvPr/>
          </p:nvPicPr>
          <p:blipFill>
            <a:blip r:embed="rId1"/>
            <a:stretch/>
          </p:blipFill>
          <p:spPr>
            <a:xfrm>
              <a:off x="7765920" y="4767120"/>
              <a:ext cx="137160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824960" y="4824360"/>
              <a:ext cx="7095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00040" y="1428840"/>
            <a:ext cx="82152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lance un dé à 6 faces non pip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un chiffre multiple de  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6326280" y="4714920"/>
                <a:ext cx="14572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Pensées 7"/>
          <p:cNvSpPr/>
          <p:nvPr/>
        </p:nvSpPr>
        <p:spPr>
          <a:xfrm>
            <a:off x="571680" y="2714760"/>
            <a:ext cx="6500520" cy="2571480"/>
          </a:xfrm>
          <a:prstGeom prst="cloudCallout">
            <a:avLst>
              <a:gd name="adj1" fmla="val -22967"/>
              <a:gd name="adj2" fmla="val 78379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6"/>
          <p:cNvSpPr/>
          <p:nvPr/>
        </p:nvSpPr>
        <p:spPr>
          <a:xfrm>
            <a:off x="1285920" y="3143160"/>
            <a:ext cx="66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ur un dé, il y a 2 chiffres multipl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de 3 (le « 3 » et le « 6 »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2 chances sur 6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oit une probabilité de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3"/>
          <p:cNvSpPr/>
          <p:nvPr/>
        </p:nvSpPr>
        <p:spPr>
          <a:xfrm flipV="1">
            <a:off x="6786720" y="4928760"/>
            <a:ext cx="23940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 flipV="1">
            <a:off x="6786720" y="5714640"/>
            <a:ext cx="23940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7713720" y="4714920"/>
                <a:ext cx="9334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5"/>
              <p:cNvSpPr txBox="1"/>
              <p:nvPr/>
            </p:nvSpPr>
            <p:spPr>
              <a:xfrm>
                <a:off x="5857920" y="4714920"/>
                <a:ext cx="6080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à coins arrondis 10"/>
          <p:cNvGrpSpPr/>
          <p:nvPr/>
        </p:nvGrpSpPr>
        <p:grpSpPr>
          <a:xfrm>
            <a:off x="7765920" y="4767120"/>
            <a:ext cx="1371600" cy="1468440"/>
            <a:chOff x="7765920" y="4767120"/>
            <a:chExt cx="1371600" cy="1468440"/>
          </a:xfrm>
        </p:grpSpPr>
        <p:pic>
          <p:nvPicPr>
            <p:cNvPr id="113" name="Rectangle à coins arrondis 10" descr=""/>
            <p:cNvPicPr/>
            <p:nvPr/>
          </p:nvPicPr>
          <p:blipFill>
            <a:blip r:embed="rId1"/>
            <a:stretch/>
          </p:blipFill>
          <p:spPr>
            <a:xfrm>
              <a:off x="7765920" y="4767120"/>
              <a:ext cx="137160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824960" y="4824360"/>
              <a:ext cx="7095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00040" y="1428840"/>
            <a:ext cx="82152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lance un dé à 6 faces non pip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un chiffre inférieur ou égal à 4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"/>
              <p:cNvSpPr txBox="1"/>
              <p:nvPr/>
            </p:nvSpPr>
            <p:spPr>
              <a:xfrm>
                <a:off x="6326280" y="4714920"/>
                <a:ext cx="14572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Pensées 7"/>
          <p:cNvSpPr/>
          <p:nvPr/>
        </p:nvSpPr>
        <p:spPr>
          <a:xfrm>
            <a:off x="571680" y="2786040"/>
            <a:ext cx="7572240" cy="2428920"/>
          </a:xfrm>
          <a:prstGeom prst="cloudCallout">
            <a:avLst>
              <a:gd name="adj1" fmla="val -22967"/>
              <a:gd name="adj2" fmla="val 78379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6"/>
          <p:cNvSpPr/>
          <p:nvPr/>
        </p:nvSpPr>
        <p:spPr>
          <a:xfrm>
            <a:off x="1285920" y="3143160"/>
            <a:ext cx="700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ur un dé, il y a 4 chiffres inférieu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ou égaux à 4 (« 1 », « 2 », « 3 » et « 4 »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4 chances sur 6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oit une probabilité de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3"/>
          <p:cNvSpPr/>
          <p:nvPr/>
        </p:nvSpPr>
        <p:spPr>
          <a:xfrm flipV="1">
            <a:off x="6786720" y="4928760"/>
            <a:ext cx="23940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3"/>
          <p:cNvSpPr/>
          <p:nvPr/>
        </p:nvSpPr>
        <p:spPr>
          <a:xfrm flipV="1">
            <a:off x="6786720" y="5714640"/>
            <a:ext cx="23940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7740720" y="4714920"/>
                <a:ext cx="9745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5"/>
              <p:cNvSpPr txBox="1"/>
              <p:nvPr/>
            </p:nvSpPr>
            <p:spPr>
              <a:xfrm>
                <a:off x="5857920" y="4714920"/>
                <a:ext cx="6080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00040" y="1428840"/>
            <a:ext cx="82152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lance un dé à 6 faces non pip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un chiffre supérieur strictement à 6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ensées 7"/>
          <p:cNvSpPr/>
          <p:nvPr/>
        </p:nvSpPr>
        <p:spPr>
          <a:xfrm>
            <a:off x="571680" y="2786040"/>
            <a:ext cx="6715080" cy="2214720"/>
          </a:xfrm>
          <a:prstGeom prst="cloudCallout">
            <a:avLst>
              <a:gd name="adj1" fmla="val -22967"/>
              <a:gd name="adj2" fmla="val 78379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6"/>
          <p:cNvSpPr/>
          <p:nvPr/>
        </p:nvSpPr>
        <p:spPr>
          <a:xfrm>
            <a:off x="1285920" y="3143160"/>
            <a:ext cx="6858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ur un dé, il n’y a aucun chiff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upérieur strictement à 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oit une probabilité de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Rectangle à coins arrondis 11"/>
          <p:cNvGrpSpPr/>
          <p:nvPr/>
        </p:nvGrpSpPr>
        <p:grpSpPr>
          <a:xfrm>
            <a:off x="5553000" y="5126040"/>
            <a:ext cx="3603600" cy="903240"/>
            <a:chOff x="5553000" y="5126040"/>
            <a:chExt cx="3603600" cy="903240"/>
          </a:xfrm>
        </p:grpSpPr>
        <p:pic>
          <p:nvPicPr>
            <p:cNvPr id="129" name="Rectangle à coins arrondis 11" descr=""/>
            <p:cNvPicPr/>
            <p:nvPr/>
          </p:nvPicPr>
          <p:blipFill>
            <a:blip r:embed="rId1"/>
            <a:stretch/>
          </p:blipFill>
          <p:spPr>
            <a:xfrm>
              <a:off x="5553000" y="5126040"/>
              <a:ext cx="36036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610240" y="5181480"/>
              <a:ext cx="3067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ZoneTexte 12"/>
          <p:cNvSpPr/>
          <p:nvPr/>
        </p:nvSpPr>
        <p:spPr>
          <a:xfrm>
            <a:off x="5715000" y="50720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3"/>
          <p:cNvSpPr/>
          <p:nvPr/>
        </p:nvSpPr>
        <p:spPr>
          <a:xfrm>
            <a:off x="6357960" y="514368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’est l’événement im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600" y="364320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terminer la probabilité pour que chacun des événements suivants soit réalisé.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Le résultat sera donné sous la forme d’une </a:t>
            </a:r>
            <a:r>
              <a:rPr b="1" i="1" lang="fr-FR" sz="4000" spc="-1" strike="noStrike">
                <a:solidFill>
                  <a:srgbClr val="000000"/>
                </a:solidFill>
                <a:latin typeface="Arial"/>
              </a:rPr>
              <a:t>fraction irréductible </a:t>
            </a:r>
            <a:br>
              <a:rPr sz="4000"/>
            </a:b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ou d’un </a:t>
            </a:r>
            <a:r>
              <a:rPr b="1" i="1" lang="fr-FR" sz="4000" spc="-1" strike="noStrike">
                <a:solidFill>
                  <a:srgbClr val="000000"/>
                </a:solidFill>
                <a:latin typeface="Arial"/>
              </a:rPr>
              <a:t>nombre entier</a:t>
            </a: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000"/>
            </a:b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Rectangle à coins arrondis 8"/>
          <p:cNvGrpSpPr/>
          <p:nvPr/>
        </p:nvGrpSpPr>
        <p:grpSpPr>
          <a:xfrm>
            <a:off x="6980400" y="4913280"/>
            <a:ext cx="2004840" cy="1835280"/>
            <a:chOff x="6980400" y="4913280"/>
            <a:chExt cx="2004840" cy="1835280"/>
          </a:xfrm>
        </p:grpSpPr>
        <p:pic>
          <p:nvPicPr>
            <p:cNvPr id="134" name="Rectangle à coins arrondis 8" descr=""/>
            <p:cNvPicPr/>
            <p:nvPr/>
          </p:nvPicPr>
          <p:blipFill>
            <a:blip r:embed="rId1"/>
            <a:stretch/>
          </p:blipFill>
          <p:spPr>
            <a:xfrm>
              <a:off x="6980400" y="4913280"/>
              <a:ext cx="200484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039080" y="4967280"/>
              <a:ext cx="7095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42920" y="1428840"/>
            <a:ext cx="885816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On choisit une carte au hasard dans un jeu de 32 cart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Quelle est la probabilité de tirer le valet de pique 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ensées 7"/>
          <p:cNvSpPr/>
          <p:nvPr/>
        </p:nvSpPr>
        <p:spPr>
          <a:xfrm>
            <a:off x="428760" y="2928960"/>
            <a:ext cx="7215120" cy="2500200"/>
          </a:xfrm>
          <a:prstGeom prst="cloudCallout">
            <a:avLst>
              <a:gd name="adj1" fmla="val -26347"/>
              <a:gd name="adj2" fmla="val 82379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1214280" y="3286080"/>
            <a:ext cx="66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Dans un jeu de 32 cartes, il n’y 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qu’un seul valet de pique :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1 chance sur 32 de l’obtenir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oit une probabilité de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7072200" y="4857840"/>
                <a:ext cx="8114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Rectangle à coins arrondis 10"/>
          <p:cNvGrpSpPr/>
          <p:nvPr/>
        </p:nvGrpSpPr>
        <p:grpSpPr>
          <a:xfrm>
            <a:off x="7765920" y="4767120"/>
            <a:ext cx="1433520" cy="1468440"/>
            <a:chOff x="7765920" y="4767120"/>
            <a:chExt cx="1433520" cy="1468440"/>
          </a:xfrm>
        </p:grpSpPr>
        <p:pic>
          <p:nvPicPr>
            <p:cNvPr id="142" name="Rectangle à coins arrondis 10" descr=""/>
            <p:cNvPicPr/>
            <p:nvPr/>
          </p:nvPicPr>
          <p:blipFill>
            <a:blip r:embed="rId1"/>
            <a:stretch/>
          </p:blipFill>
          <p:spPr>
            <a:xfrm>
              <a:off x="7765920" y="4767120"/>
              <a:ext cx="143352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7824960" y="4824360"/>
              <a:ext cx="7095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ensées 7"/>
          <p:cNvSpPr/>
          <p:nvPr/>
        </p:nvSpPr>
        <p:spPr>
          <a:xfrm>
            <a:off x="428760" y="2571840"/>
            <a:ext cx="6929280" cy="2500200"/>
          </a:xfrm>
          <a:prstGeom prst="cloudCallout">
            <a:avLst>
              <a:gd name="adj1" fmla="val -24847"/>
              <a:gd name="adj2" fmla="val 79208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oneTexte 9"/>
          <p:cNvSpPr/>
          <p:nvPr/>
        </p:nvSpPr>
        <p:spPr>
          <a:xfrm>
            <a:off x="1071720" y="3071880"/>
            <a:ext cx="6643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Dans un jeu de 32 cartes, il y a 4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valets : 4 chances sur 32 d’obteni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un valet, soit une probabilité de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6326280" y="4714920"/>
                <a:ext cx="14572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Line 13"/>
          <p:cNvSpPr/>
          <p:nvPr/>
        </p:nvSpPr>
        <p:spPr>
          <a:xfrm flipV="1">
            <a:off x="6786720" y="4928760"/>
            <a:ext cx="23940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 flipV="1">
            <a:off x="6786720" y="5714640"/>
            <a:ext cx="23940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7713720" y="4714920"/>
                <a:ext cx="9334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5"/>
              <p:cNvSpPr txBox="1"/>
              <p:nvPr/>
            </p:nvSpPr>
            <p:spPr>
              <a:xfrm>
                <a:off x="5756400" y="4714920"/>
                <a:ext cx="8110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Rectangle 3"/>
          <p:cNvSpPr/>
          <p:nvPr/>
        </p:nvSpPr>
        <p:spPr>
          <a:xfrm>
            <a:off x="142920" y="1428840"/>
            <a:ext cx="885816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On choisit une carte au hasard dans un jeu de 32 cart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Quelle est la probabilité de tirer un valet 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Rectangle à coins arrondis 10"/>
          <p:cNvGrpSpPr/>
          <p:nvPr/>
        </p:nvGrpSpPr>
        <p:grpSpPr>
          <a:xfrm>
            <a:off x="7699320" y="4694400"/>
            <a:ext cx="1463760" cy="1468440"/>
            <a:chOff x="7699320" y="4694400"/>
            <a:chExt cx="1463760" cy="1468440"/>
          </a:xfrm>
        </p:grpSpPr>
        <p:pic>
          <p:nvPicPr>
            <p:cNvPr id="154" name="Rectangle à coins arrondis 10" descr=""/>
            <p:cNvPicPr/>
            <p:nvPr/>
          </p:nvPicPr>
          <p:blipFill>
            <a:blip r:embed="rId1"/>
            <a:stretch/>
          </p:blipFill>
          <p:spPr>
            <a:xfrm>
              <a:off x="7699320" y="4694400"/>
              <a:ext cx="146376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753320" y="4753080"/>
              <a:ext cx="7095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ensées 15"/>
          <p:cNvSpPr/>
          <p:nvPr/>
        </p:nvSpPr>
        <p:spPr>
          <a:xfrm>
            <a:off x="428760" y="2571840"/>
            <a:ext cx="7215120" cy="2500200"/>
          </a:xfrm>
          <a:prstGeom prst="cloudCallout">
            <a:avLst>
              <a:gd name="adj1" fmla="val -25245"/>
              <a:gd name="adj2" fmla="val 82379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16"/>
          <p:cNvSpPr/>
          <p:nvPr/>
        </p:nvSpPr>
        <p:spPr>
          <a:xfrm>
            <a:off x="1285920" y="2928960"/>
            <a:ext cx="66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Dans un jeu de 32 cartes, il y a 8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piques : 8 chances sur 32 d’obteni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un pique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oit une probabilité de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6326280" y="4714920"/>
                <a:ext cx="14572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Line 13"/>
          <p:cNvSpPr/>
          <p:nvPr/>
        </p:nvSpPr>
        <p:spPr>
          <a:xfrm flipV="1">
            <a:off x="6786720" y="4928760"/>
            <a:ext cx="23940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3"/>
          <p:cNvSpPr/>
          <p:nvPr/>
        </p:nvSpPr>
        <p:spPr>
          <a:xfrm flipV="1">
            <a:off x="7358040" y="5714640"/>
            <a:ext cx="2397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7693200" y="4714920"/>
                <a:ext cx="97452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5"/>
              <p:cNvSpPr txBox="1"/>
              <p:nvPr/>
            </p:nvSpPr>
            <p:spPr>
              <a:xfrm>
                <a:off x="5756400" y="4714920"/>
                <a:ext cx="8110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3"/>
          <p:cNvSpPr/>
          <p:nvPr/>
        </p:nvSpPr>
        <p:spPr>
          <a:xfrm>
            <a:off x="142920" y="1428840"/>
            <a:ext cx="885816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On choisit une carte au hasard dans un jeu de 32 cart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Quelle est la probabilité de tirer un pique 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Rectangle à coins arrondis 10"/>
          <p:cNvGrpSpPr/>
          <p:nvPr/>
        </p:nvGrpSpPr>
        <p:grpSpPr>
          <a:xfrm>
            <a:off x="7839000" y="4694400"/>
            <a:ext cx="1463760" cy="1468440"/>
            <a:chOff x="7839000" y="4694400"/>
            <a:chExt cx="1463760" cy="1468440"/>
          </a:xfrm>
        </p:grpSpPr>
        <p:pic>
          <p:nvPicPr>
            <p:cNvPr id="166" name="Rectangle à coins arrondis 10" descr=""/>
            <p:cNvPicPr/>
            <p:nvPr/>
          </p:nvPicPr>
          <p:blipFill>
            <a:blip r:embed="rId1"/>
            <a:stretch/>
          </p:blipFill>
          <p:spPr>
            <a:xfrm>
              <a:off x="7839000" y="4694400"/>
              <a:ext cx="146376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7896240" y="4753080"/>
              <a:ext cx="7095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ensées 15"/>
          <p:cNvSpPr/>
          <p:nvPr/>
        </p:nvSpPr>
        <p:spPr>
          <a:xfrm>
            <a:off x="428760" y="2571840"/>
            <a:ext cx="7215120" cy="2500200"/>
          </a:xfrm>
          <a:prstGeom prst="cloudCallout">
            <a:avLst>
              <a:gd name="adj1" fmla="val -25245"/>
              <a:gd name="adj2" fmla="val 82379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16"/>
          <p:cNvSpPr/>
          <p:nvPr/>
        </p:nvSpPr>
        <p:spPr>
          <a:xfrm>
            <a:off x="1285920" y="2928960"/>
            <a:ext cx="66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Dans un jeu de 32 cartes, il y a 8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piques et 8 trèfles : 16 chances sur 32 d’obtenir  une carte « noire »,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oit une probabilité de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6245280" y="4714920"/>
                <a:ext cx="16192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Line 13"/>
          <p:cNvSpPr/>
          <p:nvPr/>
        </p:nvSpPr>
        <p:spPr>
          <a:xfrm flipV="1">
            <a:off x="6786720" y="4928760"/>
            <a:ext cx="35712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7812000" y="4714920"/>
                <a:ext cx="9748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5756400" y="4714920"/>
                <a:ext cx="8110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3"/>
          <p:cNvSpPr/>
          <p:nvPr/>
        </p:nvSpPr>
        <p:spPr>
          <a:xfrm>
            <a:off x="142920" y="1428840"/>
            <a:ext cx="885816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On choisit une carte au hasard dans un jeu de 32 cart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Quelle est la probabilité de tirer une carte de couleur noire 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3"/>
          <p:cNvSpPr/>
          <p:nvPr/>
        </p:nvSpPr>
        <p:spPr>
          <a:xfrm flipV="1">
            <a:off x="6786720" y="5643360"/>
            <a:ext cx="35712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Rectangle à coins arrondis 6"/>
          <p:cNvGrpSpPr/>
          <p:nvPr/>
        </p:nvGrpSpPr>
        <p:grpSpPr>
          <a:xfrm>
            <a:off x="7199280" y="5194440"/>
            <a:ext cx="1889280" cy="1560240"/>
            <a:chOff x="7199280" y="5194440"/>
            <a:chExt cx="1889280" cy="1560240"/>
          </a:xfrm>
        </p:grpSpPr>
        <p:pic>
          <p:nvPicPr>
            <p:cNvPr id="178" name="Rectangle à coins arrondis 6" descr=""/>
            <p:cNvPicPr/>
            <p:nvPr/>
          </p:nvPicPr>
          <p:blipFill>
            <a:blip r:embed="rId1"/>
            <a:stretch/>
          </p:blipFill>
          <p:spPr>
            <a:xfrm>
              <a:off x="7199280" y="5194440"/>
              <a:ext cx="188928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253280" y="5253120"/>
              <a:ext cx="7095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ensées 8"/>
          <p:cNvSpPr/>
          <p:nvPr/>
        </p:nvSpPr>
        <p:spPr>
          <a:xfrm>
            <a:off x="214200" y="2357280"/>
            <a:ext cx="8715600" cy="3286440"/>
          </a:xfrm>
          <a:prstGeom prst="cloudCallout">
            <a:avLst>
              <a:gd name="adj1" fmla="val -24263"/>
              <a:gd name="adj2" fmla="val 7705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9"/>
          <p:cNvSpPr/>
          <p:nvPr/>
        </p:nvSpPr>
        <p:spPr>
          <a:xfrm>
            <a:off x="1143000" y="2857680"/>
            <a:ext cx="6786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Dans un jeu de 32 cartes, il y a 8 piques et 4 valets mais on ne peut pas compter deux fois le valet de pique : 11 chances su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32 d’obtenir un pique ou un valet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oit une probabilité de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7234200" y="5214960"/>
                <a:ext cx="8128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Rectangle 3"/>
          <p:cNvSpPr/>
          <p:nvPr/>
        </p:nvSpPr>
        <p:spPr>
          <a:xfrm>
            <a:off x="142920" y="1428840"/>
            <a:ext cx="885816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On choisit une carte au hasard dans un jeu de 32 cart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Quelle est la probabilité de tirer un valet ou un pique 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712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à coins arrondis 8"/>
          <p:cNvGrpSpPr/>
          <p:nvPr/>
        </p:nvGrpSpPr>
        <p:grpSpPr>
          <a:xfrm>
            <a:off x="6480000" y="4913280"/>
            <a:ext cx="2183040" cy="1785960"/>
            <a:chOff x="6480000" y="4913280"/>
            <a:chExt cx="2183040" cy="1785960"/>
          </a:xfrm>
        </p:grpSpPr>
        <p:pic>
          <p:nvPicPr>
            <p:cNvPr id="51" name="Rectangle à coins arrondis 8" descr=""/>
            <p:cNvPicPr/>
            <p:nvPr/>
          </p:nvPicPr>
          <p:blipFill>
            <a:blip r:embed="rId1"/>
            <a:stretch/>
          </p:blipFill>
          <p:spPr>
            <a:xfrm>
              <a:off x="6480000" y="4913280"/>
              <a:ext cx="218304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539040" y="4967280"/>
              <a:ext cx="7095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0 : un ess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0040" y="1428480"/>
            <a:ext cx="78487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lance une pièce de monnaie non truqué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2"/>
              <p:cNvSpPr txBox="1"/>
              <p:nvPr/>
            </p:nvSpPr>
            <p:spPr>
              <a:xfrm>
                <a:off x="6643800" y="4929120"/>
                <a:ext cx="6080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Pensées 7"/>
          <p:cNvSpPr/>
          <p:nvPr/>
        </p:nvSpPr>
        <p:spPr>
          <a:xfrm>
            <a:off x="571680" y="3071880"/>
            <a:ext cx="6500520" cy="2500200"/>
          </a:xfrm>
          <a:prstGeom prst="cloudCallout">
            <a:avLst>
              <a:gd name="adj1" fmla="val -24212"/>
              <a:gd name="adj2" fmla="val 7209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6"/>
          <p:cNvSpPr/>
          <p:nvPr/>
        </p:nvSpPr>
        <p:spPr>
          <a:xfrm>
            <a:off x="1285920" y="3714840"/>
            <a:ext cx="66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1 chance sur 2 d’obtenir « pile 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soit une probabilité d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9"/>
          <p:cNvSpPr/>
          <p:nvPr/>
        </p:nvSpPr>
        <p:spPr>
          <a:xfrm>
            <a:off x="500040" y="20001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« 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PI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 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21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14200" y="2518920"/>
            <a:ext cx="878688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lance un dé à 6 faces non pip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le chiffre « 2 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21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14200" y="2518920"/>
            <a:ext cx="878688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lance un dé à 6 faces non pip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un chiffre pai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21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14200" y="2518920"/>
            <a:ext cx="878688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lance un dé à 6 faces non pip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un chiffre multiple de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21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4200" y="2518920"/>
            <a:ext cx="878688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lance un dé à 6 faces non pip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un chiffre inférieur ou égal à 4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21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4200" y="2518920"/>
            <a:ext cx="878688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lance un dé à 6 faces non pip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un chiffre supérieur strictement à 6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21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28760" y="2518920"/>
            <a:ext cx="81439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choisit une carte au hasard dans un jeu de 32 car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e tirer le valet de piqu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22:51:51Z</dcterms:created>
  <dc:creator>Claudine Bertrand-Gorge</dc:creator>
  <dc:description/>
  <dc:language>en-US</dc:language>
  <cp:lastModifiedBy>Marionseg</cp:lastModifiedBy>
  <dcterms:modified xsi:type="dcterms:W3CDTF">2009-11-30T19:47:15Z</dcterms:modified>
  <cp:revision>64</cp:revision>
  <dc:subject/>
  <dc:title>N° 1</dc:title>
</cp:coreProperties>
</file>