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C4CE-6CF0-4EA2-A5BB-5EF90A29D08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105E-EC2C-45CF-A585-EDD2359EA37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841B-7A12-42B8-899A-7256AD26C58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E8AD-F593-4476-BA0D-CC4F43F8AC8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D8A2-B0B6-4558-803C-665F47B7AC1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165A-53CA-40BA-B410-7396B50C3F5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BAE8-0EA1-42AF-B319-3FB4A236BD2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D207-C2F4-4914-8617-5B2B2726915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FCE0-CA3E-4FC1-A2BC-F2EFEFDC9D4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7FBB-97AD-4271-97E0-CFD46C67546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51F4-6B43-49A3-8312-6BA2AE8748E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4D79-0CF5-48EA-882F-5B1FB0E1AB0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1289-EB77-4558-B943-3E44EAF66E3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0CC3-BFD1-445F-AA66-DBD1D515F2F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0C76-9AB9-4CA9-84A5-B27122B7C40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3DBA-499C-43D3-AAF1-0B06D3CEA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615D-001C-4406-9763-0605C322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C55F-11B6-45BF-8C05-54BB864C2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4BBE-358C-4400-951B-F57CC8C01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42E9-B51B-40D9-ADDC-9B5FD007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931E-BE02-4BD3-B7AA-356F8A6A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1CC6-C62E-4776-B8B7-C6D41794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DBC9-1636-4A52-BBC1-7E8F1AA6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E37A-18B6-432D-8FAF-8CDB09EF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AD5F-61F1-4F75-A7E7-C9740133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219C-4ECC-41BC-85DC-C6B113C3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64BB-5E0A-44BA-8211-C42E815E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904E-140F-4AD0-81E9-832DA6A7D3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3158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libri"/>
              </a:rPr>
              <a:t>VOCABULAIRE ET OPÉRATIONS (1)</a:t>
            </a:r>
            <a:br>
              <a:rPr sz="5400"/>
            </a:br>
            <a:r>
              <a:rPr b="1" lang="fr-FR" sz="5400" spc="-1" strike="noStrike">
                <a:solidFill>
                  <a:srgbClr val="000000"/>
                </a:solidFill>
                <a:latin typeface="Calibri"/>
              </a:rPr>
              <a:t>SÉRIE N°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28400" y="3429000"/>
            <a:ext cx="835812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898989"/>
                </a:solidFill>
                <a:latin typeface="Calibri"/>
              </a:rPr>
              <a:t>Double, moitié, quart, triple 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519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Le cinquième de 55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itr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57148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  <a:ea typeface="Arial"/>
              </a:rPr>
              <a:t>Les deux tiers de 1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itr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519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Le quintuple de 20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itr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519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  <a:ea typeface="Arial"/>
              </a:rPr>
              <a:t>Les trois quarts de 16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itr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75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nsig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02860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crire sur la grille-réponse uniquement le résultat de l’opération demandé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ttention! Chaque calcul est affiché en toutes lettres pendant un temps limit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 calculatrice n’est pas autorisé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Calculer mentalement ...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519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Le double de 36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itr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519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Le quart de  24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itr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519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Le tiers de 69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itr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519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Le quadruple de 16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itr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519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La moitié de 10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tr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50020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Le triple de 33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itr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14:23:26Z</dcterms:created>
  <dc:creator>Famille Ravet</dc:creator>
  <dc:description/>
  <dc:language>en-US</dc:language>
  <cp:lastModifiedBy>Marionseg</cp:lastModifiedBy>
  <dcterms:modified xsi:type="dcterms:W3CDTF">2010-01-22T17:36:04Z</dcterms:modified>
  <cp:revision>21</cp:revision>
  <dc:subject/>
  <dc:title>Vocabulaire et calcul mental</dc:title>
</cp:coreProperties>
</file>