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92E5-E694-4AFB-9FEA-CF5BAC4D77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0CF8-C9FC-4757-8CF6-389A0FEB00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85D5-9BA7-4FA6-9D37-69258E24D2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D6D7-8911-4C2F-9CB6-7EB2F03FE4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8E1C-59BC-4A7E-84F5-9E937B95C8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1FC1-C137-465B-A074-0647F6B604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8B2E-4CFB-4B2B-9F4C-04A5147FAE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06EB-8CAC-4EA8-A86B-8BDC2CAC5F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C01A-D8DF-465E-8FDE-4A15A127F3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B249-005E-4BAE-9AA5-633201246D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37A1-1F0B-47A5-95D5-8ED407ADA2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E6DE-4190-455D-B418-C62BCC98E8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6C2A-8036-46A2-9281-036C99FD49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8C55-A1BE-4321-BD56-CB7CF4BDDA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D45-18A4-48A9-8884-C00A1584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81F-9811-4EEF-86D1-82B569B5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7B7-7D16-4627-969D-EED92461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E7A-8E62-4EA3-BF02-C7086DAB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B62-FB98-434E-BC72-BF11C72F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2D7-DCEA-45FA-9E9D-83A90D19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369-836D-418C-8BD2-BF677F63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564-48B0-464A-95CA-9143D482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73F-2FC0-45C3-98D5-7B534F8E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3B0-9F78-4799-8B96-56B8AA76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71D-FD60-459E-BCD7-E82F461A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84D-411D-4D0A-924A-E2511DA8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0AA5-8A62-4884-834D-51222A5F0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3243240" y="1735200"/>
                <a:ext cx="2685960" cy="33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3294000" y="1735200"/>
                <a:ext cx="2583000" cy="33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3243240" y="1735200"/>
                <a:ext cx="2685960" cy="33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Écrire avec une seule puissance de 10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3500280" y="1785960"/>
                <a:ext cx="2170440" cy="32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3243240" y="1735200"/>
                <a:ext cx="2685960" cy="33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3500280" y="1735200"/>
                <a:ext cx="2170440" cy="33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3294000" y="1735200"/>
                <a:ext cx="2583000" cy="33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3243240" y="1735200"/>
                <a:ext cx="2685960" cy="33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3243240" y="1735200"/>
                <a:ext cx="2685960" cy="33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3243240" y="1735200"/>
                <a:ext cx="2685960" cy="33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12:31:11Z</dcterms:created>
  <dc:creator>AMAGAT</dc:creator>
  <dc:description/>
  <dc:language>en-US</dc:language>
  <cp:lastModifiedBy>Marionseg</cp:lastModifiedBy>
  <dcterms:modified xsi:type="dcterms:W3CDTF">2010-01-22T17:09:38Z</dcterms:modified>
  <cp:revision>26</cp:revision>
  <dc:subject/>
  <dc:title>PUISSANCES Série 5</dc:title>
</cp:coreProperties>
</file>