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4EF0-10B5-45DD-B008-8D37ED623B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63D4-3E92-4064-A210-8AE75EBFED2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BEF2-FEEE-4DD2-B450-246092AE9B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0E1-540E-4BFF-98AF-16CB17DAF3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DED1-7B74-4039-994B-C0047AE78C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8DC7-D0E3-44F4-A773-9132A30B39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14A5-B069-4C82-B1F8-7A0EC1C47B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3F31-2AF2-4423-9719-2C1DEF4477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875-EBFD-469C-96D8-CCBCDA9679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550-726C-4AC8-BBD7-DBDE2F0CBF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1D9-78BC-4840-B9FA-0435813B76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A0CA-1604-453C-B639-1B92F47B5C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310-2426-49FC-9A1C-61713B2A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14C-74A9-4FA8-9BBE-E7C1D6B4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2BA-55D8-42A6-9544-D2789FAF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DDB-CB51-430D-B019-7E631580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EA81-7045-4824-B301-6A861DA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6DA-E926-4E95-97D5-37F1CD3E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1FA5-4EF2-4720-8F74-1F41F8D9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C20-A27B-4946-BDA5-A3D93DD0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582-E942-4E41-9D71-BE8E68BF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4001-72F3-4C8C-812E-91AB0A6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89D-78EF-45F5-87A7-B83AB3D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BAC5-A083-403D-B648-42EA3D2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A1D7-14DC-4158-9E7F-AA80EF49B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S (2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27160" y="2585880"/>
                <a:ext cx="861840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2611440" y="2500200"/>
                <a:ext cx="370512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2008080" y="2500200"/>
                <a:ext cx="491328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Développer à l’aide des identités remarquables puis écrire le résultat sous la forme la plus simple possible.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870280" y="2500200"/>
                <a:ext cx="318924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"/>
              <p:cNvSpPr txBox="1"/>
              <p:nvPr/>
            </p:nvSpPr>
            <p:spPr>
              <a:xfrm>
                <a:off x="2784600" y="2500200"/>
                <a:ext cx="33606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577880" y="2585880"/>
                <a:ext cx="577548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2482920" y="2500200"/>
                <a:ext cx="39639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628560" y="2585880"/>
                <a:ext cx="767088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438280" y="2500200"/>
                <a:ext cx="405144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35120" y="278928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5"/>
              <p:cNvSpPr txBox="1"/>
              <p:nvPr/>
            </p:nvSpPr>
            <p:spPr>
              <a:xfrm>
                <a:off x="2568600" y="2500200"/>
                <a:ext cx="37926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38:48Z</dcterms:created>
  <dc:creator>ms</dc:creator>
  <dc:description/>
  <dc:language>en-US</dc:language>
  <cp:lastModifiedBy>Marionseg</cp:lastModifiedBy>
  <dcterms:modified xsi:type="dcterms:W3CDTF">2010-01-22T16:52:48Z</dcterms:modified>
  <cp:revision>11</cp:revision>
  <dc:subject/>
  <dc:title>Fractions : Vrai ou Faux  Série n°2</dc:title>
</cp:coreProperties>
</file>