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84ED-26BF-4982-A925-AB1E01029A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A132-8EB5-496B-9D5E-637AC86C50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C71F-50F2-4A46-A8F8-EA413C3822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CF70-6C95-497E-A189-125780E54C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0079-7234-4F33-80C0-2CBA0F31E7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B311-B2B4-48CD-B440-26483ADB51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EF2F-CE50-4ABF-B76F-E4D24C04FB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CD81-0662-4C7C-A6F1-8A3043FEEA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6E40-D0DE-4ECF-A4D4-EB55686B49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31E0-3288-444E-8EE1-900A730B4C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57AE-1B56-4264-92E9-A44C2A8C98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ED41-F282-48D2-AD4B-8253D2FF1C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03C-0132-4AC0-821D-3C7472D915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C28-3F2B-449A-A5C4-F7E2B23AAE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3BA-8157-4E75-885F-AA594489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B4B-6A31-467B-8CCC-B7A2E0F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858-A899-4765-BE00-F771C0B7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BCDF-64F5-45D6-98F6-1A2C91443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C5E-015F-4B31-96CE-2D4A0CED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90F-98AB-4A48-9B7A-A5098A53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5F67-B252-4E5D-9EA0-3FA1C3F5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FF3-698C-4C8E-8626-79CC1DA7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097-8FCB-4B0D-AB02-F20F3919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193-3645-42B9-B8B7-301F538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41E-A50F-43D2-9DF8-0CF7D967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8BA-1D78-46DB-B8D1-22A0E98F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FCFD-72B7-47DC-8FEA-9207339DFFD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211D-4A12-43DE-AC72-0EAD0E5D7B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TION DE FONCTION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0" y="514332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e40059"/>
                </a:solidFill>
                <a:latin typeface="Arial"/>
                <a:ea typeface="Arial"/>
              </a:rPr>
              <a:t>Citer un nombre strictement négatif ayant une image strictement positiv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7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0" y="514368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ombien y-a-t-il de nombres aya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2 pour imag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7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0" y="535752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ombien d’antécéd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au moins 3 a-t-il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7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Times New Roman"/>
              </a:rPr>
              <a:t>À partir de la représentation graphique d’une fonction </a:t>
            </a:r>
            <a:r>
              <a:rPr b="0" i="1" lang="fr-FR" sz="5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Times New Roman"/>
              </a:rPr>
              <a:t>, répondre aux questio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71720" y="5400720"/>
            <a:ext cx="66434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Quelle est l’image de  3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00080" y="5400720"/>
            <a:ext cx="714384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iter un antécédent de – 2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467480" cy="4259160"/>
          </a:xfrm>
          <a:prstGeom prst="rect">
            <a:avLst/>
          </a:prstGeom>
          <a:ln w="0">
            <a:noFill/>
          </a:ln>
        </p:spPr>
      </p:pic>
      <p:sp>
        <p:nvSpPr>
          <p:cNvPr id="5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5214600"/>
            <a:ext cx="9144000" cy="9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iter deux nomb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ayant la même imag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5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514368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ombien d’antécéd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au moins 0,5</a:t>
            </a:r>
            <a:r>
              <a:rPr b="1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a-t-il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6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528624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iter deux nombres égaux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à leur imag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6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0040" y="5214600"/>
            <a:ext cx="80726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iter un nombre dont l’image est  1,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6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71360" y="5400720"/>
            <a:ext cx="7072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Citer des antécédents de 5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7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4:12:38Z</dcterms:modified>
  <cp:revision>126</cp:revision>
  <dc:subject/>
  <dc:title>Diapositive 0</dc:title>
</cp:coreProperties>
</file>