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66CF5-BB43-4E3B-8DCC-58E0F34CE00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F4B19-1C71-461E-A7F6-221394CA0CE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996E1-2688-4E63-AD8A-E4A9922181B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7759F-1DC8-420E-9B1D-9CB03AB7E61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43B79-A7F6-4628-B639-58CE126BC2A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86D82-AE4E-4995-BB8E-1580D966384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C0ED7-F663-4B2E-A2B0-A9E216A4403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2C1A0-A940-47DB-8599-76072849D97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3E480-1FC0-44E6-B7D9-FDF465CC914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2BA69-E063-46C3-AF41-691B27347D0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B4695-1F26-4E72-823D-CFE037DB2CA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4A9CA-6EAB-4217-BC58-505A342170F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FA8AA-9351-4C25-8E56-02D803690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895E2-6B88-4AD4-8CE7-340533BFB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2C2F6-0D65-45FF-8BE5-C0FF643FC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46C81-99A3-4E23-A16C-ABD8C504D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FB62F-2D8E-4D6B-A041-0A5FA1ADF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11D75-10B4-4E76-8218-65205F770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DE2E7-4C0E-47FB-9CB0-93B9B6C05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DB883-3FAD-4299-884D-C75518632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23FCE-DEF5-4349-96BE-A7313E438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0187E-9BC6-42EB-BED0-BEB6C6C05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7BD3B-B037-404B-9E9B-E4B20518F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ACDBB-9D1D-4D61-AC33-CF3044227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C9B2B-AB33-4924-9246-87E535F84CC5}" type="slidenum">
              <a:rPr b="0" lang="fr-FR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.png"/><Relationship Id="rId3" Type="http://schemas.openxmlformats.org/officeDocument/2006/relationships/slide" Target="slide3.xm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13840" y="2601720"/>
            <a:ext cx="86439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000" spc="-1" strike="noStrike">
                <a:solidFill>
                  <a:srgbClr val="000000"/>
                </a:solidFill>
                <a:latin typeface="Calibri"/>
              </a:rPr>
              <a:t>CHANGEMENTS D’UNITÉS</a:t>
            </a:r>
            <a:br>
              <a:rPr sz="5400"/>
            </a:br>
            <a:r>
              <a:rPr b="1" lang="fr-FR" sz="5400" spc="-1" strike="noStrike">
                <a:solidFill>
                  <a:srgbClr val="000000"/>
                </a:solidFill>
                <a:latin typeface="Calibri"/>
              </a:rPr>
              <a:t>SÉRIE N°4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72" name="Espace réservé du contenu 7"/>
              <p:cNvSpPr txBox="1"/>
              <p:nvPr/>
            </p:nvSpPr>
            <p:spPr>
              <a:xfrm>
                <a:off x="714240" y="2900520"/>
                <a:ext cx="7705800" cy="146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0,081 km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 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" name="Object 2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74" name="ZoneTexte 2"/>
          <p:cNvSpPr/>
          <p:nvPr/>
        </p:nvSpPr>
        <p:spPr>
          <a:xfrm>
            <a:off x="214200" y="198360"/>
            <a:ext cx="1143000" cy="100836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75" name="Espace réservé du contenu 7"/>
              <p:cNvSpPr txBox="1"/>
              <p:nvPr/>
            </p:nvSpPr>
            <p:spPr>
              <a:xfrm>
                <a:off x="571680" y="2935440"/>
                <a:ext cx="7953120" cy="14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2,3 dam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 23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000 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" name="Object 2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77" name="ZoneTexte 2"/>
          <p:cNvSpPr/>
          <p:nvPr/>
        </p:nvSpPr>
        <p:spPr>
          <a:xfrm>
            <a:off x="214200" y="198360"/>
            <a:ext cx="1143000" cy="100836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78" name="Espace réservé du contenu 7"/>
              <p:cNvSpPr txBox="1"/>
              <p:nvPr/>
            </p:nvSpPr>
            <p:spPr>
              <a:xfrm>
                <a:off x="1071720" y="2924280"/>
                <a:ext cx="6646680" cy="14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4,8 ha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" name="Object 2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80" name="ZoneTexte 2"/>
          <p:cNvSpPr/>
          <p:nvPr/>
        </p:nvSpPr>
        <p:spPr>
          <a:xfrm>
            <a:off x="214200" y="198360"/>
            <a:ext cx="1143000" cy="100836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3840" y="2601720"/>
            <a:ext cx="86439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0" spc="-1" strike="noStrike">
                <a:solidFill>
                  <a:srgbClr val="000000"/>
                </a:solidFill>
                <a:latin typeface="Calibri"/>
              </a:rPr>
              <a:t>FIN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2" name="Titre 1"/>
          <p:cNvGrpSpPr/>
          <p:nvPr/>
        </p:nvGrpSpPr>
        <p:grpSpPr>
          <a:xfrm>
            <a:off x="3193920" y="5126040"/>
            <a:ext cx="5748480" cy="1317600"/>
            <a:chOff x="3193920" y="5126040"/>
            <a:chExt cx="5748480" cy="1317600"/>
          </a:xfrm>
        </p:grpSpPr>
        <p:pic>
          <p:nvPicPr>
            <p:cNvPr id="83" name="Titre 1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3193920" y="5126040"/>
              <a:ext cx="5748480" cy="131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"/>
            <p:cNvSpPr/>
            <p:nvPr/>
          </p:nvSpPr>
          <p:spPr>
            <a:xfrm>
              <a:off x="3214800" y="5143680"/>
              <a:ext cx="5715000" cy="12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0" spc="-1" strike="noStrike">
                  <a:solidFill>
                    <a:srgbClr val="19934a"/>
                  </a:solidFill>
                  <a:latin typeface="French Script MT"/>
                  <a:ea typeface="Times New Roman"/>
                </a:rPr>
                <a:t>Correction : cliquer sur la flèche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0" spc="-1" strike="noStrike">
                  <a:solidFill>
                    <a:srgbClr val="19934a"/>
                  </a:solidFill>
                  <a:latin typeface="French Script MT"/>
                  <a:ea typeface="Times New Roman"/>
                </a:rPr>
                <a:t>pour revenir à la 1</a:t>
              </a:r>
              <a:r>
                <a:rPr b="0" lang="fr-FR" sz="4000" spc="-1" strike="noStrike" baseline="30000">
                  <a:solidFill>
                    <a:srgbClr val="19934a"/>
                  </a:solidFill>
                  <a:latin typeface="French Script MT"/>
                  <a:ea typeface="Times New Roman"/>
                </a:rPr>
                <a:t>ère</a:t>
              </a:r>
              <a:r>
                <a:rPr b="0" lang="fr-FR" sz="4000" spc="-1" strike="noStrike">
                  <a:solidFill>
                    <a:srgbClr val="19934a"/>
                  </a:solidFill>
                  <a:latin typeface="French Script MT"/>
                  <a:ea typeface="Times New Roman"/>
                </a:rPr>
                <a:t> question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" name="Bouton d'action : Retour 3">
            <a:hlinkClick r:id="rId3" action="ppaction://hlinksldjump"/>
          </p:cNvPr>
          <p:cNvSpPr/>
          <p:nvPr/>
        </p:nvSpPr>
        <p:spPr>
          <a:xfrm>
            <a:off x="7929720" y="5357880"/>
            <a:ext cx="857160" cy="857160"/>
          </a:xfrm>
          <a:custGeom>
            <a:avLst/>
            <a:gdLst>
              <a:gd name="textAreaLeft" fmla="*/ 55440 w 857160"/>
              <a:gd name="textAreaRight" fmla="*/ 801720 w 857160"/>
              <a:gd name="textAreaTop" fmla="*/ 55440 h 857160"/>
              <a:gd name="textAreaBottom" fmla="*/ 801720 h 857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b050"/>
          </a:solidFill>
          <a:ln w="25560">
            <a:solidFill>
              <a:srgbClr val="1993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3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3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9" name="Object 2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50" name="ZoneTexte 4"/>
          <p:cNvSpPr/>
          <p:nvPr/>
        </p:nvSpPr>
        <p:spPr>
          <a:xfrm>
            <a:off x="249120" y="2533680"/>
            <a:ext cx="8894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Compléter par le nombr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ou l’unité qui manqu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1" name="Espace réservé du contenu 7"/>
              <p:cNvSpPr txBox="1"/>
              <p:nvPr/>
            </p:nvSpPr>
            <p:spPr>
              <a:xfrm>
                <a:off x="71280" y="2890800"/>
                <a:ext cx="8869680" cy="13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09</m:t>
                    </m:r>
                    <m:r>
                      <m:t xml:space="preserve"> 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dam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dm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" name="Object 2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53" name="ZoneTexte 2"/>
          <p:cNvSpPr/>
          <p:nvPr/>
        </p:nvSpPr>
        <p:spPr>
          <a:xfrm>
            <a:off x="214200" y="198360"/>
            <a:ext cx="1143000" cy="100836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4" name="Espace réservé du contenu 7"/>
              <p:cNvSpPr txBox="1"/>
              <p:nvPr/>
            </p:nvSpPr>
            <p:spPr>
              <a:xfrm>
                <a:off x="285840" y="2919240"/>
                <a:ext cx="8361360" cy="158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43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000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 mm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</m:t>
                    </m:r>
                    <m:r>
                      <m:rPr>
                        <m:lit/>
                        <m:nor/>
                      </m:rPr>
                      <m:t xml:space="preserve">4,3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" name="Object 2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56" name="ZoneTexte 2"/>
          <p:cNvSpPr/>
          <p:nvPr/>
        </p:nvSpPr>
        <p:spPr>
          <a:xfrm>
            <a:off x="214200" y="198360"/>
            <a:ext cx="1143000" cy="100836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7" name="Espace réservé du contenu 7"/>
              <p:cNvSpPr txBox="1"/>
              <p:nvPr/>
            </p:nvSpPr>
            <p:spPr>
              <a:xfrm>
                <a:off x="1143000" y="2878200"/>
                <a:ext cx="6881760" cy="159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0,08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m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 800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" name="Object 2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59" name="ZoneTexte 2"/>
          <p:cNvSpPr/>
          <p:nvPr/>
        </p:nvSpPr>
        <p:spPr>
          <a:xfrm>
            <a:off x="214200" y="198360"/>
            <a:ext cx="1143000" cy="100836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60" name="Espace réservé du contenu 7"/>
              <p:cNvSpPr txBox="1"/>
              <p:nvPr/>
            </p:nvSpPr>
            <p:spPr>
              <a:xfrm>
                <a:off x="857160" y="2878200"/>
                <a:ext cx="7539120" cy="159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,6</m:t>
                    </m:r>
                    <m:r>
                      <m:t xml:space="preserve"> 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dm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m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Object 2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62" name="ZoneTexte 2"/>
          <p:cNvSpPr/>
          <p:nvPr/>
        </p:nvSpPr>
        <p:spPr>
          <a:xfrm>
            <a:off x="214200" y="198360"/>
            <a:ext cx="1143000" cy="100836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63" name="Espace réservé du contenu 7"/>
              <p:cNvSpPr txBox="1"/>
              <p:nvPr/>
            </p:nvSpPr>
            <p:spPr>
              <a:xfrm>
                <a:off x="500040" y="2878200"/>
                <a:ext cx="8223120" cy="159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8,5 m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dm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" name="Object 2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65" name="ZoneTexte 2"/>
          <p:cNvSpPr/>
          <p:nvPr/>
        </p:nvSpPr>
        <p:spPr>
          <a:xfrm>
            <a:off x="214200" y="198360"/>
            <a:ext cx="1143000" cy="100836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66" name="Espace réservé du contenu 7"/>
              <p:cNvSpPr txBox="1"/>
              <p:nvPr/>
            </p:nvSpPr>
            <p:spPr>
              <a:xfrm>
                <a:off x="1801800" y="2878200"/>
                <a:ext cx="5442120" cy="12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0,8 ha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 80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" name="Object 2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68" name="ZoneTexte 2"/>
          <p:cNvSpPr/>
          <p:nvPr/>
        </p:nvSpPr>
        <p:spPr>
          <a:xfrm>
            <a:off x="214200" y="198360"/>
            <a:ext cx="1143000" cy="100836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69" name="Espace réservé du contenu 7"/>
              <p:cNvSpPr txBox="1"/>
              <p:nvPr/>
            </p:nvSpPr>
            <p:spPr>
              <a:xfrm>
                <a:off x="785880" y="2878200"/>
                <a:ext cx="7700760" cy="159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5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 cm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0,0125 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" name="Object 2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71" name="ZoneTexte 2"/>
          <p:cNvSpPr/>
          <p:nvPr/>
        </p:nvSpPr>
        <p:spPr>
          <a:xfrm>
            <a:off x="214200" y="198360"/>
            <a:ext cx="1143000" cy="100836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16:13:30Z</dcterms:created>
  <dc:creator>Claudine Bertrand-Gorge</dc:creator>
  <dc:description/>
  <dc:language>en-US</dc:language>
  <cp:lastModifiedBy>Marionseg</cp:lastModifiedBy>
  <dcterms:modified xsi:type="dcterms:W3CDTF">2010-01-17T18:02:40Z</dcterms:modified>
  <cp:revision>46</cp:revision>
  <dc:subject/>
  <dc:title>Diapositive 1</dc:title>
</cp:coreProperties>
</file>