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A28B-EA48-4A11-A28F-8C9684B014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62C5-63B1-4CB0-8B83-D8C18D73C1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A23E-CBAC-4C82-9E58-3DF559B9C7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FCD3-F3E6-4844-A24F-6556746953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C64E-E713-4038-B7E0-9BE666D6F5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637C-2DEC-43D0-870E-828731A2AA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1D0D-7AA0-4A51-8DB3-CB973D7540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4FD4-2D31-4FFD-9816-DEBDA2BD2F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A471-F835-4B75-B43D-226C8D9992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4B46-F232-49C2-B821-2F1CF0754F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0A0E-F27B-41CA-86E3-8248500ADE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9452-BD35-4595-87DB-C4B692C6BD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4402-A1D6-4F77-801D-27E21B3A4C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265B-CA38-4F29-A892-A4989D64A9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D47-F555-4480-859D-A7AA964A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45E-63A2-4476-9599-4DE8375F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E13F-3586-438E-A209-0E9DD696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359-DCA2-40D5-A43E-2E994303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F6B-2EB7-41FC-9895-772EABFA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4DD-2A6D-4763-8FAE-33B9BD5B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35A-1CEA-4797-9C2E-A22719EE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1AC-3721-45F9-A801-FFCA020F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CB18-BD73-4030-A08A-FDE2BDC5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F0B-8420-4B53-A17D-55EB6340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3ED-4092-4B2C-BC89-38CCBA49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040-C77D-40F2-87C6-834F35EC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7FD6-8A14-4729-9943-EF4F58357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52 est divisible pa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11 est divisible pa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14 est divisible par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72 est divisible pa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43 est divisible pa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45 est divisible par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14 est divisible par 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25 est divisible par 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19 est divisible par 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03 est divisible pa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4:33:21Z</dcterms:modified>
  <cp:revision>9</cp:revision>
  <dc:subject/>
  <dc:title>PowerPoint Presentation</dc:title>
</cp:coreProperties>
</file>