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BF6A-A540-46EA-8756-320549C329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F1EF-2F81-444B-B06C-12407A8B07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569C-8623-46C2-8B93-FAC1591FD7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9A6AF-A9E5-4DA2-9143-DD09BB8FF5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DBD4-1D09-4214-A3B6-CB58E4D0F2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5CE7-DEDE-4B7B-87E0-EB1F5968DB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154B-F274-4574-9565-4C914268AE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6DCA-C073-4CAB-9A80-CC3DBA5734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C28B-5683-40F7-AC92-F1C6F43036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B34E-3584-4D12-97F3-77C2D874D4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01EB1-40D5-4137-98FE-0BEB354F2D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4C41-F54C-4CD6-A63F-366185AD32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BDED-2BED-4192-862C-66AA0839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B004-ACD8-407A-8A3D-F34BFDF8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4657-D52E-44D4-B0A8-EBDB4B45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CECA-73FF-42D9-8335-CBAE3862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04D7-4AF0-4D87-ADD4-28A4FF4D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C3DF-CCD5-4219-B0E4-13047C80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7777-E463-4F2D-8142-28F53CDA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D659-D979-466C-9BFC-E7C4D433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5B2A-1F34-4840-9522-4E95E50C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CFBD-E2B9-4945-96FE-27F71E9A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3296-C678-4A5C-BD71-BBC698E0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A12-E2D9-4AE4-99EB-16F6A354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D330-62DC-486A-A102-4D44A11B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3ABC-64EE-4E26-89CD-0716B5D3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546B-6345-4623-83F2-A4DDAF8E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7206A-C4B4-4D24-AE63-58EAC5E2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33D23-AD81-4FB2-B769-EE4B1DC9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F598-EBE1-4150-8E92-B9A87D06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3B1B-5D57-4365-95B6-0A20915D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982C-87B6-4637-8673-4F5BE386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58BA-17F2-43C7-BF15-FE369DEB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8A2-1D44-4632-BFA1-499D982D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7BE9-159A-4AF7-AD39-C10E7B8D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DEEA-1621-4F84-95B0-CAA5540F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DE4A-4955-4360-ACA3-CEE2D9420A9E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468360" y="2349360"/>
            <a:ext cx="374328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4932360" y="2349360"/>
            <a:ext cx="3743280" cy="215928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2B39-6909-424E-83CC-7FE17817F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Arial"/>
              </a:rPr>
              <a:t>TABLES DE MULTIPLICATION</a:t>
            </a:r>
            <a:br>
              <a:rPr sz="5400"/>
            </a:b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SÉRIES N°3 ET 3BI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571680" y="3213720"/>
            <a:ext cx="34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18 combien de fois 6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072040" y="321372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30 combien de fois 5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642960" y="297396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multiplier 4 pour obtenir 32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5072040" y="2926080"/>
            <a:ext cx="346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multiplier 3 pour obtenir 27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1420920" y="3143160"/>
                <a:ext cx="2079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5888160" y="3143160"/>
                <a:ext cx="21128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Arial"/>
              </a:rPr>
              <a:t>FIN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42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2130120"/>
            <a:ext cx="8286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ffectuer la multiplication proposée, compléter l’égalité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 répondre à la ques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ce réservé du numéro de diapositive 3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4271400" y="309492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4271400" y="35017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15"/>
              <p:cNvSpPr txBox="1"/>
              <p:nvPr/>
            </p:nvSpPr>
            <p:spPr>
              <a:xfrm>
                <a:off x="1500120" y="3143160"/>
                <a:ext cx="14540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Rectangle 18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17"/>
              <p:cNvSpPr txBox="1"/>
              <p:nvPr/>
            </p:nvSpPr>
            <p:spPr>
              <a:xfrm>
                <a:off x="6143760" y="3139920"/>
                <a:ext cx="145728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42960" y="314388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ultiplier 5 pour obtenir 45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072040" y="311040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multiplier 6 pour obtenir 54 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8"/>
              <p:cNvSpPr txBox="1"/>
              <p:nvPr/>
            </p:nvSpPr>
            <p:spPr>
              <a:xfrm>
                <a:off x="1357200" y="3143160"/>
                <a:ext cx="20797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Rectangle 11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0"/>
              <p:cNvSpPr txBox="1"/>
              <p:nvPr/>
            </p:nvSpPr>
            <p:spPr>
              <a:xfrm>
                <a:off x="5959440" y="3143160"/>
                <a:ext cx="211284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571680" y="3285000"/>
            <a:ext cx="35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56 combien de fois 8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5090040" y="3285000"/>
            <a:ext cx="347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36 combien de fois 9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1357200" y="3143160"/>
                <a:ext cx="20797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Rectangle 7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5857920" y="3143160"/>
                <a:ext cx="21733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571680" y="297396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multiplier 7 pour obtenir 42 ?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072040" y="297396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multiplier 8 pour obtenir 24 ?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1579680" y="3143160"/>
                <a:ext cx="14205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6"/>
              <p:cNvSpPr txBox="1"/>
              <p:nvPr/>
            </p:nvSpPr>
            <p:spPr>
              <a:xfrm>
                <a:off x="6151680" y="3143160"/>
                <a:ext cx="14205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17T20:33:59Z</dcterms:modified>
  <cp:revision>26</cp:revision>
  <dc:subject/>
  <dc:title>Diapositive 1</dc:title>
</cp:coreProperties>
</file>