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BD66-0462-47BB-9F97-B4C981EE3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1B5A-7914-4DF9-B85A-162F5069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F0FF-BCDD-4BF3-BC42-F07885E95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F217-2976-4B39-AAE9-0A8924772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F60C-6104-4AB3-A3E8-F66E7111E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278E-897C-447A-93FB-D9CEF5BE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8051-42B5-45A8-8138-AEB01596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AC2F-F3BE-4FAC-B7F4-42F1982C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B67E-1AC1-4454-8DF7-2EDB87C2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EE6C-E836-4198-8317-1FCBBB34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E5D7-248B-41B8-AA42-000B7D58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1B4C-B134-4BB3-B95F-6D2C83D0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2D90-EAB9-4DCF-84EC-F973AFE9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67094-D65C-48DD-A60C-67481097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8A32-D9CE-41C1-8DBC-1745191D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F658-89DE-42D5-A4DF-8A474BBA1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11FF-DF6F-4575-A83E-FAF94E3F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5D46-329E-47E3-A45B-40DD07D7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F800-65E5-4CAE-8049-BF49EA91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90A7-FFA8-47E3-A438-6E574AD1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E9D1-A9AE-4C4E-9E39-6DAB56FD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1196-6F6A-4757-9FB4-4975A7D3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44CE-F6E0-49D5-AD49-BF6C129E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7D40-C203-4768-BA10-8D61AABB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505320" y="188640"/>
            <a:ext cx="2133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1D29-244A-4F18-B3A1-7916597F9E42}" type="slidenum"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16"/>
          <p:cNvSpPr/>
          <p:nvPr/>
        </p:nvSpPr>
        <p:spPr>
          <a:xfrm>
            <a:off x="4557600" y="1052640"/>
            <a:ext cx="28800" cy="58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1332000" y="2333520"/>
            <a:ext cx="201600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5796000" y="2335320"/>
            <a:ext cx="2016000" cy="215892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5DD6-3A79-4567-A76F-D024494581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DDITION ET SOUSTRACTIO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 FRACTIONS</a:t>
            </a:r>
            <a:br>
              <a:rPr sz="4400"/>
            </a:b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ÉRIES N°1 ET N°1B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8" name="Object 2"/>
              <p:cNvSpPr txBox="1"/>
              <p:nvPr/>
            </p:nvSpPr>
            <p:spPr>
              <a:xfrm>
                <a:off x="1698480" y="2841480"/>
                <a:ext cx="12574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3"/>
              <p:cNvSpPr txBox="1"/>
              <p:nvPr/>
            </p:nvSpPr>
            <p:spPr>
              <a:xfrm>
                <a:off x="6153120" y="2841480"/>
                <a:ext cx="12826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Espace réservé du numéro de diapositive 4"/>
          <p:cNvSpPr/>
          <p:nvPr/>
        </p:nvSpPr>
        <p:spPr>
          <a:xfrm>
            <a:off x="3500280" y="260280"/>
            <a:ext cx="213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1" name="Object 2"/>
              <p:cNvSpPr txBox="1"/>
              <p:nvPr/>
            </p:nvSpPr>
            <p:spPr>
              <a:xfrm>
                <a:off x="1731960" y="2841480"/>
                <a:ext cx="1206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3"/>
              <p:cNvSpPr txBox="1"/>
              <p:nvPr/>
            </p:nvSpPr>
            <p:spPr>
              <a:xfrm>
                <a:off x="6172200" y="2841480"/>
                <a:ext cx="12445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Espace réservé du numéro de diapositive 4"/>
          <p:cNvSpPr/>
          <p:nvPr/>
        </p:nvSpPr>
        <p:spPr>
          <a:xfrm>
            <a:off x="3500280" y="260280"/>
            <a:ext cx="213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4" name="Object 2"/>
              <p:cNvSpPr txBox="1"/>
              <p:nvPr/>
            </p:nvSpPr>
            <p:spPr>
              <a:xfrm>
                <a:off x="1811160" y="2841480"/>
                <a:ext cx="10414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3"/>
              <p:cNvSpPr txBox="1"/>
              <p:nvPr/>
            </p:nvSpPr>
            <p:spPr>
              <a:xfrm>
                <a:off x="6283440" y="2841480"/>
                <a:ext cx="1041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Espace réservé du numéro de diapositive 4"/>
          <p:cNvSpPr/>
          <p:nvPr/>
        </p:nvSpPr>
        <p:spPr>
          <a:xfrm>
            <a:off x="3500280" y="260280"/>
            <a:ext cx="213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19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Effectuer le calcul proposé et donner le résultat sous la forme d’une fraction aussi simple que possible ou éventuellement sous la forme d’un nombre enti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5" name="Object 4"/>
              <p:cNvSpPr txBox="1"/>
              <p:nvPr/>
            </p:nvSpPr>
            <p:spPr>
              <a:xfrm>
                <a:off x="1809720" y="2830680"/>
                <a:ext cx="1015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9"/>
              <p:cNvSpPr txBox="1"/>
              <p:nvPr/>
            </p:nvSpPr>
            <p:spPr>
              <a:xfrm>
                <a:off x="6297480" y="2832120"/>
                <a:ext cx="104004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Espace réservé du numéro de diapositive 4"/>
          <p:cNvSpPr/>
          <p:nvPr/>
        </p:nvSpPr>
        <p:spPr>
          <a:xfrm>
            <a:off x="3510000" y="285840"/>
            <a:ext cx="213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Object 4"/>
              <p:cNvSpPr txBox="1"/>
              <p:nvPr/>
            </p:nvSpPr>
            <p:spPr>
              <a:xfrm>
                <a:off x="1724040" y="2857680"/>
                <a:ext cx="12445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5"/>
              <p:cNvSpPr txBox="1"/>
              <p:nvPr/>
            </p:nvSpPr>
            <p:spPr>
              <a:xfrm>
                <a:off x="6181560" y="2857680"/>
                <a:ext cx="12193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Espace réservé du numéro de diapositive 4"/>
          <p:cNvSpPr/>
          <p:nvPr/>
        </p:nvSpPr>
        <p:spPr>
          <a:xfrm>
            <a:off x="3500280" y="260280"/>
            <a:ext cx="213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1" name="Object 2"/>
              <p:cNvSpPr txBox="1"/>
              <p:nvPr/>
            </p:nvSpPr>
            <p:spPr>
              <a:xfrm>
                <a:off x="1828800" y="2841480"/>
                <a:ext cx="10033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3"/>
              <p:cNvSpPr txBox="1"/>
              <p:nvPr/>
            </p:nvSpPr>
            <p:spPr>
              <a:xfrm>
                <a:off x="6302520" y="2841480"/>
                <a:ext cx="990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Espace réservé du numéro de diapositive 4"/>
          <p:cNvSpPr/>
          <p:nvPr/>
        </p:nvSpPr>
        <p:spPr>
          <a:xfrm>
            <a:off x="3500280" y="260280"/>
            <a:ext cx="213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Object 2"/>
              <p:cNvSpPr txBox="1"/>
              <p:nvPr/>
            </p:nvSpPr>
            <p:spPr>
              <a:xfrm>
                <a:off x="1835280" y="2841480"/>
                <a:ext cx="10033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3"/>
              <p:cNvSpPr txBox="1"/>
              <p:nvPr/>
            </p:nvSpPr>
            <p:spPr>
              <a:xfrm>
                <a:off x="6316560" y="2841480"/>
                <a:ext cx="1016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Espace réservé du numéro de diapositive 4"/>
          <p:cNvSpPr/>
          <p:nvPr/>
        </p:nvSpPr>
        <p:spPr>
          <a:xfrm>
            <a:off x="3500280" y="260280"/>
            <a:ext cx="213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7" name="Object 2"/>
              <p:cNvSpPr txBox="1"/>
              <p:nvPr/>
            </p:nvSpPr>
            <p:spPr>
              <a:xfrm>
                <a:off x="1817640" y="2841480"/>
                <a:ext cx="10414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3"/>
              <p:cNvSpPr txBox="1"/>
              <p:nvPr/>
            </p:nvSpPr>
            <p:spPr>
              <a:xfrm>
                <a:off x="6305400" y="2841480"/>
                <a:ext cx="10033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Espace réservé du numéro de diapositive 4"/>
          <p:cNvSpPr/>
          <p:nvPr/>
        </p:nvSpPr>
        <p:spPr>
          <a:xfrm>
            <a:off x="3500280" y="260280"/>
            <a:ext cx="213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0" name="Object 2"/>
              <p:cNvSpPr txBox="1"/>
              <p:nvPr/>
            </p:nvSpPr>
            <p:spPr>
              <a:xfrm>
                <a:off x="1819440" y="2841480"/>
                <a:ext cx="10285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3"/>
              <p:cNvSpPr txBox="1"/>
              <p:nvPr/>
            </p:nvSpPr>
            <p:spPr>
              <a:xfrm>
                <a:off x="6188040" y="2841480"/>
                <a:ext cx="1231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2" name="Espace réservé du numéro de diapositive 4"/>
          <p:cNvSpPr/>
          <p:nvPr/>
        </p:nvSpPr>
        <p:spPr>
          <a:xfrm>
            <a:off x="3500280" y="260280"/>
            <a:ext cx="213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1703520" y="2874960"/>
                <a:ext cx="123336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" name="Rectangle 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6"/>
              <p:cNvSpPr txBox="1"/>
              <p:nvPr/>
            </p:nvSpPr>
            <p:spPr>
              <a:xfrm>
                <a:off x="6175440" y="2803680"/>
                <a:ext cx="1206360" cy="11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Espace réservé du numéro de diapositive 4"/>
          <p:cNvSpPr/>
          <p:nvPr/>
        </p:nvSpPr>
        <p:spPr>
          <a:xfrm>
            <a:off x="3500280" y="260280"/>
            <a:ext cx="2133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8:18:55Z</dcterms:created>
  <dc:creator>.</dc:creator>
  <dc:description/>
  <dc:language>en-US</dc:language>
  <cp:lastModifiedBy>Marionseg</cp:lastModifiedBy>
  <dcterms:modified xsi:type="dcterms:W3CDTF">2010-01-17T20:01:12Z</dcterms:modified>
  <cp:revision>23</cp:revision>
  <dc:subject/>
  <dc:title>Diapositive 1</dc:title>
</cp:coreProperties>
</file>