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BF14-0B6F-493A-A13F-0D6281B75D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7D0F-F589-452E-A5C7-A392CE1A2A6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C578-7FA1-48C0-A245-9354E68E5A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4E34-336B-4079-9C8A-18ED83983B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B3BC-027F-47DE-8D7D-50716133C9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FBE1-2B8E-4844-9736-94B93AAED7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3C25-01A5-4D70-98A6-6676E021968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322C-DA82-4637-BE3E-60F961A871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54A0-11C9-461D-96E3-E11BCFC5F4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BD86-5FC1-4B65-BB45-52D1691FF7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4AC5-D975-4393-A6A5-B4E809EBAC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971F-F683-443B-B271-F8B7E5A2D7A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88F8-1C5A-4B6F-B1D7-125EF1765D2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2C46-0FC9-4190-874D-3B41ED9D74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22C-1304-4079-B7E5-CB48CA5B1F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1565-FA44-47D5-9044-E7F31FFAF58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801C-60FB-4924-8634-3366C6766A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AF2-A8D0-435C-8294-F455627AE3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0368-D357-4AC5-A912-698AE0AD745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C9BA-63BB-43F1-AB7A-E66613D5C7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4506-7F0D-46EE-BF29-289117E2A3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BC8A-A5B5-44A9-95AE-107A42072A8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1622-0C1E-46A0-BE9E-64D2A451FD5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3E8A-FF0E-49D5-B42E-76FF3CBB83C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19BF-2B37-4349-85F5-2AC24FE5A7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2D41-E72F-4314-AADB-6753EC005FE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9D8A-3F4F-4245-8385-394E5A0399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68CE-46EC-4138-B2BB-82C2B40BAF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69D1-C841-4F0F-B22F-D7BA1FCCCA4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70985-0B44-47DB-B05E-5A43E2EF6D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A41D-960B-4B49-82A6-7E67F35BCA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7C36-48FF-40BD-A9A2-99F99181E7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BDE3-2891-4AA8-AE55-57CBC5ADB17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335A-C6B3-4460-8B0B-C39D93AB36D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24A9-2634-4877-BDC8-F08AFC29D5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372-3223-469A-A49B-54AF30544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887-438D-4CD2-948C-065B4C63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67C-224A-46EC-88AC-F401169A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67AC-EF66-4926-A8D3-B8A0A07F2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D2F-4D8E-4994-A065-EF3D6673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4CF-9DD2-42F9-992E-3E363B73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2DFB-057E-4C6C-B405-2FA4733C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C8E4-AD33-4B23-95F9-F24DE1D8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F74-1B78-4869-8A98-3539A672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4F24-EE4C-42A8-90F9-453BE38E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18A2-2246-4813-AC82-7A83323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E66-3DD3-4A81-9F6E-31C8C9BD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876C-9467-401C-8C10-458EC88CAB2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Ordre de grandeur</a:t>
            </a:r>
            <a:br>
              <a:rPr sz="5400"/>
            </a:b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Série n°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utilisant les ordres de grandeurs, trouver la réponse exacte à chacune des opérations propos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0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2,08 + 55,4 + 5,006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2,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 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2,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77148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82,1 + 8,09 + 15,007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5,1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5,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 3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7,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0,010 3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,017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,177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,707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0,010 1 × </a:t>
            </a: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35,8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,615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,036 1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,361 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Arial"/>
              </a:rPr>
              <a:t>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457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13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 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6 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57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3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45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13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3"/>
          <p:cNvSpPr/>
          <p:nvPr/>
        </p:nvSpPr>
        <p:spPr>
          <a:xfrm>
            <a:off x="5867280" y="3429000"/>
            <a:ext cx="14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0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4"/>
          <p:cNvSpPr/>
          <p:nvPr/>
        </p:nvSpPr>
        <p:spPr>
          <a:xfrm>
            <a:off x="1357200" y="5353200"/>
            <a:ext cx="1524240" cy="57600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7224840" y="3429000"/>
            <a:ext cx="14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2 185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98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4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4 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18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2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133344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64296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2 18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98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5429160" y="3429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2 00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4"/>
          <p:cNvSpPr/>
          <p:nvPr/>
        </p:nvSpPr>
        <p:spPr>
          <a:xfrm>
            <a:off x="6357960" y="5424480"/>
            <a:ext cx="184140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7358040" y="3429000"/>
            <a:ext cx="19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2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27 923 + 33 789 =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7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7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 7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7 923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27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0"/>
          <p:cNvSpPr/>
          <p:nvPr/>
        </p:nvSpPr>
        <p:spPr>
          <a:xfrm>
            <a:off x="133200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3 78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33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21420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27 923 + 33 78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540864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27 000 + 33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7715160" y="342900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6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,0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498,4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7,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5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8,3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Text Box 18"/>
          <p:cNvSpPr/>
          <p:nvPr/>
        </p:nvSpPr>
        <p:spPr>
          <a:xfrm>
            <a:off x="1332000" y="17859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,0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4427640" y="17575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1357200" y="2286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98,4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1"/>
          <p:cNvSpPr/>
          <p:nvPr/>
        </p:nvSpPr>
        <p:spPr>
          <a:xfrm>
            <a:off x="4429080" y="2286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2"/>
          <p:cNvSpPr/>
          <p:nvPr/>
        </p:nvSpPr>
        <p:spPr>
          <a:xfrm>
            <a:off x="857160" y="2681280"/>
            <a:ext cx="47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1,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498,4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3"/>
          <p:cNvSpPr/>
          <p:nvPr/>
        </p:nvSpPr>
        <p:spPr>
          <a:xfrm>
            <a:off x="5643720" y="27147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4"/>
          <p:cNvSpPr/>
          <p:nvPr/>
        </p:nvSpPr>
        <p:spPr>
          <a:xfrm>
            <a:off x="6373800" y="5424480"/>
            <a:ext cx="169848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6858000" y="27147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642960" y="3286080"/>
            <a:ext cx="80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Attention, on multiplie 498,4 par un nombre supérieur à 1, le résultat est donc supérieur à 498,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58,38 + 141,572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 4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74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,9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 Box 18"/>
          <p:cNvSpPr/>
          <p:nvPr/>
        </p:nvSpPr>
        <p:spPr>
          <a:xfrm>
            <a:off x="1214280" y="2276640"/>
            <a:ext cx="29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8,3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>
            <a:off x="1116000" y="2781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41,57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2"/>
          <p:cNvSpPr/>
          <p:nvPr/>
        </p:nvSpPr>
        <p:spPr>
          <a:xfrm>
            <a:off x="395280" y="34290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58,38 + 141,57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60 + 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4"/>
          <p:cNvSpPr/>
          <p:nvPr/>
        </p:nvSpPr>
        <p:spPr>
          <a:xfrm>
            <a:off x="6357960" y="5424480"/>
            <a:ext cx="177012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7132680" y="3429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 00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478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 9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781 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8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 00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7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2"/>
          <p:cNvSpPr/>
          <p:nvPr/>
        </p:nvSpPr>
        <p:spPr>
          <a:xfrm>
            <a:off x="142920" y="342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1 0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478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4857840" y="342900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 00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24"/>
          <p:cNvSpPr/>
          <p:nvPr/>
        </p:nvSpPr>
        <p:spPr>
          <a:xfrm>
            <a:off x="1285920" y="5357880"/>
            <a:ext cx="171432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6715080" y="3429000"/>
            <a:ext cx="18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5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58,268 – 27,68 =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5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,9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18"/>
          <p:cNvSpPr/>
          <p:nvPr/>
        </p:nvSpPr>
        <p:spPr>
          <a:xfrm>
            <a:off x="1332000" y="17859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8,26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4643280" y="17859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1357200" y="2286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7,6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643280" y="22860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"/>
          <p:cNvSpPr/>
          <p:nvPr/>
        </p:nvSpPr>
        <p:spPr>
          <a:xfrm>
            <a:off x="684360" y="292896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58,268 – 27,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5857920" y="292896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8 –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1"/>
          <p:cNvSpPr/>
          <p:nvPr/>
        </p:nvSpPr>
        <p:spPr>
          <a:xfrm>
            <a:off x="7061040" y="29289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714240" y="346716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Attention : 268 – 68 = 200 mais 0,268 – 0,68 </a:t>
            </a:r>
            <a:r>
              <a:rPr b="0" lang="fr-FR" sz="2400" spc="-1" strike="noStrike">
                <a:solidFill>
                  <a:srgbClr val="0070c0"/>
                </a:solidFill>
                <a:latin typeface="OpenSymbol"/>
              </a:rPr>
              <a:t>≠</a:t>
            </a: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 0,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457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13 =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 9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9 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96 3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9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92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3 6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 3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8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317,0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0,12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2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42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42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Text Box 18"/>
          <p:cNvSpPr/>
          <p:nvPr/>
        </p:nvSpPr>
        <p:spPr>
          <a:xfrm>
            <a:off x="1042920" y="2276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17,0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1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684360" y="3429000"/>
            <a:ext cx="51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317,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0,12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30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4"/>
          <p:cNvSpPr/>
          <p:nvPr/>
        </p:nvSpPr>
        <p:spPr>
          <a:xfrm>
            <a:off x="6373800" y="5424480"/>
            <a:ext cx="169848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1"/>
          <p:cNvSpPr/>
          <p:nvPr/>
        </p:nvSpPr>
        <p:spPr>
          <a:xfrm>
            <a:off x="7346880" y="34290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2,08 + 55,4 + 5,006 =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8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 Box 18"/>
          <p:cNvSpPr/>
          <p:nvPr/>
        </p:nvSpPr>
        <p:spPr>
          <a:xfrm>
            <a:off x="1332000" y="15717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,0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9"/>
          <p:cNvSpPr/>
          <p:nvPr/>
        </p:nvSpPr>
        <p:spPr>
          <a:xfrm>
            <a:off x="4427640" y="15717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0"/>
          <p:cNvSpPr/>
          <p:nvPr/>
        </p:nvSpPr>
        <p:spPr>
          <a:xfrm>
            <a:off x="1403280" y="24289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,006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4572000" y="24004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2"/>
          <p:cNvSpPr/>
          <p:nvPr/>
        </p:nvSpPr>
        <p:spPr>
          <a:xfrm>
            <a:off x="0" y="29289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12,08 + 55,4 + 5,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292896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2 + 55 +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4"/>
          <p:cNvSpPr/>
          <p:nvPr/>
        </p:nvSpPr>
        <p:spPr>
          <a:xfrm>
            <a:off x="1285920" y="5424480"/>
            <a:ext cx="159552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8"/>
          <p:cNvSpPr/>
          <p:nvPr/>
        </p:nvSpPr>
        <p:spPr>
          <a:xfrm>
            <a:off x="1405080" y="20001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5,4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4427640" y="20001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1500120" y="346716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Attention au chiffre des millièmes : c’est un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7500960" y="29289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7,2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× 0,010 3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7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77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07 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7,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128592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0103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17,2 x 0,01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585792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 × 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24"/>
          <p:cNvSpPr/>
          <p:nvPr/>
        </p:nvSpPr>
        <p:spPr>
          <a:xfrm>
            <a:off x="3786120" y="5424480"/>
            <a:ext cx="172080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1"/>
          <p:cNvSpPr/>
          <p:nvPr/>
        </p:nvSpPr>
        <p:spPr>
          <a:xfrm>
            <a:off x="7286760" y="3429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= 0,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9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924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6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3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128592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24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9 x 92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42916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9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6643800" y="3429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8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997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24 =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 9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 9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97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4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99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24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542916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 0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24"/>
          <p:cNvSpPr/>
          <p:nvPr/>
        </p:nvSpPr>
        <p:spPr>
          <a:xfrm>
            <a:off x="1285920" y="5353200"/>
            <a:ext cx="1571760" cy="576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7072200" y="3429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2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72960" y="549000"/>
            <a:ext cx="787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86 521 + 15 284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 8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1 8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 8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18"/>
          <p:cNvSpPr/>
          <p:nvPr/>
        </p:nvSpPr>
        <p:spPr>
          <a:xfrm>
            <a:off x="828720" y="2286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6 521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85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755640" y="278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5 284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442908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5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2"/>
          <p:cNvSpPr/>
          <p:nvPr/>
        </p:nvSpPr>
        <p:spPr>
          <a:xfrm>
            <a:off x="71280" y="342900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86 521 + 15 28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3"/>
          <p:cNvSpPr/>
          <p:nvPr/>
        </p:nvSpPr>
        <p:spPr>
          <a:xfrm>
            <a:off x="521496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85 000 + 15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4"/>
          <p:cNvSpPr/>
          <p:nvPr/>
        </p:nvSpPr>
        <p:spPr>
          <a:xfrm>
            <a:off x="6357960" y="5424480"/>
            <a:ext cx="178596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1"/>
          <p:cNvSpPr/>
          <p:nvPr/>
        </p:nvSpPr>
        <p:spPr>
          <a:xfrm>
            <a:off x="7500960" y="34290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1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237,1 × 0,96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7,6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Text Box 18"/>
          <p:cNvSpPr/>
          <p:nvPr/>
        </p:nvSpPr>
        <p:spPr>
          <a:xfrm>
            <a:off x="1332000" y="17146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37,1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643280" y="171468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1285920" y="2214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96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1"/>
          <p:cNvSpPr/>
          <p:nvPr/>
        </p:nvSpPr>
        <p:spPr>
          <a:xfrm>
            <a:off x="4716360" y="218592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684360" y="27576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 237,1 x 0,9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5337000" y="278604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37 ×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1"/>
          <p:cNvSpPr/>
          <p:nvPr/>
        </p:nvSpPr>
        <p:spPr>
          <a:xfrm>
            <a:off x="6561000" y="27860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2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571680" y="3286080"/>
            <a:ext cx="79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Attention, on multiplie 237,1 par un nombre inférieur à 1, donc le résultat est inférieur à 237,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252,15 + 49,365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1,5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 5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52,1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128592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9,36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252,15 + 49,36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3"/>
          <p:cNvSpPr/>
          <p:nvPr/>
        </p:nvSpPr>
        <p:spPr>
          <a:xfrm>
            <a:off x="608472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50 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4"/>
          <p:cNvSpPr/>
          <p:nvPr/>
        </p:nvSpPr>
        <p:spPr>
          <a:xfrm>
            <a:off x="3786120" y="5424480"/>
            <a:ext cx="172080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1"/>
          <p:cNvSpPr/>
          <p:nvPr/>
        </p:nvSpPr>
        <p:spPr>
          <a:xfrm>
            <a:off x="7418520" y="3429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6 387 × 104 = 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 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4 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87 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 387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6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140328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4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6 387x 10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535788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6 0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3786120" y="5424480"/>
            <a:ext cx="179244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1"/>
          <p:cNvSpPr/>
          <p:nvPr/>
        </p:nvSpPr>
        <p:spPr>
          <a:xfrm>
            <a:off x="7215120" y="342900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600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2 185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9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 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1 4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14 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997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2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3  9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 3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30 9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45,695 – 25,95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7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18"/>
          <p:cNvSpPr/>
          <p:nvPr/>
        </p:nvSpPr>
        <p:spPr>
          <a:xfrm>
            <a:off x="1114560" y="17575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5,69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9"/>
          <p:cNvSpPr/>
          <p:nvPr/>
        </p:nvSpPr>
        <p:spPr>
          <a:xfrm>
            <a:off x="4427640" y="17575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0"/>
          <p:cNvSpPr/>
          <p:nvPr/>
        </p:nvSpPr>
        <p:spPr>
          <a:xfrm>
            <a:off x="1114560" y="2214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5,9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1"/>
          <p:cNvSpPr/>
          <p:nvPr/>
        </p:nvSpPr>
        <p:spPr>
          <a:xfrm>
            <a:off x="4429080" y="2214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2"/>
          <p:cNvSpPr/>
          <p:nvPr/>
        </p:nvSpPr>
        <p:spPr>
          <a:xfrm>
            <a:off x="611280" y="27147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45,695 – 25,9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3"/>
          <p:cNvSpPr/>
          <p:nvPr/>
        </p:nvSpPr>
        <p:spPr>
          <a:xfrm>
            <a:off x="6000840" y="26859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46 –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4"/>
          <p:cNvSpPr/>
          <p:nvPr/>
        </p:nvSpPr>
        <p:spPr>
          <a:xfrm>
            <a:off x="6516720" y="5424480"/>
            <a:ext cx="151272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7203960" y="27147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714240" y="34290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Attention : 695 – 95 = 600 mais 0,695 – 0,95 </a:t>
            </a:r>
            <a:r>
              <a:rPr b="0" lang="fr-FR" sz="2400" spc="-1" strike="noStrike">
                <a:solidFill>
                  <a:srgbClr val="c00000"/>
                </a:solidFill>
                <a:latin typeface="OpenSymbol"/>
              </a:rPr>
              <a:t>≠</a:t>
            </a: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 0,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0,11 × 85,47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401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,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40 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8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11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0"/>
          <p:cNvSpPr/>
          <p:nvPr/>
        </p:nvSpPr>
        <p:spPr>
          <a:xfrm>
            <a:off x="128592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5,47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2"/>
          <p:cNvSpPr/>
          <p:nvPr/>
        </p:nvSpPr>
        <p:spPr>
          <a:xfrm>
            <a:off x="826920" y="3429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0,1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85,47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0,1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24"/>
          <p:cNvSpPr/>
          <p:nvPr/>
        </p:nvSpPr>
        <p:spPr>
          <a:xfrm>
            <a:off x="1357200" y="5353200"/>
            <a:ext cx="150048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1"/>
          <p:cNvSpPr/>
          <p:nvPr/>
        </p:nvSpPr>
        <p:spPr>
          <a:xfrm>
            <a:off x="7203960" y="342900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82,1 + 8,09 + 15,007 =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1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39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Text Box 18"/>
          <p:cNvSpPr/>
          <p:nvPr/>
        </p:nvSpPr>
        <p:spPr>
          <a:xfrm>
            <a:off x="1332000" y="15717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2,1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560840" y="15717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0"/>
          <p:cNvSpPr/>
          <p:nvPr/>
        </p:nvSpPr>
        <p:spPr>
          <a:xfrm>
            <a:off x="1285920" y="2428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5,007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1"/>
          <p:cNvSpPr/>
          <p:nvPr/>
        </p:nvSpPr>
        <p:spPr>
          <a:xfrm>
            <a:off x="4572000" y="24004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0" y="29289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82,1 + 8,09 + 15,00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3"/>
          <p:cNvSpPr/>
          <p:nvPr/>
        </p:nvSpPr>
        <p:spPr>
          <a:xfrm>
            <a:off x="5786280" y="2928960"/>
            <a:ext cx="27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82 + 8 + 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Oval 24"/>
          <p:cNvSpPr/>
          <p:nvPr/>
        </p:nvSpPr>
        <p:spPr>
          <a:xfrm>
            <a:off x="1285920" y="5424480"/>
            <a:ext cx="159552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8"/>
          <p:cNvSpPr/>
          <p:nvPr/>
        </p:nvSpPr>
        <p:spPr>
          <a:xfrm>
            <a:off x="1333440" y="20001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,0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9"/>
          <p:cNvSpPr/>
          <p:nvPr/>
        </p:nvSpPr>
        <p:spPr>
          <a:xfrm>
            <a:off x="4703760" y="20001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1500120" y="346716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Attention au chiffre des millièmes : c’est un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1"/>
          <p:cNvSpPr/>
          <p:nvPr/>
        </p:nvSpPr>
        <p:spPr>
          <a:xfrm>
            <a:off x="7500960" y="29289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1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0,0101 × 35,8 =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615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361 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61 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18"/>
          <p:cNvSpPr/>
          <p:nvPr/>
        </p:nvSpPr>
        <p:spPr>
          <a:xfrm>
            <a:off x="971640" y="221472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0101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9"/>
          <p:cNvSpPr/>
          <p:nvPr/>
        </p:nvSpPr>
        <p:spPr>
          <a:xfrm>
            <a:off x="4427640" y="22147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0"/>
          <p:cNvSpPr/>
          <p:nvPr/>
        </p:nvSpPr>
        <p:spPr>
          <a:xfrm>
            <a:off x="971640" y="27147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5,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1"/>
          <p:cNvSpPr/>
          <p:nvPr/>
        </p:nvSpPr>
        <p:spPr>
          <a:xfrm>
            <a:off x="4500720" y="27147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2"/>
          <p:cNvSpPr/>
          <p:nvPr/>
        </p:nvSpPr>
        <p:spPr>
          <a:xfrm>
            <a:off x="611280" y="34290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 0,0101 x 35,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3"/>
          <p:cNvSpPr/>
          <p:nvPr/>
        </p:nvSpPr>
        <p:spPr>
          <a:xfrm>
            <a:off x="600084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0,01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24"/>
          <p:cNvSpPr/>
          <p:nvPr/>
        </p:nvSpPr>
        <p:spPr>
          <a:xfrm>
            <a:off x="6429240" y="5424480"/>
            <a:ext cx="162720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21"/>
          <p:cNvSpPr/>
          <p:nvPr/>
        </p:nvSpPr>
        <p:spPr>
          <a:xfrm>
            <a:off x="7429680" y="34290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= 0,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25002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27 923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+ 33 789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1 7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1 7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10 7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86 521 + 15 28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1 8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11 8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1 8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,0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498,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97,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7,5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08,3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237,1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0,96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37,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27,6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7,6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58,38 + 141,57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7 4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474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99,9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252,15 + 49,365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45,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1,5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4 5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 00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478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78 9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 781 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7 8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6 387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104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4 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64 2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 387 1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58,268 – 27,68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1,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0,5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5,9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45,695 – 25,95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1,6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9,7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317,0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0,12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,382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,842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8,042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0,11 × </a:t>
            </a: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85,47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,401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4,0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0,940 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e1e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5:09:20Z</dcterms:created>
  <dc:creator>ms</dc:creator>
  <dc:description/>
  <dc:language>en-US</dc:language>
  <cp:lastModifiedBy>Marionseg</cp:lastModifiedBy>
  <dcterms:modified xsi:type="dcterms:W3CDTF">2010-01-13T13:25:26Z</dcterms:modified>
  <cp:revision>28</cp:revision>
  <dc:subject/>
  <dc:title>Ordre de grandeur Série n°2</dc:title>
</cp:coreProperties>
</file>