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D207-7353-4E98-8CF1-49A06C73CF6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1ACB-0E11-410B-B857-2361887A79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8E8D-1171-49CF-A11D-0AEA293403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9593-4BF2-4826-B721-A20E36F394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9315-E527-450C-8456-B772EECB16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DDE2-6520-4253-B78B-2FCEDB2D27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8EBC-EE16-4CE5-B2E0-032696C329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2242-30DC-4011-91A2-5D364C8B4B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0AA6-50EC-4EAF-996B-CCECA3D5815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4D82-A1FA-4D22-9407-2E66DF127C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6148-4449-4127-8DC1-719347CDCD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7ECE-CDFA-46B1-9951-669114C131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C8F5-C707-40A4-9EF9-6D661F2A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D6C3-A66C-415E-A4F9-6CAE6766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FF80-106D-4EAE-93D1-DB07C214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26C1-E5AB-4D70-95D5-E437DF50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E5D7-AC39-4185-8F90-69507DDE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EB4-3E21-4FA5-9C26-EABCCABC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9F20-5627-41F0-BDF4-A39A43D8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F97-A2D7-4A98-9164-A9F9F10E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1D72-76D2-4635-862B-C7A582CB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04DC-0016-41DA-93FD-B56B0D77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826F-8D2F-4359-8696-1A6BF969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C4E1-290F-483F-A46D-728BF888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1E55-5662-48CA-8179-76FE449578CD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Calibri"/>
              </a:rPr>
              <a:t>CHANGEMENTS D’UNITÉS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2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" name="Espace réservé du contenu 7"/>
              <p:cNvSpPr txBox="1"/>
              <p:nvPr/>
            </p:nvSpPr>
            <p:spPr>
              <a:xfrm>
                <a:off x="1643040" y="2895480"/>
                <a:ext cx="60404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 mg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d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3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Espace réservé du contenu 7"/>
              <p:cNvSpPr txBox="1"/>
              <p:nvPr/>
            </p:nvSpPr>
            <p:spPr>
              <a:xfrm>
                <a:off x="785880" y="2897280"/>
                <a:ext cx="7748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5,2 dm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6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Espace réservé du contenu 7"/>
              <p:cNvSpPr txBox="1"/>
              <p:nvPr/>
            </p:nvSpPr>
            <p:spPr>
              <a:xfrm>
                <a:off x="1000080" y="2878200"/>
                <a:ext cx="701028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,235 hL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23,5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9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0" name="ZoneTexte 4"/>
          <p:cNvSpPr/>
          <p:nvPr/>
        </p:nvSpPr>
        <p:spPr>
          <a:xfrm>
            <a:off x="0" y="2533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mpléter par le nomb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u l’unité qui manq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Espace réservé du contenu 7"/>
              <p:cNvSpPr txBox="1"/>
              <p:nvPr/>
            </p:nvSpPr>
            <p:spPr>
              <a:xfrm>
                <a:off x="714240" y="2878200"/>
                <a:ext cx="75009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m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Espace réservé du contenu 7"/>
              <p:cNvSpPr txBox="1"/>
              <p:nvPr/>
            </p:nvSpPr>
            <p:spPr>
              <a:xfrm>
                <a:off x="1143000" y="2898720"/>
                <a:ext cx="67737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0</m:t>
                    </m:r>
                    <m:r>
                      <m:rPr>
                        <m:lit/>
                        <m:nor/>
                      </m:rPr>
                      <m:t xml:space="preserve"> dL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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6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Espace réservé du contenu 7"/>
              <p:cNvSpPr txBox="1"/>
              <p:nvPr/>
            </p:nvSpPr>
            <p:spPr>
              <a:xfrm>
                <a:off x="1163520" y="2878200"/>
                <a:ext cx="65264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,7 g 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c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9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" name="Espace réservé du contenu 7"/>
              <p:cNvSpPr txBox="1"/>
              <p:nvPr/>
            </p:nvSpPr>
            <p:spPr>
              <a:xfrm>
                <a:off x="784080" y="2878200"/>
                <a:ext cx="75916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,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g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3 28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Espace réservé du contenu 7"/>
              <p:cNvSpPr txBox="1"/>
              <p:nvPr/>
            </p:nvSpPr>
            <p:spPr>
              <a:xfrm>
                <a:off x="714240" y="2878200"/>
                <a:ext cx="74199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,09 m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" name="Espace réservé du contenu 7"/>
              <p:cNvSpPr txBox="1"/>
              <p:nvPr/>
            </p:nvSpPr>
            <p:spPr>
              <a:xfrm>
                <a:off x="866880" y="2878200"/>
                <a:ext cx="75103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2 250 dg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522,5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7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" name="Espace réservé du contenu 7"/>
              <p:cNvSpPr txBox="1"/>
              <p:nvPr/>
            </p:nvSpPr>
            <p:spPr>
              <a:xfrm>
                <a:off x="1357200" y="2878200"/>
                <a:ext cx="64724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,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L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9 560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0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6:13:30Z</dcterms:created>
  <dc:creator>Claudine Bertrand-Gorge</dc:creator>
  <dc:description/>
  <dc:language>en-US</dc:language>
  <cp:lastModifiedBy>Marionseg</cp:lastModifiedBy>
  <dcterms:modified xsi:type="dcterms:W3CDTF">2010-01-17T18:02:03Z</dcterms:modified>
  <cp:revision>42</cp:revision>
  <dc:subject/>
  <dc:title>Diapositive 1</dc:title>
</cp:coreProperties>
</file>