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AE50-98A0-43A6-BA4F-E1A857B140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D3C4-138F-4B39-8AEE-143A07BDB2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2F4E-6407-4313-AC2B-ED3F07EA89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BD38-78B5-4536-9660-45848266AF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F698-1FEF-4FD1-AF04-156ABC0C12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E80E-B46B-4475-8863-DD2D547421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A786-5D24-4FD1-8C2F-75EB9B5CCD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D61E-356F-40EB-9DBF-63EC10D864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6012-5021-4059-AA8D-9780373EF3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E0A-5EF3-4597-A596-B2289E6C91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0BFD-95CA-4DD0-86D3-5217138FD9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085E-88D0-48FB-A2CA-6D30C39EE8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7F4-50B7-4A48-AD12-D814730852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1DE9-60E5-470D-929E-9AF8DAB8B9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D4F-F0AB-4A73-A7ED-790E0FCF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B50-49F4-4D1D-A254-5B033274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815-CB33-43C4-AF7A-15926750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394C-DB14-4ED7-9DDC-CCCC6EAE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CCA-2841-4843-8ECD-FACACEAE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146-005D-4C5D-833B-0FB95079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8B7-092C-4479-9008-B3AC7F5F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24A-1915-4C12-A5D3-9B987858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5D2-04E2-44FB-8636-FA6B258D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0AC-4A0A-443E-9E40-E7799957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9831-9568-44D8-B66C-42280FD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82DE-F930-4FFF-BB7D-DC1E3A9E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88A0-9123-478B-A40F-8B22A254A3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0161-53EB-4D48-8C27-FD0400936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ENSEMBLES DE NOMBRES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2857680" y="2127240"/>
                <a:ext cx="314316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3214800" y="1916280"/>
                <a:ext cx="2428920" cy="23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2"/>
              <p:cNvSpPr txBox="1"/>
              <p:nvPr/>
            </p:nvSpPr>
            <p:spPr>
              <a:xfrm>
                <a:off x="2857680" y="1916280"/>
                <a:ext cx="3143160" cy="23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0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214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Vous disposez du tableau suivant :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Écrire le nombre projeté dans la colonne de gauche et mettre une croix dans la ou les case(s) qui convien(nen)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71680" y="1500120"/>
          <a:ext cx="8001000" cy="741600"/>
        </p:xfrm>
        <a:graphic>
          <a:graphicData uri="http://schemas.openxmlformats.org/drawingml/2006/table">
            <a:tbl>
              <a:tblPr/>
              <a:tblGrid>
                <a:gridCol w="1176120"/>
                <a:gridCol w="1501920"/>
                <a:gridCol w="1665360"/>
                <a:gridCol w="990360"/>
                <a:gridCol w="1219320"/>
                <a:gridCol w="144792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 u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er posi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er relat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é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i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ation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"/>
              <p:cNvSpPr txBox="1"/>
              <p:nvPr/>
            </p:nvSpPr>
            <p:spPr>
              <a:xfrm>
                <a:off x="3643200" y="1071720"/>
                <a:ext cx="1571760" cy="40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3357720" y="2197080"/>
                <a:ext cx="214308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786120" y="2197080"/>
                <a:ext cx="128592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286080" y="1141560"/>
                <a:ext cx="228600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2714760" y="2127240"/>
                <a:ext cx="342900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3643200" y="2143080"/>
                <a:ext cx="192888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3286080" y="1141560"/>
                <a:ext cx="2286000" cy="39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4T14:48:49Z</dcterms:created>
  <dc:creator>Claudine Bertrand-Gorge</dc:creator>
  <dc:description/>
  <dc:language>en-US</dc:language>
  <cp:lastModifiedBy>Marionseg</cp:lastModifiedBy>
  <dcterms:modified xsi:type="dcterms:W3CDTF">2010-01-22T15:46:29Z</dcterms:modified>
  <cp:revision>22</cp:revision>
  <dc:subject/>
  <dc:title>Mettre une croix dans la ou les case(s) qui convien(nen)t</dc:title>
</cp:coreProperties>
</file>