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78F-37C6-4BF7-9B9F-51EC48DF7C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AAF5-6B4B-4D24-A225-D12156447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01E9-21CB-4F2C-8259-197235F5B4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9DE8-F2ED-4708-97C6-E234672024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01C-DAED-4911-88A1-2AA2C91E65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2C6C-5606-44A9-97EA-F3F6595C14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1C5E-0562-462C-83BD-291E244A24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BFCD6-1AD5-4D6D-88A8-73ECA3849D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1124-D92E-4FD9-80EA-9EC840CEC3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69E4-4283-4240-82AF-3298F6B817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0590-8CC7-4CC3-A35F-FBB6A014D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6F57-7835-4B0C-96CF-56BDDD4404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EDE1-9CBA-4A9F-AAB0-8C6E2E56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55E-C25A-415F-83BE-665AA62A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393-9AFB-4227-BDD5-67643816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565D-501B-4BD2-BE47-F0E32487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B7B2-173B-4740-854F-8ECF43C9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10D4-CEE5-4F31-A38F-4848927A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AC46-6EBC-474D-92D9-9BC2A0A8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F97A-340E-4E28-914D-FF5000D0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82AC-6371-42FA-8319-30FE232E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B78-3F01-4F37-A564-09AFD015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3FAC-1688-4A99-8C6A-A051D8E5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F23-2228-4D31-827D-C75E5BC4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156B-DE6C-4BC9-BEBA-4359F42A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A80C-1A73-4B4D-A471-F6B045D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3633-0E6E-4B24-92F6-E1DBC419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84553-8D77-42E3-A23F-E6E26467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DA1C-5690-40C0-8F96-3232F501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4B9-CA11-4500-8B0C-656825AC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EE1C-0FA7-4173-A009-DB3F9CDB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508-8F72-4EE8-8E79-F749AC2B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A6B-490D-49A2-A99D-9FD0BA24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364-96B8-448F-980B-B7CD2607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456F-F82C-4853-803F-46F3999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BF76-1578-4898-82DB-F58E14A5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BD8-819A-47C6-BE08-8B5BA9A1C908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8098-5398-4AFF-9AF5-453FE7CA9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VIS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1 ET N°1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1590840" y="2820960"/>
                <a:ext cx="14824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6062760" y="2820960"/>
                <a:ext cx="1460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1835280" y="285264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6227640" y="2852640"/>
                <a:ext cx="1165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841400" y="2819520"/>
                <a:ext cx="9781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6296040" y="2827440"/>
                <a:ext cx="9968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0"/>
              <p:cNvSpPr txBox="1"/>
              <p:nvPr/>
            </p:nvSpPr>
            <p:spPr>
              <a:xfrm>
                <a:off x="1838160" y="2824200"/>
                <a:ext cx="10004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4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3"/>
              <p:cNvSpPr txBox="1"/>
              <p:nvPr/>
            </p:nvSpPr>
            <p:spPr>
              <a:xfrm>
                <a:off x="6297480" y="2817720"/>
                <a:ext cx="1001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1812960" y="282888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10"/>
              <p:cNvSpPr txBox="1"/>
              <p:nvPr/>
            </p:nvSpPr>
            <p:spPr>
              <a:xfrm>
                <a:off x="6297480" y="2843280"/>
                <a:ext cx="100332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820880" y="282096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6"/>
              <p:cNvSpPr txBox="1"/>
              <p:nvPr/>
            </p:nvSpPr>
            <p:spPr>
              <a:xfrm>
                <a:off x="6307200" y="2827440"/>
                <a:ext cx="973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809720" y="2827440"/>
                <a:ext cx="10382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6"/>
              <p:cNvSpPr txBox="1"/>
              <p:nvPr/>
            </p:nvSpPr>
            <p:spPr>
              <a:xfrm>
                <a:off x="6300720" y="2819520"/>
                <a:ext cx="9860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8"/>
              <p:cNvSpPr txBox="1"/>
              <p:nvPr/>
            </p:nvSpPr>
            <p:spPr>
              <a:xfrm>
                <a:off x="1832040" y="2828880"/>
                <a:ext cx="1003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9"/>
              <p:cNvSpPr txBox="1"/>
              <p:nvPr/>
            </p:nvSpPr>
            <p:spPr>
              <a:xfrm>
                <a:off x="6332400" y="2827440"/>
                <a:ext cx="9399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820880" y="285120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6284880" y="2827440"/>
                <a:ext cx="1028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1812960" y="2820960"/>
                <a:ext cx="10285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6303960" y="2827440"/>
                <a:ext cx="990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2:50Z</dcterms:modified>
  <cp:revision>32</cp:revision>
  <dc:subject/>
  <dc:title>Diapositive 1</dc:title>
</cp:coreProperties>
</file>