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1355-1F7C-4014-97CF-AE0643A282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438F-156E-4121-B5A4-C91CFB0AD5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D399-2B63-48F2-8B35-813856E1B37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0AF-1D6A-48F0-8D4D-65C7D177BB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7C54-79BE-4E29-B09A-36E99038E8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BE0-8E9B-4879-9280-45A6D862E1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9D6F-04F4-41E4-959A-D8A8D14F8D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5D2-455D-4AF9-8483-8406F62E2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5AF7-7FEB-4C31-AA5A-6ED68B9767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2C1C-A726-4A3C-B34A-75ADABBF24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DE6C-4234-467E-860D-2241D1CE4F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41C8-14F9-493D-A9FA-21C33BA55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4CDE-13F8-410B-9A82-427335356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53F3-14AC-4CAD-8FB3-E26973B460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96C-FEC3-41A2-8CA2-29A394B3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33D-CC54-4F31-91F0-B72E21B8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E6C-3983-439A-9424-BF860AABB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A0A-2E9B-4FEF-B3F8-7443FA69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918-5DC1-49AB-9C29-89B983FA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312-8A6E-48C4-963E-DB04E775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A67-535F-4886-A5EA-5AD748C0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F9E4-4164-48A2-9920-9F243378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D908-F36B-4CD1-B58F-5EF347C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87CA-1AED-48D5-A044-DCE86E46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B94-9FA1-4261-A7DE-A0ABE8D2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C48-5E7F-4F82-AFFD-1F6D05C3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BFFC-ED44-423F-B298-49BB7247C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UISSANCES(4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765000" y="2928960"/>
                <a:ext cx="75898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-39600" y="2928960"/>
                <a:ext cx="92548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357120" y="2928960"/>
                <a:ext cx="869940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620640"/>
            <a:ext cx="625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3368520" y="2214720"/>
            <a:ext cx="214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Bouton d'action : Retour 4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1814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onner le plus petit des deux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ombre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roposé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906480" y="2908440"/>
                <a:ext cx="740736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577800" y="2908440"/>
                <a:ext cx="806472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120600" y="2908440"/>
                <a:ext cx="90010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-71280" y="2928960"/>
                <a:ext cx="932652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05000" y="2928960"/>
                <a:ext cx="50626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1501920" y="2928960"/>
                <a:ext cx="64688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079640" y="10832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719280" y="2928960"/>
                <a:ext cx="7681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7:15:24Z</dcterms:modified>
  <cp:revision>21</cp:revision>
  <dc:subject/>
  <dc:title>PowerPoint Presentation</dc:title>
</cp:coreProperties>
</file>