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2D76-B19F-4E65-BB1D-92AD684677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B435-18D1-4EAF-82A5-C6848B88EB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A10F-E5D8-486D-ABD9-6546CF506A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D4A0-66CA-4A91-8ED9-61C60AAF7E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ADE1-037A-45ED-8CEE-3DB43A1769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DD11-251D-4A18-8EE4-CE8B68063D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9538-0793-40BA-9B87-7D9318C495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86F7-C6D1-44F0-9AB0-222E22F25C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7B05-38B6-4D04-86EA-759417AE31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F48C-9097-46E2-94F8-3B82949C76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B4EE-67A5-434C-9ECA-A0AE20D098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C976-7184-4F85-BC61-530642823C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1430-4B7B-473B-B6B3-5AE784FC6B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7821-9371-4DB7-BBA5-0C29106A4B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559E-4A02-48C7-BACC-2BE7F5271A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724-75F7-4F6B-93B7-3F215FA0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C4A-8B9F-449E-A310-9EBE632D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800-0632-4952-A323-112BE0A9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2240-989C-48A2-B112-D3FA2244A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C3C-EDB2-4E0A-B498-1640A806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2174-2B82-414E-A809-5A37D347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645-AA7D-4E36-8264-76353321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242-5EE6-44E3-BD9B-57CA3EE8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B820-A093-464A-A5E9-3AEC88C5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5D0-3C08-4C0A-80DB-5F33D1E8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E81-00E7-464E-B236-86A16D52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CF05-7A29-44E1-86AE-68512BC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F1C6-518E-40C2-995D-1093685BAA7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4528-2DE8-4641-A293-74A2DC81BC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REPÉRAGE SUR UNE DROITE GRADUÉE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4" descr=""/>
          <p:cNvPicPr/>
          <p:nvPr/>
        </p:nvPicPr>
        <p:blipFill>
          <a:blip r:embed="rId1"/>
          <a:srcRect l="3990" t="47923" r="5980" b="29382"/>
          <a:stretch/>
        </p:blipFill>
        <p:spPr>
          <a:xfrm>
            <a:off x="539640" y="3035160"/>
            <a:ext cx="8128080" cy="13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3" descr=""/>
          <p:cNvPicPr/>
          <p:nvPr/>
        </p:nvPicPr>
        <p:blipFill>
          <a:blip r:embed="rId1"/>
          <a:srcRect l="0" t="24122" r="5980" b="46374"/>
          <a:stretch/>
        </p:blipFill>
        <p:spPr>
          <a:xfrm>
            <a:off x="324000" y="2879640"/>
            <a:ext cx="848664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3" descr=""/>
          <p:cNvPicPr/>
          <p:nvPr/>
        </p:nvPicPr>
        <p:blipFill>
          <a:blip r:embed="rId1"/>
          <a:srcRect l="0" t="24122" r="4992" b="46374"/>
          <a:stretch/>
        </p:blipFill>
        <p:spPr>
          <a:xfrm>
            <a:off x="287280" y="2879640"/>
            <a:ext cx="857736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 3" descr=""/>
          <p:cNvPicPr/>
          <p:nvPr/>
        </p:nvPicPr>
        <p:blipFill>
          <a:blip r:embed="rId1"/>
          <a:srcRect l="0" t="24122" r="6981" b="46374"/>
          <a:stretch/>
        </p:blipFill>
        <p:spPr>
          <a:xfrm>
            <a:off x="360360" y="2879640"/>
            <a:ext cx="839628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18572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c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fr-FR" sz="6000" spc="-1" strike="noStrike">
                <a:solidFill>
                  <a:srgbClr val="c00000"/>
                </a:solidFill>
                <a:latin typeface="Arial"/>
                <a:ea typeface="Arial"/>
              </a:rPr>
              <a:t>Donner l’abscisse du point A en écriture décimale.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Image 4" descr=""/>
          <p:cNvPicPr/>
          <p:nvPr/>
        </p:nvPicPr>
        <p:blipFill>
          <a:blip r:embed="rId1"/>
          <a:srcRect l="3991" t="24122" r="5980" b="46374"/>
          <a:stretch/>
        </p:blipFill>
        <p:spPr>
          <a:xfrm>
            <a:off x="539640" y="2879640"/>
            <a:ext cx="812664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3" descr=""/>
          <p:cNvPicPr/>
          <p:nvPr/>
        </p:nvPicPr>
        <p:blipFill>
          <a:blip r:embed="rId1"/>
          <a:srcRect l="0" t="24122" r="4992" b="46374"/>
          <a:stretch/>
        </p:blipFill>
        <p:spPr>
          <a:xfrm>
            <a:off x="287280" y="2879640"/>
            <a:ext cx="857736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mage 3" descr=""/>
          <p:cNvPicPr/>
          <p:nvPr/>
        </p:nvPicPr>
        <p:blipFill>
          <a:blip r:embed="rId1"/>
          <a:srcRect l="0" t="24122" r="5032" b="46374"/>
          <a:stretch/>
        </p:blipFill>
        <p:spPr>
          <a:xfrm>
            <a:off x="287280" y="2879640"/>
            <a:ext cx="857268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 3" descr=""/>
          <p:cNvPicPr/>
          <p:nvPr/>
        </p:nvPicPr>
        <p:blipFill>
          <a:blip r:embed="rId1"/>
          <a:srcRect l="0" t="24122" r="4245" b="46374"/>
          <a:stretch/>
        </p:blipFill>
        <p:spPr>
          <a:xfrm>
            <a:off x="252360" y="2879640"/>
            <a:ext cx="864252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rcRect l="0" t="24122" r="6981" b="46374"/>
          <a:stretch/>
        </p:blipFill>
        <p:spPr>
          <a:xfrm>
            <a:off x="360360" y="2879640"/>
            <a:ext cx="839628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age 3" descr=""/>
          <p:cNvPicPr/>
          <p:nvPr/>
        </p:nvPicPr>
        <p:blipFill>
          <a:blip r:embed="rId1"/>
          <a:srcRect l="0" t="24122" r="4992" b="46374"/>
          <a:stretch/>
        </p:blipFill>
        <p:spPr>
          <a:xfrm>
            <a:off x="287280" y="2879640"/>
            <a:ext cx="8577360" cy="14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3" descr=""/>
          <p:cNvPicPr/>
          <p:nvPr/>
        </p:nvPicPr>
        <p:blipFill>
          <a:blip r:embed="rId1"/>
          <a:srcRect l="0" t="24122" r="4992" b="46374"/>
          <a:stretch/>
        </p:blipFill>
        <p:spPr>
          <a:xfrm>
            <a:off x="287280" y="2879640"/>
            <a:ext cx="8577360" cy="14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4:25:51Z</dcterms:modified>
  <cp:revision>14</cp:revision>
  <dc:subject/>
  <dc:title>Repérage Série n°1</dc:title>
</cp:coreProperties>
</file>