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C232B-F8E5-42D5-95E4-3081EC72C36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AB21F-64F3-4219-A99B-F55BCC60E0C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D276B-5E39-4D0D-9CAE-D39AEFDAE80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ED993-B1CF-40BB-AF48-DAE28933D51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C7F9D-B6DB-4016-AFD4-6406C386862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D1A89-1E8C-441E-885A-FC8D97DAFE7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D0D5C-06E9-424C-96B0-88AB8A2C2CA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90830-552E-4383-80A9-82F62238C89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3EBAB-41F1-4A68-89D8-35942FE5809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F4A12-B140-427E-810A-0800B584399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9D49-158D-47CE-A50A-8B2A4DF24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0233-AA83-445A-A6A7-7D17DDB15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2C8C-B74B-4AF7-8ACB-85172FB5D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B22A-36C3-4653-B400-0223B5A57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8127-4B09-4DEC-B67B-1EA58B28C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7B57-568A-495D-ACFC-8ECDC8619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2E82-1A17-40D3-AF1C-2BE90D7F4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498C-9FC9-4C69-87E2-762D17043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885D-2A2A-46B7-803C-7FD07EBF4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3991-2986-45A7-B72C-666A740A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D54F-2747-4727-A8D5-E5931241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962F-418C-4142-B8A6-73A06BC6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BE295-3483-4C0B-89B2-DEA3C8093B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4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Times New Roman"/>
              </a:rPr>
              <a:t>CODER UNE FIGURE (4)</a:t>
            </a:r>
            <a:br>
              <a:rPr sz="8000"/>
            </a:br>
            <a:r>
              <a:rPr b="1" lang="fr-FR" sz="8000" spc="-1" strike="noStrike">
                <a:solidFill>
                  <a:srgbClr val="000000"/>
                </a:solidFill>
                <a:latin typeface="Times New Roman"/>
              </a:rPr>
              <a:t>SÉRIE N°3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4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  <a:ea typeface="Arial"/>
              </a:rPr>
              <a:t>Les figures suivantes sont faites à main levée.</a:t>
            </a:r>
            <a:br>
              <a:rPr sz="4800"/>
            </a:br>
            <a:br>
              <a:rPr sz="4800"/>
            </a:br>
            <a:r>
              <a:rPr b="0" i="1" lang="fr-FR" sz="4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  <a:ea typeface="Arial"/>
              </a:rPr>
              <a:t>Coder chaque figure afin de respecter les informations données</a:t>
            </a:r>
            <a:br>
              <a:rPr sz="54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0/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(CE) est la médiatrice de [AB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_x0012_Droites remarq.pdf                                             004B003C_x000b_Disque imac                    BFCC89D1:"/>
          <p:cNvPicPr/>
          <p:nvPr/>
        </p:nvPicPr>
        <p:blipFill>
          <a:blip r:embed="rId1"/>
          <a:stretch/>
        </p:blipFill>
        <p:spPr>
          <a:xfrm>
            <a:off x="1295280" y="1295280"/>
            <a:ext cx="6477120" cy="5143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1/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(EB) est la médiatrice de [AC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_x0012_Droites remarq.pdf                                             004B003C_x000b_Disque imac                    BFCC89D1:"/>
          <p:cNvPicPr/>
          <p:nvPr/>
        </p:nvPicPr>
        <p:blipFill>
          <a:blip r:embed="rId1"/>
          <a:stretch/>
        </p:blipFill>
        <p:spPr>
          <a:xfrm>
            <a:off x="1295280" y="1371600"/>
            <a:ext cx="6477120" cy="5143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4" name="Object 9"/>
              <p:cNvSpPr txBox="1"/>
              <p:nvPr/>
            </p:nvSpPr>
            <p:spPr>
              <a:xfrm>
                <a:off x="6553080" y="228600"/>
                <a:ext cx="1040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5410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/ (CE) est la bissectrice de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5" descr="_x0012_Droites remarq.pdf                                             004B003C_x000b_Disque imac                    BFCC89D1:"/>
          <p:cNvPicPr/>
          <p:nvPr/>
        </p:nvPicPr>
        <p:blipFill>
          <a:blip r:embed="rId1"/>
          <a:stretch/>
        </p:blipFill>
        <p:spPr>
          <a:xfrm>
            <a:off x="1295280" y="1143000"/>
            <a:ext cx="6477120" cy="5143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3/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(BE) est la médiane relative à [AC] dans le triangle 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_x0012_Droites remarq.pdf                                             004B003C_x000b_Disque imac                    BFCC89D1:"/>
          <p:cNvPicPr/>
          <p:nvPr/>
        </p:nvPicPr>
        <p:blipFill>
          <a:blip r:embed="rId1"/>
          <a:stretch/>
        </p:blipFill>
        <p:spPr>
          <a:xfrm>
            <a:off x="1295280" y="1295280"/>
            <a:ext cx="6477120" cy="5143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72320" cy="86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4/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A est le point d’intersection des hauteurs (ou l’orthocentre) dans le triangle E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4" descr="_x0012_Droites remarq.pdf                                             004B003C_x000b_Disque imac                    BFCC89D1:"/>
          <p:cNvPicPr/>
          <p:nvPr/>
        </p:nvPicPr>
        <p:blipFill>
          <a:blip r:embed="rId1"/>
          <a:stretch/>
        </p:blipFill>
        <p:spPr>
          <a:xfrm>
            <a:off x="1371600" y="1371600"/>
            <a:ext cx="6477120" cy="5143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10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5/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E est le centre du cercle inscrit dans le triangle A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_x0012_Droites remarq.pdf                                             004B003C_x000b_Disque imac                    BFCC89D1:"/>
          <p:cNvPicPr/>
          <p:nvPr/>
        </p:nvPicPr>
        <p:blipFill>
          <a:blip r:embed="rId1"/>
          <a:stretch/>
        </p:blipFill>
        <p:spPr>
          <a:xfrm>
            <a:off x="1295280" y="1295280"/>
            <a:ext cx="6477120" cy="5143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4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65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ionseg</dc:creator>
  <dc:description/>
  <dc:language>en-US</dc:language>
  <cp:lastModifiedBy>Marionseg</cp:lastModifiedBy>
  <dcterms:modified xsi:type="dcterms:W3CDTF">2010-05-30T07:58:05Z</dcterms:modified>
  <cp:revision>19</cp:revision>
  <dc:subject/>
  <dc:title>PowerPoint Presentation</dc:title>
</cp:coreProperties>
</file>