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10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AFFE-5677-4CEF-B9DE-0C32033D41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F331-6F79-4FDB-B66C-5462D9B3A3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64BD-4982-4397-BDF6-6FF0D1C8FA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136F-205D-4CDB-84AF-48E3E94F85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47ED-1C7A-425E-89C8-15C0BA3654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3914-7D8E-4B10-AB73-CDA89C0AC3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F7D6-4DB2-4D4E-8259-D135CBB7E3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7B92-2D36-4A6F-BF71-C6D093C945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4BB4-E140-46D0-B811-AC3C9B42F9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7465-A9DB-4A5A-A9D4-A7CC3C684F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0BA9-2FE5-4BDF-A21A-A8978EBB78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1FF1-3D39-4AEC-BB5E-E0217762FF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65A0-62F6-4A71-B677-9F8041D187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7EF-07DC-440B-BB32-81AE25C3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EF50-B2BF-467D-B867-C00756BA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8317-66B3-48C2-965C-E37B9F01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DA3-1B2A-4C57-AAE6-62991C10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662-27A8-4057-872E-DA525556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EAC-7AA0-4B73-A725-9CCDD990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283-6904-4BE6-A2EE-2F4A876A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2BC-9D6A-49C0-9BEF-0F605349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7B2F-8D5A-4F42-8212-FE1FE848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963-8457-4316-9732-3F57D072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1AB-CFDF-4A83-BF9B-65D1895D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9D9-E7EA-4E78-90BB-22467F79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D9EC-CFE5-49AD-A15C-DA24C20BB3D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ANGLES</a:t>
            </a:r>
            <a:br>
              <a:rPr sz="4400"/>
            </a:b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question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9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4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10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2" descr=""/>
          <p:cNvPicPr/>
          <p:nvPr/>
        </p:nvPicPr>
        <p:blipFill>
          <a:blip r:embed="rId1"/>
          <a:stretch/>
        </p:blipFill>
        <p:spPr>
          <a:xfrm>
            <a:off x="720720" y="1800360"/>
            <a:ext cx="7020000" cy="473076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pons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57200" y="1600200"/>
          <a:ext cx="8229600" cy="4513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9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: adjacents et supplément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: adjacents et complément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: opposés par le somm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: opposés par le sommet et supplément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: alternes int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: correspond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: correspond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: alternes int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: alternes inter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: complémentai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r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1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6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2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3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4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5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6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7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°8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angles colorés sont-ils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djacents ? complémentaires ? supplémentaires ?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posés par le sommet ? alternes internes ? correspondan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7021440" cy="451476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7"/>
          <p:cNvSpPr/>
          <p:nvPr/>
        </p:nvSpPr>
        <p:spPr>
          <a:xfrm>
            <a:off x="7835400" y="6158520"/>
            <a:ext cx="1287000" cy="423000"/>
          </a:xfrm>
          <a:custGeom>
            <a:avLst/>
            <a:gdLst>
              <a:gd name="textAreaLeft" fmla="*/ 27360 w 1287000"/>
              <a:gd name="textAreaRight" fmla="*/ 1259640 w 1287000"/>
              <a:gd name="textAreaTop" fmla="*/ 27360 h 423000"/>
              <a:gd name="textAreaBottom" fmla="*/ 395640 h 423000"/>
            </a:gdLst>
            <a:ahLst/>
            <a:rect l="textAreaLeft" t="textAreaTop" r="textAreaRight" b="textAreaBottom"/>
            <a:pathLst>
              <a:path w="65682" h="21600">
                <a:moveTo>
                  <a:pt x="0" y="0"/>
                </a:moveTo>
                <a:lnTo>
                  <a:pt x="65682" y="0"/>
                </a:lnTo>
                <a:lnTo>
                  <a:pt x="65682" y="21600"/>
                </a:lnTo>
                <a:lnTo>
                  <a:pt x="0" y="21600"/>
                </a:lnTo>
                <a:close/>
              </a:path>
              <a:path fill="lightenLess" w="65682" h="21600">
                <a:moveTo>
                  <a:pt x="0" y="0"/>
                </a:moveTo>
                <a:lnTo>
                  <a:pt x="65682" y="0"/>
                </a:lnTo>
                <a:lnTo>
                  <a:pt x="64282" y="1400"/>
                </a:lnTo>
                <a:lnTo>
                  <a:pt x="1400" y="1400"/>
                </a:lnTo>
                <a:close/>
              </a:path>
              <a:path fill="darken" w="65682" h="21600">
                <a:moveTo>
                  <a:pt x="65682" y="0"/>
                </a:moveTo>
                <a:lnTo>
                  <a:pt x="65682" y="21600"/>
                </a:lnTo>
                <a:lnTo>
                  <a:pt x="64282" y="20200"/>
                </a:lnTo>
                <a:lnTo>
                  <a:pt x="64282" y="1400"/>
                </a:lnTo>
                <a:close/>
              </a:path>
              <a:path fill="darkenLess" w="65682" h="21600">
                <a:moveTo>
                  <a:pt x="656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82" y="20200"/>
                </a:lnTo>
                <a:close/>
              </a:path>
              <a:path fill="lighten" w="656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682" h="21600">
                <a:moveTo>
                  <a:pt x="25834" y="3794"/>
                </a:moveTo>
                <a:lnTo>
                  <a:pt x="39847" y="10800"/>
                </a:lnTo>
                <a:lnTo>
                  <a:pt x="2583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06:42Z</dcterms:created>
  <dc:creator>ms</dc:creator>
  <dc:description/>
  <dc:language>en-US</dc:language>
  <cp:lastModifiedBy>Marionseg</cp:lastModifiedBy>
  <dcterms:modified xsi:type="dcterms:W3CDTF">2010-01-02T20:17:57Z</dcterms:modified>
  <cp:revision>13</cp:revision>
  <dc:subject/>
  <dc:title>Diapositive 1</dc:title>
</cp:coreProperties>
</file>