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A97A-DDA3-4A13-BADE-7B4178B39F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211A-B5AA-47E8-9951-E2DC6BDCB9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46D4-E56E-4D8E-B143-FC3016B812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B78A-AE1E-4094-939E-B6390442EA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5D46-8648-43B4-B085-3B3EB59D62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26D-9C54-452C-9B40-6732E1AC51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4A90-D54F-4542-A1A2-C13C28EF0A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7887-83BB-469B-A572-474AFBDF2C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4135-66BE-4356-981B-48FFC8E2FC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603B-A8D5-4BD1-A3F7-A3276CFF44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F720-8B0A-44AF-83B5-11BDED60EC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2698-29CE-4667-B4B2-F1BB16D7D6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7AFF-2BA2-475C-96AE-3B6AB19417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F5B2-2655-4A46-B0FF-79C2284DE5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080-1593-4CCC-B355-897C6346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6D9-13E5-4EBA-9ACD-24CE5B58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F94-6E39-4799-B3C5-5BBECCCA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E35-876E-454B-A6FD-D01A1276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AD70-101D-47E7-A975-EA7FD753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38E-94F7-449A-8475-180B3A8D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213B-0CF4-469C-8ECD-23F00D46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559-B304-41D9-B3D8-32F5FDBE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652-255F-40F0-AE18-4B4D2143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BDE-3E89-4C7F-A352-CA1AD62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CD1-4E11-4CD1-AEAC-F911C65E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219-FC6F-4C30-8366-6B7DDE2D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33A0-6629-4B5D-8BFF-52443115A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ombres relatifs (1)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br>
              <a:rPr sz="6000"/>
            </a:br>
            <a:br>
              <a:rPr sz="6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10 calcul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2158920" y="3238560"/>
                <a:ext cx="48801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1619280" y="3238560"/>
                <a:ext cx="60278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2158920" y="3238560"/>
                <a:ext cx="51469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7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91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0" y="2857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alculer en respectant les règles opératoires.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1619280" y="3238560"/>
                <a:ext cx="57229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1619280" y="3238560"/>
                <a:ext cx="56642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2158920" y="3238560"/>
                <a:ext cx="42498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2158920" y="3238560"/>
                <a:ext cx="432288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7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5"/>
              <p:cNvSpPr txBox="1"/>
              <p:nvPr/>
            </p:nvSpPr>
            <p:spPr>
              <a:xfrm>
                <a:off x="1619280" y="3238560"/>
                <a:ext cx="65134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8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2158920" y="3238560"/>
                <a:ext cx="48736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0,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1619280" y="3238560"/>
                <a:ext cx="60642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14:41Z</dcterms:created>
  <dc:creator>ms</dc:creator>
  <dc:description/>
  <dc:language>en-US</dc:language>
  <cp:lastModifiedBy>Marionseg</cp:lastModifiedBy>
  <dcterms:modified xsi:type="dcterms:W3CDTF">2010-01-22T16:40:33Z</dcterms:modified>
  <cp:revision>17</cp:revision>
  <dc:subject/>
  <dc:title>Nombres relatifs (1) Série n°2  10 calculs 10 secondes par calcul</dc:title>
</cp:coreProperties>
</file>