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04B6-861D-47E2-940F-502FEAC242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17C1-F8FF-45DA-9302-84891C4834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A6F2-1E2B-40E0-AC1F-799AE5DA62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F2EC-6F12-4030-ABA0-E22BD4C8EA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EC8C-7351-4410-9358-68F2D629E6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A66C-9222-486D-A35A-08DBFCECA2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3257-6FCB-4D2D-913F-1B7641C617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94C4-579B-4FA0-AD3E-9129D4212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A1C-8A4C-4161-837A-92BFDEB5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2A97-3205-49E1-BB36-26DFE529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233-6EB2-45DC-87B6-AA11E1AC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D31A-FFD7-4D43-90E2-1FB4D577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621B-FC25-4327-A0C2-3E7D65DF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7923-28E5-4579-AD60-4290EB38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A31C-8DC6-4CBF-80F6-2F90A121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FE60-2F59-402C-926F-28D98F0DB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1B5C8-F957-4B86-B71F-852B4812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B15A-82AD-467B-9299-CFB77AF5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0E0-749F-49A8-B062-F0579213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C9C2-2F7A-462D-9643-D1B79E88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8761-31C0-42E1-B1BF-688004FD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8E7F-4FE0-42EE-9842-4FCA788C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7706-43B2-4336-8EB2-6B65E87D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F34B-0736-4E92-9135-721069EE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80A3B-3D3B-4A3F-9868-861F182E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6F8B1-A34B-4479-B3DD-F59C8A13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6F6CE-5686-48F0-83F1-527DD848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19692-14C6-43EE-921A-6930B71D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BB088-5079-4EC6-9736-4D3BB2BD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CCE-A1C7-4E30-85C1-8397883A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94B8F-68BF-43EC-9529-114A79DF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81B10-5FDD-47D1-A9D4-1FED9E4F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1AFE9-50F3-454B-BBC5-8606B6BC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A48E4-9777-4A78-A517-65E3AF22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7589C-0A7A-47AF-94B1-F216BC32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99D3-D4EF-4917-A726-736587EB7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5AA86-100D-4E6C-B030-E05B65AA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C34-5A0A-4DB9-BAEE-15B7A8D6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DA21-DE89-43FA-94C7-EDAB720B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AE1-44E4-4DF3-93C7-E7C353EB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E3B2-F1F6-46F5-8493-B6544483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E2B-30E3-49E6-A740-8BDF9162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FAC-8518-4D62-B6A2-A875F11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E7AF-B6E8-42D3-81FC-D4A8286A2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9B78-A47A-4C2D-9AA7-E048051BF639}" type="slidenum">
              <a:rPr b="0" lang="fr-FR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DDFC-9F34-4B5D-8C40-10C95EFC184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FRACTIONS : VRAI OU FAUX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SÉRIE N°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libri"/>
              </a:rPr>
              <a:t>Les égalités sont-elles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Calibri"/>
              </a:rPr>
              <a:t>vraies ou fausses ?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0"/>
              <p:cNvSpPr txBox="1"/>
              <p:nvPr/>
            </p:nvSpPr>
            <p:spPr>
              <a:xfrm>
                <a:off x="1514520" y="2143080"/>
                <a:ext cx="618660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0"/>
              <p:cNvSpPr txBox="1"/>
              <p:nvPr/>
            </p:nvSpPr>
            <p:spPr>
              <a:xfrm>
                <a:off x="1986120" y="2143080"/>
                <a:ext cx="524340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0"/>
              <p:cNvSpPr txBox="1"/>
              <p:nvPr/>
            </p:nvSpPr>
            <p:spPr>
              <a:xfrm>
                <a:off x="1776240" y="2143080"/>
                <a:ext cx="566424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1512720" y="2143080"/>
                <a:ext cx="618984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2143080" y="2143080"/>
                <a:ext cx="4929120" cy="307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4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13:43:57Z</dcterms:created>
  <dc:creator>ms</dc:creator>
  <dc:description/>
  <dc:language>en-US</dc:language>
  <cp:lastModifiedBy>Marionseg</cp:lastModifiedBy>
  <dcterms:modified xsi:type="dcterms:W3CDTF">2010-01-17T20:09:02Z</dcterms:modified>
  <cp:revision>3</cp:revision>
  <dc:subject/>
  <dc:title>Fractions : Vrai ou Faux  Série n°4</dc:title>
</cp:coreProperties>
</file>