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782D-83A7-4A08-A248-57B254C83B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9DAF-57B3-4D3D-B98D-49CD17CF87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BAA1-05D7-495A-B6E3-1C8919A772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C7B6-D71A-4D42-B5A9-448E861441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9C44-43B9-4920-A572-7682C4AD20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6F1-87F8-4066-A1BB-80E057E884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243F-D09D-4448-A8D8-EAB64418C04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65A7-9E39-4987-BE12-1DEA388A19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3F4A-87AB-4A79-869E-848F4D831A9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9DC44-0A4B-4E72-A6A9-52DAD58914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20AD-4DDF-4B1E-8E64-B6229E2D262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4945-FEF2-4A47-B184-026A121CDA6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00A2-C2CF-43B2-B0FE-F7212D1B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6C64-9ADF-4CA0-B212-9135C3D1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4251-5303-4147-AC6E-25178DFD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9E4-07D2-4713-BDBB-430AC3F2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92F8C-6F3A-4D1D-BCB5-CC8521B99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4022-F68E-4ED5-ACB3-2E44BFD4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4977-7258-43BF-B93E-86DDD7F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7366-484A-4270-9CDB-6D31988A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4BE26-5250-45F3-B00A-EB791C1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7F0A-5259-4964-8667-15A7246C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7FD8-F77E-42A4-92B5-44D1B0CA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884-5409-47A0-AB7B-D63322B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202D-9F15-44FB-BE2F-448FD66E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72BF-1B57-464D-9CAB-54EE845F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A848-0166-49A6-9DB6-F19BF333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12C-5ED1-4F68-8496-0AB2870A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29E4-DE2D-4037-A4A7-86B106A4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E02-B9CF-48FA-81BA-1C674F4A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6D5-D37D-46FF-9341-E67A4A5B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383-6093-4CAE-8128-EE148BEB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713A-E336-41A4-A38C-E72F9C44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66EE-7949-42A1-9F26-DA3382AB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F7C9-BB9B-4733-8912-3039ABB5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C84-4CFF-4394-B351-25ED7BF2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3505320" y="188640"/>
            <a:ext cx="2133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588-C514-4F0F-9E45-51BDBC0BC446}" type="slidenum"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4557600" y="1052640"/>
            <a:ext cx="28800" cy="580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7"/>
          <p:cNvSpPr/>
          <p:nvPr/>
        </p:nvSpPr>
        <p:spPr>
          <a:xfrm>
            <a:off x="468360" y="2349360"/>
            <a:ext cx="3743280" cy="21592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8"/>
          <p:cNvSpPr/>
          <p:nvPr/>
        </p:nvSpPr>
        <p:spPr>
          <a:xfrm>
            <a:off x="4932360" y="2349360"/>
            <a:ext cx="3743280" cy="2159280"/>
          </a:xfrm>
          <a:prstGeom prst="rect">
            <a:avLst/>
          </a:prstGeom>
          <a:noFill/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6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2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8217-7BC9-4818-9733-4D802DCEA1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TABLES DE MULTIPLICATION</a:t>
            </a:r>
            <a:br>
              <a:rPr sz="5400"/>
            </a:br>
            <a:br>
              <a:rPr sz="5400"/>
            </a:br>
            <a:r>
              <a:rPr b="1" lang="fr-FR" sz="5400" spc="-1" strike="noStrike">
                <a:solidFill>
                  <a:srgbClr val="000000"/>
                </a:solidFill>
                <a:latin typeface="Arial"/>
              </a:rPr>
              <a:t>SÉRIES N°2 ET 2BI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642960" y="3213720"/>
            <a:ext cx="350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24 combien de fois 6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076720" y="3213720"/>
            <a:ext cx="349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40 combien de fois 5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642960" y="297396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7 pour obtenir 21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072040" y="294048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9 pour obtenir 18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1469880" y="3252960"/>
                <a:ext cx="17431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6"/>
              <p:cNvSpPr txBox="1"/>
              <p:nvPr/>
            </p:nvSpPr>
            <p:spPr>
              <a:xfrm>
                <a:off x="5987880" y="3252960"/>
                <a:ext cx="1800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Espace réservé du numéro de diapositive 5"/>
          <p:cNvSpPr/>
          <p:nvPr/>
        </p:nvSpPr>
        <p:spPr>
          <a:xfrm>
            <a:off x="3505320" y="20952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3840" y="2601720"/>
            <a:ext cx="8643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3193920" y="5126040"/>
            <a:ext cx="5748480" cy="1317600"/>
            <a:chOff x="3193920" y="5126040"/>
            <a:chExt cx="5748480" cy="1317600"/>
          </a:xfrm>
        </p:grpSpPr>
        <p:pic>
          <p:nvPicPr>
            <p:cNvPr id="145" name="Titre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193920" y="5126040"/>
              <a:ext cx="574848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214800" y="5143680"/>
              <a:ext cx="5715000" cy="12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Correction : cliquer sur la flèche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pour revenir à la 1</a:t>
              </a:r>
              <a:r>
                <a:rPr b="0" lang="fr-FR" sz="4000" spc="-1" strike="noStrike" baseline="30000">
                  <a:solidFill>
                    <a:srgbClr val="19934a"/>
                  </a:solidFill>
                  <a:latin typeface="French Script MT"/>
                  <a:ea typeface="Times New Roman"/>
                </a:rPr>
                <a:t>ère</a:t>
              </a:r>
              <a:r>
                <a:rPr b="0" lang="fr-FR" sz="4000" spc="-1" strike="noStrike">
                  <a:solidFill>
                    <a:srgbClr val="19934a"/>
                  </a:solidFill>
                  <a:latin typeface="French Script MT"/>
                  <a:ea typeface="Times New Roman"/>
                </a:rPr>
                <a:t> question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Bouton d'action : Retour 3">
            <a:hlinkClick r:id="rId3" action="ppaction://hlinksldjump"/>
          </p:cNvPr>
          <p:cNvSpPr/>
          <p:nvPr/>
        </p:nvSpPr>
        <p:spPr>
          <a:xfrm>
            <a:off x="7929720" y="5357880"/>
            <a:ext cx="857160" cy="857160"/>
          </a:xfrm>
          <a:custGeom>
            <a:avLst/>
            <a:gdLst>
              <a:gd name="textAreaLeft" fmla="*/ 55440 w 857160"/>
              <a:gd name="textAreaRight" fmla="*/ 801720 w 857160"/>
              <a:gd name="textAreaTop" fmla="*/ 55440 h 857160"/>
              <a:gd name="textAreaBottom" fmla="*/ 8017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b050"/>
          </a:solidFill>
          <a:ln w="25560">
            <a:solidFill>
              <a:srgbClr val="1993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9680" y="2130120"/>
            <a:ext cx="8286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ffectuer la multiplication proposée, compléter l’égalité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ou répondre à la ques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4271400" y="3094920"/>
            <a:ext cx="601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4271400" y="3501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1746360" y="3252960"/>
                <a:ext cx="11462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3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Rectangle 18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17"/>
              <p:cNvSpPr txBox="1"/>
              <p:nvPr/>
            </p:nvSpPr>
            <p:spPr>
              <a:xfrm>
                <a:off x="6197760" y="3252960"/>
                <a:ext cx="1190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642960" y="314388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6 pour obtenir 42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5072040" y="311040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multiplier 7 pour obtenir 49 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1523880" y="3252960"/>
                <a:ext cx="18003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5981760" y="3252960"/>
                <a:ext cx="181296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571680" y="321372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32 combien de fois 8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5072040" y="3213720"/>
            <a:ext cx="353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ns 42 combien de fois 7 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1447920" y="3252960"/>
                <a:ext cx="181584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1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0"/>
              <p:cNvSpPr txBox="1"/>
              <p:nvPr/>
            </p:nvSpPr>
            <p:spPr>
              <a:xfrm>
                <a:off x="5935680" y="3252960"/>
                <a:ext cx="17431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42960" y="3108240"/>
            <a:ext cx="335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6 pour obtenir 6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5143680" y="3141720"/>
            <a:ext cx="335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 quel nombre faut-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ultiplier 8 pour obtenir 8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1817640" y="3252960"/>
                <a:ext cx="11653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Rectangle 7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6"/>
              <p:cNvSpPr txBox="1"/>
              <p:nvPr/>
            </p:nvSpPr>
            <p:spPr>
              <a:xfrm>
                <a:off x="6197760" y="3252960"/>
                <a:ext cx="1190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Espace réservé du numéro de diapositive 5"/>
          <p:cNvSpPr/>
          <p:nvPr/>
        </p:nvSpPr>
        <p:spPr>
          <a:xfrm>
            <a:off x="3505320" y="189000"/>
            <a:ext cx="2133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8:18:55Z</dcterms:created>
  <dc:creator>.</dc:creator>
  <dc:description/>
  <dc:language>en-US</dc:language>
  <cp:lastModifiedBy>Marionseg</cp:lastModifiedBy>
  <dcterms:modified xsi:type="dcterms:W3CDTF">2010-01-17T20:33:42Z</dcterms:modified>
  <cp:revision>27</cp:revision>
  <dc:subject/>
  <dc:title>Diapositive 1</dc:title>
</cp:coreProperties>
</file>