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65D3-204A-4D1C-9592-31C09C0ECA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4FD4-05BA-49B6-A194-156586DB8D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FEBE-DCA6-4C2C-8C8E-70A5A673A1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33DB-2B84-4E46-B4CA-E3A976C05D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C63D-F217-4C66-AD49-B3C134507F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3323-47EE-4F8E-9698-685105BEBE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7C7D-6437-4CDE-A26F-737838EF2A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6A3F-3CAA-48D9-8EA5-EE90B6E2AB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A29F-6CFA-435C-8A54-5EF58D2CBD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42A7-C80C-418D-BAF4-1917C547BC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76F8-3A9C-4EFC-9066-89B2964048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7D7A-3F8E-479E-80AF-C466F06595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4B22-6DF9-4918-9749-1E6F3E00C6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8893-9A78-487B-A17C-6B40F1BA32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9CA7-1A97-43DB-BCBD-F16A1752BF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56C5-1800-407C-85B8-B6F0038F69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444E-59F3-4F38-BD4C-AC65422958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2BFB-3C55-47D1-9DD6-1A1FF08C1F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7A8C-77C4-4D76-9513-5CE7193D38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DD1C-0406-4A98-9A2C-12AB532ECB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147B-848A-489A-AA32-37DB08E136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57CF-6747-4787-A305-5991394C18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3F94-7B7C-4213-A6F7-D730E2EABE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AD6A-08FE-4F23-BE47-79F5EA09C9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D3B-1554-477C-8BF7-ADD149B3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E78-1546-4A57-96F4-56CE67BB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E36-A67C-47FE-8DA2-F53B914A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E11-8D50-4895-84DD-B35829A9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78F7-92C1-4276-85B5-898FC866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5127-4E01-4A35-A3D1-E826B117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2AE-5F02-407E-9E85-C7892521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16DD-69CF-48FE-829A-F4CEEA55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3A8-98AF-489B-9DF7-094C7212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4F9-44AE-4401-8004-7D1F0DEE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402-9F0D-41B0-AE0E-8255457C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C23-273C-4AAD-BA5B-3AE5447F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265A-4722-483B-A0A5-DD0067B88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FORME DÉVELOPPÉE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FORME FACTORISÉE (1)</a:t>
            </a:r>
            <a:br>
              <a:rPr sz="6000"/>
            </a:b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5"/>
              <p:cNvSpPr txBox="1"/>
              <p:nvPr/>
            </p:nvSpPr>
            <p:spPr>
              <a:xfrm>
                <a:off x="108000" y="3238560"/>
                <a:ext cx="886608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5"/>
              <p:cNvSpPr txBox="1"/>
              <p:nvPr/>
            </p:nvSpPr>
            <p:spPr>
              <a:xfrm>
                <a:off x="588960" y="3228840"/>
                <a:ext cx="79646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731880" y="3228840"/>
                <a:ext cx="78566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104760" y="3255840"/>
                <a:ext cx="901080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1798560" y="1438200"/>
                <a:ext cx="58658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01" name=""/>
          <p:cNvGraphicFramePr/>
          <p:nvPr/>
        </p:nvGraphicFramePr>
        <p:xfrm>
          <a:off x="428760" y="3000240"/>
          <a:ext cx="8215200" cy="1989360"/>
        </p:xfrm>
        <a:graphic>
          <a:graphicData uri="http://schemas.openxmlformats.org/drawingml/2006/table">
            <a:tbl>
              <a:tblPr/>
              <a:tblGrid>
                <a:gridCol w="433080"/>
                <a:gridCol w="2567160"/>
                <a:gridCol w="2643120"/>
                <a:gridCol w="257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ni développée ni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Flèche droite rayée 7"/>
          <p:cNvSpPr/>
          <p:nvPr/>
        </p:nvSpPr>
        <p:spPr>
          <a:xfrm flipV="1" rot="7405800">
            <a:off x="2905560" y="2985480"/>
            <a:ext cx="1683360" cy="166680"/>
          </a:xfrm>
          <a:prstGeom prst="pie">
            <a:avLst/>
          </a:prstGeom>
          <a:solidFill>
            <a:srgbClr val="adadeb"/>
          </a:solidFill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8"/>
          <p:cNvSpPr/>
          <p:nvPr/>
        </p:nvSpPr>
        <p:spPr>
          <a:xfrm>
            <a:off x="857160" y="36399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4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1023840" y="1428840"/>
                <a:ext cx="705960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Rectangle 2"/>
          <p:cNvSpPr/>
          <p:nvPr/>
        </p:nvSpPr>
        <p:spPr>
          <a:xfrm>
            <a:off x="64296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28760" y="3000240"/>
          <a:ext cx="8215200" cy="2055960"/>
        </p:xfrm>
        <a:graphic>
          <a:graphicData uri="http://schemas.openxmlformats.org/drawingml/2006/table">
            <a:tbl>
              <a:tblPr/>
              <a:tblGrid>
                <a:gridCol w="433080"/>
                <a:gridCol w="2424240"/>
                <a:gridCol w="2786040"/>
                <a:gridCol w="257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ni développée ni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Flèche droite rayée 8"/>
          <p:cNvSpPr/>
          <p:nvPr/>
        </p:nvSpPr>
        <p:spPr>
          <a:xfrm flipV="1" rot="4552200">
            <a:off x="3859560" y="2985840"/>
            <a:ext cx="1683000" cy="166680"/>
          </a:xfrm>
          <a:prstGeom prst="pie">
            <a:avLst/>
          </a:prstGeom>
          <a:solidFill>
            <a:srgbClr val="adadeb"/>
          </a:solidFill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9"/>
          <p:cNvSpPr/>
          <p:nvPr/>
        </p:nvSpPr>
        <p:spPr>
          <a:xfrm>
            <a:off x="3286080" y="3701880"/>
            <a:ext cx="285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)(4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1500120" y="1428840"/>
                <a:ext cx="6346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28760" y="3000240"/>
          <a:ext cx="8215200" cy="2055960"/>
        </p:xfrm>
        <a:graphic>
          <a:graphicData uri="http://schemas.openxmlformats.org/drawingml/2006/table">
            <a:tbl>
              <a:tblPr/>
              <a:tblGrid>
                <a:gridCol w="433080"/>
                <a:gridCol w="2352960"/>
                <a:gridCol w="2643120"/>
                <a:gridCol w="2786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ni développée ni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Flèche droite rayée 8"/>
          <p:cNvSpPr/>
          <p:nvPr/>
        </p:nvSpPr>
        <p:spPr>
          <a:xfrm flipV="1" rot="2826600">
            <a:off x="4650120" y="2994480"/>
            <a:ext cx="1683000" cy="166680"/>
          </a:xfrm>
          <a:prstGeom prst="pie">
            <a:avLst/>
          </a:prstGeom>
          <a:solidFill>
            <a:srgbClr val="adadeb"/>
          </a:solidFill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9"/>
          <p:cNvSpPr/>
          <p:nvPr/>
        </p:nvSpPr>
        <p:spPr>
          <a:xfrm>
            <a:off x="6000840" y="370188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+ 3(4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–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5"/>
              <p:cNvSpPr txBox="1"/>
              <p:nvPr/>
            </p:nvSpPr>
            <p:spPr>
              <a:xfrm>
                <a:off x="1562040" y="1428840"/>
                <a:ext cx="6077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Rectangle 2"/>
          <p:cNvSpPr/>
          <p:nvPr/>
        </p:nvSpPr>
        <p:spPr>
          <a:xfrm>
            <a:off x="64296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28760" y="3000240"/>
          <a:ext cx="8215200" cy="2055960"/>
        </p:xfrm>
        <a:graphic>
          <a:graphicData uri="http://schemas.openxmlformats.org/drawingml/2006/table">
            <a:tbl>
              <a:tblPr/>
              <a:tblGrid>
                <a:gridCol w="433080"/>
                <a:gridCol w="2567160"/>
                <a:gridCol w="2714760"/>
                <a:gridCol w="2500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ni développée ni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Flèche droite rayée 8"/>
          <p:cNvSpPr/>
          <p:nvPr/>
        </p:nvSpPr>
        <p:spPr>
          <a:xfrm rot="4741200">
            <a:off x="3873240" y="2940120"/>
            <a:ext cx="1539720" cy="152280"/>
          </a:xfrm>
          <a:prstGeom prst="pie">
            <a:avLst/>
          </a:prstGeom>
          <a:solidFill>
            <a:srgbClr val="adadeb"/>
          </a:solidFill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9"/>
          <p:cNvSpPr/>
          <p:nvPr/>
        </p:nvSpPr>
        <p:spPr>
          <a:xfrm>
            <a:off x="3286080" y="371160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5"/>
              <p:cNvSpPr txBox="1"/>
              <p:nvPr/>
            </p:nvSpPr>
            <p:spPr>
              <a:xfrm>
                <a:off x="2771640" y="1438200"/>
                <a:ext cx="33292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28760" y="3000240"/>
          <a:ext cx="8215200" cy="2055960"/>
        </p:xfrm>
        <a:graphic>
          <a:graphicData uri="http://schemas.openxmlformats.org/drawingml/2006/table">
            <a:tbl>
              <a:tblPr/>
              <a:tblGrid>
                <a:gridCol w="433080"/>
                <a:gridCol w="2567160"/>
                <a:gridCol w="2714760"/>
                <a:gridCol w="2500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ni développée ni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Flèche droite rayée 8"/>
          <p:cNvSpPr/>
          <p:nvPr/>
        </p:nvSpPr>
        <p:spPr>
          <a:xfrm flipV="1" rot="4174800">
            <a:off x="3929760" y="2947680"/>
            <a:ext cx="1683000" cy="166680"/>
          </a:xfrm>
          <a:prstGeom prst="pie">
            <a:avLst/>
          </a:prstGeom>
          <a:solidFill>
            <a:srgbClr val="adadeb"/>
          </a:solidFill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oneTexte 10"/>
          <p:cNvSpPr/>
          <p:nvPr/>
        </p:nvSpPr>
        <p:spPr>
          <a:xfrm>
            <a:off x="3571920" y="371484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L’expression proposée est-elle développée et réduite ?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Est-elle factorisée 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5"/>
              <p:cNvSpPr txBox="1"/>
              <p:nvPr/>
            </p:nvSpPr>
            <p:spPr>
              <a:xfrm>
                <a:off x="900000" y="1438200"/>
                <a:ext cx="726300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28760" y="3000240"/>
          <a:ext cx="8215200" cy="2055960"/>
        </p:xfrm>
        <a:graphic>
          <a:graphicData uri="http://schemas.openxmlformats.org/drawingml/2006/table">
            <a:tbl>
              <a:tblPr/>
              <a:tblGrid>
                <a:gridCol w="433080"/>
                <a:gridCol w="3067200"/>
                <a:gridCol w="2214720"/>
                <a:gridCol w="2500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ni développée ni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Flèche droite rayée 8"/>
          <p:cNvSpPr/>
          <p:nvPr/>
        </p:nvSpPr>
        <p:spPr>
          <a:xfrm flipV="1" rot="7671000">
            <a:off x="3312360" y="3057480"/>
            <a:ext cx="1682640" cy="166680"/>
          </a:xfrm>
          <a:prstGeom prst="pie">
            <a:avLst/>
          </a:prstGeom>
          <a:solidFill>
            <a:srgbClr val="adadeb"/>
          </a:solidFill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9"/>
          <p:cNvSpPr/>
          <p:nvPr/>
        </p:nvSpPr>
        <p:spPr>
          <a:xfrm>
            <a:off x="785880" y="371160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48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72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5"/>
              <p:cNvSpPr txBox="1"/>
              <p:nvPr/>
            </p:nvSpPr>
            <p:spPr>
              <a:xfrm>
                <a:off x="108000" y="1438200"/>
                <a:ext cx="886608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2"/>
          <p:cNvSpPr/>
          <p:nvPr/>
        </p:nvSpPr>
        <p:spPr>
          <a:xfrm>
            <a:off x="642960" y="214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8760" y="3000240"/>
          <a:ext cx="8215200" cy="2143440"/>
        </p:xfrm>
        <a:graphic>
          <a:graphicData uri="http://schemas.openxmlformats.org/drawingml/2006/table">
            <a:tbl>
              <a:tblPr/>
              <a:tblGrid>
                <a:gridCol w="433080"/>
                <a:gridCol w="3567240"/>
                <a:gridCol w="1714680"/>
                <a:gridCol w="2500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ni développée ni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Flèche droite rayée 8"/>
          <p:cNvSpPr/>
          <p:nvPr/>
        </p:nvSpPr>
        <p:spPr>
          <a:xfrm flipV="1" rot="6460800">
            <a:off x="3574800" y="3084480"/>
            <a:ext cx="1420560" cy="147240"/>
          </a:xfrm>
          <a:prstGeom prst="pie">
            <a:avLst/>
          </a:prstGeom>
          <a:solidFill>
            <a:srgbClr val="adadeb"/>
          </a:solidFill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9"/>
          <p:cNvSpPr/>
          <p:nvPr/>
        </p:nvSpPr>
        <p:spPr>
          <a:xfrm>
            <a:off x="785880" y="3714840"/>
            <a:ext cx="37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5"/>
              <p:cNvSpPr txBox="1"/>
              <p:nvPr/>
            </p:nvSpPr>
            <p:spPr>
              <a:xfrm>
                <a:off x="588960" y="1428840"/>
                <a:ext cx="79646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28760" y="3000240"/>
          <a:ext cx="8215200" cy="2055960"/>
        </p:xfrm>
        <a:graphic>
          <a:graphicData uri="http://schemas.openxmlformats.org/drawingml/2006/table">
            <a:tbl>
              <a:tblPr/>
              <a:tblGrid>
                <a:gridCol w="433080"/>
                <a:gridCol w="2281320"/>
                <a:gridCol w="2000520"/>
                <a:gridCol w="3500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ni développée ni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Flèche droite rayée 8"/>
          <p:cNvSpPr/>
          <p:nvPr/>
        </p:nvSpPr>
        <p:spPr>
          <a:xfrm flipV="1" rot="3826800">
            <a:off x="4034160" y="3066120"/>
            <a:ext cx="1682640" cy="166320"/>
          </a:xfrm>
          <a:prstGeom prst="pie">
            <a:avLst/>
          </a:prstGeom>
          <a:solidFill>
            <a:srgbClr val="adadeb"/>
          </a:solidFill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9"/>
          <p:cNvSpPr/>
          <p:nvPr/>
        </p:nvSpPr>
        <p:spPr>
          <a:xfrm>
            <a:off x="5072040" y="3643200"/>
            <a:ext cx="3714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+ </a:t>
            </a:r>
            <a:r>
              <a:rPr b="0" i="1" lang="fr-FR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731880" y="1428840"/>
                <a:ext cx="78566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8760" y="3000240"/>
          <a:ext cx="8215200" cy="2055960"/>
        </p:xfrm>
        <a:graphic>
          <a:graphicData uri="http://schemas.openxmlformats.org/drawingml/2006/table">
            <a:tbl>
              <a:tblPr/>
              <a:tblGrid>
                <a:gridCol w="433080"/>
                <a:gridCol w="2210040"/>
                <a:gridCol w="3143160"/>
                <a:gridCol w="2428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ni développée ni factoris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Flèche droite rayée 9"/>
          <p:cNvSpPr/>
          <p:nvPr/>
        </p:nvSpPr>
        <p:spPr>
          <a:xfrm flipV="1" rot="5731800">
            <a:off x="3984840" y="2975040"/>
            <a:ext cx="1419480" cy="189000"/>
          </a:xfrm>
          <a:prstGeom prst="pie">
            <a:avLst/>
          </a:prstGeom>
          <a:solidFill>
            <a:srgbClr val="adadeb"/>
          </a:solidFill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ZoneTexte 10"/>
          <p:cNvSpPr/>
          <p:nvPr/>
        </p:nvSpPr>
        <p:spPr>
          <a:xfrm>
            <a:off x="2786040" y="3714840"/>
            <a:ext cx="3786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 × </a:t>
            </a:r>
            <a:r>
              <a:rPr b="0" i="1" lang="fr-FR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5"/>
              <p:cNvSpPr txBox="1"/>
              <p:nvPr/>
            </p:nvSpPr>
            <p:spPr>
              <a:xfrm>
                <a:off x="101520" y="1454040"/>
                <a:ext cx="90090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28760" y="3000240"/>
          <a:ext cx="8429400" cy="2055960"/>
        </p:xfrm>
        <a:graphic>
          <a:graphicData uri="http://schemas.openxmlformats.org/drawingml/2006/table">
            <a:tbl>
              <a:tblPr/>
              <a:tblGrid>
                <a:gridCol w="444240"/>
                <a:gridCol w="2270160"/>
                <a:gridCol w="3214800"/>
                <a:gridCol w="2500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ni développée ni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Flèche droite rayée 9"/>
          <p:cNvSpPr/>
          <p:nvPr/>
        </p:nvSpPr>
        <p:spPr>
          <a:xfrm flipV="1" rot="3826800">
            <a:off x="3831840" y="2994480"/>
            <a:ext cx="1517760" cy="152640"/>
          </a:xfrm>
          <a:prstGeom prst="pie">
            <a:avLst/>
          </a:prstGeom>
          <a:solidFill>
            <a:srgbClr val="adadeb"/>
          </a:solidFill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ZoneTexte 10"/>
          <p:cNvSpPr/>
          <p:nvPr/>
        </p:nvSpPr>
        <p:spPr>
          <a:xfrm>
            <a:off x="2714760" y="371484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(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4)(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(6 – 7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Un exemple ?</a:t>
            </a: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ZoneTexte 4"/>
          <p:cNvSpPr/>
          <p:nvPr/>
        </p:nvSpPr>
        <p:spPr>
          <a:xfrm>
            <a:off x="785880" y="17146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)(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28760" y="3000240"/>
          <a:ext cx="8215200" cy="2055960"/>
        </p:xfrm>
        <a:graphic>
          <a:graphicData uri="http://schemas.openxmlformats.org/drawingml/2006/table">
            <a:tbl>
              <a:tblPr/>
              <a:tblGrid>
                <a:gridCol w="433080"/>
                <a:gridCol w="2567160"/>
                <a:gridCol w="2714760"/>
                <a:gridCol w="2500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ni développée ni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Flèche droite rayée 6"/>
          <p:cNvSpPr/>
          <p:nvPr/>
        </p:nvSpPr>
        <p:spPr>
          <a:xfrm flipV="1" rot="3826800">
            <a:off x="3779640" y="2987280"/>
            <a:ext cx="1683000" cy="164880"/>
          </a:xfrm>
          <a:prstGeom prst="pie">
            <a:avLst/>
          </a:prstGeom>
          <a:solidFill>
            <a:srgbClr val="adadeb"/>
          </a:solidFill>
          <a:ln w="2556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000160" y="521496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... On continue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11"/>
          <p:cNvSpPr/>
          <p:nvPr/>
        </p:nvSpPr>
        <p:spPr>
          <a:xfrm>
            <a:off x="3429000" y="364320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)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1979640" y="3238560"/>
                <a:ext cx="58626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1054080" y="3228840"/>
                <a:ext cx="700092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1500120" y="3228840"/>
                <a:ext cx="6346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562040" y="3228840"/>
                <a:ext cx="6077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2771640" y="3238560"/>
                <a:ext cx="332928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5"/>
              <p:cNvSpPr txBox="1"/>
              <p:nvPr/>
            </p:nvSpPr>
            <p:spPr>
              <a:xfrm>
                <a:off x="900000" y="3238560"/>
                <a:ext cx="726300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3:56:17Z</dcterms:created>
  <dc:creator>ms</dc:creator>
  <dc:description/>
  <dc:language>en-US</dc:language>
  <cp:lastModifiedBy>Marionseg</cp:lastModifiedBy>
  <dcterms:modified xsi:type="dcterms:W3CDTF">2010-01-22T15:55:25Z</dcterms:modified>
  <cp:revision>16</cp:revision>
  <dc:subject/>
  <dc:title>S’agit-il d’une expression développée ? factorisée ?</dc:title>
</cp:coreProperties>
</file>