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F3FEC-EFF0-41F3-933A-CE37EAE14FC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0E86C-1163-498E-B0A0-0FFD41FB780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F0746-5B0F-44BB-B18B-C93407470A1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AC3FD-6D8D-4477-88DB-CB82E8A68A6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75951-3DC5-4481-BEEC-A9B04362019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56EC0-C849-43C9-81F9-452E0A3DC4D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E0287-7D70-46F2-AAD7-0266483C77B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C1E7E-015A-408D-81B2-25142AA9EBF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7AA11-8900-4720-A552-64FB48ABA5D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94B54-BD38-445E-91AD-22E4061A4FB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4099B-5A30-4A3F-8792-A048E2DF964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DD53D-96BD-4F99-AB72-D1860B4F5F2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A8239-4ECE-4DF4-AC23-8CA8DB529CB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B8DD5-01DE-4D65-8CF7-928127EAE2E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A44AA-FB6C-4EB1-88E0-910E1B2AE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78FFA-D16A-486D-BA8D-7C36999F7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1756C-F12C-4938-9912-0BD5F255A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FA076-8989-4D2F-B3C8-A3AE24929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13A13-3D2E-4228-A5E1-F6FE40103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FDD6E-8487-40AF-9F9F-245485CE5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A66D1-DC72-4B37-9380-065067F25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64ECC-23DF-4D89-A0F6-7F4A4475C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5CEDF-5056-4275-BED0-CCD9FFA76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B8775-8F7D-425E-B395-5746F6C4D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F5805-D619-477E-B252-26A637DA7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5F91D-ABAA-4E25-900A-B0404E93F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1F21C-F317-41DB-BA87-F35482B44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DE11C-E378-460C-A7C7-DA04B70E7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53105-7E43-4857-B79A-F57CDD237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2DBA7-683A-47F8-B20A-D3FFA7554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AC60E-17F2-40FC-826C-70F9B14A5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C5C24-E4CB-4B4F-835E-47F471E92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16BE0-7A49-4F2E-AF31-88D2B171D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A7424-AE40-4718-8EEE-6B7923580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A52C7-662C-4546-AAF4-824E45AC4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0933F-0075-482D-9695-9DF38819D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A3DFB-F481-45B6-BE3E-44A81FA0D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4056B-9D7E-4894-91E1-9E8E64D21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4EAFA-7944-421F-990C-F79474164C1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9F6D2-C45B-487B-9764-A6EE658D6F9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.png"/><Relationship Id="rId3" Type="http://schemas.openxmlformats.org/officeDocument/2006/relationships/slide" Target="slide3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217296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000000"/>
                </a:solidFill>
                <a:latin typeface="Calibri"/>
              </a:rPr>
              <a:t>VOCABULAIRE ET OPÉRATIONS (2)</a:t>
            </a:r>
            <a:br>
              <a:rPr sz="5400"/>
            </a:br>
            <a:r>
              <a:rPr b="1" lang="fr-FR" sz="5400" spc="-1" strike="noStrike">
                <a:solidFill>
                  <a:srgbClr val="000000"/>
                </a:solidFill>
                <a:latin typeface="Calibri"/>
              </a:rPr>
              <a:t>SÉRIE N°3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55640" y="1798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  <a:ea typeface="Arial"/>
              </a:rPr>
              <a:t>N°8 :</a:t>
            </a:r>
            <a:br>
              <a:rPr sz="6000"/>
            </a:br>
            <a:br>
              <a:rPr sz="6000"/>
            </a:br>
            <a:r>
              <a:rPr b="0" lang="fr-FR" sz="6000" spc="-1" strike="noStrike">
                <a:solidFill>
                  <a:srgbClr val="000000"/>
                </a:solidFill>
                <a:latin typeface="Arial"/>
                <a:ea typeface="Arial"/>
              </a:rPr>
              <a:t>Le carré de </a:t>
            </a:r>
            <a:br>
              <a:rPr sz="6000"/>
            </a:br>
            <a:r>
              <a:rPr b="0" lang="fr-FR" sz="6000" spc="-1" strike="noStrike">
                <a:solidFill>
                  <a:srgbClr val="000000"/>
                </a:solidFill>
                <a:latin typeface="Arial"/>
                <a:ea typeface="Arial"/>
              </a:rPr>
              <a:t>la somme de 3 et de 4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73040" y="2214360"/>
            <a:ext cx="831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  <a:ea typeface="Arial"/>
              </a:rPr>
              <a:t>N°9 :</a:t>
            </a:r>
            <a:br>
              <a:rPr sz="6000"/>
            </a:br>
            <a:br>
              <a:rPr sz="6000"/>
            </a:br>
            <a:r>
              <a:rPr b="0" lang="fr-FR" sz="6000" spc="-1" strike="noStrike">
                <a:solidFill>
                  <a:srgbClr val="000000"/>
                </a:solidFill>
                <a:latin typeface="Arial"/>
                <a:ea typeface="Arial"/>
              </a:rPr>
              <a:t>Le produit de la somme de 3 et de 4 par la différence de 4 et de 5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85840" y="2356920"/>
            <a:ext cx="850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  <a:ea typeface="Arial"/>
              </a:rPr>
              <a:t>N°10 :</a:t>
            </a:r>
            <a:br>
              <a:rPr sz="6000"/>
            </a:br>
            <a:br>
              <a:rPr sz="6000"/>
            </a:br>
            <a:r>
              <a:rPr b="0" lang="fr-FR" sz="6000" spc="-1" strike="noStrike">
                <a:solidFill>
                  <a:srgbClr val="000000"/>
                </a:solidFill>
                <a:latin typeface="Arial"/>
                <a:ea typeface="Arial"/>
              </a:rPr>
              <a:t>La somme </a:t>
            </a:r>
            <a:br>
              <a:rPr sz="6000"/>
            </a:br>
            <a:r>
              <a:rPr b="0" lang="fr-FR" sz="6000" spc="-1" strike="noStrike">
                <a:solidFill>
                  <a:srgbClr val="000000"/>
                </a:solidFill>
                <a:latin typeface="Arial"/>
                <a:ea typeface="Arial"/>
              </a:rPr>
              <a:t>du produit de 3 par 4 et du produit de 4 par 5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428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0" spc="-1" strike="noStrike">
                <a:solidFill>
                  <a:srgbClr val="000000"/>
                </a:solidFill>
                <a:latin typeface="Arial"/>
                <a:ea typeface="Arial"/>
              </a:rPr>
              <a:t>FIN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Titre 1"/>
          <p:cNvGrpSpPr/>
          <p:nvPr/>
        </p:nvGrpSpPr>
        <p:grpSpPr>
          <a:xfrm>
            <a:off x="3193920" y="5126040"/>
            <a:ext cx="5748480" cy="1317600"/>
            <a:chOff x="3193920" y="5126040"/>
            <a:chExt cx="5748480" cy="1317600"/>
          </a:xfrm>
        </p:grpSpPr>
        <p:pic>
          <p:nvPicPr>
            <p:cNvPr id="103" name="Titre 1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3193920" y="5126040"/>
              <a:ext cx="5748480" cy="131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3214800" y="5143680"/>
              <a:ext cx="5715000" cy="12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Correction : cliquer sur la flèche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pour revenir à la 1</a:t>
              </a:r>
              <a:r>
                <a:rPr b="0" lang="fr-FR" sz="4000" spc="-1" strike="noStrike" baseline="30000">
                  <a:solidFill>
                    <a:srgbClr val="19934a"/>
                  </a:solidFill>
                  <a:latin typeface="French Script MT"/>
                  <a:ea typeface="Times New Roman"/>
                </a:rPr>
                <a:t>ère</a:t>
              </a: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 question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Bouton d'action : Retour 3">
            <a:hlinkClick r:id="rId3" action="ppaction://hlinksldjump"/>
          </p:cNvPr>
          <p:cNvSpPr/>
          <p:nvPr/>
        </p:nvSpPr>
        <p:spPr>
          <a:xfrm>
            <a:off x="7929720" y="5357880"/>
            <a:ext cx="857160" cy="857160"/>
          </a:xfrm>
          <a:custGeom>
            <a:avLst/>
            <a:gdLst>
              <a:gd name="textAreaLeft" fmla="*/ 55440 w 857160"/>
              <a:gd name="textAreaRight" fmla="*/ 801720 w 857160"/>
              <a:gd name="textAreaTop" fmla="*/ 55440 h 857160"/>
              <a:gd name="textAreaBottom" fmla="*/ 801720 h 857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b050"/>
          </a:solidFill>
          <a:ln w="25560">
            <a:solidFill>
              <a:srgbClr val="1993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55640" y="2636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000000"/>
                </a:solidFill>
                <a:latin typeface="Arial"/>
                <a:ea typeface="Arial"/>
              </a:rPr>
              <a:t>Traduire chaque phrase par une expression numérique sans la calculer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55640" y="1798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  <a:ea typeface="Arial"/>
              </a:rPr>
              <a:t>N°1 :</a:t>
            </a:r>
            <a:br>
              <a:rPr sz="6000"/>
            </a:br>
            <a:br>
              <a:rPr sz="6000"/>
            </a:br>
            <a:r>
              <a:rPr b="0" lang="fr-FR" sz="6000" spc="-1" strike="noStrike">
                <a:solidFill>
                  <a:srgbClr val="000000"/>
                </a:solidFill>
                <a:latin typeface="Arial"/>
                <a:ea typeface="Arial"/>
              </a:rPr>
              <a:t>La somme de 3 et </a:t>
            </a:r>
            <a:br>
              <a:rPr sz="6000"/>
            </a:br>
            <a:r>
              <a:rPr b="0" lang="fr-FR" sz="6000" spc="-1" strike="noStrike">
                <a:solidFill>
                  <a:srgbClr val="000000"/>
                </a:solidFill>
                <a:latin typeface="Arial"/>
                <a:ea typeface="Arial"/>
              </a:rPr>
              <a:t>du produit de 4 par 5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55640" y="1798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  <a:ea typeface="Arial"/>
              </a:rPr>
              <a:t>N°2 :</a:t>
            </a:r>
            <a:br>
              <a:rPr sz="6000"/>
            </a:br>
            <a:br>
              <a:rPr sz="6000"/>
            </a:br>
            <a:r>
              <a:rPr b="0" lang="fr-FR" sz="6000" spc="-1" strike="noStrike">
                <a:solidFill>
                  <a:srgbClr val="000000"/>
                </a:solidFill>
                <a:latin typeface="Arial"/>
                <a:ea typeface="Arial"/>
              </a:rPr>
              <a:t>Le produit de 3 par </a:t>
            </a:r>
            <a:br>
              <a:rPr sz="6000"/>
            </a:br>
            <a:r>
              <a:rPr b="0" lang="fr-FR" sz="6000" spc="-1" strike="noStrike">
                <a:solidFill>
                  <a:srgbClr val="000000"/>
                </a:solidFill>
                <a:latin typeface="Arial"/>
                <a:ea typeface="Arial"/>
              </a:rPr>
              <a:t>la somme de 4 et de 5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55640" y="179820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  <a:ea typeface="Arial"/>
              </a:rPr>
              <a:t>N°3 :</a:t>
            </a:r>
            <a:br>
              <a:rPr sz="6000"/>
            </a:br>
            <a:br>
              <a:rPr sz="6000"/>
            </a:br>
            <a:r>
              <a:rPr b="0" lang="fr-FR" sz="6000" spc="-1" strike="noStrike">
                <a:solidFill>
                  <a:srgbClr val="000000"/>
                </a:solidFill>
                <a:latin typeface="Arial"/>
                <a:ea typeface="Arial"/>
              </a:rPr>
              <a:t>La différence de 3 et </a:t>
            </a:r>
            <a:br>
              <a:rPr sz="6000"/>
            </a:br>
            <a:r>
              <a:rPr b="0" lang="fr-FR" sz="6000" spc="-1" strike="noStrike">
                <a:solidFill>
                  <a:srgbClr val="000000"/>
                </a:solidFill>
                <a:latin typeface="Arial"/>
                <a:ea typeface="Arial"/>
              </a:rPr>
              <a:t>du quotient de 4 par 5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55640" y="207144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  <a:ea typeface="Arial"/>
              </a:rPr>
              <a:t>N°4 :</a:t>
            </a:r>
            <a:br>
              <a:rPr sz="6000"/>
            </a:br>
            <a:br>
              <a:rPr sz="6000"/>
            </a:br>
            <a:r>
              <a:rPr b="0" lang="fr-FR" sz="6000" spc="-1" strike="noStrike">
                <a:solidFill>
                  <a:srgbClr val="000000"/>
                </a:solidFill>
                <a:latin typeface="Arial"/>
                <a:ea typeface="Arial"/>
              </a:rPr>
              <a:t>Le quotient de la différence de 3 et de 4 par 5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55640" y="1798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  <a:ea typeface="Arial"/>
              </a:rPr>
              <a:t>N°5 :</a:t>
            </a:r>
            <a:br>
              <a:rPr sz="6000"/>
            </a:br>
            <a:br>
              <a:rPr sz="6000"/>
            </a:br>
            <a:r>
              <a:rPr b="0" lang="fr-FR" sz="6000" spc="-1" strike="noStrike">
                <a:solidFill>
                  <a:srgbClr val="000000"/>
                </a:solidFill>
                <a:latin typeface="Arial"/>
                <a:ea typeface="Arial"/>
              </a:rPr>
              <a:t>Le produit de 3 par le quotient de 4 par 5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55640" y="1798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  <a:ea typeface="Arial"/>
              </a:rPr>
              <a:t>N°6 :</a:t>
            </a:r>
            <a:br>
              <a:rPr sz="6000"/>
            </a:br>
            <a:br>
              <a:rPr sz="6000"/>
            </a:br>
            <a:r>
              <a:rPr b="0" lang="fr-FR" sz="6000" spc="-1" strike="noStrike">
                <a:solidFill>
                  <a:srgbClr val="000000"/>
                </a:solidFill>
                <a:latin typeface="Arial"/>
                <a:ea typeface="Arial"/>
              </a:rPr>
              <a:t>Le quotient du produit de 3 et de 4 par 5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55640" y="1798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  <a:ea typeface="Arial"/>
              </a:rPr>
              <a:t>N°7 :</a:t>
            </a:r>
            <a:br>
              <a:rPr sz="6000"/>
            </a:br>
            <a:br>
              <a:rPr sz="6000"/>
            </a:br>
            <a:r>
              <a:rPr b="0" lang="fr-FR" sz="6000" spc="-1" strike="noStrike">
                <a:solidFill>
                  <a:srgbClr val="000000"/>
                </a:solidFill>
                <a:latin typeface="Arial"/>
                <a:ea typeface="Arial"/>
              </a:rPr>
              <a:t>La somme du carré de 3 et du carré de 4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1T12:12:22Z</dcterms:created>
  <dc:creator>ms</dc:creator>
  <dc:description/>
  <dc:language>en-US</dc:language>
  <cp:lastModifiedBy>Marionseg</cp:lastModifiedBy>
  <dcterms:modified xsi:type="dcterms:W3CDTF">2010-01-22T17:58:04Z</dcterms:modified>
  <cp:revision>10</cp:revision>
  <dc:subject/>
  <dc:title>Traduire chaque phrase par une expression numérique</dc:title>
</cp:coreProperties>
</file>