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A473-EE36-440A-8634-6B1439B893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3166-766C-46CB-A7AF-55D85EC2A2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AF2D-FAFA-47FE-92B2-5068B577EB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5BA3-C142-4A2C-A7F5-AF6A422E90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6067-2C51-4098-8A8D-6AB962AFA4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613D-BA34-48CF-A9DB-0FC806623C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B673-0355-4B4D-A792-3BB475E2BD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F609-D843-4171-B512-CD4523B0A2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756F-04E0-497B-B70F-87641D0433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6D3F-55D9-4CB3-B604-9B09045A49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4CF9-55A3-45B2-A97E-43B023131E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7352-D432-4B28-B054-1FE88F007A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E1D8-B903-4604-A560-6016C60637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A94F-F1AD-451D-9B75-9CAF531002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93A1-56F0-4075-B006-3AB56BB3A9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BF12-71EC-43C2-BCB8-8BA034FFD9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B19A-37B8-429E-B864-AFC5B55A99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1BF7-2827-4129-88E3-310074C181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D653-C40B-4F0B-B5D8-78A4B5D079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5A6A-C7B7-4615-83BD-535F4545CE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7086-4C2E-4E3F-A432-2E2D5768D7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0EFB-5415-4DCC-BA71-C3D0B9E083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E483-2EFC-4A82-8E02-015D5EE7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CA1C-4A72-4298-998E-E280F7C7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515B-02BE-4421-9B36-17E60C16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0A7A-D3DD-48A6-826E-0E62F5713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D3DC-C119-452F-ADDB-5877F278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D11-F709-408D-B9F7-175BDD37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625-ABBF-4347-9F29-3A1E0D60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322E-61B0-4F9A-8E49-E26FE6CD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FF8-09EB-4A35-B5C8-36348DD4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139A-B4A1-45AC-A9FD-3BE7FFD0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265-C60B-4346-872A-F7A2751B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BF8-0F0F-4EE1-961E-07B3A2F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6BE8-466B-4B18-913D-A840F8DD4D1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FORME FACTORISÉE (2)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ÉRIE N°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2819520" y="2583000"/>
                <a:ext cx="35589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2103480" y="2959200"/>
                <a:ext cx="4754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387360" y="2843280"/>
                <a:ext cx="8521560" cy="11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" name="ZoneTexte 4"/>
          <p:cNvSpPr/>
          <p:nvPr/>
        </p:nvSpPr>
        <p:spPr>
          <a:xfrm>
            <a:off x="0" y="2000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Le carré de 19 est 36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oneTexte 5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Réponse : </a:t>
            </a:r>
            <a:r>
              <a:rPr b="0" lang="fr-FR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6"/>
          <p:cNvSpPr/>
          <p:nvPr/>
        </p:nvSpPr>
        <p:spPr>
          <a:xfrm>
            <a:off x="5000760" y="3143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VR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2049480" y="4030560"/>
                <a:ext cx="334152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429160" y="4152960"/>
                <a:ext cx="3338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ZoneTexte 9"/>
          <p:cNvSpPr/>
          <p:nvPr/>
        </p:nvSpPr>
        <p:spPr>
          <a:xfrm>
            <a:off x="0" y="4071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5"/>
              <p:cNvSpPr txBox="1"/>
              <p:nvPr/>
            </p:nvSpPr>
            <p:spPr>
              <a:xfrm>
                <a:off x="2604960" y="1427040"/>
                <a:ext cx="41227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5"/>
          <p:cNvSpPr/>
          <p:nvPr/>
        </p:nvSpPr>
        <p:spPr>
          <a:xfrm>
            <a:off x="2643120" y="28576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Réponse : </a:t>
            </a:r>
            <a:r>
              <a:rPr b="0" lang="fr-FR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6"/>
          <p:cNvSpPr/>
          <p:nvPr/>
        </p:nvSpPr>
        <p:spPr>
          <a:xfrm>
            <a:off x="4929120" y="28576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VR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3071880" y="3745080"/>
                <a:ext cx="35193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ZoneTexte 8"/>
          <p:cNvSpPr/>
          <p:nvPr/>
        </p:nvSpPr>
        <p:spPr>
          <a:xfrm>
            <a:off x="1071720" y="378612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6786720" y="3840120"/>
                <a:ext cx="3110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2571840" y="2000160"/>
                <a:ext cx="4322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5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Réponse : </a:t>
            </a:r>
            <a:r>
              <a:rPr b="0" lang="fr-FR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6"/>
          <p:cNvSpPr/>
          <p:nvPr/>
        </p:nvSpPr>
        <p:spPr>
          <a:xfrm>
            <a:off x="4786200" y="3143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F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2236680" y="4092480"/>
                <a:ext cx="489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ZoneTexte 8"/>
          <p:cNvSpPr/>
          <p:nvPr/>
        </p:nvSpPr>
        <p:spPr>
          <a:xfrm>
            <a:off x="0" y="40719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3621240" y="4735440"/>
                <a:ext cx="52894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ZoneTexte 11"/>
          <p:cNvSpPr/>
          <p:nvPr/>
        </p:nvSpPr>
        <p:spPr>
          <a:xfrm>
            <a:off x="0" y="5500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n remarque aussi que le chiffre des unités dans le produit 28 × 32 est 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4" name="ZoneTexte 4"/>
          <p:cNvSpPr/>
          <p:nvPr/>
        </p:nvSpPr>
        <p:spPr>
          <a:xfrm>
            <a:off x="0" y="20001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Le carré de 4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est 4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4"/>
          <p:cNvSpPr/>
          <p:nvPr/>
        </p:nvSpPr>
        <p:spPr>
          <a:xfrm>
            <a:off x="2214720" y="3071880"/>
            <a:ext cx="43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Réponse : </a:t>
            </a:r>
            <a:r>
              <a:rPr b="0" lang="fr-FR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5"/>
          <p:cNvSpPr/>
          <p:nvPr/>
        </p:nvSpPr>
        <p:spPr>
          <a:xfrm>
            <a:off x="4599000" y="30718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F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2928960" y="4021200"/>
                <a:ext cx="15588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ZoneTexte 8"/>
          <p:cNvSpPr/>
          <p:nvPr/>
        </p:nvSpPr>
        <p:spPr>
          <a:xfrm>
            <a:off x="785880" y="407196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4665600" y="4022640"/>
                <a:ext cx="10224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"/>
              <p:cNvSpPr txBox="1"/>
              <p:nvPr/>
            </p:nvSpPr>
            <p:spPr>
              <a:xfrm>
                <a:off x="4195800" y="2658960"/>
                <a:ext cx="40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2319480" y="1535040"/>
                <a:ext cx="425592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 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6"/>
          <p:cNvSpPr/>
          <p:nvPr/>
        </p:nvSpPr>
        <p:spPr>
          <a:xfrm>
            <a:off x="2643120" y="30002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Réponse : </a:t>
            </a:r>
            <a:r>
              <a:rPr b="0" lang="fr-FR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7"/>
          <p:cNvSpPr/>
          <p:nvPr/>
        </p:nvSpPr>
        <p:spPr>
          <a:xfrm>
            <a:off x="4857840" y="30002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F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2254320" y="3807000"/>
                <a:ext cx="65484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" name="ZoneTexte 9"/>
          <p:cNvSpPr/>
          <p:nvPr/>
        </p:nvSpPr>
        <p:spPr>
          <a:xfrm>
            <a:off x="142920" y="400068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4116240" y="4643280"/>
                <a:ext cx="204480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"/>
              <p:cNvSpPr txBox="1"/>
              <p:nvPr/>
            </p:nvSpPr>
            <p:spPr>
              <a:xfrm>
                <a:off x="-2143080" y="0"/>
                <a:ext cx="914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ZoneTexte 10"/>
          <p:cNvSpPr/>
          <p:nvPr/>
        </p:nvSpPr>
        <p:spPr>
          <a:xfrm>
            <a:off x="214200" y="1214280"/>
            <a:ext cx="628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n développa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5315040" y="1197000"/>
                <a:ext cx="20127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ZoneTexte 12"/>
          <p:cNvSpPr/>
          <p:nvPr/>
        </p:nvSpPr>
        <p:spPr>
          <a:xfrm>
            <a:off x="2643120" y="2214720"/>
            <a:ext cx="605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on obti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5"/>
              <p:cNvSpPr txBox="1"/>
              <p:nvPr/>
            </p:nvSpPr>
            <p:spPr>
              <a:xfrm>
                <a:off x="5964120" y="2198520"/>
                <a:ext cx="1679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9"/>
          <p:cNvSpPr/>
          <p:nvPr/>
        </p:nvSpPr>
        <p:spPr>
          <a:xfrm>
            <a:off x="2643120" y="335772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Réponse : </a:t>
            </a:r>
            <a:r>
              <a:rPr b="0" lang="fr-FR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1"/>
          <p:cNvSpPr/>
          <p:nvPr/>
        </p:nvSpPr>
        <p:spPr>
          <a:xfrm>
            <a:off x="5000760" y="33577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F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2874960" y="4164120"/>
                <a:ext cx="19605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ZoneTexte 14"/>
          <p:cNvSpPr/>
          <p:nvPr/>
        </p:nvSpPr>
        <p:spPr>
          <a:xfrm>
            <a:off x="857160" y="42116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7"/>
              <p:cNvSpPr txBox="1"/>
              <p:nvPr/>
            </p:nvSpPr>
            <p:spPr>
              <a:xfrm>
                <a:off x="4951440" y="4164120"/>
                <a:ext cx="2222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9"/>
              <p:cNvSpPr txBox="1"/>
              <p:nvPr/>
            </p:nvSpPr>
            <p:spPr>
              <a:xfrm>
                <a:off x="-2143080" y="0"/>
                <a:ext cx="914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" name="ZoneTexte 10"/>
          <p:cNvSpPr/>
          <p:nvPr/>
        </p:nvSpPr>
        <p:spPr>
          <a:xfrm>
            <a:off x="857160" y="250020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factorisa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4000680" y="2394000"/>
                <a:ext cx="1672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ZoneTexte 12"/>
          <p:cNvSpPr/>
          <p:nvPr/>
        </p:nvSpPr>
        <p:spPr>
          <a:xfrm>
            <a:off x="2786040" y="335772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n ob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1"/>
              <p:cNvSpPr txBox="1"/>
              <p:nvPr/>
            </p:nvSpPr>
            <p:spPr>
              <a:xfrm>
                <a:off x="4989600" y="3411360"/>
                <a:ext cx="15224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" name="ZoneTexte 14"/>
          <p:cNvSpPr/>
          <p:nvPr/>
        </p:nvSpPr>
        <p:spPr>
          <a:xfrm>
            <a:off x="0" y="857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Tahoma"/>
              </a:rPr>
              <a:t>Répondre par VRAI ou FAUX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6"/>
          <p:cNvSpPr/>
          <p:nvPr/>
        </p:nvSpPr>
        <p:spPr>
          <a:xfrm>
            <a:off x="2714760" y="16430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Un exempl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9"/>
          <p:cNvSpPr/>
          <p:nvPr/>
        </p:nvSpPr>
        <p:spPr>
          <a:xfrm>
            <a:off x="2643120" y="44290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Réponse : 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20"/>
          <p:cNvSpPr/>
          <p:nvPr/>
        </p:nvSpPr>
        <p:spPr>
          <a:xfrm>
            <a:off x="5000760" y="442908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F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21"/>
          <p:cNvSpPr/>
          <p:nvPr/>
        </p:nvSpPr>
        <p:spPr>
          <a:xfrm>
            <a:off x="1143000" y="52862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3108240" y="5214960"/>
                <a:ext cx="21146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4"/>
              <p:cNvSpPr txBox="1"/>
              <p:nvPr/>
            </p:nvSpPr>
            <p:spPr>
              <a:xfrm>
                <a:off x="5357880" y="5357880"/>
                <a:ext cx="2320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2138400" y="1463760"/>
                <a:ext cx="446868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5"/>
          <p:cNvSpPr/>
          <p:nvPr/>
        </p:nvSpPr>
        <p:spPr>
          <a:xfrm>
            <a:off x="2643120" y="3214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Réponse : </a:t>
            </a:r>
            <a:r>
              <a:rPr b="0" lang="fr-FR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6"/>
          <p:cNvSpPr/>
          <p:nvPr/>
        </p:nvSpPr>
        <p:spPr>
          <a:xfrm>
            <a:off x="5000760" y="3214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F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4"/>
              <p:cNvSpPr txBox="1"/>
              <p:nvPr/>
            </p:nvSpPr>
            <p:spPr>
              <a:xfrm>
                <a:off x="1168560" y="4449600"/>
                <a:ext cx="7840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ZoneTexte 8"/>
          <p:cNvSpPr/>
          <p:nvPr/>
        </p:nvSpPr>
        <p:spPr>
          <a:xfrm>
            <a:off x="142920" y="3857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3357720" y="5357880"/>
                <a:ext cx="22669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"/>
              <p:cNvSpPr txBox="1"/>
              <p:nvPr/>
            </p:nvSpPr>
            <p:spPr>
              <a:xfrm>
                <a:off x="2819520" y="1392120"/>
                <a:ext cx="355896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5"/>
          <p:cNvSpPr/>
          <p:nvPr/>
        </p:nvSpPr>
        <p:spPr>
          <a:xfrm>
            <a:off x="2643120" y="3214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Réponse : </a:t>
            </a:r>
            <a:r>
              <a:rPr b="0" lang="fr-FR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oneTexte 6"/>
          <p:cNvSpPr/>
          <p:nvPr/>
        </p:nvSpPr>
        <p:spPr>
          <a:xfrm>
            <a:off x="5000760" y="321480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VR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2322360" y="3878280"/>
                <a:ext cx="43214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ZoneTexte 8"/>
          <p:cNvSpPr/>
          <p:nvPr/>
        </p:nvSpPr>
        <p:spPr>
          <a:xfrm>
            <a:off x="357120" y="40719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5"/>
              <p:cNvSpPr txBox="1"/>
              <p:nvPr/>
            </p:nvSpPr>
            <p:spPr>
              <a:xfrm>
                <a:off x="6621480" y="4071960"/>
                <a:ext cx="1778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3"/>
              <p:cNvSpPr txBox="1"/>
              <p:nvPr/>
            </p:nvSpPr>
            <p:spPr>
              <a:xfrm>
                <a:off x="2071800" y="1714680"/>
                <a:ext cx="475452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5"/>
          <p:cNvSpPr/>
          <p:nvPr/>
        </p:nvSpPr>
        <p:spPr>
          <a:xfrm>
            <a:off x="2643120" y="30002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Réponse : </a:t>
            </a:r>
            <a:r>
              <a:rPr b="0" lang="fr-FR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ZoneTexte 6"/>
          <p:cNvSpPr/>
          <p:nvPr/>
        </p:nvSpPr>
        <p:spPr>
          <a:xfrm>
            <a:off x="5000760" y="30002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VR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2106720" y="3902040"/>
                <a:ext cx="4900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ZoneTexte 8"/>
          <p:cNvSpPr/>
          <p:nvPr/>
        </p:nvSpPr>
        <p:spPr>
          <a:xfrm>
            <a:off x="142920" y="3857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3357720" y="4451400"/>
                <a:ext cx="45338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6"/>
              <p:cNvSpPr txBox="1"/>
              <p:nvPr/>
            </p:nvSpPr>
            <p:spPr>
              <a:xfrm>
                <a:off x="3336840" y="5143680"/>
                <a:ext cx="15112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316080" y="1569960"/>
                <a:ext cx="85215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ZoneTexte 5"/>
          <p:cNvSpPr/>
          <p:nvPr/>
        </p:nvSpPr>
        <p:spPr>
          <a:xfrm>
            <a:off x="257184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Réponse : </a:t>
            </a:r>
            <a:r>
              <a:rPr b="0" lang="fr-FR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ZoneTexte 6"/>
          <p:cNvSpPr/>
          <p:nvPr/>
        </p:nvSpPr>
        <p:spPr>
          <a:xfrm>
            <a:off x="4929120" y="3143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VR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1066680" y="4522680"/>
                <a:ext cx="77076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3" name="ZoneTexte 8"/>
          <p:cNvSpPr/>
          <p:nvPr/>
        </p:nvSpPr>
        <p:spPr>
          <a:xfrm>
            <a:off x="0" y="3857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4214880" y="5237280"/>
                <a:ext cx="21780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" name="ZoneTexte 4"/>
          <p:cNvSpPr/>
          <p:nvPr/>
        </p:nvSpPr>
        <p:spPr>
          <a:xfrm>
            <a:off x="0" y="29289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Le carré de 19 est 36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2676600" y="2822400"/>
                <a:ext cx="41227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2571840" y="2959200"/>
                <a:ext cx="4322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2" name="ZoneTexte 4"/>
          <p:cNvSpPr/>
          <p:nvPr/>
        </p:nvSpPr>
        <p:spPr>
          <a:xfrm>
            <a:off x="0" y="293544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Le carré de 4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est 4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4195800" y="2658960"/>
                <a:ext cx="40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2319480" y="2583000"/>
                <a:ext cx="425592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 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-2143080" y="0"/>
                <a:ext cx="914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" name="ZoneTexte 10"/>
          <p:cNvSpPr/>
          <p:nvPr/>
        </p:nvSpPr>
        <p:spPr>
          <a:xfrm>
            <a:off x="214200" y="16430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n développa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5386320" y="1627200"/>
                <a:ext cx="20145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2" name="ZoneTexte 12"/>
          <p:cNvSpPr/>
          <p:nvPr/>
        </p:nvSpPr>
        <p:spPr>
          <a:xfrm>
            <a:off x="2357280" y="3571920"/>
            <a:ext cx="62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on obti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5"/>
              <p:cNvSpPr txBox="1"/>
              <p:nvPr/>
            </p:nvSpPr>
            <p:spPr>
              <a:xfrm>
                <a:off x="5729400" y="3591000"/>
                <a:ext cx="1681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"/>
              <p:cNvSpPr txBox="1"/>
              <p:nvPr/>
            </p:nvSpPr>
            <p:spPr>
              <a:xfrm>
                <a:off x="2179800" y="2583000"/>
                <a:ext cx="4467240" cy="13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Marionseg</cp:lastModifiedBy>
  <dcterms:modified xsi:type="dcterms:W3CDTF">2010-01-22T16:07:37Z</dcterms:modified>
  <cp:revision>33</cp:revision>
  <dc:subject/>
  <dc:title>Diapositive 1</dc:title>
</cp:coreProperties>
</file>