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E9A0-B1A7-414F-8804-A53AB2E185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CA78-D807-444F-BD15-A12F143C8B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5F80-6297-4613-906F-26142D7ABB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D8F7-A55D-4B02-ADED-E0296F3A40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00DF-373B-4AB9-A236-90478F87BA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051E-42B2-4580-AAB3-B1392B4D2A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14EC-6CD1-4B77-A251-4745510A12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5DD3-49A6-4182-999F-5C50C2E24D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2B53-49DA-453F-88ED-79AE658924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C3D7-5D60-453B-8550-8591CDA38F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1044-B464-4FE7-A530-71581F50A0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7EFE-2AF9-48A5-A3E9-065E4AC0E7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30DF-CBC9-4718-B8F1-547938819C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E377-8ADA-4D1C-8F08-D8D1329959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AAFB-B3A0-427A-A586-528141AC0F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D3C7-D2DD-41A9-95E2-D8362C8E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B3F-852D-4FDC-88F9-E5898283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A1A-A0FF-41CE-A7D3-164C1BC0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105-5C83-494C-A301-2DE9C89E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7FA-AE7A-4BC0-AE22-3113817B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F5E-BE26-46BF-9531-979ACABA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F441-E9A9-497D-A888-0278D52B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2AB-720E-454D-B8A5-30EEBE74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36C-4105-4BE2-9378-3A37E96B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63F-2BB5-4BE5-AD01-A37164B0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36C-E5DE-4664-8BCB-EFB1D3B3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57E5-05F8-41A5-BA7D-23868361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5340-BDE5-4560-B3B2-8744648A5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158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VOCABULAIRE ET OPÉRATIONS (1)</a:t>
            </a:r>
            <a:br>
              <a:rPr sz="4900"/>
            </a:br>
            <a:r>
              <a:rPr b="1" lang="fr-FR" sz="4900" spc="-1" strike="noStrike">
                <a:solidFill>
                  <a:srgbClr val="000000"/>
                </a:solidFill>
                <a:latin typeface="Calibri"/>
              </a:rPr>
              <a:t>SÉRIE N°3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10 de plus, de moins, fois plus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100 fois moins que 17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1000 de plus que 5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2519280"/>
            <a:ext cx="87156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100 fois plus que 2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89 fois moins que 8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286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crire sur la grille-réponse uniquement le résultat de l’opération demand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ention! Chaque calcul est affiché en toutes lettres pendant un temps lim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calculatrice n’est pas autorisé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428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Calculer mentalement ..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10 de plus que 2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10 de moins que 2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10 fois plus que 2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10 fois moins que 2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0000"/>
                </a:solidFill>
                <a:latin typeface="Arial"/>
                <a:ea typeface="Arial"/>
              </a:rPr>
              <a:t>100 de moins que 583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1000 fois plus que 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29:57Z</dcterms:created>
  <dc:creator>ms</dc:creator>
  <dc:description/>
  <dc:language>en-US</dc:language>
  <cp:lastModifiedBy>Marionseg</cp:lastModifiedBy>
  <dcterms:modified xsi:type="dcterms:W3CDTF">2010-01-22T17:37:43Z</dcterms:modified>
  <cp:revision>6</cp:revision>
  <dc:subject/>
  <dc:title>Vocabulaire et Opérations (1) Série n°3</dc:title>
</cp:coreProperties>
</file>