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7831-56AB-482F-8776-83BAB4E31F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319B-A262-4390-A6C7-7DD8C8D521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111A-93D6-4DD3-9013-28DA40359D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81E8-4768-4E36-BA76-89C57C3BA0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310B-1D7B-405D-8027-91CE477208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1A72-27AD-4B07-A861-9AA5613809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6C4B-5688-4BB7-B7AC-D3BF7567E8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3362-9093-40C8-B573-F692E4D397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14A5-8972-4EF2-9A16-3BBBEE8E3A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CE08-EA8B-4BAC-9D72-A01F970EDB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68F9-15BB-47AC-88BB-961D3F1B67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8FBF-D1C5-4CFA-8D3D-E5828B4D8A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46E1-B158-4E34-AF5B-BB078ACE2A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8E4D-F960-4541-BC45-6E0BDB2BCB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782-25F2-4895-B049-F7778CCE8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54E-1DCA-4CE7-A835-24DF19B1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0C4B-1F7D-4BF2-A987-25668964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EBCF-46E8-43AF-94FB-8D5B092B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179-AF36-4A7F-82BD-C25A6CC4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104-8AB2-455C-853E-2827113E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18E-280E-4EA7-8A45-521673BF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7827-8958-4FA0-9C85-0EDB7ADD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4A4-3D7A-4EDF-99CC-10277D14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ABC-D7BE-4365-8E13-680DE3D6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D38-7104-480F-88C9-3D40BF03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C63-4818-405C-A2BC-E2603C4B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CA33-0DB4-4FC9-A865-83CF11F74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1437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5 est divisible par 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1437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0 est divisible par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0" y="1437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7 est divisible par 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par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9900"/>
                </a:solidFill>
                <a:latin typeface="Arial"/>
              </a:rPr>
              <a:t>VRAI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6000" spc="-1" strike="noStrike">
                <a:solidFill>
                  <a:srgbClr val="cc0000"/>
                </a:solidFill>
                <a:latin typeface="Arial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1450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8 est divisible par 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1450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3 est divisible par 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1437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4 est divisible par 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1450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0 est divisible par 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14508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1 est divisible pa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1437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3 est divisible par 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14374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4 est divisible par 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nseg</dc:creator>
  <dc:description/>
  <dc:language>en-US</dc:language>
  <cp:lastModifiedBy>Marionseg</cp:lastModifiedBy>
  <dcterms:modified xsi:type="dcterms:W3CDTF">2010-01-22T14:31:23Z</dcterms:modified>
  <cp:revision>9</cp:revision>
  <dc:subject/>
  <dc:title>PowerPoint Presentation</dc:title>
</cp:coreProperties>
</file>