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577A-4AFF-4C9D-AA8F-77814165E5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AA5F-446D-4337-B213-E9C2FD2F25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1C5E-047A-404B-BA50-9441E32AE6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0315-EDC6-4A33-8323-9BCAB7601A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4880-7128-4FEC-A6C5-D743673461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1059-E68A-4071-86E2-6D9364877A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3087-52FD-46C9-BCF7-9BE8F5F703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5F94-2F91-48B8-9684-1DB42645CA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1B5F-5ABF-4437-BC22-B469E25BE9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93CF-2DC6-43B1-98D3-82A664D215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87E3-1198-4441-8BD7-EC2B57D240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2325-69FE-4C0C-BB19-33EB66CEE5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2074-0D56-4BD8-A2EE-6C955692AC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A39E-12E1-46C5-8CC1-594FB3BBE4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583-2556-4AF0-A203-3E5AD04A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0E1-FB1C-46F2-B9FD-2E3B74A5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9C6-2C2D-4A2E-852A-C4D93338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0EF1-81BA-4483-A7E4-4EC06385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8561-59A2-4168-9921-AF094122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17FF-5CE2-45C4-9C9C-D5A483E8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C776-07F8-46F7-8C97-600687C3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8EA4-30F9-4DD2-B3F9-76B1FB90D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21DE-A4EE-4D77-9930-92E9F57D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741B-690F-41DB-B82C-8EE2ADBC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D285-610C-48B0-B6E5-FC1691DD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9CF-63F5-43DF-BEAA-2E382A45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D7EC-637F-4DCC-B43A-0EAFCBBA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BD99-554F-449E-9264-022964C0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CBE3-49EF-420F-BF56-2355DE33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B779-B572-4D11-A596-B9F104A6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9C01-B10A-4FAA-BC0C-B14F495B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13D-6F6C-4335-AF9A-6709D437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252-E176-40CC-A72C-DA3ACA85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A9A-3387-487E-9042-213884F1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8B94-F0EE-4B75-A90D-D6725601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642-8B79-4646-9BD3-FD26F511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FDE-F2CC-4EC2-8DA6-E48D197D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8EC-6EA6-445B-A375-3C4C12B6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9ADD-7F35-4614-B9E4-F5D21E149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7EF9-4682-421B-B132-10B6740A8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30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4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3640" y="17982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8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’opposé du carré de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17982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9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’inverse du carré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10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carré de l’inverse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Exprimer en fonction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(non nul) les phrases suivantes 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1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’opposé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2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’inverse de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17982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3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’opposé du double de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4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’inverse de l’opposé de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5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’opposé de l’inverse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17982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6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’inverse du double de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7982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7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carré de l’opposé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23:31Z</dcterms:created>
  <dc:creator>ms</dc:creator>
  <dc:description/>
  <dc:language>en-US</dc:language>
  <cp:lastModifiedBy>Marionseg</cp:lastModifiedBy>
  <dcterms:modified xsi:type="dcterms:W3CDTF">2010-01-22T18:08:04Z</dcterms:modified>
  <cp:revision>9</cp:revision>
  <dc:subject/>
  <dc:title>Exprimer en fonction de x (non nul) les phrases suivantes</dc:title>
</cp:coreProperties>
</file>