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8814-F443-435E-9091-32A6F7FAD5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4A10-CEC5-4169-9F7B-1C8032CE02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BCBD-3426-4150-910A-09F063F8EE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A1AD-627E-4896-9FD2-FF5E8DF2E5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3C4A-4B2A-4F71-9374-174BBE50E4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C62A-0551-448B-9F33-AB170C5181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3470-DBC6-4436-84B4-D006840C60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78A-AAD6-4CA0-A4BE-BF4C67BC2D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1F9A-F1E5-4F1F-A279-03659A3AA5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F618-FF4A-4F27-98FB-BDBB9ED8AB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17EE-3874-4115-BE32-919261B894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26A-EB29-4BB8-A238-83384DEC18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A581-3C88-446D-98B8-0F70EE98A7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A5C6-F6E7-44D4-BD25-49D17FE5C5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64E-317F-42ED-87EB-C182FE8C81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B999-AC01-4794-B092-30E8FE7D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369-BBB8-4013-A67E-BC60EC5F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254-CD5B-432B-8892-ADDEEE1A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154-31C9-4060-9B61-2A75DB22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D86-249D-47D9-9D45-9A720C65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DBA-FA3A-4524-BFD3-778C0720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0E3-C922-4066-B565-5943A8ED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008-BDAF-4679-AFB4-8B48A993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F68C-BEB5-4E04-A0B7-F178228F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E2C-0A24-480D-8002-6A466A77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DB1-E14F-4B8F-97EC-E5B48E94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90F-0839-44AC-AE45-66CBDEB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269C-4B74-4E5D-AEAB-9371C2B66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REPÉRAGE SUR UNE DROITE GRADUÉE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3" descr=""/>
          <p:cNvPicPr/>
          <p:nvPr/>
        </p:nvPicPr>
        <p:blipFill>
          <a:blip r:embed="rId1"/>
          <a:srcRect l="4980" t="47923" r="4980" b="2938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4" descr=""/>
          <p:cNvPicPr/>
          <p:nvPr/>
        </p:nvPicPr>
        <p:blipFill>
          <a:blip r:embed="rId1"/>
          <a:srcRect l="4980" t="47923" r="4980" b="2938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4" descr=""/>
          <p:cNvPicPr/>
          <p:nvPr/>
        </p:nvPicPr>
        <p:blipFill>
          <a:blip r:embed="rId1"/>
          <a:srcRect l="4980" t="46384" r="498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 4" descr=""/>
          <p:cNvPicPr/>
          <p:nvPr/>
        </p:nvPicPr>
        <p:blipFill>
          <a:blip r:embed="rId1"/>
          <a:srcRect l="4980" t="46384" r="498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c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6000" spc="-1" strike="noStrike">
                <a:solidFill>
                  <a:srgbClr val="c00000"/>
                </a:solidFill>
                <a:latin typeface="Arial"/>
                <a:ea typeface="Arial"/>
              </a:rPr>
              <a:t>Donner l’abscisse du point B en écriture fractionnaire.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3" descr=""/>
          <p:cNvPicPr/>
          <p:nvPr/>
        </p:nvPicPr>
        <p:blipFill>
          <a:blip r:embed="rId1"/>
          <a:srcRect l="0" t="46384" r="997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3" descr=""/>
          <p:cNvPicPr/>
          <p:nvPr/>
        </p:nvPicPr>
        <p:blipFill>
          <a:blip r:embed="rId1"/>
          <a:srcRect l="0" t="46384" r="997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4" descr=""/>
          <p:cNvPicPr/>
          <p:nvPr/>
        </p:nvPicPr>
        <p:blipFill>
          <a:blip r:embed="rId1"/>
          <a:srcRect l="6980" t="46384" r="299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 4" descr=""/>
          <p:cNvPicPr/>
          <p:nvPr/>
        </p:nvPicPr>
        <p:blipFill>
          <a:blip r:embed="rId1"/>
          <a:srcRect l="0" t="46384" r="997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4" descr=""/>
          <p:cNvPicPr/>
          <p:nvPr/>
        </p:nvPicPr>
        <p:blipFill>
          <a:blip r:embed="rId1"/>
          <a:srcRect l="0" t="46384" r="997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age 4" descr=""/>
          <p:cNvPicPr/>
          <p:nvPr/>
        </p:nvPicPr>
        <p:blipFill>
          <a:blip r:embed="rId1"/>
          <a:srcRect l="0" t="46384" r="997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4" descr=""/>
          <p:cNvPicPr/>
          <p:nvPr/>
        </p:nvPicPr>
        <p:blipFill>
          <a:blip r:embed="rId1"/>
          <a:srcRect l="0" t="46384" r="9970" b="30922"/>
          <a:stretch/>
        </p:blipFill>
        <p:spPr>
          <a:xfrm>
            <a:off x="539640" y="287964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2:26:22Z</dcterms:created>
  <dc:creator>ms</dc:creator>
  <dc:description/>
  <dc:language>en-US</dc:language>
  <cp:lastModifiedBy>Marionseg</cp:lastModifiedBy>
  <dcterms:modified xsi:type="dcterms:W3CDTF">2010-01-22T14:26:49Z</dcterms:modified>
  <cp:revision>7</cp:revision>
  <dc:subject/>
  <dc:title>Repérage Série n°2</dc:title>
</cp:coreProperties>
</file>