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DEC9-337B-4E1F-A7CE-646CD34758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F020-6026-4B96-A853-F6EC33BB7A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3618-06EA-452A-B66B-1FFAC4F3B6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377F-1554-41C3-9253-4FB8671FA1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BD57-1F9A-4C46-B453-F70B9A9F2F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89EC-63DF-431E-9B92-EA9911CED5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1218-FEDB-4F0E-BB63-869DE6453A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BE9E-AC00-4722-A384-0788F440DB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D608-6169-4624-B6FD-A66DEC2FD5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650F-CE14-4B4C-B502-B9A4A6FC26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C5DB-3D80-47E3-8197-A7555BB6D8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7D96-43E9-4D65-A876-FF36E833DD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375E-E304-46A8-8B69-B8027A378E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DAAA-2997-4B49-8D04-FCFF47551B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946C-93F5-4A5F-BB93-1673EE674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F325-C435-43CC-BDF8-1DE82120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21B1-9120-4117-BCE3-0E4E162B4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80C7-09C6-4805-896F-4F6746E9A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1C82-DE77-4C31-87DF-6ABB18E9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CB61-0484-4012-B9AD-7D2F0DF2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5392-7F86-4B1A-96C6-DF33B353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C836-367C-4347-B2F8-B827F25C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136A-61A2-413F-8300-0CAF2E49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0B9B-04EB-433F-9BE2-C753B8EA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C132-9321-4927-B7D0-1C183025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EDD0-12E5-49A0-BCB4-DD5DC4B4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0FCF-C538-45E7-BA94-BF5FD484AB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PUISSANCES(2)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Série n°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1079640" y="1230840"/>
            <a:ext cx="655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8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2"/>
              <p:cNvSpPr txBox="1"/>
              <p:nvPr/>
            </p:nvSpPr>
            <p:spPr>
              <a:xfrm>
                <a:off x="2754360" y="2571840"/>
                <a:ext cx="3889440" cy="28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9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2"/>
              <p:cNvSpPr txBox="1"/>
              <p:nvPr/>
            </p:nvSpPr>
            <p:spPr>
              <a:xfrm>
                <a:off x="1928880" y="3000240"/>
                <a:ext cx="542916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10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2"/>
              <p:cNvSpPr txBox="1"/>
              <p:nvPr/>
            </p:nvSpPr>
            <p:spPr>
              <a:xfrm>
                <a:off x="1452600" y="3000240"/>
                <a:ext cx="63817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1476360" y="620640"/>
            <a:ext cx="6253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ZoneTexte 2"/>
          <p:cNvSpPr/>
          <p:nvPr/>
        </p:nvSpPr>
        <p:spPr>
          <a:xfrm>
            <a:off x="3368520" y="2214720"/>
            <a:ext cx="214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69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Bouton d'action : Retour 4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18010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onner l’écriture scientifique des nombres suivants 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1079640" y="1078920"/>
            <a:ext cx="6553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1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56 000 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079640" y="1078920"/>
            <a:ext cx="65530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2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0,005 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1476360" y="189540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079640" y="1079640"/>
            <a:ext cx="65530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3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Times New Roman"/>
              </a:rPr>
              <a:t>525 01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4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2"/>
              <p:cNvSpPr txBox="1"/>
              <p:nvPr/>
            </p:nvSpPr>
            <p:spPr>
              <a:xfrm>
                <a:off x="2857680" y="2786040"/>
                <a:ext cx="2854080" cy="27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079640" y="1078920"/>
            <a:ext cx="65530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5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Times New Roman"/>
              </a:rPr>
              <a:t>351 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079640" y="1078920"/>
            <a:ext cx="65530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6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0,000 002 33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" name="Object 2"/>
              <p:cNvSpPr txBox="1"/>
              <p:nvPr/>
            </p:nvSpPr>
            <p:spPr>
              <a:xfrm>
                <a:off x="1643040" y="3000240"/>
                <a:ext cx="600084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45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9" name="Rectangle 2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7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onseg</dc:creator>
  <dc:description/>
  <dc:language>en-US</dc:language>
  <cp:lastModifiedBy>Marionseg</cp:lastModifiedBy>
  <dcterms:modified xsi:type="dcterms:W3CDTF">2010-01-22T17:12:10Z</dcterms:modified>
  <cp:revision>18</cp:revision>
  <dc:subject/>
  <dc:title>PowerPoint Presentation</dc:title>
</cp:coreProperties>
</file>