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407E-D30B-43E8-A24C-A037C8B9F7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C9EA-4173-429B-876D-C980C681D0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243A-486E-4B6D-908E-094C1F1692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B46-DEEA-4D5E-949D-4F2520612C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4D83-8F16-4601-AA73-8BB001B075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4992-9E32-4133-BD0C-58456B03BD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8165-6C04-4871-8810-A58A0C70FF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475B-3FE1-4926-A8A8-4B075EC344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029-2975-4C4A-8613-5969E775AB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533A-06FF-4528-836F-ADFF9CBA87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A4DD-1728-4B0A-B142-912603BA43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293E-45AE-4977-911C-39E0D1B5A1C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D82E-8BDF-4F7F-A794-A668E784A8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FE0-9896-499B-B1F6-EB374217D0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309A-3AA4-45B2-BA2F-464B101C49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AA78-5DF6-4210-8D8D-4A23C1895A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862-5D4E-40E1-8555-06F8E684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29B-5CD9-4359-AF78-4A14E214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351-A3EF-4957-AB86-949C0BFC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71D-0402-424C-9C7A-46E336312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0A34-7486-4D6F-864E-0CF9BE29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878-9313-459E-8B98-664B9C69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8377-3E63-44D7-9790-49483668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F2E-F7A6-4F53-BBF4-39C4EC24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A52-2C7F-4E47-AAE3-07F29B67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4117-16AF-497E-B403-986E004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AF1-C604-4EC7-8121-2D6CD50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A5A-2BAC-4D70-BA67-191CC181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60D-3AF6-45F1-9341-16524CBAE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IERS PAS EN CALCUL LITTÉRAL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857240" y="2759040"/>
                <a:ext cx="542952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611440" y="2857680"/>
                <a:ext cx="39211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1757520" y="2857680"/>
                <a:ext cx="56307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×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1204920" y="2808360"/>
                <a:ext cx="673560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2,5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1506600" y="2759040"/>
                <a:ext cx="613260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7160" y="3886200"/>
            <a:ext cx="7500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t des lett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5714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écrira uniquemen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’expression factorisée  la plus simp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égale à celle propos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"/>
              <p:cNvSpPr txBox="1"/>
              <p:nvPr/>
            </p:nvSpPr>
            <p:spPr>
              <a:xfrm>
                <a:off x="1857240" y="2857680"/>
                <a:ext cx="5429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1857240" y="2857680"/>
                <a:ext cx="5429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1906560" y="2857680"/>
                <a:ext cx="53294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1455840" y="2808360"/>
                <a:ext cx="623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3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808280" y="2857680"/>
                <a:ext cx="552924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4:04:27Z</dcterms:created>
  <dc:creator>ms</dc:creator>
  <dc:description/>
  <dc:language>en-US</dc:language>
  <cp:lastModifiedBy>Marionseg</cp:lastModifiedBy>
  <dcterms:modified xsi:type="dcterms:W3CDTF">2010-01-17T20:24:41Z</dcterms:modified>
  <cp:revision>6</cp:revision>
  <dc:subject/>
  <dc:title>Calcul littéral (2) Série n°4</dc:title>
</cp:coreProperties>
</file>