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B399-B235-4276-9915-A9E206C074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5385-9D57-40B1-87C9-C10DF6021E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6161-14D6-4752-8CD3-2769D2647A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EE8D-893E-47E3-9ED0-B56F18486E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78F1-835E-4896-82A0-AD66A61BFC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E811-EA1C-4534-A2F6-2FAF41DC9D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9241-B449-4B73-A815-1F4FBE61E1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B230-BFFE-47C7-86D5-4EB84B02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EFE-EBD8-489A-86F1-50AAC052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1883-0496-413C-8C99-7C029376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3B0-19EB-447F-9683-DE579AA66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7637-DE74-4D9E-8E9F-4A02F45A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08EF-CE56-4F33-90A5-B41594F4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862E-127B-4949-B5EA-B0FF1013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DD4F-D69F-477F-83EE-44B81B92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AC4E-46E8-4AB3-93EB-0FF6687D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6C8A-7B72-4B68-985E-30703DC3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D3C7-88D1-4B08-B8DB-DB05DA8D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22DD-8CC0-42EB-95E3-8EF140AB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3781-6FC3-407B-8D84-2DDC630C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60FB-277D-4D68-B21F-9DAA6444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2201-DB89-46B4-AE84-D6BF5E52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56FA-61F5-4EB4-B0B6-FB0B012E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BA8A-BDFB-4932-83A2-FB505F3E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13026-0ED1-4C9F-97BB-EEC595A8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589B-95A9-40FE-AD16-C9258AF7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3532-4CB7-4D1D-A3F5-89CE991B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4391-4EBB-4004-A793-3073D754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A1F9-7975-4ED0-8A01-1A6682AA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6696-288E-4B71-8381-247BCBD7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E1869-62C1-4845-84F0-F4A5FA80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F8A6-CB47-46FF-8DD0-0138C000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10FBE-EA39-4920-88BD-0590498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A8930-FC36-4FDD-8DA5-DEF8FBAE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EA7A-ADF0-42EA-B600-6A9655BC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6EDE-3007-437A-8D91-EB454D6F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242C4-4214-4E29-B3AD-1FD8B8FD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EFF-A1F0-47AD-875B-577AB27C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3D2-74C0-48B9-99A7-E3FE7AAC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E138-5D9F-46E3-96AD-0B09A42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282-14EC-43A2-A5DC-BB8F58E2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368-A36A-4ACD-AA24-30A53B0A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9F6-F36D-429C-BA12-216CF585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16F1-7875-4799-B22D-F51B6DB909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AE08-A03B-4DD6-8FA9-4E1A30A1CD86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092A-4021-4BE5-BB65-06804EE60C5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RACTIONS : VRAI OU FAUX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ÉRIE 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Les égalités sont-elles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vraies ou fausses ?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1986120" y="2143080"/>
                <a:ext cx="524340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2457360" y="2143080"/>
                <a:ext cx="429912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2300400" y="2143080"/>
                <a:ext cx="46148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352600" y="2143080"/>
                <a:ext cx="451008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2143080" y="2143080"/>
                <a:ext cx="492912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3:38:48Z</dcterms:created>
  <dc:creator>ms</dc:creator>
  <dc:description/>
  <dc:language>en-US</dc:language>
  <cp:lastModifiedBy>Marionseg</cp:lastModifiedBy>
  <dcterms:modified xsi:type="dcterms:W3CDTF">2010-01-17T20:07:55Z</dcterms:modified>
  <cp:revision>5</cp:revision>
  <dc:subject/>
  <dc:title>Fractions : Vrai ou Faux  Série n°2</dc:title>
</cp:coreProperties>
</file>