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1957-0127-425F-A193-A894B0CA1E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06A6-E6B0-46FB-93CA-37215D5C40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C8FA-CD0A-4B09-AF00-62E5439C22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7E64-18ED-4887-8BA5-F3873147A3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D94F-4AAD-4914-A545-69547AE455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3B49-E7D7-4C59-8C57-1FD89DD666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D481-5B8F-4930-9556-955ABE9F20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394-9C6C-4EA5-936A-81F826F5A3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5219-8C10-4685-8BD6-962C428D7D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3EFD-32F9-4107-B316-E55EB2B4C0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2823-57EC-421C-9C8C-FAA8C13EF4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52E4-F31F-4836-ABD1-72AF68413D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438A-C576-4A23-A614-161221F7A7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1F8D-7645-47D7-B58B-86BA7843D1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401-1C0D-4130-AF02-01CB8448E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B8C-0276-47B4-B581-7E4364AB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A76-2F3B-493A-B0B4-3DE5F503B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0D6-C6DA-40A3-8ADD-48A921FA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1EEA-6EE7-45D9-A8AB-2A68DE8C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11B-2075-4147-9447-94D9C2F1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EF4-FB58-4D89-9800-DDCCBEC5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7CF8-E120-45C7-9B16-C9FD4F6D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159-637A-4D8F-889D-FA474FCA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A755-08A8-49DB-91F4-9832DA77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0232-FA46-4F37-A6E5-000C6E50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0C7-228D-41EF-8CE5-34C0BC28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DB83-CF5B-4403-B08C-C75E5A3D8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FORME FACTORISÉE (3)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5"/>
              <p:cNvSpPr txBox="1"/>
              <p:nvPr/>
            </p:nvSpPr>
            <p:spPr>
              <a:xfrm>
                <a:off x="588960" y="3228840"/>
                <a:ext cx="7964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ZoneTexte 5"/>
          <p:cNvSpPr/>
          <p:nvPr/>
        </p:nvSpPr>
        <p:spPr>
          <a:xfrm>
            <a:off x="571680" y="4714920"/>
            <a:ext cx="79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731880" y="3228840"/>
                <a:ext cx="7856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ZoneTexte 5"/>
          <p:cNvSpPr/>
          <p:nvPr/>
        </p:nvSpPr>
        <p:spPr>
          <a:xfrm>
            <a:off x="571680" y="4714920"/>
            <a:ext cx="79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74520" y="3230640"/>
                <a:ext cx="90694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z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ZoneTexte 5"/>
          <p:cNvSpPr/>
          <p:nvPr/>
        </p:nvSpPr>
        <p:spPr>
          <a:xfrm>
            <a:off x="0" y="47149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15,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– 4 e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Calculer les expressions littérales pour les valeurs numériques donné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1979640" y="3238560"/>
                <a:ext cx="58626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ZoneTexte 5"/>
          <p:cNvSpPr/>
          <p:nvPr/>
        </p:nvSpPr>
        <p:spPr>
          <a:xfrm>
            <a:off x="571680" y="4714920"/>
            <a:ext cx="79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–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023840" y="3228840"/>
                <a:ext cx="70596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ZoneTexte 5"/>
          <p:cNvSpPr/>
          <p:nvPr/>
        </p:nvSpPr>
        <p:spPr>
          <a:xfrm>
            <a:off x="571680" y="4714920"/>
            <a:ext cx="79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1500120" y="3228840"/>
                <a:ext cx="6346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ZoneTexte 5"/>
          <p:cNvSpPr/>
          <p:nvPr/>
        </p:nvSpPr>
        <p:spPr>
          <a:xfrm>
            <a:off x="571680" y="4714920"/>
            <a:ext cx="79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1562040" y="3228840"/>
                <a:ext cx="60771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ZoneTexte 5"/>
          <p:cNvSpPr/>
          <p:nvPr/>
        </p:nvSpPr>
        <p:spPr>
          <a:xfrm>
            <a:off x="571680" y="4714920"/>
            <a:ext cx="79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1 e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2733840" y="3171960"/>
                <a:ext cx="34034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ZoneTexte 5"/>
          <p:cNvSpPr/>
          <p:nvPr/>
        </p:nvSpPr>
        <p:spPr>
          <a:xfrm>
            <a:off x="571680" y="4714920"/>
            <a:ext cx="79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1 e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900000" y="3238560"/>
                <a:ext cx="726300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ZoneTexte 5"/>
          <p:cNvSpPr/>
          <p:nvPr/>
        </p:nvSpPr>
        <p:spPr>
          <a:xfrm>
            <a:off x="214200" y="4714920"/>
            <a:ext cx="8501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0,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1 e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1798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108000" y="3238560"/>
                <a:ext cx="886608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ZoneTexte 5"/>
          <p:cNvSpPr/>
          <p:nvPr/>
        </p:nvSpPr>
        <p:spPr>
          <a:xfrm>
            <a:off x="571680" y="4714920"/>
            <a:ext cx="792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pour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56:17Z</dcterms:created>
  <dc:creator>ms</dc:creator>
  <dc:description/>
  <dc:language>en-US</dc:language>
  <cp:lastModifiedBy>Marionseg</cp:lastModifiedBy>
  <dcterms:modified xsi:type="dcterms:W3CDTF">2010-01-22T16:08:13Z</dcterms:modified>
  <cp:revision>14</cp:revision>
  <dc:subject/>
  <dc:title>S’agit-il d’une expression développée ? factorisée ?</dc:title>
</cp:coreProperties>
</file>