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camera.wav" ContentType="audio/x-wav"/>
  <Override PartName="/ppt/media/image5.wmf" ContentType="image/x-wmf"/>
  <Override PartName="/ppt/media/image10.wmf" ContentType="image/x-wmf"/>
  <Override PartName="/ppt/media/image11.png" ContentType="image/png"/>
  <Override PartName="/ppt/media/image3.wmf" ContentType="image/x-wmf"/>
  <Override PartName="/ppt/media/image4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2310-DD48-4228-A713-D920DC7581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4CF1-353E-4B98-93A3-3457A4E989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277A-44D4-4967-B5F4-226A2FEE75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39D-4F1D-4498-8FC2-3D4A399D5E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DC81-F166-4F7C-A53A-C3067221B6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D7B7-AEB7-40AB-86CF-9274B33C75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8989-8E41-4809-9AD1-30ECCB2BF6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188C-B72B-400E-9EDC-4FCA3AA5A2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D1F3-9BD5-4FD0-A518-CC06FCA401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3874-B956-4EF9-9CBF-E512A32962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63F5-5A41-4EB2-AD37-E5A67E035A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3E66-DEAD-4D1E-881E-E0AFBD4D42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5B6F-6681-4ECA-8A94-7A92F706EF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3BB-8CAE-44CC-A1C7-F0302CA4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839-B507-4C94-8882-7B7D2AAD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BD4-EF0D-410D-9832-8651248B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2FC-714C-4A5D-8B92-BECA44B7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352-3DC8-42E6-ADCE-712FFD0A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E10-E73C-459D-BA8F-6D2CB436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C80-094E-4059-AA6C-2C356A80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E63D-5859-4406-AD3F-E4B341E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5638-CD1D-40DF-83C2-DBE6707F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3979-A4D2-4330-81DE-DB0C7FCD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47B-C193-4EB1-B20D-51032CD5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606-AF64-432B-9E1C-F75A8777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88EE-EF0F-4F4B-9E30-617B228DA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DÉCODER UNE FIGURE (3)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999720" y="5229000"/>
            <a:ext cx="70722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Avec vos connaissances, que pouvez-vous en déduire pour le quadrilatère IJK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26920" y="40464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rcRect l="7873" t="7267" r="9343" b="17994"/>
          <a:stretch/>
        </p:blipFill>
        <p:spPr>
          <a:xfrm>
            <a:off x="2071800" y="1857240"/>
            <a:ext cx="5089320" cy="29527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1214280" y="33336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N°9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Quelles informations donne le cod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9720" y="5229000"/>
            <a:ext cx="70722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Avec vos connaissances, que pouvez-vous en déduire pour le quadrilatère EFG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26920" y="40464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517840" y="1798560"/>
            <a:ext cx="4314600" cy="277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rcRect l="14066" t="13798" r="14066" b="0"/>
          <a:stretch/>
        </p:blipFill>
        <p:spPr>
          <a:xfrm>
            <a:off x="2114640" y="1643040"/>
            <a:ext cx="4529160" cy="3492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9"/>
          <p:cNvSpPr/>
          <p:nvPr/>
        </p:nvSpPr>
        <p:spPr>
          <a:xfrm>
            <a:off x="1214280" y="33336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N°10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Quelles informations donne le cod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142640" y="5229000"/>
            <a:ext cx="70009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Avec vos connaissances, que pouvez-vous en déduire pour les droites (d) et (d’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826920" y="40464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214280" y="33336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N°1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Quelles informations donne le cod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1874880" y="1643040"/>
            <a:ext cx="5340240" cy="3430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9720" y="5229000"/>
            <a:ext cx="70722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Avec vos connaissances, que pouvez-vous en déduire pour le triangle ABC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826920" y="40464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14280" y="33336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N°2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Quelles informations donne le cod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8" descr="_x000f_Décoder 3-2.pdf                                                004B03DA_x000b_Disque imac                    BFCC89D1:"/>
          <p:cNvPicPr/>
          <p:nvPr/>
        </p:nvPicPr>
        <p:blipFill>
          <a:blip r:embed="rId1"/>
          <a:stretch/>
        </p:blipFill>
        <p:spPr>
          <a:xfrm>
            <a:off x="2971800" y="1905120"/>
            <a:ext cx="3048120" cy="2869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28800" y="5229000"/>
            <a:ext cx="72864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Avec vos connaissances, que pouvez-vous en déduire pour le triangle EFG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26920" y="40464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rcRect l="11162" t="9818" r="19434" b="5373"/>
          <a:stretch/>
        </p:blipFill>
        <p:spPr>
          <a:xfrm>
            <a:off x="2428920" y="1571760"/>
            <a:ext cx="3986280" cy="3132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214280" y="33336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N°3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Quelles informations donne le cod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28800" y="5229000"/>
            <a:ext cx="72864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Avec vos connaissances, que pouvez-vous en déduire pour le point Z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26920" y="40464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rcRect l="10451" t="0" r="14042" b="11089"/>
          <a:stretch/>
        </p:blipFill>
        <p:spPr>
          <a:xfrm>
            <a:off x="1857240" y="1500120"/>
            <a:ext cx="5478480" cy="3456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214280" y="33336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N°4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Quelles informations donne le cod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1720" y="5229000"/>
            <a:ext cx="700056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Avec vos connaissances, que pouvez-vous en déduire pour les droites (CD) et (AD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826920" y="40464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"/>
          <p:cNvPicPr/>
          <p:nvPr/>
        </p:nvPicPr>
        <p:blipFill>
          <a:blip r:embed="rId1"/>
          <a:srcRect l="6033" t="0" r="11933" b="14403"/>
          <a:stretch/>
        </p:blipFill>
        <p:spPr>
          <a:xfrm>
            <a:off x="1631880" y="1617840"/>
            <a:ext cx="5797800" cy="3240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1214280" y="33336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N°5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Quelles informations donne le cod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28440" y="5229000"/>
            <a:ext cx="70722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Avec vos connaissances, que pouvez-vous en déduire pour la droite (d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26920" y="40464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rcRect l="15603" t="0" r="28791" b="15400"/>
          <a:stretch/>
        </p:blipFill>
        <p:spPr>
          <a:xfrm>
            <a:off x="2500200" y="1643040"/>
            <a:ext cx="3932280" cy="32036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214280" y="33336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N°6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Quelles informations donne le cod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00080" y="5229000"/>
            <a:ext cx="714384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Avec vos connaissances, que pouvez-vous en déduire pour le triangle R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826920" y="40464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214280" y="33336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N°7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Quelles informations donne le cod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_x000f_Décoder 3-7.pdf                                                004B03DA_x000b_Disque imac                    BFCC89D1:"/>
          <p:cNvPicPr/>
          <p:nvPr/>
        </p:nvPicPr>
        <p:blipFill>
          <a:blip r:embed="rId1"/>
          <a:stretch/>
        </p:blipFill>
        <p:spPr>
          <a:xfrm>
            <a:off x="2971800" y="1676520"/>
            <a:ext cx="3192480" cy="3276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928440" y="5229000"/>
            <a:ext cx="70722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Avec vos connaissances, que pouvez-vous en déduire pour la demi-droite [OT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26920" y="404640"/>
            <a:ext cx="292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rcRect l="10304" t="0" r="15537" b="10989"/>
          <a:stretch/>
        </p:blipFill>
        <p:spPr>
          <a:xfrm>
            <a:off x="2071800" y="1500120"/>
            <a:ext cx="5072040" cy="3260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1214280" y="333360"/>
            <a:ext cx="671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N°8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Arial"/>
              </a:rPr>
              <a:t>Quelles informations donne le codag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ionseg</dc:creator>
  <dc:description/>
  <dc:language>en-US</dc:language>
  <cp:lastModifiedBy>Marionseg</cp:lastModifiedBy>
  <dcterms:modified xsi:type="dcterms:W3CDTF">2010-05-30T08:00:32Z</dcterms:modified>
  <cp:revision>19</cp:revision>
  <dc:subject/>
  <dc:title>PowerPoint Presentation</dc:title>
</cp:coreProperties>
</file>