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B5B-80EF-42FF-807D-5C285867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DC95-4246-463F-B493-DBD4413E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26E-1A02-47D1-B9FA-5AA1DD5F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83B-AC14-471F-B315-93DBB8C1A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F8C4-E436-4E53-B92E-619B7387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D258-8140-418F-A703-B9167524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7D24-38B1-4DA0-A780-26392451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EFE6-7AAF-4A0E-B907-A697166C1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F64-92BB-469E-8790-6DDB25D4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6DC7-9B28-495C-99C8-AEA85A35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BD58-F214-473C-8F03-B8165FD0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4ED3-1BCF-48C6-80D2-D21A7F1B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634-EE31-4B78-92C4-13AD5C49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858C-9B31-4007-91F4-34623F9A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7F2F-C7FA-4325-A491-3EE69F91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5BAC-6AB5-4B2A-B035-CD399EA5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A7CA-6842-4E9C-9629-CD5392AD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A18F-2C7E-4B89-AD75-6E9157C2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168-6AA7-46CC-A529-3C6F08F1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0A76-0759-4E8A-8E1F-DFFAC71D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0D5-23FE-43F2-A858-316AF10E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12C6-6A40-45A0-9BE9-3E3F42ED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64DC-A76F-422E-BBC5-9F2B3832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CE1-C458-41B2-B744-3D4FD48F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4924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C25-A38F-451E-AB38-FDF12C63607B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602240" y="1197000"/>
            <a:ext cx="28440" cy="566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130B-3A28-48C8-9C74-34573A6DE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DITION ET SOUSTRACTIO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2 ET N°2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1724040" y="284148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6184800" y="284148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1708200" y="28414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6175440" y="2841480"/>
                <a:ext cx="1244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1835280" y="2828880"/>
                <a:ext cx="100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6292800" y="284148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1819440" y="2819520"/>
                <a:ext cx="102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6288120" y="2824200"/>
                <a:ext cx="1014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1738440" y="2828880"/>
                <a:ext cx="120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6184800" y="28288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866960" y="2841480"/>
                <a:ext cx="914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6316560" y="284148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835280" y="2828880"/>
                <a:ext cx="100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6238800" y="2841480"/>
                <a:ext cx="1130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724040" y="2841480"/>
                <a:ext cx="120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6156360" y="2852640"/>
                <a:ext cx="119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188040" y="28414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4"/>
              <p:cNvSpPr txBox="1"/>
              <p:nvPr/>
            </p:nvSpPr>
            <p:spPr>
              <a:xfrm>
                <a:off x="1835280" y="2852640"/>
                <a:ext cx="102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1708200" y="28414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6292800" y="284148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Espace réservé du numéro de diapositive 4"/>
          <p:cNvSpPr/>
          <p:nvPr/>
        </p:nvSpPr>
        <p:spPr>
          <a:xfrm>
            <a:off x="354960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1:28Z</dcterms:modified>
  <cp:revision>27</cp:revision>
  <dc:subject/>
  <dc:title>Diapositive 1</dc:title>
</cp:coreProperties>
</file>