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1349-B99B-4F41-9520-5921C14648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8741-9FCE-4E40-9AA1-0503842DA0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452B-1AD3-40A7-8F2A-3B45BE61FD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C4F0-BFAD-43F6-AACD-97FF2FAB7B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33DC-E55B-45E5-A7F1-8559029594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991C-E664-43B9-86C4-AA30EB1C84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2A2C-BA23-4787-A6AD-713D282CEB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B6FB-DEDC-45DC-9716-DEC8A64834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4B1-CAA8-4493-8846-911C79EB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497-4A4B-4E86-A6AE-4DFAF471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ED12-EAAE-4DF0-BFDD-9E7568C5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C84F-6E8F-487D-B194-60B051A1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E8DB-3745-43B6-9951-9E3FEC2DF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AE28-8C91-44AD-BED5-0B5A9882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183A-4D65-469F-9721-44E5B7AA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A7E0-60F5-477F-A93D-3D02604B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7F79-F3E2-49CE-8405-6B058084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05A5-646B-4120-871C-1C785E16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B84D-44E4-48E8-B080-B41F65E2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E0B-9204-47B6-9DEF-1AF38555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C827-1234-4F81-8227-3FD5F24B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7C23-6045-4465-9C98-1E73234B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04E6-01D3-4643-AB0A-851882D2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E41F-D8AF-47A0-B120-2A83BB6A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2A44-559B-477A-88FD-49259196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9920-E91A-49ED-9A3D-5358C6C1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4FEC-1B54-4A24-9531-A2FC7E08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93E-9AB5-4267-A990-895B2FE3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A3A3-F660-4E70-B50B-3908D375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84A-651A-45BC-B1D3-69C01B5B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4835-2562-43C9-A7DA-72ED0E28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5C7-E227-41C7-991B-FAFBAA84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D04D-5131-456D-B368-41D266A4F16B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72000" y="1052640"/>
            <a:ext cx="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332000" y="2333520"/>
            <a:ext cx="201600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5796000" y="2335320"/>
            <a:ext cx="201600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983D-D38E-4725-979A-D94B5241A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DDITION ET SOUSTRACTION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 FRACTIONS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S N°3 ET N°3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000" spc="-1" strike="noStrike">
                <a:solidFill>
                  <a:srgbClr val="000000"/>
                </a:solidFill>
                <a:latin typeface="Arial"/>
              </a:rPr>
              <a:t>Effectuer le calcul proposé et donner le résultat sous la forme d’une fraction aussi simple que possible ou éventuellement sous la forme d’un nombre enti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6"/>
          <p:cNvSpPr/>
          <p:nvPr/>
        </p:nvSpPr>
        <p:spPr>
          <a:xfrm>
            <a:off x="3505320" y="189000"/>
            <a:ext cx="2133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1736640" y="2819520"/>
                <a:ext cx="1193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6"/>
              <p:cNvSpPr txBox="1"/>
              <p:nvPr/>
            </p:nvSpPr>
            <p:spPr>
              <a:xfrm>
                <a:off x="6184800" y="2830680"/>
                <a:ext cx="123048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3"/>
          <p:cNvSpPr/>
          <p:nvPr/>
        </p:nvSpPr>
        <p:spPr>
          <a:xfrm>
            <a:off x="3505320" y="189000"/>
            <a:ext cx="2133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747800" y="2841480"/>
                <a:ext cx="1168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6224760" y="2836800"/>
                <a:ext cx="1155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3"/>
          <p:cNvSpPr/>
          <p:nvPr/>
        </p:nvSpPr>
        <p:spPr>
          <a:xfrm>
            <a:off x="3505320" y="189000"/>
            <a:ext cx="2133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1733400" y="2841480"/>
                <a:ext cx="1206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6189840" y="2841480"/>
                <a:ext cx="1206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3"/>
          <p:cNvSpPr/>
          <p:nvPr/>
        </p:nvSpPr>
        <p:spPr>
          <a:xfrm>
            <a:off x="3505320" y="189000"/>
            <a:ext cx="2133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1828800" y="2841480"/>
                <a:ext cx="1015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6332400" y="2841480"/>
                <a:ext cx="1016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3"/>
          <p:cNvSpPr/>
          <p:nvPr/>
        </p:nvSpPr>
        <p:spPr>
          <a:xfrm>
            <a:off x="3505320" y="189000"/>
            <a:ext cx="2133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1819440" y="2841480"/>
                <a:ext cx="1028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6280200" y="2841480"/>
                <a:ext cx="1028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9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Bouton d'action : Retour 5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17T20:02:14Z</dcterms:modified>
  <cp:revision>21</cp:revision>
  <dc:subject/>
  <dc:title>Diapositive 1</dc:title>
</cp:coreProperties>
</file>