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493F-B6F9-4D6E-A727-71B4E693E3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CF95-9401-43D0-BB6D-FBF17729429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1369-EFC5-491C-8747-10A1A72532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888B-128E-46D5-90B2-862E52AD9E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EAB6-9306-4F2C-AC5E-C7EED3A78B6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91EC-20F3-4DA2-B76A-9A93048EBF4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5628-DE0E-4821-87CF-95613205E4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68EC-6B93-44E0-BF71-37FDFC5D44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6AAE-F002-4DD6-97FC-07B0E58D00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281DA-52E4-44F9-9F79-F2C3DD13FE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51C6-4C11-4E84-9F88-106EBB7F5F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D186-20C6-4D9B-A85A-C0A1C5D990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BBF2-46D9-4374-B9BE-F6894012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26F-DC0B-4C11-8C86-DF2E914F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59F-7643-47E6-A13A-984E48489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171-33A7-4404-97D1-D58562B7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2ED6-9795-42FA-BAF6-2C6AAA7F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2931-CF94-4D92-BB50-CA5A92E6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687B-0C3B-48E5-8A1F-CEA19839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3017B-EED8-4FA4-8666-DADC07F89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C0BD-D304-4F15-BA0E-11DF51E2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949E-257B-4E51-A105-C66FAF90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0D24-3797-4839-95C5-26C4D3BB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28A-1A68-41D7-8B58-247DA133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57ACB-781A-41D2-84B3-44580FBF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D685B-46C3-4D30-A5F9-1A08B6BF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A80E2-9F24-466F-8022-C6C516D8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239F-B486-42EF-B532-E70AEF7ED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8404-5BDB-4BB0-9898-A3DFDB85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198-A1B4-4C04-801B-B514F6AE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DED0-6E44-49BC-8398-3FAF7AB8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1C1-E80B-49B9-BF19-6CFAE288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0460-23A9-4EED-859A-33FFFEBA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0A9-CD7B-4496-8384-7E9FD105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09E-F05E-49B6-952E-CF725915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752-C90D-47E3-B247-7DA0260F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7FB2-9200-4227-BEA5-96E21D142E99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2C75-0FB0-4764-BEC5-4AF6D308D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TABLES DE MULTIPLICATION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SÉRIES N°4 ET 4BI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2960" y="3213720"/>
            <a:ext cx="34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54 combien de fois 9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143680" y="3213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48 combien de fois 8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42960" y="29739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9 pour obtenir 63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5072040" y="292608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8 pour obtenir 64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4"/>
              <p:cNvSpPr txBox="1"/>
              <p:nvPr/>
            </p:nvSpPr>
            <p:spPr>
              <a:xfrm>
                <a:off x="1542960" y="3252960"/>
                <a:ext cx="17636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5925960" y="3252960"/>
                <a:ext cx="1791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6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130120"/>
            <a:ext cx="8286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ffectuer la multiplication proposée, compléter l’égalité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 répondre à la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271400" y="30949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271400" y="3501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9"/>
              <p:cNvSpPr txBox="1"/>
              <p:nvPr/>
            </p:nvSpPr>
            <p:spPr>
              <a:xfrm>
                <a:off x="1800360" y="3252960"/>
                <a:ext cx="12016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22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1"/>
              <p:cNvSpPr txBox="1"/>
              <p:nvPr/>
            </p:nvSpPr>
            <p:spPr>
              <a:xfrm>
                <a:off x="6203880" y="3252960"/>
                <a:ext cx="11779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653760" y="314388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plier 8 pour obtenir 72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5143680" y="31104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7 pour obtenir 63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1450800" y="3252960"/>
                <a:ext cx="1800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5843520" y="3252960"/>
                <a:ext cx="1800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684360" y="328500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63 combien de fois 7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5090040" y="32850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64 combien de fois 8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1446120" y="3252960"/>
                <a:ext cx="1811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5925960" y="3259080"/>
                <a:ext cx="192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571680" y="297396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9 pour obtenir 81 ?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5072040" y="29739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7 pour obtenir 56 ?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4"/>
              <p:cNvSpPr txBox="1"/>
              <p:nvPr/>
            </p:nvSpPr>
            <p:spPr>
              <a:xfrm>
                <a:off x="1870200" y="3213000"/>
                <a:ext cx="11890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197760" y="3252960"/>
                <a:ext cx="1191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34:12Z</dcterms:modified>
  <cp:revision>29</cp:revision>
  <dc:subject/>
  <dc:title>Diapositive 1</dc:title>
</cp:coreProperties>
</file>