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2CB4-C58C-4D7D-8C3B-B971A17710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7D8D-3450-4BEF-AC94-C167FD05A2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EBB-C039-42FE-8896-BA5E421085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55B3-5122-4B82-B880-E093984B1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F897-C2C3-4E9A-8735-3307CC7216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7C0F-3B33-44F7-AE1F-69C5C6C24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F1A4-7F1E-4629-8232-F5968B87F7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B080-CEC2-4B92-87E1-CCE74A9891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3AD6-AF3C-43C9-B968-A9CC01FB0E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1A3-EC01-4E1E-830C-395F94564D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D731-ACCD-48A7-9EBD-EB150C5388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66AE-22D4-4B7E-8810-BC469287B2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C2D7-FB75-41E5-A47C-8F0A3B882A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B14-FA97-475C-9FF3-4A0D05BD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CDB3-E088-461A-89B0-4B7DF2E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DDF-A204-445B-A965-82E6941C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228-38A3-47A8-9B1F-E41310FF3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081-2540-41AC-82FE-D9AABEEB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5DF-2F94-4F5E-ACA8-F3AEDC02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C7C-F83F-4DFF-BF8A-4390D578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AB95-1A5A-453D-A5EA-7EDA2C7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0A7F-024B-49F0-8BE6-7900664C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E77-1322-4440-9918-37F0B0F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3B1-52A0-4DB6-90D3-363D5059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6D0A-EF27-40B0-A71D-1864C63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A54B-525C-4D39-9538-3687550FC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333399"/>
                </a:solidFill>
                <a:latin typeface="Trebuchet MS"/>
              </a:rPr>
              <a:t>TABLEUR</a:t>
            </a:r>
            <a:br>
              <a:rPr sz="6000"/>
            </a:br>
            <a:r>
              <a:rPr b="1" lang="fr-FR" sz="4400" spc="-1" strike="noStrike">
                <a:solidFill>
                  <a:srgbClr val="333399"/>
                </a:solidFill>
                <a:latin typeface="Trebuchet MS"/>
              </a:rPr>
              <a:t>Série n°2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808080"/>
                </a:solidFill>
                <a:latin typeface="Trebuchet MS"/>
              </a:rPr>
              <a:t>10 ques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mage 10" descr=""/>
          <p:cNvPicPr/>
          <p:nvPr/>
        </p:nvPicPr>
        <p:blipFill>
          <a:blip r:embed="rId1"/>
          <a:srcRect l="0" t="15256" r="72554" b="71452"/>
          <a:stretch/>
        </p:blipFill>
        <p:spPr>
          <a:xfrm>
            <a:off x="1079640" y="1079640"/>
            <a:ext cx="6960960" cy="2528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C4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0" t="21654" r="71753" b="63873"/>
          <a:stretch/>
        </p:blipFill>
        <p:spPr>
          <a:xfrm>
            <a:off x="1079640" y="1079640"/>
            <a:ext cx="7115040" cy="2714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C5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3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333399"/>
                </a:solidFill>
                <a:latin typeface="Trebuchet MS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rcRect l="0" t="15256" r="72897" b="70871"/>
          <a:stretch/>
        </p:blipFill>
        <p:spPr>
          <a:xfrm>
            <a:off x="1079640" y="1079640"/>
            <a:ext cx="6865920" cy="26431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B1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Image 5" descr=""/>
          <p:cNvPicPr/>
          <p:nvPr/>
        </p:nvPicPr>
        <p:blipFill>
          <a:blip r:embed="rId1"/>
          <a:srcRect l="0" t="15256" r="73336" b="70753"/>
          <a:stretch/>
        </p:blipFill>
        <p:spPr>
          <a:xfrm>
            <a:off x="1079640" y="1079640"/>
            <a:ext cx="6762600" cy="2662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A5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Image 8" descr=""/>
          <p:cNvPicPr/>
          <p:nvPr/>
        </p:nvPicPr>
        <p:blipFill>
          <a:blip r:embed="rId1"/>
          <a:srcRect l="0" t="15256" r="72450" b="70246"/>
          <a:stretch/>
        </p:blipFill>
        <p:spPr>
          <a:xfrm>
            <a:off x="1079640" y="1079640"/>
            <a:ext cx="6986520" cy="275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C2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21506" r="67881" b="64277"/>
          <a:stretch/>
        </p:blipFill>
        <p:spPr>
          <a:xfrm>
            <a:off x="714240" y="1079640"/>
            <a:ext cx="8145720" cy="2705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C5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21294" r="70166" b="64178"/>
          <a:stretch/>
        </p:blipFill>
        <p:spPr>
          <a:xfrm>
            <a:off x="857160" y="1079640"/>
            <a:ext cx="7566120" cy="2763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Que faut-il écrire dans la cellule C2 pour calculer la somme des nombres des cellules A1 et A3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Image 9" descr=""/>
          <p:cNvPicPr/>
          <p:nvPr/>
        </p:nvPicPr>
        <p:blipFill>
          <a:blip r:embed="rId1"/>
          <a:srcRect l="0" t="15256" r="72148" b="71033"/>
          <a:stretch/>
        </p:blipFill>
        <p:spPr>
          <a:xfrm>
            <a:off x="1079640" y="1079640"/>
            <a:ext cx="7064280" cy="2609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C3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rcRect l="0" t="15256" r="77673" b="71412"/>
          <a:stretch/>
        </p:blipFill>
        <p:spPr>
          <a:xfrm>
            <a:off x="1079640" y="1079640"/>
            <a:ext cx="5662440" cy="25365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n appuyant sur « Entrée »,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peut-on lire dans la cellule B4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0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21752" r="70782" b="63893"/>
          <a:stretch/>
        </p:blipFill>
        <p:spPr>
          <a:xfrm>
            <a:off x="1079640" y="1079640"/>
            <a:ext cx="7410240" cy="27320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 faut-il écrire dans la cellule C5 pour calculer la moyenne de tous les nombres de cette feuille 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28:49Z</dcterms:modified>
  <cp:revision>10</cp:revision>
  <dc:subject/>
  <dc:title>PowerPoint Presentation</dc:title>
</cp:coreProperties>
</file>