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B660D-D310-485B-BCDD-BAA1888B50B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1E306-8C69-4C1F-800D-D73692489D6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64380-0B09-4B43-9E8A-006D3394B98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FA6D2-879A-4826-93C1-62CBD790AA0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CB88C-325F-475B-8410-C437B6164B0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744B1-2851-41D4-AF53-C6E6ABB6903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22EE2-FFF0-4BEA-95C9-2E045542E7F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7876-711E-44F3-AA84-BC06DF336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FFD6-0E77-4266-B3E3-3A114157A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9DB0-C929-4706-81F0-20734E200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0B54-96F8-4957-A197-C15C84659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9E8B0-49B7-4C72-A870-F0795D848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4ED89-2036-48A7-9D37-F8A6317E3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2716A-1CA0-40AE-8987-3E91020CA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68714-543E-40AF-8F5E-712E6159A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FBCF1-2EBC-4A28-A2E2-54CDC1663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C5B6F-6F4E-429F-A350-005822BDC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83DF6-EA71-46C6-8804-D0EB3292B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FB31-34F9-4A29-9C8E-EFEE731A1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1ECAE-C544-4DD7-9734-49920C7DC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4859B-4912-4258-BE1A-1C33CF248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90BA7-8BBF-4713-A5EA-29369C2FE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E9B13-3794-4F36-BE0A-1A5FBE08F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6C6B0-A085-4C59-A8DF-4C6713E33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82B8-5A6A-4E12-A671-DAB093C9A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EC4D-E67E-4FF6-964B-66E369587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041B-B5A2-4E6E-8259-09B5720FC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D41E-022B-42AE-A901-0FEE5E016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3838-589D-4A48-8D7C-1C5C9C820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C6EC-1FF3-4937-9510-3CE70F707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8E38-DAF7-4A84-824F-4B974FC2D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3505320" y="188640"/>
            <a:ext cx="2133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3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3140B-3AED-4E68-9A1A-119E160B2A5B}" type="slidenum"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7"/>
          <p:cNvSpPr/>
          <p:nvPr/>
        </p:nvSpPr>
        <p:spPr>
          <a:xfrm>
            <a:off x="4557600" y="1052640"/>
            <a:ext cx="28800" cy="580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7"/>
          <p:cNvSpPr/>
          <p:nvPr/>
        </p:nvSpPr>
        <p:spPr>
          <a:xfrm>
            <a:off x="468360" y="2349360"/>
            <a:ext cx="3743280" cy="215928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8"/>
          <p:cNvSpPr/>
          <p:nvPr/>
        </p:nvSpPr>
        <p:spPr>
          <a:xfrm>
            <a:off x="4932360" y="2349360"/>
            <a:ext cx="3743280" cy="2159280"/>
          </a:xfrm>
          <a:prstGeom prst="rect">
            <a:avLst/>
          </a:prstGeom>
          <a:noFill/>
          <a:ln w="63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26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29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C1668-D06D-4407-887F-0803893E96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FRACTIONS : VRAI OU FAUX</a:t>
            </a:r>
            <a:br>
              <a:rPr sz="4400"/>
            </a:b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ÉRIE N°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000000"/>
                </a:solidFill>
                <a:latin typeface="Arial"/>
              </a:rPr>
              <a:t>Les égalités sont-elles </a:t>
            </a:r>
            <a:br>
              <a:rPr sz="4400"/>
            </a:br>
            <a:r>
              <a:rPr b="0" i="1" lang="fr-FR" sz="4400" spc="-1" strike="noStrike">
                <a:solidFill>
                  <a:srgbClr val="000000"/>
                </a:solidFill>
                <a:latin typeface="Arial"/>
              </a:rPr>
              <a:t>vraies ou fausses ?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85840"/>
            <a:ext cx="777240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10"/>
              <p:cNvSpPr txBox="1"/>
              <p:nvPr/>
            </p:nvSpPr>
            <p:spPr>
              <a:xfrm>
                <a:off x="2143080" y="2143080"/>
                <a:ext cx="4929120" cy="307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85840"/>
            <a:ext cx="777240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10"/>
              <p:cNvSpPr txBox="1"/>
              <p:nvPr/>
            </p:nvSpPr>
            <p:spPr>
              <a:xfrm>
                <a:off x="2247840" y="2143080"/>
                <a:ext cx="4718160" cy="307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85840"/>
            <a:ext cx="777240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10"/>
              <p:cNvSpPr txBox="1"/>
              <p:nvPr/>
            </p:nvSpPr>
            <p:spPr>
              <a:xfrm>
                <a:off x="2405160" y="2143080"/>
                <a:ext cx="4405320" cy="307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85840"/>
            <a:ext cx="777240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Object 10"/>
              <p:cNvSpPr txBox="1"/>
              <p:nvPr/>
            </p:nvSpPr>
            <p:spPr>
              <a:xfrm>
                <a:off x="2352600" y="2143080"/>
                <a:ext cx="4510080" cy="307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85840"/>
            <a:ext cx="777240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10"/>
              <p:cNvSpPr txBox="1"/>
              <p:nvPr/>
            </p:nvSpPr>
            <p:spPr>
              <a:xfrm>
                <a:off x="2143080" y="2143080"/>
                <a:ext cx="4929120" cy="307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106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Bouton d'action : Retour 3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1T18:18:55Z</dcterms:created>
  <dc:creator>.</dc:creator>
  <dc:description/>
  <dc:language>en-US</dc:language>
  <cp:lastModifiedBy>Marionseg</cp:lastModifiedBy>
  <dcterms:modified xsi:type="dcterms:W3CDTF">2010-01-17T20:07:37Z</dcterms:modified>
  <cp:revision>23</cp:revision>
  <dc:subject/>
  <dc:title>Diapositive 1</dc:title>
</cp:coreProperties>
</file>