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5.wmf" ContentType="image/x-wmf"/>
  <Override PartName="/ppt/media/image10.wmf" ContentType="image/x-wmf"/>
  <Override PartName="/ppt/media/image11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7D85-81C7-4538-93E8-B19A76A3BCC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9D74-7103-4348-962D-E3B226FBB06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44C6-6C48-4E28-95A7-315AD15A035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3C49-5FC6-4179-8008-45E8725B3D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C04A-0FAA-4FC4-B27F-E4D356F6E2F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E79A-823F-4ED2-AE1C-80C0401ACAF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9212-AEAD-4C8A-AB1C-900C9E91F36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A3DA-EAB5-4BC3-9E8B-E7AE72853C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7CC3-C366-47B5-A63F-CD669DBD097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0417-45A7-404C-8095-8235119CBEC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7C46-8F5E-4D5B-BB82-B7EEE46B4F1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BCD9-838E-4E7F-A1C2-50B8CA56D68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1289-46EA-4710-A8D1-1D005B8A9F5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2859-0574-49BB-84A0-C5283F73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D99A-62DC-4AB3-8CA2-58789E22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9453-473B-436A-9657-4498DCF01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F6AC-2B1E-4CFF-AB05-5C85EA808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A992-1E2B-493A-9C20-478E1774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C98F-8114-4791-BBB8-E8758F59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8864-581C-400E-B15A-8B8E34C6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E404-D096-4EC0-95F3-35ED1CF2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8DBD-4C5D-47C0-AE78-8AB2F061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0C59-BFD2-4031-9122-79E2D8F5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F4DB-F159-4097-8DB9-5782D9A7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5DAC-D1B4-4FED-B7C3-2B5236DD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2662-9682-4FDF-AB0B-5A689303597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png"/><Relationship Id="rId3" Type="http://schemas.openxmlformats.org/officeDocument/2006/relationships/slide" Target="slide2.xm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57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PATRONS DE SOLIDES (2)</a:t>
            </a:r>
            <a:br>
              <a:rPr sz="4400"/>
            </a:br>
            <a:br>
              <a:rPr sz="44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es figures suivantes sont-elles des patrons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’un prisme droit ?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0 questions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428760" y="857160"/>
            <a:ext cx="8305560" cy="5356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500040" y="787320"/>
            <a:ext cx="8305920" cy="5356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61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4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409680" y="573120"/>
            <a:ext cx="8305560" cy="5356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428760" y="571680"/>
            <a:ext cx="8305560" cy="5356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285840" y="714240"/>
            <a:ext cx="8305560" cy="5356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8305560" cy="5356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071720" y="1000080"/>
            <a:ext cx="7188120" cy="4643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  <p:sndAc>
      <p:stSnd>
        <p:snd r:embed="rId2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305920" cy="5356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  <p:sndAc>
      <p:stSnd>
        <p:snd r:embed="rId2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428760" y="571680"/>
            <a:ext cx="8305560" cy="5356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  <p:sndAc>
      <p:stSnd>
        <p:snd r:embed="rId2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66760" y="642960"/>
            <a:ext cx="8305920" cy="5356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3T12:06:42Z</dcterms:created>
  <dc:creator>ms</dc:creator>
  <dc:description/>
  <dc:language>en-US</dc:language>
  <cp:lastModifiedBy>Marionseg</cp:lastModifiedBy>
  <dcterms:modified xsi:type="dcterms:W3CDTF">2010-05-30T08:02:21Z</dcterms:modified>
  <cp:revision>24</cp:revision>
  <dc:subject/>
  <dc:title>Diapositive 1</dc:title>
</cp:coreProperties>
</file>