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1C59-1DD1-4C2F-B782-8791B54EFA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ABC7-911A-45C8-A32F-A0CED24A91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2377-CBE3-4E40-8251-2F04A0372E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3AAA-E070-4AEF-82DD-CEBC83D1E9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57CD-0286-4081-9897-88C01A5BEF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B5F9-F128-45FA-8A18-006316C3C3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8207-F50F-4BEE-8BAA-97ADCE8917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B951-0CAA-4495-B93C-B6DEBDB43A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C326-793C-45A5-9654-B8F226499B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F058-655A-4F2D-9BF2-A67DC0CB41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746E-2A0E-41A4-B4CA-7A53398A12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C5AA-DE90-4E11-BE6D-5DD9E851D1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3199-79C2-4A98-B315-693CE55A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9E2-CBF7-4322-9416-36BB783B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1EC-99A2-4EB0-9B9E-8F7E925C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BAA1-1E4C-4A89-8F63-499BE559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26E-ABB7-4203-949E-0E46D638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FB5-83E5-4606-84DD-DC1CC8E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BE6-BC78-4572-BD8A-67E63CC4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A7C-4372-40B4-B120-F085A8F4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B417-090B-4FDB-B056-57CF6FAF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AD4-7F69-4A7F-BFDA-890F70B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EC7A-C98C-4D12-9702-83C52D8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AF7-5064-469C-B9C7-CB557A7A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5A2F-83F5-4681-B474-023C7208613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111B-97B4-4C10-8105-78CB60463C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3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359000" y="2158920"/>
                <a:ext cx="64879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407960" y="2158920"/>
                <a:ext cx="63882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308240" y="2158920"/>
                <a:ext cx="65894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t xml:space="preserve">2,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155600" y="2158920"/>
                <a:ext cx="68947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MULTIPLICATION PAR DIX,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e nombre manquant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1407960" y="2158920"/>
                <a:ext cx="63882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1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1509840" y="2158920"/>
                <a:ext cx="618480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749160" y="2158920"/>
                <a:ext cx="77058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1054080" y="2158920"/>
                <a:ext cx="70977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14200" y="2158920"/>
                <a:ext cx="873468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3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466560" y="2158920"/>
                <a:ext cx="81774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28:57Z</dcterms:modified>
  <cp:revision>23</cp:revision>
  <dc:subject/>
  <dc:title>Écrire le résultat</dc:title>
</cp:coreProperties>
</file>