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0C5E-7A57-477D-8647-522F203CA0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A55A-DAD1-487D-86D5-7B178C8CBB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54B5-9600-470A-847E-D42BF08932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1FC6-843B-4D09-80B6-F7398166A3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ED9E-EC35-45C9-ABAE-683815AD96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0657-E383-4941-A6E7-96A5D93DB3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DBF5-C10A-415D-B0E6-EEC7B2A55F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9772-C52B-4473-BA81-5BCFAE5252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131A-9C57-40BA-BBA8-08F6861C16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C99B-8A6A-477C-87A8-FD94C90581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A3E5-C495-46B3-9405-603ECF868D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5661-CBB0-4BBF-8494-96D5DAF03D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DE25-2A55-489F-9CE8-28E9A440C3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3BAD-49D7-4E85-BD95-C2AB54AEAC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AFD8-617D-435D-95ED-DB606328E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D86-E687-4E82-967E-C764E279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F6EE-CCDE-4B0D-BAD7-C6733902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2A7C-24E2-426D-A8DC-53D73E47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B826-D139-4C46-80FE-EEA0490B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1BD0-DD4B-4E31-9EED-091F4315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520-1727-419C-A3E6-366EF615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78B-11FC-4C66-A764-7EC4D484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16B-F3D2-4E0F-BA01-D872A16C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2B8-F9EC-4A36-8E46-0418F914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413-56F0-4047-9B78-7470D95E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B4D-C546-438E-8DFF-6EB649A0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B998-3188-44F0-8733-27248FF26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PUISSANCES(3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2000160" y="2128680"/>
                <a:ext cx="5072040" cy="35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6"/>
              <p:cNvSpPr txBox="1"/>
              <p:nvPr/>
            </p:nvSpPr>
            <p:spPr>
              <a:xfrm>
                <a:off x="2055960" y="1862280"/>
                <a:ext cx="4959360" cy="40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4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2168640" y="2021040"/>
                <a:ext cx="4733640" cy="37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476360" y="620640"/>
            <a:ext cx="625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ZoneTexte 2"/>
          <p:cNvSpPr/>
          <p:nvPr/>
        </p:nvSpPr>
        <p:spPr>
          <a:xfrm>
            <a:off x="3368520" y="2214720"/>
            <a:ext cx="21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Bouton d'action : Retour 4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18010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Écrire avec une seule puissance d’un seul nomb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928800" y="2770200"/>
                <a:ext cx="7548480" cy="22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8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1857240" y="2128680"/>
                <a:ext cx="5747040" cy="35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6"/>
              <p:cNvSpPr txBox="1"/>
              <p:nvPr/>
            </p:nvSpPr>
            <p:spPr>
              <a:xfrm>
                <a:off x="2500200" y="2022480"/>
                <a:ext cx="4168800" cy="37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7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714240" y="2770200"/>
                <a:ext cx="7886880" cy="22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1785960" y="2022480"/>
                <a:ext cx="5746680" cy="37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6"/>
              <p:cNvSpPr txBox="1"/>
              <p:nvPr/>
            </p:nvSpPr>
            <p:spPr>
              <a:xfrm>
                <a:off x="1714680" y="2770200"/>
                <a:ext cx="5972040" cy="22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2000160" y="2128680"/>
                <a:ext cx="5072040" cy="35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7:14:56Z</dcterms:modified>
  <cp:revision>18</cp:revision>
  <dc:subject/>
  <dc:title>PowerPoint Presentation</dc:title>
</cp:coreProperties>
</file>