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D3CD-6963-4AF9-86FC-20A9F3DA33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227C-E66D-49C2-B542-C8287B16FB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56AD-3540-419C-8879-187397FB18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0E32-3B15-4CB7-9D68-C3AF5D4900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D91A-7ED4-437E-9930-C48DE768E9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D1B3-520E-4B15-B546-0D09E92BFB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62EC-4A3D-4FF0-8DB0-96C17B853F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2A56-BD5C-49CB-BAF5-2DF46C619E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ECE1-0BF8-434F-BB3F-4A457CA787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9CC3-FEFF-4330-A236-6E0F735BB6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38D0-6A7A-4626-B27D-8E12733AA7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444-1981-45FD-9B8D-64E33A0B8A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AB79-AC48-4FEF-A2FA-BEC42DE8E3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DA22-A294-42DB-B6A4-3901240371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71D6-1E16-4E58-9C7F-93A1C10A8A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0092-BAC9-4B3C-A3B8-1FE6988AE3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CDD8-B066-4286-A887-E8052FF1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35E-6065-4174-8E28-B99D0845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721-5294-4704-9E3B-0408E567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976-DB29-4C2D-B2BD-F103C34C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EC1E-7327-402B-AAC7-543DC1E8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BE4D-B9AD-4BF4-BAD8-2B63885D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A4C-2337-45B3-88DF-681ACA2A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B02C-2A49-4E38-84F3-3C646922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530-3236-40BE-B58C-09E86380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BDF-1041-4C76-AAAE-93885A7E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87DB-BAB2-49AF-8B62-8A2F2677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AC74-9CE2-4D93-9C76-DAE8683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DEBB-75F0-4058-A60E-D5832BE10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2)</a:t>
            </a:r>
            <a:br>
              <a:rPr sz="80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– 10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7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7160" y="388620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t des lett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pour éventuellement réduire 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571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écrira uniquemen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’expression factorisée  la plus simp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égale à celle propos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– 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17T20:25:29Z</dcterms:modified>
  <cp:revision>35</cp:revision>
  <dc:subject/>
  <dc:title>Vocabulaire et calcul mental</dc:title>
</cp:coreProperties>
</file>