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C62-3CFB-41E5-AB49-C4E511DD33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DF6C-79F3-4900-BF1D-102E3129BC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6119-532E-4D16-8010-385123D3A3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B37E-0013-40F5-9F8D-CCB5BE2B43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8D24-D55D-4FB3-9458-941764C368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3EC3-7F08-472D-93F4-3F6B56B50E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3F86-C2A2-4ECC-A6DC-54C473860F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1B37-A96F-43DB-B538-A43F82E531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B37-276C-47A2-8939-D69C395916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9883-F1B0-403C-9EE8-2C258CE749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689E-D73E-4AA7-93F0-5128B98A67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6177-AFC2-4B9F-9649-C3D5FF2F51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03F5-1B18-46A4-85C9-3B7122A31F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349-9B79-4ABA-A788-A3F6952C3E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D28-D16C-4624-9118-250A6AA7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640-20F6-463E-AE38-C6080954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B73-0073-4D3C-B328-C8EF32F8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60C-10EB-4321-8860-0D31826C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244-FEE9-4988-894F-49F0B8C1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748-755F-4BB8-AC3D-A7875292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425-6CED-4978-A3C8-07F0C334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E5C-C01B-4FB2-9D05-44C3279A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0AC-94B7-413E-BC2A-A0F90A86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7FE-EFA4-4638-A383-C07709C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CCEE-E354-4F9A-A3B8-8AD87C81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503-D872-45C6-BE10-64847185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EC1A-C4D2-4E91-8CA4-072BC9B083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1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10 calcul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2158920" y="3238560"/>
                <a:ext cx="4970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2158920" y="3238560"/>
                <a:ext cx="4970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2158920" y="3238560"/>
                <a:ext cx="49658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Calculer en respectant les règles opératoires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2158920" y="3238560"/>
                <a:ext cx="488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158920" y="3238560"/>
                <a:ext cx="4970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2158920" y="3238560"/>
                <a:ext cx="4970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2158920" y="3238560"/>
                <a:ext cx="488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2158920" y="3238560"/>
                <a:ext cx="4970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2158920" y="3238560"/>
                <a:ext cx="49658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2158920" y="3238560"/>
                <a:ext cx="488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7:21:04Z</dcterms:created>
  <dc:creator>ms</dc:creator>
  <dc:description/>
  <dc:language>en-US</dc:language>
  <cp:lastModifiedBy>Marionseg</cp:lastModifiedBy>
  <dcterms:modified xsi:type="dcterms:W3CDTF">2010-01-22T16:40:04Z</dcterms:modified>
  <cp:revision>18</cp:revision>
  <dc:subject/>
  <dc:title>Nombres relatifs Série n°1  10 calculs 10 secondes par calcul</dc:title>
</cp:coreProperties>
</file>