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DEDE-31F6-411A-A658-3E1C8CBA21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D693-6C1D-4211-8A2C-D75018E72F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F3DA-4DAA-4FF0-8E4D-510611A624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3F5E-6D61-4F3F-95A2-8D2065E36C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359B-D0A7-4875-8E17-9B499B687A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7A0D-A2E1-411C-BF59-28485F6D1D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A3A-0A4A-401C-854B-F059297B2A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876D-3ABE-4C92-B752-1421030C11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C45C-8865-4585-A8FE-2520B97A28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5F9-CA24-447C-8373-406EC0F183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C701-6ED2-4B32-ADBE-5E66CE4CC7F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1326-BF79-4749-8C1B-626BD337D4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E2E5-A831-4785-8661-26A5E4D9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B4C9-892A-45B2-A173-10961785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B10-14D5-4E2D-B2B3-08F230B8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9982-C128-4790-BC4D-9CEDD755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774B-AF0D-47B5-9243-EBC9703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E47A-504F-46E3-ABD2-C08DDA73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515-43DA-4197-B127-A8BDA46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114-E0AF-488A-B42C-2E6E0700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C1A-4600-4367-B981-81BE4CDF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A06-1DFB-4A83-A3DA-24A5B5B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EDE9-D9C0-423A-8F7A-156F416F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804-CBBB-47B1-AC80-C1CB5F9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0BF9-B471-4413-9041-7EF6CE1D3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INES CAR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(1) 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0"/>
              <p:cNvSpPr txBox="1"/>
              <p:nvPr/>
            </p:nvSpPr>
            <p:spPr>
              <a:xfrm>
                <a:off x="2346480" y="2246400"/>
                <a:ext cx="411156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iste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0"/>
              <p:cNvSpPr txBox="1"/>
              <p:nvPr/>
            </p:nvSpPr>
            <p:spPr>
              <a:xfrm>
                <a:off x="2092320" y="2666880"/>
                <a:ext cx="459576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iste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1457280" y="2622600"/>
                <a:ext cx="6570720" cy="15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exist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s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Répondre par </a:t>
            </a:r>
            <a:br>
              <a:rPr sz="6000"/>
            </a:br>
            <a:r>
              <a:rPr b="0" i="1" lang="fr-FR" sz="6000" spc="-1" strike="noStrike">
                <a:solidFill>
                  <a:srgbClr val="ff0000"/>
                </a:solidFill>
                <a:latin typeface="Arial"/>
                <a:ea typeface="Arial"/>
              </a:rPr>
              <a:t>Vrai 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ou </a:t>
            </a:r>
            <a:r>
              <a:rPr b="0" i="1" lang="fr-FR" sz="6000" spc="-1" strike="noStrike">
                <a:solidFill>
                  <a:srgbClr val="009900"/>
                </a:solidFill>
                <a:latin typeface="Arial"/>
                <a:ea typeface="Arial"/>
              </a:rPr>
              <a:t>Faux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.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2789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4 est le carré de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2789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 a pour carré – 4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2492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Le nombre négatif qui a pour carré 16 est –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0" y="2708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(–25)² est le carré de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2700360" y="2470320"/>
                <a:ext cx="32320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0"/>
              <p:cNvSpPr txBox="1"/>
              <p:nvPr/>
            </p:nvSpPr>
            <p:spPr>
              <a:xfrm>
                <a:off x="2435400" y="2584440"/>
                <a:ext cx="42163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iste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0"/>
              <p:cNvSpPr txBox="1"/>
              <p:nvPr/>
            </p:nvSpPr>
            <p:spPr>
              <a:xfrm>
                <a:off x="1684440" y="2421000"/>
                <a:ext cx="625788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exist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s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3:38:48Z</dcterms:created>
  <dc:creator>ms</dc:creator>
  <dc:description/>
  <dc:language>en-US</dc:language>
  <cp:lastModifiedBy>Marionseg</cp:lastModifiedBy>
  <dcterms:modified xsi:type="dcterms:W3CDTF">2010-01-22T16:48:42Z</dcterms:modified>
  <cp:revision>13</cp:revision>
  <dc:subject/>
  <dc:title>Fractions : Vrai ou Faux  Série n°2</dc:title>
</cp:coreProperties>
</file>