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5D90-B363-484D-9DCC-D79EB71BAC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E8CC-5770-49B0-B00B-B1D31D7512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2936-FCA7-40A5-82C3-664804359A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4BCB-1F82-49E1-8A17-64EBE08BD1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E337-8119-4618-B66D-C575F52E5C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282C-E173-45ED-856B-AE56A91E99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8F00-E914-4892-9281-4E2857080E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6A27-9E3E-467D-8B2B-E33AF8D568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8DE5-9BD3-4AC3-9553-6CD9CA07ABD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151D-6330-432D-978B-7DD2BEF37F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CCD0-6F22-45A4-B142-EBCBE3CB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15E-FEB3-4B30-9F2F-FB9BA746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71DE-0212-47DD-B35F-3B915D74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321-47A7-4F74-8518-15776F1F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B0B-8F99-4700-B2A6-5F75141E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726-3C9F-49A3-BE7E-B50E49E6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43C-CFB0-441B-A0F1-85ABCDDC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224-623F-4C68-A7D6-8B4D8B75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C65-2405-4FD5-9762-10E6DDEF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97F-055B-4D67-AB1D-0197C46A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83D-326D-427E-B932-2A69B73D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6CC-372C-4396-A089-FA6B6A9F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1B37-F2D8-4E90-B4E5-4E81B1E0C06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DÉCODER UNE FIGURE (2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A l’aide du codage, calculer le périmètre de la figure lorsque cela est possi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1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ai N°0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"/>
          <p:cNvPicPr/>
          <p:nvPr/>
        </p:nvPicPr>
        <p:blipFill>
          <a:blip r:embed="rId1"/>
          <a:stretch/>
        </p:blipFill>
        <p:spPr>
          <a:xfrm>
            <a:off x="1368360" y="1079640"/>
            <a:ext cx="6361200" cy="5519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rcRect l="0" t="10386" r="0" b="0"/>
          <a:stretch/>
        </p:blipFill>
        <p:spPr>
          <a:xfrm>
            <a:off x="1692360" y="720720"/>
            <a:ext cx="5492520" cy="6033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"/>
          <p:cNvPicPr/>
          <p:nvPr/>
        </p:nvPicPr>
        <p:blipFill>
          <a:blip r:embed="rId1"/>
          <a:stretch/>
        </p:blipFill>
        <p:spPr>
          <a:xfrm>
            <a:off x="1440000" y="936720"/>
            <a:ext cx="6360840" cy="593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"/>
          <p:cNvPicPr/>
          <p:nvPr/>
        </p:nvPicPr>
        <p:blipFill>
          <a:blip r:embed="rId1"/>
          <a:stretch/>
        </p:blipFill>
        <p:spPr>
          <a:xfrm>
            <a:off x="1440000" y="1079640"/>
            <a:ext cx="6360840" cy="5346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1260360" y="1079640"/>
            <a:ext cx="6359760" cy="514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"/>
          <p:cNvPicPr/>
          <p:nvPr/>
        </p:nvPicPr>
        <p:blipFill>
          <a:blip r:embed="rId1"/>
          <a:stretch/>
        </p:blipFill>
        <p:spPr>
          <a:xfrm>
            <a:off x="1440000" y="1079640"/>
            <a:ext cx="6360840" cy="43066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drumroll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0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4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1:04:50Z</dcterms:created>
  <dc:creator>ms</dc:creator>
  <dc:description/>
  <dc:language>en-US</dc:language>
  <cp:lastModifiedBy>Marionseg</cp:lastModifiedBy>
  <dcterms:modified xsi:type="dcterms:W3CDTF">2010-01-22T12:48:58Z</dcterms:modified>
  <cp:revision>48</cp:revision>
  <dc:subject/>
  <dc:title>… c’est un quadrilatère ...</dc:title>
</cp:coreProperties>
</file>