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7A5D-198C-4046-A5ED-8A2D9ACD75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6DE3-61A7-4EB8-BFE7-74129A6708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C68A-CE38-4C30-B4A1-188A2ED74B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2ED-FDE0-4C02-93BC-20AF63C8F7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1D1C-890A-4F6A-A03F-F1E5CFA483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B695-BD59-4426-A0C1-9A3CCC6FCC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5D5-C777-4B97-B9AB-C53E8D7537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65C-642F-40AB-862A-9BF17EECA3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FE14-48F1-4EF0-A70C-C2A7CBABD5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DBCB-455C-4E18-B081-3D2572FB2E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1AA-5D7E-4F5F-9CFF-8E50347BF7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6A8F-F492-4545-9186-ED455FC098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9D96-ECCE-4A37-A01F-2DA5B5549F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8F5F-37BA-4B3A-8691-8A373D0211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479-06FC-4878-A91F-799F816F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CAE-1CD9-4C35-9A06-F2C96E06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7A5E-F580-4F8B-B818-79D85D55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6ED-407A-44CB-89AE-9EE6BE86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0FA-04DE-497B-A9F5-E2F58FF6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2C2-502C-4A1F-8E58-EBFF1D43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DD93-A9B8-4834-BC74-3EF060B3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DA9-2754-4917-8D89-5F771871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3DE-669D-458B-9634-2CEDD863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AD1-147D-4F99-8541-83FD87DB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AE2-7D56-4C00-8BD8-BA569597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FC8-B906-47D3-BF72-9CAB7A90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1FE8-D17E-4094-8E15-61B41AF514C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BA70-18DD-4F79-8CCE-32CA2139C7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NOTION DE FONCTION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14200" y="1079280"/>
            <a:ext cx="8715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Un opérateur de téléphonie mobile propose un forfait mensuel à 19€, puis chaque minute supplémentaire coûte 0,25€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xprimer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n fonction de 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le prix mensuel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P(n)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pour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minutes hors forfa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P(n)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0" y="1079640"/>
            <a:ext cx="91440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Un disque a pour rayon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xprimer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n fonction de 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l’air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A(r)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de ce disq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A(r)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4200" y="1079280"/>
            <a:ext cx="8715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Une éprouvette cylindrique a une base de rayon 3 cm. On y verse de l’eau atteignant une hauteur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xprimer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n fonction de 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le volum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V(h)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en cm</a:t>
            </a:r>
            <a:r>
              <a:rPr b="0" lang="fr-FR" sz="3200" spc="-1" strike="noStrike" baseline="30000">
                <a:solidFill>
                  <a:srgbClr val="005bd3"/>
                </a:solidFill>
                <a:latin typeface="Arial"/>
                <a:ea typeface="Arial"/>
              </a:rPr>
              <a:t>3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de l’ea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V(h)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840" y="1428480"/>
            <a:ext cx="864396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Arial"/>
              </a:rPr>
              <a:t>Répondre à la question, puis dire s’il s’agit </a:t>
            </a:r>
            <a:br>
              <a:rPr sz="5400"/>
            </a:b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Arial"/>
              </a:rPr>
              <a:t>d’une situation de proportionnalité ou non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1079640"/>
            <a:ext cx="80010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Le prix d’un kg de tomates est 2,30 €. Exprimer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n fonction de 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le prix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p(m)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d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kg de tom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p(m)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1079280"/>
            <a:ext cx="91440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Pour trouver l’énergie électrique en watt-heure consommée par une lampe de puissance 100 watts, on multiplie cette puissance par la durée d’utilisation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en heure de la lamp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xprimer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n fonction de t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cette énergi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(t)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E(t)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1079280"/>
            <a:ext cx="8572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Un théâtre propose une carte annuelle l’abonnement à 45€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puis demande 8€ par specta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xprimer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n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fonction de 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la dépense annuell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(n)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pour assister à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spectac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D(n)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0920" y="107928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Pendant les soldes, un magasin ve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on stock avec 30% de rédu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oit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le prix d’un article non sold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xprimer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n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fonction de </a:t>
            </a:r>
            <a:r>
              <a:rPr b="0" i="1" lang="fr-FR" sz="36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x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on prix soldé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P(</a:t>
            </a:r>
            <a:r>
              <a:rPr b="0" i="1" lang="fr-F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3840" y="1079280"/>
            <a:ext cx="8929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Pour trouver la tension électrique en volt aux bornes d’un appareil de résistance 20 ohms, on multiplie cette résistance par l’intensité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en ampère du courant qui traverse l’apparei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xprimer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n fonction de I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cette tension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U(I)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U(I)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107928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Le degré Celsius(°C) et le degré Fahrenheit(°F) sont deux unités de température. Une température en °F est obtenue en multipliant par 1,8 une température </a:t>
            </a:r>
            <a:r>
              <a:rPr b="0" i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exprimée  en °C, puis en ajoutant 32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Exprimer </a:t>
            </a:r>
            <a:r>
              <a:rPr b="0" i="1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en fonction de t </a:t>
            </a:r>
            <a:r>
              <a:rPr b="0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la température  </a:t>
            </a:r>
            <a:r>
              <a:rPr b="0" i="1" lang="fr-FR" sz="3000" spc="-1" strike="noStrike">
                <a:solidFill>
                  <a:srgbClr val="000000"/>
                </a:solidFill>
                <a:latin typeface="Arial"/>
                <a:ea typeface="Arial"/>
              </a:rPr>
              <a:t>f(t)</a:t>
            </a:r>
            <a:r>
              <a:rPr b="0" i="1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 en °</a:t>
            </a:r>
            <a:r>
              <a:rPr b="0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F</a:t>
            </a:r>
            <a:r>
              <a:rPr b="0" i="1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ff0000"/>
                </a:solidFill>
                <a:latin typeface="Arial"/>
                <a:ea typeface="Arial"/>
              </a:rPr>
              <a:t>f(t)</a:t>
            </a:r>
            <a:r>
              <a:rPr b="0" lang="fr-FR" sz="30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0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0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r>
              <a:rPr b="0" lang="fr-FR" sz="3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4200" y="1079280"/>
            <a:ext cx="8715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Dans une entreprise, les salaires ont augmenté de 2%. Soit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le salaire d’une personne avant l’aug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xprimer 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en fonction de 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on nouveau salaire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g(s)</a:t>
            </a:r>
            <a:r>
              <a:rPr b="0" i="1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.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g(s)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Situation de proportionnalité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oui 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ou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non </a:t>
            </a:r>
            <a:r>
              <a:rPr b="0" lang="fr-FR" sz="3200" spc="-1" strike="noStrike">
                <a:solidFill>
                  <a:srgbClr val="005bd3"/>
                </a:solidFill>
                <a:latin typeface="Arial"/>
                <a:ea typeface="Arial"/>
              </a:rPr>
              <a:t>?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4:21:29Z</dcterms:modified>
  <cp:revision>240</cp:revision>
  <dc:subject/>
  <dc:title>Diapositive 0</dc:title>
</cp:coreProperties>
</file>