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074-3AF9-4D34-94A4-B1105F8ECE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8C87-87A1-4A56-A44F-560A3B6953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8DB-CBA5-42CC-80DF-DC5FD2630A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5D0D-D10A-4EBD-88C8-3D6978148B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030-7875-4B61-A5EE-E1D0F2478A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6F84-8A39-49B6-B76B-A1E1FB9F85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211E-9B0A-48A3-8834-E2F368C271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150-EC3B-4DB5-ABFE-506D3AD999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4D0-0F4C-41CD-B31B-890ECBC4BE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FBA4-D4E9-4DE3-864E-5A3C34B0F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B1F5-A20A-454A-88AC-2632B8421E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3753-D5BD-438A-992F-7B1B1D5D6E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D3C-43A0-4B59-BD26-2174BFDC63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AE88-E714-495E-9B65-D8C0F77546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BCA-F6D7-492F-8CDA-389F7E99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F5C-9DC7-41CC-80AE-C4054060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17B7-E298-40F5-839D-7B64A8CE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D0B-EE31-4485-9B84-25C7D6C5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D79-A379-4137-AD82-A739B65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7A4-4458-41A8-8C2B-21A415D0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FF0-B2A0-4D90-B7AB-C79F86F1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722-C425-4AAD-A845-EB09912F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9E8-79B6-42C8-9A4B-15E2AE79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99D-9183-496F-9F77-1959545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8B9-11BA-4F20-AECC-77E25634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AAA-82DC-42DC-93DE-B59F5B45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EDA7-C4E0-47B8-B6A2-ED533DCE6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7810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TION DE PÉRIMÈT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T D’AIRE (3)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240000" y="5884920"/>
            <a:ext cx="2160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851280" y="189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6260" t="6424" r="8740" b="9006"/>
          <a:stretch/>
        </p:blipFill>
        <p:spPr>
          <a:xfrm>
            <a:off x="1008000" y="1079640"/>
            <a:ext cx="7367760" cy="472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700360" y="5884920"/>
            <a:ext cx="3384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gt;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51280" y="189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4530" t="11028" r="3310" b="1291"/>
          <a:stretch/>
        </p:blipFill>
        <p:spPr>
          <a:xfrm>
            <a:off x="1008000" y="1079640"/>
            <a:ext cx="7121520" cy="490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700360" y="5884920"/>
            <a:ext cx="3384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851280" y="18900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570" t="0" r="6260" b="12304"/>
          <a:stretch/>
        </p:blipFill>
        <p:spPr>
          <a:xfrm>
            <a:off x="1008000" y="1079640"/>
            <a:ext cx="7294680" cy="4902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8"/>
          <p:cNvSpPr/>
          <p:nvPr/>
        </p:nvSpPr>
        <p:spPr>
          <a:xfrm>
            <a:off x="755640" y="5884920"/>
            <a:ext cx="3384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gt;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148360" y="5884920"/>
            <a:ext cx="2160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"/>
          <p:cNvPicPr/>
          <p:nvPr/>
        </p:nvPicPr>
        <p:blipFill>
          <a:blip r:embed="rId1"/>
          <a:srcRect l="12400" t="11028" r="5430" b="3313"/>
          <a:stretch/>
        </p:blipFill>
        <p:spPr>
          <a:xfrm>
            <a:off x="1008000" y="1079640"/>
            <a:ext cx="7121520" cy="47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419640" y="5884920"/>
            <a:ext cx="2160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rcRect l="14060" t="11573" r="2950" b="0"/>
          <a:stretch/>
        </p:blipFill>
        <p:spPr>
          <a:xfrm>
            <a:off x="1008000" y="1079640"/>
            <a:ext cx="7193160" cy="494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60720" y="5884920"/>
            <a:ext cx="3384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rcRect l="12880" t="13595" r="4130" b="-2007"/>
          <a:stretch/>
        </p:blipFill>
        <p:spPr>
          <a:xfrm>
            <a:off x="1008000" y="1079640"/>
            <a:ext cx="7193160" cy="4941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240000" y="5884920"/>
            <a:ext cx="2160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gt;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rcRect l="12400" t="5149" r="4130" b="7715"/>
          <a:stretch/>
        </p:blipFill>
        <p:spPr>
          <a:xfrm>
            <a:off x="1008000" y="1079640"/>
            <a:ext cx="723420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240000" y="5884920"/>
            <a:ext cx="2160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10400" t="6424" r="5790" b="6424"/>
          <a:stretch/>
        </p:blipFill>
        <p:spPr>
          <a:xfrm>
            <a:off x="1008000" y="1071720"/>
            <a:ext cx="7264440" cy="4870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2700360" y="5884920"/>
            <a:ext cx="3384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rcRect l="12880" t="9737" r="2950" b="3313"/>
          <a:stretch/>
        </p:blipFill>
        <p:spPr>
          <a:xfrm>
            <a:off x="1008000" y="1079640"/>
            <a:ext cx="7294680" cy="486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700360" y="5884920"/>
            <a:ext cx="3384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rcRect l="6970" t="5880" r="8740" b="8446"/>
          <a:stretch/>
        </p:blipFill>
        <p:spPr>
          <a:xfrm>
            <a:off x="1008000" y="1079640"/>
            <a:ext cx="7305840" cy="478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419640" y="5884920"/>
            <a:ext cx="21603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rcRect l="12400" t="11573" r="4610" b="2566"/>
          <a:stretch/>
        </p:blipFill>
        <p:spPr>
          <a:xfrm>
            <a:off x="1008000" y="1079640"/>
            <a:ext cx="7193160" cy="479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3:25:46Z</dcterms:modified>
  <cp:revision>11</cp:revision>
  <dc:subject/>
  <dc:title>PowerPoint Presentation</dc:title>
</cp:coreProperties>
</file>