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7970-4E73-477A-B9BF-2F9BA8D934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2BF1-7AD6-4177-915C-C5B86F35BC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7618-796F-4229-A66D-7F6D117BD9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627C-7A47-4DCA-92AF-36B26DA5E4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CBBC-540D-447A-9A6D-5F81D346F7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0E17-B54E-4BDF-B7C9-DACE45FF55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DE8E-74DB-4716-8B8C-781E93CD90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54C3-4016-4DB4-85AA-BEEFDBDFE6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8E5F-30E4-4E51-8EA1-291E8F3424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EA32-E804-4552-9CF7-329A61A853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CD62-70E5-4A07-9516-CA040F00BB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D336-B397-40DF-986F-B49BA7609C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5248-C5C4-49CB-BDBF-1D6C5D27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2E2-BA67-4158-831D-CB617890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9E22-82DC-4E80-A7F4-78FFEC0F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664-841E-4910-86DD-359C7EAA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5D69-21E2-41A2-87CF-47FD0179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F808-95C8-4CB3-B504-33F3AE50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BD03-A8A5-42ED-8ACD-F33B5732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D4A3-D18A-4DE1-81F3-107E58A3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7A0C-62E7-4378-BA32-08402BCC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4225-A681-458E-9019-2377ECAF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8062-B44B-419A-AEC1-3EC075B2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AD9-ADF6-48E4-AA15-E1A04A3C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D2C9-4E69-4B02-A981-F55B273F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920B-9BBF-4504-AE57-79B0BFAE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3107-60B2-4E14-9694-31B47B87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5E16-B88F-444F-889C-5988E97E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DEC1-7D64-4451-8743-62F67FFF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9375-8E70-41DB-A019-A417756B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930E-795A-4972-9E88-27025B27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17D-163D-4534-943D-7A2A71B5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F7A-3AAB-4DF2-81B9-F8A54A7B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3AF-30C3-438D-B03A-C1D31025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D79-EB9B-46B2-A4A5-9D3300D7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1A87-E47C-4F6F-A29B-EB5FFEF3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BB54-13A8-4CBD-BF64-1644A67BB0F3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468360" y="2349360"/>
            <a:ext cx="374328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4932360" y="2349360"/>
            <a:ext cx="3743280" cy="215928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6F96-D921-4E52-AC75-EC61D84BB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RACINES CARR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ES (2) 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ÉRIES N°3 ET 3B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1"/>
              <p:cNvSpPr txBox="1"/>
              <p:nvPr/>
            </p:nvSpPr>
            <p:spPr>
              <a:xfrm>
                <a:off x="5156280" y="2843280"/>
                <a:ext cx="33112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428760" y="3008160"/>
                <a:ext cx="377964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3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"/>
              <p:cNvSpPr txBox="1"/>
              <p:nvPr/>
            </p:nvSpPr>
            <p:spPr>
              <a:xfrm>
                <a:off x="890640" y="2878200"/>
                <a:ext cx="288756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"/>
              <p:cNvSpPr txBox="1"/>
              <p:nvPr/>
            </p:nvSpPr>
            <p:spPr>
              <a:xfrm>
                <a:off x="5156280" y="2843280"/>
                <a:ext cx="33112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0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1"/>
              <p:cNvSpPr txBox="1"/>
              <p:nvPr/>
            </p:nvSpPr>
            <p:spPr>
              <a:xfrm>
                <a:off x="5156280" y="2843280"/>
                <a:ext cx="33112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1"/>
              <p:cNvSpPr txBox="1"/>
              <p:nvPr/>
            </p:nvSpPr>
            <p:spPr>
              <a:xfrm>
                <a:off x="750960" y="2878200"/>
                <a:ext cx="316872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66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Écrire </a:t>
            </a:r>
            <a:r>
              <a:rPr b="0" i="1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sous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forme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aussi simple que possible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7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1"/>
              <p:cNvSpPr txBox="1"/>
              <p:nvPr/>
            </p:nvSpPr>
            <p:spPr>
              <a:xfrm>
                <a:off x="714240" y="2878200"/>
                <a:ext cx="324036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5145120" y="2878200"/>
                <a:ext cx="338148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4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1"/>
              <p:cNvSpPr txBox="1"/>
              <p:nvPr/>
            </p:nvSpPr>
            <p:spPr>
              <a:xfrm>
                <a:off x="714240" y="2878200"/>
                <a:ext cx="3240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5214960" y="2878200"/>
                <a:ext cx="32400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5189400" y="2878200"/>
                <a:ext cx="32403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538200" y="2878200"/>
                <a:ext cx="359244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8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11"/>
              <p:cNvSpPr txBox="1"/>
              <p:nvPr/>
            </p:nvSpPr>
            <p:spPr>
              <a:xfrm>
                <a:off x="890640" y="2878200"/>
                <a:ext cx="288756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4979880" y="2843280"/>
                <a:ext cx="36640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5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1"/>
              <p:cNvSpPr txBox="1"/>
              <p:nvPr/>
            </p:nvSpPr>
            <p:spPr>
              <a:xfrm>
                <a:off x="714240" y="2878200"/>
                <a:ext cx="324036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0"/>
              <p:cNvSpPr txBox="1"/>
              <p:nvPr/>
            </p:nvSpPr>
            <p:spPr>
              <a:xfrm>
                <a:off x="5191200" y="2843280"/>
                <a:ext cx="324144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1"/>
              <p:cNvSpPr txBox="1"/>
              <p:nvPr/>
            </p:nvSpPr>
            <p:spPr>
              <a:xfrm>
                <a:off x="5156280" y="2843280"/>
                <a:ext cx="331128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0"/>
              <p:cNvSpPr txBox="1"/>
              <p:nvPr/>
            </p:nvSpPr>
            <p:spPr>
              <a:xfrm>
                <a:off x="679320" y="2913120"/>
                <a:ext cx="331020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0"/>
              <p:cNvSpPr txBox="1"/>
              <p:nvPr/>
            </p:nvSpPr>
            <p:spPr>
              <a:xfrm>
                <a:off x="4464000" y="3193920"/>
                <a:ext cx="2160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9" name="Rectangle 12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1"/>
              <p:cNvSpPr txBox="1"/>
              <p:nvPr/>
            </p:nvSpPr>
            <p:spPr>
              <a:xfrm>
                <a:off x="925560" y="2878200"/>
                <a:ext cx="281772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4900680" y="3000240"/>
                <a:ext cx="37432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22T16:53:45Z</dcterms:modified>
  <cp:revision>31</cp:revision>
  <dc:subject/>
  <dc:title>Diapositive 1</dc:title>
</cp:coreProperties>
</file>