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F32-E271-4DEC-AAD6-7F1C450CC4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4FE-ACA7-4BE0-B9C3-6018F4F248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F915-34C2-4B6F-A5BA-309B03997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AA7A-EB3B-4D9C-97C3-B413B4D18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E0BC-9511-49AB-AA30-EC21D8901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B733-18F8-482C-B2EA-3ED5D6E6CB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431E-94F3-425F-A8FB-29D08291F9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8E8-F1A0-4C5F-9227-4942012537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0EFF-207D-445D-98B2-ED4EA02D9C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2043-7E8A-45AB-8882-22CBD6114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92A-0F84-4B21-B16D-9BD72072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70F-2863-46DB-AF38-29EBD2B0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96F-36D2-4E8F-917C-CB52F29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050-5E6C-4533-B0CB-F26F68DFA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97C-5D02-4D69-B28E-316C3E33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BDB-1A05-4F36-A9EE-86F4E18B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525-0C04-4C28-9564-64249616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965-9E8D-45CB-B85E-B75AED40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C46-46EF-4E59-AAF0-6B18E630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D2E-218D-4093-94CC-59FC387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2A2-5470-4995-B943-4BE7777D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9E4-93AF-4FD1-A0EE-4C4442A8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17A4-D497-44E2-A949-414E3CF8B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1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400"/>
            </a:b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Coder chaque figure à l’aide des informations donné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0/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AB = 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_x0011_Vocabulaire 0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930320" y="2044800"/>
            <a:ext cx="5283360" cy="276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1/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EF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(EI)   (IH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(HG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t (FG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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EF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11_Vocabulaire 1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438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J = ML = LK et IM = J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_x0011_Vocabulaire 2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066680" y="1600200"/>
            <a:ext cx="7048800" cy="406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3/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(RS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(RT), (RT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(TW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et SR = RT = TW = U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_x0011_Vocabulaire 3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94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889280" y="285840"/>
            <a:ext cx="6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4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9"/>
              <p:cNvSpPr txBox="1"/>
              <p:nvPr/>
            </p:nvSpPr>
            <p:spPr>
              <a:xfrm>
                <a:off x="3071880" y="357120"/>
                <a:ext cx="237168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D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" name="Picture 6" descr="_x0011_Vocabulaire 4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600200" y="1752480"/>
            <a:ext cx="5931000" cy="373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5/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OP = PR et (PS) </a:t>
            </a:r>
            <a:r>
              <a:rPr b="0" lang="fr-FR" sz="40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(O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_x0011_Vocabulaire 5.pdf 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838080" y="1523880"/>
            <a:ext cx="7442280" cy="431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8:19:05Z</dcterms:modified>
  <cp:revision>24</cp:revision>
  <dc:subject/>
  <dc:title>PowerPoint Presentation</dc:title>
</cp:coreProperties>
</file>