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A762-E068-4095-AEC7-CFE281395C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8E19-905F-4973-AD4A-593612E3FC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D3D2-8B68-43B4-A764-FC629CF7B0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3757-C034-40BA-B28A-359C928071B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F0DB-00A3-4096-AC3C-ED2133DD09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E02-ECAD-463A-B338-945B67DFCD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B936-4FB2-4F5D-92E9-0DD4979D9C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0F6-2A95-4384-95D6-B1586A6E7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75B-2B51-418D-906B-9F148BC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060D-11C7-4328-9E33-30638642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E79-AC3E-47F8-9013-91D5E107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C6B-30D5-43BA-88BB-7389F7DE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5621-E2BA-46E8-8D4C-26F2EC46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3BD-2693-49E9-976B-C3DCA399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6FD7-6EC8-4E74-8677-545A3F2E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23F-544F-4B69-BEFE-DC736250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329C-17E1-48D8-A714-67390772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25E-460F-4503-A2E7-EFF8329F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E780-F43C-4076-9522-DAFA4F76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408-CD9F-4A67-A197-6A610FDA4750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VALEURS APPROCHÉE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5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1214280" y="1285920"/>
            <a:ext cx="789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00"/>
                </a:solidFill>
                <a:latin typeface="Arial"/>
              </a:rPr>
              <a:t>Compléter le tableau proposé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oneTexte 5"/>
          <p:cNvSpPr/>
          <p:nvPr/>
        </p:nvSpPr>
        <p:spPr>
          <a:xfrm>
            <a:off x="214200" y="25718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n écrivant d’abord l’opération à effectuer, puis la répons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6"/>
          <p:cNvSpPr/>
          <p:nvPr/>
        </p:nvSpPr>
        <p:spPr>
          <a:xfrm>
            <a:off x="566640" y="43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70c0"/>
                </a:solidFill>
                <a:latin typeface="Arial"/>
              </a:rPr>
              <a:t>L’opération s’effectuera mentalem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285840" y="212256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Marianne désire partager équitablement 10 € entre trois enfants qu’elle a en gard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Combien, en euros, chacun aura-t-il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onner une valeur approchée de ce montant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ar défaut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centime d’euro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rè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5840" y="2122560"/>
            <a:ext cx="857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Un cahier de 100 pages a une épaisseur de 3,58 cm. Quelle est, en cm, l’épaisseur d’une feuille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onnera une valeur approchée,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par excès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u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centièm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rè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5840" y="2122560"/>
            <a:ext cx="857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répartit 2 L de jus d’orange entre 6 enfants. Quelle quantité, en L, chacun boira-t-il 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onnera une valeur approchée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ar défau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, a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centilit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prè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85840" y="2122560"/>
            <a:ext cx="8501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Antoine parcourt 5 m en 7 p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Quelle est, en m, la longueur d’un pas d’Antoine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onnera une valeur approchée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ar excè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, a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écimèt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prè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5840" y="2122560"/>
            <a:ext cx="8572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Guillaume a obtenu 7,5 ; 14 ; 12,5 et 11 aux devoirs de français du trimestr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Quelle est sa moyenne 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On donnera une valeur approchée,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ar excè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, a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dixièm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prè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6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7:34:13Z</dcterms:modified>
  <cp:revision>35</cp:revision>
  <dc:subject/>
  <dc:title>Diapositive 1</dc:title>
</cp:coreProperties>
</file>