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D0DC-9FC1-4C6C-9E7B-DBF993C42C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7F0-89D0-4657-A59F-590F610D31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190-7160-4DF4-9299-5DEFA9D71D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2941-406B-43D8-8A10-9FAA6040CB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43E-8EC9-4FC9-92FE-BE910EFE73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B79-37B7-482B-B331-F9C6BA37BB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217A-BD0E-4EE8-A16E-7A2B5D1CBC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30C2-A720-49B5-928A-B2CA5038C7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79E8-FB63-4473-B881-5C94C5431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0A93-9CB6-4053-9B17-9810EB00D0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9BC6-5954-4EC6-B069-5C56034DB3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30F-551A-459F-A9DD-9943512CB0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8F9B-CE48-45B8-AE88-96D8060F5F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1D64-FB7A-4704-AD80-981FD47D68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38B-79E5-4E96-9F69-6A994AD5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D85-F133-41A8-BAF0-CC4849BA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7E0-4050-4A25-9481-3E85FC44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5096-4445-49B9-9FD1-BADF8855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DEE7-A454-41CC-858F-B3A157AB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5350-BD23-49F0-BE3D-F13DCF0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6EC-C2BF-4A3C-92D2-F3B0E581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7B19-B138-4F76-ADF8-D71EDE1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2301-DC64-44A5-A4FA-C2E6DB0C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B22D-BEFE-4D98-B05E-4B4B54D4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DA15-A69D-444F-AD14-C7EC2D3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31B-9E06-40CA-8EA5-B5E836B0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617D-68B2-46DC-8BF5-5C5B9DAD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03FD-DC45-4447-AE91-0FABAFF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AAC4-EC12-4FD6-A4D7-56D9D39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74D0-AE26-4075-B058-86DD3CD9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1C83-FAA9-4434-9331-AA3D0E35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5BD-A217-42F4-B46C-786F27E9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DD11-E559-4829-8B15-E6112192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F7CE-5851-4D2B-8422-8EE92F53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D5C3-809D-4900-9A92-528C3882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9F59-0A32-453F-915D-4B27F22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2AB-BACE-4009-B1E1-4F342BF3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9874-18C6-4D45-B5FC-FA9BCF8E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1B7E-D1EF-488E-BEEB-C24353BD5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4EE6-B2B8-4FA0-8920-4EBDF5769E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1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2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triple de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cub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ré de 7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Traduire chaque phrase par une expression littéral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produit de 6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somme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et de 4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quotient de 10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pa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356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fférenc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de 8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et de 3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double de 7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moitié de 5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 tiers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03:28Z</dcterms:created>
  <dc:creator>ms</dc:creator>
  <dc:description/>
  <dc:language>en-US</dc:language>
  <cp:lastModifiedBy>Marionseg</cp:lastModifiedBy>
  <dcterms:modified xsi:type="dcterms:W3CDTF">2010-01-22T17:48:01Z</dcterms:modified>
  <cp:revision>9</cp:revision>
  <dc:subject/>
  <dc:title>Traduire chaque phrase par une expression littérale</dc:title>
</cp:coreProperties>
</file>