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A7D1-C7F3-4109-88FB-FE8FA90E23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657E-3DDB-4813-9A51-1149E890A8D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FFD-F88D-4326-9175-6E49F99D1E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76DC-5F99-45EC-B1B8-AEF3CE0ED8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43D-28FA-4FDB-B47F-A60BFF8CED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BF5-D5BC-45E7-BB9C-4016EAB6D2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2600-67A7-4625-843A-310487C8BCB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A7D7-F67B-4ED8-9959-9292397D70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401F-EC32-4A37-92B5-3D3FF916E7F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2027-38D6-4D5A-8DD8-B64FD06666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215D-745A-4175-8233-93E849D89F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66C6-E427-476A-A7FA-2E79C1DD2C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A774-547B-4537-99FB-AAC8AC6B46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47F5-A55D-472C-A03E-505260D057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219-8464-4FF2-9CF2-8FA5A2BF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3D7A-2EF7-493F-BCDE-B87B7A03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195-6ECF-4CA4-82B3-1B8C9F51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BF5-F197-4025-ABB6-07D5FAC6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90A0-58A2-4F69-B5B3-CC887389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D9ED-BA48-4398-81B9-DF6C57EF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32C0-01D5-4658-A250-D133F144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8ECF-0A38-4BF7-A738-08BD3117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7691-CB9E-4D03-925A-A5255E9B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5667-93F3-4D7D-9BDE-3EB5F1FB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62E1-18BB-4823-A5B7-DA0E420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4D1-80FE-4CBF-BB13-46802FC8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DC0-EF2E-416E-9388-BED7C65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0FE2-86F8-4416-8926-E2FC243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1729-97CE-40A5-A7B6-524B1326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FBCC-C9EB-47C9-B2C6-99063673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3FF-C28B-44DD-9CBB-BE283B60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09E-8282-4592-9305-5D4BD50B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8273-2E31-456F-B80F-E8556021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A12E-A906-456C-B89D-8AD20982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94D0-BE28-4CFA-90EC-C47B9849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F63-BCCB-4B9A-A746-C13E2978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136-ED3C-4D5C-8BAF-1E1CD80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9E5-30C8-472D-AA16-34AA8106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BDDC-1C75-4FA6-BA9F-07D498F277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C187-D313-4379-B8E0-74230BF67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4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810 est divisible par 2, 5 et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621 est divisible par 3 et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57 est divisible par 3 e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36 est divisible par 9 e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25 est divisible par 5 et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84 est divisible par 3 et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2 est divisible par 9 et 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75 est divisible par 5 et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22 est divisible par 2 et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9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000000"/>
                </a:solidFill>
                <a:latin typeface="Arial"/>
                <a:ea typeface="Times New Roman"/>
              </a:rPr>
              <a:t>48 est divisible par 2, 3 et 4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05:51Z</dcterms:created>
  <dc:creator>ms</dc:creator>
  <dc:description/>
  <dc:language>en-US</dc:language>
  <cp:lastModifiedBy>Marionseg</cp:lastModifiedBy>
  <dcterms:modified xsi:type="dcterms:W3CDTF">2010-01-22T14:37:25Z</dcterms:modified>
  <cp:revision>8</cp:revision>
  <dc:subject/>
  <dc:title>Diapositive 1</dc:title>
</cp:coreProperties>
</file>