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1934-E2FF-4C29-9ABA-58A3C4977CB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B3E8-D382-4ECB-B0CB-E2FCA6D0639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FE62-794D-4FE0-BF4F-F11DAC9D175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368A-FD85-49EF-A1FD-D44FD143DF6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C0B7-084F-4EFA-9014-8AB0DE8DC38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CA10-3CAF-4A19-9D86-7B60167DE4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544E-D3AA-488E-85C7-E3A96AEBA1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726C-2608-4AAA-A8F4-7016EA82582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3E1A-BCD7-498B-981E-8D966611731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D243-60A2-4E4B-9EF5-60D3197612F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6024-2655-4D08-8655-B48BD95FDC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EF84-7C78-4540-AF37-8A8DD1ED89A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77FD-4142-43A5-833F-6BACFAB6C4A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E5C7-0F48-4D8F-817D-3E427D3D2BA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47D6-464A-44CE-8709-5452B8FA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3052-5A15-4E70-B2A4-BAC7991F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F6A1-C411-4EE3-81B2-2E29F104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413B-C37B-433C-891D-5D0ED831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200F-2D76-4C22-82AC-72CA482A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1944-E579-48C7-A441-DF855102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B35E-98A4-4F0F-8B96-8B15400B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5ECB-938C-4E00-93CE-02DDDCF0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73F2-3272-4E5E-93CC-B64951C7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A4AE-2897-479B-B8E7-F8AB4556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B828-C614-440B-BD67-3E3E544C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401E-9D7D-4453-A107-425BBF80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6795-A6AB-48FB-A617-F8E62DB44AA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1798-C229-4595-A90B-CF212772CD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FONCTION LINÉAIRE </a:t>
            </a:r>
            <a:br>
              <a:rPr sz="6600"/>
            </a:b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SÉRIE 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1079640"/>
            <a:ext cx="9090000" cy="5186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1079640"/>
            <a:ext cx="9090000" cy="5186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1079640"/>
            <a:ext cx="9090000" cy="5186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Bouton d'action : Retour 5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5bd3"/>
                </a:solidFill>
                <a:latin typeface="Arial"/>
                <a:ea typeface="Arial"/>
              </a:rPr>
              <a:t>La fonction représentée </a:t>
            </a:r>
            <a:br>
              <a:rPr sz="6000"/>
            </a:br>
            <a:r>
              <a:rPr b="0" lang="fr-FR" sz="6000" spc="-1" strike="noStrike">
                <a:solidFill>
                  <a:srgbClr val="005bd3"/>
                </a:solidFill>
                <a:latin typeface="Arial"/>
                <a:ea typeface="Arial"/>
              </a:rPr>
              <a:t>est-elle linéaire ? </a:t>
            </a:r>
            <a:br>
              <a:rPr sz="6000"/>
            </a:br>
            <a:r>
              <a:rPr b="0" lang="fr-FR" sz="6000" spc="-1" strike="noStrike">
                <a:solidFill>
                  <a:srgbClr val="005bd3"/>
                </a:solidFill>
                <a:latin typeface="Arial"/>
                <a:ea typeface="Arial"/>
              </a:rPr>
              <a:t>Répondre par oui ou non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079640"/>
            <a:ext cx="9090000" cy="5186160"/>
          </a:xfrm>
          <a:prstGeom prst="rect">
            <a:avLst/>
          </a:prstGeom>
          <a:ln w="0">
            <a:noFill/>
          </a:ln>
        </p:spPr>
      </p:pic>
      <p:sp>
        <p:nvSpPr>
          <p:cNvPr id="51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1079640"/>
            <a:ext cx="9090000" cy="5186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1079640"/>
            <a:ext cx="9090000" cy="5186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1079640"/>
            <a:ext cx="9090000" cy="5186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1079640"/>
            <a:ext cx="9090000" cy="5186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79280" y="900000"/>
            <a:ext cx="8766360" cy="5000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1079640"/>
            <a:ext cx="9090000" cy="5186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Nicole</dc:creator>
  <dc:description/>
  <dc:language>en-US</dc:language>
  <cp:lastModifiedBy>Marionseg</cp:lastModifiedBy>
  <dcterms:modified xsi:type="dcterms:W3CDTF">2010-01-22T13:30:45Z</dcterms:modified>
  <cp:revision>124</cp:revision>
  <dc:subject/>
  <dc:title>Diapositive 0</dc:title>
</cp:coreProperties>
</file>