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2DAF-8B24-4464-82C6-B73E051111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8FCC-1192-4907-9CD6-B7233501FB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F9DB-0263-4528-8A9A-E88AFD9BE9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215A-5F10-4130-8340-CEF8A48D25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6260-67D9-4FAA-B833-674703B9A9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53C0-7120-40AB-A1A0-1CFAD73844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B1A-8076-4D44-881D-D583233D85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C6A3-0CCA-426C-B340-2327FB08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A1F1-0B6C-4393-ACC9-BD8DF7A2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6A3B-0E1E-4C2E-8D72-A09EDDA8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3A39-E739-42D6-8443-D26EB561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3D57-BCA6-4D5C-9718-A6479B00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182E-3AA1-4BC8-9317-0235A849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39C3-09C9-4B74-B8D4-C054C16F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7DF8-E428-404F-B780-3CD9B4F3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8375-0CD5-45ED-8F44-14AD9779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E9C-10A4-41C4-8F40-640F68BA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C9D-0C66-4D03-8C3E-7DC8EC5E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E85-DD7B-48B1-98B3-940037D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5487-5396-4749-BAB5-B4963E1F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750B-B096-4678-AC5A-4D8D2C9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9F8C-2BBB-4961-94BC-3E39B7D8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5B7F-6F49-4767-BBD2-8791B2F5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F300-C046-4301-B1AF-8C48EAA6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F58-49CB-42F8-B50C-9F059992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E96-6214-4280-A21E-C3BD3575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B6ED-1B5B-49F7-9B98-86F9360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EB11-D967-4CEF-81EA-850F1F5D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A9B-0AAA-48AE-80AE-25B28110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0987-1868-4BA7-8CAC-BA975EE0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84C-8BEF-40E1-ACA0-B7469ED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D82-D371-4DE9-81BA-F6CD66B3A65C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900000" y="2333520"/>
            <a:ext cx="2880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5BE0-DB30-4A1A-8A41-7983F05F9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IVIS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4 ET N°4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1363680" y="2819520"/>
                <a:ext cx="19191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5918040" y="2820960"/>
                <a:ext cx="17560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463760" y="2827440"/>
                <a:ext cx="17431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8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5837400" y="2827440"/>
                <a:ext cx="19303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95360" y="2827440"/>
                <a:ext cx="18558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6014880" y="2827440"/>
                <a:ext cx="15512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193760" y="2819520"/>
                <a:ext cx="225900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5564160" y="2819520"/>
                <a:ext cx="246384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÷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471680" y="2819520"/>
                <a:ext cx="17272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5700600" y="2819520"/>
                <a:ext cx="21970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9:14:29Z</dcterms:created>
  <dc:creator>ms</dc:creator>
  <dc:description/>
  <dc:language>en-US</dc:language>
  <cp:lastModifiedBy>Marionseg</cp:lastModifiedBy>
  <dcterms:modified xsi:type="dcterms:W3CDTF">2010-01-17T20:03:57Z</dcterms:modified>
  <cp:revision>4</cp:revision>
  <dc:subject/>
  <dc:title>Calculer et donner éventuellement le  résultat simplifié.</dc:title>
</cp:coreProperties>
</file>