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CB87-4B51-4AB5-AF1B-734FB842F6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F334-33C8-473F-8C14-C0055D5F55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64E-FCB2-481A-BFEB-23A072A089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66F0-1DFD-4AF0-89C1-2877A9A793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2A34-470D-4738-AFBB-AA31B87A06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49DA-AB90-4042-B89C-546081A30D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73BD-50EE-4AB2-A9FA-83CD71C937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3346-D855-42D2-957B-5858160A70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1ACC-0776-4EC5-994F-8865AB839E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18FF-07F5-4CA4-9378-70B3877BC2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458D-5D98-422B-8B65-FD87F1D427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5628-F02A-4BA9-8879-A2FF748CD1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A5A1-8458-437C-AEA2-FDB28ED896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F938-316C-4D52-B3E9-2C534F4C3D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B91-9888-4718-96BB-C839E712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CA7-9F88-484E-A5C6-02DB2655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7BC-B790-4731-845A-8CC34F81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135-1D7C-4923-8211-24495F54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083-2703-40BC-9C9E-DECCFE16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B7D-3883-40A6-8DE4-720B15C4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370-E87F-445F-B71F-44424118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970-7E55-4F25-8CFB-1738582F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1E8C-46F9-4163-9FA3-257D06C2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210-4B62-4C98-A97D-D57F3B4D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FF53-DAC2-46BA-A6E5-08515240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2A6-64E4-4D34-BD3C-E5D2A919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E7F7-2ADD-4874-BFC2-3D27D85C3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 (1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3114720" y="2068560"/>
                <a:ext cx="2914560" cy="28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1908000" y="2857680"/>
                <a:ext cx="53308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3114720" y="2068560"/>
                <a:ext cx="2916360" cy="28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Ecrire, si possible, plus simplement les express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"/>
              <p:cNvSpPr txBox="1"/>
              <p:nvPr/>
            </p:nvSpPr>
            <p:spPr>
              <a:xfrm>
                <a:off x="2914560" y="2857680"/>
                <a:ext cx="3318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2511360" y="2068560"/>
                <a:ext cx="4121280" cy="28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3114720" y="2068560"/>
                <a:ext cx="2916360" cy="28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3279600" y="2714760"/>
                <a:ext cx="25146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3063960" y="2068560"/>
                <a:ext cx="3017880" cy="28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²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859040" y="2857680"/>
                <a:ext cx="5427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1757520" y="2857680"/>
                <a:ext cx="56289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04:27Z</dcterms:created>
  <dc:creator>ms</dc:creator>
  <dc:description/>
  <dc:language>en-US</dc:language>
  <cp:lastModifiedBy>Marionseg</cp:lastModifiedBy>
  <dcterms:modified xsi:type="dcterms:W3CDTF">2010-01-17T20:23:12Z</dcterms:modified>
  <cp:revision>12</cp:revision>
  <dc:subject/>
  <dc:title>Calcul littéral (2) Série n°4</dc:title>
</cp:coreProperties>
</file>