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2F3D-87A5-4224-932B-DF6F46A1FD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F9E7-06B2-411C-B551-75D021BC96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6C19-EACA-464A-B2B0-5F27E19887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2245-8A0C-42D7-9E65-8FB31BC498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2029-5431-4962-B377-99D1CABCFC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1652-B461-4468-9332-BA928F7280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B0D1-AC25-4E83-9EA2-22184A112C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128B-CC30-4312-8184-181F988746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3B4D-8B7E-4F8A-9A56-1DB1F3E981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DC32-F34A-4A8E-A36F-F3DE88BC99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7435-83AF-472D-9596-DC4E900625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AF9C-61D2-4118-8E9E-1EAE8BB0F4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4F6D-6B2F-402B-B52F-4B3A184DA2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9EA0-25A0-4694-8B56-86AE8A15D8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E79-96D4-4808-A94F-A00ED090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F5CA-F678-43B0-A252-8D055B31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0AB-70F8-4965-9F36-5AE416B9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1E1-9F30-4E95-A3CD-26538954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BF0-7DAD-40FE-9163-28E4A397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8476-CEF5-4A2F-AD21-2B655F2D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7344-9886-4AAC-8B9D-5521A569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4A59-F0DC-4F48-A1C5-E051D433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A00F-BF7C-4132-9966-624FC855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55EC-A4A9-45F6-9CD2-DEF6BC22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6071-7550-4C0E-B6BA-AE930CE3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3B30-E863-4D47-BC58-803743D0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DC91-884B-4E0D-ABB0-ABE8EC6CC3F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CA92-4E0D-4DC1-937C-275DCCD03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03480"/>
            <a:ext cx="91440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NOMBRE MANQUANT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6,3 </a:t>
            </a:r>
            <a:r>
              <a:rPr b="1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÷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fr-FR" sz="7200" spc="-1" strike="noStrike">
                <a:solidFill>
                  <a:srgbClr val="6600cc"/>
                </a:solidFill>
                <a:latin typeface="Arial"/>
                <a:ea typeface="Arial"/>
              </a:rPr>
              <a:t>♠</a:t>
            </a:r>
            <a:r>
              <a:rPr b="0" lang="fr-FR" sz="60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= 2,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b050"/>
                </a:solidFill>
                <a:latin typeface="Arial"/>
                <a:ea typeface="Arial"/>
              </a:rPr>
              <a:t>♠</a:t>
            </a:r>
            <a:r>
              <a:rPr b="0" lang="fr-FR" sz="60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♣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1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÷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7 = 0,8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b050"/>
                </a:solidFill>
                <a:latin typeface="Arial"/>
                <a:ea typeface="Arial"/>
              </a:rPr>
              <a:t>♣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3,4 </a:t>
            </a:r>
            <a:r>
              <a:rPr b="1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÷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♦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= 0,003 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b050"/>
                </a:solidFill>
                <a:latin typeface="Arial"/>
                <a:ea typeface="Arial"/>
              </a:rPr>
              <a:t>♦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7"/>
          <p:cNvSpPr/>
          <p:nvPr/>
        </p:nvSpPr>
        <p:spPr>
          <a:xfrm>
            <a:off x="1071720" y="714240"/>
            <a:ext cx="714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6600cc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1785600"/>
            <a:ext cx="5072040" cy="307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Trouver </a:t>
            </a:r>
            <a:br>
              <a:rPr sz="5400"/>
            </a:b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le nombre manquant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5  </a:t>
            </a:r>
            <a:r>
              <a:rPr b="1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×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fr-FR" sz="6000" spc="-1" strike="noStrike">
                <a:solidFill>
                  <a:srgbClr val="6600cc"/>
                </a:solidFill>
                <a:latin typeface="Arial"/>
                <a:ea typeface="Arial"/>
              </a:rPr>
              <a:t>▲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= 4,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Arial"/>
                <a:ea typeface="Arial"/>
              </a:rPr>
              <a:t>▲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6600cc"/>
                </a:solidFill>
                <a:latin typeface="Arial"/>
                <a:ea typeface="Arial"/>
              </a:rPr>
              <a:t>☻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1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×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 0,1 = 8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Arial"/>
                <a:ea typeface="Arial"/>
              </a:rPr>
              <a:t>☻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0,6 </a:t>
            </a:r>
            <a:r>
              <a:rPr b="1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×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fr-FR" sz="7200" spc="-1" strike="noStrike">
                <a:solidFill>
                  <a:srgbClr val="6600cc"/>
                </a:solidFill>
                <a:latin typeface="Arial"/>
                <a:ea typeface="Arial"/>
              </a:rPr>
              <a:t>■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= 0,2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b050"/>
                </a:solidFill>
                <a:latin typeface="Arial"/>
                <a:ea typeface="Arial"/>
              </a:rPr>
              <a:t>■</a:t>
            </a:r>
            <a:r>
              <a:rPr b="0" lang="fr-FR" sz="60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</a:t>
            </a:r>
            <a:r>
              <a:rPr b="0" lang="fr-FR" sz="60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3000" y="1356840"/>
            <a:ext cx="6858000" cy="428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Le produit 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deux facteurs est 10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6600cc"/>
                </a:solidFill>
                <a:latin typeface="Arial"/>
                <a:ea typeface="Arial"/>
              </a:rPr>
              <a:t>L’un des facteurs est 0,5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Arial"/>
                <a:ea typeface="Arial"/>
              </a:rPr>
              <a:t>Quel est l’autre facteur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57200" y="1714680"/>
            <a:ext cx="6429600" cy="300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  <a:ea typeface="Arial"/>
              </a:rPr>
              <a:t>Par quel nombr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faut-il multiplier 0,4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pour obtenir 0,04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0012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48 =</a:t>
            </a:r>
            <a:r>
              <a:rPr b="0" lang="fr-FR" sz="60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♥</a:t>
            </a:r>
            <a:r>
              <a:rPr b="0" lang="fr-FR" sz="60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1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×</a:t>
            </a:r>
            <a:r>
              <a:rPr b="0" lang="fr-FR" sz="60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8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b050"/>
                </a:solidFill>
                <a:latin typeface="Arial"/>
                <a:ea typeface="Arial"/>
              </a:rPr>
              <a:t>♥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357200" y="1357200"/>
            <a:ext cx="6429600" cy="4214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Si je suis multiplié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par moi-même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le produit est égal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à 0,25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  <a:ea typeface="Arial"/>
              </a:rPr>
              <a:t>Qui suis-je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Nicole</dc:creator>
  <dc:description/>
  <dc:language>en-US</dc:language>
  <cp:lastModifiedBy>Marionseg</cp:lastModifiedBy>
  <dcterms:modified xsi:type="dcterms:W3CDTF">2010-01-22T16:39:25Z</dcterms:modified>
  <cp:revision>245</cp:revision>
  <dc:subject/>
  <dc:title>Diapositive 0</dc:title>
</cp:coreProperties>
</file>