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C505-2FE6-4699-A517-B2FAACCFD5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4BE6-DDFA-4C77-84F1-1F1C4378D5D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8A34-484E-4D6A-B641-81DA89BCEC0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BF13-DBCF-4C6D-9C17-F3006847423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A61C-9D08-4015-97B8-C4057092125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BAD5-3A79-4C52-A0E2-53A06824F31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8598-C590-4D91-9449-6F58D133ADB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9471-A2F2-4AD4-8DB1-99D4DCE6D15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777E-F98B-4D83-816B-AC90DE45AF5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1CD6-2045-4650-BB5F-370E7F36E31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326A-00ED-4DDF-855A-20593C1F582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EA53-BDF3-4D18-BAFB-52A63E6CCBE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CD72-BA39-4C22-B5E5-ABD2C09CEAB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7789-CB71-4F99-838E-4B403B4198F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C4C3-CD86-4BDE-9E36-351F4F011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3A3D-B997-4494-87A2-F43391DD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42DB-5573-46B5-B991-C5A338CCE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3DE8-1731-410C-8DC0-6164EE152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F016-4B47-4E11-9FCE-A8ABEFAE9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0513-AE1B-4EEE-A36E-89D6FCA6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D698-69A7-4220-BB4A-C7B6CB47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C84FC-21E9-4A69-970C-8A79ADFF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78CF-C4B7-4C3F-AD45-D1149240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DAB4-061B-42D1-8640-89B8BA63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D1F9-BF51-483D-BDE2-0CD1DEDE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BA05-B7AB-43FF-A276-1F36A9C5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F791-CD4D-4AA4-9C58-8AD5C58B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008F1-A968-4CAD-8211-72694744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0DBDA-771F-4F95-8BCF-ED157F74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A9F22-47D2-4F83-8293-DDAF13943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46ED-4A4F-4FEF-A053-53EA9FDF0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7BB5-1D81-4D11-B728-57F3CB7C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756F-764D-4242-8B21-C18E3BA9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C34F-F2A1-4DFC-A854-10355428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267C-FB24-453D-AC0A-4332C872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39DE-37F2-4DC8-B1B7-B41D5EA0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B407-054B-4507-9924-121A8730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1B96-3F93-41A7-B2E0-514CE9C0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6175-6329-4376-9168-909A323E7C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4590-4098-4D05-8F37-D323DCE3C9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Divisibilité(1)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Série n°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8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9 est un … de 8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9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10 est un … de 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10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10 est un … de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  <a:ea typeface="Times New Roman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03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Bouton d'action : Retour 5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250920" y="1449720"/>
            <a:ext cx="871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Compléter les phrases à l’aide des mot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« diviseur » ou « multiple 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1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12 est un … de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2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5 est un … 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3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4 est un … de 2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4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63 est un … de 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5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7 est un … de 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6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54 est un … de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7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8 est un … de 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0:51:17Z</dcterms:created>
  <dc:creator>ms</dc:creator>
  <dc:description/>
  <dc:language>en-US</dc:language>
  <cp:lastModifiedBy>Marionseg</cp:lastModifiedBy>
  <dcterms:modified xsi:type="dcterms:W3CDTF">2010-01-22T14:42:06Z</dcterms:modified>
  <cp:revision>6</cp:revision>
  <dc:subject/>
  <dc:title>Diapositive 1</dc:title>
</cp:coreProperties>
</file>