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0461-D473-467D-8E9D-DE07B82EFF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FDCE-63AB-494A-99C1-170267D4CC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70CF-5797-4B09-A841-C943707EB0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942A-F3D1-4358-BADE-6B05F3FF09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15BC-62E2-4E0F-BE51-D9E8738E18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3404-E280-49A7-BED0-53DD5A5F45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0A17-5DDC-429A-91A1-1D2E020B5C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2A2C-E32E-48F2-B8D6-CD4472E382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231D-A9A7-45B2-92F0-1EB0D3471F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DD2-6053-4B80-B653-337E1ED04D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8C40-B445-41EF-B8C7-19F263BFD4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23B0-622A-430D-A3C3-56C2240274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75C-DE3D-4109-AE06-DB48BB8B2F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1EFF-F8F3-4241-A1E2-4C405C4A51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DB1-D648-4790-B494-9DB29B3A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59E-B9C5-4D08-A112-1E74CF42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3290-C379-4E84-8A85-005305B4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322-C8CF-4444-8E44-3334DAEF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034-2982-4B82-817E-215E9BF7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255-A450-4635-8840-59127C0F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DC93-83A0-416D-B302-B6ED4132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797-2C6C-457C-95B0-318434CF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325-355A-441A-ACAB-ECB0730A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16F1-AEF3-4DD7-B683-58153D6F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6FB-2759-44BA-BA92-630C67C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F60-CECA-480B-9ACA-DE79ECB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7E69-77B1-4AC7-A694-BD0AE3A54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2460600" y="2857680"/>
                <a:ext cx="42228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204920" y="2709720"/>
                <a:ext cx="67374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3316320" y="2955960"/>
                <a:ext cx="25131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Ecrire, si possible, plus simplement les express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3316320" y="2857680"/>
                <a:ext cx="2513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3465360" y="2857680"/>
                <a:ext cx="2211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959120" y="2857680"/>
                <a:ext cx="52275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1973160" y="2862360"/>
                <a:ext cx="512784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2662200" y="2857680"/>
                <a:ext cx="38228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2411280" y="2857680"/>
                <a:ext cx="43228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908000" y="2759040"/>
                <a:ext cx="532800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2:38Z</dcterms:modified>
  <cp:revision>11</cp:revision>
  <dc:subject/>
  <dc:title>Calcul littéral (2) Série n°4</dc:title>
</cp:coreProperties>
</file>