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A6F0-4591-4146-8195-A25EDB9DF3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7F66-ED6B-49F4-AF31-501BC8718D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A755-2BD2-417C-8BB0-400F40AA3F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58E-AF44-41B3-9297-1BB51CBDE2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1007-B562-438F-BBE9-A355BCDF6D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4E91-5A42-4DC6-8623-5900D578F5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767A-B022-417C-9009-9975E708D6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9220-F44F-4FBF-B9A2-DAA9772511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81E5-B0AA-4CB8-87C2-00AFB40D70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3F20-DE38-4540-8EA3-11B5FC88A7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DC1D-EC9C-42A4-9BD8-A02B5455B1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9D0C-91DF-4D7B-A908-994586AA91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9E3A-4D72-404E-AD3B-49B626F2D0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66F-8A33-40AA-98DA-2183F00A46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0792-6569-4D3D-9404-82813E65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A73-BB3C-4FC2-8FF2-37627B37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5E4-3FD7-403A-8A04-F5B8772E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60ED-0CB9-462F-B580-3F0BEA22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60D-8E49-43B4-98E2-FAECDA79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041-D0FD-4EF5-90EB-DC033462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F76-738F-4003-9530-F59D08E6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DF1-5605-40A0-BDF4-C6EB78B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54D-37A6-4BD8-8AF1-DD0BADB4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C9E-61F5-4B35-8C34-C16B4D3A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440-4D4E-42A8-8ADD-CEEEDD5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49C-E126-44A3-A83F-691E9C92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3549-B714-4F32-B78C-5B3B150960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5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10 calcu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2517840" y="3238560"/>
                <a:ext cx="4379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2878200" y="3238560"/>
                <a:ext cx="37638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2338560" y="3238560"/>
                <a:ext cx="45338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6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2857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alculer en respec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les règles opératoires et les priorités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8"/>
              <p:cNvSpPr txBox="1"/>
              <p:nvPr/>
            </p:nvSpPr>
            <p:spPr>
              <a:xfrm>
                <a:off x="2878200" y="3238560"/>
                <a:ext cx="34401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2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2878200" y="3238560"/>
                <a:ext cx="37497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8"/>
              <p:cNvSpPr txBox="1"/>
              <p:nvPr/>
            </p:nvSpPr>
            <p:spPr>
              <a:xfrm>
                <a:off x="2517840" y="3238560"/>
                <a:ext cx="4808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2517840" y="3238560"/>
                <a:ext cx="429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2319480" y="3238560"/>
                <a:ext cx="48495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÷</m:t>
                    </m:r>
                    <m:r>
                      <m:t xml:space="preserve">2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0"/>
              <p:cNvSpPr txBox="1"/>
              <p:nvPr/>
            </p:nvSpPr>
            <p:spPr>
              <a:xfrm>
                <a:off x="2517840" y="3238560"/>
                <a:ext cx="42782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²</m:t>
                    </m:r>
                    <m:r>
                      <m:t xml:space="preserve">÷</m:t>
                    </m:r>
                    <m:r>
                      <m:t xml:space="preserve">2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390760" y="3238560"/>
                <a:ext cx="4632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²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49:22Z</dcterms:created>
  <dc:creator>ms</dc:creator>
  <dc:description/>
  <dc:language>en-US</dc:language>
  <cp:lastModifiedBy>Marionseg</cp:lastModifiedBy>
  <dcterms:modified xsi:type="dcterms:W3CDTF">2010-01-22T16:42:48Z</dcterms:modified>
  <cp:revision>8</cp:revision>
  <dc:subject/>
  <dc:title>Nombres relatifs (1) Série n°5  10 calculs 15 secondes par calcul</dc:title>
</cp:coreProperties>
</file>