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C22A-BFEC-472C-921E-1C7E342AE2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8B22-51AC-4CA6-AAFB-8D58C0B836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9F3D-2A1C-465E-B883-53AF7C5198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700A-4617-411B-95EF-79BDE5E089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C057-5C88-4C00-B048-EC639BE133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9003-42AB-45AC-9CFC-9D9F50FCED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141E-DDA2-410F-9F8D-9FF54AADB5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1A0A-0311-43C6-A707-CC41774470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B3B2-6A91-4E47-B286-24437676F3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AB1D-3B48-4200-91DC-D6ED0736DC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C479-AEE6-445F-8AB3-AA08245F35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690C-4A54-464C-8947-DD48A31B3C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4558-ECF2-43CF-B210-6D10348C84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5B9E-9EAF-4A76-B827-A092702DA8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9D7-3721-4D53-BF03-6678EC9A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C5DC-50CC-4137-BD37-3E889DD1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6C8-4DFA-4D3C-9DE9-D89A2242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BBA-1B7B-4766-A542-BBF4A3AF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97A5-0686-43A3-A5A6-7F95C8A8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AA61-90C7-4E71-8CE3-9A916470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6F0C-67A3-49F9-89B2-19EFACD2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A29D-D56F-49D6-AF56-3B8655C7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9E29-A8AB-4261-84F7-3BAE5227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6785D-C6C9-4522-9031-A4F74E65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9E7A-E22F-483C-B66E-3F8B46B5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3DCD-E0F2-44D7-9E93-3B51BA64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FE99-FCA3-41B4-A152-9C9E83D7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8BB4-3C80-48B6-A332-E1398583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7DBC-E535-4590-9DD7-10B1815A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3BC0-0845-4A12-9D4C-268B6A6F3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7C42-33BF-4003-A546-FC695E7B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1234-EEFD-4D41-AA04-616DA7DA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60DF-B2C4-44B7-95BA-588E70CF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F1B-847B-47BF-9EF3-5608AF59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840-8276-4776-AC38-4A6A92A7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34E9-B7D1-4943-A356-B6002C22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7747-687D-41E5-A321-8731093B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A7C-BD6D-4DF7-9374-72E34760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64F2-CC1F-4BED-8AA8-E51B8846D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A571-0E4A-4AD6-8F21-D793977EF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Divisibilité(2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PGCD (27 ; 25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PGCD (56 ; 24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PGCD (60 ; 24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Bouton d'action : Retour 5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476360" y="225036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Répondre aux ques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PGCD (20 ; 15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PGCD (12 ; 30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PGCD (36 ; 27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PGCD (29 ; 30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PGCD (45 ; 15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PGCD (60 ; 40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PGCD (63 ; 49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1:42:24Z</dcterms:created>
  <dc:creator>ms</dc:creator>
  <dc:description/>
  <dc:language>en-US</dc:language>
  <cp:lastModifiedBy>Marionseg</cp:lastModifiedBy>
  <dcterms:modified xsi:type="dcterms:W3CDTF">2010-01-22T15:20:49Z</dcterms:modified>
  <cp:revision>6</cp:revision>
  <dc:subject/>
  <dc:title>Diapositive 1</dc:title>
</cp:coreProperties>
</file>