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2D6-3803-493E-9C30-69954CED85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A25-0BAD-4E35-9CD6-742D505EA6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8BC6-5311-4A32-8A45-9A7BCA68E8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FA56-4DB7-4740-9AAF-D0D20B2472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F719-32D8-42C9-BC71-0FE4E2F5A4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D27-0FE2-497E-A42D-18C7B52E63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9154-1022-4787-9279-DA77BA4D9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F7E0-5E65-4B1C-897B-8710DB8074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764B-608F-4ED7-91C7-E6D78D9461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B7D-B8FE-40C3-99D9-415D5F634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2FF1-D698-44F6-A72A-0505D922C2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43CB-F304-4390-B5E3-E7A252D63A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FD67-4A1F-46EA-AF5B-312B320E2C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5240-FA31-427E-8B60-C7CFC95755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DA4-6940-46A2-B009-B1251EF1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31B-4279-4516-9FFD-FAC1E179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DB1-21CB-4B7E-9B2B-7EAAC2E1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971B-AA83-41CB-A917-55B130CD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C53-2AB4-4DBD-A360-A9BA0A0F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AC3-A14A-4C0E-9127-A525C94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2494-FBA5-49C8-B13E-372BC31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4792-E195-436E-B355-A0301AB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2C31-92B8-467D-A3D1-9D9ACB4A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F273-D2B1-45D5-B4B5-E9DB8120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0A68-8387-4966-83AA-72BC1AE1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64D-D06D-4B06-BAF9-DE9C068D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5265-1222-4FE8-8B4A-84788C5B975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3B7B-3697-4087-9363-EF75761F1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Division euclidienne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57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25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Compléter chaque division euclidienne à l’aide du (des) nombre(s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qui convient (conviennent)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ZoneTexte 7"/>
          <p:cNvSpPr/>
          <p:nvPr/>
        </p:nvSpPr>
        <p:spPr>
          <a:xfrm>
            <a:off x="0" y="3519360"/>
            <a:ext cx="9144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uis traduire chacune de ces divis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à l’aide d’une égalité.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6"/>
          <p:cNvSpPr/>
          <p:nvPr/>
        </p:nvSpPr>
        <p:spPr>
          <a:xfrm>
            <a:off x="1000080" y="1857240"/>
            <a:ext cx="6572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357280" y="428760"/>
          <a:ext cx="3643560" cy="4214520"/>
        </p:xfrm>
        <a:graphic>
          <a:graphicData uri="http://schemas.openxmlformats.org/drawingml/2006/table">
            <a:tbl>
              <a:tblPr/>
              <a:tblGrid>
                <a:gridCol w="1857600"/>
                <a:gridCol w="1785960"/>
              </a:tblGrid>
              <a:tr h="1807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0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35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1785960" y="5472000"/>
                <a:ext cx="57862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2:45:20Z</dcterms:created>
  <dc:creator>Claudine Bertrand-Gorge</dc:creator>
  <dc:description/>
  <dc:language>en-US</dc:language>
  <cp:lastModifiedBy>Marionseg</cp:lastModifiedBy>
  <dcterms:modified xsi:type="dcterms:W3CDTF">2010-01-22T15:38:39Z</dcterms:modified>
  <cp:revision>27</cp:revision>
  <dc:subject/>
  <dc:title>Compléter à l’aide du (des) nombre(s)  qui convient (conviennent).      Traduire chacune de ces divisions à  l’aide d’une égalité.</dc:title>
</cp:coreProperties>
</file>