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8A5B-9493-4B43-99BB-D4B9C3758A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46A2-17B7-480E-8F32-25CCB5438B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62D-5BD7-45F9-876D-663D0FAD64B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0756-52C0-4A32-ABA6-A59407F614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5E24-2B88-4DF6-9C35-05C9E9DF54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6533-1967-41FA-A232-F7F6FFC3D6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4EFA-0BED-4CE8-B3DC-68B7F3DE17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06E5-3612-4D26-A52E-A563DEAE41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CF27-76B6-4EBB-A2D8-9D4D161DD6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7CDE-E05D-4376-899E-2E89C717AB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1579-0F29-4F73-ACD5-22910AA429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AFCD-487C-4737-8375-340777D436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D76A-F4BD-4DCB-BDE2-A05C59358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6C9-AB17-4472-A47E-04C9E385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E761-9D7D-480F-B107-C5A7A77D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DFC2-F920-4FB6-9D49-9FDC5335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ABD-B0F8-44BE-BB75-F7F6633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893-8079-4F2B-A4B7-89F13953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A0BF-F8C6-4567-B86F-70242F07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2B9-637F-408B-ABCD-A0997A5E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5FC3-72F5-418D-963A-3C3B04FB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B3FB-F4E1-49B2-B7AC-5906EBC1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E2E-291B-4369-A379-C9EF692E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0E7-05BB-44EC-A65E-97F2459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B1C1-30FD-440E-9156-92346FCA455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98FA-5C0D-4D8A-943B-ED82AB2921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6017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MULTIPLICATION ET DIVISION PAR 10, …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4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2573280" y="2158920"/>
                <a:ext cx="40575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320920" y="2158920"/>
                <a:ext cx="456264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60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1863720" y="2158920"/>
                <a:ext cx="547704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1914480" y="2158920"/>
                <a:ext cx="537516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÷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DIVISION PAR DIX,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0" y="26938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Écrire la réponse au calcul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"/>
              <p:cNvSpPr txBox="1"/>
              <p:nvPr/>
            </p:nvSpPr>
            <p:spPr>
              <a:xfrm>
                <a:off x="2928960" y="2158920"/>
                <a:ext cx="33465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1662120" y="2158920"/>
                <a:ext cx="588168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35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2219400" y="2158920"/>
                <a:ext cx="476568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2168640" y="2158920"/>
                <a:ext cx="48672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78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473200" y="2158920"/>
                <a:ext cx="425952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,8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2"/>
          <p:cNvSpPr/>
          <p:nvPr/>
        </p:nvSpPr>
        <p:spPr>
          <a:xfrm>
            <a:off x="214200" y="1983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2422440" y="2158920"/>
                <a:ext cx="436104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23:38Z</dcterms:created>
  <dc:creator>Claudine Bertrand-Gorge</dc:creator>
  <dc:description/>
  <dc:language>en-US</dc:language>
  <cp:lastModifiedBy>Marionseg</cp:lastModifiedBy>
  <dcterms:modified xsi:type="dcterms:W3CDTF">2010-01-22T16:29:32Z</dcterms:modified>
  <cp:revision>23</cp:revision>
  <dc:subject/>
  <dc:title>Écrire le résultat</dc:title>
</cp:coreProperties>
</file>