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1D1F-C05E-44E0-AE05-00877F0C98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CA67-3948-42E1-B85C-B318B211C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0AAF-5B0D-44DB-9BD2-DFF69B8401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3E5D-33E2-4A91-A9B1-A0E067957C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FFE2-FD32-456C-8302-9F7C240932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FFA-5ECE-4747-9C9B-70AB2CCC1B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0A9E-50D0-4B52-A1DE-E61F426741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AF20-F178-4F06-BF9F-5D3349B9B7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B133-D215-416F-8379-7A052EA3F8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96D-A175-4701-B1AB-D0BE571FEA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856-E45E-43A5-BF33-6020DB64D9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8CED-05E3-41DF-9D8E-295F973666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C96-C354-4357-979A-1817D0A2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23A-294D-4854-AABF-F6DD303A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F4CB-68B4-4861-B10C-253D670C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C47-2EB7-4CF2-860D-50ECEBDD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E3B-2D52-44B4-8ADC-C1CDBA93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89B-23EF-4244-975D-6FA06EA8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6E9D-CEC8-4DD6-81DD-CE79301D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BF3-D42B-4A02-883F-527D4D84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46F-4498-41D7-A615-85019843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AF8-7F44-4E0E-914A-A0E83375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94C8-A77F-461E-A293-1E0152FA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A85-6BA4-44BE-B206-C50B41DF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CC82-FAD3-48BC-90AE-998ECA235E0F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CHANGEMENTS D’UNITÉ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6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Espace réservé du contenu 7"/>
              <p:cNvSpPr txBox="1"/>
              <p:nvPr/>
            </p:nvSpPr>
            <p:spPr>
              <a:xfrm>
                <a:off x="142920" y="2878200"/>
                <a:ext cx="894384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 600 000 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Espace réservé du contenu 7"/>
              <p:cNvSpPr txBox="1"/>
              <p:nvPr/>
            </p:nvSpPr>
            <p:spPr>
              <a:xfrm>
                <a:off x="1285920" y="2878200"/>
                <a:ext cx="67834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,2 L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Espace réservé du contenu 7"/>
              <p:cNvSpPr txBox="1"/>
              <p:nvPr/>
            </p:nvSpPr>
            <p:spPr>
              <a:xfrm>
                <a:off x="357120" y="2903400"/>
                <a:ext cx="87156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97,5 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554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éter par le nomb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 l’unité qui man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285840" y="2878200"/>
                <a:ext cx="871524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Espace réservé du contenu 7"/>
              <p:cNvSpPr txBox="1"/>
              <p:nvPr/>
            </p:nvSpPr>
            <p:spPr>
              <a:xfrm>
                <a:off x="1428840" y="2878200"/>
                <a:ext cx="619416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</m:t>
                    </m:r>
                    <m:r>
                      <m:rPr>
                        <m:lit/>
                        <m:nor/>
                      </m:rPr>
                      <m:t xml:space="preserve">5,4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Espace réservé du contenu 7"/>
              <p:cNvSpPr txBox="1"/>
              <p:nvPr/>
            </p:nvSpPr>
            <p:spPr>
              <a:xfrm>
                <a:off x="642960" y="2878200"/>
                <a:ext cx="811836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Espace réservé du contenu 7"/>
              <p:cNvSpPr txBox="1"/>
              <p:nvPr/>
            </p:nvSpPr>
            <p:spPr>
              <a:xfrm>
                <a:off x="747720" y="2878200"/>
                <a:ext cx="746748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,76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60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Espace réservé du contenu 7"/>
              <p:cNvSpPr txBox="1"/>
              <p:nvPr/>
            </p:nvSpPr>
            <p:spPr>
              <a:xfrm>
                <a:off x="511200" y="2941560"/>
                <a:ext cx="833436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0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Espace réservé du contenu 7"/>
              <p:cNvSpPr txBox="1"/>
              <p:nvPr/>
            </p:nvSpPr>
            <p:spPr>
              <a:xfrm>
                <a:off x="714240" y="2919240"/>
                <a:ext cx="778824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Espace réservé du contenu 7"/>
              <p:cNvSpPr txBox="1"/>
              <p:nvPr/>
            </p:nvSpPr>
            <p:spPr>
              <a:xfrm>
                <a:off x="857160" y="2878200"/>
                <a:ext cx="753264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50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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17T18:03:14Z</dcterms:modified>
  <cp:revision>48</cp:revision>
  <dc:subject/>
  <dc:title>Diapositive 1</dc:title>
</cp:coreProperties>
</file>