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547A-6906-4496-9C83-376F460E3A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3699-D318-40BE-806D-18E55A910B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F00A-2833-4CE9-8093-744E45008A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F530-0E97-4D39-AE89-8E370A1792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4D7B-27D5-470A-B360-D1C31BA319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E24F-3C14-4C5C-9F54-588BD2DF86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0D56-AFD4-4594-9991-1675629874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CE4B-228C-45EB-AAF0-FFE4F76B4E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1675-86C5-43E4-B610-16D10E5147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020-2C86-4BB8-9AF9-3C4EA43B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964-5689-49FC-B729-1CF64AB1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56DE-B07C-46C8-8315-411003ED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4B0-7B3F-4334-9868-25B1251A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7384-6F09-4BEE-98C2-6A54D9E40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0880-CA26-4B83-8A38-A1CC5A5C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374A-D437-4FA5-B163-FFAA661D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A4FB-DD77-4FBE-8DAD-4C1883A9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84A4-01FC-4526-A194-894FDF03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5A24-FF25-4502-86BC-8BB8C5F4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3401-D44F-42BE-9042-13265B9E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8187-EEA2-4EA4-A671-AEC7F43A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E165-AB13-4F54-BDD3-C06EB652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E0BD-D4AB-40E9-87D3-51BFD492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EE0B-1FB5-4F91-B785-891DD43E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7D5A-9408-421D-832F-68E3DC2E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B327-D1AA-4ED7-8CAC-916549B3B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10AD8-D80C-45A5-802E-CFC44449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A96ED-701A-4015-BDC1-3042FDD1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B7884-5491-499E-9AFE-79192A81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E650B-DAA9-4982-9735-EBB00094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9B308-DAEF-4347-A91D-73D20E47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B89-2043-40A1-B93E-FA84C324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42C05-9781-4F17-B93D-E923FEB4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24DCB-7E16-4B41-9F74-9B776FDF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B907C-53DF-4604-AA3F-608C9654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EF0EF-1D6D-4689-B8AF-4B07FB71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190BD-2B5C-4045-A787-805DBF5D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21001-62FB-44B8-8E8B-14E5CAE5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7D596-1BFF-4FBB-8D6D-6D454592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17A7-36BC-4DA6-B367-B392111E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508-9A57-4F22-93E6-8023A375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4569-DECE-4EF9-8ED5-794CD50B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67F0-6315-43C3-93EA-7FE188EF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B82-50E8-4E0B-B932-5FCA5A18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900-2E2A-4EC4-A67D-76303B7E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A424-0678-4AB9-A795-243CD3F51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933E-D1D6-4550-85D4-D50975363EF9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8BBD-A490-4F6E-BC32-A287850D9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446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UR DE THALÈS</a:t>
            </a:r>
            <a:br>
              <a:rPr sz="6000"/>
            </a:br>
            <a:r>
              <a:rPr b="1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RTIONNALITÉ DES LONGUEURS </a:t>
            </a:r>
            <a:br>
              <a:rPr sz="6000"/>
            </a:b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RIE N°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Pour chacune des figures suivantes, choisir la valeur de l’inconnue qui convi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4"/>
          <p:cNvGrpSpPr/>
          <p:nvPr/>
        </p:nvGrpSpPr>
        <p:grpSpPr>
          <a:xfrm>
            <a:off x="2050920" y="907920"/>
            <a:ext cx="4895640" cy="3024360"/>
            <a:chOff x="2050920" y="907920"/>
            <a:chExt cx="4895640" cy="3024360"/>
          </a:xfrm>
        </p:grpSpPr>
        <p:sp>
          <p:nvSpPr>
            <p:cNvPr id="129" name="AutoShape 5"/>
            <p:cNvSpPr/>
            <p:nvPr/>
          </p:nvSpPr>
          <p:spPr>
            <a:xfrm>
              <a:off x="2050920" y="907920"/>
              <a:ext cx="4895640" cy="30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Picture 6" descr=""/>
            <p:cNvPicPr/>
            <p:nvPr/>
          </p:nvPicPr>
          <p:blipFill>
            <a:blip r:embed="rId1"/>
            <a:srcRect l="5390" t="7436" r="2965" b="10749"/>
            <a:stretch/>
          </p:blipFill>
          <p:spPr>
            <a:xfrm>
              <a:off x="2050920" y="907920"/>
              <a:ext cx="4895640" cy="277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Rectangle 7"/>
          <p:cNvSpPr/>
          <p:nvPr/>
        </p:nvSpPr>
        <p:spPr>
          <a:xfrm>
            <a:off x="2783520" y="4370040"/>
            <a:ext cx="34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E) // (BC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lle est la valeur de x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x = 4 ; x = 2 ; x =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ZoneTexte 8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rcRect l="404" t="6329" r="30776" b="24022"/>
          <a:stretch/>
        </p:blipFill>
        <p:spPr>
          <a:xfrm>
            <a:off x="1835280" y="1773360"/>
            <a:ext cx="5379840" cy="43909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"/>
          <p:cNvSpPr/>
          <p:nvPr/>
        </p:nvSpPr>
        <p:spPr>
          <a:xfrm>
            <a:off x="3143880" y="466560"/>
            <a:ext cx="3452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) // (BC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lle est la valeur de y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3215520" y="1198800"/>
            <a:ext cx="26175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4 ; y = 2 ; y = 3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1311120" y="28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ZoneTexte 8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rcRect l="2098" t="25878" r="17801" b="11301"/>
          <a:stretch/>
        </p:blipFill>
        <p:spPr>
          <a:xfrm>
            <a:off x="1692360" y="1484280"/>
            <a:ext cx="6057720" cy="43909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3143520" y="480600"/>
            <a:ext cx="343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E) // (BC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lle est la valeur de z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z =10 ; z = 12 ; z = 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1763640" y="1928880"/>
            <a:ext cx="6058080" cy="43909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2484360" y="476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E) // (BC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lle est la valeur de t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 = 4 ; t = 4,5 ; t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ZoneTexte 6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"/>
          <p:cNvPicPr/>
          <p:nvPr/>
        </p:nvPicPr>
        <p:blipFill>
          <a:blip r:embed="rId1"/>
          <a:srcRect l="21751" t="8857" r="0" b="12793"/>
          <a:stretch/>
        </p:blipFill>
        <p:spPr>
          <a:xfrm>
            <a:off x="2195640" y="2205000"/>
            <a:ext cx="4732200" cy="3430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276720" y="692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E) // (BC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lle est la valeur de u 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 = 1,5 ; u = 6 ; u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999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49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1T14:39:10Z</dcterms:modified>
  <cp:revision>13</cp:revision>
  <dc:subject/>
  <dc:title>PowerPoint Presentation</dc:title>
</cp:coreProperties>
</file>