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02EF-2127-4566-8D74-AE931AFA45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B8E6-0389-4C35-9AE7-512BB2666B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C0B6-3AE7-4D3A-9A05-09ADDAC36C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687D-7472-4504-83A7-47B944DCCC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2B9B-E357-448F-810D-D243E08BC5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07CD-3CFE-438F-A883-518BED9A8A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2F69-108F-4F7E-9D03-48D664A9ED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8153-EADA-4F70-8313-0772D2479B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2A4B-1FDD-45CC-995E-833E27A3A7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5EE9-1316-4AF6-81C3-8C5DEE1CBE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61A-31C0-438A-BD3D-9B86D3A539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CC39-8603-4CB3-89EC-3EDBE523C9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598D-08C7-417B-B9B3-7F5A24215E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274D-E13B-4049-8B80-73DDBBDF7F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9A53-85C4-4E59-B7B3-E5326072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103-9494-4AC6-A6D8-75DB11A0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CC11-631F-4B9A-96AA-CD7BDC20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EBA-A864-4BA9-9379-F65DEBCC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31E8-D5A1-459E-9235-A6453152E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766-0A3B-4F16-8F5D-4D6E2103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C00-9259-41B6-AA42-B14E910C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3D23-FC5E-4FE4-B46A-44452CC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F1B-20A0-4EA3-AC15-3972604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B4B-30DB-4F61-B00E-F51A338E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CAC-54B9-4133-A0A5-743FECC0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B96-0C74-4AF6-83E3-90DD5FAC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C137-B66E-455E-A5BA-DB2583B122C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3591-A0C9-4099-9EE3-DCE857DE7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FONCTION LINÉAIRE 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0" y="135720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L’antécédent de – 5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est  – 5 00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0" y="150012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0,08  a pour antécédent  0,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1571400"/>
            <a:ext cx="9144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est l’antécédent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d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187880" y="2643120"/>
                <a:ext cx="15984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714240" y="1357200"/>
                <a:ext cx="159876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8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4200" y="642600"/>
            <a:ext cx="842976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Calculer le coefficient « </a:t>
            </a:r>
            <a:r>
              <a:rPr b="0" i="1" lang="fr-FR" sz="5400" spc="-1" strike="noStrike">
                <a:solidFill>
                  <a:srgbClr val="005bd3"/>
                </a:solidFill>
                <a:latin typeface="Times New Roman"/>
                <a:ea typeface="Times New Roman"/>
              </a:rPr>
              <a:t>a</a:t>
            </a: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 » de chaque fonction linéaire à partir de la donnée </a:t>
            </a:r>
            <a:br>
              <a:rPr sz="5400"/>
            </a:b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d’un nombre non nul </a:t>
            </a:r>
            <a:br>
              <a:rPr sz="5400"/>
            </a:br>
            <a:r>
              <a:rPr b="0" lang="fr-FR" sz="5400" spc="-1" strike="noStrike">
                <a:solidFill>
                  <a:srgbClr val="005bd3"/>
                </a:solidFill>
                <a:latin typeface="Arial"/>
                <a:ea typeface="Arial"/>
              </a:rPr>
              <a:t>et de son image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0040" y="1714320"/>
            <a:ext cx="80726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L’image de 9 est 2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5840" y="1714320"/>
            <a:ext cx="85723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2 a pour image – 3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840" y="1714320"/>
            <a:ext cx="792972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5bd3"/>
                </a:solidFill>
                <a:latin typeface="Arial"/>
                <a:ea typeface="Arial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4 a pour image       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7286760" y="1244520"/>
                <a:ext cx="92520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1714320"/>
            <a:ext cx="9144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93 est l’image de – 3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1714320"/>
            <a:ext cx="84297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5bd3"/>
                </a:solidFill>
                <a:latin typeface="Calibri"/>
              </a:rPr>
              <a:t> </a:t>
            </a: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’image de     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es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7431120" y="1160640"/>
                <a:ext cx="1598760" cy="25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4857840" y="1541520"/>
                <a:ext cx="14302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0" y="1714320"/>
            <a:ext cx="88581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4 a pour antécéde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7861320" y="1244520"/>
                <a:ext cx="92556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0" y="1428480"/>
            <a:ext cx="9144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L’antécédent de 9,985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est – 9,985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0" lang="fr-FR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3:37:25Z</dcterms:modified>
  <cp:revision>188</cp:revision>
  <dc:subject/>
  <dc:title>Diapositive 0</dc:title>
</cp:coreProperties>
</file>