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3A00-32CB-4A87-86B0-B60417093F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6209-E90C-45C2-AED0-1DA5FD5A8A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97C0-33A1-4DCF-8FA9-79F11623E5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3DF5-C5BD-4A75-A4C9-30885FABF8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70B2-19BD-4B26-8668-02D174C564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7DBD-56BF-4616-B2B2-B3EEAD712E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A970-7744-4D06-B4F0-1BF92BEC8F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1638-42E9-400D-A128-3A7E58666D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341B-9746-4F58-A192-A8C7A037D0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3018-47FC-4BBB-955B-778D4A536E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D11-2AE0-4AA3-B657-7A753721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7125-FECA-46D4-8FDC-A99CEF53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15D2-1BBC-4312-B6B5-20977FD5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27F3-6CCE-4687-8F5C-FEF68E64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B576-4546-4D06-B89D-F18D237D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D620-4260-4715-81BF-7CDB4A81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C7A-C7CA-4E2A-8314-5F8A2852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F08-5FBF-4A38-A534-B3ADC3B1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E7B8-6EE4-4907-BA38-3BC54AF3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0C7A-E40F-46BC-8BAA-1F287360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C3E2-D916-4094-9981-A6AF969E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D18-EE2E-48FE-8E56-D9B920B7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F93A-D339-44F7-B733-7CBE1BCDDA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imes New Roman"/>
              </a:rPr>
              <a:t>CODER UNE FIGURE (4)</a:t>
            </a:r>
            <a:br>
              <a:rPr sz="8000"/>
            </a:br>
            <a:r>
              <a:rPr b="1" lang="fr-FR" sz="8000" spc="-1" strike="noStrike">
                <a:solidFill>
                  <a:srgbClr val="000000"/>
                </a:solidFill>
                <a:latin typeface="Times New Roman"/>
              </a:rPr>
              <a:t>SÉRIE N°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Les figures suivantes sont faites à main levée.</a:t>
            </a:r>
            <a:br>
              <a:rPr sz="4800"/>
            </a:br>
            <a:br>
              <a:rPr sz="4800"/>
            </a:br>
            <a:r>
              <a:rPr b="0" i="1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Coder chaque figure afin de respecter les informations données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0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(CE) est la médiatrice de [AB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_x0012_Droites remarq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1295280" y="1371600"/>
            <a:ext cx="6477120" cy="514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1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(AE) est la médiatrice de [BC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_x0012_Droites remarq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1295280" y="1371600"/>
            <a:ext cx="6477120" cy="514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765000" y="307800"/>
            <a:ext cx="6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2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1447920" y="304200"/>
            <a:ext cx="61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(BE) est la bissectrice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1800" y="726840"/>
            <a:ext cx="250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fr-FR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9"/>
              <p:cNvSpPr txBox="1"/>
              <p:nvPr/>
            </p:nvSpPr>
            <p:spPr>
              <a:xfrm>
                <a:off x="7234200" y="260280"/>
                <a:ext cx="13161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" name="Picture 7" descr="_x0012_Droites remarq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1371600" y="1371600"/>
            <a:ext cx="6477120" cy="514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3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(CE) est la médiane issue de C dans le triangle AB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_x0012_Droites remarq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1371600" y="1447920"/>
            <a:ext cx="6477120" cy="5143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4/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(BE) est la hauteur relative à [AC] dans le triangle AB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_x0012_Droites remarq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1371600" y="1447920"/>
            <a:ext cx="6477120" cy="5143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5/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E est le point d’intersection des médian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(ou le centre de gravité) dans le triangle A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_x0012_Droites remarq.pdf                                             004B003C_x000b_Disque imac                    BFCC89D1:"/>
          <p:cNvPicPr/>
          <p:nvPr/>
        </p:nvPicPr>
        <p:blipFill>
          <a:blip r:embed="rId1"/>
          <a:stretch/>
        </p:blipFill>
        <p:spPr>
          <a:xfrm>
            <a:off x="1295280" y="1447920"/>
            <a:ext cx="6477120" cy="5143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67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ionseg</dc:creator>
  <dc:description/>
  <dc:language>en-US</dc:language>
  <cp:lastModifiedBy>Marionseg</cp:lastModifiedBy>
  <dcterms:modified xsi:type="dcterms:W3CDTF">2010-05-30T07:56:23Z</dcterms:modified>
  <cp:revision>19</cp:revision>
  <dc:subject/>
  <dc:title>PowerPoint Presentation</dc:title>
</cp:coreProperties>
</file>