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90B6-C3B5-4430-8122-DB0CD20629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0310-E5C7-4A9D-B6B9-85FAB7502B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9131-F77E-4447-8C37-EA0DAA03D9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8A9A-1248-49C6-B479-3F60C3F249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DE93-C30D-42DB-9DE0-1113DD4703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1D24-DCF5-47C0-951C-1CC30DFF7E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6889-E57D-462B-9D3F-C5CE265E51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D9C6-E685-4C4B-B1F2-2EE5AE2A2B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029E-5879-4604-83A8-6D2D0C4231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C317-51F2-42CD-B009-37BADA2D57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833B-C5ED-4632-9015-FA65F3C991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EDC-0258-4CDB-918F-42B3C0ADEE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EBFA-9B46-46B2-8877-93C9930B88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16B8-6DD6-4DE5-A709-243A9E7D2F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32E-6CCD-481E-8B65-D8479BA9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E60-DDF4-472D-BB5D-E835986B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F7D-3A3B-4429-9A61-8A389BEC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B18-CE92-4120-AE36-9A63CF41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3094-9224-4532-9405-B39DAF19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98A-C0CE-453D-AAE9-86134BFE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CB2-67CE-49E1-B729-8B55CC66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A43-B434-4858-B492-A1D74785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BC9-1626-426C-BDCD-ED40AEEA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6C2-5061-4159-A0B2-1AE48528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CE6D-7F4E-4E1B-B995-8A865EE1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06D-5F27-4B9F-9444-2E5C798B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BD8-43AC-476E-A797-890F60196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1999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AIRES ET CALCUL LITTÉR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838080" y="4552920"/>
                <a:ext cx="22860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3529080" y="5072040"/>
                <a:ext cx="1523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6410160" y="5694480"/>
                <a:ext cx="13575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Picture 5" descr=""/>
          <p:cNvPicPr/>
          <p:nvPr/>
        </p:nvPicPr>
        <p:blipFill>
          <a:blip r:embed="rId1"/>
          <a:srcRect l="11230" t="6502" r="27450" b="32151"/>
          <a:stretch/>
        </p:blipFill>
        <p:spPr>
          <a:xfrm>
            <a:off x="1714680" y="357120"/>
            <a:ext cx="5537160" cy="3571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3"/>
          <p:cNvSpPr/>
          <p:nvPr/>
        </p:nvSpPr>
        <p:spPr>
          <a:xfrm>
            <a:off x="0" y="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271440" y="4421160"/>
                <a:ext cx="2590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2924280" y="5103720"/>
                <a:ext cx="2400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5951520" y="5641920"/>
                <a:ext cx="2600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rcRect l="18750" t="4459" r="20708" b="0"/>
          <a:stretch/>
        </p:blipFill>
        <p:spPr>
          <a:xfrm>
            <a:off x="2643120" y="214200"/>
            <a:ext cx="4195800" cy="4265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3"/>
          <p:cNvSpPr/>
          <p:nvPr/>
        </p:nvSpPr>
        <p:spPr>
          <a:xfrm>
            <a:off x="0" y="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509760" y="4359240"/>
                <a:ext cx="2590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5962680" y="5799240"/>
                <a:ext cx="22478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297240" y="4822920"/>
                <a:ext cx="248292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rcRect l="15627" t="0" r="31253" b="35421"/>
          <a:stretch/>
        </p:blipFill>
        <p:spPr>
          <a:xfrm>
            <a:off x="1928880" y="-214200"/>
            <a:ext cx="5749920" cy="450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714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Quelle expression donne </a:t>
            </a:r>
            <a:r>
              <a:rPr b="1" i="1" lang="fr-FR" sz="4000" spc="-1" strike="noStrike">
                <a:solidFill>
                  <a:srgbClr val="000000"/>
                </a:solidFill>
                <a:latin typeface="Calibri"/>
              </a:rPr>
              <a:t>l’aire 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i="1" lang="fr-FR" sz="4000" spc="-1" strike="noStrike">
                <a:solidFill>
                  <a:srgbClr val="ffc000"/>
                </a:solidFill>
                <a:latin typeface="Calibri"/>
              </a:rPr>
              <a:t>la surface hachurée</a:t>
            </a: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 parmi les 3 proposées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rcRect l="11645" t="13546" r="7382" b="6929"/>
          <a:stretch/>
        </p:blipFill>
        <p:spPr>
          <a:xfrm>
            <a:off x="785880" y="-285840"/>
            <a:ext cx="7396200" cy="467064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357120" y="4552920"/>
                <a:ext cx="28958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105520" y="5818320"/>
                <a:ext cx="39621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2592360" y="5180040"/>
                <a:ext cx="35305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6715080" y="5643720"/>
                <a:ext cx="2057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t xml:space="preserve">3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414600" y="5067360"/>
                <a:ext cx="25527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552600" y="4676760"/>
                <a:ext cx="22096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9" name="Picture 6" descr=""/>
          <p:cNvPicPr/>
          <p:nvPr/>
        </p:nvPicPr>
        <p:blipFill>
          <a:blip r:embed="rId1"/>
          <a:srcRect l="0" t="6237" r="24220" b="0"/>
          <a:stretch/>
        </p:blipFill>
        <p:spPr>
          <a:xfrm>
            <a:off x="1357200" y="0"/>
            <a:ext cx="5473800" cy="436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99880" y="4552920"/>
                <a:ext cx="30099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4695840" y="5929200"/>
                <a:ext cx="41529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922480" y="5143680"/>
                <a:ext cx="28702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" name="Picture 6" descr=""/>
          <p:cNvPicPr/>
          <p:nvPr/>
        </p:nvPicPr>
        <p:blipFill>
          <a:blip r:embed="rId1"/>
          <a:srcRect l="11880" t="29708" r="27393" b="26265"/>
          <a:stretch/>
        </p:blipFill>
        <p:spPr>
          <a:xfrm>
            <a:off x="1357200" y="857160"/>
            <a:ext cx="6572520" cy="3071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3"/>
          <p:cNvSpPr/>
          <p:nvPr/>
        </p:nvSpPr>
        <p:spPr>
          <a:xfrm>
            <a:off x="0" y="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690480" y="4402080"/>
                <a:ext cx="1752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057480" y="5122800"/>
                <a:ext cx="21337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5796000" y="5641920"/>
                <a:ext cx="29098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9" name="Picture 5" descr=""/>
          <p:cNvPicPr/>
          <p:nvPr/>
        </p:nvPicPr>
        <p:blipFill>
          <a:blip r:embed="rId1"/>
          <a:srcRect l="12500" t="6237" r="14850" b="0"/>
          <a:stretch/>
        </p:blipFill>
        <p:spPr>
          <a:xfrm>
            <a:off x="2000160" y="0"/>
            <a:ext cx="5248440" cy="436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1219320" y="4343400"/>
                <a:ext cx="15238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3400560" y="4805280"/>
                <a:ext cx="24001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6386400" y="5695920"/>
                <a:ext cx="20923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Picture 5" descr=""/>
          <p:cNvPicPr/>
          <p:nvPr/>
        </p:nvPicPr>
        <p:blipFill>
          <a:blip r:embed="rId1"/>
          <a:srcRect l="12500" t="28123" r="17190" b="13532"/>
          <a:stretch/>
        </p:blipFill>
        <p:spPr>
          <a:xfrm>
            <a:off x="1643040" y="928800"/>
            <a:ext cx="5840280" cy="312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243000" y="4343400"/>
                <a:ext cx="31240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6448320" y="5608800"/>
                <a:ext cx="24386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×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3963960" y="4973760"/>
                <a:ext cx="19782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9" name="Picture 8" descr=""/>
          <p:cNvPicPr/>
          <p:nvPr/>
        </p:nvPicPr>
        <p:blipFill>
          <a:blip r:embed="rId1"/>
          <a:srcRect l="20467" t="19027" r="21453" b="26690"/>
          <a:stretch/>
        </p:blipFill>
        <p:spPr>
          <a:xfrm>
            <a:off x="1500120" y="285840"/>
            <a:ext cx="6286680" cy="378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13"/>
          <p:cNvSpPr/>
          <p:nvPr/>
        </p:nvSpPr>
        <p:spPr>
          <a:xfrm>
            <a:off x="0" y="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652320" y="4421160"/>
                <a:ext cx="18288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3"/>
              <p:cNvSpPr txBox="1"/>
              <p:nvPr/>
            </p:nvSpPr>
            <p:spPr>
              <a:xfrm>
                <a:off x="3286080" y="5103720"/>
                <a:ext cx="16765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6512040" y="5659560"/>
                <a:ext cx="14745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Picture 5" descr=""/>
          <p:cNvPicPr/>
          <p:nvPr/>
        </p:nvPicPr>
        <p:blipFill>
          <a:blip r:embed="rId1"/>
          <a:srcRect l="18750" t="1413" r="22658" b="0"/>
          <a:stretch/>
        </p:blipFill>
        <p:spPr>
          <a:xfrm>
            <a:off x="2440080" y="100080"/>
            <a:ext cx="4060800" cy="440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1:54:19Z</dcterms:created>
  <dc:creator>ms</dc:creator>
  <dc:description/>
  <dc:language>en-US</dc:language>
  <cp:lastModifiedBy>Marionseg</cp:lastModifiedBy>
  <dcterms:modified xsi:type="dcterms:W3CDTF">2010-01-17T18:05:12Z</dcterms:modified>
  <cp:revision>16</cp:revision>
  <dc:subject/>
  <dc:title>Calcul littéral et Aires</dc:title>
</cp:coreProperties>
</file>