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CD2B-6540-4993-9A51-1C19E0044F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B553-DFF7-4876-9356-EF7B96163C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7514-8113-4AE2-851A-114AB02B9D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1F56-0DE5-4AA7-9E86-D455FA27219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732A-CC5C-471C-A435-DD886E3A87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CC6A-AEF5-4395-8855-820C2FD090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D592-A558-4BC7-8703-90BA6AF060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1F20-84ED-4775-924E-79714C4DCA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4D6E-BF66-4D11-BB7B-3027A59DA7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147D-996E-4B75-8EBE-61374D41E20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F7FD-3A42-4AC2-A1D0-664D7F8EFD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135D-9441-48A1-A654-C381FB9DC83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7F34-A76C-4951-8B43-37C38A9863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6CA5-7F4C-4649-A411-DFABB184BF4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CF71-1336-4776-BF95-BDAE7A3E6DE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B08A-7AC3-4503-A373-2C8CC6810E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8D70-5EDC-4056-A546-AE2274679D7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9048-4230-4727-A986-84C419A30A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9E55-8DD4-4B53-8576-2A9B12F66F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A3FE-59C3-4727-B0C0-33221011F3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51AB-B032-4648-92B3-AC61360E3FA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4E7D-7293-4C48-8E0C-434452F406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832E-71E3-4D24-832C-C39DF046B0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22B6-10E0-4BB5-9295-77DE42AD6E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C4C6-47FF-4FA4-9806-648E0AF33D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9148-8190-46E4-99FB-4CA1A622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6DB3-F0E2-4143-B65E-C8FBE98D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0B58-21FA-4996-BFDA-ADC0DA3B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2277-550A-4F5F-87E4-D6802737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4775-F24E-4FAD-90D6-2D29B0C8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6D31-6BA2-4733-800A-9036D0A8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F10D-CBC4-4E12-88BB-2E36F707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877B-DF9A-440C-BA5B-7B1AB910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E27D-8B16-4B7C-9F74-86860AAC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D3B2-A008-4124-A4AB-E4D76B2C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0FFC-2950-4EA0-846B-45586503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B56A-2C61-474A-BE46-AAAC01CD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0E7A-8849-4559-A1E3-9A95F268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4E0D-0A84-4A7D-9A48-D8BC8C36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05BF-1A5E-46BD-B26F-2334CAE3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408B-7A06-41D7-8CEC-B8723220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7AD0-5373-4B29-8ABE-7CC1481B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46B5-B019-4C28-AAC2-32344B57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47B1-8341-41C8-AB99-80E96406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9208-7C33-40F5-91CF-B7BBF72D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EF2D-6876-4F89-AD3A-3AF202F2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17D8-E25C-4C88-B47D-2FB16DE4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C1BF-063B-4543-B6CD-EA1A1BCF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C974-4F4D-4FC1-90D8-42C20253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505320" y="188640"/>
            <a:ext cx="2133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53F7-2929-46C7-BE81-7422888709C2}" type="slidenum"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009C-79B2-49EA-B09F-A69C6D3E25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D:/Elizabeth/IREM/irem0908/Thales/Nouveau%20Pr&#233;sentation%20Microsoft%20Office%20PowerPoint%2097-2003.ppt" TargetMode="External"/><Relationship Id="rId2" Type="http://schemas.openxmlformats.org/officeDocument/2006/relationships/image" Target="../media/image1.pn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24460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UR DE THALÈS </a:t>
            </a:r>
            <a:br>
              <a:rPr sz="6000"/>
            </a:b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ÉRIE N°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542960" y="1143000"/>
            <a:ext cx="6302520" cy="4807080"/>
          </a:xfrm>
          <a:prstGeom prst="rect">
            <a:avLst/>
          </a:prstGeom>
          <a:ln w="0">
            <a:noFill/>
          </a:ln>
        </p:spPr>
      </p:pic>
      <p:sp>
        <p:nvSpPr>
          <p:cNvPr id="109" name="Bouton d'action : Personnalisé 3">
            <a:hlinkClick r:id="rId2" action="ppaction://hlinksldjump"/>
          </p:cNvPr>
          <p:cNvSpPr/>
          <p:nvPr/>
        </p:nvSpPr>
        <p:spPr>
          <a:xfrm>
            <a:off x="6840360" y="5759280"/>
            <a:ext cx="1800360" cy="541440"/>
          </a:xfrm>
          <a:custGeom>
            <a:avLst/>
            <a:gdLst>
              <a:gd name="textAreaLeft" fmla="*/ 34920 w 1800360"/>
              <a:gd name="textAreaRight" fmla="*/ 1765440 w 180036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71790" h="21600">
                <a:moveTo>
                  <a:pt x="0" y="0"/>
                </a:moveTo>
                <a:lnTo>
                  <a:pt x="71790" y="0"/>
                </a:lnTo>
                <a:lnTo>
                  <a:pt x="71790" y="21600"/>
                </a:lnTo>
                <a:lnTo>
                  <a:pt x="0" y="21600"/>
                </a:lnTo>
                <a:close/>
              </a:path>
              <a:path fill="lightenLess" w="71790" h="21600">
                <a:moveTo>
                  <a:pt x="0" y="0"/>
                </a:moveTo>
                <a:lnTo>
                  <a:pt x="71790" y="0"/>
                </a:lnTo>
                <a:lnTo>
                  <a:pt x="70390" y="1400"/>
                </a:lnTo>
                <a:lnTo>
                  <a:pt x="1400" y="1400"/>
                </a:lnTo>
                <a:close/>
              </a:path>
              <a:path fill="darken" w="71790" h="21600">
                <a:moveTo>
                  <a:pt x="71790" y="0"/>
                </a:moveTo>
                <a:lnTo>
                  <a:pt x="71790" y="21600"/>
                </a:lnTo>
                <a:lnTo>
                  <a:pt x="70390" y="20200"/>
                </a:lnTo>
                <a:lnTo>
                  <a:pt x="70390" y="1400"/>
                </a:lnTo>
                <a:close/>
              </a:path>
              <a:path fill="darkenLess" w="71790" h="21600">
                <a:moveTo>
                  <a:pt x="71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90" y="20200"/>
                </a:lnTo>
                <a:close/>
              </a:path>
              <a:path fill="lighten" w="71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4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500120" y="1143000"/>
            <a:ext cx="6058080" cy="4619520"/>
          </a:xfrm>
          <a:prstGeom prst="rect">
            <a:avLst/>
          </a:prstGeom>
          <a:ln w="0">
            <a:noFill/>
          </a:ln>
        </p:spPr>
      </p:pic>
      <p:sp>
        <p:nvSpPr>
          <p:cNvPr id="112" name="Bouton d'action : Personnalisé 3">
            <a:hlinkClick r:id="rId2" action="ppaction://hlinksldjump"/>
          </p:cNvPr>
          <p:cNvSpPr/>
          <p:nvPr/>
        </p:nvSpPr>
        <p:spPr>
          <a:xfrm>
            <a:off x="6840360" y="5759280"/>
            <a:ext cx="1800360" cy="541440"/>
          </a:xfrm>
          <a:custGeom>
            <a:avLst/>
            <a:gdLst>
              <a:gd name="textAreaLeft" fmla="*/ 34920 w 1800360"/>
              <a:gd name="textAreaRight" fmla="*/ 1765440 w 180036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71790" h="21600">
                <a:moveTo>
                  <a:pt x="0" y="0"/>
                </a:moveTo>
                <a:lnTo>
                  <a:pt x="71790" y="0"/>
                </a:lnTo>
                <a:lnTo>
                  <a:pt x="71790" y="21600"/>
                </a:lnTo>
                <a:lnTo>
                  <a:pt x="0" y="21600"/>
                </a:lnTo>
                <a:close/>
              </a:path>
              <a:path fill="lightenLess" w="71790" h="21600">
                <a:moveTo>
                  <a:pt x="0" y="0"/>
                </a:moveTo>
                <a:lnTo>
                  <a:pt x="71790" y="0"/>
                </a:lnTo>
                <a:lnTo>
                  <a:pt x="70390" y="1400"/>
                </a:lnTo>
                <a:lnTo>
                  <a:pt x="1400" y="1400"/>
                </a:lnTo>
                <a:close/>
              </a:path>
              <a:path fill="darken" w="71790" h="21600">
                <a:moveTo>
                  <a:pt x="71790" y="0"/>
                </a:moveTo>
                <a:lnTo>
                  <a:pt x="71790" y="21600"/>
                </a:lnTo>
                <a:lnTo>
                  <a:pt x="70390" y="20200"/>
                </a:lnTo>
                <a:lnTo>
                  <a:pt x="70390" y="1400"/>
                </a:lnTo>
                <a:close/>
              </a:path>
              <a:path fill="darkenLess" w="71790" h="21600">
                <a:moveTo>
                  <a:pt x="71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90" y="20200"/>
                </a:lnTo>
                <a:close/>
              </a:path>
              <a:path fill="lighten" w="71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4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500120" y="1143000"/>
            <a:ext cx="6058080" cy="4619520"/>
          </a:xfrm>
          <a:prstGeom prst="rect">
            <a:avLst/>
          </a:prstGeom>
          <a:ln w="0">
            <a:noFill/>
          </a:ln>
        </p:spPr>
      </p:pic>
      <p:sp>
        <p:nvSpPr>
          <p:cNvPr id="115" name="Bouton d'action : Personnalisé 3">
            <a:hlinkClick r:id="rId2" action="ppaction://hlinksldjump"/>
          </p:cNvPr>
          <p:cNvSpPr/>
          <p:nvPr/>
        </p:nvSpPr>
        <p:spPr>
          <a:xfrm>
            <a:off x="6840360" y="5759280"/>
            <a:ext cx="1800360" cy="541440"/>
          </a:xfrm>
          <a:custGeom>
            <a:avLst/>
            <a:gdLst>
              <a:gd name="textAreaLeft" fmla="*/ 34920 w 1800360"/>
              <a:gd name="textAreaRight" fmla="*/ 1765440 w 180036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71790" h="21600">
                <a:moveTo>
                  <a:pt x="0" y="0"/>
                </a:moveTo>
                <a:lnTo>
                  <a:pt x="71790" y="0"/>
                </a:lnTo>
                <a:lnTo>
                  <a:pt x="71790" y="21600"/>
                </a:lnTo>
                <a:lnTo>
                  <a:pt x="0" y="21600"/>
                </a:lnTo>
                <a:close/>
              </a:path>
              <a:path fill="lightenLess" w="71790" h="21600">
                <a:moveTo>
                  <a:pt x="0" y="0"/>
                </a:moveTo>
                <a:lnTo>
                  <a:pt x="71790" y="0"/>
                </a:lnTo>
                <a:lnTo>
                  <a:pt x="70390" y="1400"/>
                </a:lnTo>
                <a:lnTo>
                  <a:pt x="1400" y="1400"/>
                </a:lnTo>
                <a:close/>
              </a:path>
              <a:path fill="darken" w="71790" h="21600">
                <a:moveTo>
                  <a:pt x="71790" y="0"/>
                </a:moveTo>
                <a:lnTo>
                  <a:pt x="71790" y="21600"/>
                </a:lnTo>
                <a:lnTo>
                  <a:pt x="70390" y="20200"/>
                </a:lnTo>
                <a:lnTo>
                  <a:pt x="70390" y="1400"/>
                </a:lnTo>
                <a:close/>
              </a:path>
              <a:path fill="darkenLess" w="71790" h="21600">
                <a:moveTo>
                  <a:pt x="71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90" y="20200"/>
                </a:lnTo>
                <a:close/>
              </a:path>
              <a:path fill="lighten" w="71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4"/>
          <p:cNvSpPr/>
          <p:nvPr/>
        </p:nvSpPr>
        <p:spPr>
          <a:xfrm>
            <a:off x="0" y="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999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 action="ppaction://hlinksldjump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"/>
          <p:cNvPicPr/>
          <p:nvPr/>
        </p:nvPicPr>
        <p:blipFill>
          <a:blip r:embed="rId1"/>
          <a:srcRect l="16401" t="7014" r="37265" b="4910"/>
          <a:stretch/>
        </p:blipFill>
        <p:spPr>
          <a:xfrm>
            <a:off x="1979640" y="642960"/>
            <a:ext cx="4513320" cy="5122800"/>
          </a:xfrm>
          <a:prstGeom prst="rect">
            <a:avLst/>
          </a:prstGeom>
          <a:ln w="0">
            <a:noFill/>
          </a:ln>
        </p:spPr>
      </p:pic>
      <p:sp>
        <p:nvSpPr>
          <p:cNvPr id="119" name="ZoneTexte 3"/>
          <p:cNvSpPr/>
          <p:nvPr/>
        </p:nvSpPr>
        <p:spPr>
          <a:xfrm>
            <a:off x="1403280" y="585792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n, les droites (AB) et (ED) ne sont pas parallè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Bouton d'action : Retour 4"/>
          <p:cNvGrpSpPr/>
          <p:nvPr/>
        </p:nvGrpSpPr>
        <p:grpSpPr>
          <a:xfrm>
            <a:off x="7480440" y="5681520"/>
            <a:ext cx="1236600" cy="695520"/>
            <a:chOff x="7480440" y="5681520"/>
            <a:chExt cx="1236600" cy="695520"/>
          </a:xfrm>
        </p:grpSpPr>
        <p:pic>
          <p:nvPicPr>
            <p:cNvPr id="121" name="Bouton d'action : Retour 4" descr=""/>
            <p:cNvPicPr/>
            <p:nvPr/>
          </p:nvPicPr>
          <p:blipFill>
            <a:blip r:embed="rId2"/>
            <a:stretch/>
          </p:blipFill>
          <p:spPr>
            <a:xfrm>
              <a:off x="7480440" y="5681520"/>
              <a:ext cx="123660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7559640" y="5759280"/>
              <a:ext cx="108108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9" descr=""/>
          <p:cNvPicPr/>
          <p:nvPr/>
        </p:nvPicPr>
        <p:blipFill>
          <a:blip r:embed="rId3"/>
          <a:srcRect l="16401" t="7014" r="37265" b="4910"/>
          <a:stretch/>
        </p:blipFill>
        <p:spPr>
          <a:xfrm>
            <a:off x="1928880" y="571680"/>
            <a:ext cx="4513320" cy="5251320"/>
          </a:xfrm>
          <a:prstGeom prst="rect">
            <a:avLst/>
          </a:prstGeom>
          <a:ln w="0">
            <a:noFill/>
          </a:ln>
        </p:spPr>
      </p:pic>
      <p:sp>
        <p:nvSpPr>
          <p:cNvPr id="124" name="ZoneTexte 4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1571760" y="0"/>
            <a:ext cx="6057720" cy="4619520"/>
          </a:xfrm>
          <a:prstGeom prst="rect">
            <a:avLst/>
          </a:prstGeom>
          <a:ln w="0">
            <a:noFill/>
          </a:ln>
        </p:spPr>
      </p:pic>
      <p:sp>
        <p:nvSpPr>
          <p:cNvPr id="126" name="Bouton d'action : Retour 4"/>
          <p:cNvSpPr/>
          <p:nvPr/>
        </p:nvSpPr>
        <p:spPr>
          <a:xfrm>
            <a:off x="7559640" y="5759280"/>
            <a:ext cx="1081080" cy="541440"/>
          </a:xfrm>
          <a:custGeom>
            <a:avLst/>
            <a:gdLst>
              <a:gd name="textAreaLeft" fmla="*/ 34920 w 1081080"/>
              <a:gd name="textAreaRight" fmla="*/ 1046160 w 108108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43114" h="21600">
                <a:moveTo>
                  <a:pt x="0" y="0"/>
                </a:moveTo>
                <a:lnTo>
                  <a:pt x="43114" y="0"/>
                </a:lnTo>
                <a:lnTo>
                  <a:pt x="43114" y="21600"/>
                </a:lnTo>
                <a:lnTo>
                  <a:pt x="0" y="21600"/>
                </a:lnTo>
                <a:close/>
              </a:path>
              <a:path fill="lightenLess" w="43114" h="21600">
                <a:moveTo>
                  <a:pt x="0" y="0"/>
                </a:moveTo>
                <a:lnTo>
                  <a:pt x="43114" y="0"/>
                </a:lnTo>
                <a:lnTo>
                  <a:pt x="41714" y="1400"/>
                </a:lnTo>
                <a:lnTo>
                  <a:pt x="1400" y="1400"/>
                </a:lnTo>
                <a:close/>
              </a:path>
              <a:path fill="darken" w="43114" h="21600">
                <a:moveTo>
                  <a:pt x="43114" y="0"/>
                </a:moveTo>
                <a:lnTo>
                  <a:pt x="43114" y="21600"/>
                </a:lnTo>
                <a:lnTo>
                  <a:pt x="41714" y="20200"/>
                </a:lnTo>
                <a:lnTo>
                  <a:pt x="41714" y="1400"/>
                </a:lnTo>
                <a:close/>
              </a:path>
              <a:path fill="darkenLess" w="43114" h="21600">
                <a:moveTo>
                  <a:pt x="431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4" y="20200"/>
                </a:lnTo>
                <a:close/>
              </a:path>
              <a:path fill="lighten" w="431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4" h="21600">
                <a:moveTo>
                  <a:pt x="14550" y="7493"/>
                </a:moveTo>
                <a:lnTo>
                  <a:pt x="18058" y="7493"/>
                </a:lnTo>
                <a:lnTo>
                  <a:pt x="18058" y="12828"/>
                </a:lnTo>
                <a:cubicBezTo>
                  <a:pt x="18058" y="13751"/>
                  <a:pt x="18859" y="14482"/>
                  <a:pt x="19895" y="14482"/>
                </a:cubicBezTo>
                <a:lnTo>
                  <a:pt x="21557" y="14482"/>
                </a:lnTo>
                <a:cubicBezTo>
                  <a:pt x="22593" y="14482"/>
                  <a:pt x="23393" y="13751"/>
                  <a:pt x="23393" y="12828"/>
                </a:cubicBezTo>
                <a:lnTo>
                  <a:pt x="23393" y="7493"/>
                </a:lnTo>
                <a:lnTo>
                  <a:pt x="21557" y="7493"/>
                </a:lnTo>
                <a:lnTo>
                  <a:pt x="25065" y="3985"/>
                </a:lnTo>
                <a:lnTo>
                  <a:pt x="28737" y="7493"/>
                </a:lnTo>
                <a:lnTo>
                  <a:pt x="26901" y="7493"/>
                </a:lnTo>
                <a:lnTo>
                  <a:pt x="26901" y="12828"/>
                </a:lnTo>
                <a:cubicBezTo>
                  <a:pt x="26901" y="15596"/>
                  <a:pt x="24325" y="18155"/>
                  <a:pt x="21557" y="18155"/>
                </a:cubicBezTo>
                <a:lnTo>
                  <a:pt x="19895" y="18155"/>
                </a:lnTo>
                <a:cubicBezTo>
                  <a:pt x="17127" y="18155"/>
                  <a:pt x="14550" y="15596"/>
                  <a:pt x="14550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7"/>
              <p:cNvSpPr txBox="1"/>
              <p:nvPr/>
            </p:nvSpPr>
            <p:spPr>
              <a:xfrm>
                <a:off x="3286080" y="5643720"/>
                <a:ext cx="18036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ZoneTexte 4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3"/>
          <p:cNvSpPr/>
          <p:nvPr/>
        </p:nvSpPr>
        <p:spPr>
          <a:xfrm>
            <a:off x="1214280" y="514368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ui, les droites (DE) et (BC) sont parallèles et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542960" y="1122480"/>
            <a:ext cx="6058080" cy="4619520"/>
          </a:xfrm>
          <a:prstGeom prst="rect">
            <a:avLst/>
          </a:prstGeom>
          <a:ln w="0">
            <a:noFill/>
          </a:ln>
        </p:spPr>
      </p:pic>
      <p:sp>
        <p:nvSpPr>
          <p:cNvPr id="131" name="ZoneTexte 5"/>
          <p:cNvSpPr/>
          <p:nvPr/>
        </p:nvSpPr>
        <p:spPr>
          <a:xfrm>
            <a:off x="2013120" y="5429160"/>
            <a:ext cx="52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n, les points A, C et E ne sont pas alig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Bouton d'action : Retour 6"/>
          <p:cNvSpPr/>
          <p:nvPr/>
        </p:nvSpPr>
        <p:spPr>
          <a:xfrm>
            <a:off x="7559640" y="5759280"/>
            <a:ext cx="1081080" cy="541440"/>
          </a:xfrm>
          <a:custGeom>
            <a:avLst/>
            <a:gdLst>
              <a:gd name="textAreaLeft" fmla="*/ 34920 w 1081080"/>
              <a:gd name="textAreaRight" fmla="*/ 1046160 w 108108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43114" h="21600">
                <a:moveTo>
                  <a:pt x="0" y="0"/>
                </a:moveTo>
                <a:lnTo>
                  <a:pt x="43114" y="0"/>
                </a:lnTo>
                <a:lnTo>
                  <a:pt x="43114" y="21600"/>
                </a:lnTo>
                <a:lnTo>
                  <a:pt x="0" y="21600"/>
                </a:lnTo>
                <a:close/>
              </a:path>
              <a:path fill="lightenLess" w="43114" h="21600">
                <a:moveTo>
                  <a:pt x="0" y="0"/>
                </a:moveTo>
                <a:lnTo>
                  <a:pt x="43114" y="0"/>
                </a:lnTo>
                <a:lnTo>
                  <a:pt x="41714" y="1400"/>
                </a:lnTo>
                <a:lnTo>
                  <a:pt x="1400" y="1400"/>
                </a:lnTo>
                <a:close/>
              </a:path>
              <a:path fill="darken" w="43114" h="21600">
                <a:moveTo>
                  <a:pt x="43114" y="0"/>
                </a:moveTo>
                <a:lnTo>
                  <a:pt x="43114" y="21600"/>
                </a:lnTo>
                <a:lnTo>
                  <a:pt x="41714" y="20200"/>
                </a:lnTo>
                <a:lnTo>
                  <a:pt x="41714" y="1400"/>
                </a:lnTo>
                <a:close/>
              </a:path>
              <a:path fill="darkenLess" w="43114" h="21600">
                <a:moveTo>
                  <a:pt x="431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4" y="20200"/>
                </a:lnTo>
                <a:close/>
              </a:path>
              <a:path fill="lighten" w="431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4" h="21600">
                <a:moveTo>
                  <a:pt x="14550" y="7493"/>
                </a:moveTo>
                <a:lnTo>
                  <a:pt x="18058" y="7493"/>
                </a:lnTo>
                <a:lnTo>
                  <a:pt x="18058" y="12828"/>
                </a:lnTo>
                <a:cubicBezTo>
                  <a:pt x="18058" y="13751"/>
                  <a:pt x="18859" y="14482"/>
                  <a:pt x="19895" y="14482"/>
                </a:cubicBezTo>
                <a:lnTo>
                  <a:pt x="21557" y="14482"/>
                </a:lnTo>
                <a:cubicBezTo>
                  <a:pt x="22593" y="14482"/>
                  <a:pt x="23393" y="13751"/>
                  <a:pt x="23393" y="12828"/>
                </a:cubicBezTo>
                <a:lnTo>
                  <a:pt x="23393" y="7493"/>
                </a:lnTo>
                <a:lnTo>
                  <a:pt x="21557" y="7493"/>
                </a:lnTo>
                <a:lnTo>
                  <a:pt x="25065" y="3985"/>
                </a:lnTo>
                <a:lnTo>
                  <a:pt x="28737" y="7493"/>
                </a:lnTo>
                <a:lnTo>
                  <a:pt x="26901" y="7493"/>
                </a:lnTo>
                <a:lnTo>
                  <a:pt x="26901" y="12828"/>
                </a:lnTo>
                <a:cubicBezTo>
                  <a:pt x="26901" y="15596"/>
                  <a:pt x="24325" y="18155"/>
                  <a:pt x="21557" y="18155"/>
                </a:cubicBezTo>
                <a:lnTo>
                  <a:pt x="19895" y="18155"/>
                </a:lnTo>
                <a:cubicBezTo>
                  <a:pt x="17127" y="18155"/>
                  <a:pt x="14550" y="15596"/>
                  <a:pt x="14550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4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542960" y="1122480"/>
            <a:ext cx="6058080" cy="4619520"/>
          </a:xfrm>
          <a:prstGeom prst="rect">
            <a:avLst/>
          </a:prstGeom>
          <a:ln w="0">
            <a:noFill/>
          </a:ln>
        </p:spPr>
      </p:pic>
      <p:sp>
        <p:nvSpPr>
          <p:cNvPr id="135" name="ZoneTexte 3"/>
          <p:cNvSpPr/>
          <p:nvPr/>
        </p:nvSpPr>
        <p:spPr>
          <a:xfrm>
            <a:off x="1631880" y="5589720"/>
            <a:ext cx="52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n, les points A, D et B ne sont pas alig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Bouton d'action : Retour 6"/>
          <p:cNvSpPr/>
          <p:nvPr/>
        </p:nvSpPr>
        <p:spPr>
          <a:xfrm>
            <a:off x="7559640" y="5759280"/>
            <a:ext cx="1081080" cy="541440"/>
          </a:xfrm>
          <a:custGeom>
            <a:avLst/>
            <a:gdLst>
              <a:gd name="textAreaLeft" fmla="*/ 34920 w 1081080"/>
              <a:gd name="textAreaRight" fmla="*/ 1046160 w 108108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43114" h="21600">
                <a:moveTo>
                  <a:pt x="0" y="0"/>
                </a:moveTo>
                <a:lnTo>
                  <a:pt x="43114" y="0"/>
                </a:lnTo>
                <a:lnTo>
                  <a:pt x="43114" y="21600"/>
                </a:lnTo>
                <a:lnTo>
                  <a:pt x="0" y="21600"/>
                </a:lnTo>
                <a:close/>
              </a:path>
              <a:path fill="lightenLess" w="43114" h="21600">
                <a:moveTo>
                  <a:pt x="0" y="0"/>
                </a:moveTo>
                <a:lnTo>
                  <a:pt x="43114" y="0"/>
                </a:lnTo>
                <a:lnTo>
                  <a:pt x="41714" y="1400"/>
                </a:lnTo>
                <a:lnTo>
                  <a:pt x="1400" y="1400"/>
                </a:lnTo>
                <a:close/>
              </a:path>
              <a:path fill="darken" w="43114" h="21600">
                <a:moveTo>
                  <a:pt x="43114" y="0"/>
                </a:moveTo>
                <a:lnTo>
                  <a:pt x="43114" y="21600"/>
                </a:lnTo>
                <a:lnTo>
                  <a:pt x="41714" y="20200"/>
                </a:lnTo>
                <a:lnTo>
                  <a:pt x="41714" y="1400"/>
                </a:lnTo>
                <a:close/>
              </a:path>
              <a:path fill="darkenLess" w="43114" h="21600">
                <a:moveTo>
                  <a:pt x="431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4" y="20200"/>
                </a:lnTo>
                <a:close/>
              </a:path>
              <a:path fill="lighten" w="431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4" h="21600">
                <a:moveTo>
                  <a:pt x="14550" y="7493"/>
                </a:moveTo>
                <a:lnTo>
                  <a:pt x="18058" y="7493"/>
                </a:lnTo>
                <a:lnTo>
                  <a:pt x="18058" y="12828"/>
                </a:lnTo>
                <a:cubicBezTo>
                  <a:pt x="18058" y="13751"/>
                  <a:pt x="18859" y="14482"/>
                  <a:pt x="19895" y="14482"/>
                </a:cubicBezTo>
                <a:lnTo>
                  <a:pt x="21557" y="14482"/>
                </a:lnTo>
                <a:cubicBezTo>
                  <a:pt x="22593" y="14482"/>
                  <a:pt x="23393" y="13751"/>
                  <a:pt x="23393" y="12828"/>
                </a:cubicBezTo>
                <a:lnTo>
                  <a:pt x="23393" y="7493"/>
                </a:lnTo>
                <a:lnTo>
                  <a:pt x="21557" y="7493"/>
                </a:lnTo>
                <a:lnTo>
                  <a:pt x="25065" y="3985"/>
                </a:lnTo>
                <a:lnTo>
                  <a:pt x="28737" y="7493"/>
                </a:lnTo>
                <a:lnTo>
                  <a:pt x="26901" y="7493"/>
                </a:lnTo>
                <a:lnTo>
                  <a:pt x="26901" y="12828"/>
                </a:lnTo>
                <a:cubicBezTo>
                  <a:pt x="26901" y="15596"/>
                  <a:pt x="24325" y="18155"/>
                  <a:pt x="21557" y="18155"/>
                </a:cubicBezTo>
                <a:lnTo>
                  <a:pt x="19895" y="18155"/>
                </a:lnTo>
                <a:cubicBezTo>
                  <a:pt x="17127" y="18155"/>
                  <a:pt x="14550" y="15596"/>
                  <a:pt x="14550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4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rcRect l="10039" t="14779" r="12894" b="11324"/>
          <a:stretch/>
        </p:blipFill>
        <p:spPr>
          <a:xfrm>
            <a:off x="2071800" y="1285920"/>
            <a:ext cx="4930560" cy="3301920"/>
          </a:xfrm>
          <a:prstGeom prst="rect">
            <a:avLst/>
          </a:prstGeom>
          <a:ln w="0">
            <a:noFill/>
          </a:ln>
        </p:spPr>
      </p:pic>
      <p:sp>
        <p:nvSpPr>
          <p:cNvPr id="139" name="Bouton d'action : Retour 3"/>
          <p:cNvSpPr/>
          <p:nvPr/>
        </p:nvSpPr>
        <p:spPr>
          <a:xfrm>
            <a:off x="7559640" y="5759280"/>
            <a:ext cx="1081080" cy="541440"/>
          </a:xfrm>
          <a:custGeom>
            <a:avLst/>
            <a:gdLst>
              <a:gd name="textAreaLeft" fmla="*/ 34920 w 1081080"/>
              <a:gd name="textAreaRight" fmla="*/ 1046160 w 108108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43114" h="21600">
                <a:moveTo>
                  <a:pt x="0" y="0"/>
                </a:moveTo>
                <a:lnTo>
                  <a:pt x="43114" y="0"/>
                </a:lnTo>
                <a:lnTo>
                  <a:pt x="43114" y="21600"/>
                </a:lnTo>
                <a:lnTo>
                  <a:pt x="0" y="21600"/>
                </a:lnTo>
                <a:close/>
              </a:path>
              <a:path fill="lightenLess" w="43114" h="21600">
                <a:moveTo>
                  <a:pt x="0" y="0"/>
                </a:moveTo>
                <a:lnTo>
                  <a:pt x="43114" y="0"/>
                </a:lnTo>
                <a:lnTo>
                  <a:pt x="41714" y="1400"/>
                </a:lnTo>
                <a:lnTo>
                  <a:pt x="1400" y="1400"/>
                </a:lnTo>
                <a:close/>
              </a:path>
              <a:path fill="darken" w="43114" h="21600">
                <a:moveTo>
                  <a:pt x="43114" y="0"/>
                </a:moveTo>
                <a:lnTo>
                  <a:pt x="43114" y="21600"/>
                </a:lnTo>
                <a:lnTo>
                  <a:pt x="41714" y="20200"/>
                </a:lnTo>
                <a:lnTo>
                  <a:pt x="41714" y="1400"/>
                </a:lnTo>
                <a:close/>
              </a:path>
              <a:path fill="darkenLess" w="43114" h="21600">
                <a:moveTo>
                  <a:pt x="431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4" y="20200"/>
                </a:lnTo>
                <a:close/>
              </a:path>
              <a:path fill="lighten" w="431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4" h="21600">
                <a:moveTo>
                  <a:pt x="14550" y="7493"/>
                </a:moveTo>
                <a:lnTo>
                  <a:pt x="18058" y="7493"/>
                </a:lnTo>
                <a:lnTo>
                  <a:pt x="18058" y="12828"/>
                </a:lnTo>
                <a:cubicBezTo>
                  <a:pt x="18058" y="13751"/>
                  <a:pt x="18859" y="14482"/>
                  <a:pt x="19895" y="14482"/>
                </a:cubicBezTo>
                <a:lnTo>
                  <a:pt x="21557" y="14482"/>
                </a:lnTo>
                <a:cubicBezTo>
                  <a:pt x="22593" y="14482"/>
                  <a:pt x="23393" y="13751"/>
                  <a:pt x="23393" y="12828"/>
                </a:cubicBezTo>
                <a:lnTo>
                  <a:pt x="23393" y="7493"/>
                </a:lnTo>
                <a:lnTo>
                  <a:pt x="21557" y="7493"/>
                </a:lnTo>
                <a:lnTo>
                  <a:pt x="25065" y="3985"/>
                </a:lnTo>
                <a:lnTo>
                  <a:pt x="28737" y="7493"/>
                </a:lnTo>
                <a:lnTo>
                  <a:pt x="26901" y="7493"/>
                </a:lnTo>
                <a:lnTo>
                  <a:pt x="26901" y="12828"/>
                </a:lnTo>
                <a:cubicBezTo>
                  <a:pt x="26901" y="15596"/>
                  <a:pt x="24325" y="18155"/>
                  <a:pt x="21557" y="18155"/>
                </a:cubicBezTo>
                <a:lnTo>
                  <a:pt x="19895" y="18155"/>
                </a:lnTo>
                <a:cubicBezTo>
                  <a:pt x="17127" y="18155"/>
                  <a:pt x="14550" y="15596"/>
                  <a:pt x="14550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6"/>
              <p:cNvSpPr txBox="1"/>
              <p:nvPr/>
            </p:nvSpPr>
            <p:spPr>
              <a:xfrm>
                <a:off x="3502080" y="5370480"/>
                <a:ext cx="20700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ZoneTexte 4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oneTexte 3"/>
          <p:cNvSpPr/>
          <p:nvPr/>
        </p:nvSpPr>
        <p:spPr>
          <a:xfrm>
            <a:off x="1214280" y="485784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ui, les droites (DE) et (BC) sont parallèles et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1571760" y="357120"/>
            <a:ext cx="6057720" cy="4619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4" name="Object 6"/>
              <p:cNvSpPr txBox="1"/>
              <p:nvPr/>
            </p:nvSpPr>
            <p:spPr>
              <a:xfrm>
                <a:off x="3214800" y="5456160"/>
                <a:ext cx="21430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Bouton d'action : Retour 5"/>
          <p:cNvSpPr/>
          <p:nvPr/>
        </p:nvSpPr>
        <p:spPr>
          <a:xfrm>
            <a:off x="7559640" y="5759280"/>
            <a:ext cx="1081080" cy="541440"/>
          </a:xfrm>
          <a:custGeom>
            <a:avLst/>
            <a:gdLst>
              <a:gd name="textAreaLeft" fmla="*/ 34920 w 1081080"/>
              <a:gd name="textAreaRight" fmla="*/ 1046160 w 108108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43114" h="21600">
                <a:moveTo>
                  <a:pt x="0" y="0"/>
                </a:moveTo>
                <a:lnTo>
                  <a:pt x="43114" y="0"/>
                </a:lnTo>
                <a:lnTo>
                  <a:pt x="43114" y="21600"/>
                </a:lnTo>
                <a:lnTo>
                  <a:pt x="0" y="21600"/>
                </a:lnTo>
                <a:close/>
              </a:path>
              <a:path fill="lightenLess" w="43114" h="21600">
                <a:moveTo>
                  <a:pt x="0" y="0"/>
                </a:moveTo>
                <a:lnTo>
                  <a:pt x="43114" y="0"/>
                </a:lnTo>
                <a:lnTo>
                  <a:pt x="41714" y="1400"/>
                </a:lnTo>
                <a:lnTo>
                  <a:pt x="1400" y="1400"/>
                </a:lnTo>
                <a:close/>
              </a:path>
              <a:path fill="darken" w="43114" h="21600">
                <a:moveTo>
                  <a:pt x="43114" y="0"/>
                </a:moveTo>
                <a:lnTo>
                  <a:pt x="43114" y="21600"/>
                </a:lnTo>
                <a:lnTo>
                  <a:pt x="41714" y="20200"/>
                </a:lnTo>
                <a:lnTo>
                  <a:pt x="41714" y="1400"/>
                </a:lnTo>
                <a:close/>
              </a:path>
              <a:path fill="darkenLess" w="43114" h="21600">
                <a:moveTo>
                  <a:pt x="431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4" y="20200"/>
                </a:lnTo>
                <a:close/>
              </a:path>
              <a:path fill="lighten" w="431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4" h="21600">
                <a:moveTo>
                  <a:pt x="14550" y="7493"/>
                </a:moveTo>
                <a:lnTo>
                  <a:pt x="18058" y="7493"/>
                </a:lnTo>
                <a:lnTo>
                  <a:pt x="18058" y="12828"/>
                </a:lnTo>
                <a:cubicBezTo>
                  <a:pt x="18058" y="13751"/>
                  <a:pt x="18859" y="14482"/>
                  <a:pt x="19895" y="14482"/>
                </a:cubicBezTo>
                <a:lnTo>
                  <a:pt x="21557" y="14482"/>
                </a:lnTo>
                <a:cubicBezTo>
                  <a:pt x="22593" y="14482"/>
                  <a:pt x="23393" y="13751"/>
                  <a:pt x="23393" y="12828"/>
                </a:cubicBezTo>
                <a:lnTo>
                  <a:pt x="23393" y="7493"/>
                </a:lnTo>
                <a:lnTo>
                  <a:pt x="21557" y="7493"/>
                </a:lnTo>
                <a:lnTo>
                  <a:pt x="25065" y="3985"/>
                </a:lnTo>
                <a:lnTo>
                  <a:pt x="28737" y="7493"/>
                </a:lnTo>
                <a:lnTo>
                  <a:pt x="26901" y="7493"/>
                </a:lnTo>
                <a:lnTo>
                  <a:pt x="26901" y="12828"/>
                </a:lnTo>
                <a:cubicBezTo>
                  <a:pt x="26901" y="15596"/>
                  <a:pt x="24325" y="18155"/>
                  <a:pt x="21557" y="18155"/>
                </a:cubicBezTo>
                <a:lnTo>
                  <a:pt x="19895" y="18155"/>
                </a:lnTo>
                <a:cubicBezTo>
                  <a:pt x="17127" y="18155"/>
                  <a:pt x="14550" y="15596"/>
                  <a:pt x="14550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oneTexte 4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3"/>
          <p:cNvSpPr/>
          <p:nvPr/>
        </p:nvSpPr>
        <p:spPr>
          <a:xfrm>
            <a:off x="1214280" y="500076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ui, les droites (AB) et (DE) sont parallèles et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Pour chacune des figures suivantes, peut-on appliquer le théorème de Thalès ? </a:t>
            </a:r>
            <a:br>
              <a:rPr sz="4000"/>
            </a:b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Si oui, donner les égalités des quotients corresponda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571760" y="357120"/>
            <a:ext cx="6057720" cy="4619520"/>
          </a:xfrm>
          <a:prstGeom prst="rect">
            <a:avLst/>
          </a:prstGeom>
          <a:ln w="0">
            <a:noFill/>
          </a:ln>
        </p:spPr>
      </p:pic>
      <p:sp>
        <p:nvSpPr>
          <p:cNvPr id="149" name="Bouton d'action : Retour 3"/>
          <p:cNvSpPr/>
          <p:nvPr/>
        </p:nvSpPr>
        <p:spPr>
          <a:xfrm>
            <a:off x="7559640" y="5759280"/>
            <a:ext cx="1081080" cy="541440"/>
          </a:xfrm>
          <a:custGeom>
            <a:avLst/>
            <a:gdLst>
              <a:gd name="textAreaLeft" fmla="*/ 34920 w 1081080"/>
              <a:gd name="textAreaRight" fmla="*/ 1046160 w 108108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43114" h="21600">
                <a:moveTo>
                  <a:pt x="0" y="0"/>
                </a:moveTo>
                <a:lnTo>
                  <a:pt x="43114" y="0"/>
                </a:lnTo>
                <a:lnTo>
                  <a:pt x="43114" y="21600"/>
                </a:lnTo>
                <a:lnTo>
                  <a:pt x="0" y="21600"/>
                </a:lnTo>
                <a:close/>
              </a:path>
              <a:path fill="lightenLess" w="43114" h="21600">
                <a:moveTo>
                  <a:pt x="0" y="0"/>
                </a:moveTo>
                <a:lnTo>
                  <a:pt x="43114" y="0"/>
                </a:lnTo>
                <a:lnTo>
                  <a:pt x="41714" y="1400"/>
                </a:lnTo>
                <a:lnTo>
                  <a:pt x="1400" y="1400"/>
                </a:lnTo>
                <a:close/>
              </a:path>
              <a:path fill="darken" w="43114" h="21600">
                <a:moveTo>
                  <a:pt x="43114" y="0"/>
                </a:moveTo>
                <a:lnTo>
                  <a:pt x="43114" y="21600"/>
                </a:lnTo>
                <a:lnTo>
                  <a:pt x="41714" y="20200"/>
                </a:lnTo>
                <a:lnTo>
                  <a:pt x="41714" y="1400"/>
                </a:lnTo>
                <a:close/>
              </a:path>
              <a:path fill="darkenLess" w="43114" h="21600">
                <a:moveTo>
                  <a:pt x="431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4" y="20200"/>
                </a:lnTo>
                <a:close/>
              </a:path>
              <a:path fill="lighten" w="431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4" h="21600">
                <a:moveTo>
                  <a:pt x="14550" y="7493"/>
                </a:moveTo>
                <a:lnTo>
                  <a:pt x="18058" y="7493"/>
                </a:lnTo>
                <a:lnTo>
                  <a:pt x="18058" y="12828"/>
                </a:lnTo>
                <a:cubicBezTo>
                  <a:pt x="18058" y="13751"/>
                  <a:pt x="18859" y="14482"/>
                  <a:pt x="19895" y="14482"/>
                </a:cubicBezTo>
                <a:lnTo>
                  <a:pt x="21557" y="14482"/>
                </a:lnTo>
                <a:cubicBezTo>
                  <a:pt x="22593" y="14482"/>
                  <a:pt x="23393" y="13751"/>
                  <a:pt x="23393" y="12828"/>
                </a:cubicBezTo>
                <a:lnTo>
                  <a:pt x="23393" y="7493"/>
                </a:lnTo>
                <a:lnTo>
                  <a:pt x="21557" y="7493"/>
                </a:lnTo>
                <a:lnTo>
                  <a:pt x="25065" y="3985"/>
                </a:lnTo>
                <a:lnTo>
                  <a:pt x="28737" y="7493"/>
                </a:lnTo>
                <a:lnTo>
                  <a:pt x="26901" y="7493"/>
                </a:lnTo>
                <a:lnTo>
                  <a:pt x="26901" y="12828"/>
                </a:lnTo>
                <a:cubicBezTo>
                  <a:pt x="26901" y="15596"/>
                  <a:pt x="24325" y="18155"/>
                  <a:pt x="21557" y="18155"/>
                </a:cubicBezTo>
                <a:lnTo>
                  <a:pt x="19895" y="18155"/>
                </a:lnTo>
                <a:cubicBezTo>
                  <a:pt x="17127" y="18155"/>
                  <a:pt x="14550" y="15596"/>
                  <a:pt x="14550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3429000" y="5572080"/>
                <a:ext cx="20923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ZoneTexte 4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oneTexte 3"/>
          <p:cNvSpPr/>
          <p:nvPr/>
        </p:nvSpPr>
        <p:spPr>
          <a:xfrm>
            <a:off x="1214280" y="514368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ui, les droites (DE) et (BC) sont parallèles et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143000" y="785880"/>
            <a:ext cx="6302520" cy="4806720"/>
          </a:xfrm>
          <a:prstGeom prst="rect">
            <a:avLst/>
          </a:prstGeom>
          <a:ln w="0">
            <a:noFill/>
          </a:ln>
        </p:spPr>
      </p:pic>
      <p:sp>
        <p:nvSpPr>
          <p:cNvPr id="154" name="Bouton d'action : Retour 3"/>
          <p:cNvSpPr/>
          <p:nvPr/>
        </p:nvSpPr>
        <p:spPr>
          <a:xfrm>
            <a:off x="7559640" y="5759280"/>
            <a:ext cx="1081080" cy="541440"/>
          </a:xfrm>
          <a:custGeom>
            <a:avLst/>
            <a:gdLst>
              <a:gd name="textAreaLeft" fmla="*/ 34920 w 1081080"/>
              <a:gd name="textAreaRight" fmla="*/ 1046160 w 108108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43114" h="21600">
                <a:moveTo>
                  <a:pt x="0" y="0"/>
                </a:moveTo>
                <a:lnTo>
                  <a:pt x="43114" y="0"/>
                </a:lnTo>
                <a:lnTo>
                  <a:pt x="43114" y="21600"/>
                </a:lnTo>
                <a:lnTo>
                  <a:pt x="0" y="21600"/>
                </a:lnTo>
                <a:close/>
              </a:path>
              <a:path fill="lightenLess" w="43114" h="21600">
                <a:moveTo>
                  <a:pt x="0" y="0"/>
                </a:moveTo>
                <a:lnTo>
                  <a:pt x="43114" y="0"/>
                </a:lnTo>
                <a:lnTo>
                  <a:pt x="41714" y="1400"/>
                </a:lnTo>
                <a:lnTo>
                  <a:pt x="1400" y="1400"/>
                </a:lnTo>
                <a:close/>
              </a:path>
              <a:path fill="darken" w="43114" h="21600">
                <a:moveTo>
                  <a:pt x="43114" y="0"/>
                </a:moveTo>
                <a:lnTo>
                  <a:pt x="43114" y="21600"/>
                </a:lnTo>
                <a:lnTo>
                  <a:pt x="41714" y="20200"/>
                </a:lnTo>
                <a:lnTo>
                  <a:pt x="41714" y="1400"/>
                </a:lnTo>
                <a:close/>
              </a:path>
              <a:path fill="darkenLess" w="43114" h="21600">
                <a:moveTo>
                  <a:pt x="431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4" y="20200"/>
                </a:lnTo>
                <a:close/>
              </a:path>
              <a:path fill="lighten" w="431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4" h="21600">
                <a:moveTo>
                  <a:pt x="14550" y="7493"/>
                </a:moveTo>
                <a:lnTo>
                  <a:pt x="18058" y="7493"/>
                </a:lnTo>
                <a:lnTo>
                  <a:pt x="18058" y="12828"/>
                </a:lnTo>
                <a:cubicBezTo>
                  <a:pt x="18058" y="13751"/>
                  <a:pt x="18859" y="14482"/>
                  <a:pt x="19895" y="14482"/>
                </a:cubicBezTo>
                <a:lnTo>
                  <a:pt x="21557" y="14482"/>
                </a:lnTo>
                <a:cubicBezTo>
                  <a:pt x="22593" y="14482"/>
                  <a:pt x="23393" y="13751"/>
                  <a:pt x="23393" y="12828"/>
                </a:cubicBezTo>
                <a:lnTo>
                  <a:pt x="23393" y="7493"/>
                </a:lnTo>
                <a:lnTo>
                  <a:pt x="21557" y="7493"/>
                </a:lnTo>
                <a:lnTo>
                  <a:pt x="25065" y="3985"/>
                </a:lnTo>
                <a:lnTo>
                  <a:pt x="28737" y="7493"/>
                </a:lnTo>
                <a:lnTo>
                  <a:pt x="26901" y="7493"/>
                </a:lnTo>
                <a:lnTo>
                  <a:pt x="26901" y="12828"/>
                </a:lnTo>
                <a:cubicBezTo>
                  <a:pt x="26901" y="15596"/>
                  <a:pt x="24325" y="18155"/>
                  <a:pt x="21557" y="18155"/>
                </a:cubicBezTo>
                <a:lnTo>
                  <a:pt x="19895" y="18155"/>
                </a:lnTo>
                <a:cubicBezTo>
                  <a:pt x="17127" y="18155"/>
                  <a:pt x="14550" y="15596"/>
                  <a:pt x="14550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519920" y="5143680"/>
            <a:ext cx="52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n, les points B, C et E ne sont pas alig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4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500120" y="428760"/>
            <a:ext cx="6058080" cy="46195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7"/>
          <p:cNvSpPr/>
          <p:nvPr/>
        </p:nvSpPr>
        <p:spPr>
          <a:xfrm>
            <a:off x="1235160" y="5429160"/>
            <a:ext cx="610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n , les droites (DE) et (BC) ne sont pas parallèl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Bouton d'action : Retour 5"/>
          <p:cNvSpPr/>
          <p:nvPr/>
        </p:nvSpPr>
        <p:spPr>
          <a:xfrm>
            <a:off x="7559640" y="5759280"/>
            <a:ext cx="1081080" cy="541440"/>
          </a:xfrm>
          <a:custGeom>
            <a:avLst/>
            <a:gdLst>
              <a:gd name="textAreaLeft" fmla="*/ 34920 w 1081080"/>
              <a:gd name="textAreaRight" fmla="*/ 1046160 w 108108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43114" h="21600">
                <a:moveTo>
                  <a:pt x="0" y="0"/>
                </a:moveTo>
                <a:lnTo>
                  <a:pt x="43114" y="0"/>
                </a:lnTo>
                <a:lnTo>
                  <a:pt x="43114" y="21600"/>
                </a:lnTo>
                <a:lnTo>
                  <a:pt x="0" y="21600"/>
                </a:lnTo>
                <a:close/>
              </a:path>
              <a:path fill="lightenLess" w="43114" h="21600">
                <a:moveTo>
                  <a:pt x="0" y="0"/>
                </a:moveTo>
                <a:lnTo>
                  <a:pt x="43114" y="0"/>
                </a:lnTo>
                <a:lnTo>
                  <a:pt x="41714" y="1400"/>
                </a:lnTo>
                <a:lnTo>
                  <a:pt x="1400" y="1400"/>
                </a:lnTo>
                <a:close/>
              </a:path>
              <a:path fill="darken" w="43114" h="21600">
                <a:moveTo>
                  <a:pt x="43114" y="0"/>
                </a:moveTo>
                <a:lnTo>
                  <a:pt x="43114" y="21600"/>
                </a:lnTo>
                <a:lnTo>
                  <a:pt x="41714" y="20200"/>
                </a:lnTo>
                <a:lnTo>
                  <a:pt x="41714" y="1400"/>
                </a:lnTo>
                <a:close/>
              </a:path>
              <a:path fill="darkenLess" w="43114" h="21600">
                <a:moveTo>
                  <a:pt x="431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4" y="20200"/>
                </a:lnTo>
                <a:close/>
              </a:path>
              <a:path fill="lighten" w="431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4" h="21600">
                <a:moveTo>
                  <a:pt x="14550" y="7493"/>
                </a:moveTo>
                <a:lnTo>
                  <a:pt x="18058" y="7493"/>
                </a:lnTo>
                <a:lnTo>
                  <a:pt x="18058" y="12828"/>
                </a:lnTo>
                <a:cubicBezTo>
                  <a:pt x="18058" y="13751"/>
                  <a:pt x="18859" y="14482"/>
                  <a:pt x="19895" y="14482"/>
                </a:cubicBezTo>
                <a:lnTo>
                  <a:pt x="21557" y="14482"/>
                </a:lnTo>
                <a:cubicBezTo>
                  <a:pt x="22593" y="14482"/>
                  <a:pt x="23393" y="13751"/>
                  <a:pt x="23393" y="12828"/>
                </a:cubicBezTo>
                <a:lnTo>
                  <a:pt x="23393" y="7493"/>
                </a:lnTo>
                <a:lnTo>
                  <a:pt x="21557" y="7493"/>
                </a:lnTo>
                <a:lnTo>
                  <a:pt x="25065" y="3985"/>
                </a:lnTo>
                <a:lnTo>
                  <a:pt x="28737" y="7493"/>
                </a:lnTo>
                <a:lnTo>
                  <a:pt x="26901" y="7493"/>
                </a:lnTo>
                <a:lnTo>
                  <a:pt x="26901" y="12828"/>
                </a:lnTo>
                <a:cubicBezTo>
                  <a:pt x="26901" y="15596"/>
                  <a:pt x="24325" y="18155"/>
                  <a:pt x="21557" y="18155"/>
                </a:cubicBezTo>
                <a:lnTo>
                  <a:pt x="19895" y="18155"/>
                </a:lnTo>
                <a:cubicBezTo>
                  <a:pt x="17127" y="18155"/>
                  <a:pt x="14550" y="15596"/>
                  <a:pt x="14550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ZoneTexte 4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57240" y="214200"/>
            <a:ext cx="6058080" cy="4619880"/>
          </a:xfrm>
          <a:prstGeom prst="rect">
            <a:avLst/>
          </a:prstGeom>
          <a:ln w="0">
            <a:noFill/>
          </a:ln>
        </p:spPr>
      </p:pic>
      <p:sp>
        <p:nvSpPr>
          <p:cNvPr id="162" name="Bouton d'action : Retour 3"/>
          <p:cNvSpPr/>
          <p:nvPr/>
        </p:nvSpPr>
        <p:spPr>
          <a:xfrm>
            <a:off x="7559640" y="5759280"/>
            <a:ext cx="1081080" cy="541440"/>
          </a:xfrm>
          <a:custGeom>
            <a:avLst/>
            <a:gdLst>
              <a:gd name="textAreaLeft" fmla="*/ 34920 w 1081080"/>
              <a:gd name="textAreaRight" fmla="*/ 1046160 w 108108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43114" h="21600">
                <a:moveTo>
                  <a:pt x="0" y="0"/>
                </a:moveTo>
                <a:lnTo>
                  <a:pt x="43114" y="0"/>
                </a:lnTo>
                <a:lnTo>
                  <a:pt x="43114" y="21600"/>
                </a:lnTo>
                <a:lnTo>
                  <a:pt x="0" y="21600"/>
                </a:lnTo>
                <a:close/>
              </a:path>
              <a:path fill="lightenLess" w="43114" h="21600">
                <a:moveTo>
                  <a:pt x="0" y="0"/>
                </a:moveTo>
                <a:lnTo>
                  <a:pt x="43114" y="0"/>
                </a:lnTo>
                <a:lnTo>
                  <a:pt x="41714" y="1400"/>
                </a:lnTo>
                <a:lnTo>
                  <a:pt x="1400" y="1400"/>
                </a:lnTo>
                <a:close/>
              </a:path>
              <a:path fill="darken" w="43114" h="21600">
                <a:moveTo>
                  <a:pt x="43114" y="0"/>
                </a:moveTo>
                <a:lnTo>
                  <a:pt x="43114" y="21600"/>
                </a:lnTo>
                <a:lnTo>
                  <a:pt x="41714" y="20200"/>
                </a:lnTo>
                <a:lnTo>
                  <a:pt x="41714" y="1400"/>
                </a:lnTo>
                <a:close/>
              </a:path>
              <a:path fill="darkenLess" w="43114" h="21600">
                <a:moveTo>
                  <a:pt x="431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14" y="20200"/>
                </a:lnTo>
                <a:close/>
              </a:path>
              <a:path fill="lighten" w="431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14" h="21600">
                <a:moveTo>
                  <a:pt x="14550" y="7493"/>
                </a:moveTo>
                <a:lnTo>
                  <a:pt x="18058" y="7493"/>
                </a:lnTo>
                <a:lnTo>
                  <a:pt x="18058" y="12828"/>
                </a:lnTo>
                <a:cubicBezTo>
                  <a:pt x="18058" y="13751"/>
                  <a:pt x="18859" y="14482"/>
                  <a:pt x="19895" y="14482"/>
                </a:cubicBezTo>
                <a:lnTo>
                  <a:pt x="21557" y="14482"/>
                </a:lnTo>
                <a:cubicBezTo>
                  <a:pt x="22593" y="14482"/>
                  <a:pt x="23393" y="13751"/>
                  <a:pt x="23393" y="12828"/>
                </a:cubicBezTo>
                <a:lnTo>
                  <a:pt x="23393" y="7493"/>
                </a:lnTo>
                <a:lnTo>
                  <a:pt x="21557" y="7493"/>
                </a:lnTo>
                <a:lnTo>
                  <a:pt x="25065" y="3985"/>
                </a:lnTo>
                <a:lnTo>
                  <a:pt x="28737" y="7493"/>
                </a:lnTo>
                <a:lnTo>
                  <a:pt x="26901" y="7493"/>
                </a:lnTo>
                <a:lnTo>
                  <a:pt x="26901" y="12828"/>
                </a:lnTo>
                <a:cubicBezTo>
                  <a:pt x="26901" y="15596"/>
                  <a:pt x="24325" y="18155"/>
                  <a:pt x="21557" y="18155"/>
                </a:cubicBezTo>
                <a:lnTo>
                  <a:pt x="19895" y="18155"/>
                </a:lnTo>
                <a:cubicBezTo>
                  <a:pt x="17127" y="18155"/>
                  <a:pt x="14550" y="15596"/>
                  <a:pt x="14550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6"/>
              <p:cNvSpPr txBox="1"/>
              <p:nvPr/>
            </p:nvSpPr>
            <p:spPr>
              <a:xfrm>
                <a:off x="3143160" y="5454720"/>
                <a:ext cx="20005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ZoneTexte 4"/>
          <p:cNvSpPr/>
          <p:nvPr/>
        </p:nvSpPr>
        <p:spPr>
          <a:xfrm>
            <a:off x="0" y="0"/>
            <a:ext cx="17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oneTexte 3"/>
          <p:cNvSpPr/>
          <p:nvPr/>
        </p:nvSpPr>
        <p:spPr>
          <a:xfrm>
            <a:off x="1214280" y="500076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ui, les droites (AB) et (CD) sont parallèles et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999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9" descr="">
            <a:hlinkClick r:id="rId1"/>
          </p:cNvPr>
          <p:cNvPicPr/>
          <p:nvPr/>
        </p:nvPicPr>
        <p:blipFill>
          <a:blip r:embed="rId2"/>
          <a:srcRect l="16401" t="7014" r="37265" b="4910"/>
          <a:stretch/>
        </p:blipFill>
        <p:spPr>
          <a:xfrm>
            <a:off x="1928880" y="571680"/>
            <a:ext cx="4513320" cy="5251320"/>
          </a:xfrm>
          <a:prstGeom prst="rect">
            <a:avLst/>
          </a:prstGeom>
          <a:ln w="0">
            <a:noFill/>
          </a:ln>
        </p:spPr>
      </p:pic>
      <p:sp>
        <p:nvSpPr>
          <p:cNvPr id="88" name="Bouton d'action : Personnalisé 6">
            <a:hlinkClick r:id="rId3" action="ppaction://hlinksldjump"/>
          </p:cNvPr>
          <p:cNvSpPr/>
          <p:nvPr/>
        </p:nvSpPr>
        <p:spPr>
          <a:xfrm>
            <a:off x="6840360" y="5759280"/>
            <a:ext cx="1800360" cy="541440"/>
          </a:xfrm>
          <a:custGeom>
            <a:avLst/>
            <a:gdLst>
              <a:gd name="textAreaLeft" fmla="*/ 34920 w 1800360"/>
              <a:gd name="textAreaRight" fmla="*/ 1765440 w 180036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71790" h="21600">
                <a:moveTo>
                  <a:pt x="0" y="0"/>
                </a:moveTo>
                <a:lnTo>
                  <a:pt x="71790" y="0"/>
                </a:lnTo>
                <a:lnTo>
                  <a:pt x="71790" y="21600"/>
                </a:lnTo>
                <a:lnTo>
                  <a:pt x="0" y="21600"/>
                </a:lnTo>
                <a:close/>
              </a:path>
              <a:path fill="lightenLess" w="71790" h="21600">
                <a:moveTo>
                  <a:pt x="0" y="0"/>
                </a:moveTo>
                <a:lnTo>
                  <a:pt x="71790" y="0"/>
                </a:lnTo>
                <a:lnTo>
                  <a:pt x="70390" y="1400"/>
                </a:lnTo>
                <a:lnTo>
                  <a:pt x="1400" y="1400"/>
                </a:lnTo>
                <a:close/>
              </a:path>
              <a:path fill="darken" w="71790" h="21600">
                <a:moveTo>
                  <a:pt x="71790" y="0"/>
                </a:moveTo>
                <a:lnTo>
                  <a:pt x="71790" y="21600"/>
                </a:lnTo>
                <a:lnTo>
                  <a:pt x="70390" y="20200"/>
                </a:lnTo>
                <a:lnTo>
                  <a:pt x="70390" y="1400"/>
                </a:lnTo>
                <a:close/>
              </a:path>
              <a:path fill="darkenLess" w="71790" h="21600">
                <a:moveTo>
                  <a:pt x="71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90" y="20200"/>
                </a:lnTo>
                <a:close/>
              </a:path>
              <a:path fill="lighten" w="71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oneTexte 4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1428840" y="1000080"/>
            <a:ext cx="6057720" cy="4619520"/>
          </a:xfrm>
          <a:prstGeom prst="rect">
            <a:avLst/>
          </a:prstGeom>
          <a:ln w="0">
            <a:noFill/>
          </a:ln>
        </p:spPr>
      </p:pic>
      <p:sp>
        <p:nvSpPr>
          <p:cNvPr id="91" name="Bouton d'action : Personnalisé 5">
            <a:hlinkClick r:id="rId2" action="ppaction://hlinksldjump"/>
          </p:cNvPr>
          <p:cNvSpPr/>
          <p:nvPr/>
        </p:nvSpPr>
        <p:spPr>
          <a:xfrm>
            <a:off x="6840360" y="5759280"/>
            <a:ext cx="1800360" cy="541440"/>
          </a:xfrm>
          <a:custGeom>
            <a:avLst/>
            <a:gdLst>
              <a:gd name="textAreaLeft" fmla="*/ 34920 w 1800360"/>
              <a:gd name="textAreaRight" fmla="*/ 1765440 w 180036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71790" h="21600">
                <a:moveTo>
                  <a:pt x="0" y="0"/>
                </a:moveTo>
                <a:lnTo>
                  <a:pt x="71790" y="0"/>
                </a:lnTo>
                <a:lnTo>
                  <a:pt x="71790" y="21600"/>
                </a:lnTo>
                <a:lnTo>
                  <a:pt x="0" y="21600"/>
                </a:lnTo>
                <a:close/>
              </a:path>
              <a:path fill="lightenLess" w="71790" h="21600">
                <a:moveTo>
                  <a:pt x="0" y="0"/>
                </a:moveTo>
                <a:lnTo>
                  <a:pt x="71790" y="0"/>
                </a:lnTo>
                <a:lnTo>
                  <a:pt x="70390" y="1400"/>
                </a:lnTo>
                <a:lnTo>
                  <a:pt x="1400" y="1400"/>
                </a:lnTo>
                <a:close/>
              </a:path>
              <a:path fill="darken" w="71790" h="21600">
                <a:moveTo>
                  <a:pt x="71790" y="0"/>
                </a:moveTo>
                <a:lnTo>
                  <a:pt x="71790" y="21600"/>
                </a:lnTo>
                <a:lnTo>
                  <a:pt x="70390" y="20200"/>
                </a:lnTo>
                <a:lnTo>
                  <a:pt x="70390" y="1400"/>
                </a:lnTo>
                <a:close/>
              </a:path>
              <a:path fill="darkenLess" w="71790" h="21600">
                <a:moveTo>
                  <a:pt x="71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90" y="20200"/>
                </a:lnTo>
                <a:close/>
              </a:path>
              <a:path fill="lighten" w="71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4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542960" y="1122480"/>
            <a:ext cx="6058080" cy="4619520"/>
          </a:xfrm>
          <a:prstGeom prst="rect">
            <a:avLst/>
          </a:prstGeom>
          <a:ln w="0">
            <a:noFill/>
          </a:ln>
        </p:spPr>
      </p:pic>
      <p:sp>
        <p:nvSpPr>
          <p:cNvPr id="94" name="Bouton d'action : Personnalisé 3">
            <a:hlinkClick r:id="rId2" action="ppaction://hlinksldjump"/>
          </p:cNvPr>
          <p:cNvSpPr/>
          <p:nvPr/>
        </p:nvSpPr>
        <p:spPr>
          <a:xfrm>
            <a:off x="6840360" y="5759280"/>
            <a:ext cx="1800360" cy="541440"/>
          </a:xfrm>
          <a:custGeom>
            <a:avLst/>
            <a:gdLst>
              <a:gd name="textAreaLeft" fmla="*/ 34920 w 1800360"/>
              <a:gd name="textAreaRight" fmla="*/ 1765440 w 180036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71790" h="21600">
                <a:moveTo>
                  <a:pt x="0" y="0"/>
                </a:moveTo>
                <a:lnTo>
                  <a:pt x="71790" y="0"/>
                </a:lnTo>
                <a:lnTo>
                  <a:pt x="71790" y="21600"/>
                </a:lnTo>
                <a:lnTo>
                  <a:pt x="0" y="21600"/>
                </a:lnTo>
                <a:close/>
              </a:path>
              <a:path fill="lightenLess" w="71790" h="21600">
                <a:moveTo>
                  <a:pt x="0" y="0"/>
                </a:moveTo>
                <a:lnTo>
                  <a:pt x="71790" y="0"/>
                </a:lnTo>
                <a:lnTo>
                  <a:pt x="70390" y="1400"/>
                </a:lnTo>
                <a:lnTo>
                  <a:pt x="1400" y="1400"/>
                </a:lnTo>
                <a:close/>
              </a:path>
              <a:path fill="darken" w="71790" h="21600">
                <a:moveTo>
                  <a:pt x="71790" y="0"/>
                </a:moveTo>
                <a:lnTo>
                  <a:pt x="71790" y="21600"/>
                </a:lnTo>
                <a:lnTo>
                  <a:pt x="70390" y="20200"/>
                </a:lnTo>
                <a:lnTo>
                  <a:pt x="70390" y="1400"/>
                </a:lnTo>
                <a:close/>
              </a:path>
              <a:path fill="darkenLess" w="71790" h="21600">
                <a:moveTo>
                  <a:pt x="71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90" y="20200"/>
                </a:lnTo>
                <a:close/>
              </a:path>
              <a:path fill="lighten" w="71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4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542960" y="1122480"/>
            <a:ext cx="6058080" cy="4619520"/>
          </a:xfrm>
          <a:prstGeom prst="rect">
            <a:avLst/>
          </a:prstGeom>
          <a:ln w="0">
            <a:noFill/>
          </a:ln>
        </p:spPr>
      </p:pic>
      <p:sp>
        <p:nvSpPr>
          <p:cNvPr id="97" name="Bouton d'action : Personnalisé 3">
            <a:hlinkClick r:id="rId2" action="ppaction://hlinksldjump"/>
          </p:cNvPr>
          <p:cNvSpPr/>
          <p:nvPr/>
        </p:nvSpPr>
        <p:spPr>
          <a:xfrm>
            <a:off x="6840360" y="5759280"/>
            <a:ext cx="1800360" cy="541440"/>
          </a:xfrm>
          <a:custGeom>
            <a:avLst/>
            <a:gdLst>
              <a:gd name="textAreaLeft" fmla="*/ 34920 w 1800360"/>
              <a:gd name="textAreaRight" fmla="*/ 1765440 w 180036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71790" h="21600">
                <a:moveTo>
                  <a:pt x="0" y="0"/>
                </a:moveTo>
                <a:lnTo>
                  <a:pt x="71790" y="0"/>
                </a:lnTo>
                <a:lnTo>
                  <a:pt x="71790" y="21600"/>
                </a:lnTo>
                <a:lnTo>
                  <a:pt x="0" y="21600"/>
                </a:lnTo>
                <a:close/>
              </a:path>
              <a:path fill="lightenLess" w="71790" h="21600">
                <a:moveTo>
                  <a:pt x="0" y="0"/>
                </a:moveTo>
                <a:lnTo>
                  <a:pt x="71790" y="0"/>
                </a:lnTo>
                <a:lnTo>
                  <a:pt x="70390" y="1400"/>
                </a:lnTo>
                <a:lnTo>
                  <a:pt x="1400" y="1400"/>
                </a:lnTo>
                <a:close/>
              </a:path>
              <a:path fill="darken" w="71790" h="21600">
                <a:moveTo>
                  <a:pt x="71790" y="0"/>
                </a:moveTo>
                <a:lnTo>
                  <a:pt x="71790" y="21600"/>
                </a:lnTo>
                <a:lnTo>
                  <a:pt x="70390" y="20200"/>
                </a:lnTo>
                <a:lnTo>
                  <a:pt x="70390" y="1400"/>
                </a:lnTo>
                <a:close/>
              </a:path>
              <a:path fill="darkenLess" w="71790" h="21600">
                <a:moveTo>
                  <a:pt x="71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90" y="20200"/>
                </a:lnTo>
                <a:close/>
              </a:path>
              <a:path fill="lighten" w="71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4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rcRect l="10039" t="14779" r="12894" b="11324"/>
          <a:stretch/>
        </p:blipFill>
        <p:spPr>
          <a:xfrm>
            <a:off x="2050920" y="2060640"/>
            <a:ext cx="4930920" cy="3301920"/>
          </a:xfrm>
          <a:prstGeom prst="rect">
            <a:avLst/>
          </a:prstGeom>
          <a:ln w="0">
            <a:noFill/>
          </a:ln>
        </p:spPr>
      </p:pic>
      <p:sp>
        <p:nvSpPr>
          <p:cNvPr id="100" name="Bouton d'action : Personnalisé 3">
            <a:hlinkClick r:id="rId2" action="ppaction://hlinksldjump"/>
          </p:cNvPr>
          <p:cNvSpPr/>
          <p:nvPr/>
        </p:nvSpPr>
        <p:spPr>
          <a:xfrm>
            <a:off x="6840360" y="5759280"/>
            <a:ext cx="1800360" cy="541440"/>
          </a:xfrm>
          <a:custGeom>
            <a:avLst/>
            <a:gdLst>
              <a:gd name="textAreaLeft" fmla="*/ 34920 w 1800360"/>
              <a:gd name="textAreaRight" fmla="*/ 1765440 w 180036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71790" h="21600">
                <a:moveTo>
                  <a:pt x="0" y="0"/>
                </a:moveTo>
                <a:lnTo>
                  <a:pt x="71790" y="0"/>
                </a:lnTo>
                <a:lnTo>
                  <a:pt x="71790" y="21600"/>
                </a:lnTo>
                <a:lnTo>
                  <a:pt x="0" y="21600"/>
                </a:lnTo>
                <a:close/>
              </a:path>
              <a:path fill="lightenLess" w="71790" h="21600">
                <a:moveTo>
                  <a:pt x="0" y="0"/>
                </a:moveTo>
                <a:lnTo>
                  <a:pt x="71790" y="0"/>
                </a:lnTo>
                <a:lnTo>
                  <a:pt x="70390" y="1400"/>
                </a:lnTo>
                <a:lnTo>
                  <a:pt x="1400" y="1400"/>
                </a:lnTo>
                <a:close/>
              </a:path>
              <a:path fill="darken" w="71790" h="21600">
                <a:moveTo>
                  <a:pt x="71790" y="0"/>
                </a:moveTo>
                <a:lnTo>
                  <a:pt x="71790" y="21600"/>
                </a:lnTo>
                <a:lnTo>
                  <a:pt x="70390" y="20200"/>
                </a:lnTo>
                <a:lnTo>
                  <a:pt x="70390" y="1400"/>
                </a:lnTo>
                <a:close/>
              </a:path>
              <a:path fill="darkenLess" w="71790" h="21600">
                <a:moveTo>
                  <a:pt x="71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90" y="20200"/>
                </a:lnTo>
                <a:close/>
              </a:path>
              <a:path fill="lighten" w="71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4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928800" y="714240"/>
            <a:ext cx="6057720" cy="4619880"/>
          </a:xfrm>
          <a:prstGeom prst="rect">
            <a:avLst/>
          </a:prstGeom>
          <a:ln w="0">
            <a:noFill/>
          </a:ln>
        </p:spPr>
      </p:pic>
      <p:sp>
        <p:nvSpPr>
          <p:cNvPr id="103" name="Bouton d'action : Personnalisé 4">
            <a:hlinkClick r:id="rId2" action="ppaction://hlinksldjump"/>
          </p:cNvPr>
          <p:cNvSpPr/>
          <p:nvPr/>
        </p:nvSpPr>
        <p:spPr>
          <a:xfrm>
            <a:off x="6840360" y="5759280"/>
            <a:ext cx="1800360" cy="541440"/>
          </a:xfrm>
          <a:custGeom>
            <a:avLst/>
            <a:gdLst>
              <a:gd name="textAreaLeft" fmla="*/ 34920 w 1800360"/>
              <a:gd name="textAreaRight" fmla="*/ 1765440 w 180036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71790" h="21600">
                <a:moveTo>
                  <a:pt x="0" y="0"/>
                </a:moveTo>
                <a:lnTo>
                  <a:pt x="71790" y="0"/>
                </a:lnTo>
                <a:lnTo>
                  <a:pt x="71790" y="21600"/>
                </a:lnTo>
                <a:lnTo>
                  <a:pt x="0" y="21600"/>
                </a:lnTo>
                <a:close/>
              </a:path>
              <a:path fill="lightenLess" w="71790" h="21600">
                <a:moveTo>
                  <a:pt x="0" y="0"/>
                </a:moveTo>
                <a:lnTo>
                  <a:pt x="71790" y="0"/>
                </a:lnTo>
                <a:lnTo>
                  <a:pt x="70390" y="1400"/>
                </a:lnTo>
                <a:lnTo>
                  <a:pt x="1400" y="1400"/>
                </a:lnTo>
                <a:close/>
              </a:path>
              <a:path fill="darken" w="71790" h="21600">
                <a:moveTo>
                  <a:pt x="71790" y="0"/>
                </a:moveTo>
                <a:lnTo>
                  <a:pt x="71790" y="21600"/>
                </a:lnTo>
                <a:lnTo>
                  <a:pt x="70390" y="20200"/>
                </a:lnTo>
                <a:lnTo>
                  <a:pt x="70390" y="1400"/>
                </a:lnTo>
                <a:close/>
              </a:path>
              <a:path fill="darkenLess" w="71790" h="21600">
                <a:moveTo>
                  <a:pt x="71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90" y="20200"/>
                </a:lnTo>
                <a:close/>
              </a:path>
              <a:path fill="lighten" w="71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5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542960" y="1119240"/>
            <a:ext cx="6058080" cy="4619520"/>
          </a:xfrm>
          <a:prstGeom prst="rect">
            <a:avLst/>
          </a:prstGeom>
          <a:ln w="0">
            <a:noFill/>
          </a:ln>
        </p:spPr>
      </p:pic>
      <p:sp>
        <p:nvSpPr>
          <p:cNvPr id="106" name="Bouton d'action : Personnalisé 3">
            <a:hlinkClick r:id="rId2" action="ppaction://hlinksldjump"/>
          </p:cNvPr>
          <p:cNvSpPr/>
          <p:nvPr/>
        </p:nvSpPr>
        <p:spPr>
          <a:xfrm>
            <a:off x="6840360" y="5759280"/>
            <a:ext cx="1800360" cy="541440"/>
          </a:xfrm>
          <a:custGeom>
            <a:avLst/>
            <a:gdLst>
              <a:gd name="textAreaLeft" fmla="*/ 34920 w 1800360"/>
              <a:gd name="textAreaRight" fmla="*/ 1765440 w 180036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71790" h="21600">
                <a:moveTo>
                  <a:pt x="0" y="0"/>
                </a:moveTo>
                <a:lnTo>
                  <a:pt x="71790" y="0"/>
                </a:lnTo>
                <a:lnTo>
                  <a:pt x="71790" y="21600"/>
                </a:lnTo>
                <a:lnTo>
                  <a:pt x="0" y="21600"/>
                </a:lnTo>
                <a:close/>
              </a:path>
              <a:path fill="lightenLess" w="71790" h="21600">
                <a:moveTo>
                  <a:pt x="0" y="0"/>
                </a:moveTo>
                <a:lnTo>
                  <a:pt x="71790" y="0"/>
                </a:lnTo>
                <a:lnTo>
                  <a:pt x="70390" y="1400"/>
                </a:lnTo>
                <a:lnTo>
                  <a:pt x="1400" y="1400"/>
                </a:lnTo>
                <a:close/>
              </a:path>
              <a:path fill="darken" w="71790" h="21600">
                <a:moveTo>
                  <a:pt x="71790" y="0"/>
                </a:moveTo>
                <a:lnTo>
                  <a:pt x="71790" y="21600"/>
                </a:lnTo>
                <a:lnTo>
                  <a:pt x="70390" y="20200"/>
                </a:lnTo>
                <a:lnTo>
                  <a:pt x="70390" y="1400"/>
                </a:lnTo>
                <a:close/>
              </a:path>
              <a:path fill="darkenLess" w="71790" h="21600">
                <a:moveTo>
                  <a:pt x="71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90" y="20200"/>
                </a:lnTo>
                <a:close/>
              </a:path>
              <a:path fill="lighten" w="71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oneTexte 4"/>
          <p:cNvSpPr/>
          <p:nvPr/>
        </p:nvSpPr>
        <p:spPr>
          <a:xfrm>
            <a:off x="0" y="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8:18:55Z</dcterms:created>
  <dc:creator>.</dc:creator>
  <dc:description/>
  <dc:language>en-US</dc:language>
  <cp:lastModifiedBy>Marionseg</cp:lastModifiedBy>
  <dcterms:modified xsi:type="dcterms:W3CDTF">2010-01-21T14:38:27Z</dcterms:modified>
  <cp:revision>56</cp:revision>
  <dc:subject/>
  <dc:title>Diapositive 1</dc:title>
</cp:coreProperties>
</file>