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5AA9-ECE0-447D-B1CE-F51AF8C7A8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6B31-54AA-478E-A599-661F665DC6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11DD-494B-4EB6-9A74-ED205BA3B8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3799-CD1B-4094-8DF3-ABF985ACFA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019F-847E-4495-8A2E-E5A5421F55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AE1A-AAB5-4FF6-84C4-49B345DB7F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A29E-D0AA-4291-9538-4E8B205433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0C77-B8D3-449C-9AA1-12BB14E021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F05D-9FE6-439B-83AD-B69F6C0C4F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AAA6-23DB-4EC8-B2C3-C9274AC67B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F2DA-414D-4C56-8B79-826D73649F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E7BF-F768-48D7-B455-B7C017AF75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8965-CB98-4087-BAA8-E858A96A03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B076-8CA4-48B4-8286-3F08AFC80A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F47-7AD1-4D5C-BFC7-BA93E263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CAB-4966-44C1-BA77-671FD1EB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DCCF-DB1C-41A4-B3B9-8DECB2DA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DAC0-D27E-457D-B631-CA01E251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D395-B689-4F86-9116-20BA138BC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F6F-8670-470E-82F8-83D3B754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FC42-3211-47EA-B1AC-1F6878ED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382-09E9-4C16-A09D-CF8966B1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660-EBEF-44F5-9DBC-D85CC865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231-B7E4-4E00-97C7-4AC693F4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061C-2988-42A3-A3DD-6089DFB1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CB9-A322-4BEB-A73D-9E59D70B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8201-3D51-4468-9BBD-2C55248095B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A42D-CF82-46D4-B4AB-D1C141A049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ROPORTIONNALITÉ (2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85960" y="2071800"/>
          <a:ext cx="5400720" cy="242892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</a:tblGrid>
              <a:tr h="1214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85960" y="2071800"/>
          <a:ext cx="5400720" cy="242892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1214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85960" y="2071800"/>
          <a:ext cx="5400720" cy="242892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1214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7030a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7030a0"/>
                </a:solidFill>
                <a:latin typeface="Arial"/>
                <a:ea typeface="Arial"/>
              </a:rPr>
              <a:t>Les tableaux suivants représentent-ils une situation de proportionnalité ? </a:t>
            </a:r>
            <a:br>
              <a:rPr sz="5400"/>
            </a:br>
            <a:r>
              <a:rPr b="0" lang="fr-FR" sz="5400" spc="-1" strike="noStrike">
                <a:solidFill>
                  <a:srgbClr val="7030a0"/>
                </a:solidFill>
                <a:latin typeface="Arial"/>
                <a:ea typeface="Arial"/>
              </a:rPr>
              <a:t>Si oui, donner un coefficient de proportionnalité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785960" y="2071800"/>
          <a:ext cx="5400720" cy="242892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1214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785960" y="2071800"/>
          <a:ext cx="5400720" cy="242892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1214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85960" y="2071800"/>
          <a:ext cx="5400720" cy="242892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</a:tblGrid>
              <a:tr h="1214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85960" y="2071800"/>
          <a:ext cx="5400720" cy="242892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1214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85960" y="2071800"/>
          <a:ext cx="5400720" cy="242892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</a:tblGrid>
              <a:tr h="1214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85960" y="2071800"/>
          <a:ext cx="5400720" cy="242892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1214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85960" y="2071800"/>
          <a:ext cx="5400720" cy="2428920"/>
        </p:xfrm>
        <a:graphic>
          <a:graphicData uri="http://schemas.openxmlformats.org/drawingml/2006/table">
            <a:tbl>
              <a:tblPr/>
              <a:tblGrid>
                <a:gridCol w="2700360"/>
                <a:gridCol w="2700360"/>
              </a:tblGrid>
              <a:tr h="1214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5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6:36:32Z</dcterms:created>
  <dc:creator>ms</dc:creator>
  <dc:description/>
  <dc:language>en-US</dc:language>
  <cp:lastModifiedBy>Marionseg</cp:lastModifiedBy>
  <dcterms:modified xsi:type="dcterms:W3CDTF">2010-01-22T14:25:16Z</dcterms:modified>
  <cp:revision>7</cp:revision>
  <dc:subject/>
  <dc:title>Diapositive 1</dc:title>
</cp:coreProperties>
</file>