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AB84-0C73-4161-85F5-9BEBD961CFF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89B5-0F91-454C-9B8E-F739968881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2E8B-EA3C-4109-9F73-805BA846E0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246C-1692-4694-BDDC-98D999CE22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08C8-3F5D-45BF-BA8C-8593DD711F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C4A7-8A7F-442D-A219-BD7A65D363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EBAF-3073-4D71-A2CE-847553C9D5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0A7B-0A12-45D5-9FCC-0135B1345E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CAD8-EF2D-407F-98EA-CEE4401302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DEDF-5395-4FED-8D82-DEFF2A97D0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E4AB-55E1-4738-8E65-2BFB25A68C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1B63-9BED-41D0-8045-C32D623A2C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6F42-EFCC-40CF-9A28-21DC92D7C9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5216-33A5-4E05-BCD4-406C1196D4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56B-A223-46A0-A117-B0623857F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5183-EC64-4E76-8A57-F4B057C0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AAC-B8B8-4CD4-9922-032DDABB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636-A2F6-405C-881D-A82FB213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00E-E4DF-43E9-8C3B-F4421161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A98-3186-4FE7-A205-35CB8538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8E1-7B9E-4015-BAE6-7BB5C3D4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806-ACCE-47E6-A2DD-647DE872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580-3708-4135-BCBB-10C34CF1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610-4FD2-4C88-BB92-4C9450AA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84B-667D-490B-9A0F-D09D8C10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6CC-FB9E-4C90-B0ED-F3AF229E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49D4-EA31-44BC-A197-2A19C3204DC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BA52-3218-4ED0-9C92-325773091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FONCTION LINÉAIRE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1499760"/>
            <a:ext cx="8686800" cy="364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5bd3"/>
                </a:solidFill>
                <a:latin typeface="Arial"/>
                <a:ea typeface="Arial"/>
              </a:rPr>
              <a:t>Déterminer le coefficient directeur « </a:t>
            </a:r>
            <a:r>
              <a:rPr b="0" i="1" lang="fr-FR" sz="48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a</a:t>
            </a:r>
            <a:r>
              <a:rPr b="0" lang="fr-FR" sz="4800" spc="-1" strike="noStrike">
                <a:solidFill>
                  <a:srgbClr val="005bd3"/>
                </a:solidFill>
                <a:latin typeface="Arial"/>
                <a:ea typeface="Arial"/>
              </a:rPr>
              <a:t> » de la droite  représentant une fonction linéair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28840" y="5857920"/>
            <a:ext cx="62863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=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Cambria Math"/>
              </a:rPr>
              <a:t>?</a:t>
            </a:r>
            <a:r>
              <a:rPr b="0" lang="fr-FR" sz="6000" spc="-1" strike="noStrike">
                <a:solidFill>
                  <a:srgbClr val="ff0000"/>
                </a:solidFill>
                <a:latin typeface="Cambria Math"/>
                <a:ea typeface="Cambria Math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5bd3"/>
                </a:solidFill>
                <a:latin typeface="Cambria Math"/>
                <a:ea typeface="Cambria Math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179280" y="900000"/>
            <a:ext cx="876636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3:45:56Z</dcterms:modified>
  <cp:revision>155</cp:revision>
  <dc:subject/>
  <dc:title>Diapositive 0</dc:title>
</cp:coreProperties>
</file>