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56B-F820-4329-8736-8E75834B2D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4229-9613-4A36-9224-9F6261B577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647-6CD2-4DFC-A129-77DDA0C829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90B4-A2F2-47C1-A1F7-9FE387F9E7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F1A7-2DF6-4BF9-B836-16551D3E05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69B6-5FA0-44E5-B03D-31ABCE4F22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2388-EDB0-49BB-AE22-A03772AA56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BEC8-FD5E-443E-8BB9-CCACB83697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C20A-810F-4852-9A0E-E095D40CDE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0DA3-67A9-4094-A0DD-85D8E551D9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83C6-B339-4942-A50E-17016D1234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FDBD-CC37-4CFE-BF3B-926320A25B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65C-8488-46D2-BC37-4DF08DDFA5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FFD9-3ACB-4D6E-9180-5B2E5CB37E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909B-C0FA-4D7D-BAC2-00072801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22C1-93F3-4AFB-97A0-91B32F1D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4A7-65D6-460A-B8FD-6BBEA320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B95-F8DA-4949-BF88-12CB8711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F6EA-3117-45DC-91A4-784FFDC6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7CF1-EA3C-4FA1-9FB6-B1E62F41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BEE-3E5C-498F-9A76-7E621EA2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409-B6B8-4DFF-B1F8-382515B8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F1E1-4D79-437E-9A34-10997242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3B05-AB54-4F14-9EC6-BF0065A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82D-6496-4973-99DA-288E142B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51A-EDCA-4F08-8907-D7DA624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822F-5A30-48D0-BFE5-D266A5B4041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076-B6B7-4376-8F7D-ECBA21E8B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TION DE FONCTIO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0" y="40719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deux nombres opposés dont les images so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des nombres opposé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11"/>
          <p:cNvSpPr/>
          <p:nvPr/>
        </p:nvSpPr>
        <p:spPr>
          <a:xfrm>
            <a:off x="285840" y="40719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des valeurs de 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i="1" lang="fr-FR" sz="5400" spc="-1" strike="noStrike">
                <a:solidFill>
                  <a:srgbClr val="e40059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telles que 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</a:t>
            </a:r>
            <a:r>
              <a:rPr b="0" i="1" lang="fr-FR" sz="5400" spc="-1" strike="noStrike">
                <a:solidFill>
                  <a:srgbClr val="e40059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– 6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11"/>
          <p:cNvSpPr/>
          <p:nvPr/>
        </p:nvSpPr>
        <p:spPr>
          <a:xfrm>
            <a:off x="0" y="40719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Trouver deux nombres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 et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 tels que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b </a:t>
            </a: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et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 = </a:t>
            </a:r>
            <a:r>
              <a:rPr b="0" i="1" lang="fr-FR" sz="5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À partir d’un tableau de valeurs d’une fonction </a:t>
            </a:r>
            <a:r>
              <a:rPr b="0" i="1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, répondre aux questio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11"/>
          <p:cNvSpPr/>
          <p:nvPr/>
        </p:nvSpPr>
        <p:spPr>
          <a:xfrm>
            <a:off x="285840" y="40719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Quelle est l’image de 4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0" y="4071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Donner un antécédent de 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11"/>
          <p:cNvSpPr/>
          <p:nvPr/>
        </p:nvSpPr>
        <p:spPr>
          <a:xfrm>
            <a:off x="285840" y="40719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Quelle est l’image de 0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11"/>
          <p:cNvSpPr/>
          <p:nvPr/>
        </p:nvSpPr>
        <p:spPr>
          <a:xfrm>
            <a:off x="0" y="40719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Y a-t-il un nombre du tableau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égal à son image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11"/>
          <p:cNvSpPr/>
          <p:nvPr/>
        </p:nvSpPr>
        <p:spPr>
          <a:xfrm>
            <a:off x="0" y="40719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deux nombres ayant la même image strictement positi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11"/>
          <p:cNvSpPr/>
          <p:nvPr/>
        </p:nvSpPr>
        <p:spPr>
          <a:xfrm>
            <a:off x="285840" y="4071960"/>
            <a:ext cx="864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un nombre strictement négatif ayant un antécédent strictement positif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9720" y="1571760"/>
            <a:ext cx="75726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11"/>
          <p:cNvSpPr/>
          <p:nvPr/>
        </p:nvSpPr>
        <p:spPr>
          <a:xfrm>
            <a:off x="285840" y="40719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des antécédents de 0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500120"/>
          <a:ext cx="8715600" cy="1954440"/>
        </p:xfrm>
        <a:graphic>
          <a:graphicData uri="http://schemas.openxmlformats.org/drawingml/2006/table">
            <a:tbl>
              <a:tblPr/>
              <a:tblGrid>
                <a:gridCol w="1009800"/>
                <a:gridCol w="771480"/>
                <a:gridCol w="770040"/>
                <a:gridCol w="769680"/>
                <a:gridCol w="771840"/>
                <a:gridCol w="769680"/>
                <a:gridCol w="771480"/>
                <a:gridCol w="770040"/>
                <a:gridCol w="770040"/>
                <a:gridCol w="771480"/>
                <a:gridCol w="7700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f(x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0" lang="fr-FR" sz="3200" spc="-1" strike="noStrike">
                          <a:solidFill>
                            <a:srgbClr val="005bd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4:00:18Z</dcterms:modified>
  <cp:revision>213</cp:revision>
  <dc:subject/>
  <dc:title>Diapositive 0</dc:title>
</cp:coreProperties>
</file>