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C503-648C-4540-8A51-2F9BA9A36A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1EA6-F3E0-4848-9325-F68A5FA323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B98C-14DF-4975-B67E-77239EDEE5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82F8-FDD7-46CB-B781-CBB923DC41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4B0E-1B82-43B1-95B6-2F6530CF5E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A697-3A9F-4464-B617-8C224DD087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8244-CEEC-4773-8B5F-562C7DC8B6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DED1-7D86-4192-92B6-9BAA212EA1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3BAC-3E31-4DA6-8496-B738D5B491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A6EC-5207-413D-B631-0AB3D2C093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90AE-8992-4447-8635-51C9B951FCA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26B0-F515-479F-89D6-A2773FFBEE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8C09-A9BB-4C27-9E09-FEB737C2B7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353E6-2E43-41E2-8912-59187185F84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11A4-E0A0-4090-B4E2-7C564DE89B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6483-40DB-4747-924A-1B086F53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BBA-0A01-4EFB-869B-3EA0F229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5128-0153-416F-B40C-4DD2BB95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92A-E2C3-4DA1-A183-4D0ECC7B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95E6-FB87-4A45-9A01-C2D56A1B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9943-0078-4BCE-BFCB-99306B83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A5D1-FD7B-4A3F-99B4-0037BD58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19E1-4B03-4ADB-98D6-B7A5B890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4E0-03DC-4A16-B652-D3D10B41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69A9-C932-4B3E-A651-AE578414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F44-44E8-4BE8-B5BB-A781D8F2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A568-4CAD-4D6A-8F81-9F93DA31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0999-A910-4F39-8A2C-4655BA428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GRAMMES DE CALCULS (1)</a:t>
            </a:r>
            <a:br>
              <a:rPr sz="8000"/>
            </a:br>
            <a:r>
              <a:rPr b="1" lang="fr-FR" sz="6000" spc="-1" strike="noStrike">
                <a:solidFill>
                  <a:srgbClr val="000000"/>
                </a:solidFill>
                <a:latin typeface="Calibri"/>
                <a:ea typeface="Times New Roman"/>
              </a:rPr>
              <a:t>Série n°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2857680" y="214200"/>
            <a:ext cx="4429080" cy="20718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4200" y="23446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itre 3"/>
          <p:cNvSpPr/>
          <p:nvPr/>
        </p:nvSpPr>
        <p:spPr>
          <a:xfrm>
            <a:off x="214200" y="350028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Retrancher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tre 3"/>
          <p:cNvSpPr/>
          <p:nvPr/>
        </p:nvSpPr>
        <p:spPr>
          <a:xfrm>
            <a:off x="214200" y="46432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Diviser le résultat par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2"/>
              <p:cNvSpPr txBox="1"/>
              <p:nvPr/>
            </p:nvSpPr>
            <p:spPr>
              <a:xfrm>
                <a:off x="4203720" y="357120"/>
                <a:ext cx="17208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3"/>
              <p:cNvSpPr txBox="1"/>
              <p:nvPr/>
            </p:nvSpPr>
            <p:spPr>
              <a:xfrm>
                <a:off x="4138560" y="357120"/>
                <a:ext cx="1862280" cy="18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4227480" y="563400"/>
                <a:ext cx="6192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chimes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2857680" y="214200"/>
            <a:ext cx="4429080" cy="20718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4200" y="23446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itre 3"/>
          <p:cNvSpPr/>
          <p:nvPr/>
        </p:nvSpPr>
        <p:spPr>
          <a:xfrm>
            <a:off x="214200" y="350028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Ajouter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re 3"/>
          <p:cNvSpPr/>
          <p:nvPr/>
        </p:nvSpPr>
        <p:spPr>
          <a:xfrm>
            <a:off x="214200" y="46432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Multiplier le résultat par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3786120" y="785880"/>
                <a:ext cx="25462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3"/>
              <p:cNvSpPr txBox="1"/>
              <p:nvPr/>
            </p:nvSpPr>
            <p:spPr>
              <a:xfrm>
                <a:off x="4357800" y="795240"/>
                <a:ext cx="172404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4"/>
              <p:cNvSpPr txBox="1"/>
              <p:nvPr/>
            </p:nvSpPr>
            <p:spPr>
              <a:xfrm>
                <a:off x="4357800" y="1000080"/>
                <a:ext cx="61884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2786040" y="214200"/>
            <a:ext cx="4429080" cy="20718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4200" y="23446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re 3"/>
          <p:cNvSpPr/>
          <p:nvPr/>
        </p:nvSpPr>
        <p:spPr>
          <a:xfrm>
            <a:off x="214200" y="350028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Multiplier ce nombre par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re 3"/>
          <p:cNvSpPr/>
          <p:nvPr/>
        </p:nvSpPr>
        <p:spPr>
          <a:xfrm>
            <a:off x="214200" y="46432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Retrancher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2"/>
              <p:cNvSpPr txBox="1"/>
              <p:nvPr/>
            </p:nvSpPr>
            <p:spPr>
              <a:xfrm>
                <a:off x="3929040" y="892080"/>
                <a:ext cx="10317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3"/>
              <p:cNvSpPr txBox="1"/>
              <p:nvPr/>
            </p:nvSpPr>
            <p:spPr>
              <a:xfrm>
                <a:off x="3929040" y="892080"/>
                <a:ext cx="206712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4313160" y="1098720"/>
                <a:ext cx="5446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chimes.wav"/>
      </p:stSnd>
    </p:sndAc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2571840" y="214200"/>
            <a:ext cx="4429080" cy="20718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4200" y="23446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tre 3"/>
          <p:cNvSpPr/>
          <p:nvPr/>
        </p:nvSpPr>
        <p:spPr>
          <a:xfrm>
            <a:off x="214200" y="350028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Diviser ce nombre par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re 3"/>
          <p:cNvSpPr/>
          <p:nvPr/>
        </p:nvSpPr>
        <p:spPr>
          <a:xfrm>
            <a:off x="214200" y="46432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Ajouter 7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2"/>
              <p:cNvSpPr txBox="1"/>
              <p:nvPr/>
            </p:nvSpPr>
            <p:spPr>
              <a:xfrm>
                <a:off x="3714840" y="285840"/>
                <a:ext cx="110160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3"/>
              <p:cNvSpPr txBox="1"/>
              <p:nvPr/>
            </p:nvSpPr>
            <p:spPr>
              <a:xfrm>
                <a:off x="3714840" y="285840"/>
                <a:ext cx="2136600" cy="19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3929040" y="496800"/>
                <a:ext cx="6192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chimes.wav"/>
      </p:stSnd>
    </p:sndAc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5840" y="2130120"/>
            <a:ext cx="8572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Le nombre de départ étant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, exprimer le résultat final de chaque programme de calculs en fonction de </a:t>
            </a:r>
            <a:r>
              <a:rPr b="0" i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200" y="21304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3"/>
          <p:cNvSpPr/>
          <p:nvPr/>
        </p:nvSpPr>
        <p:spPr>
          <a:xfrm>
            <a:off x="214200" y="328608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Multiplier ce nombre par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3"/>
          <p:cNvSpPr/>
          <p:nvPr/>
        </p:nvSpPr>
        <p:spPr>
          <a:xfrm>
            <a:off x="214200" y="44290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Ajouter 6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4200" y="21304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3"/>
          <p:cNvSpPr/>
          <p:nvPr/>
        </p:nvSpPr>
        <p:spPr>
          <a:xfrm>
            <a:off x="214200" y="328608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Retrancher 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itre 3"/>
          <p:cNvSpPr/>
          <p:nvPr/>
        </p:nvSpPr>
        <p:spPr>
          <a:xfrm>
            <a:off x="214200" y="44290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Diviser le résultat par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4200" y="21304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3"/>
          <p:cNvSpPr/>
          <p:nvPr/>
        </p:nvSpPr>
        <p:spPr>
          <a:xfrm>
            <a:off x="214200" y="328608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Ajouter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itre 3"/>
          <p:cNvSpPr/>
          <p:nvPr/>
        </p:nvSpPr>
        <p:spPr>
          <a:xfrm>
            <a:off x="214200" y="44290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Multiplier le résultat par 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4200" y="21304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re 3"/>
          <p:cNvSpPr/>
          <p:nvPr/>
        </p:nvSpPr>
        <p:spPr>
          <a:xfrm>
            <a:off x="214200" y="328608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Multiplier ce nombre par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itre 3"/>
          <p:cNvSpPr/>
          <p:nvPr/>
        </p:nvSpPr>
        <p:spPr>
          <a:xfrm>
            <a:off x="214200" y="44290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Retrancher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4200" y="21304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re 3"/>
          <p:cNvSpPr/>
          <p:nvPr/>
        </p:nvSpPr>
        <p:spPr>
          <a:xfrm>
            <a:off x="214200" y="328608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Diviser ce nombre par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tre 3"/>
          <p:cNvSpPr/>
          <p:nvPr/>
        </p:nvSpPr>
        <p:spPr>
          <a:xfrm>
            <a:off x="214200" y="44290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Ajouter 7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9"/>
          <p:cNvSpPr/>
          <p:nvPr/>
        </p:nvSpPr>
        <p:spPr>
          <a:xfrm>
            <a:off x="2714760" y="214200"/>
            <a:ext cx="4429080" cy="20718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200" y="2130480"/>
            <a:ext cx="8715600" cy="115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  <a:ea typeface="Arial"/>
              </a:rPr>
              <a:t>Choisir un nombre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oneTexte 2"/>
          <p:cNvSpPr/>
          <p:nvPr/>
        </p:nvSpPr>
        <p:spPr>
          <a:xfrm>
            <a:off x="428760" y="642960"/>
            <a:ext cx="1143000" cy="100836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tre 3"/>
          <p:cNvSpPr/>
          <p:nvPr/>
        </p:nvSpPr>
        <p:spPr>
          <a:xfrm>
            <a:off x="214200" y="3286080"/>
            <a:ext cx="89298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Multiplier ce nombre par 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itre 3"/>
          <p:cNvSpPr/>
          <p:nvPr/>
        </p:nvSpPr>
        <p:spPr>
          <a:xfrm>
            <a:off x="214200" y="4429080"/>
            <a:ext cx="892980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Ajouter 6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3929040" y="892080"/>
                <a:ext cx="10335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3"/>
              <p:cNvSpPr txBox="1"/>
              <p:nvPr/>
            </p:nvSpPr>
            <p:spPr>
              <a:xfrm>
                <a:off x="3935520" y="892080"/>
                <a:ext cx="213660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4"/>
              <p:cNvSpPr txBox="1"/>
              <p:nvPr/>
            </p:nvSpPr>
            <p:spPr>
              <a:xfrm>
                <a:off x="4313160" y="1098720"/>
                <a:ext cx="61920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  <p:sndAc>
      <p:stSnd>
        <p:snd r:embed="rId1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14:23:26Z</dcterms:created>
  <dc:creator>Famille Ravet</dc:creator>
  <dc:description/>
  <dc:language>en-US</dc:language>
  <cp:lastModifiedBy>Marionseg</cp:lastModifiedBy>
  <dcterms:modified xsi:type="dcterms:W3CDTF">2010-01-22T16:58:36Z</dcterms:modified>
  <cp:revision>40</cp:revision>
  <dc:subject/>
  <dc:title>Vocabulaire et calcul mental</dc:title>
</cp:coreProperties>
</file>