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D1C0-2EF9-4DA2-8FA8-288CB1F334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9BA5-ACC0-40E4-BDB1-E235BD6B58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18A6-6546-424F-ABC2-1ABD5BF0C4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7370-774E-41E1-9072-EE928E6EB3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E898-EDA1-451A-B027-120C2977756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1607-2E53-4658-8EB6-09F8C1EDD9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BD2D-108E-47A4-95A0-634451ABD0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56DD-943F-43E5-8EE4-ADD3D0466E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054-E306-4AC6-A5D0-9F28C71153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DBAA-C4D5-48BF-ADB3-97CBE1BE6B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2F3-3765-41BA-B8E0-125ECBAA76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3C0A-E4F2-4F7A-9EBB-8D1C276A02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7A8-0325-4A8F-B380-4771270FF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8C3C-7507-4D66-ACB8-7F8200B4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DB6-1669-4F8D-9A03-645145F1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F0CD-C370-41EE-94F2-5A02CD4A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5102-D605-4623-8784-C06FCECF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CBFC-E307-4C63-A6FC-D5217AC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BF46-917C-4A0D-8E64-3633E6EB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28F-DB76-4854-988C-CA359B75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BA64-B53D-498C-8CB8-40349E75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068B-8D70-4EA0-A729-3325B190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E078-3F9D-4260-843B-87A89DF9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EDF-1786-46D1-B42B-18DECD57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D008-C14F-4E39-8221-592A66E3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4A6-ABBC-4DC0-AB7D-BC088D11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0EC4-7EC5-4F48-B7BC-6B3ABD6A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E533-072D-41B9-9B9F-72C287E3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F398-C2ED-478C-8F5F-32FB91D8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47BC-A5D9-413A-A698-1BFA49FB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664-FCBE-4BE6-9713-5805B4C5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A6E-11CC-498A-995C-BBDF48CD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82B1-A194-4DEC-B528-19AEB3F3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63B1-97D6-4657-AA1B-180D5C33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D037-5C6C-41A5-ADBA-CB3822D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0E9-5514-4396-A841-C15D508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3CEB-CB9E-46C5-BA2D-1646E93F43BD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1603440" y="2333520"/>
            <a:ext cx="143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6068880" y="2335320"/>
            <a:ext cx="1440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8C91-74CC-4974-87BB-3661795C57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1 ET N°1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2039760" y="284148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5311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050920" y="28288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65311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6516720" y="285264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crire la fraction proposée sous la forme d’une fraction aussi simple que possible ou éventuellement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sous la forme d’un e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050920" y="2824200"/>
                <a:ext cx="50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659640" y="2824200"/>
                <a:ext cx="291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2079720" y="2828880"/>
                <a:ext cx="520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6521400" y="281952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4"/>
              <p:cNvSpPr txBox="1"/>
              <p:nvPr/>
            </p:nvSpPr>
            <p:spPr>
              <a:xfrm>
                <a:off x="2050920" y="2781360"/>
                <a:ext cx="61920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6516720" y="2862360"/>
                <a:ext cx="50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6527880" y="2830680"/>
                <a:ext cx="533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20653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6540480" y="2841480"/>
                <a:ext cx="520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4"/>
              <p:cNvSpPr txBox="1"/>
              <p:nvPr/>
            </p:nvSpPr>
            <p:spPr>
              <a:xfrm>
                <a:off x="2050920" y="285264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2025720" y="287352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516720" y="284148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65311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7:05Z</dcterms:modified>
  <cp:revision>18</cp:revision>
  <dc:subject/>
  <dc:title>Diapositive 1</dc:title>
</cp:coreProperties>
</file>