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76FB5-0F51-48BE-A02F-8F073F88329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806C6-89EB-4646-B024-9E38AD0430B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26154-066A-4832-9F75-A1837B15121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A0DC7-84C1-46FC-97A9-40217BAFC8E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DE751-2134-453A-85BE-99F43969818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0B2BA-8E41-4716-9F71-546A38BD45F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DB9B7-260A-4E75-9BB8-92794614518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2739-BA4C-4ABC-B90B-9390D50D0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068A-DFB0-4D11-B617-36C5D94BD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F0A4-BE31-48E4-B829-2F7C5FCC5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9C02-1CC2-46CF-BFB9-916E95AE9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B3409-08B6-45F4-942B-0D8F36555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AF0F4-CF08-4643-AA15-958B1D8C9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A29CA-1AF9-4341-8993-8DB39E63C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32AAB-A127-46DC-858B-644E57926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9E5E4-B98D-4F2F-AB74-3F8282A8A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F8762-022E-4272-9663-37498832D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AD4D5-1595-4E41-84AF-E2B6EB1D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0C0B-479C-47EC-B8C6-5605DA260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F4DA3-0735-427F-922D-F635A55C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FE6DF-CB67-4CA3-BDDA-B84ABE3B5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68CD6-6825-46CE-A0F5-E4B371ECD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FE381-ABC7-45B3-A0D6-3EF18759A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2FC90-D544-4FA4-89CD-0E1B08826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9561E-5332-42A9-A665-8A56915BC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AC368-94E6-4A90-A198-8384DE388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C8EA5-61FD-477D-94F1-63BB51BC6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DF1DA-ECC7-432C-ACEF-5791835E8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59421-7EB1-4E5F-93C2-6793FF6C0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3F64-2213-4A8F-8D0D-C26C6F7DC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F1259-11AA-4502-9F10-EF963756D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68E9A-73D2-416E-A99C-46E93FFC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5982E-1A80-4FAC-BCD6-724AFFED4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990D2-60D5-48E1-A007-56BC2BBE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5DB4E-BBD2-4F7E-AA57-15DDD5D60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0828D-098F-49AE-BCCC-37D5F58F0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8AD53-9547-4DB6-BDCE-35D587BC5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F7A9-7070-42B2-8510-3B9DA2203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C234-66E0-4D39-991B-4DD58F7EC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1B4F-6E75-459A-8E71-8DD46742A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30FC-988C-4CFA-AD5A-241EE54A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E8F4-B3C6-4161-886D-40A8A3AA7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4B30-AEFB-4201-A093-149BBCECA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5CFD1-A7BC-427B-8238-4143BFC3A6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3505320" y="188640"/>
            <a:ext cx="2133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3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E88AE-A9C2-487A-9367-908F9BAC0A4A}" type="slidenum"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4557600" y="1052640"/>
            <a:ext cx="28800" cy="580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17"/>
          <p:cNvSpPr/>
          <p:nvPr/>
        </p:nvSpPr>
        <p:spPr>
          <a:xfrm>
            <a:off x="468360" y="2349360"/>
            <a:ext cx="3743280" cy="215928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8"/>
          <p:cNvSpPr/>
          <p:nvPr/>
        </p:nvSpPr>
        <p:spPr>
          <a:xfrm>
            <a:off x="4932360" y="2349360"/>
            <a:ext cx="3743280" cy="2159280"/>
          </a:xfrm>
          <a:prstGeom prst="rect">
            <a:avLst/>
          </a:prstGeom>
          <a:noFill/>
          <a:ln w="63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26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29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901FF-5DC9-462B-BB19-857C11674F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FRACTIONS : PROBLÈM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ÉRIE N°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Arial"/>
                <a:ea typeface="Arial"/>
              </a:rPr>
              <a:t>Répondre aux questions posées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7"/>
          <p:cNvSpPr/>
          <p:nvPr/>
        </p:nvSpPr>
        <p:spPr>
          <a:xfrm>
            <a:off x="0" y="177336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l y a 24 carrés dans une tablette de chocol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athilde a mangé     d’une tablet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Arial"/>
              </a:rPr>
              <a:t>Combien de carrés a-t-elle mangé 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8"/>
              <p:cNvSpPr txBox="1"/>
              <p:nvPr/>
            </p:nvSpPr>
            <p:spPr>
              <a:xfrm>
                <a:off x="4714920" y="3000240"/>
                <a:ext cx="463680" cy="11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5" name="Text Box 12"/>
          <p:cNvSpPr/>
          <p:nvPr/>
        </p:nvSpPr>
        <p:spPr>
          <a:xfrm>
            <a:off x="0" y="3603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Arial"/>
              </a:rPr>
              <a:t>Problème n°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7"/>
          <p:cNvSpPr/>
          <p:nvPr/>
        </p:nvSpPr>
        <p:spPr>
          <a:xfrm>
            <a:off x="0" y="1773360"/>
            <a:ext cx="91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ierre a eu 45 € pour son anniversai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l en a dépensé les     pour acheter un je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Arial"/>
              </a:rPr>
              <a:t>Combien coûte le jean que Pierre a acheté 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8"/>
              <p:cNvSpPr txBox="1"/>
              <p:nvPr/>
            </p:nvSpPr>
            <p:spPr>
              <a:xfrm>
                <a:off x="4108320" y="2970360"/>
                <a:ext cx="463680" cy="117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8" name="Text Box 12"/>
          <p:cNvSpPr/>
          <p:nvPr/>
        </p:nvSpPr>
        <p:spPr>
          <a:xfrm>
            <a:off x="0" y="3603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Arial"/>
              </a:rPr>
              <a:t>Problème n°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7"/>
          <p:cNvSpPr/>
          <p:nvPr/>
        </p:nvSpPr>
        <p:spPr>
          <a:xfrm>
            <a:off x="0" y="1773360"/>
            <a:ext cx="914400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ans une classe de 25 élèves,     des élè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ont enrhumés et dispensés de pisc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fr-FR" sz="3200" spc="-1" strike="noStrike">
                <a:solidFill>
                  <a:srgbClr val="000000"/>
                </a:solidFill>
                <a:latin typeface="Arial"/>
              </a:rPr>
              <a:t>Combien d’élèves iront à la piscine 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8"/>
              <p:cNvSpPr txBox="1"/>
              <p:nvPr/>
            </p:nvSpPr>
            <p:spPr>
              <a:xfrm>
                <a:off x="6143760" y="1898640"/>
                <a:ext cx="463320" cy="11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1" name="Text Box 12"/>
          <p:cNvSpPr/>
          <p:nvPr/>
        </p:nvSpPr>
        <p:spPr>
          <a:xfrm>
            <a:off x="0" y="3603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Arial"/>
              </a:rPr>
              <a:t>Problème n°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7"/>
          <p:cNvSpPr/>
          <p:nvPr/>
        </p:nvSpPr>
        <p:spPr>
          <a:xfrm>
            <a:off x="0" y="1773360"/>
            <a:ext cx="9144000" cy="33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ans une classe de 24 élèves,     des élèv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font de l’allemand, le reste fait de l’angla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Arial"/>
              </a:rPr>
              <a:t>Combien d’élèves font de l’anglai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fr-FR" sz="3200" spc="-1" strike="noStrike">
                <a:solidFill>
                  <a:srgbClr val="000000"/>
                </a:solidFill>
                <a:latin typeface="Arial"/>
              </a:rPr>
              <a:t>Combien d’élèves font de l'allemand 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8"/>
              <p:cNvSpPr txBox="1"/>
              <p:nvPr/>
            </p:nvSpPr>
            <p:spPr>
              <a:xfrm>
                <a:off x="6180120" y="1938240"/>
                <a:ext cx="463680" cy="11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4" name="Text Box 12"/>
          <p:cNvSpPr/>
          <p:nvPr/>
        </p:nvSpPr>
        <p:spPr>
          <a:xfrm>
            <a:off x="0" y="3603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Arial"/>
              </a:rPr>
              <a:t>Problème n°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7"/>
          <p:cNvSpPr/>
          <p:nvPr/>
        </p:nvSpPr>
        <p:spPr>
          <a:xfrm>
            <a:off x="0" y="1357200"/>
            <a:ext cx="9144000" cy="42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Dans un sachet de 36 bonbons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des bonbons sont aux fruits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des bonbons aux fruits sont au citr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600" spc="-1" strike="noStrike">
                <a:solidFill>
                  <a:srgbClr val="000000"/>
                </a:solidFill>
                <a:latin typeface="Arial"/>
              </a:rPr>
              <a:t>Combien y a-t-il de bonbons aux fruits dans ce paquet 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600" spc="-1" strike="noStrike">
                <a:solidFill>
                  <a:srgbClr val="000000"/>
                </a:solidFill>
                <a:latin typeface="Arial"/>
              </a:rPr>
              <a:t>Combien y a-t-il de bonbons au citron dans ce paquet 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8"/>
              <p:cNvSpPr txBox="1"/>
              <p:nvPr/>
            </p:nvSpPr>
            <p:spPr>
              <a:xfrm>
                <a:off x="2203560" y="2427120"/>
                <a:ext cx="43956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7" name="Text Box 12"/>
          <p:cNvSpPr/>
          <p:nvPr/>
        </p:nvSpPr>
        <p:spPr>
          <a:xfrm>
            <a:off x="0" y="3603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Arial"/>
              </a:rPr>
              <a:t>Problème n°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3"/>
              <p:cNvSpPr txBox="1"/>
              <p:nvPr/>
            </p:nvSpPr>
            <p:spPr>
              <a:xfrm>
                <a:off x="1579680" y="3214800"/>
                <a:ext cx="42048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151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ionseg</dc:creator>
  <dc:description/>
  <dc:language>en-US</dc:language>
  <cp:lastModifiedBy>Marionseg</cp:lastModifiedBy>
  <dcterms:modified xsi:type="dcterms:W3CDTF">2010-01-22T16:17:43Z</dcterms:modified>
  <cp:revision>26</cp:revision>
  <dc:subject/>
  <dc:title>PowerPoint Presentation</dc:title>
</cp:coreProperties>
</file>