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EDB5-A790-4D52-B049-F0A05F6294C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291C-9CA8-4C91-8122-CC38A05F90F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B1FE-149B-468E-B548-260E2C892AC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76FF-5FC6-44FA-92DF-1C73C465D2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D178-307E-4B61-B74A-C59E4F806B6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0B6D-FBC8-4000-BB2E-AB8381FB491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BCEA-4267-4D30-8C07-C68D210EDD3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7226-19EE-4458-8C9F-2A017F1ADEF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C9A9-2EFD-4E0C-86BD-DE34121B9B1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9E45-B3C9-4065-B144-9B50FBE68E8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DD2D-4823-475A-B05D-424D86180B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AFF4-FC7A-4B28-862B-EC21711D654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1B0D-605A-45B4-B34A-3A4574972F6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0724-80C6-4101-B02B-1B8F11B9D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597F-E1B0-4D93-A588-C6D5D775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3DD0-A11E-4705-81C8-A0E0AE8C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E458-6A24-4653-87F7-D161B723B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25FA-7522-4326-89C9-597FADCE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FF50-A25C-4EA3-BCF8-ED62E4BC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E63E-7400-4D0D-A18F-74A2F012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7584-77F0-498B-9418-EC7FE8B3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5CCD-E9B9-4D2E-902A-6F060FE8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4644-98C7-477B-82A9-C044E211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05A1-B4FF-43C3-BF9D-63A126F3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E668-A82D-470A-9AB2-A864A5C4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6467-2CCB-49A7-A65F-F3436877FB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877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ombres relatifs (2)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Série n°1</a:t>
            </a:r>
            <a:br>
              <a:rPr sz="6000"/>
            </a:br>
            <a:br>
              <a:rPr sz="6000"/>
            </a:b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Sachant que </a:t>
            </a:r>
            <a:r>
              <a:rPr b="1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n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est un nombre </a:t>
            </a:r>
            <a:r>
              <a:rPr b="1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négatif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 non nul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et </a:t>
            </a:r>
            <a:r>
              <a:rPr b="1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un nombre </a:t>
            </a:r>
            <a:r>
              <a:rPr b="1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positif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non nul,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donner le signe des expressions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lorsque cela est possible. 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11"/>
              <p:cNvSpPr txBox="1"/>
              <p:nvPr/>
            </p:nvSpPr>
            <p:spPr>
              <a:xfrm>
                <a:off x="3598920" y="3238560"/>
                <a:ext cx="21621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÷</m:t>
                    </m:r>
                    <m:r>
                      <m:t xml:space="preserve"> 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0"/>
              <p:cNvSpPr txBox="1"/>
              <p:nvPr/>
            </p:nvSpPr>
            <p:spPr>
              <a:xfrm>
                <a:off x="3778200" y="3238560"/>
                <a:ext cx="10508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²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br>
              <a:rPr sz="8000"/>
            </a:br>
            <a:br>
              <a:rPr sz="6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46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10"/>
              <p:cNvSpPr txBox="1"/>
              <p:nvPr/>
            </p:nvSpPr>
            <p:spPr>
              <a:xfrm>
                <a:off x="3598920" y="3238560"/>
                <a:ext cx="20984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11"/>
              <p:cNvSpPr txBox="1"/>
              <p:nvPr/>
            </p:nvSpPr>
            <p:spPr>
              <a:xfrm>
                <a:off x="3598920" y="3238560"/>
                <a:ext cx="217800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10"/>
              <p:cNvSpPr txBox="1"/>
              <p:nvPr/>
            </p:nvSpPr>
            <p:spPr>
              <a:xfrm>
                <a:off x="3598920" y="3238560"/>
                <a:ext cx="213840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10"/>
              <p:cNvSpPr txBox="1"/>
              <p:nvPr/>
            </p:nvSpPr>
            <p:spPr>
              <a:xfrm>
                <a:off x="3778200" y="3238560"/>
                <a:ext cx="139716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9"/>
              <p:cNvSpPr txBox="1"/>
              <p:nvPr/>
            </p:nvSpPr>
            <p:spPr>
              <a:xfrm>
                <a:off x="3778200" y="3238560"/>
                <a:ext cx="140328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12"/>
              <p:cNvSpPr txBox="1"/>
              <p:nvPr/>
            </p:nvSpPr>
            <p:spPr>
              <a:xfrm>
                <a:off x="3598920" y="3238560"/>
                <a:ext cx="20653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×</m:t>
                    </m:r>
                    <m:r>
                      <m:t xml:space="preserve"> 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0"/>
              <p:cNvSpPr txBox="1"/>
              <p:nvPr/>
            </p:nvSpPr>
            <p:spPr>
              <a:xfrm>
                <a:off x="3598920" y="3238560"/>
                <a:ext cx="208764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×</m:t>
                    </m:r>
                    <m:r>
                      <m:t xml:space="preserve"> 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12"/>
              <p:cNvSpPr txBox="1"/>
              <p:nvPr/>
            </p:nvSpPr>
            <p:spPr>
              <a:xfrm>
                <a:off x="3598920" y="3238560"/>
                <a:ext cx="212400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÷</m:t>
                    </m:r>
                    <m:r>
                      <m:t xml:space="preserve"> 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4:21:34Z</dcterms:created>
  <dc:creator>ms</dc:creator>
  <dc:description/>
  <dc:language>en-US</dc:language>
  <cp:lastModifiedBy>Marionseg</cp:lastModifiedBy>
  <dcterms:modified xsi:type="dcterms:W3CDTF">2010-01-22T16:45:07Z</dcterms:modified>
  <cp:revision>16</cp:revision>
  <dc:subject/>
  <dc:title>Nombres relatifs (2) Série n°1  Sachant que n est un nombre négatif et p un nombre positif donner le signe des expressions lorsque cela est possible   10 secondes par calcul</dc:title>
</cp:coreProperties>
</file>