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BD8B-69C3-4B98-9BB8-2D70B38D36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BFC0-4736-4A9F-A18E-9A2CD093E4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493D-55D5-42C9-B1A3-592A5826E4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0D56-907A-4DCA-A80D-308DEEFA04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9EC7-CC06-4091-A341-6B5D3DD9C6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2D26-06A2-4A0D-941B-CA12CBCD9A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88C5-E162-49C0-867C-0B17C3C428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FE89-C002-4E45-B730-67FA5A0610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C718-529A-46F8-BD27-D9E3CBA36E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1B14-E746-4E64-8A93-C8A8E3BE66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18D6-78C6-4AEE-8A50-F2D2B05A9C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73CF-543D-47AC-B23A-F7CCBDCB2A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62F9-3A48-40FF-95F4-7A50E5DA66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E7D1-3DE8-4462-A911-555FAA6CEF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7BA-9FEB-4C1E-B547-5DA801FF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994-813B-4B36-83F4-B6C6E082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8F5-E6FB-439F-A714-8A80769E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E4A-4077-44F0-AF9B-02C53790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2C6-8FAD-4310-89CB-58CC93CF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181-EF7E-4308-B89D-AB7359CD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835-59F0-4438-B2EB-5D37A3A7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AC99-7DAB-43F5-92F2-2F5D8B3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4F1-355C-4324-AFF2-25533CA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491-3877-490D-B757-8B8A3B5D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4BD-7A51-4215-81DF-7CC1DEE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44B-FD67-440E-98E4-3CE8BD4B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4A86-9E8C-4E27-B285-77DB929E6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IDENTITÉS REMARQUABLES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2338560" y="2158920"/>
                <a:ext cx="439092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92160" y="2517840"/>
                <a:ext cx="875484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2158920" y="2158920"/>
                <a:ext cx="4965840" cy="32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y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0000"/>
                </a:solidFill>
                <a:latin typeface="Calibri"/>
              </a:rPr>
              <a:t>Développer à l’aide des identités remarquables 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2282760" y="2517840"/>
                <a:ext cx="487224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2338560" y="2158920"/>
                <a:ext cx="403056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1020600" y="2517840"/>
                <a:ext cx="733140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-231840" y="2517840"/>
                <a:ext cx="943128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2338560" y="2158920"/>
                <a:ext cx="403056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2282760" y="2517840"/>
                <a:ext cx="504360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9600" y="2517840"/>
                <a:ext cx="9016920" cy="19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9:07:09Z</dcterms:created>
  <dc:creator>ms</dc:creator>
  <dc:description/>
  <dc:language>en-US</dc:language>
  <cp:lastModifiedBy>Marionseg</cp:lastModifiedBy>
  <dcterms:modified xsi:type="dcterms:W3CDTF">2010-01-17T20:09:54Z</dcterms:modified>
  <cp:revision>3</cp:revision>
  <dc:subject/>
  <dc:title>Identités remarquables (1) Série n°2</dc:title>
</cp:coreProperties>
</file>