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3D7F-98D4-44C4-A9F4-39917EB87B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2B25-B314-4ECA-A715-A4DFF03E26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7D03-1B4F-4352-B4AC-FAE466A4BE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C383-CCBB-46B6-A8C0-DF68B042C3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B56-2F32-4448-98F6-A27AD4D2C8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932C-4E3A-4E4B-A739-7A3FF91CFF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4382-8DC1-4B85-81E5-371DBBBB62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C28-94B0-4209-8956-6918F1828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69B-C479-4B35-8F7E-92761874D9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F7B4-D158-4C6E-B535-162A4B919A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561B-F241-425D-8BB3-92E53FA715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649-95BF-4A20-B789-82D2575637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5E25-A66C-4B9C-B59F-6D69F6E47D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729E-96FF-470F-9CE5-B2CB0503B7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1AD4-3D22-4202-B2C8-B0F8CBF7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EDD-717D-4B51-9883-FA43BA80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76B-7181-44C4-9FDB-3E1FE61B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341-842A-465D-84DC-5FD4306C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42BC-7D68-44EE-9801-47874DA1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33E-B893-45C1-9456-47FD3E49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C6B4-3C51-451E-BEBC-49D1683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6BB-91D0-42EA-93FF-83E06103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F5D-59B0-473B-A8FF-43B519B1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BCD-ABE2-4092-955B-3930CF3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0FD-4DA5-4A99-9C5C-63D849E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A10D-8E0B-4013-B484-BE4B7FD6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445-5E83-403A-A406-ABF1924CE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4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952560" y="2878200"/>
                <a:ext cx="730548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5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657360" y="2878200"/>
                <a:ext cx="789624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1320840" y="2878200"/>
                <a:ext cx="65689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8</m:t>
                    </m:r>
                    <m:r>
                      <m:t xml:space="preserve"> 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8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150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733320" y="2878200"/>
                <a:ext cx="7748640" cy="16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66600" y="2878200"/>
                <a:ext cx="907740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,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876240" y="2614680"/>
                <a:ext cx="7532640" cy="27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68400" y="2914560"/>
                <a:ext cx="907560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1428840" y="2614680"/>
                <a:ext cx="6429240" cy="27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,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878040" y="2803680"/>
                <a:ext cx="745308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843120" y="2803680"/>
                <a:ext cx="75261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6:22Z</dcterms:modified>
  <cp:revision>24</cp:revision>
  <dc:subject/>
  <dc:title>PowerPoint Presentation</dc:title>
</cp:coreProperties>
</file>