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0E62-BE87-4944-AB5B-982471F190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BADC-F464-48D6-A57E-3F185315DC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062E-B885-4F19-9DC4-14AE3740C9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5BC8-2357-452A-9DB2-81BDFA10AA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74DC-1230-41D8-A704-F888F310B2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FBEA-F662-47B6-8D59-F12CCC80BB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CFE8-C0FF-4822-91F4-90C75FBF3C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2FB0-1A5A-43F5-A7D8-768D52EAE2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DFA6-AFCC-4FF8-8194-A8EF8A9753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1E95-56BF-4F67-9EFF-0EE12D8578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9F22-6B50-4DA9-863D-654A0CB78B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E6BD-CD4B-4485-86EC-ADC040D549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5FD-7DA8-43A5-8117-E5718B16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9793-C38D-4DB0-8419-04C2F6CD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10C-F288-4FC5-8AC5-FD8E246B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3826-21EF-4758-BC8E-20ECF70D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E224-F292-444D-B4B1-55E5E7B0A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D953-3487-4A50-ACB1-D8642DF8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449E-E53D-485C-94B9-98B9C9B7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1171-7D6A-438D-8BEA-5B37AC3E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1BF1-A272-4F93-BA79-DACBA5FA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7336-5E80-4119-9218-1015FB90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F53B-FFDF-476B-9EBC-757DE3A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BCC-4CA9-4E09-8A02-07D6A8F6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BCE1-F4EA-4B38-B7F4-748CBB31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281D-7E59-41B2-92C6-36F0A199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04A9-5CE2-4DF3-A4A5-AC67965B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7642-5BC8-4DC5-864A-02A3CF15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EE95E-DD36-4E76-B912-DEBBE895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6E53A-4A9B-40C9-87D3-564FA71A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1EA6-7A92-4911-B5E2-56D60EEC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717BB-B9DF-4345-BC21-6B890A21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EF0B1-E3E0-483B-A5CA-8075877F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B290-0A75-4052-9B26-710B5362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4BD-1F83-46BE-B098-CCADCF2F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F71D4-09D0-4252-B197-FCAFF12A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4DEB4-308D-4153-BF90-EBB18880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6B2A-3601-4909-A42C-E6147DC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1AFF9-B038-4D0C-9819-C93D5D61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5B693-2C1A-49B4-A46B-6001D706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55373-5380-4AA3-9F48-8BDCD244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41DF4-EB33-4072-827E-A65EEC81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714-980F-440D-8E08-0D09F3C6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9D3-893E-4799-904C-62E5A684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B67F-4384-44F0-90D3-93ED3390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D4D-4569-43E8-8FC4-9EDCF982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7D3-E077-40B6-9811-EEAE5B3E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B2C-56A2-4E3B-B8C3-92FF7317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C49B-C776-487C-8DFA-22EA8901C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4330-D807-4AB6-9A1C-49D786CCCE15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05E9-9C1B-4918-ADAF-D2B921E62CC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MULTIPLICATION ET DIVISION PAR 10, …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1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2219400" y="2158920"/>
                <a:ext cx="47656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965240" y="2158920"/>
                <a:ext cx="52736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9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2473200" y="2158920"/>
                <a:ext cx="42562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916280" y="2158920"/>
                <a:ext cx="53751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5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MULTIPLICATION PAR DIX,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5002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  <a:ea typeface="Arial"/>
              </a:rPr>
              <a:t>Écrire la réponse au calcul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3179880" y="2158920"/>
                <a:ext cx="28414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2319480" y="2158920"/>
                <a:ext cx="456408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876400" y="2158920"/>
                <a:ext cx="34480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220840" y="2158920"/>
                <a:ext cx="476568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2195640" y="2158920"/>
                <a:ext cx="528624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666800" y="2158920"/>
                <a:ext cx="648972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23:38Z</dcterms:created>
  <dc:creator>Claudine Bertrand-Gorge</dc:creator>
  <dc:description/>
  <dc:language>en-US</dc:language>
  <cp:lastModifiedBy>Marionseg</cp:lastModifiedBy>
  <dcterms:modified xsi:type="dcterms:W3CDTF">2010-01-22T16:27:26Z</dcterms:modified>
  <cp:revision>27</cp:revision>
  <dc:subject/>
  <dc:title>Écrire le résultat</dc:title>
</cp:coreProperties>
</file>