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1C22-03CA-47E5-AC6A-91AE5FAFF52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7ECF-FCB0-4708-B7C4-9FD595CEA8F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0936-6432-45B5-AFB7-BA1331A248D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0A6F-AE45-44B1-AF97-134E7AD4DD4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4CB0-129C-4B15-B35F-1734655752A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CCB2-612E-457E-9E28-2C99D59D0EE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A29E-A370-4D84-8145-89FA31AF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A073-E04B-468E-978E-08E0B36E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8135-F008-4CFD-8188-1057F41F7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09E2-0954-4F7B-89E5-7C82F92A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BBF8-FE34-4AEE-8DB3-3E9D88B8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E367-54E2-4C6C-84B5-54282C1D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8AB7-CC62-4F5B-A999-7A4EEEA0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DE6C-981D-4490-ADD3-B26C05F6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B5DA-AA3B-4AF2-8877-626B2FB8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849A-B930-44BD-AB28-929248E4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6378-63B4-42F7-A8BC-A1004749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1B5B-992B-43E0-85BB-117B89FD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D18D-1B07-4239-BA5D-0069E6140C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 3" descr=""/>
          <p:cNvPicPr/>
          <p:nvPr/>
        </p:nvPicPr>
        <p:blipFill>
          <a:blip r:embed="rId1"/>
          <a:stretch/>
        </p:blipFill>
        <p:spPr>
          <a:xfrm>
            <a:off x="2340000" y="765000"/>
            <a:ext cx="4176720" cy="5400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 8" descr=""/>
          <p:cNvPicPr/>
          <p:nvPr/>
        </p:nvPicPr>
        <p:blipFill>
          <a:blip r:embed="rId1"/>
          <a:stretch/>
        </p:blipFill>
        <p:spPr>
          <a:xfrm>
            <a:off x="6732720" y="404640"/>
            <a:ext cx="2160360" cy="1568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c00000"/>
                </a:solidFill>
                <a:latin typeface="Calibri"/>
              </a:rPr>
              <a:t>Usain Bol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155736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cord du monde au 100 m 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oneTexte 3"/>
          <p:cNvSpPr/>
          <p:nvPr/>
        </p:nvSpPr>
        <p:spPr>
          <a:xfrm>
            <a:off x="0" y="3141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060"/>
                </a:solidFill>
                <a:latin typeface="Calibri"/>
              </a:rPr>
              <a:t>Pour le suivre sur sa course, nous pourrions utili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4"/>
          <p:cNvSpPr/>
          <p:nvPr/>
        </p:nvSpPr>
        <p:spPr>
          <a:xfrm>
            <a:off x="971640" y="386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A :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2060"/>
                </a:solidFill>
                <a:latin typeface="Calibri"/>
              </a:rPr>
              <a:t>un vé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5"/>
          <p:cNvSpPr/>
          <p:nvPr/>
        </p:nvSpPr>
        <p:spPr>
          <a:xfrm>
            <a:off x="4716360" y="386064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B :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2060"/>
                </a:solidFill>
                <a:latin typeface="Calibri"/>
              </a:rPr>
              <a:t>un sc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6"/>
          <p:cNvSpPr/>
          <p:nvPr/>
        </p:nvSpPr>
        <p:spPr>
          <a:xfrm>
            <a:off x="990720" y="495288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C :</a:t>
            </a: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2060"/>
                </a:solidFill>
                <a:latin typeface="Calibri"/>
              </a:rPr>
              <a:t>une voi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7"/>
          <p:cNvSpPr/>
          <p:nvPr/>
        </p:nvSpPr>
        <p:spPr>
          <a:xfrm>
            <a:off x="4716360" y="4941720"/>
            <a:ext cx="37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D : </a:t>
            </a:r>
            <a:r>
              <a:rPr b="0" lang="fr-FR" sz="3200" spc="-1" strike="noStrike">
                <a:solidFill>
                  <a:srgbClr val="002060"/>
                </a:solidFill>
                <a:latin typeface="Calibri"/>
              </a:rPr>
              <a:t>la Red Bull de Sebastian Vet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9"/>
          <p:cNvSpPr/>
          <p:nvPr/>
        </p:nvSpPr>
        <p:spPr>
          <a:xfrm>
            <a:off x="3059280" y="22766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9 s 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ZoneTexte 3"/>
          <p:cNvSpPr/>
          <p:nvPr/>
        </p:nvSpPr>
        <p:spPr>
          <a:xfrm>
            <a:off x="611280" y="765000"/>
            <a:ext cx="79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ur la feuille blanch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près avoir noté tes nom et préno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u rédigeras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une argumentatio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justifiant le choix de ta répo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après recherche sur le brouill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on texte devra être suffisamment cla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ur être projeté et présenté à la cl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68000" y="69228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ar groupes de trois ou quatre, échangez vos productions et choisissez la mieux about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l peut être envisagé de faire une nouvelle copie commune regroupant plusieurs idé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rapporteur sera désigné pour présenter votre réponse à la clas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olong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1) Selon vous, Usain cour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2 fois plus vite que vous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3 fois plus vite que vous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4 fois plus vite que vous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10 fois plus vite que vous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2) En courant le 100 m à ses côtés, quelle distance auriez-vous couru lorsque Usain franchit la ligne d’arrivée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3) Les records d’Usain : 100 m : 9 s 58  ;  200 m : 19 s 19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Est-il plus rapide sur le 100 m ou le 200 m 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18:56:15Z</dcterms:created>
  <dc:creator>COVINHES</dc:creator>
  <dc:description/>
  <dc:language>en-US</dc:language>
  <cp:lastModifiedBy>maman</cp:lastModifiedBy>
  <dcterms:modified xsi:type="dcterms:W3CDTF">2012-07-03T16:55:40Z</dcterms:modified>
  <cp:revision>14</cp:revision>
  <dc:subject/>
  <dc:title>Diapositive 1</dc:title>
</cp:coreProperties>
</file>