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79E4-640A-4086-BFA0-8250967A9F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7C52-01C0-4399-B2C4-B272F24FD7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C11D-9197-4578-B88B-E35A8A32C7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ADF-FD44-4A4A-922F-30592676EC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3B8-09D4-459E-B34F-08206CB164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7E81-07A8-4E68-87FE-C38F0BECD0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77E-B2A8-4BC6-B728-707EC91EBC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74DF-43E3-4870-8F1B-80959CFE52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1D6-B046-490C-B9F2-2E983921CA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52B-4A83-41D2-BAFD-244F708DAD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F80-DADD-4F4A-9F8B-E99E5C3F03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12BB-5648-4DAD-8C49-A1F2FE5C34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4D3-6804-4E3F-80DD-01E870C8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75E-BEC7-42F3-9BFA-81426743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A8F-DF1E-4957-A4C8-B3DB56E7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F91-806C-4D3F-9BE6-297CDA8B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20C-CEE3-46F7-8CBF-4E80AE3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0A4-B080-4C81-8551-A54E17B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B35-456D-4D75-8AA8-948DFFF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39D-93A9-458F-9334-C725E35A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47A-6287-4F60-967F-CA8BF229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9C1-CA97-4335-BA71-081D6EB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91C-8FC4-4FE9-872B-62037EE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3D0-DACD-4D9E-9F0A-5771D2B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C86-5A52-4626-850F-6F96C5E67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" y="1844280"/>
            <a:ext cx="91234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0520" y="4508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3181320" cy="260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gments orange partagent le cercle trigonométrique en douze angles de 30° et les segments verts en huit angles de 45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eogebra"/>
          <p:cNvPicPr/>
          <p:nvPr/>
        </p:nvPicPr>
        <p:blipFill>
          <a:blip r:embed="rId2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er chacun des nombr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és à un point du cer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eogebra"/>
          <p:cNvPicPr/>
          <p:nvPr/>
        </p:nvPicPr>
        <p:blipFill>
          <a:blip r:embed="rId2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573120" y="2541600"/>
            <a:ext cx="2962080" cy="237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59" name="Flèche courbée vers le haut 3"/>
          <p:cNvSpPr/>
          <p:nvPr/>
        </p:nvSpPr>
        <p:spPr>
          <a:xfrm>
            <a:off x="2050920" y="3728880"/>
            <a:ext cx="1258920" cy="576360"/>
          </a:xfrm>
          <a:custGeom>
            <a:avLst/>
            <a:gdLst>
              <a:gd name="textAreaLeft" fmla="*/ 260640 w 1258920"/>
              <a:gd name="textAreaRight" fmla="*/ 926280 w 1258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-3483591"/>
                <a:lnTo>
                  <a:pt x="21316" y="5400"/>
                </a:lnTo>
                <a:lnTo>
                  <a:pt x="19128" y="0"/>
                </a:lnTo>
                <a:lnTo>
                  <a:pt x="16372" y="5400"/>
                </a:lnTo>
                <a:lnTo>
                  <a:pt x="17608" y="5400"/>
                </a:lnTo>
                <a:arcTo wR="8946" hR="21600" stAng="1916409" swAng="3285191"/>
                <a:lnTo>
                  <a:pt x="10182" y="21393"/>
                </a:lnTo>
                <a:arcTo wR="8946" hR="21600" stAng="5598400" swAng="5201600"/>
                <a:close/>
              </a:path>
              <a:path fill="darkenLess"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198400"/>
                <a:lnTo>
                  <a:pt x="10182" y="21393"/>
                </a:lnTo>
                <a:arcTo wR="8946" hR="21600" stAng="5598400" swAng="5201600"/>
                <a:close/>
              </a:path>
            </a:pathLst>
          </a:cu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Espace réservé du contenu 2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962440" cy="23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469800" y="2335320"/>
            <a:ext cx="3102120" cy="253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2:28Z</dcterms:modified>
  <cp:revision>18</cp:revision>
  <dc:subject/>
  <dc:title>Trigonométrie Série n°1</dc:title>
</cp:coreProperties>
</file>