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17.wmf" ContentType="image/x-wmf"/>
  <Override PartName="/ppt/media/image7.png" ContentType="image/png"/>
  <Override PartName="/ppt/media/image22.png" ContentType="image/png"/>
  <Override PartName="/ppt/media/image21.wmf" ContentType="image/x-wmf"/>
  <Override PartName="/ppt/media/image4.wmf" ContentType="image/x-wmf"/>
  <Override PartName="/ppt/media/image5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23A0-4896-4D12-A3A1-FFF23553B4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15B5-35C4-4F66-91AA-FF65974E09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83B5-8691-4A15-A7B5-CA1A08B9CF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858B-993B-457D-9D05-9478337F40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821-4504-4F01-ABD1-F3EC887824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AFA-26AA-495B-8487-65AA384E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E95-9DDC-4811-B364-8C9EB179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B08-C466-4549-A8D7-05111B34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C8C-7158-4128-B173-FE203AD4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E85-BCBD-4C69-8B4D-B95BCA7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357-CEC4-4BCB-B989-430C787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7C4-A972-49D2-B119-6817D962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395-AAB7-4ED1-9956-AF78F32B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6B5-A051-4DC5-8903-6731739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19C-3C08-4C7E-BCF6-43557B3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6BD-864F-41E6-89CC-BF1F3D6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BFF-8B07-4FA0-9C3A-24C5AD3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8889-87BB-4037-BEF2-CFE0EF7CF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" y="1844280"/>
            <a:ext cx="91234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0520" y="4508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1268280"/>
            <a:ext cx="9124920" cy="550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2"/>
          <a:stretch/>
        </p:blipFill>
        <p:spPr>
          <a:xfrm>
            <a:off x="0" y="1989000"/>
            <a:ext cx="86612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-33480" y="1389240"/>
            <a:ext cx="5667480" cy="5468760"/>
          </a:xfrm>
          <a:prstGeom prst="rect">
            <a:avLst/>
          </a:prstGeom>
          <a:ln w="0">
            <a:noFill/>
          </a:ln>
        </p:spPr>
      </p:pic>
      <p:pic>
        <p:nvPicPr>
          <p:cNvPr id="80" name="Espace réservé du contenu 2" descr=""/>
          <p:cNvPicPr/>
          <p:nvPr/>
        </p:nvPicPr>
        <p:blipFill>
          <a:blip r:embed="rId2"/>
          <a:stretch/>
        </p:blipFill>
        <p:spPr>
          <a:xfrm>
            <a:off x="5029200" y="2206800"/>
            <a:ext cx="4157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320" y="189000"/>
            <a:ext cx="912168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Espace réservé du contenu 2" descr=""/>
          <p:cNvPicPr/>
          <p:nvPr/>
        </p:nvPicPr>
        <p:blipFill>
          <a:blip r:embed="rId1"/>
          <a:stretch/>
        </p:blipFill>
        <p:spPr>
          <a:xfrm>
            <a:off x="566640" y="1127160"/>
            <a:ext cx="8291520" cy="5749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2320" y="1978200"/>
            <a:ext cx="88581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15796" t="2716" r="27457" b="20267"/>
          <a:stretch/>
        </p:blipFill>
        <p:spPr>
          <a:xfrm>
            <a:off x="90360" y="-27000"/>
            <a:ext cx="4552920" cy="7035840"/>
          </a:xfrm>
          <a:prstGeom prst="rect">
            <a:avLst/>
          </a:prstGeom>
          <a:ln w="0">
            <a:noFill/>
          </a:ln>
        </p:spPr>
      </p:pic>
      <p:pic>
        <p:nvPicPr>
          <p:cNvPr id="86" name="Espace réservé du contenu 2" descr=""/>
          <p:cNvPicPr/>
          <p:nvPr/>
        </p:nvPicPr>
        <p:blipFill>
          <a:blip r:embed="rId2"/>
          <a:stretch/>
        </p:blipFill>
        <p:spPr>
          <a:xfrm>
            <a:off x="4857840" y="1987560"/>
            <a:ext cx="38415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inus, cosinus et tangente d’un angle aig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335772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Faut-il utiliser le cosinus, le sinus ou la tangente pour déterminer u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mesure de l’angle nommé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4425840" y="2206800"/>
            <a:ext cx="4346640" cy="402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rcRect l="8064" t="6244" r="11289" b="14658"/>
          <a:stretch/>
        </p:blipFill>
        <p:spPr>
          <a:xfrm>
            <a:off x="-6480" y="2133720"/>
            <a:ext cx="5786640" cy="439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5148360" y="4657680"/>
            <a:ext cx="3095640" cy="936720"/>
          </a:xfrm>
          <a:prstGeom prst="rect">
            <a:avLst/>
          </a:prstGeom>
          <a:solidFill>
            <a:srgbClr val="d6009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Sin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189000"/>
            <a:ext cx="91314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5078520" y="234648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rcRect l="9301" t="5626" r="2323" b="-1857"/>
          <a:stretch/>
        </p:blipFill>
        <p:spPr>
          <a:xfrm>
            <a:off x="12600" y="965160"/>
            <a:ext cx="6500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space réservé du contenu 2" descr=""/>
          <p:cNvPicPr/>
          <p:nvPr/>
        </p:nvPicPr>
        <p:blipFill>
          <a:blip r:embed="rId1"/>
          <a:stretch/>
        </p:blipFill>
        <p:spPr>
          <a:xfrm>
            <a:off x="5078520" y="234648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rcRect l="2387" t="4759" r="5003" b="6349"/>
          <a:stretch/>
        </p:blipFill>
        <p:spPr>
          <a:xfrm>
            <a:off x="108000" y="1484280"/>
            <a:ext cx="91854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space réservé du contenu 2" descr=""/>
          <p:cNvPicPr/>
          <p:nvPr/>
        </p:nvPicPr>
        <p:blipFill>
          <a:blip r:embed="rId1"/>
          <a:stretch/>
        </p:blipFill>
        <p:spPr>
          <a:xfrm>
            <a:off x="5078520" y="234648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8078" t="6944" r="22223" b="4166"/>
          <a:stretch/>
        </p:blipFill>
        <p:spPr>
          <a:xfrm>
            <a:off x="324000" y="836640"/>
            <a:ext cx="62863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2" descr=""/>
          <p:cNvPicPr/>
          <p:nvPr/>
        </p:nvPicPr>
        <p:blipFill>
          <a:blip r:embed="rId1"/>
          <a:stretch/>
        </p:blipFill>
        <p:spPr>
          <a:xfrm>
            <a:off x="4932360" y="227340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4805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Espace réservé du contenu 2" descr=""/>
          <p:cNvPicPr/>
          <p:nvPr/>
        </p:nvPicPr>
        <p:blipFill>
          <a:blip r:embed="rId1"/>
          <a:stretch/>
        </p:blipFill>
        <p:spPr>
          <a:xfrm>
            <a:off x="5364000" y="2206800"/>
            <a:ext cx="3621240" cy="338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79280" y="1994040"/>
            <a:ext cx="59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Espace réservé du contenu 2" descr=""/>
          <p:cNvPicPr/>
          <p:nvPr/>
        </p:nvPicPr>
        <p:blipFill>
          <a:blip r:embed="rId1"/>
          <a:stretch/>
        </p:blipFill>
        <p:spPr>
          <a:xfrm>
            <a:off x="5651640" y="1219320"/>
            <a:ext cx="3620880" cy="338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-2054" t="13387" r="9278" b="9890"/>
          <a:stretch/>
        </p:blipFill>
        <p:spPr>
          <a:xfrm>
            <a:off x="-900000" y="1052640"/>
            <a:ext cx="8712000" cy="580860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3"/>
          <p:cNvSpPr/>
          <p:nvPr/>
        </p:nvSpPr>
        <p:spPr>
          <a:xfrm>
            <a:off x="3348000" y="59500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t TY = 2,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7-12T08:02:54Z</dcterms:modified>
  <cp:revision>44</cp:revision>
  <dc:subject/>
  <dc:title>Trigonométrie Série n°1</dc:title>
</cp:coreProperties>
</file>