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41B5-63B7-4942-9865-AEEFFC6095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9D03-955B-4A12-B261-7B3653EEF4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A778-650B-4C79-A0B8-B64C3F96B9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DCBA-EA82-4317-8D74-228DCB8639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FF29-0A27-4ECF-BACB-FE0D01C424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76DE-034B-4B0A-AA1B-ED619F584B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E59A-4D1F-4587-A560-1202EB500B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7A01-869A-4F67-96EE-BDF608ABF2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F65B-6B5F-453B-B9B4-0BB937DD6E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4CE3-3687-4FF8-93B0-1856ED04C3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9E5E-03B5-44B2-9BC5-5C363AB991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C674-F942-4905-9BC0-A2E667C38B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AF5E-6DE5-4CA3-9199-C062DC1567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FA18-A989-43CC-9730-097F9FB173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C8EB-8D7E-4771-9D64-40D46531F4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59F1-0736-4877-81F2-D854FCC4B6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0C27-C682-4EF7-98AF-89A1AF3CAB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812F-6C0E-4B52-9B17-863AA322C0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A22C-8202-4EA5-AC93-B4F0E80B67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2688-CB7B-4185-9BD0-8B8DB3A345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45E4-E70E-4B3B-97BD-B9F3F56CCA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9902-9D51-4E9E-B6F4-CDA1CA1D70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770E-DF43-47FA-98BF-8355F80D2F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4E5-6318-40F9-8FFD-B8AFA57D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BD3-5640-4618-B25B-BB34D162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C7F-FBD0-4066-A1CE-AA2F180A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950-CA79-438B-909E-F2001168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999-BE49-4D7E-A71E-363CECA6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C12-4A84-4109-B431-A6A29E32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0D8-E771-4C9E-B75F-1016049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6ED-2623-4501-B719-35409952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157-F54A-4DBA-BFAE-18B1775B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CE6-FD0F-45DF-952C-5D89341E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D54-9AD0-4D8E-A0AE-91BBAE10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DB6-E0E7-4EBF-A666-F3E48838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838C-6B22-43F9-8BC1-51590DAF6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58136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2206800"/>
            <a:ext cx="2963880" cy="251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2962080" cy="253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2206800"/>
            <a:ext cx="2963880" cy="2371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2262240"/>
            <a:ext cx="3036960" cy="251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206800"/>
            <a:ext cx="3035160" cy="251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Espace réservé du contenu 2" descr=""/>
          <p:cNvPicPr/>
          <p:nvPr/>
        </p:nvPicPr>
        <p:blipFill>
          <a:blip r:embed="rId1"/>
          <a:stretch/>
        </p:blipFill>
        <p:spPr>
          <a:xfrm>
            <a:off x="165240" y="2335320"/>
            <a:ext cx="2962080" cy="237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3"/>
          <p:cNvSpPr/>
          <p:nvPr/>
        </p:nvSpPr>
        <p:spPr>
          <a:xfrm>
            <a:off x="395280" y="4508640"/>
            <a:ext cx="2664000" cy="1987560"/>
          </a:xfrm>
          <a:prstGeom prst="wedgeRoundRectCallout">
            <a:avLst>
              <a:gd name="adj1" fmla="val 251717"/>
              <a:gd name="adj2" fmla="val -91962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ZoneTexte 4" descr=""/>
          <p:cNvPicPr/>
          <p:nvPr/>
        </p:nvPicPr>
        <p:blipFill>
          <a:blip r:embed="rId3"/>
          <a:stretch/>
        </p:blipFill>
        <p:spPr>
          <a:xfrm>
            <a:off x="360360" y="5010120"/>
            <a:ext cx="27367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Espace réservé du contenu 2" descr=""/>
          <p:cNvPicPr/>
          <p:nvPr/>
        </p:nvPicPr>
        <p:blipFill>
          <a:blip r:embed="rId1"/>
          <a:stretch/>
        </p:blipFill>
        <p:spPr>
          <a:xfrm>
            <a:off x="165240" y="2335320"/>
            <a:ext cx="296208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à coins arrondis 3"/>
          <p:cNvSpPr/>
          <p:nvPr/>
        </p:nvSpPr>
        <p:spPr>
          <a:xfrm>
            <a:off x="0" y="4508640"/>
            <a:ext cx="3419640" cy="1987560"/>
          </a:xfrm>
          <a:prstGeom prst="wedgeRoundRectCallout">
            <a:avLst>
              <a:gd name="adj1" fmla="val 46726"/>
              <a:gd name="adj2" fmla="val -92662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ZoneTexte 4" descr=""/>
          <p:cNvPicPr/>
          <p:nvPr/>
        </p:nvPicPr>
        <p:blipFill>
          <a:blip r:embed="rId3"/>
          <a:stretch/>
        </p:blipFill>
        <p:spPr>
          <a:xfrm>
            <a:off x="-255600" y="5010120"/>
            <a:ext cx="392580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1554120"/>
            <a:ext cx="2963880" cy="2524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à coins arrondis 3"/>
          <p:cNvSpPr/>
          <p:nvPr/>
        </p:nvSpPr>
        <p:spPr>
          <a:xfrm>
            <a:off x="174600" y="4232160"/>
            <a:ext cx="3024360" cy="2509920"/>
          </a:xfrm>
          <a:prstGeom prst="wedgeRoundRectCallout">
            <a:avLst>
              <a:gd name="adj1" fmla="val 135296"/>
              <a:gd name="adj2" fmla="val 32986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ZoneTexte 4" descr=""/>
          <p:cNvPicPr/>
          <p:nvPr/>
        </p:nvPicPr>
        <p:blipFill>
          <a:blip r:embed="rId3"/>
          <a:stretch/>
        </p:blipFill>
        <p:spPr>
          <a:xfrm>
            <a:off x="304920" y="4230720"/>
            <a:ext cx="28954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Espace réservé du contenu 2" descr=""/>
          <p:cNvPicPr/>
          <p:nvPr/>
        </p:nvPicPr>
        <p:blipFill>
          <a:blip r:embed="rId1"/>
          <a:stretch/>
        </p:blipFill>
        <p:spPr>
          <a:xfrm>
            <a:off x="133200" y="1627200"/>
            <a:ext cx="2963880" cy="2378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à coins arrondis 3"/>
          <p:cNvSpPr/>
          <p:nvPr/>
        </p:nvSpPr>
        <p:spPr>
          <a:xfrm>
            <a:off x="0" y="4268880"/>
            <a:ext cx="3419640" cy="2589120"/>
          </a:xfrm>
          <a:prstGeom prst="wedgeRoundRectCallout">
            <a:avLst>
              <a:gd name="adj1" fmla="val 120055"/>
              <a:gd name="adj2" fmla="val -182384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oneTexte 4" descr=""/>
          <p:cNvPicPr/>
          <p:nvPr/>
        </p:nvPicPr>
        <p:blipFill>
          <a:blip r:embed="rId3"/>
          <a:stretch/>
        </p:blipFill>
        <p:spPr>
          <a:xfrm>
            <a:off x="-115920" y="4267080"/>
            <a:ext cx="341964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segments orange partagent le cercle trigonométrique en douze angles de 30° et les segments verts en huit angles de 45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geogebra"/>
          <p:cNvPicPr/>
          <p:nvPr/>
        </p:nvPicPr>
        <p:blipFill>
          <a:blip r:embed="rId1"/>
          <a:stretch/>
        </p:blipFill>
        <p:spPr>
          <a:xfrm>
            <a:off x="1835280" y="1601640"/>
            <a:ext cx="5484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Espace réservé du contenu 2" descr=""/>
          <p:cNvPicPr/>
          <p:nvPr/>
        </p:nvPicPr>
        <p:blipFill>
          <a:blip r:embed="rId1"/>
          <a:stretch/>
        </p:blipFill>
        <p:spPr>
          <a:xfrm>
            <a:off x="133200" y="1627200"/>
            <a:ext cx="2963880" cy="245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à coins arrondis 3"/>
          <p:cNvSpPr/>
          <p:nvPr/>
        </p:nvSpPr>
        <p:spPr>
          <a:xfrm>
            <a:off x="0" y="4083120"/>
            <a:ext cx="3203640" cy="2647800"/>
          </a:xfrm>
          <a:prstGeom prst="wedgeRoundRectCallout">
            <a:avLst>
              <a:gd name="adj1" fmla="val 85675"/>
              <a:gd name="adj2" fmla="val 18888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ZoneTexte 4" descr=""/>
          <p:cNvPicPr/>
          <p:nvPr/>
        </p:nvPicPr>
        <p:blipFill>
          <a:blip r:embed="rId3"/>
          <a:stretch/>
        </p:blipFill>
        <p:spPr>
          <a:xfrm>
            <a:off x="-103320" y="4095720"/>
            <a:ext cx="34196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Espace réservé du contenu 2" descr=""/>
          <p:cNvPicPr/>
          <p:nvPr/>
        </p:nvPicPr>
        <p:blipFill>
          <a:blip r:embed="rId1"/>
          <a:stretch/>
        </p:blipFill>
        <p:spPr>
          <a:xfrm>
            <a:off x="133200" y="1627200"/>
            <a:ext cx="2963880" cy="245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à coins arrondis 3"/>
          <p:cNvSpPr/>
          <p:nvPr/>
        </p:nvSpPr>
        <p:spPr>
          <a:xfrm>
            <a:off x="0" y="4083120"/>
            <a:ext cx="3564000" cy="2647800"/>
          </a:xfrm>
          <a:prstGeom prst="wedgeRoundRectCallout">
            <a:avLst>
              <a:gd name="adj1" fmla="val 151388"/>
              <a:gd name="adj2" fmla="val 20981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ZoneTexte 4" descr=""/>
          <p:cNvPicPr/>
          <p:nvPr/>
        </p:nvPicPr>
        <p:blipFill>
          <a:blip r:embed="rId3"/>
          <a:stretch/>
        </p:blipFill>
        <p:spPr>
          <a:xfrm>
            <a:off x="-152280" y="4095720"/>
            <a:ext cx="3882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Espace réservé du contenu 2" descr=""/>
          <p:cNvPicPr/>
          <p:nvPr/>
        </p:nvPicPr>
        <p:blipFill>
          <a:blip r:embed="rId1"/>
          <a:stretch/>
        </p:blipFill>
        <p:spPr>
          <a:xfrm>
            <a:off x="304920" y="1627200"/>
            <a:ext cx="2962080" cy="245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à coins arrondis 3"/>
          <p:cNvSpPr/>
          <p:nvPr/>
        </p:nvSpPr>
        <p:spPr>
          <a:xfrm>
            <a:off x="179280" y="4083120"/>
            <a:ext cx="3168720" cy="2647800"/>
          </a:xfrm>
          <a:prstGeom prst="wedgeRoundRectCallout">
            <a:avLst>
              <a:gd name="adj1" fmla="val 62620"/>
              <a:gd name="adj2" fmla="val 8949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ZoneTexte 4" descr=""/>
          <p:cNvPicPr/>
          <p:nvPr/>
        </p:nvPicPr>
        <p:blipFill>
          <a:blip r:embed="rId3"/>
          <a:stretch/>
        </p:blipFill>
        <p:spPr>
          <a:xfrm>
            <a:off x="-152280" y="4095720"/>
            <a:ext cx="3882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1627200"/>
            <a:ext cx="2963880" cy="2451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à coins arrondis 3"/>
          <p:cNvSpPr/>
          <p:nvPr/>
        </p:nvSpPr>
        <p:spPr>
          <a:xfrm>
            <a:off x="0" y="4083120"/>
            <a:ext cx="3348000" cy="2647800"/>
          </a:xfrm>
          <a:prstGeom prst="wedgeRoundRectCallout">
            <a:avLst>
              <a:gd name="adj1" fmla="val 68745"/>
              <a:gd name="adj2" fmla="val -137504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ZoneTexte 4" descr=""/>
          <p:cNvPicPr/>
          <p:nvPr/>
        </p:nvPicPr>
        <p:blipFill>
          <a:blip r:embed="rId3"/>
          <a:stretch/>
        </p:blipFill>
        <p:spPr>
          <a:xfrm>
            <a:off x="-268200" y="4108320"/>
            <a:ext cx="38894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1627200"/>
            <a:ext cx="2963880" cy="2451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à coins arrondis 3"/>
          <p:cNvSpPr/>
          <p:nvPr/>
        </p:nvSpPr>
        <p:spPr>
          <a:xfrm>
            <a:off x="108000" y="4221000"/>
            <a:ext cx="3095640" cy="2509920"/>
          </a:xfrm>
          <a:prstGeom prst="wedgeRoundRectCallout">
            <a:avLst>
              <a:gd name="adj1" fmla="val 60222"/>
              <a:gd name="adj2" fmla="val -124921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ZoneTexte 4" descr=""/>
          <p:cNvPicPr/>
          <p:nvPr/>
        </p:nvPicPr>
        <p:blipFill>
          <a:blip r:embed="rId3"/>
          <a:stretch/>
        </p:blipFill>
        <p:spPr>
          <a:xfrm>
            <a:off x="-285840" y="4194000"/>
            <a:ext cx="38880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1627200"/>
            <a:ext cx="2963880" cy="2451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à coins arrondis 3"/>
          <p:cNvSpPr/>
          <p:nvPr/>
        </p:nvSpPr>
        <p:spPr>
          <a:xfrm>
            <a:off x="108000" y="4221000"/>
            <a:ext cx="3168720" cy="2521080"/>
          </a:xfrm>
          <a:prstGeom prst="wedgeRoundRectCallout">
            <a:avLst>
              <a:gd name="adj1" fmla="val 207148"/>
              <a:gd name="adj2" fmla="val -18824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4" descr=""/>
          <p:cNvPicPr/>
          <p:nvPr/>
        </p:nvPicPr>
        <p:blipFill>
          <a:blip r:embed="rId3"/>
          <a:stretch/>
        </p:blipFill>
        <p:spPr>
          <a:xfrm>
            <a:off x="165240" y="4218120"/>
            <a:ext cx="3168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er chacun des nombr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nés à un point du cerc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geogebra"/>
          <p:cNvPicPr/>
          <p:nvPr/>
        </p:nvPicPr>
        <p:blipFill>
          <a:blip r:embed="rId1"/>
          <a:stretch/>
        </p:blipFill>
        <p:spPr>
          <a:xfrm>
            <a:off x="1835280" y="1601640"/>
            <a:ext cx="5484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Espace réservé du contenu 2" descr=""/>
          <p:cNvPicPr/>
          <p:nvPr/>
        </p:nvPicPr>
        <p:blipFill>
          <a:blip r:embed="rId1"/>
          <a:stretch/>
        </p:blipFill>
        <p:spPr>
          <a:xfrm>
            <a:off x="573120" y="2541600"/>
            <a:ext cx="2962080" cy="2378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57" name="Flèche courbée vers le haut 3"/>
          <p:cNvSpPr/>
          <p:nvPr/>
        </p:nvSpPr>
        <p:spPr>
          <a:xfrm>
            <a:off x="2050920" y="3728880"/>
            <a:ext cx="1258920" cy="576360"/>
          </a:xfrm>
          <a:custGeom>
            <a:avLst/>
            <a:gdLst>
              <a:gd name="textAreaLeft" fmla="*/ 260640 w 1258920"/>
              <a:gd name="textAreaRight" fmla="*/ 926280 w 12589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46" hR="21600" stAng="10800000" swAng="-5400000"/>
                <a:lnTo>
                  <a:pt x="11418" y="21600"/>
                </a:lnTo>
                <a:arcTo wR="8946" hR="21600" stAng="5400000" swAng="-3483591"/>
                <a:lnTo>
                  <a:pt x="21316" y="5400"/>
                </a:lnTo>
                <a:lnTo>
                  <a:pt x="19128" y="0"/>
                </a:lnTo>
                <a:lnTo>
                  <a:pt x="16372" y="5400"/>
                </a:lnTo>
                <a:lnTo>
                  <a:pt x="17608" y="5400"/>
                </a:lnTo>
                <a:arcTo wR="8946" hR="21600" stAng="1916409" swAng="3285191"/>
                <a:lnTo>
                  <a:pt x="10182" y="21393"/>
                </a:lnTo>
                <a:arcTo wR="8946" hR="21600" stAng="5598400" swAng="5201600"/>
                <a:close/>
              </a:path>
              <a:path fill="darkenLess" w="21600" h="21600">
                <a:moveTo>
                  <a:pt x="0" y="0"/>
                </a:moveTo>
                <a:arcTo wR="8946" hR="21600" stAng="10800000" swAng="-5400000"/>
                <a:lnTo>
                  <a:pt x="11418" y="21600"/>
                </a:lnTo>
                <a:arcTo wR="8946" hR="21600" stAng="5400000" swAng="198400"/>
                <a:lnTo>
                  <a:pt x="10182" y="21393"/>
                </a:lnTo>
                <a:arcTo wR="8946" hR="21600" stAng="5598400" swAng="5201600"/>
                <a:close/>
              </a:path>
            </a:pathLst>
          </a:cu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Espace réservé du contenu 2" descr=""/>
          <p:cNvPicPr/>
          <p:nvPr/>
        </p:nvPicPr>
        <p:blipFill>
          <a:blip r:embed="rId1"/>
          <a:stretch/>
        </p:blipFill>
        <p:spPr>
          <a:xfrm>
            <a:off x="109440" y="2494080"/>
            <a:ext cx="2962440" cy="23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Espace réservé du contenu 2" descr=""/>
          <p:cNvPicPr/>
          <p:nvPr/>
        </p:nvPicPr>
        <p:blipFill>
          <a:blip r:embed="rId1"/>
          <a:stretch/>
        </p:blipFill>
        <p:spPr>
          <a:xfrm>
            <a:off x="109440" y="2494080"/>
            <a:ext cx="2962440" cy="23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Espace réservé du contenu 2" descr=""/>
          <p:cNvPicPr/>
          <p:nvPr/>
        </p:nvPicPr>
        <p:blipFill>
          <a:blip r:embed="rId1"/>
          <a:stretch/>
        </p:blipFill>
        <p:spPr>
          <a:xfrm>
            <a:off x="249120" y="2189160"/>
            <a:ext cx="3036960" cy="266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Espace réservé du contenu 2" descr=""/>
          <p:cNvPicPr/>
          <p:nvPr/>
        </p:nvPicPr>
        <p:blipFill>
          <a:blip r:embed="rId1"/>
          <a:stretch/>
        </p:blipFill>
        <p:spPr>
          <a:xfrm>
            <a:off x="19080" y="2206800"/>
            <a:ext cx="2962080" cy="23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Espace réservé du contenu 2" descr=""/>
          <p:cNvPicPr/>
          <p:nvPr/>
        </p:nvPicPr>
        <p:blipFill>
          <a:blip r:embed="rId1"/>
          <a:stretch/>
        </p:blipFill>
        <p:spPr>
          <a:xfrm>
            <a:off x="396720" y="2206800"/>
            <a:ext cx="2962440" cy="266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8:43:32Z</dcterms:created>
  <dc:creator>auderi</dc:creator>
  <dc:description/>
  <dc:language>en-US</dc:language>
  <cp:lastModifiedBy>auderi</cp:lastModifiedBy>
  <dcterms:modified xsi:type="dcterms:W3CDTF">2016-07-12T08:01:59Z</dcterms:modified>
  <cp:revision>53</cp:revision>
  <dc:subject/>
  <dc:title>Trigonométrie Série n°1</dc:title>
</cp:coreProperties>
</file>