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9C8-BDE7-4D7D-BDDF-9DCF1CC7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283-DFD3-4DD2-94F1-66B955E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C8A-F094-4504-B291-62F512F4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671-110C-4947-9596-A23A0A1D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593-611E-43ED-8C60-B5DC96E1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28C-C718-4EBA-93CC-C5433A11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D45-6190-453B-84D4-698C276D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AF7-976F-4653-BFA8-5BBB726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773-78C5-4651-B21F-26285FD6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782-8EE2-4C90-80D3-64E247C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01F-25C9-4106-A6BC-DF9A6EA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E4A-62E8-494E-84A5-0F975A0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0A8-E007-4B39-A47B-7E740838F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Espace réservé du contenu 2" descr=""/>
          <p:cNvPicPr/>
          <p:nvPr/>
        </p:nvPicPr>
        <p:blipFill>
          <a:blip r:embed="rId1"/>
          <a:stretch/>
        </p:blipFill>
        <p:spPr>
          <a:xfrm>
            <a:off x="-30240" y="2176560"/>
            <a:ext cx="920448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-225360" y="2176560"/>
            <a:ext cx="9399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space réservé du contenu 2" descr=""/>
          <p:cNvPicPr/>
          <p:nvPr/>
        </p:nvPicPr>
        <p:blipFill>
          <a:blip r:embed="rId1"/>
          <a:stretch/>
        </p:blipFill>
        <p:spPr>
          <a:xfrm>
            <a:off x="-30240" y="2176560"/>
            <a:ext cx="920448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8720" y="2492280"/>
            <a:ext cx="91249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77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er sur sa feuille un cercle trigonométrique puis répondre aux questions suivant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146160" y="1957320"/>
            <a:ext cx="9259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Espace réservé du contenu 2" descr=""/>
          <p:cNvPicPr/>
          <p:nvPr/>
        </p:nvPicPr>
        <p:blipFill>
          <a:blip r:embed="rId1"/>
          <a:stretch/>
        </p:blipFill>
        <p:spPr>
          <a:xfrm>
            <a:off x="146160" y="1957320"/>
            <a:ext cx="9070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ce réservé du contenu 2" descr=""/>
          <p:cNvPicPr/>
          <p:nvPr/>
        </p:nvPicPr>
        <p:blipFill>
          <a:blip r:embed="rId1"/>
          <a:stretch/>
        </p:blipFill>
        <p:spPr>
          <a:xfrm>
            <a:off x="-92160" y="2176560"/>
            <a:ext cx="9345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2" descr=""/>
          <p:cNvPicPr/>
          <p:nvPr/>
        </p:nvPicPr>
        <p:blipFill>
          <a:blip r:embed="rId1"/>
          <a:stretch/>
        </p:blipFill>
        <p:spPr>
          <a:xfrm>
            <a:off x="-92160" y="2176560"/>
            <a:ext cx="93456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219240" y="1957320"/>
            <a:ext cx="8632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219240" y="1957320"/>
            <a:ext cx="8632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219240" y="1957320"/>
            <a:ext cx="87595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4-13T15:05:26Z</dcterms:modified>
  <cp:revision>57</cp:revision>
  <dc:subject/>
  <dc:title>Trigonométrie Série n°1</dc:title>
</cp:coreProperties>
</file>