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1E03-DF02-4C20-A8F5-B92761482E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5312-8C60-4778-A44D-7BF9CE7ABE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B24D-B21D-45D2-97BA-855024EC1E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50DB-1225-4524-9CE9-42FE5FA968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4182-604F-4102-8F08-1A4A430D25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E2D9-81A6-42F4-804D-1AD52E9B8B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4A5C-1E94-4B46-9871-0A89AA6AF7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6595-13B7-45DF-BF48-C7D7D0C725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9B8F-4700-4A6D-B3F8-D5C7087B18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73F6-D1E2-42B8-B4F8-D614B86894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24B2-6CFE-4121-AC60-A7C5E335D7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68D6-3BAA-4C0D-97C5-DEDDF2C954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C457-2B38-4D2F-8A8C-D37D40F507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2615-7579-42D8-B4C7-CFADADDFC9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B9ED-E849-4EC9-9A64-9C95E2E576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906C-3590-403A-8873-1E9863D518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E264-F05C-4877-A6B8-FB288DEBA3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2EE9-E307-4D77-9230-7A9553F862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B395-337D-41CE-A2D0-3DF2428A4B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9477-C294-4349-AAAD-B1D7E78D1D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FDB6-3F5B-4697-8F7C-64E3EB0FD5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8CD-6B35-4069-8428-E300851A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451-DA8F-436C-9D0D-18E36AE3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DD7-3617-40AC-B915-017CF97B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3A5-A0A8-45C7-95E7-9A58DD58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1A0-2DF8-4B40-A3A3-5207A7E2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2B9-5047-4C9D-B71C-5BB098F3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B7B-889D-4E6F-8194-0F5A8A91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A28-9EF2-469B-9DA0-63B32C84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112-CAE0-493B-9794-A53E7AE4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1ED-E4CE-41B1-9704-072B3D06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E32-430E-4BEC-BF66-D43E5D16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B65-3CD3-4FCF-BE36-C630E464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7202-1D84-4319-AEAD-E6B7ADA93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S 10 ET 10 BI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65300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340160"/>
            <a:ext cx="9229680" cy="2536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Tableau 1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303800"/>
            <a:ext cx="9229680" cy="2431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Tableau 1" descr="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157640"/>
            <a:ext cx="9229680" cy="2577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Tableau 1" descr=""/>
          <p:cNvPicPr/>
          <p:nvPr/>
        </p:nvPicPr>
        <p:blipFill>
          <a:blip r:embed="rId2"/>
          <a:stretch/>
        </p:blipFill>
        <p:spPr>
          <a:xfrm>
            <a:off x="0" y="-109440"/>
            <a:ext cx="91440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87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geogebra"/>
          <p:cNvPicPr/>
          <p:nvPr/>
        </p:nvPicPr>
        <p:blipFill>
          <a:blip r:embed="rId3"/>
          <a:stretch/>
        </p:blipFill>
        <p:spPr>
          <a:xfrm>
            <a:off x="1795320" y="1773360"/>
            <a:ext cx="69836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  <p:sp>
        <p:nvSpPr>
          <p:cNvPr id="94" name="Ellipse 6"/>
          <p:cNvSpPr/>
          <p:nvPr/>
        </p:nvSpPr>
        <p:spPr>
          <a:xfrm>
            <a:off x="2340000" y="620640"/>
            <a:ext cx="208764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llipse 7"/>
          <p:cNvSpPr/>
          <p:nvPr/>
        </p:nvSpPr>
        <p:spPr>
          <a:xfrm>
            <a:off x="2411280" y="5589720"/>
            <a:ext cx="2448000" cy="115236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  <p:sp>
        <p:nvSpPr>
          <p:cNvPr id="100" name="Ellipse 6"/>
          <p:cNvSpPr/>
          <p:nvPr/>
        </p:nvSpPr>
        <p:spPr>
          <a:xfrm>
            <a:off x="2411280" y="692280"/>
            <a:ext cx="208944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llipse 7"/>
          <p:cNvSpPr/>
          <p:nvPr/>
        </p:nvSpPr>
        <p:spPr>
          <a:xfrm>
            <a:off x="4745160" y="692280"/>
            <a:ext cx="208728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llipse 8"/>
          <p:cNvSpPr/>
          <p:nvPr/>
        </p:nvSpPr>
        <p:spPr>
          <a:xfrm>
            <a:off x="220680" y="692280"/>
            <a:ext cx="208908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llipse 9"/>
          <p:cNvSpPr/>
          <p:nvPr/>
        </p:nvSpPr>
        <p:spPr>
          <a:xfrm>
            <a:off x="2454120" y="5710320"/>
            <a:ext cx="1973520" cy="103176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12"/>
          <p:cNvSpPr/>
          <p:nvPr/>
        </p:nvSpPr>
        <p:spPr>
          <a:xfrm>
            <a:off x="4829040" y="5710320"/>
            <a:ext cx="1974960" cy="103176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llipse 13"/>
          <p:cNvSpPr/>
          <p:nvPr/>
        </p:nvSpPr>
        <p:spPr>
          <a:xfrm>
            <a:off x="250920" y="5710320"/>
            <a:ext cx="1974600" cy="103176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846680"/>
            <a:ext cx="9229680" cy="2030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Tableau 1" descr=""/>
          <p:cNvPicPr/>
          <p:nvPr/>
        </p:nvPicPr>
        <p:blipFill>
          <a:blip r:embed="rId2"/>
          <a:stretch/>
        </p:blipFill>
        <p:spPr>
          <a:xfrm>
            <a:off x="0" y="-12600"/>
            <a:ext cx="9150480" cy="2012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  <p:sp>
        <p:nvSpPr>
          <p:cNvPr id="110" name="Ellipse 6"/>
          <p:cNvSpPr/>
          <p:nvPr/>
        </p:nvSpPr>
        <p:spPr>
          <a:xfrm>
            <a:off x="6948360" y="907920"/>
            <a:ext cx="2087640" cy="93672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lipse 7"/>
          <p:cNvSpPr/>
          <p:nvPr/>
        </p:nvSpPr>
        <p:spPr>
          <a:xfrm>
            <a:off x="2411280" y="5805360"/>
            <a:ext cx="1974960" cy="86688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  <p:sp>
        <p:nvSpPr>
          <p:cNvPr id="116" name="Ellipse 6"/>
          <p:cNvSpPr/>
          <p:nvPr/>
        </p:nvSpPr>
        <p:spPr>
          <a:xfrm>
            <a:off x="2340000" y="620640"/>
            <a:ext cx="208764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llipse 7"/>
          <p:cNvSpPr/>
          <p:nvPr/>
        </p:nvSpPr>
        <p:spPr>
          <a:xfrm>
            <a:off x="4427640" y="620640"/>
            <a:ext cx="237636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llipse 8"/>
          <p:cNvSpPr/>
          <p:nvPr/>
        </p:nvSpPr>
        <p:spPr>
          <a:xfrm>
            <a:off x="6875640" y="620640"/>
            <a:ext cx="219708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llipse 9"/>
          <p:cNvSpPr/>
          <p:nvPr/>
        </p:nvSpPr>
        <p:spPr>
          <a:xfrm>
            <a:off x="2195640" y="5589720"/>
            <a:ext cx="2168280" cy="123480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llipse 10"/>
          <p:cNvSpPr/>
          <p:nvPr/>
        </p:nvSpPr>
        <p:spPr>
          <a:xfrm>
            <a:off x="4427640" y="5516640"/>
            <a:ext cx="2376360" cy="130788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llipse 11"/>
          <p:cNvSpPr/>
          <p:nvPr/>
        </p:nvSpPr>
        <p:spPr>
          <a:xfrm>
            <a:off x="6804000" y="5516640"/>
            <a:ext cx="2268720" cy="130788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846680"/>
            <a:ext cx="9229680" cy="2139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0" y="24512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Tableau 1" descr=""/>
          <p:cNvPicPr/>
          <p:nvPr/>
        </p:nvPicPr>
        <p:blipFill>
          <a:blip r:embed="rId2"/>
          <a:stretch/>
        </p:blipFill>
        <p:spPr>
          <a:xfrm>
            <a:off x="0" y="-12600"/>
            <a:ext cx="9150480" cy="211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  <p:sp>
        <p:nvSpPr>
          <p:cNvPr id="126" name="Ellipse 6"/>
          <p:cNvSpPr/>
          <p:nvPr/>
        </p:nvSpPr>
        <p:spPr>
          <a:xfrm>
            <a:off x="6948360" y="1052640"/>
            <a:ext cx="2087640" cy="792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llipse 7"/>
          <p:cNvSpPr/>
          <p:nvPr/>
        </p:nvSpPr>
        <p:spPr>
          <a:xfrm>
            <a:off x="250920" y="5962680"/>
            <a:ext cx="1974600" cy="86832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599840"/>
            <a:ext cx="9144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haque question, déterminer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ponses correctes 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181400"/>
            <a:ext cx="9229680" cy="2676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2719440"/>
          </a:xfrm>
          <a:prstGeom prst="rect">
            <a:avLst/>
          </a:prstGeom>
          <a:ln w="0">
            <a:noFill/>
          </a:ln>
        </p:spPr>
      </p:pic>
      <p:sp>
        <p:nvSpPr>
          <p:cNvPr id="131" name="Ellipse 6"/>
          <p:cNvSpPr/>
          <p:nvPr/>
        </p:nvSpPr>
        <p:spPr>
          <a:xfrm>
            <a:off x="250920" y="1538280"/>
            <a:ext cx="1873080" cy="102708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llipse 7"/>
          <p:cNvSpPr/>
          <p:nvPr/>
        </p:nvSpPr>
        <p:spPr>
          <a:xfrm>
            <a:off x="2627280" y="1538280"/>
            <a:ext cx="1800360" cy="102708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llipse 8"/>
          <p:cNvSpPr/>
          <p:nvPr/>
        </p:nvSpPr>
        <p:spPr>
          <a:xfrm>
            <a:off x="7236000" y="1538280"/>
            <a:ext cx="1728720" cy="102708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llipse 9"/>
          <p:cNvSpPr/>
          <p:nvPr/>
        </p:nvSpPr>
        <p:spPr>
          <a:xfrm>
            <a:off x="179280" y="5805360"/>
            <a:ext cx="1854360" cy="98136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llipse 10"/>
          <p:cNvSpPr/>
          <p:nvPr/>
        </p:nvSpPr>
        <p:spPr>
          <a:xfrm>
            <a:off x="2556000" y="5734080"/>
            <a:ext cx="1811160" cy="106200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llipse 11"/>
          <p:cNvSpPr/>
          <p:nvPr/>
        </p:nvSpPr>
        <p:spPr>
          <a:xfrm>
            <a:off x="7236000" y="5734080"/>
            <a:ext cx="1728720" cy="108900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267080"/>
            <a:ext cx="9229680" cy="2541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Tableau 1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2292480"/>
          </a:xfrm>
          <a:prstGeom prst="rect">
            <a:avLst/>
          </a:prstGeom>
          <a:ln w="0">
            <a:noFill/>
          </a:ln>
        </p:spPr>
      </p:pic>
      <p:sp>
        <p:nvSpPr>
          <p:cNvPr id="140" name="Ellipse 6"/>
          <p:cNvSpPr/>
          <p:nvPr/>
        </p:nvSpPr>
        <p:spPr>
          <a:xfrm>
            <a:off x="4716360" y="1197000"/>
            <a:ext cx="2087640" cy="107964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llipse 7"/>
          <p:cNvSpPr/>
          <p:nvPr/>
        </p:nvSpPr>
        <p:spPr>
          <a:xfrm>
            <a:off x="4721400" y="5516640"/>
            <a:ext cx="2109600" cy="122544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157640"/>
            <a:ext cx="9229680" cy="243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Tableau 1" descr="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2614680"/>
          </a:xfrm>
          <a:prstGeom prst="rect">
            <a:avLst/>
          </a:prstGeom>
          <a:ln w="0">
            <a:noFill/>
          </a:ln>
        </p:spPr>
      </p:pic>
      <p:sp>
        <p:nvSpPr>
          <p:cNvPr id="145" name="Ellipse 6"/>
          <p:cNvSpPr/>
          <p:nvPr/>
        </p:nvSpPr>
        <p:spPr>
          <a:xfrm>
            <a:off x="6300720" y="1125360"/>
            <a:ext cx="2843280" cy="1440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llipse 7"/>
          <p:cNvSpPr/>
          <p:nvPr/>
        </p:nvSpPr>
        <p:spPr>
          <a:xfrm>
            <a:off x="6300720" y="5300640"/>
            <a:ext cx="2843280" cy="136836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230720"/>
            <a:ext cx="9229680" cy="2663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0" y="278136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Tableau 1" descr=""/>
          <p:cNvPicPr/>
          <p:nvPr/>
        </p:nvPicPr>
        <p:blipFill>
          <a:blip r:embed="rId2"/>
          <a:stretch/>
        </p:blipFill>
        <p:spPr>
          <a:xfrm>
            <a:off x="0" y="-109440"/>
            <a:ext cx="9144000" cy="2523960"/>
          </a:xfrm>
          <a:prstGeom prst="rect">
            <a:avLst/>
          </a:prstGeom>
          <a:ln w="0">
            <a:noFill/>
          </a:ln>
        </p:spPr>
      </p:pic>
      <p:sp>
        <p:nvSpPr>
          <p:cNvPr id="150" name="Ellipse 6"/>
          <p:cNvSpPr/>
          <p:nvPr/>
        </p:nvSpPr>
        <p:spPr>
          <a:xfrm>
            <a:off x="1979640" y="828720"/>
            <a:ext cx="2087640" cy="8319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llipse 7"/>
          <p:cNvSpPr/>
          <p:nvPr/>
        </p:nvSpPr>
        <p:spPr>
          <a:xfrm>
            <a:off x="4067280" y="765000"/>
            <a:ext cx="2376360" cy="166392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llipse 8"/>
          <p:cNvSpPr/>
          <p:nvPr/>
        </p:nvSpPr>
        <p:spPr>
          <a:xfrm>
            <a:off x="6443640" y="828720"/>
            <a:ext cx="2521080" cy="16635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llipse 9"/>
          <p:cNvSpPr/>
          <p:nvPr/>
        </p:nvSpPr>
        <p:spPr>
          <a:xfrm>
            <a:off x="0" y="5084640"/>
            <a:ext cx="1979640" cy="82872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llipse 10"/>
          <p:cNvSpPr/>
          <p:nvPr/>
        </p:nvSpPr>
        <p:spPr>
          <a:xfrm>
            <a:off x="3924360" y="5008680"/>
            <a:ext cx="2376360" cy="166032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llipse 11"/>
          <p:cNvSpPr/>
          <p:nvPr/>
        </p:nvSpPr>
        <p:spPr>
          <a:xfrm>
            <a:off x="6372360" y="5013360"/>
            <a:ext cx="2663640" cy="167472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geogebra"/>
          <p:cNvPicPr/>
          <p:nvPr/>
        </p:nvPicPr>
        <p:blipFill>
          <a:blip r:embed="rId3"/>
          <a:stretch/>
        </p:blipFill>
        <p:spPr>
          <a:xfrm>
            <a:off x="1403280" y="2049480"/>
            <a:ext cx="34909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878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geogebra"/>
          <p:cNvPicPr/>
          <p:nvPr/>
        </p:nvPicPr>
        <p:blipFill>
          <a:blip r:embed="rId3"/>
          <a:stretch/>
        </p:blipFill>
        <p:spPr>
          <a:xfrm>
            <a:off x="1795320" y="1773360"/>
            <a:ext cx="6983640" cy="3100320"/>
          </a:xfrm>
          <a:prstGeom prst="rect">
            <a:avLst/>
          </a:prstGeom>
          <a:ln w="0">
            <a:noFill/>
          </a:ln>
        </p:spPr>
      </p:pic>
      <p:sp>
        <p:nvSpPr>
          <p:cNvPr id="161" name="Ellipse 6"/>
          <p:cNvSpPr/>
          <p:nvPr/>
        </p:nvSpPr>
        <p:spPr>
          <a:xfrm>
            <a:off x="34920" y="692280"/>
            <a:ext cx="2290680" cy="11541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llipse 7"/>
          <p:cNvSpPr/>
          <p:nvPr/>
        </p:nvSpPr>
        <p:spPr>
          <a:xfrm>
            <a:off x="4716360" y="620640"/>
            <a:ext cx="2232000" cy="11541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llipse 8"/>
          <p:cNvSpPr/>
          <p:nvPr/>
        </p:nvSpPr>
        <p:spPr>
          <a:xfrm>
            <a:off x="6956280" y="692280"/>
            <a:ext cx="2089440" cy="108108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llipse 9"/>
          <p:cNvSpPr/>
          <p:nvPr/>
        </p:nvSpPr>
        <p:spPr>
          <a:xfrm>
            <a:off x="2325600" y="5616720"/>
            <a:ext cx="2286000" cy="119700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llipse 10"/>
          <p:cNvSpPr/>
          <p:nvPr/>
        </p:nvSpPr>
        <p:spPr>
          <a:xfrm>
            <a:off x="4611600" y="5661000"/>
            <a:ext cx="2344680" cy="101124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llipse 11"/>
          <p:cNvSpPr/>
          <p:nvPr/>
        </p:nvSpPr>
        <p:spPr>
          <a:xfrm>
            <a:off x="7062840" y="5661000"/>
            <a:ext cx="1973160" cy="101124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2492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oici un cercle trigonométrique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859040" y="1413000"/>
            <a:ext cx="541008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846680"/>
            <a:ext cx="9229680" cy="203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Tableau 1" descr=""/>
          <p:cNvPicPr/>
          <p:nvPr/>
        </p:nvPicPr>
        <p:blipFill>
          <a:blip r:embed="rId2"/>
          <a:stretch/>
        </p:blipFill>
        <p:spPr>
          <a:xfrm>
            <a:off x="0" y="-12600"/>
            <a:ext cx="9150480" cy="2012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846680"/>
            <a:ext cx="9229680" cy="2139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24512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Tableau 1" descr=""/>
          <p:cNvPicPr/>
          <p:nvPr/>
        </p:nvPicPr>
        <p:blipFill>
          <a:blip r:embed="rId2"/>
          <a:stretch/>
        </p:blipFill>
        <p:spPr>
          <a:xfrm>
            <a:off x="0" y="-12600"/>
            <a:ext cx="9150480" cy="2116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181400"/>
            <a:ext cx="9229680" cy="2676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12:14:02Z</dcterms:created>
  <dc:creator>auderi</dc:creator>
  <dc:description/>
  <dc:language>en-US</dc:language>
  <cp:lastModifiedBy>auderi</cp:lastModifiedBy>
  <dcterms:modified xsi:type="dcterms:W3CDTF">2016-07-02T14:33:20Z</dcterms:modified>
  <cp:revision>259</cp:revision>
  <dc:subject/>
  <dc:title>Présentation PowerPoint</dc:title>
</cp:coreProperties>
</file>