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C454-7D97-4618-94CF-A8FB382B18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B794-A921-4095-BB55-DA1E37CEEB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659-E240-43D0-BE2F-9721770CA5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9240-2A80-40D5-B507-F7BD82AB0F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ABF7-EE41-4B37-A0AE-23137D9258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649E-2DAE-4F0E-B724-548703061C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669-87F6-47AE-8915-BA5D1C762D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AC4A-B7F6-4434-9AC7-2C816BE72F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4A4-7A34-4C25-A85D-9789C5EFA7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B5F0-20EA-42BA-BCB3-2EF98A6B7B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0BED-226C-420C-8442-9FFAA7EA52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BD1-487D-40F7-8FD1-6A1D552B0E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207-67F5-4292-A84C-8EE20AA02B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02E1-1B09-4F72-8B43-B887195470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39D-59BB-4CD9-9909-C822E562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C39-A3E2-451E-835A-DDC6D13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864-780D-4E16-A415-DBEA573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95E-CE8C-4B7E-A146-E2A3275D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1B9-E6AE-4491-8576-E4F01A57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278-AED5-4733-AAAE-ECA3BE8C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79D-B713-49FC-83AA-AEF46BA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D54-FF2F-43CB-A04F-00B1904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3CF-CE9E-4630-BCEF-2A3DF01B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0CF-6D0C-49A3-A0FD-3A52BE3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398-ABC6-44D0-8F90-188458B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C63-BB41-4600-8036-60EB0A7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DF51-7E4F-4F19-900D-B4A6C805538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83B-3927-4E06-80F4-910FF02B8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90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, segments et longu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Rectangle à coins arrondis 32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ectangle à coins arrondis 34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Rectangle à coins arrondis 35" descr=""/>
          <p:cNvPicPr/>
          <p:nvPr/>
        </p:nvPicPr>
        <p:blipFill>
          <a:blip r:embed="rId2"/>
          <a:stretch/>
        </p:blipFill>
        <p:spPr>
          <a:xfrm>
            <a:off x="3797280" y="3962520"/>
            <a:ext cx="537696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OUI ou N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à coins arrondis 49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  <p:sp>
        <p:nvSpPr>
          <p:cNvPr id="70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à coins arrondis 30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à coins arrondis 34" descr=""/>
          <p:cNvPicPr/>
          <p:nvPr/>
        </p:nvPicPr>
        <p:blipFill>
          <a:blip r:embed="rId2"/>
          <a:stretch/>
        </p:blipFill>
        <p:spPr>
          <a:xfrm>
            <a:off x="3724200" y="3962520"/>
            <a:ext cx="54133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à coins arrondis 31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à coins arrondis 36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29776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à coins arrondis 33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ctangle à coins arrondis 35" descr=""/>
          <p:cNvPicPr/>
          <p:nvPr/>
        </p:nvPicPr>
        <p:blipFill>
          <a:blip r:embed="rId2"/>
          <a:stretch/>
        </p:blipFill>
        <p:spPr>
          <a:xfrm>
            <a:off x="3797280" y="3962520"/>
            <a:ext cx="537696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11T08:39:41Z</dcterms:modified>
  <cp:revision>342</cp:revision>
  <dc:subject/>
  <dc:title>Diapositive 0</dc:title>
</cp:coreProperties>
</file>